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3B5-20B9-4F18-89C1-C7FBA138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D42-D0F0-43A9-99D4-B556C060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36F-0F8E-4223-AA26-A4755162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A57-69BF-48FD-8E4B-59366748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EB4-454B-436E-B487-BCB3C1BE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435-9B54-4AA7-8CA0-2DD18F95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5A2-412D-42FF-BEBB-53C494AF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F39-FA2D-4A33-AC71-FA7F5C22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53D-284A-4C72-84CF-64E27BE4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C71-2249-4230-9AEE-7B037461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4C0-9B1D-460F-B397-FC61FFBB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B1E-DE5D-4B1B-9A84-05C57FC1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B63C-DD32-4C5F-BBC1-BC52BD452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Удивительный подвод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428760" y="1190520"/>
            <a:ext cx="8072280" cy="54849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р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429760" cy="5786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иний к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8192880" cy="5572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Луна-ры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285840" y="852480"/>
            <a:ext cx="8643960" cy="5791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ша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679840" y="1397160"/>
          <a:ext cx="3786120" cy="4063680"/>
        </p:xfrm>
        <a:graphic>
          <a:graphicData uri="http://schemas.openxmlformats.org/drawingml/2006/table">
            <a:tbl>
              <a:tblPr/>
              <a:tblGrid>
                <a:gridCol w="3786120"/>
              </a:tblGrid>
              <a:tr h="4063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" descr="C:\DOCUME~1\Admin\LOCALS~1\Temp\FineReader11.00\media\image1.jpeg"/>
          <p:cNvPicPr/>
          <p:nvPr/>
        </p:nvPicPr>
        <p:blipFill>
          <a:blip r:embed="rId1"/>
          <a:stretch/>
        </p:blipFill>
        <p:spPr>
          <a:xfrm>
            <a:off x="428760" y="857160"/>
            <a:ext cx="8286480" cy="5748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4481640" y="-77796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ыба-ш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443400" y="1397160"/>
          <a:ext cx="2257200" cy="4063680"/>
        </p:xfrm>
        <a:graphic>
          <a:graphicData uri="http://schemas.openxmlformats.org/drawingml/2006/table">
            <a:tbl>
              <a:tblPr/>
              <a:tblGrid>
                <a:gridCol w="2257200"/>
              </a:tblGrid>
              <a:tr h="4063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1" descr="C:\DOCUME~1\Admin\LOCALS~1\Temp\FineReader11.00\media\image1.jpeg"/>
          <p:cNvPicPr/>
          <p:nvPr/>
        </p:nvPicPr>
        <p:blipFill>
          <a:blip r:embed="rId1"/>
          <a:stretch/>
        </p:blipFill>
        <p:spPr>
          <a:xfrm>
            <a:off x="500040" y="857160"/>
            <a:ext cx="807264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4481640" y="-77796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рылатка-зеб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72320" cy="5786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ыба-иг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371520" y="785880"/>
            <a:ext cx="8472600" cy="5786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Уго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339840" y="785880"/>
            <a:ext cx="8518320" cy="5715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Касатки"/>
          <p:cNvPicPr/>
          <p:nvPr/>
        </p:nvPicPr>
        <p:blipFill>
          <a:blip r:embed="rId1"/>
          <a:stretch/>
        </p:blipFill>
        <p:spPr>
          <a:xfrm>
            <a:off x="357120" y="571680"/>
            <a:ext cx="8501040" cy="59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6156360" y="836640"/>
            <a:ext cx="166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с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Горбатый кит"/>
          <p:cNvPicPr/>
          <p:nvPr/>
        </p:nvPicPr>
        <p:blipFill>
          <a:blip r:embed="rId1"/>
          <a:stretch/>
        </p:blipFill>
        <p:spPr>
          <a:xfrm>
            <a:off x="500040" y="571680"/>
            <a:ext cx="8143920" cy="5916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5364360" y="1052640"/>
            <a:ext cx="28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орбатый к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доро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Учитель\Desktop\Семина географов 18 апреля\5.jpg"/>
          <p:cNvPicPr/>
          <p:nvPr/>
        </p:nvPicPr>
        <p:blipFill>
          <a:blip r:embed="rId1"/>
          <a:stretch/>
        </p:blipFill>
        <p:spPr>
          <a:xfrm>
            <a:off x="339840" y="928800"/>
            <a:ext cx="85899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Тюлени"/>
          <p:cNvPicPr/>
          <p:nvPr/>
        </p:nvPicPr>
        <p:blipFill>
          <a:blip r:embed="rId1"/>
          <a:stretch/>
        </p:blipFill>
        <p:spPr>
          <a:xfrm>
            <a:off x="250920" y="549360"/>
            <a:ext cx="8675640" cy="5784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6085080" y="7650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юл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Белая акула"/>
          <p:cNvPicPr/>
          <p:nvPr/>
        </p:nvPicPr>
        <p:blipFill>
          <a:blip r:embed="rId1"/>
          <a:stretch/>
        </p:blipFill>
        <p:spPr>
          <a:xfrm>
            <a:off x="611280" y="431640"/>
            <a:ext cx="7993080" cy="5994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795280" y="5661000"/>
            <a:ext cx="25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елая а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морской котик"/>
          <p:cNvPicPr/>
          <p:nvPr/>
        </p:nvPicPr>
        <p:blipFill>
          <a:blip r:embed="rId1"/>
          <a:stretch/>
        </p:blipFill>
        <p:spPr>
          <a:xfrm>
            <a:off x="412920" y="549360"/>
            <a:ext cx="8191440" cy="5737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5508720" y="69228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рской ко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р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5811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рской чё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1"/>
          <a:stretch/>
        </p:blipFill>
        <p:spPr>
          <a:xfrm>
            <a:off x="177840" y="928800"/>
            <a:ext cx="8751960" cy="57369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Скат - обитатель глубин"/>
          <p:cNvPicPr/>
          <p:nvPr/>
        </p:nvPicPr>
        <p:blipFill>
          <a:blip r:embed="rId1"/>
          <a:stretch/>
        </p:blipFill>
        <p:spPr>
          <a:xfrm>
            <a:off x="324000" y="692280"/>
            <a:ext cx="8424720" cy="5616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6660720" y="83664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к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рская зв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:\Users\Учитель\Desktop\Семина географов 18 апреля\18.jpg"/>
          <p:cNvPicPr/>
          <p:nvPr/>
        </p:nvPicPr>
        <p:blipFill>
          <a:blip r:embed="rId1"/>
          <a:stretch/>
        </p:blipFill>
        <p:spPr>
          <a:xfrm>
            <a:off x="438120" y="851040"/>
            <a:ext cx="8205840" cy="5649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рал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C:\DOCUME~1\Admin\LOCALS~1\Temp\FineReader11.00\media\image1.jpeg"/>
          <p:cNvPicPr/>
          <p:nvPr/>
        </p:nvPicPr>
        <p:blipFill>
          <a:blip r:embed="rId1"/>
          <a:stretch/>
        </p:blipFill>
        <p:spPr>
          <a:xfrm>
            <a:off x="428760" y="1000080"/>
            <a:ext cx="8283600" cy="55738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кти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Users\Учитель\Desktop\Семина географов 18 апреля\2.jpg"/>
          <p:cNvPicPr/>
          <p:nvPr/>
        </p:nvPicPr>
        <p:blipFill>
          <a:blip r:embed="rId1"/>
          <a:stretch/>
        </p:blipFill>
        <p:spPr>
          <a:xfrm>
            <a:off x="785880" y="826920"/>
            <a:ext cx="7572240" cy="5816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Учитель\Desktop\Семина географов 18 апреля\6.jpg"/>
          <p:cNvPicPr/>
          <p:nvPr/>
        </p:nvPicPr>
        <p:blipFill>
          <a:blip r:embed="rId1"/>
          <a:stretch/>
        </p:blipFill>
        <p:spPr>
          <a:xfrm>
            <a:off x="285840" y="66600"/>
            <a:ext cx="8572320" cy="67341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ланкт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image1"/>
          <p:cNvPicPr/>
          <p:nvPr/>
        </p:nvPicPr>
        <p:blipFill>
          <a:blip r:embed="rId1"/>
          <a:stretch/>
        </p:blipFill>
        <p:spPr>
          <a:xfrm>
            <a:off x="326880" y="1000080"/>
            <a:ext cx="8460000" cy="5429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image1"/>
          <p:cNvPicPr/>
          <p:nvPr/>
        </p:nvPicPr>
        <p:blipFill>
          <a:blip r:embed="rId1"/>
          <a:stretch/>
        </p:blipFill>
        <p:spPr>
          <a:xfrm>
            <a:off x="285840" y="357120"/>
            <a:ext cx="8501040" cy="6143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image1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еду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15200" cy="5786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6215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сьми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366840" y="785880"/>
            <a:ext cx="8420040" cy="5862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2:52:51Z</dcterms:created>
  <dc:creator>КУЦЕК</dc:creator>
  <dc:description/>
  <dc:language>en-US</dc:language>
  <cp:lastModifiedBy>Admin</cp:lastModifiedBy>
  <dcterms:modified xsi:type="dcterms:W3CDTF">2018-10-05T19:19:59Z</dcterms:modified>
  <cp:revision>19</cp:revision>
  <dc:subject/>
  <dc:title>Жизнь в океане. Взаимодействие океана с атмосферой и сушей. </dc:title>
</cp:coreProperties>
</file>