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E68-94AC-40DC-8CFA-DE6C2E50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A5D-9B8C-4450-A4BD-4FA3AE21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023-3C5E-4CAA-8CDB-7844D2FD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86A-2F5A-441E-87BF-3367964A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E84-250B-4EE7-9B8B-FBDE8205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B54-1146-449B-A40A-669885FC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A6A-57E1-4650-BE71-1983C49C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B9D-8C97-4712-83C2-921079C4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5BE-D219-494E-9A07-C72E6910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F9A-D96E-47AF-BA34-82E8770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225-97F7-4825-BC92-2AFCE4FC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E03-A798-41AE-A4D6-FC71E38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7263-4B8B-4213-BD77-E960F559E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1.СУЩНОСТЬ ПОНЯТИЯ 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«УГОЛОВНОЕ ПРАВ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Уголовное право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это отрасль права, представляющая совокупность юридических норм, определяющих преступность и наказуемость деяний, опасных для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Функции уголовного пра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еспечение законности и правопоряд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есечение и ограничение преступных проявлений отдельных членов общ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филактическая функ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Принципы Уголовного права в РФ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 закон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авенство граждан перед закон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 справедлив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 гуманиз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нцип ви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Источник Уголовного права в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120" y="1599840"/>
            <a:ext cx="4929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33cc"/>
                </a:solidFill>
                <a:uFillTx/>
                <a:latin typeface="Georgia"/>
              </a:rPr>
              <a:t>Уголовный кодекс Российской Федерации: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это федеральный систематизированный законодательный акт, определяющий общественно опасные деяния и устанавливающий наказания за их соверш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0" y="1600200"/>
            <a:ext cx="325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2. ПРЕСТУПЛЕНИЕ И НАКАЗ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2640" y="1571760"/>
            <a:ext cx="73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Преступление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это виновное общественно опасное, противозаконное деяние, подпадающее под запрет уголовного зак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Признаки преступл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щественная опас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тивоправ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инов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казуем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Преступления разделили на однородные по объект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200" y="1600200"/>
            <a:ext cx="8715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против лич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в сфере экономи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против общественной безопасности и общественного порядк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экологические преступл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против государственной вла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против военной служб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buSzPct val="1028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еступления против мира и безопасности человечеств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Georgia"/>
              </a:rPr>
              <a:t>3. УГОЛОВНАЯ ОТВЕТСТВ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Уголовная ответственнос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  это правовое последствие совершения преступления, предусмотренного УК Р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Georgia"/>
              </a:rPr>
              <a:t>Уголовное наказание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это мера государственного принуждения, назначаемая по приговору су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казание применяется в целя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осстановления социальной справедлив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справления осужденного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едупреждения новых преступл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Виды наказаний  (ст. 44 УК РФ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360" y="1285920"/>
            <a:ext cx="47862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штра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лишение прав занимать определенные долж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лишение каких-либо званий, чинов, государственных нагр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бязательные и исправительные  рабо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граничения по военной служб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конфискация имущест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граничение свобод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ре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одержание в дисциплинарной воинской ч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85560"/>
            <a:ext cx="4281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лишение свободы на определенный ср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пожизненное лишение свобод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мертная казнь (в 1997 г. РФ подписала Протокол к Европейской конвенции, отменяющий смертную казнь в странах, его подписавших, чтобы вступить в совет Европы). Данный вид наказания приостановле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6-09T16:50:57Z</dcterms:modified>
  <cp:revision>5</cp:revision>
  <dc:subject/>
  <dc:title>Уголовное право</dc:title>
</cp:coreProperties>
</file>