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6FA2-4BF5-4B1D-811E-89BAE9BC5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B8BC-E03F-49E6-9F1E-08E8E4E1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CED2-5A25-4D68-A9F0-A2B363A08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E9AC-7486-4B32-B2BE-73E7C8F58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BCA1-97DC-4651-A324-C631E259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4DBC-8F23-46EC-B17B-F4C0FE3B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F6A8-42F4-4240-9A3E-309958A0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911C-78FF-4036-9AB3-CA904146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E126-9C1D-4FB2-869D-CF002A3B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F2F6-02F7-43A1-B121-92AF6973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34E6-2208-43D2-97FB-6FBAA636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2ED1-72E4-48A5-A598-0BB97234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040B-C0A9-4915-BEA1-33B14D47E6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682560" y="2120760"/>
            <a:ext cx="778500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Georgia"/>
              </a:rPr>
              <a:t>1.СУЩНОСТЬ ПОНЯТИЯ </a:t>
            </a:r>
            <a:br>
              <a:rPr sz="3600"/>
            </a:br>
            <a:r>
              <a:rPr b="1" lang="ru-RU" sz="3600" spc="-1" strike="noStrike">
                <a:solidFill>
                  <a:srgbClr val="0033cc"/>
                </a:solidFill>
                <a:latin typeface="Georgia"/>
              </a:rPr>
              <a:t>«УГОЛОВНОЕ ПРАВО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cc"/>
                </a:solidFill>
                <a:uFillTx/>
                <a:latin typeface="Georgia"/>
              </a:rPr>
              <a:t>Уголовное право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– это отрасль права, представляющая совокупность юридических норм, определяющих преступность и наказуемость деяний, опасных для обще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cc"/>
                </a:solidFill>
                <a:uFillTx/>
                <a:latin typeface="Georgia"/>
              </a:rPr>
              <a:t>Функции уголовного прав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беспечение законности и правопорядк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есечение и ограничение преступных проявлений отдельных членов обществ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офилактическая функц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Georgia"/>
              </a:rPr>
              <a:t>Принципы Уголовного права в РФ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инцип законност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равенство граждан перед законо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инцип справедливост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инцип гуманизм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инцип вин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Georgia"/>
              </a:rPr>
              <a:t>Источник Уголовного права в Р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57120" y="1599840"/>
            <a:ext cx="492912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33cc"/>
                </a:solidFill>
                <a:uFillTx/>
                <a:latin typeface="Georgia"/>
              </a:rPr>
              <a:t>Уголовный кодекс Российской Федерации: </a:t>
            </a: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это федеральный систематизированный законодательный акт, определяющий общественно опасные деяния и устанавливающий наказания за их совершени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428800" y="1600200"/>
            <a:ext cx="3257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Georgia"/>
              </a:rPr>
              <a:t>2. ПРЕСТУПЛЕНИЕ И НАКАЗ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142640" y="1571760"/>
            <a:ext cx="7358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cc"/>
                </a:solidFill>
                <a:uFillTx/>
                <a:latin typeface="Georgia"/>
              </a:rPr>
              <a:t>Преступление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– это виновное общественно опасное, противозаконное деяние, подпадающее под запрет уголовного зако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cc"/>
                </a:solidFill>
                <a:uFillTx/>
                <a:latin typeface="Georgia"/>
              </a:rPr>
              <a:t>Признаки преступле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бщественная опасност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отивоправност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иновност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наказуемо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Georgia"/>
              </a:rPr>
              <a:t>Преступления разделили на однородные по объекту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14200" y="1600200"/>
            <a:ext cx="8715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buSzPct val="1028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преступления против личност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преступления в сфере экономик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buSzPct val="1028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преступления против общественной безопасности и общественного порядка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buSzPct val="10283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экологические преступления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buSzPct val="1028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преступления против государственной власт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buSzPct val="1028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преступления против военной службы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buSzPct val="10283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преступления против мира и безопасности человечеств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Georgia"/>
              </a:rPr>
              <a:t>3. УГОЛОВНАЯ ОТВЕТСТВЕН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cc"/>
                </a:solidFill>
                <a:uFillTx/>
                <a:latin typeface="Georgia"/>
              </a:rPr>
              <a:t>Уголовная ответственность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-  это правовое последствие совершения преступления, предусмотренного УК РФ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cc"/>
                </a:solidFill>
                <a:uFillTx/>
                <a:latin typeface="Georgia"/>
              </a:rPr>
              <a:t>Уголовное наказание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– это мера государственного принуждения, назначаемая по приговору су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Наказание применяется в целях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осстановления социальной справедливости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исправления осужденного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едупреждения новых преступле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Georgia"/>
              </a:rPr>
              <a:t>Виды наказаний  (ст. 44 УК РФ)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-360" y="1285920"/>
            <a:ext cx="47862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штраф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лишение прав занимать определенные должно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лишение каких-либо званий, чинов, государственных награ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обязательные и исправительные  работ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ограничения по военной служб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конфискация имуществ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ограничение свободы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арес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содержание в дисциплинарной воинской ча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7960" y="1285560"/>
            <a:ext cx="4281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лишение свободы на определенный сро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пожизненное лишение свобод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смертная казнь (в 1997 г. РФ подписала Протокол к Европейской конвенции, отменяющий смертную казнь в странах, его подписавших, чтобы вступить в совет Европы). Данный вид наказания приостановлен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9-06-09T16:50:57Z</dcterms:modified>
  <cp:revision>5</cp:revision>
  <dc:subject/>
  <dc:title>Уголовное право</dc:title>
</cp:coreProperties>
</file>