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124-A257-43FF-A826-3BBACFE4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BEB-1635-451E-A5FD-482BBBEF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164-D102-4F95-B285-613BB8CA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A58-52CA-4D32-AAB0-11124B1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4FD-4F31-4AB0-8057-7580A9E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ACC-99CF-4EF0-8535-5C4E3FC3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4B7-3A6B-4FBA-86C7-338A880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5ED-1C91-4B72-85AA-8E2EC81E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79D-0535-43C6-8C9B-D800B8C8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9A7-4CCD-4047-9BF6-6567CBF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7FC-D518-4A02-8AAF-4A58D54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6F3-DF44-492E-A47E-D85B05EF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CF01-EEF5-48AA-9643-1EB0736DD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Calibri"/>
              </a:rPr>
              <a:t>Викторина для знатоков лекарственных растени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Calibri"/>
              </a:rPr>
              <a:t> «Угадай по описанию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29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 Юрина Наталия Владимировна,  учитель начальных классов МОУ «Средняя общеобразовательная школа №61» г. Сарат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785880" y="928800"/>
            <a:ext cx="7643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чебных целях для приготовления сборов используют цветы, а также листья этой травы. Внутренняя сторона листа тёплая, а наружная холодная. Из листьев также делают сок и  лечат насмо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ugrb.ru/upload/medialibrary/378/3789f3798e63c14eb2d45d809a86fc68.jpg"/>
          <p:cNvPicPr/>
          <p:nvPr/>
        </p:nvPicPr>
        <p:blipFill>
          <a:blip r:embed="rId1"/>
          <a:stretch/>
        </p:blipFill>
        <p:spPr>
          <a:xfrm>
            <a:off x="3571920" y="3786120"/>
            <a:ext cx="4786200" cy="2692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642960" y="385776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 - и - 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714240" y="428760"/>
            <a:ext cx="785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рава используется не только в медицине, но и в кулинарии. Из молодых листьев этого растения готовят супы, салаты. Применяют листья и для укрепления общего состояния, очищения со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s://avatars.mds.yandex.net/get-pdb/1325464/48eb95cb-cb67-4cef-9007-64653b661924/s1200?webp=false"/>
          <p:cNvPicPr/>
          <p:nvPr/>
        </p:nvPicPr>
        <p:blipFill>
          <a:blip r:embed="rId1"/>
          <a:stretch/>
        </p:blipFill>
        <p:spPr>
          <a:xfrm>
            <a:off x="385776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1643040" y="4000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928800" y="571680"/>
            <a:ext cx="7429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этого растения заживляют небольшие ранки. Помогает при болезнях желудка и кишечника. Растёт по обочинам дорог и тропинок. Отсюда и его наз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808440" y="3187800"/>
            <a:ext cx="4581360" cy="3330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714240" y="342900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р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57160" y="785880"/>
            <a:ext cx="757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нжевые ягоды этого растения густо сидят прямо на ветках. Из них делают масло, которым лечат ожоги, кожные боле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428840" y="3714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п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medicinalplants.ru/images/pages/catalog/o/oblepiha.jpg"/>
          <p:cNvPicPr/>
          <p:nvPr/>
        </p:nvPicPr>
        <p:blipFill>
          <a:blip r:embed="rId1"/>
          <a:stretch/>
        </p:blipFill>
        <p:spPr>
          <a:xfrm>
            <a:off x="4000680" y="300024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85880" y="78588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истый мёд и чай из цветков этого дерева принимают при простудных заболе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s://autogear.ru/misc/i/gallery/45958/2369323.jpg"/>
          <p:cNvPicPr/>
          <p:nvPr/>
        </p:nvPicPr>
        <p:blipFill>
          <a:blip r:embed="rId1"/>
          <a:stretch/>
        </p:blipFill>
        <p:spPr>
          <a:xfrm>
            <a:off x="3714840" y="2643120"/>
            <a:ext cx="4668840" cy="3500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214720" y="321480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785880" y="4287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этого кустарника богаты витаминами, поэтому из них заваривают чай. Сироп из них очень полезен де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s://avatars.mds.yandex.net/get-pdb/1811460/63dc8132-a94a-40e2-8f34-44e42fe0f85b/s1200?webp=false"/>
          <p:cNvPicPr/>
          <p:nvPr/>
        </p:nvPicPr>
        <p:blipFill>
          <a:blip r:embed="rId1"/>
          <a:stretch/>
        </p:blipFill>
        <p:spPr>
          <a:xfrm>
            <a:off x="3571920" y="2357280"/>
            <a:ext cx="4635360" cy="4098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000080" y="3071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714240" y="85716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м этого растения лечат кожные заболевания, избавляются от бородавок. Также это растение помогает при болезнях желудка, печени и желчного пузы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im0-tub-ru.yandex.net/i?id=4ffdb25c74cc7939b3216b40a6402bab-l&amp;n=13"/>
          <p:cNvPicPr/>
          <p:nvPr/>
        </p:nvPicPr>
        <p:blipFill>
          <a:blip r:embed="rId1"/>
          <a:stretch/>
        </p:blipFill>
        <p:spPr>
          <a:xfrm>
            <a:off x="3714840" y="2928960"/>
            <a:ext cx="4564080" cy="359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785880" y="32860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714240" y="78588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ягоды тёмно-синего цвета улучшают зрение. Отвар или кисель из них лечит расстройство желу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www.metodicu.ru/netcat_files/userfiles/chernika_3.jpg"/>
          <p:cNvPicPr/>
          <p:nvPr/>
        </p:nvPicPr>
        <p:blipFill>
          <a:blip r:embed="rId1"/>
          <a:stretch/>
        </p:blipFill>
        <p:spPr>
          <a:xfrm>
            <a:off x="3429000" y="2857680"/>
            <a:ext cx="4929120" cy="36525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143000" y="32860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14240" y="50004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оды этого кустарника – отличное средство при простудных заболеваниях. Варенье из неё добавляют в чай, смешивают с мёдом для эффективного действия на органы дых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svoedeloy9.ru/wp-content/uploads/2014/04/6033e70b39e56887bcc441ee485ca70e.jpg"/>
          <p:cNvPicPr/>
          <p:nvPr/>
        </p:nvPicPr>
        <p:blipFill>
          <a:blip r:embed="rId1"/>
          <a:stretch/>
        </p:blipFill>
        <p:spPr>
          <a:xfrm>
            <a:off x="4429080" y="3143160"/>
            <a:ext cx="3643200" cy="3330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214280" y="400068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714240" y="7142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 этого растения выращивают на клумбах, не догадываясь о богатых лечебных свойствах. Крепкий настой цветов этого растения используют для полоскания горла, пьют при ангине, гри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Microstar\Desktop\b16d1170cf7eebe7215426e4bff5ab9b.jpg"/>
          <p:cNvPicPr/>
          <p:nvPr/>
        </p:nvPicPr>
        <p:blipFill>
          <a:blip r:embed="rId1"/>
          <a:stretch/>
        </p:blipFill>
        <p:spPr>
          <a:xfrm>
            <a:off x="3000240" y="3429000"/>
            <a:ext cx="4977000" cy="31431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714240" y="38577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20:52:45Z</dcterms:created>
  <dc:creator>User</dc:creator>
  <dc:description/>
  <dc:language>en-US</dc:language>
  <cp:lastModifiedBy>baby</cp:lastModifiedBy>
  <dcterms:modified xsi:type="dcterms:W3CDTF">2019-06-10T18:30:32Z</dcterms:modified>
  <cp:revision>29</cp:revision>
  <dc:subject/>
  <dc:title>Лекарственные растения.</dc:title>
</cp:coreProperties>
</file>