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EFB-13D7-4F85-8132-2F650D4D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D44-CF9C-481E-A06E-559FCF2A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E019-EB9A-4E9C-8D36-B04D6A75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2BC-EA3D-4F0D-A299-31A9BFC5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32E-D34A-4FDF-AED4-473CB247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ECB-94CF-417A-9554-3D2352D1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52F-44F4-4602-92F7-A304883C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6A7-71E3-46DB-9622-37B23550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687-6F0D-4D06-8BA2-EAEE0218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C0F-5079-41DC-9B2D-F87ABA80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125-1B38-4812-81AD-BEF6A485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011-0BE5-42C7-9FE9-349B77BF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E513-6267-4FDC-923E-1C416EB3A2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9976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Calibri"/>
              </a:rPr>
              <a:t>Викторина для знатоков лекарственных растений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Calibri"/>
              </a:rPr>
              <a:t> «Угадай по описанию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29160"/>
            <a:ext cx="640080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а Юрина Наталия Владимировна,  учитель начальных классов МОУ «Средняя общеобразовательная школа №61» г. Сарат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785880" y="928800"/>
            <a:ext cx="7643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чебных целях для приготовления сборов используют цветы, а также листья этой травы. Внутренняя сторона листа тёплая, а наружная холодная. Из листьев также делают сок и  лечат насмор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ugrb.ru/upload/medialibrary/378/3789f3798e63c14eb2d45d809a86fc68.jpg"/>
          <p:cNvPicPr/>
          <p:nvPr/>
        </p:nvPicPr>
        <p:blipFill>
          <a:blip r:embed="rId1"/>
          <a:stretch/>
        </p:blipFill>
        <p:spPr>
          <a:xfrm>
            <a:off x="3571920" y="3786120"/>
            <a:ext cx="4786200" cy="26924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642960" y="385776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ь - и - мач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714240" y="428760"/>
            <a:ext cx="7858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трава используется не только в медицине, но и в кулинарии. Из молодых листьев этого растения готовят супы, салаты. Применяют листья и для укрепления общего состояния, очищения сос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ttps://avatars.mds.yandex.net/get-pdb/1325464/48eb95cb-cb67-4cef-9007-64653b661924/s1200?webp=false"/>
          <p:cNvPicPr/>
          <p:nvPr/>
        </p:nvPicPr>
        <p:blipFill>
          <a:blip r:embed="rId1"/>
          <a:stretch/>
        </p:blipFill>
        <p:spPr>
          <a:xfrm>
            <a:off x="3857760" y="328608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1643040" y="40006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п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928800" y="571680"/>
            <a:ext cx="7429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этого растения заживляют небольшие ранки. Помогает при болезнях желудка и кишечника. Растёт по обочинам дорог и тропинок. Отсюда и его наз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808440" y="3187800"/>
            <a:ext cx="4581360" cy="33303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8"/>
          <p:cNvSpPr/>
          <p:nvPr/>
        </p:nvSpPr>
        <p:spPr>
          <a:xfrm>
            <a:off x="714240" y="342900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ро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857160" y="785880"/>
            <a:ext cx="7572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нжевые ягоды этого растения густо сидят прямо на ветках. Из них делают масло, которым лечат ожоги, кожные боле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1428840" y="3714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пи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medicinalplants.ru/images/pages/catalog/o/oblepiha.jpg"/>
          <p:cNvPicPr/>
          <p:nvPr/>
        </p:nvPicPr>
        <p:blipFill>
          <a:blip r:embed="rId1"/>
          <a:stretch/>
        </p:blipFill>
        <p:spPr>
          <a:xfrm>
            <a:off x="4000680" y="300024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785880" y="785880"/>
            <a:ext cx="75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шистый мёд и чай из цветков этого дерева принимают при простудных заболе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ttps://autogear.ru/misc/i/gallery/45958/2369323.jpg"/>
          <p:cNvPicPr/>
          <p:nvPr/>
        </p:nvPicPr>
        <p:blipFill>
          <a:blip r:embed="rId1"/>
          <a:stretch/>
        </p:blipFill>
        <p:spPr>
          <a:xfrm>
            <a:off x="3714840" y="2643120"/>
            <a:ext cx="4668840" cy="35006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2214720" y="321480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785880" y="428760"/>
            <a:ext cx="75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ы этого кустарника богаты витаминами, поэтому из них заваривают чай. Сироп из них очень полезен де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s://avatars.mds.yandex.net/get-pdb/1811460/63dc8132-a94a-40e2-8f34-44e42fe0f85b/s1200?webp=false"/>
          <p:cNvPicPr/>
          <p:nvPr/>
        </p:nvPicPr>
        <p:blipFill>
          <a:blip r:embed="rId1"/>
          <a:stretch/>
        </p:blipFill>
        <p:spPr>
          <a:xfrm>
            <a:off x="3571920" y="2357280"/>
            <a:ext cx="4635360" cy="40989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1000080" y="3071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пов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714240" y="857160"/>
            <a:ext cx="771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ом этого растения лечат кожные заболевания, избавляются от бородавок. Также это растение помогает при болезнях желудка, печени и желчного пузы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im0-tub-ru.yandex.net/i?id=4ffdb25c74cc7939b3216b40a6402bab-l&amp;n=13"/>
          <p:cNvPicPr/>
          <p:nvPr/>
        </p:nvPicPr>
        <p:blipFill>
          <a:blip r:embed="rId1"/>
          <a:stretch/>
        </p:blipFill>
        <p:spPr>
          <a:xfrm>
            <a:off x="3714840" y="2928960"/>
            <a:ext cx="4564080" cy="3595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785880" y="328608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714240" y="78588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ягоды тёмно-синего цвета улучшают зрение. Отвар или кисель из них лечит расстройство желу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http://www.metodicu.ru/netcat_files/userfiles/chernika_3.jpg"/>
          <p:cNvPicPr/>
          <p:nvPr/>
        </p:nvPicPr>
        <p:blipFill>
          <a:blip r:embed="rId1"/>
          <a:stretch/>
        </p:blipFill>
        <p:spPr>
          <a:xfrm>
            <a:off x="3429000" y="2857680"/>
            <a:ext cx="4929120" cy="36525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143000" y="328608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714240" y="500040"/>
            <a:ext cx="7715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годы этого кустарника – отличное средство при простудных заболеваниях. Варенье из неё добавляют в чай, смешивают с мёдом для эффективного действия на органы дых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ttp://svoedeloy9.ru/wp-content/uploads/2014/04/6033e70b39e56887bcc441ee485ca70e.jpg"/>
          <p:cNvPicPr/>
          <p:nvPr/>
        </p:nvPicPr>
        <p:blipFill>
          <a:blip r:embed="rId1"/>
          <a:stretch/>
        </p:blipFill>
        <p:spPr>
          <a:xfrm>
            <a:off x="4429080" y="3143160"/>
            <a:ext cx="3643200" cy="33307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1214280" y="400068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714240" y="71424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ы этого растения выращивают на клумбах, не догадываясь о богатых лечебных свойствах. Крепкий настой цветов этого растения используют для полоскания горла, пьют при ангине, грип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:\Users\Microstar\Desktop\b16d1170cf7eebe7215426e4bff5ab9b.jpg"/>
          <p:cNvPicPr/>
          <p:nvPr/>
        </p:nvPicPr>
        <p:blipFill>
          <a:blip r:embed="rId1"/>
          <a:stretch/>
        </p:blipFill>
        <p:spPr>
          <a:xfrm>
            <a:off x="3000240" y="3429000"/>
            <a:ext cx="4977000" cy="31431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714240" y="385776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енд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20:52:45Z</dcterms:created>
  <dc:creator>User</dc:creator>
  <dc:description/>
  <dc:language>en-US</dc:language>
  <cp:lastModifiedBy>baby</cp:lastModifiedBy>
  <dcterms:modified xsi:type="dcterms:W3CDTF">2019-06-10T18:30:32Z</dcterms:modified>
  <cp:revision>29</cp:revision>
  <dc:subject/>
  <dc:title>Лекарственные растения.</dc:title>
</cp:coreProperties>
</file>