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6EA9-4CDA-4830-8FD6-511E9078F9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06EB-5F3C-4325-A1C1-5D6DBC1394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B1FE-9677-48ED-B471-9ECD3DB268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ABAE-561E-43A2-85F6-AF88F37504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BFD8-770C-4F8D-B502-791BD0C124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8D10-A0E6-42BA-8510-92CD06215C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EADE-8C1F-4DA9-8779-B3C39E1D62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AD6B-8795-4501-A450-AC7534080C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F2BD-B3AC-4C6B-9784-6AF9EC0E07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CC08-17AC-491B-ADF5-881A0FE975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3B67-2AD0-4CB2-B7D9-CC0C1169D0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79B0-E3B6-436A-9744-D8D7504FE6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59F4-3A6C-4876-BC8D-6CD07DE895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726C-C0F4-4A1A-92EC-F5FA30A386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CD7C-06B4-41EF-9C66-B1CC14F6DB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5912-0755-4E81-B5A8-3EF90B29C5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4203-494A-4E68-BEA1-F44524178E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C505-A96E-461F-BBF8-0E69C510F7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02CE-DA7D-4B70-A783-AA1A939547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3CC-24B1-483A-8CF9-C7BF40D2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61B-79C0-480F-B4F7-CEBEE34E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6DA-653C-4870-A630-C44DEE65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292A-4D98-49DA-AC88-E9682C4C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49D-94C8-4B0C-B80E-E733E569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35C-AE1B-44D5-A0B2-0ED3CD0E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920-7A65-4BF4-8958-4AE73429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5E4-B13C-41ED-B746-C667B618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6B2-3055-4D56-8AD6-50230F43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9A6-83EC-4F89-BB85-68386A47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2F37-03B7-4E7A-97C6-5C963E6A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96D-5FAE-4972-B34E-42BAB2B7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E01B-C134-404E-8371-3FEC348C2F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ласт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сударственная власть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179280" y="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ец возвращается из школы с родительского собрания. Сын открывает входную дверь и с ужасом слышит вопро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акую оценку ты получил за контрольную работу по математике на прошлой неделе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154120" y="1916280"/>
            <a:ext cx="20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Автор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24000" y="2421000"/>
            <a:ext cx="8569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фликт в Южной Осетии. К нему на стороне Южной Осетии официально присоединилась Россия. В рамках операции по принуждению грузинской стороны к мир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24000" y="46004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езидент подписал закон об амнистии. Министры юстиции и внутренних дел были против его принятия, но после вступления принятого решения в законную силу подчинились и активно участвовали в его исполн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235480" y="4067280"/>
            <a:ext cx="28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36400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149800" y="633888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719280" y="333360"/>
            <a:ext cx="842472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Что общего в этих ситуациях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46200" y="2421000"/>
            <a:ext cx="849780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и строятся по принципу «господство-подчинение».  Один главенствует, проявляет свою волю, друг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чиняется его воле. Это и есть властные отношения, отношения в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Какова структура вла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10" descr="http://festival.1september.ru/articles/211977/img2.jpg"/>
          <p:cNvPicPr/>
          <p:nvPr/>
        </p:nvPicPr>
        <p:blipFill>
          <a:blip r:embed="rId2"/>
          <a:stretch/>
        </p:blipFill>
        <p:spPr>
          <a:xfrm>
            <a:off x="1116000" y="1844640"/>
            <a:ext cx="63356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539640" y="0"/>
            <a:ext cx="820764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Субъект вла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9640" y="1936800"/>
            <a:ext cx="8209080" cy="119124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т, кто  обладает жел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ластвовать, реальной власть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то проявляет ее по отношению к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68360" y="3354480"/>
            <a:ext cx="8209080" cy="350604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о и  его инстит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политические эл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лид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политические пар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отдельный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общность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 мировое сообщество — О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23036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-18108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539640" y="115920"/>
            <a:ext cx="820764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Объект вла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39640" y="4149720"/>
            <a:ext cx="8064720" cy="228852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индивид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социальная групп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класс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общ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826920" y="2349360"/>
            <a:ext cx="7632720" cy="82548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е те, на кого воздействует субъект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6300720" y="3357720"/>
            <a:ext cx="1665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4800" spc="-1" strike="noStrike" u="sng">
                <a:solidFill>
                  <a:srgbClr val="ff0066"/>
                </a:solidFill>
                <a:uFillTx/>
                <a:latin typeface="Arial"/>
              </a:rPr>
              <a:t>Источники вла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11280" y="1973160"/>
            <a:ext cx="8064360" cy="478656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ил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автор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богатств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ложение в обществ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знания, информац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харизма – исключительные качества лич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емократические процедуры — свободные выбор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источник власти в РФ — на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288000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-46836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Функции вл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01760" y="2492280"/>
            <a:ext cx="7638840" cy="265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подство (древ. греч. — благородный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уководство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егуля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контр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управлени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мобилиз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4500720" y="3933720"/>
            <a:ext cx="3600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Ресурсы вл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539640" y="2577960"/>
            <a:ext cx="7993080" cy="3385800"/>
          </a:xfrm>
          <a:prstGeom prst="rect">
            <a:avLst/>
          </a:prstGeom>
          <a:solidFill>
            <a:srgbClr val="bbe0e3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экономически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силов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социальн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информационн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политико-правов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демограф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"/>
          <p:cNvPicPr/>
          <p:nvPr/>
        </p:nvPicPr>
        <p:blipFill>
          <a:blip r:embed="rId2"/>
          <a:stretch/>
        </p:blipFill>
        <p:spPr>
          <a:xfrm>
            <a:off x="6084720" y="2708280"/>
            <a:ext cx="2233800" cy="1479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16036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826920" y="115920"/>
            <a:ext cx="820764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Средства осуществления власт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826920" y="2349360"/>
            <a:ext cx="8064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ё то, что индивид или группа могут использовать для влияния на друг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332000" y="3357720"/>
            <a:ext cx="7416720" cy="3933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уждени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силие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убеж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ощрени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манипу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традиции стр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материальные ценност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информ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2"/>
          <a:stretch/>
        </p:blipFill>
        <p:spPr>
          <a:xfrm>
            <a:off x="6378480" y="3429000"/>
            <a:ext cx="27655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63" name="Содержимое 5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8146800" cy="5589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755640" y="0"/>
            <a:ext cx="8207280" cy="1079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4800" spc="-1" strike="noStrike" u="sng">
                <a:solidFill>
                  <a:srgbClr val="ff0066"/>
                </a:solidFill>
                <a:uFillTx/>
                <a:latin typeface="Arial"/>
              </a:rPr>
              <a:t>Виды вла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250920" y="0"/>
            <a:ext cx="1493640" cy="1584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908000" y="476280"/>
            <a:ext cx="669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нажды Конфуций проезжал неподалеку от горы. Какая-то женщина в голос рыдала над могилой. Склонившись в знак почтения на передок колесницы, Конфуций слушал ее рыдания. А затем послал к женщине своего ученика, и тот спросил 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Вы так убиваетесь – похоже, что скорбите не вперв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Так оно и есть. Когда-то от когтей тигра погиб мой свекор. После от них же погиб мой муж. А теперь вот погиб и мой с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Отчего же вы не покинете эти места? – спросил Конфу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десь нет жестоких властей, - ответила женщ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82160" y="1916280"/>
            <a:ext cx="165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(“Кун-цзы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(око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551 – 479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— 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древ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китай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мыслител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539640" y="0"/>
            <a:ext cx="8353440" cy="194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ой вывод из этого разговора сделал Конфуций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95280" y="4724280"/>
            <a:ext cx="8353440" cy="194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579240" y="4698000"/>
            <a:ext cx="7291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 чем сегодня пойдет р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1979640" y="2133720"/>
            <a:ext cx="46800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468360" y="189000"/>
            <a:ext cx="820728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Вла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411280" y="260280"/>
            <a:ext cx="41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рок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26920" y="2071800"/>
            <a:ext cx="7664760" cy="4786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324000" y="0"/>
            <a:ext cx="8424720" cy="151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Что такое влас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55640" y="1628640"/>
            <a:ext cx="7777080" cy="511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Times New Roman"/>
              </a:rPr>
              <a:t>               </a:t>
            </a:r>
            <a:r>
              <a:rPr b="1" i="1" lang="ru-RU" sz="3200" spc="-1" strike="noStrike">
                <a:solidFill>
                  <a:srgbClr val="009999"/>
                </a:solidFill>
                <a:latin typeface="Times New Roman"/>
              </a:rPr>
              <a:t>План урок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то такое вла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мпоненты в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литическая вл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ая вл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еория разделения вл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Documents and Settings\Администратор\Рабочий стол\мама3\European-Parliament.jpg"/>
          <p:cNvPicPr/>
          <p:nvPr/>
        </p:nvPicPr>
        <p:blipFill>
          <a:blip r:embed="rId2"/>
          <a:stretch/>
        </p:blipFill>
        <p:spPr>
          <a:xfrm>
            <a:off x="5580000" y="1989000"/>
            <a:ext cx="27478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0" y="0"/>
            <a:ext cx="8352000" cy="90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ла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зарождается одноврем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человеческим обще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7921440" cy="2619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9"/>
          <p:cNvSpPr/>
          <p:nvPr/>
        </p:nvSpPr>
        <p:spPr>
          <a:xfrm>
            <a:off x="250920" y="1125360"/>
            <a:ext cx="4751280" cy="208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3 формы проявления влия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ил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насил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ла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законы и тради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Авторите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мора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3"/>
          <a:stretch/>
        </p:blipFill>
        <p:spPr>
          <a:xfrm>
            <a:off x="5219640" y="1413000"/>
            <a:ext cx="27352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74120" y="189000"/>
            <a:ext cx="8256240" cy="33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Сила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применение физичес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здействия с целью навяз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ою волю другим людям помим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х желания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1979640" y="3141720"/>
            <a:ext cx="51134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8108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840"/>
            <a:ext cx="8569440" cy="472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Авторит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в широком смысл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признанное влияние лица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ции в различных сфе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енной жизни, основа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знаниях, нравственных достоинств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ыте; в узком – одна из фо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уществления власти.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11280" y="5619600"/>
            <a:ext cx="8281800" cy="1373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сновой авторите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является ув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знаниям, опыту, достижениям, лич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чествам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1979640" y="450864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3"/>
          <a:stretch/>
        </p:blipFill>
        <p:spPr>
          <a:xfrm>
            <a:off x="4859280" y="4437000"/>
            <a:ext cx="14288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468360" y="260280"/>
            <a:ext cx="7920000" cy="350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лас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это влияние на основе закона или традиции, то есть не физическое воздействие, оказываемое на других людей в рамках закона или обычая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1"/>
          <p:cNvPicPr/>
          <p:nvPr/>
        </p:nvPicPr>
        <p:blipFill>
          <a:blip r:embed="rId2"/>
          <a:stretch/>
        </p:blipFill>
        <p:spPr>
          <a:xfrm>
            <a:off x="684360" y="3411360"/>
            <a:ext cx="2979720" cy="3446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10017974-1"/>
          <p:cNvPicPr/>
          <p:nvPr/>
        </p:nvPicPr>
        <p:blipFill>
          <a:blip r:embed="rId3"/>
          <a:stretch/>
        </p:blipFill>
        <p:spPr>
          <a:xfrm>
            <a:off x="4140360" y="3747960"/>
            <a:ext cx="42145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8:06:22Z</dcterms:created>
  <dc:creator>valentina</dc:creator>
  <dc:description/>
  <dc:language>en-US</dc:language>
  <cp:lastModifiedBy>User</cp:lastModifiedBy>
  <dcterms:modified xsi:type="dcterms:W3CDTF">2019-06-09T16:49:50Z</dcterms:modified>
  <cp:revision>11</cp:revision>
  <dc:subject/>
  <dc:title>Слайд 1</dc:title>
</cp:coreProperties>
</file>