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F6D5-CEC4-446B-B92B-CBD782B47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20C3-F529-44E2-ACFF-AD40919F9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5B8F-20CD-4A18-9848-13689239A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A5E-4621-437D-8EDC-D62277146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A9A-F596-4021-93BD-31121B9D6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EFC-2304-414F-B518-CD0FB767E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1FB-DB5F-4C51-B56D-8FC3BC76A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CBA-AE3C-4394-9792-AC4ABDB0C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24C-2721-4647-8626-35E2AD9B9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0229-B769-42CA-B039-2E96F7241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A32B-C4EF-4489-AF95-EB4FE8A40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D3B-7147-411B-A0AC-E3426FA57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198-A59E-44F4-BB06-93357B265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20F-6402-48D4-8B90-A9ED9BE0C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EC9E-C31C-476B-B74C-E3679FC21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333-89C3-4D1A-9B24-9E6F2D47A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2CA9-3AFF-4B7E-9F28-0D75425AB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3FF4-1F25-44AF-B4E8-F5184DDA8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08DB-CB1B-41A5-9F44-A7536E8B8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F40-BD9D-4222-BD7F-018B0367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365-BF8D-42D3-A635-00529AD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5FB-5B83-4F32-B692-17AC8838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3E6-79A2-4999-A960-C8FF63F2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BBD-149B-4B47-BC16-169AC2F3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993-F5EC-4160-BD97-4FFBA32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A86-ED7B-446A-8DCE-07F167C0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E98-EA7A-4CAA-9DDF-9B0680D8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493-3EFA-4EC5-A66A-52C4960E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A31-CFDC-447F-BCF8-A41CBE00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AB3-6C1B-4BA7-A2E8-D59A0BB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62A-AF64-4C8B-956F-FBE70AA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985-3B0D-4916-8E1E-A4F98A614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аст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ударственная власть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79280" y="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ец возвращается из школы с родительского собрания. Сын открывает входную дверь и с ужасом слышит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кую оценку ты получил за контрольную работу по математике на прошлой недел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54120" y="19162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4000" y="2421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ликт в Южной Осетии. К нему на стороне Южной Осетии официально присоединилась Россия. В рамках операции по принуждению грузинской стороны к мир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24000" y="46004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зидент подписал закон об амнистии. Министры юстиции и внутренних дел были против его принятия, но после вступления принятого решения в законную силу подчинились и активно участвовали в его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235480" y="406728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64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149800" y="63388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19280" y="33336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Что общего в этих ситуациях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46200" y="2421000"/>
            <a:ext cx="849780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строятся по принципу «господство-подчинение».  Один главенствует, проявляет свою волю,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чиняется его воле. Это и есть властные отношения, отношения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Какова структура вл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0" descr="http://festival.1september.ru/articles/211977/img2.jpg"/>
          <p:cNvPicPr/>
          <p:nvPr/>
        </p:nvPicPr>
        <p:blipFill>
          <a:blip r:embed="rId2"/>
          <a:stretch/>
        </p:blipFill>
        <p:spPr>
          <a:xfrm>
            <a:off x="1116000" y="1844640"/>
            <a:ext cx="633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539640" y="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у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9640" y="1936800"/>
            <a:ext cx="8209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т, кто  обладает жел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ластвовать, реальной вла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проявляет ее по отношению к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68360" y="3354480"/>
            <a:ext cx="8209080" cy="35060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о и  его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политические эл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лид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политические пар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отдель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общность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мировое сообщество —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3964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9640" y="4149720"/>
            <a:ext cx="806472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ндивид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циальная групп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клас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б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26920" y="2349360"/>
            <a:ext cx="7632720" cy="82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те, на кого воздействует субъект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1665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Источники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11280" y="1973160"/>
            <a:ext cx="8064360" cy="478656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ил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огат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ложение в обществ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нания, информа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харизма – исключительные качества лич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емократические процедуры — свободные выбор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сточник власти в РФ —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8800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-468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Функции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01760" y="2492280"/>
            <a:ext cx="763884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подство (древ. греч. — благородный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уководств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егуля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правл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оби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Ресурсы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9640" y="2577960"/>
            <a:ext cx="7993080" cy="3385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экономическ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ил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циаль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нформ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олитико-прав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демограф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2233800" cy="147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160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82692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редства осуществления в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34936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 то, что индивид или группа могут использовать для влияния на дру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332000" y="3357720"/>
            <a:ext cx="7416720" cy="393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ужд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силие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б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ощр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ани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радиции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атериальные цен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6378480" y="3429000"/>
            <a:ext cx="2765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5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146800" cy="558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755640" y="0"/>
            <a:ext cx="8207280" cy="107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Виды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50920" y="0"/>
            <a:ext cx="1493640" cy="158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8000" y="476280"/>
            <a:ext cx="66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нажды Конфуций проезжал неподалеку от горы. Какая-то женщина в голос рыдала над могилой. Склонившись в знак почтения на передок колесницы, Конфуций слушал ее рыдания. А затем послал к женщине своего ученика, и тот спросил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Вы так убиваетесь – похоже, что скорбите не в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Так оно и есть. Когда-то от когтей тигра погиб мой свекор. После от них же погиб мой муж. А теперь вот погиб и мой с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тчего же вы не покинете эти места? – спросил 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есь нет жестоких властей, - ответила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82160" y="1916280"/>
            <a:ext cx="16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“Кун-цз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551 – 479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—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кита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мысл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39640" y="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вывод из этого разговора сделал Конфуций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472428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579240" y="4698000"/>
            <a:ext cx="729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чем сегодня пойдет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468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Вл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411280" y="26028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рок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26920" y="2071800"/>
            <a:ext cx="7664760" cy="47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324000" y="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Что такое вл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5640" y="1628640"/>
            <a:ext cx="7777080" cy="511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План урок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такое вл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мпоненты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итическ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Администратор\Рабочий стол\мама3\European-Parliament.jpg"/>
          <p:cNvPicPr/>
          <p:nvPr/>
        </p:nvPicPr>
        <p:blipFill>
          <a:blip r:embed="rId2"/>
          <a:stretch/>
        </p:blipFill>
        <p:spPr>
          <a:xfrm>
            <a:off x="5580000" y="1989000"/>
            <a:ext cx="2747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8352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рождается одно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человеческим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7921440" cy="2619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250920" y="1125360"/>
            <a:ext cx="47512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формы проявления влия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насил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законы и тради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вторит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мор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735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74120" y="189000"/>
            <a:ext cx="825624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ил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применение физиче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здействия с целью навяз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ю волю другим людям помим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х жела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5113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840"/>
            <a:ext cx="8569440" cy="472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вторит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в широком смысл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признанное влияние лица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и в различных сф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й жизни, основ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знаниях, нравственных достоинств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е; в узком – одна из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уществления власти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11280" y="5619600"/>
            <a:ext cx="828180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сновой авторите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является ув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знаниям, опыту, достижениям, л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чества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4859280" y="4437000"/>
            <a:ext cx="14288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68360" y="260280"/>
            <a:ext cx="79200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лас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влияние на основе закона или традиции, то есть не физическое воздействие, оказываемое на других людей в рамках закона или обыча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1"/>
          <p:cNvPicPr/>
          <p:nvPr/>
        </p:nvPicPr>
        <p:blipFill>
          <a:blip r:embed="rId2"/>
          <a:stretch/>
        </p:blipFill>
        <p:spPr>
          <a:xfrm>
            <a:off x="684360" y="3411360"/>
            <a:ext cx="2979720" cy="344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10017974-1"/>
          <p:cNvPicPr/>
          <p:nvPr/>
        </p:nvPicPr>
        <p:blipFill>
          <a:blip r:embed="rId3"/>
          <a:stretch/>
        </p:blipFill>
        <p:spPr>
          <a:xfrm>
            <a:off x="4140360" y="3747960"/>
            <a:ext cx="42145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06:22Z</dcterms:created>
  <dc:creator>valentina</dc:creator>
  <dc:description/>
  <dc:language>en-US</dc:language>
  <cp:lastModifiedBy>User</cp:lastModifiedBy>
  <dcterms:modified xsi:type="dcterms:W3CDTF">2019-06-09T16:49:50Z</dcterms:modified>
  <cp:revision>11</cp:revision>
  <dc:subject/>
  <dc:title>Слайд 1</dc:title>
</cp:coreProperties>
</file>