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EA1-D2DF-4A1F-9871-2E2EF696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297-DD67-4479-87A6-52EBC072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74A-D23F-4EB4-96D2-8734A19B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EC6-394D-47CA-BFC5-807E9D9E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A21F-5EDE-4F60-AAE6-C557F0DB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A1C5-D05B-41D6-AD36-709A70DE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A208-4477-4405-8CB8-689454DF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1BFE-7FEE-46B3-8FA1-9F18D636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CA19-AAC9-4163-AA7D-B0ADE365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1B14-60F5-455E-B410-CF571732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A0D3-FEC5-4449-8A78-C30D1FA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97C-9CD6-4281-BC2B-AF84688B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DE71-F649-42BD-A4E2-93CE275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687-B7D8-40F4-BC06-8984A5F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34A0-38C8-4ECC-875E-739ADF3B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B4DB-882D-4B72-AA6E-6A005F3D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ACBF-3781-4D67-AF5B-2DE3E298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6F0-01B6-4B97-9E66-13E60A13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B03-38A2-4D56-958F-68686BA1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404-E1B8-411A-A9D6-44900D10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B53-71C6-4B3B-9217-44F9E15D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34D-630C-43C6-9B5D-924A118E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30C-AF95-4DBF-9CC4-59EE0DA8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905-CA07-43A3-8163-73DC855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77F0-F35A-45B9-891E-303C24F252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73A3-64B3-48CB-AAAD-830F0E789C6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=3&amp;text=&#1041;&#1080;&#1088;&#1078;&#1072;%20&#1090;&#1088;&#1091;&#1076;&#1072;%20&#1082;&#1072;&#1088;&#1090;&#1080;&#1085;&#1082;&#1080;%20&#1076;&#1083;&#1103;%20&#1087;&#1088;&#1077;&#1079;&#1077;&#1085;&#1090;&#1072;&#1094;&#1080;&#1080;&amp;img_url=https%3A%2F%2Fwebakula.ua%2Fwp-content%2Fuploads%2F2015%2F07%2F10-signs-of-bed-website_9.jpg&amp;pos=134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source=related-1&amp;p=9&amp;nomisspell=1&amp;text=&#1073;&#1077;&#1079;&#1088;&#1072;&#1073;&#1086;&#1090;&#1080;&#1094;&#1072;%20&#1074;%20&#1082;&#1072;&#1088;&#1090;&#1080;&#1085;&#1082;&#1072;&#1093;&amp;img_url=https%3A%2F%2Fframasphere.org%2Fuploads%2Fimages%2F349301ee98a69ad68601.jpeg&amp;pos=368&amp;rpt=simage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=2&amp;text=&#1089;&#1077;&#1079;&#1086;&#1085;&#1085;&#1072;&#1103;%20&#1073;&#1077;&#1079;&#1088;&#1072;&#1073;&#1086;&#1090;&#1080;&#1094;&#1072;%20&#1082;&#1072;&#1088;&#1090;&#1080;&#1085;&#1082;&#1080;&amp;img_url=https%3A%2F%2Frepublic.ru%2Fimages3%2F6%2F1100000%2F632%2F1156037.jpg%3F1410459227&amp;pos=96&amp;rpt=simage&amp;lr=11126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s://yandex.ru/images/search?text=&#1089;&#1077;&#1079;&#1086;&#1085;&#1085;&#1072;&#1103;%20&#1073;&#1077;&#1079;&#1088;&#1072;&#1073;&#1086;&#1090;&#1080;&#1094;&#1072;%20&#1082;&#1072;&#1088;&#1090;&#1080;&#1085;&#1082;&#1080;&amp;img_url=http%3A%2F%2Fimages.says.com%2Fuploads%2Fstory_source%2Fsource_image%2F461554%2F34ce.jpg&amp;pos=33&amp;rpt=simage&amp;lr=11126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&#1089;&#1086;&#1094;&#1080;&#1072;&#1083;&#1100;&#1085;&#1072;&#1103;&amp;img_url=https%3A%2F%2Fdzerginsk.by%2Fuploads%2F75%2F36%2F75369bfefdda7cdac42188140b4b6643.jpg&amp;pos=0&amp;rpt=simage&amp;lr=11126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s://yandex.ru/images/search?text=&#1101;&#1082;&#1086;&#1085;&#1086;&#1084;&#1080;&#1095;&#1077;&#1089;&#1082;&#1072;&#1103;&amp;img_url=https%3A%2F%2Fniskanencenter.org%2Fwp-content%2Fuploads%2F2015%2F07%2Fglobal-economy.jpg&amp;pos=7&amp;rpt=simage&amp;lr=11126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=2&amp;text=&#1092;&#1077;&#1076;&#1077;&#1088;&#1072;&#1090;&#1080;&#1074;&#1085;&#1099;&#1081;%20%28&#1085;&#1072;&#1094;&#1080;&#1086;&#1085;&#1072;&#1083;&#1100;&#1085;&#1099;&#1081;%29%20&#1088;&#1099;&#1085;&#1086;&#1082;%20&#1090;&#1088;&#1091;&#1076;&#1072;%20&#1082;&#1072;&#1088;&#1090;&#1080;&#1085;&#1082;&#1080;&amp;img_url=https%3A%2F%2Fgovorim.by%2Fuploads%2Fposts%2F2015-11%2Fday_04%2Fthumbs%2F14466514991d38850654cf857c69eceaaf4b4f6bbe2.jpeg&amp;pos=86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&#1086;&#1088;&#1075;&#1072;&#1085;&#1080;&#1079;&#1086;&#1074;&#1072;&#1085;&#1085;&#1099;&#1081;%20&#1088;&#1099;&#1085;&#1086;&#1082;&amp;img_url=https%3A%2F%2Fid-forex.com%2Fimg%2Fforex-for-beginners-2017%2Fstructure-of-securities-market.png&amp;pos=30&amp;rpt=simag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p=1&amp;text=&#1088;&#1099;&#1085;&#1086;&#1082;%20&#1087;&#1088;&#1077;&#1080;&#1084;&#1091;&#1097;&#1077;&#1089;&#1090;&#1074;&#1077;&#1085;&#1085;&#1086;%20&#1092;&#1080;&#1079;&#1080;&#1095;&#1077;&#1089;&#1082;&#1086;&#1075;&#1086;%20&#1090;&#1088;&#1091;&#1076;&#1072;%20&#1082;&#1072;&#1088;&#1090;&#1080;&#1085;&#1082;&#1080;&amp;img_url=http%3A%2F%2Fbestgals.ru%2Fimages%2F546674_trud.jpg&amp;pos=75&amp;rpt=simage&amp;lr=11126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s://yandex.ru/images/search?p=1&amp;text=&#1088;&#1099;&#1085;&#1086;&#1082;%20&#1087;&#1088;&#1077;&#1080;&#1084;&#1091;&#1097;&#1077;&#1089;&#1090;&#1074;&#1077;&#1085;&#1085;&#1086;%20&#1091;&#1084;&#1089;&#1090;&#1074;&#1077;&#1085;&#1085;&#1086;&#1075;&#1086;%20&#1090;&#1088;&#1091;&#1076;&#1072;%20&#1082;&#1072;&#1088;&#1090;&#1080;&#1085;&#1082;&#1080;&amp;img_url=https%3A%2F%2Fvrn.kp.ru%2Fshare%2Fi%2F12%2F8538640%2Fwr-720.sh-18.jpg&amp;pos=54&amp;rpt=simage&amp;lr=1112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s://yandex.ru/images/search?text=&#1090;&#1077;&#1072;&#1090;&#1088;%20&#1074;&#1099;&#1089;&#1090;&#1091;&#1087;&#1083;&#1077;&#1085;&#1080;&#1077;&amp;img_url=http%3A%2F%2Fxn--24-6kc3bf4angc2g.xn--p1ai%2Fdownload%2F2017%2F%25D0%25B8%25D1%258E%25D0%25BD%25D1%258C%25202017%2Fimg3513.jpg&amp;pos=0&amp;rpt=simage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s://yandex.ru/images/search?p=1&amp;text=&#1088;&#1099;&#1085;&#1086;&#1082;%20&#1090;&#1088;&#1091;&#1076;&#1072;%20&#1084;&#1077;&#1085;&#1077;&#1076;&#1078;&#1077;&#1088;&#1086;&#1074;%20&#1080;%20&#1089;&#1087;&#1077;&#1094;&#1080;&#1072;&#1083;&#1080;&#1089;&#1090;&#1086;&#1074;&amp;img_url=https%3A%2F%2Ftrey.pro%2Fupload%2F000%2Fu6%2F001%2F492b9322.jpg&amp;pos=56&amp;rpt=simage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нятость и безработиц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5333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полнила: студентка гр.539 Лаборант-эколог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Фазлиахметова Альб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уководитель: Смирнов А.В., кандидат психологических нау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47920" y="5335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ржа тру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иржа труда — специализированное место, в котором осуществляется посредничество между предпринимателями и безработными или ищущими новую работу наёмными работник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3600360" y="58690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5" descr="Картинки для презентаций бизнес человечки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429000"/>
            <a:ext cx="6629400" cy="28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ятость. Концепции занят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 занятостью понимается деятельность трудоспособных граждан в системе народного хозяйства с целью получения трудового дохода и для удовлетворения личных и общественных потребносте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5" descr="i?id=a42cee5b6d28ca1532487d494a5f2461-sr&amp;n=13"/>
          <p:cNvPicPr/>
          <p:nvPr/>
        </p:nvPicPr>
        <p:blipFill>
          <a:blip r:embed="rId1"/>
          <a:stretch/>
        </p:blipFill>
        <p:spPr>
          <a:xfrm>
            <a:off x="5486400" y="3124080"/>
            <a:ext cx="2781360" cy="300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«Критическая зона рынка труда»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ключает в себя четыре группы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     лица, имеющие официальный статус безработного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     неработающие лица, не имеющие официальный статус безработного, с душевным доходом в семье ниже прожиточного минимум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     лица, работающие в режиме неполной занятости и не имеющие дополнительного заработка, с душевным доходом в семье ниже прожиточного минимум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      лица, занятые полный рабочий день, не имеющие дополнительного дохода, с заработной платой ниже прожиточного минимум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0" name="Picture 5" descr="i?id=9876df3b25857b843a8a1bba22cc3d79-l&amp;n=13"/>
          <p:cNvPicPr/>
          <p:nvPr/>
        </p:nvPicPr>
        <p:blipFill>
          <a:blip r:embed="rId1"/>
          <a:stretch/>
        </p:blipFill>
        <p:spPr>
          <a:xfrm>
            <a:off x="533520" y="4114800"/>
            <a:ext cx="7543800" cy="198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ктивная полит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новная цель активной политики – всемерное содействие в трудоустройстве потерявшим работу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5" descr="i?id=f72126ea24bd06482e65b51c2d61d484-l&amp;n=13"/>
          <p:cNvPicPr/>
          <p:nvPr/>
        </p:nvPicPr>
        <p:blipFill>
          <a:blip r:embed="rId1"/>
          <a:stretch/>
        </p:blipFill>
        <p:spPr>
          <a:xfrm>
            <a:off x="2057400" y="3429000"/>
            <a:ext cx="4343400" cy="323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еализация этой цели осуществляется со стороны как спроса на труд, так и его предложения и включает в себя комплекс мероприятий:</a:t>
            </a:r>
            <a:br>
              <a:rPr sz="4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15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1) содействие трудоустройству через государственные и коммерческие службы трудоустройств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) развитие системы профессиональной подготовки и переподготовки как упредительной и профилактической меры содействия занятости через собственно государственные программы обучени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3) организация общественных работ, включая трудоемкие работы по строительству и благоустройству городов, защите земли, уходу за больными, престарелыми, которые способствуют созданию рабочих мест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4) содействие самозанятости и предпринимательству через предоставление кредитов и субсидий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5) содействие занятости социально слабо защищенных групп населения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езработиц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езработица является важнейшей макроэкономической проблемой. Её размеры непосредственно влияют на уровень цен и объём производства, на структуру и формы распределения доходов, на государственный бюджет и государственные расход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Picture 5" descr="i?id=63c9dbb73a9d25002aec908de2859c34-l&amp;n=13"/>
          <p:cNvPicPr/>
          <p:nvPr/>
        </p:nvPicPr>
        <p:blipFill>
          <a:blip r:embed="rId1"/>
          <a:stretch/>
        </p:blipFill>
        <p:spPr>
          <a:xfrm>
            <a:off x="838080" y="3429000"/>
            <a:ext cx="7096320" cy="27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иды безработиц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личают безработиц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рикционную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руктурную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нституциональную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циклическую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езонную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стойную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обровольную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рикцион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Фрикционная безработиц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охватывает работников, которые ищут или ждут получения работы в ближайшем будущем. Это период между увольнением с одного места работы и поступлением на другое или возвращением на прежнее место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5" descr="i?id=786957a1bb7da5c60792fd0a98c8922e-l&amp;n=13"/>
          <p:cNvPicPr/>
          <p:nvPr/>
        </p:nvPicPr>
        <p:blipFill>
          <a:blip r:embed="rId1"/>
          <a:stretch/>
        </p:blipFill>
        <p:spPr>
          <a:xfrm>
            <a:off x="914400" y="3124080"/>
            <a:ext cx="7315200" cy="335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Структур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труктур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—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это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разновидность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оторая связана с изменениями структуры экономики, а следовательно, с изменением структуры спроса на рабочую силу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Picture 5" descr="i?id=a4009af50ee2fd7c65fc04b6d27efd01&amp;n=13"/>
          <p:cNvPicPr/>
          <p:nvPr/>
        </p:nvPicPr>
        <p:blipFill>
          <a:blip r:embed="rId1"/>
          <a:stretch/>
        </p:blipFill>
        <p:spPr>
          <a:xfrm>
            <a:off x="2133720" y="3048120"/>
            <a:ext cx="430524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Институциональная безработиц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Институциональ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– форма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связанная с несовершенством правовых норм или налоговой системы, ограничивает предложение рабочей силы и удлиняет сроки 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езработи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9" name="Picture 5" descr="i?id=9c1e7a9cbf0c8369b748f8f058c87131-l&amp;n=13"/>
          <p:cNvPicPr/>
          <p:nvPr/>
        </p:nvPicPr>
        <p:blipFill>
          <a:blip r:embed="rId1"/>
          <a:stretch/>
        </p:blipFill>
        <p:spPr>
          <a:xfrm>
            <a:off x="914400" y="3048120"/>
            <a:ext cx="7143840" cy="32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ынок тру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ынок труда – это категория рыночного хозяйства. Основными элементами рынка труда являютс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рос на тру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едложение труд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цена труд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иклическую безработиц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Циклическая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— возникает в период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циклическог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экономического спада и недостатка спрос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2" name="Picture 5" descr="На конец прошлого года официальными безработными числились 43,3 тыс. челове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3657600"/>
            <a:ext cx="571500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Сезон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езонная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— обусловлена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езонными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лебаниями в объеме производства определенных отрасле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Безработица прекратила падени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65760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ACTU calls for working holiday visa re-think amid youth unemployment concer..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657600"/>
            <a:ext cx="350496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стой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Застойная безработица это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лительная 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безработиц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являющаяся характерной для отдельных профессий, половозрастных групп и регионо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9" name="Picture 5" descr="По данным Росстата в январе резко выросла безработица."/>
          <p:cNvPicPr/>
          <p:nvPr/>
        </p:nvPicPr>
        <p:blipFill>
          <a:blip r:embed="rId1"/>
          <a:stretch/>
        </p:blipFill>
        <p:spPr>
          <a:xfrm>
            <a:off x="2057400" y="4114800"/>
            <a:ext cx="5067360" cy="259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Добровольная безработиц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бровольная безработица– это безработица, которая связана с тем, что некоторая часть рабочей силы не имеет желания работать за установленную ставку заработной платы, которая формируется взаимодействием спроса и предложения в условиях чистого рынк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От лени мужа "/>
          <p:cNvPicPr/>
          <p:nvPr/>
        </p:nvPicPr>
        <p:blipFill>
          <a:blip r:embed="rId1"/>
          <a:stretch/>
        </p:blipFill>
        <p:spPr>
          <a:xfrm>
            <a:off x="2133720" y="3429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Безработица –одна из важнейших макроэкономических проблем. Безработица –социально-экономическое явление, которое существует даже в условиях полного использования ресурсов. Безработным считается человек, который не имеет работы или какого-то иного дохода, ищущий работу и готовый приступить к не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воря о причинах безработицы, следует заметить, что сама рыночная форма организации хозяйства неизбежно порождает безработицу, ибо она предполагает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разорение части предприятий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накопление капитала в условиях технического и научного прогресс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диспропорциональность в динамике потребления, сбережений и инвестиций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циклический характер производства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       несовершенство конкуренции на современном рынке в целом и прежде всего на рынке труд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897280"/>
            <a:ext cx="8229600" cy="32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Спасибо за внимани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ункции рынка тру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    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циальная функци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    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Экономическая функци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12" descr="картинки социальная диагностика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276720"/>
            <a:ext cx="390528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Экономическая сфера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29240" y="3276720"/>
            <a:ext cx="451476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авильная организация маркетинга в области трудовых отношений предполагает классификацию рынка труда по следующим критериям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5" name="Organization Chart 6"/>
          <p:cNvGrpSpPr/>
          <p:nvPr/>
        </p:nvGrpSpPr>
        <p:grpSpPr>
          <a:xfrm>
            <a:off x="457200" y="2209680"/>
            <a:ext cx="7390080" cy="3904920"/>
            <a:chOff x="457200" y="2209680"/>
            <a:chExt cx="7390080" cy="3904920"/>
          </a:xfrm>
        </p:grpSpPr>
        <p:cxnSp>
          <p:nvCxnSpPr>
            <p:cNvPr id="126" name="_s1028"/>
            <p:cNvCxnSpPr>
              <a:stCxn id="127" idx="1"/>
              <a:endCxn id="128" idx="2"/>
            </p:cNvCxnSpPr>
            <p:nvPr/>
          </p:nvCxnSpPr>
          <p:spPr>
            <a:xfrm rot="10800000">
              <a:off x="2673360" y="2668320"/>
              <a:ext cx="739440" cy="32180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9" name="_s1029"/>
            <p:cNvCxnSpPr>
              <a:stCxn id="130" idx="1"/>
              <a:endCxn id="128" idx="2"/>
            </p:cNvCxnSpPr>
            <p:nvPr/>
          </p:nvCxnSpPr>
          <p:spPr>
            <a:xfrm rot="10800000">
              <a:off x="2673360" y="2668320"/>
              <a:ext cx="739440" cy="2527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1" name="_s1030"/>
            <p:cNvCxnSpPr>
              <a:stCxn id="132" idx="1"/>
              <a:endCxn id="128" idx="2"/>
            </p:cNvCxnSpPr>
            <p:nvPr/>
          </p:nvCxnSpPr>
          <p:spPr>
            <a:xfrm rot="10800000">
              <a:off x="2673360" y="2668320"/>
              <a:ext cx="739440" cy="1838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3" name="_s1031"/>
            <p:cNvCxnSpPr>
              <a:stCxn id="134" idx="1"/>
              <a:endCxn id="128" idx="2"/>
            </p:cNvCxnSpPr>
            <p:nvPr/>
          </p:nvCxnSpPr>
          <p:spPr>
            <a:xfrm rot="10800000">
              <a:off x="2673360" y="2668320"/>
              <a:ext cx="739440" cy="1150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5" name="_s1032"/>
            <p:cNvCxnSpPr>
              <a:stCxn id="136" idx="1"/>
              <a:endCxn id="128" idx="2"/>
            </p:cNvCxnSpPr>
            <p:nvPr/>
          </p:nvCxnSpPr>
          <p:spPr>
            <a:xfrm rot="10800000">
              <a:off x="2673360" y="2668320"/>
              <a:ext cx="739440" cy="4615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8" name="_s1033"/>
            <p:cNvSpPr/>
            <p:nvPr/>
          </p:nvSpPr>
          <p:spPr>
            <a:xfrm>
              <a:off x="457200" y="220968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рынок труда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_s1034"/>
            <p:cNvSpPr/>
            <p:nvPr/>
          </p:nvSpPr>
          <p:spPr>
            <a:xfrm>
              <a:off x="3413160" y="289872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пространственная среда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4" name="_s1035"/>
            <p:cNvSpPr/>
            <p:nvPr/>
          </p:nvSpPr>
          <p:spPr>
            <a:xfrm>
              <a:off x="3413160" y="358776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временные параметры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2" name="_s1036"/>
            <p:cNvSpPr/>
            <p:nvPr/>
          </p:nvSpPr>
          <p:spPr>
            <a:xfrm>
              <a:off x="3413160" y="427716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степень регулируемости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0" name="_s1037"/>
            <p:cNvSpPr/>
            <p:nvPr/>
          </p:nvSpPr>
          <p:spPr>
            <a:xfrm>
              <a:off x="3413160" y="4966200"/>
              <a:ext cx="443412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степень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организации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_s1038"/>
            <p:cNvSpPr/>
            <p:nvPr/>
          </p:nvSpPr>
          <p:spPr>
            <a:xfrm>
              <a:off x="3413160" y="5655240"/>
              <a:ext cx="4429440" cy="4593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49"/>
                </a:spcBef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сегментация</a:t>
              </a:r>
              <a:r>
                <a:rPr b="0" lang="en-US" sz="10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странственная среда рынка труд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8" name="Organization Chart 6"/>
          <p:cNvGrpSpPr/>
          <p:nvPr/>
        </p:nvGrpSpPr>
        <p:grpSpPr>
          <a:xfrm>
            <a:off x="457200" y="1617840"/>
            <a:ext cx="8228160" cy="4495320"/>
            <a:chOff x="457200" y="1617840"/>
            <a:chExt cx="8228160" cy="4495320"/>
          </a:xfrm>
        </p:grpSpPr>
        <p:cxnSp>
          <p:nvCxnSpPr>
            <p:cNvPr id="139" name="_s2052"/>
            <p:cNvCxnSpPr>
              <a:stCxn id="140" idx="1"/>
              <a:endCxn id="141" idx="2"/>
            </p:cNvCxnSpPr>
            <p:nvPr/>
          </p:nvCxnSpPr>
          <p:spPr>
            <a:xfrm rot="10800000">
              <a:off x="2925000" y="2007720"/>
              <a:ext cx="823320" cy="39099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2" name="_s2053"/>
            <p:cNvCxnSpPr>
              <a:stCxn id="143" idx="1"/>
              <a:endCxn id="141" idx="2"/>
            </p:cNvCxnSpPr>
            <p:nvPr/>
          </p:nvCxnSpPr>
          <p:spPr>
            <a:xfrm rot="10800000">
              <a:off x="2925000" y="2007720"/>
              <a:ext cx="823320" cy="27370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4" name="_s2054"/>
            <p:cNvCxnSpPr>
              <a:stCxn id="145" idx="1"/>
              <a:endCxn id="141" idx="2"/>
            </p:cNvCxnSpPr>
            <p:nvPr/>
          </p:nvCxnSpPr>
          <p:spPr>
            <a:xfrm rot="10800000">
              <a:off x="2925000" y="2007720"/>
              <a:ext cx="823320" cy="33246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6" name="_s2055"/>
            <p:cNvCxnSpPr>
              <a:stCxn id="147" idx="1"/>
              <a:endCxn id="141" idx="2"/>
            </p:cNvCxnSpPr>
            <p:nvPr/>
          </p:nvCxnSpPr>
          <p:spPr>
            <a:xfrm rot="10800000">
              <a:off x="2925000" y="2007720"/>
              <a:ext cx="823320" cy="21506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8" name="_s2056"/>
            <p:cNvCxnSpPr>
              <a:stCxn id="149" idx="1"/>
              <a:endCxn id="141" idx="2"/>
            </p:cNvCxnSpPr>
            <p:nvPr/>
          </p:nvCxnSpPr>
          <p:spPr>
            <a:xfrm rot="10800000">
              <a:off x="2925000" y="2007720"/>
              <a:ext cx="823320" cy="15642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0" name="_s2057"/>
            <p:cNvCxnSpPr>
              <a:stCxn id="151" idx="1"/>
              <a:endCxn id="141" idx="2"/>
            </p:cNvCxnSpPr>
            <p:nvPr/>
          </p:nvCxnSpPr>
          <p:spPr>
            <a:xfrm rot="10800000">
              <a:off x="2925000" y="2007720"/>
              <a:ext cx="823320" cy="977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2" name="_s2058"/>
            <p:cNvCxnSpPr>
              <a:stCxn id="153" idx="1"/>
              <a:endCxn id="141" idx="2"/>
            </p:cNvCxnSpPr>
            <p:nvPr/>
          </p:nvCxnSpPr>
          <p:spPr>
            <a:xfrm rot="10800000">
              <a:off x="2925000" y="2007720"/>
              <a:ext cx="823320" cy="392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41" name="_s2059"/>
            <p:cNvSpPr/>
            <p:nvPr/>
          </p:nvSpPr>
          <p:spPr>
            <a:xfrm>
              <a:off x="457200" y="161784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Verdana"/>
                </a:rPr>
                <a:t>Пространственная среда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3" name="_s2060"/>
            <p:cNvSpPr/>
            <p:nvPr/>
          </p:nvSpPr>
          <p:spPr>
            <a:xfrm>
              <a:off x="3748320" y="220392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федеративны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_s2061"/>
            <p:cNvSpPr/>
            <p:nvPr/>
          </p:nvSpPr>
          <p:spPr>
            <a:xfrm>
              <a:off x="3748320" y="279036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республикански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_s2062"/>
            <p:cNvSpPr/>
            <p:nvPr/>
          </p:nvSpPr>
          <p:spPr>
            <a:xfrm>
              <a:off x="3748320" y="337680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краево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_s2063"/>
            <p:cNvSpPr/>
            <p:nvPr/>
          </p:nvSpPr>
          <p:spPr>
            <a:xfrm>
              <a:off x="3748320" y="396324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областно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_s2064"/>
            <p:cNvSpPr/>
            <p:nvPr/>
          </p:nvSpPr>
          <p:spPr>
            <a:xfrm>
              <a:off x="3748320" y="5136120"/>
              <a:ext cx="493200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районны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_s2065"/>
            <p:cNvSpPr/>
            <p:nvPr/>
          </p:nvSpPr>
          <p:spPr>
            <a:xfrm>
              <a:off x="3748320" y="454968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Verdana"/>
                </a:rPr>
                <a:t>городско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_s2066"/>
            <p:cNvSpPr/>
            <p:nvPr/>
          </p:nvSpPr>
          <p:spPr>
            <a:xfrm>
              <a:off x="3748320" y="5722560"/>
              <a:ext cx="4937040" cy="3906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сельски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ременные парамет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5" name="Organization Chart 6"/>
          <p:cNvGrpSpPr/>
          <p:nvPr/>
        </p:nvGrpSpPr>
        <p:grpSpPr>
          <a:xfrm>
            <a:off x="457200" y="1617840"/>
            <a:ext cx="4571280" cy="4494960"/>
            <a:chOff x="457200" y="1617840"/>
            <a:chExt cx="4571280" cy="4494960"/>
          </a:xfrm>
        </p:grpSpPr>
        <p:cxnSp>
          <p:nvCxnSpPr>
            <p:cNvPr id="156" name="_s3076"/>
            <p:cNvCxnSpPr>
              <a:stCxn id="157" idx="1"/>
              <a:endCxn id="158" idx="2"/>
            </p:cNvCxnSpPr>
            <p:nvPr/>
          </p:nvCxnSpPr>
          <p:spPr>
            <a:xfrm rot="10800000">
              <a:off x="1827720" y="2259000"/>
              <a:ext cx="457560" cy="353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9" name="_s3077"/>
            <p:cNvCxnSpPr>
              <a:stCxn id="160" idx="1"/>
              <a:endCxn id="158" idx="2"/>
            </p:cNvCxnSpPr>
            <p:nvPr/>
          </p:nvCxnSpPr>
          <p:spPr>
            <a:xfrm rot="10800000">
              <a:off x="1827720" y="2259000"/>
              <a:ext cx="457560" cy="25693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1" name="_s3078"/>
            <p:cNvCxnSpPr>
              <a:stCxn id="162" idx="1"/>
              <a:endCxn id="158" idx="2"/>
            </p:cNvCxnSpPr>
            <p:nvPr/>
          </p:nvCxnSpPr>
          <p:spPr>
            <a:xfrm rot="10800000">
              <a:off x="1827720" y="2259000"/>
              <a:ext cx="457560" cy="16059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3" name="_s3079"/>
            <p:cNvCxnSpPr>
              <a:stCxn id="164" idx="1"/>
              <a:endCxn id="158" idx="2"/>
            </p:cNvCxnSpPr>
            <p:nvPr/>
          </p:nvCxnSpPr>
          <p:spPr>
            <a:xfrm rot="10800000">
              <a:off x="1827720" y="2259000"/>
              <a:ext cx="457560" cy="6426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58" name="_s3080"/>
            <p:cNvSpPr/>
            <p:nvPr/>
          </p:nvSpPr>
          <p:spPr>
            <a:xfrm>
              <a:off x="457200" y="161784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Временные параметры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4" name="_s3081"/>
            <p:cNvSpPr/>
            <p:nvPr/>
          </p:nvSpPr>
          <p:spPr>
            <a:xfrm>
              <a:off x="2285640" y="258084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текущи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2" name="_s3082"/>
            <p:cNvSpPr/>
            <p:nvPr/>
          </p:nvSpPr>
          <p:spPr>
            <a:xfrm>
              <a:off x="2285640" y="354420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перспективны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0" name="_s3083"/>
            <p:cNvSpPr/>
            <p:nvPr/>
          </p:nvSpPr>
          <p:spPr>
            <a:xfrm>
              <a:off x="2285640" y="450756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потенциальны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7" name="_s3084"/>
            <p:cNvSpPr/>
            <p:nvPr/>
          </p:nvSpPr>
          <p:spPr>
            <a:xfrm>
              <a:off x="2285640" y="5470920"/>
              <a:ext cx="2742840" cy="641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прогнозируемы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5" name="Rectangle 16"/>
          <p:cNvSpPr/>
          <p:nvPr/>
        </p:nvSpPr>
        <p:spPr>
          <a:xfrm>
            <a:off x="6515280" y="4824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17" descr="Служба исследований сайта по поиску работы и персонала HeadHunter проанализ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251460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епень регулируем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8" name="Organization Chart 6"/>
          <p:cNvGrpSpPr/>
          <p:nvPr/>
        </p:nvGrpSpPr>
        <p:grpSpPr>
          <a:xfrm>
            <a:off x="380880" y="1371600"/>
            <a:ext cx="8228520" cy="5179680"/>
            <a:chOff x="380880" y="1371600"/>
            <a:chExt cx="8228520" cy="5179680"/>
          </a:xfrm>
        </p:grpSpPr>
        <p:cxnSp>
          <p:nvCxnSpPr>
            <p:cNvPr id="169" name="_s4100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5084640" y="2853000"/>
              <a:ext cx="1036440" cy="2215440"/>
            </a:xfrm>
            <a:prstGeom prst="bentConnector3">
              <a:avLst>
                <a:gd name="adj1" fmla="val 20396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2" name="_s4101"/>
            <p:cNvCxnSpPr>
              <a:stCxn id="173" idx="0"/>
              <a:endCxn id="171" idx="2"/>
            </p:cNvCxnSpPr>
            <p:nvPr/>
          </p:nvCxnSpPr>
          <p:spPr>
            <a:xfrm flipH="1" flipV="1" rot="5400000">
              <a:off x="2868840" y="2853000"/>
              <a:ext cx="1036440" cy="2216160"/>
            </a:xfrm>
            <a:prstGeom prst="bentConnector3">
              <a:avLst>
                <a:gd name="adj1" fmla="val 20396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71" name="_s4102"/>
            <p:cNvSpPr/>
            <p:nvPr/>
          </p:nvSpPr>
          <p:spPr>
            <a:xfrm>
              <a:off x="2596680" y="1371600"/>
              <a:ext cx="3797640" cy="20718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Verdana"/>
                </a:rPr>
                <a:t>Степень регулируемости</a:t>
              </a:r>
              <a:endParaRPr b="0" lang="en-US" sz="3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_s4103"/>
            <p:cNvSpPr/>
            <p:nvPr/>
          </p:nvSpPr>
          <p:spPr>
            <a:xfrm>
              <a:off x="380880" y="4479480"/>
              <a:ext cx="3797640" cy="20718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Verdana"/>
                </a:rPr>
                <a:t>Регулируемый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eaeaea"/>
                  </a:solidFill>
                  <a:latin typeface="Verdana"/>
                </a:rPr>
                <a:t>это</a:t>
              </a: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 такое состояние </a:t>
              </a:r>
              <a:r>
                <a:rPr b="1" lang="en-US" sz="1100" spc="-1" strike="noStrike">
                  <a:solidFill>
                    <a:srgbClr val="eaeaea"/>
                  </a:solidFill>
                  <a:latin typeface="Verdana"/>
                </a:rPr>
                <a:t>рынка</a:t>
              </a: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, когда протекающие в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его рамках процессы полностью или частично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подвергаются внешнему управлению и регулированию.</a:t>
              </a:r>
              <a:r>
                <a:rPr b="0" lang="en-US" sz="33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3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0" name="_s4104"/>
            <p:cNvSpPr/>
            <p:nvPr/>
          </p:nvSpPr>
          <p:spPr>
            <a:xfrm>
              <a:off x="4811760" y="4479480"/>
              <a:ext cx="3797640" cy="20718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eaeaea"/>
                  </a:solidFill>
                  <a:latin typeface="Verdana"/>
                </a:rPr>
                <a:t>Нерегулируемый</a:t>
              </a: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это такое состояние рынка,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когда протекающие в его рамках процессы не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подвергаются управлению, а протекают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eaeaea"/>
                  </a:solidFill>
                  <a:latin typeface="Verdana"/>
                </a:rPr>
                <a:t>сообразно естественным механизмам рыночной саморегуляции.</a:t>
              </a:r>
              <a:r>
                <a:rPr b="0" lang="ru-RU" sz="33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33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епень организ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5" name="Organization Chart 6"/>
          <p:cNvGrpSpPr/>
          <p:nvPr/>
        </p:nvGrpSpPr>
        <p:grpSpPr>
          <a:xfrm>
            <a:off x="380880" y="1600200"/>
            <a:ext cx="3656880" cy="3580560"/>
            <a:chOff x="380880" y="1600200"/>
            <a:chExt cx="3656880" cy="3580560"/>
          </a:xfrm>
        </p:grpSpPr>
        <p:cxnSp>
          <p:nvCxnSpPr>
            <p:cNvPr id="176" name="_s5124"/>
            <p:cNvCxnSpPr>
              <a:stCxn id="177" idx="1"/>
              <a:endCxn id="178" idx="2"/>
            </p:cNvCxnSpPr>
            <p:nvPr/>
          </p:nvCxnSpPr>
          <p:spPr>
            <a:xfrm rot="10800000">
              <a:off x="1477080" y="2494440"/>
              <a:ext cx="366120" cy="2238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9" name="_s5125"/>
            <p:cNvCxnSpPr>
              <a:stCxn id="180" idx="1"/>
              <a:endCxn id="178" idx="2"/>
            </p:cNvCxnSpPr>
            <p:nvPr/>
          </p:nvCxnSpPr>
          <p:spPr>
            <a:xfrm rot="10800000">
              <a:off x="1477080" y="2494440"/>
              <a:ext cx="366120" cy="895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78" name="_s5126"/>
            <p:cNvSpPr/>
            <p:nvPr/>
          </p:nvSpPr>
          <p:spPr>
            <a:xfrm>
              <a:off x="380880" y="1600200"/>
              <a:ext cx="2194200" cy="8949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n-US" sz="1900" spc="-1" strike="noStrike">
                  <a:solidFill>
                    <a:srgbClr val="ffffcc"/>
                  </a:solidFill>
                  <a:latin typeface="Verdana"/>
                </a:rPr>
                <a:t>Степень организации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0" name="_s5127"/>
            <p:cNvSpPr/>
            <p:nvPr/>
          </p:nvSpPr>
          <p:spPr>
            <a:xfrm>
              <a:off x="1843560" y="2943000"/>
              <a:ext cx="2194200" cy="8949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aeaea"/>
                  </a:solidFill>
                  <a:latin typeface="Verdana"/>
                </a:rPr>
                <a:t>организованный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7" name="_s5128"/>
            <p:cNvSpPr/>
            <p:nvPr/>
          </p:nvSpPr>
          <p:spPr>
            <a:xfrm>
              <a:off x="1843560" y="4285800"/>
              <a:ext cx="2194200" cy="8949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aeaea"/>
                  </a:solidFill>
                  <a:latin typeface="Verdana"/>
                </a:rPr>
                <a:t>неорганизованный</a:t>
              </a:r>
              <a:endParaRPr b="0" lang="en-US" sz="19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1" name="Rectangle 14"/>
          <p:cNvSpPr/>
          <p:nvPr/>
        </p:nvSpPr>
        <p:spPr>
          <a:xfrm>
            <a:off x="3943440" y="74199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Picture 15" descr="внебиржевой валютный рынок, внебиржевой вторичный рынок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523880"/>
            <a:ext cx="449568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егмент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4" name="Diagram 6"/>
          <p:cNvGrpSpPr/>
          <p:nvPr/>
        </p:nvGrpSpPr>
        <p:grpSpPr>
          <a:xfrm>
            <a:off x="2476440" y="1573920"/>
            <a:ext cx="4190760" cy="4776840"/>
            <a:chOff x="2476440" y="1573920"/>
            <a:chExt cx="4190760" cy="4776840"/>
          </a:xfrm>
        </p:grpSpPr>
        <p:sp>
          <p:nvSpPr>
            <p:cNvPr id="185" name="_s6148"/>
            <p:cNvSpPr/>
            <p:nvPr/>
          </p:nvSpPr>
          <p:spPr>
            <a:xfrm flipH="1">
              <a:off x="3523320" y="3962160"/>
              <a:ext cx="52488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6" name="_s6149"/>
            <p:cNvSpPr/>
            <p:nvPr/>
          </p:nvSpPr>
          <p:spPr>
            <a:xfrm>
              <a:off x="2476440" y="3365640"/>
              <a:ext cx="1046880" cy="1193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рынок преимущественно умственного труда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7" name="_s6150"/>
            <p:cNvSpPr/>
            <p:nvPr/>
          </p:nvSpPr>
          <p:spPr>
            <a:xfrm>
              <a:off x="4572000" y="4558680"/>
              <a:ext cx="0" cy="598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8" name="_s6151"/>
            <p:cNvSpPr/>
            <p:nvPr/>
          </p:nvSpPr>
          <p:spPr>
            <a:xfrm>
              <a:off x="4048200" y="5157360"/>
              <a:ext cx="1047240" cy="1193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рынок преимущественно творческого труда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9" name="_s6152"/>
            <p:cNvSpPr/>
            <p:nvPr/>
          </p:nvSpPr>
          <p:spPr>
            <a:xfrm>
              <a:off x="5095440" y="3962160"/>
              <a:ext cx="52488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0" name="_s6153"/>
            <p:cNvSpPr/>
            <p:nvPr/>
          </p:nvSpPr>
          <p:spPr>
            <a:xfrm>
              <a:off x="5620320" y="3365640"/>
              <a:ext cx="1046880" cy="1193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рынок труда менеджеров и специалистов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1" name="_s6154"/>
            <p:cNvSpPr/>
            <p:nvPr/>
          </p:nvSpPr>
          <p:spPr>
            <a:xfrm flipV="1">
              <a:off x="4572000" y="2766960"/>
              <a:ext cx="0" cy="598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2" name="_s6155"/>
            <p:cNvSpPr/>
            <p:nvPr/>
          </p:nvSpPr>
          <p:spPr>
            <a:xfrm>
              <a:off x="4048200" y="1573920"/>
              <a:ext cx="1047240" cy="1193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Verdana"/>
                </a:rPr>
                <a:t>рынок преимущественно физического труда</a:t>
              </a: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3" name="_s6156"/>
            <p:cNvSpPr/>
            <p:nvPr/>
          </p:nvSpPr>
          <p:spPr>
            <a:xfrm>
              <a:off x="4048200" y="3365640"/>
              <a:ext cx="1047240" cy="11930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Verdana"/>
                </a:rPr>
                <a:t>сегментации</a:t>
              </a:r>
              <a:endParaRPr b="0" lang="en-US" sz="1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94" name="Rectangle 16"/>
          <p:cNvSpPr/>
          <p:nvPr/>
        </p:nvSpPr>
        <p:spPr>
          <a:xfrm>
            <a:off x="8381880" y="45720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5" name="Picture 17" descr="Труд и лень рисунки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143000"/>
            <a:ext cx="3352680" cy="22096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8"/>
          <p:cNvSpPr/>
          <p:nvPr/>
        </p:nvSpPr>
        <p:spPr>
          <a:xfrm>
            <a:off x="2238480" y="6395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7" name="Picture 19" descr="filed under.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457200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Выступление состоится на сцене Омского музыкального... апреля 4 2012г.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38680" y="4572000"/>
            <a:ext cx="3124440" cy="20574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2"/>
          <p:cNvSpPr/>
          <p:nvPr/>
        </p:nvSpPr>
        <p:spPr>
          <a:xfrm>
            <a:off x="6620040" y="350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0" name="Picture 23" descr="Среди востребованных в регионе специалистов лидируют продавцы, айтишники и ..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86400" y="1219320"/>
            <a:ext cx="3352680" cy="213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07:34:43Z</dcterms:created>
  <dc:creator>user</dc:creator>
  <dc:description/>
  <dc:language>en-US</dc:language>
  <cp:lastModifiedBy>User</cp:lastModifiedBy>
  <dcterms:modified xsi:type="dcterms:W3CDTF">2019-06-09T16:23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