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2FA-B3C7-44D0-9389-8AA5C8F3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991-D025-41EE-B71B-04180FA7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E783-0053-49AF-A79D-02463F68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5235-B3D1-460F-B767-59542862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03F3-8E40-4BD7-A397-8DD5DFFE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23E2-D3CA-4D19-BB1F-99003C88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862A-8E6D-41CA-9550-E1D802C3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D236-5F1E-40C1-8D8B-5A5412F9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0102-56D5-4F2B-B9EA-CEFF64DA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7AC4-9240-49E2-B031-CADE5A0F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60BB-3035-442F-82E4-58D66239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6239-610B-40BE-87CF-0446A09B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BD76-BC28-4A81-9F53-5B823E70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546B-1178-425D-858F-168AECFE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FDD8-11EC-4C0A-9E36-5948DAFA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AB5D-634E-4040-B36A-181C618A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6FFD-A93C-4827-A661-58A6ECB3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245-904C-4FBD-AB15-29E41CC3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912B-B123-4A44-99F8-EE3F5623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BEC-7B0C-4D43-9FA6-EAF6541F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56A-BB53-4F49-90E3-EA63067A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1E7-55A6-4989-9A10-C3F182B7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B042-1ED0-4DB0-86D3-1184726B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C6FF-0B5C-43E8-A49C-D8D2F06E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CBF7-3B3B-49F9-9BFC-673B4E3DC1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B765-74E7-4647-86F6-EDF7FF8BAA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5616720" cy="42134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344080" cy="28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Эмоциональное выгорание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ДЫХАТЕЛЬНАЯ ГИМНАСТИК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6048720" cy="5391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211640" y="6165720"/>
            <a:ext cx="1008000" cy="43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341360"/>
            <a:ext cx="75438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743040" indent="-743040"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Сигнальщик.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Кулак – ладонь впере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Музы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2445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Музыка является одним из компонентов коррекции психологических и физиологических процессов. Слушайте классическую музыку или звуки природы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84978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Эмоциональное выгорание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 - </a:t>
            </a: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это состояние физического, эмоционального, умственного истощения, это выработанный личностью механизм психологической защиты в форме полного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 </a:t>
            </a: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или частичного исключения эмоций в ответ на психотравмирующие воздействия. Иными словами защитный механизм от суровой реальности.</a:t>
            </a:r>
            <a:br>
              <a:rPr sz="2600"/>
            </a:b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2841480"/>
            <a:ext cx="568944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2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Основные признаки эмоционального выгорания: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оянное чувство устал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ловные боли, уменьшение аппетита или переедание, общее физическое недомогание, психосоматические наруш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ссонниц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гативные установки по отношению к воспитанникам и коллегам, повышение агрессивности к окружающим люд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небрежение исполнением своих обязанност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гативная самооценка, чувство ви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7543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Стадии эмоционального выгорани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8525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1 (формируется в течение 3-5 лет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забывание некоторых моментов, провалы в памяти относительно каких-либо двигательных действий. Обычно на эти первые симптомы мало кто обращает внимание, называется это в шутку девичьей памятью или склероз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(формируется от 5 до 15 лет)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нижение интереса к работе, потребности в общении, не хочется видеть тех с кем педагог общается по ряду деятельности( воспитанники их родители), неделя длится нескончаемо. Настроение апатии к концу недели, появление устойчивых соматических симптомов( нет сил, энергии, особенно к концу недели, головные боли по вечерам, мертвый сон без сновидений, увеличени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исла простудных заболеваний). Повышенная раздражитель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3 (формируется от 10 до 20 лет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собственное личностное выгорание, полная потеря интереса к работе и жизни вообще, эмоциональное безразличие, ощущение постоянного отсутствия сил. Человек стремится к уединению. На этой стадии ему гораздо приятнее общаться с животными и природой, чем с людь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Педагог, переживающий эмоциональное выгорание, какой он?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05304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Качества, помогающие педагогу избежать эмоционального выгорания: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ее здоровье и сознательная, целенаправленная забота о своем физическом состоя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самооценка и уверенность в себе, своих способностях и возможност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успешного преодоления профессионального стресса; способность конструктивно меняться в напряженных услов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мобильность; открытость; общительность; самостоятельность; стремление опираться на собственные си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формировать и поддерживать в себе позитивные, оптимистичные установки и ценности – как в отношении самих себя, так и других людей и жизни вооб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49916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Экспресс-приемы для снятия эмоционального напряжения.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ложите рук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замо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 спиной. Так как отрицательные эмоци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живу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шее ниже затылка и на плечах, напрягите руки и спину, потянитесь, расслабьте плечи и руки. Сбросьте напряжение с кис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ложите рук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замо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д собой. Потянитесь, напрягая плечи и руки, расслабьтесь, встряхните кисти (во время потягивания происходит выброс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рмона счасть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»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9T19:58:54Z</dcterms:created>
  <dc:creator>123</dc:creator>
  <dc:description/>
  <dc:language>en-US</dc:language>
  <cp:lastModifiedBy>123</cp:lastModifiedBy>
  <dcterms:modified xsi:type="dcterms:W3CDTF">2019-06-11T12:36:30Z</dcterms:modified>
  <cp:revision>6</cp:revision>
  <dc:subject/>
  <dc:title>Эмоциональное выгорание</dc:title>
</cp:coreProperties>
</file>