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B47-C028-445C-A0AA-B9191CD5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08E-865C-46E7-BA10-958CEFD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FF3-A6AA-46D5-9362-C55E289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15E-95D5-4AF9-AD14-F93DE2AE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E5AA-AF7B-4228-A5D0-0EF92E36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46C-C6D0-4669-ADD9-2B63A312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ED6-5F7B-46B2-969E-E4AD9770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EDDB-404F-4B25-BCAD-52F936E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A1E-840A-488C-B38A-5D4D6B7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0A8-2661-4553-BD0B-E66F055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EF83-3F82-484A-BDA1-DE75EDD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2E9-CBA3-42F0-A927-823627C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1166-99C2-4F5B-9B6C-F3C4DFC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3C41-0B5E-41A4-A096-5EEA0FBD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7AE8-A9E8-4A9F-95FD-FB312C9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BE1-FA5E-4F4F-840C-11BD6E64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CB60-BB1E-4160-B81D-E9C75A91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0D-5850-468C-9C9F-25FECC4E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DF1-4F92-42E4-AF40-445BCDBA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7EC-00BE-4DB7-8A0A-EFA2893F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516-1186-45EB-B88D-90D01EF4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7B9-52F5-4118-9C92-D688AFF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C92-1F5C-4A3B-8373-A225BEA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122-3BC6-4A03-A0BB-4D493C9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30EC-924E-46B8-B457-9E8A0D60A7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06F-FA93-4B31-ACC9-1179138D09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16720" cy="421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344080" cy="28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Эмоциональное выгорание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ДЫХАТЕЛЬНАЯ ГИМНАСТИК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5391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11640" y="6165720"/>
            <a:ext cx="100800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341360"/>
            <a:ext cx="7543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гнальщик.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Кулак – ладонь впер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узы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узыка является одним из компонентов коррекции психологических и физиологических процессов. Слушайте классическую музыку или звуки природы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Эмоциональное выгорание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 -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это состояние физического, эмоционального, умственного истощения, это выработанный личностью механизм психологической защиты в форме полного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или частичного исключения эмоций в ответ на психотравмирующие воздействия. Иными словами защитный механизм от суровой реальности.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841480"/>
            <a:ext cx="56894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2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сновные признаки эмоционального выгорания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янное чувство устал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ые боли, уменьшение аппетита или переедание, общее физическое недомогание, психосоматические нару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гативные установки по отношению к воспитанникам и коллегам, повышение агрессивности к окружающим люд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небрежение исполнением своих обязан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гативная самооценка, чувство в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тадии эмоционального выгора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8525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 (формируется в течение 3-5 лет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забывание некоторых моментов, провалы в памяти относительно каких-либо двигательных действий. Обычно на эти первые симптомы мало кто обращает внимание, называется это в шутку девичьей памятью или склероз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(формируется от 5 до 15 лет)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ие интереса к работе, потребности в общении, не хочется видеть тех с кем педагог общается по ряду деятельности( воспитанники их родители), неделя длится нескончаемо. Настроение апатии к концу недели, появление устойчивых соматических симптомов( нет сил, энергии, особенно к концу недели, головные боли по вечерам, мертвый сон без сновидений, увеличе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а простудных заболеваний). Повышенная раздражитель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3 (формируется от 10 до 20 лет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обственное личностное выгорание, полная потеря интереса к работе и жизни вообще, эмоциональное безразличие, ощущение постоянного отсутствия сил. Человек стремится к уединению. На этой стадии ему гораздо приятнее общаться с животными и природой, чем с людь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едагог, переживающий эмоциональное выгорание, какой он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53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Качества, помогающие педагогу избежать эмоционального выгорания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ее здоровье и сознательная, целенаправленная забота о своем физическо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самооценка и уверенность в себе, своих способностях и возможност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успешного преодоления профессионального стресса; способность конструктивно меняться в напряжен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бильность; открытость; общительность; самостоятельность; стремление опираться на собственные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формировать и поддерживать в себе позитивные, оптимистичные установки и ценности – как в отношении самих себя, так и других людей и жизни вооб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499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Экспресс-приемы для снятия эмоционального напряжения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жите рук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зам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пиной. Так как отрицательные эмоци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у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шее ниже затылка и на плечах, напрягите руки и спину, потянитесь, расслабьте плечи и руки. Сбросьте напряжение с ки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жите рук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зам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 собой. Потянитесь, напрягая плечи и руки, расслабьтесь, встряхните кисти (во время потягивания происходит выбро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мона счасть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9T19:58:54Z</dcterms:created>
  <dc:creator>123</dc:creator>
  <dc:description/>
  <dc:language>en-US</dc:language>
  <cp:lastModifiedBy>123</cp:lastModifiedBy>
  <dcterms:modified xsi:type="dcterms:W3CDTF">2019-06-11T12:36:30Z</dcterms:modified>
  <cp:revision>6</cp:revision>
  <dc:subject/>
  <dc:title>Эмоциональное выгорание</dc:title>
</cp:coreProperties>
</file>