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9B6-931B-4F32-A788-E1F54BC8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DBF-71CA-4F8A-B57F-EC37175E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836D1-23D9-48EF-93C3-EEEA408F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701BE-3B87-40B9-BF86-797AB83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4B3F2-5672-4BDA-8680-8571D7F5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E53C4-16A9-48C3-80EF-463E3CB9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7A473-0ABD-418D-804B-34CEC0B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2F8A-37DA-47AA-B531-F147FD6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38E97-B1F5-4C8C-B8B4-D320A67B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39BEB-355B-4D18-B573-C3E99115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D767A-449B-49EC-A216-B757C974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B0890-6566-427A-903E-40BA05A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AA3-D7F9-4FD2-B37E-EE1B054F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7DF6A-FDEF-49AB-A11E-23971E40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9C7A3-2851-4650-91B1-F60F77A9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B116A-2D7C-4931-8753-D7FDFAA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3E06-EB62-46B9-AB89-518BC82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A40F8-0FF7-4098-9E6E-E5D81F8E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5047-335A-4E5C-9C09-B0A0224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3901C-752A-4723-892E-5973260C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CC6E-79AD-4D03-8D42-24574B5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1858B-F0F5-47DB-8C64-CC3FCB5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0CC9D-B629-45AE-8E52-60760B06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028-64C3-448A-BA04-84589B52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484B4-D137-4C12-AE0F-37C45D9A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1BEA1-9207-466D-BA24-84E4E93A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DC7DA-DBAC-4D49-ADA1-85B15235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71F39-1F85-4D84-A909-1DF4A73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B975-3FAC-4B74-95D3-97EE072E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90FA1-BBF2-4E4A-9025-4F7132F2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CEB51-2D33-4B2C-B887-569497D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A95E-9AF4-462F-9E9C-3573632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B351B-1A72-4FF7-B93D-14CDA9EA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1960D-6AAC-4E53-83EA-123A948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45ED-D02C-4CB4-95BD-1235B17A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5BD36-C6EC-45D4-B9C8-52AF3AF8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A6A68-C45B-477E-8185-BA267BF5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D4DE2-9466-4D7E-AD76-D1F645F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CB84E-F144-45A4-93A8-CA25B71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D0FA1-25ED-409D-AFF2-8C630D35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676DD-D052-4898-BD34-CCEA89D7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E9A75-CB63-41DF-A998-15CBEBC5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557EF-57F5-40D4-8A7E-DB9B58AE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5B7E8-A48E-467E-9A7B-D8FB31B0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8FB8F-7F22-4640-8276-02CE270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FA55-4221-4CB0-AB25-FDA9216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4C671-E9F3-4831-8E24-FE291B5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4D88F-909B-4D6E-979E-C789178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C1ABB-6AAA-46BF-AE27-885999D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4185A-3D6E-40A7-B0E8-1DB53776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2F8A7-C514-4E07-A891-070EF9F9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964F3-6D16-4960-932C-14D0D531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45EBC-0C47-4704-BE74-889B7B2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96C1F-C043-435C-8E6E-F5633744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251BA-7E69-4790-9B4E-624C579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B6A8F-21CD-480B-89EF-CFF40EE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6723-A7D1-422D-B558-8A8FA093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2DF8C-181B-40FA-BB86-EDF83D3A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14314-20B6-473D-A19B-172E621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76181-7647-482A-ACFA-456172E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62A72-0EA9-48B1-A82C-2053292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0D088-D132-4935-BBAE-398A254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C74D1-B580-4CE6-9B62-B12192F8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E03EE-F99C-40DA-9A10-ABAA7D69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F3739-D85F-4BDB-9418-7D2979EA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E4FBA-32D2-4560-A0D7-052DFCB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CD89A-B908-4252-B476-CCDB43C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19B-2E3C-4287-8519-61FDA2B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D0512-A9FA-4D1C-A756-27ED0E0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9BEB6-CA8E-460B-8009-64AEA07B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3549F-87F9-40CD-9FB7-80C1964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D0193-9B3E-4E8E-91A9-43A61147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D9511-DD03-4690-8E64-DDA148D8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B2DDE-7474-41F5-9273-58DC4DA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CAC11-2B9A-4B1E-915E-86A3D4B4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17D31-39C7-4F3F-A052-FDE58A8A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9B9DA-FCB7-4F44-8A0E-9A660B4D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2899F-808A-4642-868B-BDABD785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01A3-740B-40AB-A33D-D27EA742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032E2-A65B-477B-B660-621D9FB5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28951-BAAD-4E62-B6F7-39C2CA1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87FC7-4E5A-4350-BAE0-E12474F3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9AADD-78F0-4F17-9A0E-C33D681D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0B446-5DBC-433C-9562-99B15BB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6F0F2-F996-4DE2-BD09-5B601F47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01326-DD0D-4F88-8072-CCF0F88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6B615-D375-4B8E-B6AB-82E0945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F492C-CB87-4D76-BF0C-9B20D426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09619-8996-4EE5-94B5-C0CCC5B6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05A7-3F48-4CAF-B1B7-3DD0973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0BFA9-C0DC-4807-AFFA-1219EAA2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8C453-CACA-4B86-BAD5-DD557533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6F7F2-F20B-4403-8A93-A35F38B3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78412-D49A-4677-8519-E87CE4B5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3B36A-71AE-498A-A594-8B69C663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E8F07-5FA8-41D5-8F6C-E53A1F3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C36C8-67BD-442A-BC36-A8E974AF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F5EB1-20D7-4EF8-A7EE-005E5669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DEF4F-F2A2-4649-9C0A-A34AFA7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8170C-232D-408F-8E42-294FEEB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0AE3-BA94-434E-86C3-5C9D711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9E4CF-915F-411E-86CB-610415D9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17B28-9C82-4B3B-90AC-9D06CF45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46D2F-5B23-4AD7-AE1B-DE71AFFB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09C70-ADBE-4526-9CAB-0D84D57A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2FF80-B0A5-4867-8E40-0B4AF0B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521C70-24BA-46BF-B8EE-171895E8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482DB-6386-42FB-BB35-9F43DEC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20D34-BCC2-4F6E-90F6-814BD0C0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1DEB1-E3F2-407A-97F0-B4C34C1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FAE83-03E7-4365-9953-6899EA7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C5F-339F-4C73-A281-34B372CE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AC3-7333-431D-AE15-E998D0E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3B72D-F4E0-4B40-8E47-95111867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5A035-F40D-49CA-94B6-0F6DA778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F9973-1AC5-4E69-BC6A-8E0CEC73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604F8-608E-4005-9E06-36734071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0F93D-B04F-4376-B914-FB9FBC1D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54E3-93BA-468D-9DEA-ECA030C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22D-0B52-452E-841D-F2DDB1E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99AC-38E0-4EE2-8CC7-A0930389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D391-B1A8-4FFB-84EF-5D78E420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D3AE-02A0-435F-AE5F-B7969296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8FFA-9F1A-4098-9281-D20BC96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5ACC-CC12-4DCE-BAE2-6E73CB75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60F6-7B35-4185-ABB2-00519BC4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7E96-B1C7-4374-A324-93CE96E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1A7-60F5-445B-9E2E-10531B9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8C63-3B59-4FA3-AD46-20634CD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99E5-546F-4D67-ABCE-167CBF39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4185-D253-4658-9E27-515EDA1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E4ED-87F7-4E3B-AA57-C4699AD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B3A9-7BEC-4639-ADEE-6E642CA6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19C13-60C2-4D68-9550-4323E3EB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75B2-D80E-4E50-9DC5-06B412C4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B61A-29BA-4387-A00C-A291D472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5528-BE54-4C44-B30F-874BD4CF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527F-9827-4FAD-97C3-E8CB27B1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7FC-BD6F-4A6E-A60F-48483B55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9EA9-44BB-41E0-A5E1-23113E02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0C4D-AA48-43B3-8832-2295697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9A9A-1153-4187-B149-39785FA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566C-BBFC-44D8-B620-7941A59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02D6-421A-4A1A-B96A-652971E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F12F-5B77-4CD0-82FC-F26E7FC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2BE4-26D2-4F05-A74A-2F9CC17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A088-095F-46EF-A02C-A9845A6E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26DA-7A1C-472F-9D1F-536F4A99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F73E-330E-4D38-B1AE-56E1044F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523-7421-4415-87C0-8F89872C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D2F7-4C64-4A13-AD5E-11DA628F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2CCA-3311-4448-9542-BF0F801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2B68C-B976-4054-A747-4A77319E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3B2A-E17A-4CF4-9DBD-A9921B30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F8888-E9AA-4F1A-8739-62B17C17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73603-1C1F-4415-B535-EEBB844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E22E-3BC3-4D57-902D-5211627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BC746-F449-445C-AF1E-99567E7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FAE8-33D8-4587-A2ED-E21C7824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D01A-19BF-4C31-B106-F28637E6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1FF-037C-4AF2-AAD9-7504FA9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3BAD9-C43C-44CE-8309-84D2BDF7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E281E-9DA9-42EF-98FC-FACE2886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D95F-B294-4832-8D59-C87947F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0EBA-9A65-4030-B44F-E0896448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B769-4F7C-44E3-BCBC-E45B4A98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32404-8283-4D2F-8934-CA6EA575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F0E5-EA33-4ED4-84A3-A3B52D5B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B63F-9B32-4A67-9F01-7852AD38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6FEE-C8C8-4244-B8FE-5BBC11F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10EE-5353-4DCC-89D3-5C5961AF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230-40BE-4EA8-8439-3B24145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C2E6-4FAE-4679-AE7F-869524BC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3DD7-115C-4D69-98F1-4321D34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50FD-FA22-4CD9-8D35-26FD1525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2029-CBD3-4B24-8482-59CCCD2F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E7BC-168B-46EB-AF27-3717105F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AD5F6-7BB5-4E6D-A72E-516AF81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C8624-086C-4DA1-97B0-EE18AEB1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D267-4408-402C-B795-4690502E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DE9CF-8C09-416E-9A36-CC562D0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DD23-6B40-4C4B-8142-11DB77F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3C2-505A-45BF-82BD-9AF590B6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226A-19E4-447E-B8BF-5A6AB41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CBF11-B811-46D6-8D0D-65CCF86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0A2BD-CEC2-4E5D-B457-6E4FCDF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6C10-2285-4A87-9EF0-216A1070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A59C-DCBF-4FC6-A7C2-11616160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5580-1AEA-4C64-A8DB-B70A52DC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8529-B7E7-4339-BA27-1FA6016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AB73-D579-4D43-8843-6120929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B912-1F98-4AEF-8330-7E3E2C9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6F0A1-2483-474B-A65C-1937736E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74A-C445-43A2-9631-CE69EE0A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645E-EEEF-4492-B098-343BD65C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D8B6B-20B4-4CAC-9BAD-940F7BD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1ACFA-FA35-4F9E-AEB0-D67C9C2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320C-FEBD-44AB-9625-50B281C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5584E-467C-4ABF-80BA-045BE020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09786-9AB6-426A-9B60-D668DC06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16B3A-CFC4-40C2-A1ED-61685328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4F714-E77F-4DA3-84D9-882FFB13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3E0D3-2DA6-49F7-AE14-04A6C0D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DC55A-A5AA-4D86-8900-DC9388F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0ED7-AD63-4EE5-86BA-2F605C41B6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8F60-D863-4EC9-AD3F-93514B2EEE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A852-929B-4063-8867-76B8DA0806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C11-3039-4F99-9F3F-91BADF4296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F3F-9C75-4225-A371-DFE6B0C714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E40B-A6E2-47B4-AE2E-D4BF5337AF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9A6-CD0F-4D3C-824A-4F0B51633A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AE08-656E-43FE-9D9A-F5CF14523E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6C8-369F-40A0-BBCF-D5783F1F22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A4D3-D3E2-4EFE-BCCB-F8A77592AF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299F-A961-4B67-945A-272C850D38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2682-7876-4D4F-AB27-53C74B088E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0C47-0514-4417-A3AF-DE8C9E416B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3D17-FC2C-4231-8FC5-4E2A1B5CDA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257D-D0CB-446D-B779-6D8058C96A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20E-0CAE-48F5-8CF0-B83E0D8CC2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36C8-448D-43C1-BB15-B3F7A49860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aina.aib.ru/biography/aleksandr-pushkin.htm" TargetMode="External"/><Relationship Id="rId2" Type="http://schemas.openxmlformats.org/officeDocument/2006/relationships/hyperlink" Target="http://taina.aib.ru/biography/nikolaj-gogol.htm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65880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0" i="1" lang="ru-RU" sz="3200" spc="-1" strike="noStrike">
                <a:solidFill>
                  <a:srgbClr val="521808"/>
                </a:solidFill>
                <a:latin typeface="Century Gothic"/>
              </a:rPr>
              <a:t>Нравственный выбор героев. </a:t>
            </a:r>
            <a:br>
              <a:rPr sz="3200"/>
            </a:br>
            <a:r>
              <a:rPr b="0" i="1" lang="ru-RU" sz="3200" spc="-1" strike="noStrike">
                <a:solidFill>
                  <a:srgbClr val="521808"/>
                </a:solidFill>
                <a:latin typeface="Century Gothic"/>
              </a:rPr>
              <a:t>Создание героического характера в новелле «Маттео Фальконе» Проспера Мерим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2" descr="azb02532big[1]"/>
          <p:cNvPicPr/>
          <p:nvPr/>
        </p:nvPicPr>
        <p:blipFill>
          <a:blip r:embed="rId1"/>
          <a:stretch/>
        </p:blipFill>
        <p:spPr>
          <a:xfrm>
            <a:off x="4932360" y="476280"/>
            <a:ext cx="3909960" cy="6191280"/>
          </a:xfrm>
          <a:prstGeom prst="rect">
            <a:avLst/>
          </a:prstGeom>
          <a:ln w="0">
            <a:noFill/>
          </a:ln>
        </p:spPr>
      </p:pic>
      <p:pic>
        <p:nvPicPr>
          <p:cNvPr id="1201" name="i-main-pic" descr="Картинка 34 из 506"/>
          <p:cNvPicPr/>
          <p:nvPr/>
        </p:nvPicPr>
        <p:blipFill>
          <a:blip r:embed="rId2"/>
          <a:stretch/>
        </p:blipFill>
        <p:spPr>
          <a:xfrm>
            <a:off x="324000" y="404640"/>
            <a:ext cx="398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398265[1]"/>
          <p:cNvPicPr/>
          <p:nvPr/>
        </p:nvPicPr>
        <p:blipFill>
          <a:blip r:embed="rId1"/>
          <a:stretch/>
        </p:blipFill>
        <p:spPr>
          <a:xfrm>
            <a:off x="179280" y="260280"/>
            <a:ext cx="3711600" cy="60879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4" descr="mbiblio020big[1]"/>
          <p:cNvPicPr/>
          <p:nvPr/>
        </p:nvPicPr>
        <p:blipFill>
          <a:blip r:embed="rId2"/>
          <a:stretch/>
        </p:blipFill>
        <p:spPr>
          <a:xfrm>
            <a:off x="4211640" y="692280"/>
            <a:ext cx="46404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4" descr="_54000007328"/>
          <p:cNvPicPr/>
          <p:nvPr/>
        </p:nvPicPr>
        <p:blipFill>
          <a:blip r:embed="rId1"/>
          <a:stretch/>
        </p:blipFill>
        <p:spPr>
          <a:xfrm>
            <a:off x="3780000" y="836640"/>
            <a:ext cx="1776240" cy="28098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5" descr="398269[1]"/>
          <p:cNvPicPr/>
          <p:nvPr/>
        </p:nvPicPr>
        <p:blipFill>
          <a:blip r:embed="rId2"/>
          <a:stretch/>
        </p:blipFill>
        <p:spPr>
          <a:xfrm>
            <a:off x="5724360" y="333360"/>
            <a:ext cx="3132360" cy="508464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6" descr="280675[1]"/>
          <p:cNvPicPr/>
          <p:nvPr/>
        </p:nvPicPr>
        <p:blipFill>
          <a:blip r:embed="rId3"/>
          <a:stretch/>
        </p:blipFill>
        <p:spPr>
          <a:xfrm>
            <a:off x="480960" y="1125360"/>
            <a:ext cx="30924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i-main-pic" descr="Картинка 29 из 506"/>
          <p:cNvPicPr/>
          <p:nvPr/>
        </p:nvPicPr>
        <p:blipFill>
          <a:blip r:embed="rId1"/>
          <a:stretch/>
        </p:blipFill>
        <p:spPr>
          <a:xfrm>
            <a:off x="324000" y="549360"/>
            <a:ext cx="5148000" cy="5148000"/>
          </a:xfrm>
          <a:prstGeom prst="rect">
            <a:avLst/>
          </a:prstGeom>
          <a:ln w="0">
            <a:noFill/>
          </a:ln>
        </p:spPr>
      </p:pic>
      <p:sp>
        <p:nvSpPr>
          <p:cNvPr id="1208" name="Rectangle 6"/>
          <p:cNvSpPr/>
          <p:nvPr/>
        </p:nvSpPr>
        <p:spPr>
          <a:xfrm>
            <a:off x="5796000" y="112536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Что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такое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НОВЕЛЛА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5"/>
          <p:cNvSpPr/>
          <p:nvPr/>
        </p:nvSpPr>
        <p:spPr>
          <a:xfrm>
            <a:off x="324000" y="189000"/>
            <a:ext cx="849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Новелл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сопоставима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 объему с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расск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Отличается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т него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острым, быстро развивающимся сюжетом, отсутствием описательност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центре внимания автор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как правило, случай, влияющий на жизнь героя, предельно раскрывающий его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ковой и является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новелла П.Мериме “Маттео Фальконе”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468360" y="549360"/>
            <a:ext cx="50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2"/>
          <p:cNvSpPr/>
          <p:nvPr/>
        </p:nvSpPr>
        <p:spPr>
          <a:xfrm>
            <a:off x="611280" y="61920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При создании этой новеллы Мериме </a:t>
            </a:r>
            <a:r>
              <a:rPr b="1" lang="ru-RU" sz="3200" spc="-1" strike="noStrike">
                <a:solidFill>
                  <a:srgbClr val="0f1108"/>
                </a:solidFill>
                <a:latin typeface="Arial"/>
              </a:rPr>
              <a:t>воспользовался небольшой заметкой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f1108"/>
                </a:solidFill>
                <a:latin typeface="Arial"/>
              </a:rPr>
              <a:t>из журнала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(1828), давшей ему основную сюжетную кан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В этой же статье писатель нашёл указание на книгу Габриэля Фейделя, из которой </a:t>
            </a:r>
            <a:r>
              <a:rPr b="1" lang="ru-RU" sz="3200" spc="-1" strike="noStrike">
                <a:solidFill>
                  <a:srgbClr val="0f1108"/>
                </a:solidFill>
                <a:latin typeface="Arial"/>
              </a:rPr>
              <a:t>он почерпнул неизвестные ему детали быта корсиканцев и описание природы этого острова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3"/>
          <p:cNvSpPr/>
          <p:nvPr/>
        </p:nvSpPr>
        <p:spPr>
          <a:xfrm>
            <a:off x="0" y="327672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2" descr="http://litera.edu.ru/images/i_alt.gif"/>
          <p:cNvPicPr/>
          <p:nvPr/>
        </p:nvPicPr>
        <p:blipFill>
          <a:blip r:embed="rId1"/>
          <a:stretch/>
        </p:blipFill>
        <p:spPr>
          <a:xfrm>
            <a:off x="0" y="3276720"/>
            <a:ext cx="95400" cy="9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4" name=""/>
          <p:cNvGraphicFramePr/>
          <p:nvPr/>
        </p:nvGraphicFramePr>
        <p:xfrm>
          <a:off x="971640" y="981000"/>
          <a:ext cx="6696000" cy="4033800"/>
        </p:xfrm>
        <a:graphic>
          <a:graphicData uri="http://schemas.openxmlformats.org/drawingml/2006/table">
            <a:tbl>
              <a:tblPr/>
              <a:tblGrid>
                <a:gridCol w="2413080"/>
                <a:gridCol w="4282920"/>
              </a:tblGrid>
              <a:tr h="40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Arial"/>
                          <a:ea typeface="Calibri"/>
                        </a:rPr>
                        <a:t>Тип  сюжета</a:t>
                      </a: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социально-бытовой, психологически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i-main-pic" descr="Картинка 50 из 506"/>
          <p:cNvPicPr/>
          <p:nvPr/>
        </p:nvPicPr>
        <p:blipFill>
          <a:blip r:embed="rId1"/>
          <a:stretch/>
        </p:blipFill>
        <p:spPr>
          <a:xfrm>
            <a:off x="539640" y="476280"/>
            <a:ext cx="4048200" cy="6192720"/>
          </a:xfrm>
          <a:prstGeom prst="rect">
            <a:avLst/>
          </a:prstGeom>
          <a:ln w="0">
            <a:noFill/>
          </a:ln>
        </p:spPr>
      </p:pic>
      <p:sp>
        <p:nvSpPr>
          <p:cNvPr id="1216" name="Rectangle 5"/>
          <p:cNvSpPr/>
          <p:nvPr/>
        </p:nvSpPr>
        <p:spPr>
          <a:xfrm>
            <a:off x="4932360" y="321480"/>
            <a:ext cx="345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ранцузский диалог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развивает наше ассоциативн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н позволяет нам перевоплотиться, поиграть, пожить чужой жизнью, испытать чужие страдания, говорить чужим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сегда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4" descr="154507[1]"/>
          <p:cNvPicPr/>
          <p:nvPr/>
        </p:nvPicPr>
        <p:blipFill>
          <a:blip r:embed="rId1"/>
          <a:stretch/>
        </p:blipFill>
        <p:spPr>
          <a:xfrm>
            <a:off x="324000" y="333360"/>
            <a:ext cx="2793960" cy="410544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9"/>
          <p:cNvSpPr/>
          <p:nvPr/>
        </p:nvSpPr>
        <p:spPr>
          <a:xfrm>
            <a:off x="250920" y="4724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аттео Фальконе, главный герой одноименной новеллы (18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3"/>
          <p:cNvSpPr/>
          <p:nvPr/>
        </p:nvSpPr>
        <p:spPr>
          <a:xfrm>
            <a:off x="611280" y="403560"/>
            <a:ext cx="7489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 повести “Маттео Фальконе” Мериме ставит себя в положение просвещенного европей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н с оттенком удивления и любопытства взирает на нравы корсиканцев, для которых убийство предателя, даже если это собственный сын, считается в порядке вещей, а укрывательство человека, преследуемого законам, является делом че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Picture 5" descr="париджжж"/>
          <p:cNvPicPr/>
          <p:nvPr/>
        </p:nvPicPr>
        <p:blipFill>
          <a:blip r:embed="rId1"/>
          <a:stretch/>
        </p:blipFill>
        <p:spPr>
          <a:xfrm>
            <a:off x="539640" y="2695680"/>
            <a:ext cx="4249800" cy="318132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6" descr="кармен"/>
          <p:cNvPicPr/>
          <p:nvPr/>
        </p:nvPicPr>
        <p:blipFill>
          <a:blip r:embed="rId2"/>
          <a:stretch/>
        </p:blipFill>
        <p:spPr>
          <a:xfrm>
            <a:off x="5003640" y="333360"/>
            <a:ext cx="3527640" cy="221616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7"/>
          <p:cNvSpPr/>
          <p:nvPr/>
        </p:nvSpPr>
        <p:spPr>
          <a:xfrm>
            <a:off x="5508720" y="393372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овременный Париж, родина Проспера Мер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539640" y="589680"/>
            <a:ext cx="7704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нятие чести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нашло предельное выражение в характере Маттео Фалько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Это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нятие чести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объединяет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людей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относящихся к совершенно различным социальным группам и даже находящихся в открытом конфликте друг с другом: “благонадежного”, в глазах властей, Маттео и бандита Джаннет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752400" y="1556280"/>
            <a:ext cx="785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- Что ты сделал? – воскликнула она.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-Свершил правосудие.»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                                       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.Мер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90000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Эпигра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9"/>
          <p:cNvSpPr/>
          <p:nvPr/>
        </p:nvSpPr>
        <p:spPr>
          <a:xfrm>
            <a:off x="250920" y="5012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чему эти строки вынесены как эпиграф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3"/>
          <p:cNvSpPr/>
          <p:nvPr/>
        </p:nvSpPr>
        <p:spPr>
          <a:xfrm>
            <a:off x="684360" y="1033560"/>
            <a:ext cx="8280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центре внимания писателя человеческий характер, характер главного героя – Матте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11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0f1108"/>
                </a:solidFill>
                <a:uFillTx/>
                <a:latin typeface="Arial"/>
              </a:rPr>
              <a:t>Что вы можете сказать об этом человеке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4"/>
          <p:cNvSpPr/>
          <p:nvPr/>
        </p:nvSpPr>
        <p:spPr>
          <a:xfrm>
            <a:off x="480960" y="1581840"/>
            <a:ext cx="414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Социальное поло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Портр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Возрас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Его прошл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Отношение к нему людей</a:t>
            </a:r>
            <a:r>
              <a:rPr b="1" lang="ru-RU" sz="2400" spc="-1" strike="noStrike">
                <a:solidFill>
                  <a:srgbClr val="0f11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6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ХУДОЖЕСТВЕННЫЕ СРЕД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СОЗДАНИЯ ГЕРОИЧЕСКОГО ХАРАКТЕР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Описание поведения героя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Речь героя (как говорит)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Внутренняя речь (мысли, речь про себя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Авторская характеристика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Художественные детали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Сопоставление с другими героями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2" descr="эйфелева башня"/>
          <p:cNvPicPr/>
          <p:nvPr/>
        </p:nvPicPr>
        <p:blipFill>
          <a:blip r:embed="rId1"/>
          <a:stretch/>
        </p:blipFill>
        <p:spPr>
          <a:xfrm>
            <a:off x="4716360" y="333360"/>
            <a:ext cx="4025880" cy="6048360"/>
          </a:xfrm>
          <a:prstGeom prst="rect">
            <a:avLst/>
          </a:prstGeom>
          <a:ln w="0">
            <a:noFill/>
          </a:ln>
        </p:spPr>
      </p:pic>
      <p:sp>
        <p:nvSpPr>
          <p:cNvPr id="1181" name="Rectangle 5"/>
          <p:cNvSpPr/>
          <p:nvPr/>
        </p:nvSpPr>
        <p:spPr>
          <a:xfrm>
            <a:off x="179280" y="403200"/>
            <a:ext cx="403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25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крат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знакомство с творчеством писате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25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продолжение обучения анализу художественного текст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25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углубить понятие «героический характер»</a:t>
            </a:r>
            <a:r>
              <a:rPr b="1" lang="ru-RU" sz="3200" spc="-1" strike="noStrike" u="sng">
                <a:solidFill>
                  <a:srgbClr val="32594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3" descr="merime[1]"/>
          <p:cNvPicPr/>
          <p:nvPr/>
        </p:nvPicPr>
        <p:blipFill>
          <a:blip r:embed="rId1"/>
          <a:stretch/>
        </p:blipFill>
        <p:spPr>
          <a:xfrm>
            <a:off x="324000" y="549360"/>
            <a:ext cx="2898720" cy="324000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5"/>
          <p:cNvSpPr/>
          <p:nvPr/>
        </p:nvSpPr>
        <p:spPr>
          <a:xfrm>
            <a:off x="179280" y="493704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f1108"/>
                </a:solidFill>
                <a:latin typeface="Arial"/>
              </a:rPr>
              <a:t>Проспер Мериме, французский писатель девятнадцатого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9"/>
          <p:cNvSpPr/>
          <p:nvPr/>
        </p:nvSpPr>
        <p:spPr>
          <a:xfrm>
            <a:off x="4572000" y="1125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одился в семье ученого (химика) и худож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0"/>
          <p:cNvSpPr/>
          <p:nvPr/>
        </p:nvSpPr>
        <p:spPr>
          <a:xfrm>
            <a:off x="3780000" y="31417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одители мечтали, чтобы сын стал ю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4" descr="париж город"/>
          <p:cNvPicPr/>
          <p:nvPr/>
        </p:nvPicPr>
        <p:blipFill>
          <a:blip r:embed="rId1"/>
          <a:stretch/>
        </p:blipFill>
        <p:spPr>
          <a:xfrm>
            <a:off x="468360" y="189000"/>
            <a:ext cx="8028000" cy="548964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5"/>
          <p:cNvSpPr/>
          <p:nvPr/>
        </p:nvSpPr>
        <p:spPr>
          <a:xfrm>
            <a:off x="395280" y="5877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лее 20 лет Мериме прослужил главным инспектором исторических памятников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6" descr="p274196_big[1]"/>
          <p:cNvPicPr/>
          <p:nvPr/>
        </p:nvPicPr>
        <p:blipFill>
          <a:blip r:embed="rId1"/>
          <a:stretch/>
        </p:blipFill>
        <p:spPr>
          <a:xfrm>
            <a:off x="250920" y="1268280"/>
            <a:ext cx="3635280" cy="367524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7" descr="франция"/>
          <p:cNvPicPr/>
          <p:nvPr/>
        </p:nvPicPr>
        <p:blipFill>
          <a:blip r:embed="rId2"/>
          <a:stretch/>
        </p:blipFill>
        <p:spPr>
          <a:xfrm>
            <a:off x="4211640" y="189000"/>
            <a:ext cx="4632480" cy="6192720"/>
          </a:xfrm>
          <a:prstGeom prst="rect">
            <a:avLst/>
          </a:prstGeom>
          <a:ln w="0">
            <a:noFill/>
          </a:ln>
        </p:spPr>
      </p:pic>
      <p:sp>
        <p:nvSpPr>
          <p:cNvPr id="1190" name="Text Box 8"/>
          <p:cNvSpPr/>
          <p:nvPr/>
        </p:nvSpPr>
        <p:spPr>
          <a:xfrm>
            <a:off x="900000" y="5229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временная 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Рисунок 8" descr="портрет П.Мериме"/>
          <p:cNvPicPr/>
          <p:nvPr/>
        </p:nvPicPr>
        <p:blipFill>
          <a:blip r:embed="rId1"/>
          <a:stretch/>
        </p:blipFill>
        <p:spPr>
          <a:xfrm>
            <a:off x="468360" y="1268280"/>
            <a:ext cx="3612960" cy="489600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4500720" y="906840"/>
            <a:ext cx="396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н интересовался литературой, историей, археолог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о все-таки главным интересом оставалась литерату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324000" y="34992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н один из первых во Франции оценил достоинство нашей литературы и стал учиться по-русски, чтобы читать в подлиннике произведения </a:t>
            </a:r>
            <a:r>
              <a:rPr b="0" lang="ru-RU" sz="3200" spc="-1" strike="noStrike" u="sng">
                <a:solidFill>
                  <a:srgbClr val="fb4a18"/>
                </a:solidFill>
                <a:uFillTx/>
                <a:latin typeface="Arial"/>
                <a:hlinkClick r:id="rId1"/>
              </a:rPr>
              <a:t>Пушкина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fb4a18"/>
                </a:solidFill>
                <a:uFillTx/>
                <a:latin typeface="Arial"/>
                <a:hlinkClick r:id="rId2"/>
              </a:rPr>
              <a:t>Гогол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Picture 6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976400" cy="266544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8" descr="yasenevo_pushkin"/>
          <p:cNvPicPr/>
          <p:nvPr/>
        </p:nvPicPr>
        <p:blipFill>
          <a:blip r:embed="rId4"/>
          <a:stretch/>
        </p:blipFill>
        <p:spPr>
          <a:xfrm>
            <a:off x="468360" y="333360"/>
            <a:ext cx="2327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3"/>
          <p:cNvSpPr/>
          <p:nvPr/>
        </p:nvSpPr>
        <p:spPr>
          <a:xfrm>
            <a:off x="611280" y="25452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алант писателя по-настоящему раскрылся в исторических хрониках и новел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468360" y="38433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8" descr="_50000005057"/>
          <p:cNvPicPr/>
          <p:nvPr/>
        </p:nvPicPr>
        <p:blipFill>
          <a:blip r:embed="rId1"/>
          <a:stretch/>
        </p:blipFill>
        <p:spPr>
          <a:xfrm>
            <a:off x="539640" y="1989000"/>
            <a:ext cx="2613240" cy="4319640"/>
          </a:xfrm>
          <a:prstGeom prst="rect">
            <a:avLst/>
          </a:prstGeom>
          <a:ln w="0">
            <a:noFill/>
          </a:ln>
        </p:spPr>
      </p:pic>
      <p:pic>
        <p:nvPicPr>
          <p:cNvPr id="1199" name="i-main-pic" descr="Картинка 26 из 506"/>
          <p:cNvPicPr/>
          <p:nvPr/>
        </p:nvPicPr>
        <p:blipFill>
          <a:blip r:embed="rId2"/>
          <a:stretch/>
        </p:blipFill>
        <p:spPr>
          <a:xfrm>
            <a:off x="4284720" y="198900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08:16Z</dcterms:created>
  <dc:creator>****</dc:creator>
  <dc:description/>
  <dc:language>en-US</dc:language>
  <cp:lastModifiedBy>Пользователь Windows</cp:lastModifiedBy>
  <dcterms:modified xsi:type="dcterms:W3CDTF">2019-05-14T03:13:24Z</dcterms:modified>
  <cp:revision>238</cp:revision>
  <dc:subject/>
  <dc:title>Слайд 1</dc:title>
</cp:coreProperties>
</file>