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2D9-8479-46A9-A1D7-283649BD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D3B-622B-403E-88F0-3A4FF1CD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333CF-2B03-4130-B959-03CBA6F2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DA3EC-AE83-4312-87C4-849416BF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B7DD5-7F29-4819-B685-3CD0DAAE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0D222-1DCE-460E-9380-B82E879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B658A-F3F7-4060-B515-809F0C54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C8006-70D5-4D04-9C8C-62641F67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65D92-8D5F-4CAF-82EF-0023866A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722FA-523B-4041-A88A-DEDB2A64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4512F-E31B-4F45-AE4B-5AA78C59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34D5B-8735-47A2-9252-FFAB2382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F0C-5EEF-4855-97A9-6D2F1E33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16611-D210-4E51-A19B-F235D13A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3000E-1E9D-44A6-81D8-74D49A8B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C658B-BECD-4505-A520-CF7EE391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80F2D-1270-4180-8FFC-4D6B8EC8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4B2BB-FF72-4524-B431-D15DC49A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3A527-D5DF-4C7F-8442-0C49102F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BC453-8DED-4630-8029-0308C50A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8F7EC-D513-42BE-A78F-9A33B79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20212-F379-4692-B877-F694FC7D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01926-59EB-4F7B-BCD6-D400CB12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32E-77AA-4E6E-A3BD-6A295C74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CBA2C-AA1B-4295-A7DE-1FAC5DA4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3DB08-1269-435F-B8E3-8BEA8C28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91D84-CF3B-491D-90C3-CDD2DF84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B5552-5145-4E04-B584-82F28DCE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5376E-DF58-463D-BDC4-8A034B15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D3575-5E43-418D-937A-0551A8CF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0E014-EC56-4844-9FB9-A1F05EA3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C0630-A374-4E40-A7C5-BAF71772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C62CC-0C50-44A6-A6A1-95658160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08215-95B4-4CD8-8B7F-82F8EDD5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7B84-F630-46AE-BCF8-C032874D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0FD2E-35D2-42AE-9F40-F2ACFFC1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EDCD2-7997-46E1-8C65-3637BC4B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35EE8-63CA-4E5E-8CF5-07700865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191D9-EFB7-426C-AB55-092868D0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B269E-F7AD-480B-A150-D35C4E69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D3BA8-8E0A-493B-A3F0-9D63CD66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5017F-64CC-4E25-8C67-007B638E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32133-8EE4-4220-855B-085A55AB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3979F-3C90-45F8-8FB4-9C632FA8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BBA4A-B691-439A-B95A-45485906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E8A2-F1E6-4DA9-B2B3-16A47AF7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8C36B-0781-4351-A672-DE10C334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98DBC-A598-490C-9E60-064C452D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6497C-B820-4682-96E8-28B34662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43EA5-B089-46FF-8522-8FD02E0B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1C321-3C44-48C5-AE40-BD3984EC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3EF9A-490E-4F97-8BDB-32DB961B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C5C9E-70D3-4331-A49F-B39E21CD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011BE-A739-401A-8D83-2EA9D5CA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ADBA1-61EB-4153-8958-A37120A4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341B1-E572-4ECB-9974-81E0B8A2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CEC5-3380-43C8-BD9B-33807528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AD5E4-6E49-4495-A10D-B6B1C176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27F9E-331A-4872-AA1C-8A227ECC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98B93-5740-487F-82F9-DF8D2120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5224F-5617-467D-A830-24320502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20909-40DE-4A0C-89CA-27D40E51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D3F8E-6BF9-48A1-8005-0FB535B5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556F2-5A87-47ED-A148-46CC5060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4B7DD-24AE-4DFB-B6B6-641DCD94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2ECED-4A81-4AB7-A3D1-143B1D58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C2FBB-9EB2-4589-B0C8-5B131A08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C91C-A6B1-4859-8FCF-DED3C679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C0D8B9-A06C-4496-BB6A-DDE42A3F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AC624-C985-4E19-BC96-45055BFA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CFD9D-3004-465A-9226-7F8FF88C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4987A-B068-4D06-BFE5-25C0008A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4E6B2-78CE-4F51-B2C3-CD5DD3AE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6C48A-911E-4ABF-B8FB-4051871F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A3975-25B8-40FB-B99C-36449EFA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8553D-E48D-4330-9AAC-17AA68F0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4D3F7-CA0E-4382-9AC7-ED7A85F9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30A56-E004-4810-9C7E-3FF931AF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E38A-BB7A-4B69-AAD2-7A4A6E1F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946DE6-1925-47D6-AA7F-826523AB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883FC8-16C3-4337-9290-D3C68162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74B4B-4BEF-4C19-8455-42DAA6BE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FE9833-EFFA-41FA-AFE1-F311B717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491C3-8D52-4C69-844E-B97855FB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2CF27-1AE6-4467-9083-664300B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CC0BAA-398F-40D0-AE38-7629796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59409-271E-4F82-B08D-ED21DB6E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389D3-C098-41EE-BD8C-CF150FDF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CF100-1B78-4D9E-81E5-25C5DEFD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C64F-5BCD-4307-A84E-96B50D80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E97AB-5696-4075-9241-CCA53908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1826D-A8C6-4496-BEEF-F4023564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4A415-011A-4772-9D4F-D9C60170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C244F-6093-487F-83C9-DF61609B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84FBE-9631-4C39-9BDE-E3C9F206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1C067-B0A5-467D-8AC0-3E14E673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EBBEE-2F3E-4124-AB54-6BA1F70C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AA850-03CB-4D47-884F-81955C89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A679F-F0F9-4290-83BD-809D72D0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88176-CD17-43D1-AA0D-FC00CE0C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20FC-3541-4C0C-8DD8-2C14B70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E982D-E3CC-4294-85EE-845EA74F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3DA45F-5370-409A-B677-FC54041F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D930FB-1FC9-4FFB-B6A5-8386A708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5371C5-D28A-4412-B03D-95E3B387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F1A700-5A1F-4A2D-9E9E-B425ADC4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50164A-F047-48D8-B753-33115533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09A6A-44D9-4CCE-88D5-26530241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43E26-C755-4EDC-87B9-6898792B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45F97-412B-4A59-8AC7-A8305036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C72EF-D5DA-41D0-9750-169A12C1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B21-9DCF-4E2F-8C4E-2099F191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9D19-CC50-4BD4-8ECA-F5964C79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A2E78-565F-4A9E-A9F0-96360F30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D322B-7798-485E-97C1-FCE59BAF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06E72-2860-4AEB-A112-AC0B8D7B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C24703-4520-48F4-86A7-B865DF40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B4613-0E64-4BF7-A1E7-D34DD062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A92A-943D-4292-AA57-85FC2834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DC7A-8A9A-432D-8F68-07DA9184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6B30-7AD8-428B-A413-566B146F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8D3D-0CAE-4700-B568-8C7CC071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9B46-7C8F-4DD6-AFAA-0C3E324B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8BD2-8F6A-4EF1-A5B6-87063B2F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85AE7-7B53-4D0B-97A7-5985074A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79F9C-A23C-4D83-BB5E-A8DCB577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D79A-BAC4-4A4B-A0C2-E436EFFC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9C5-AA00-4417-853E-F1A4CC72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FB3B-1FD4-4C3C-8D5B-7D4DE74C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7A12-DD9E-4BAF-86F2-98A8E517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9274-BEE6-431D-8CED-4196AB2A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EA1E-6DFA-4B5F-8B4A-C5D52346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51EB-65DE-47E6-852E-9D9A9523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7975-24A6-4D0D-B310-15E02C79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49051-7306-44E0-AADF-AA9BD3BD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ED8EE-D7C5-406D-8CE0-0F5C7ABE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B8AA-62AC-4CC5-932A-48E90AD3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C1E5-41AB-4D3E-A057-D6A43FA9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4F5-ABF8-427D-81AE-9C1ED3DD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A642E-EFA2-4843-9196-0C69E110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39097-FB5C-44D0-B98F-7347FE44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91674-9C82-455D-8BDC-56EFAC0F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10F0C-0213-47BE-A3FC-1CD0724D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84F5A-5903-4B61-BD5C-ABB12592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8656C-C2AF-4244-8B56-CCEDD4ED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4B4EE-C10A-4356-9D19-45FFE0CE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0B154-5A83-44F1-81D3-ABE46D6F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8FF79-2E58-4A48-BF9E-786A72A7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B782E-672D-40CF-AC14-A74EC6EA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A43-4F01-4313-BC6D-8623F4C8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F0434-69D3-49AE-98A6-111BF7AE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305D5-75B1-4B54-A174-4FCBF8E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D9EC4-74D9-4120-A5C0-22F9FE65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2A1F-36F9-4BC9-8E47-ED292705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0166D-136C-41E0-AE65-8714E897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3BBB3-5C3B-42B1-9352-54CA6BA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B1DD6-E3B5-4086-A81C-F68B392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44A70-39F9-47ED-9F6C-50C5647D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ADFAA-42BE-480D-9CF5-33E09B0B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7178A-D3B5-431F-8A60-8E704BCC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857-2E07-48EA-A7EC-305DF351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5E0AF-D91A-4AA6-94A9-8E52BC11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46ED6-B825-47E1-A8E7-68D956F5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50C0B-70BA-4028-9370-1DBF2AFD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38333-65EE-4515-93FA-6F48BA44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88555-C946-4C34-904E-DF01BC18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31C82-ADB9-4EBB-8ACD-BF565CF3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31885-8077-4E6F-B7DB-CDB16BFD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A7E89-6B43-45D4-B2A8-5016AE36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2F710-77F9-4DB8-8937-2878C69C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BE7B7-A330-4A05-98EC-2F66CBCD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B9A-9EB0-4CC3-9EEC-377CCC1A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DA1A7-2CDC-42B9-99F6-AEBCC324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9784B-F6B0-4751-9F67-C4D5EC02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8D05D-9671-4AE5-9176-9E1DE607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C739C-4911-425A-8E1C-C5A60F1D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B2894-4797-4167-9EEB-C6C610CD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C24B5-92A6-4724-9F3D-530512A3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28C28-B88D-43BA-92A8-71E1BEC2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D4B60-0741-40AD-BCBD-80DDE902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47227-FC6F-4F2B-8DCB-CB54EC04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3A861-BA92-48BC-9595-EDD5F01D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E68-D22B-4684-84A1-6CB5E1C3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9FF89-742E-42F6-BC3D-5B41EC29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ED585-A339-4D68-9B60-5BC1F9C4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02EE6-B204-48AE-BC5E-F74CA0F2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A59A2-7488-4635-A2B0-763F04FB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76B86-A996-410B-AFFB-8DC206E3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457CB-442E-4C88-BC68-FAA0FD5E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2A6D8-DF78-4268-9978-FA877E59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3CB1D-797A-4415-8B59-FF75436C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2C37A-321C-4A4F-8AED-7A8979CC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DB44D-4B78-4337-BD2E-0F1A03E4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666-E903-486A-9F2E-91C452F8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FAC80-DDEF-48ED-81BC-9EB1F221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AAE70-2CF3-4D08-9009-C449106A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A3087-C8DF-4530-B0D7-D909B950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791D1-458D-4D28-B6AB-80E6E96D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AE3F8-BCDB-4AF5-A6B9-680C09BC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AB9D2-FCE4-418B-B1A8-CCB32D5F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E41F5-71D3-4E1B-B666-E232D4B8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42450-5035-48C3-9A85-1C05D585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16725-BD13-4D50-9451-51291985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4BACC-9718-41BD-91E4-598DD583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A5EB-479E-4F02-A375-3F1220A181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6455-2F4C-4B74-B350-32B5452A794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9241-B6AC-4800-B1DC-EC8B795FAA8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E772-1492-4D7A-8DAC-FE5AEF285A8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484D-D057-4D1A-8E10-3B1BEBB5016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46F9-BFA0-4E8D-B26C-9D67DAD7604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05D5-300C-4E0C-8ECE-F2BC54BEA8C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4C69-0059-4A14-89F0-B0590288CC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94F3-ECF1-4E5C-B6A8-F6DA0951C3D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3665-23BF-4769-91D7-3C69C50098F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D3DA-CCFD-4FC3-ADDF-E881F9CC61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0D90-1472-4749-83B2-6E4E577C22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C1A5-AF0A-4971-AE21-A90C2CF458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9104-1E35-4E5A-9107-78EC15EB10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4AF1-802B-4095-9563-870926AC48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515F-6CA6-4C19-B1F3-9DC045104D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A5D3-769E-4249-AD2F-65A1B1E806F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aina.aib.ru/biography/aleksandr-pushkin.htm" TargetMode="External"/><Relationship Id="rId2" Type="http://schemas.openxmlformats.org/officeDocument/2006/relationships/hyperlink" Target="http://taina.aib.ru/biography/nikolaj-gogol.htm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658800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r>
              <a:rPr b="0" i="1" lang="ru-RU" sz="3200" spc="-1" strike="noStrike">
                <a:solidFill>
                  <a:srgbClr val="521808"/>
                </a:solidFill>
                <a:latin typeface="Century Gothic"/>
              </a:rPr>
              <a:t>Нравственный выбор героев. </a:t>
            </a:r>
            <a:br>
              <a:rPr sz="3200"/>
            </a:br>
            <a:r>
              <a:rPr b="0" i="1" lang="ru-RU" sz="3200" spc="-1" strike="noStrike">
                <a:solidFill>
                  <a:srgbClr val="521808"/>
                </a:solidFill>
                <a:latin typeface="Century Gothic"/>
              </a:rPr>
              <a:t>Создание героического характера в новелле «Маттео Фальконе» Проспера Мерим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Picture 2" descr="azb02532big[1]"/>
          <p:cNvPicPr/>
          <p:nvPr/>
        </p:nvPicPr>
        <p:blipFill>
          <a:blip r:embed="rId1"/>
          <a:stretch/>
        </p:blipFill>
        <p:spPr>
          <a:xfrm>
            <a:off x="4932360" y="476280"/>
            <a:ext cx="3909960" cy="6191280"/>
          </a:xfrm>
          <a:prstGeom prst="rect">
            <a:avLst/>
          </a:prstGeom>
          <a:ln w="0">
            <a:noFill/>
          </a:ln>
        </p:spPr>
      </p:pic>
      <p:pic>
        <p:nvPicPr>
          <p:cNvPr id="1201" name="i-main-pic" descr="Картинка 34 из 506"/>
          <p:cNvPicPr/>
          <p:nvPr/>
        </p:nvPicPr>
        <p:blipFill>
          <a:blip r:embed="rId2"/>
          <a:stretch/>
        </p:blipFill>
        <p:spPr>
          <a:xfrm>
            <a:off x="324000" y="404640"/>
            <a:ext cx="39830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2" descr="398265[1]"/>
          <p:cNvPicPr/>
          <p:nvPr/>
        </p:nvPicPr>
        <p:blipFill>
          <a:blip r:embed="rId1"/>
          <a:stretch/>
        </p:blipFill>
        <p:spPr>
          <a:xfrm>
            <a:off x="179280" y="260280"/>
            <a:ext cx="3711600" cy="608796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4" descr="mbiblio020big[1]"/>
          <p:cNvPicPr/>
          <p:nvPr/>
        </p:nvPicPr>
        <p:blipFill>
          <a:blip r:embed="rId2"/>
          <a:stretch/>
        </p:blipFill>
        <p:spPr>
          <a:xfrm>
            <a:off x="4211640" y="692280"/>
            <a:ext cx="464040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4" descr="_54000007328"/>
          <p:cNvPicPr/>
          <p:nvPr/>
        </p:nvPicPr>
        <p:blipFill>
          <a:blip r:embed="rId1"/>
          <a:stretch/>
        </p:blipFill>
        <p:spPr>
          <a:xfrm>
            <a:off x="3780000" y="836640"/>
            <a:ext cx="1776240" cy="28098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5" descr="398269[1]"/>
          <p:cNvPicPr/>
          <p:nvPr/>
        </p:nvPicPr>
        <p:blipFill>
          <a:blip r:embed="rId2"/>
          <a:stretch/>
        </p:blipFill>
        <p:spPr>
          <a:xfrm>
            <a:off x="5724360" y="333360"/>
            <a:ext cx="3132360" cy="508464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6" descr="280675[1]"/>
          <p:cNvPicPr/>
          <p:nvPr/>
        </p:nvPicPr>
        <p:blipFill>
          <a:blip r:embed="rId3"/>
          <a:stretch/>
        </p:blipFill>
        <p:spPr>
          <a:xfrm>
            <a:off x="480960" y="1125360"/>
            <a:ext cx="30924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i-main-pic" descr="Картинка 29 из 506"/>
          <p:cNvPicPr/>
          <p:nvPr/>
        </p:nvPicPr>
        <p:blipFill>
          <a:blip r:embed="rId1"/>
          <a:stretch/>
        </p:blipFill>
        <p:spPr>
          <a:xfrm>
            <a:off x="324000" y="549360"/>
            <a:ext cx="5148000" cy="5148000"/>
          </a:xfrm>
          <a:prstGeom prst="rect">
            <a:avLst/>
          </a:prstGeom>
          <a:ln w="0">
            <a:noFill/>
          </a:ln>
        </p:spPr>
      </p:pic>
      <p:sp>
        <p:nvSpPr>
          <p:cNvPr id="1208" name="Rectangle 6"/>
          <p:cNvSpPr/>
          <p:nvPr/>
        </p:nvSpPr>
        <p:spPr>
          <a:xfrm>
            <a:off x="5796000" y="112536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Что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такое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НОВЕЛЛА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5"/>
          <p:cNvSpPr/>
          <p:nvPr/>
        </p:nvSpPr>
        <p:spPr>
          <a:xfrm>
            <a:off x="324000" y="189000"/>
            <a:ext cx="8497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Новелла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сопоставима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 объему с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расск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Отличается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т него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острым, быстро развивающимся сюжетом, отсутствием описательност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центре внимания автора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, как правило, случай, влияющий на жизнь героя, предельно раскрывающий его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аковой и является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новелла П.Мериме “Маттео Фальконе”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468360" y="549360"/>
            <a:ext cx="50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2"/>
          <p:cNvSpPr/>
          <p:nvPr/>
        </p:nvSpPr>
        <p:spPr>
          <a:xfrm>
            <a:off x="611280" y="61920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При создании этой новеллы Мериме </a:t>
            </a:r>
            <a:r>
              <a:rPr b="1" lang="ru-RU" sz="3200" spc="-1" strike="noStrike">
                <a:solidFill>
                  <a:srgbClr val="0f1108"/>
                </a:solidFill>
                <a:latin typeface="Arial"/>
              </a:rPr>
              <a:t>воспользовался небольшой заметкой</a:t>
            </a: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f1108"/>
                </a:solidFill>
                <a:latin typeface="Arial"/>
              </a:rPr>
              <a:t>из журнала</a:t>
            </a: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 (1828), давшей ему основную сюжетную кан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В этой же статье писатель нашёл указание на книгу Габриэля Фейделя, из которой </a:t>
            </a:r>
            <a:r>
              <a:rPr b="1" lang="ru-RU" sz="3200" spc="-1" strike="noStrike">
                <a:solidFill>
                  <a:srgbClr val="0f1108"/>
                </a:solidFill>
                <a:latin typeface="Arial"/>
              </a:rPr>
              <a:t>он почерпнул неизвестные ему детали быта корсиканцев и описание природы этого острова</a:t>
            </a: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3"/>
          <p:cNvSpPr/>
          <p:nvPr/>
        </p:nvSpPr>
        <p:spPr>
          <a:xfrm>
            <a:off x="0" y="3276720"/>
            <a:ext cx="142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3" name="Picture 2" descr="http://litera.edu.ru/images/i_alt.gif"/>
          <p:cNvPicPr/>
          <p:nvPr/>
        </p:nvPicPr>
        <p:blipFill>
          <a:blip r:embed="rId1"/>
          <a:stretch/>
        </p:blipFill>
        <p:spPr>
          <a:xfrm>
            <a:off x="0" y="3276720"/>
            <a:ext cx="95400" cy="9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4" name=""/>
          <p:cNvGraphicFramePr/>
          <p:nvPr/>
        </p:nvGraphicFramePr>
        <p:xfrm>
          <a:off x="971640" y="981000"/>
          <a:ext cx="6696000" cy="4033800"/>
        </p:xfrm>
        <a:graphic>
          <a:graphicData uri="http://schemas.openxmlformats.org/drawingml/2006/table">
            <a:tbl>
              <a:tblPr/>
              <a:tblGrid>
                <a:gridCol w="2413080"/>
                <a:gridCol w="4282920"/>
              </a:tblGrid>
              <a:tr h="40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c3300"/>
                          </a:solidFill>
                          <a:latin typeface="Arial"/>
                          <a:ea typeface="Calibri"/>
                        </a:rPr>
                        <a:t>Тип  сюжета</a:t>
                      </a:r>
                      <a:r>
                        <a:rPr b="1" lang="ru-RU" sz="36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социально-бытовой, психологический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i-main-pic" descr="Картинка 50 из 506"/>
          <p:cNvPicPr/>
          <p:nvPr/>
        </p:nvPicPr>
        <p:blipFill>
          <a:blip r:embed="rId1"/>
          <a:stretch/>
        </p:blipFill>
        <p:spPr>
          <a:xfrm>
            <a:off x="539640" y="476280"/>
            <a:ext cx="4048200" cy="6192720"/>
          </a:xfrm>
          <a:prstGeom prst="rect">
            <a:avLst/>
          </a:prstGeom>
          <a:ln w="0">
            <a:noFill/>
          </a:ln>
        </p:spPr>
      </p:pic>
      <p:sp>
        <p:nvSpPr>
          <p:cNvPr id="1216" name="Rectangle 5"/>
          <p:cNvSpPr/>
          <p:nvPr/>
        </p:nvSpPr>
        <p:spPr>
          <a:xfrm>
            <a:off x="4932360" y="321480"/>
            <a:ext cx="345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ранцузский диалог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развивает наше ассоциативное мыш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н позволяет нам перевоплотиться, поиграть, пожить чужой жизнью, испытать чужие страдания, говорить чужим язы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 всегда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4" descr="154507[1]"/>
          <p:cNvPicPr/>
          <p:nvPr/>
        </p:nvPicPr>
        <p:blipFill>
          <a:blip r:embed="rId1"/>
          <a:stretch/>
        </p:blipFill>
        <p:spPr>
          <a:xfrm>
            <a:off x="324000" y="333360"/>
            <a:ext cx="2793960" cy="4105440"/>
          </a:xfrm>
          <a:prstGeom prst="rect">
            <a:avLst/>
          </a:prstGeom>
          <a:ln w="0">
            <a:noFill/>
          </a:ln>
        </p:spPr>
      </p:pic>
      <p:sp>
        <p:nvSpPr>
          <p:cNvPr id="1218" name="Text Box 9"/>
          <p:cNvSpPr/>
          <p:nvPr/>
        </p:nvSpPr>
        <p:spPr>
          <a:xfrm>
            <a:off x="250920" y="4724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Маттео Фальконе, главный герой одноименной новеллы (18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3"/>
          <p:cNvSpPr/>
          <p:nvPr/>
        </p:nvSpPr>
        <p:spPr>
          <a:xfrm>
            <a:off x="611280" y="403560"/>
            <a:ext cx="7489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 повести “Маттео Фальконе” Мериме ставит себя в положение просвещенного европей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н с оттенком удивления и любопытства взирает на нравы корсиканцев, для которых убийство предателя, даже если это собственный сын, считается в порядке вещей, а укрывательство человека, преследуемого законам, является делом че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Picture 5" descr="париджжж"/>
          <p:cNvPicPr/>
          <p:nvPr/>
        </p:nvPicPr>
        <p:blipFill>
          <a:blip r:embed="rId1"/>
          <a:stretch/>
        </p:blipFill>
        <p:spPr>
          <a:xfrm>
            <a:off x="539640" y="2695680"/>
            <a:ext cx="4249800" cy="318132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6" descr="кармен"/>
          <p:cNvPicPr/>
          <p:nvPr/>
        </p:nvPicPr>
        <p:blipFill>
          <a:blip r:embed="rId2"/>
          <a:stretch/>
        </p:blipFill>
        <p:spPr>
          <a:xfrm>
            <a:off x="5003640" y="333360"/>
            <a:ext cx="3527640" cy="2216160"/>
          </a:xfrm>
          <a:prstGeom prst="rect">
            <a:avLst/>
          </a:prstGeom>
          <a:ln w="0">
            <a:noFill/>
          </a:ln>
        </p:spPr>
      </p:pic>
      <p:sp>
        <p:nvSpPr>
          <p:cNvPr id="1179" name="Text Box 7"/>
          <p:cNvSpPr/>
          <p:nvPr/>
        </p:nvSpPr>
        <p:spPr>
          <a:xfrm>
            <a:off x="5508720" y="393372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Современный Париж, родина Проспера Мери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2"/>
          <p:cNvSpPr/>
          <p:nvPr/>
        </p:nvSpPr>
        <p:spPr>
          <a:xfrm>
            <a:off x="539640" y="589680"/>
            <a:ext cx="7704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онятие чести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нашло предельное выражение в характере Маттео Фалько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Это 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онятие чести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объединяет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людей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относящихся к совершенно различным социальным группам и даже находящихся в открытом конфликте друг с другом: “благонадежного”, в глазах властей, Маттео и бандита Джаннет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752400" y="1556280"/>
            <a:ext cx="785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«- Что ты сделал? – воскликнула она.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-Свершил правосудие.»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                                       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П.Мер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8"/>
          <p:cNvSpPr/>
          <p:nvPr/>
        </p:nvSpPr>
        <p:spPr>
          <a:xfrm>
            <a:off x="900000" y="54936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Эпигра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9"/>
          <p:cNvSpPr/>
          <p:nvPr/>
        </p:nvSpPr>
        <p:spPr>
          <a:xfrm>
            <a:off x="250920" y="501264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Почему эти строки вынесены как эпиграф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3"/>
          <p:cNvSpPr/>
          <p:nvPr/>
        </p:nvSpPr>
        <p:spPr>
          <a:xfrm>
            <a:off x="684360" y="1033560"/>
            <a:ext cx="82803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центре внимания писателя человеческий характер, характер главного героя – Матте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f11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 </a:t>
            </a:r>
            <a:r>
              <a:rPr b="0" i="1" lang="ru-RU" sz="3200" spc="-1" strike="noStrike" u="sng">
                <a:solidFill>
                  <a:srgbClr val="0f1108"/>
                </a:solidFill>
                <a:uFillTx/>
                <a:latin typeface="Arial"/>
              </a:rPr>
              <a:t>Что вы можете сказать об этом человеке</a:t>
            </a:r>
            <a:r>
              <a:rPr b="0" lang="ru-RU" sz="3200" spc="-1" strike="noStrike">
                <a:solidFill>
                  <a:srgbClr val="0f1108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4"/>
          <p:cNvSpPr/>
          <p:nvPr/>
        </p:nvSpPr>
        <p:spPr>
          <a:xfrm>
            <a:off x="480960" y="1581840"/>
            <a:ext cx="4149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f1108"/>
                </a:solidFill>
                <a:uFillTx/>
                <a:latin typeface="Arial"/>
              </a:rPr>
              <a:t>Социальное полож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f1108"/>
                </a:solidFill>
                <a:uFillTx/>
                <a:latin typeface="Arial"/>
              </a:rPr>
              <a:t>Портр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f1108"/>
                </a:solidFill>
                <a:uFillTx/>
                <a:latin typeface="Arial"/>
              </a:rPr>
              <a:t>Возрас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f1108"/>
                </a:solidFill>
                <a:uFillTx/>
                <a:latin typeface="Arial"/>
              </a:rPr>
              <a:t>Его прошл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f1108"/>
                </a:solidFill>
                <a:uFillTx/>
                <a:latin typeface="Arial"/>
              </a:rPr>
              <a:t>Отношение к нему людей</a:t>
            </a:r>
            <a:r>
              <a:rPr b="1" lang="ru-RU" sz="2400" spc="-1" strike="noStrike">
                <a:solidFill>
                  <a:srgbClr val="0f110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6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ХУДОЖЕСТВЕННЫЕ СРЕДСТ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СОЗДАНИЯ ГЕРОИЧЕСКОГО ХАРАКТЕР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f110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Описание поведения героя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f110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Речь героя (как говорит)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f110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Внутренняя речь (мысли, речь про себя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f110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Авторская характеристика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f110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Художественные детали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f110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f1108"/>
                          </a:solidFill>
                          <a:latin typeface="Arial"/>
                          <a:ea typeface="Calibri"/>
                        </a:rPr>
                        <a:t>Сопоставление с другими героями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Picture 2" descr="эйфелева башня"/>
          <p:cNvPicPr/>
          <p:nvPr/>
        </p:nvPicPr>
        <p:blipFill>
          <a:blip r:embed="rId1"/>
          <a:stretch/>
        </p:blipFill>
        <p:spPr>
          <a:xfrm>
            <a:off x="4716360" y="333360"/>
            <a:ext cx="4025880" cy="6048360"/>
          </a:xfrm>
          <a:prstGeom prst="rect">
            <a:avLst/>
          </a:prstGeom>
          <a:ln w="0">
            <a:noFill/>
          </a:ln>
        </p:spPr>
      </p:pic>
      <p:sp>
        <p:nvSpPr>
          <p:cNvPr id="1181" name="Rectangle 5"/>
          <p:cNvSpPr/>
          <p:nvPr/>
        </p:nvSpPr>
        <p:spPr>
          <a:xfrm>
            <a:off x="179280" y="403200"/>
            <a:ext cx="4032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25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5949"/>
                </a:solidFill>
                <a:latin typeface="Arial"/>
              </a:rPr>
              <a:t>крат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5949"/>
                </a:solidFill>
                <a:latin typeface="Arial"/>
              </a:rPr>
              <a:t>знакомство с творчеством писате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25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5949"/>
                </a:solidFill>
                <a:latin typeface="Arial"/>
              </a:rPr>
              <a:t>продолжение обучения анализу художественного текст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259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5949"/>
                </a:solidFill>
                <a:latin typeface="Arial"/>
              </a:rPr>
              <a:t>углубить понятие «героический характер»</a:t>
            </a:r>
            <a:r>
              <a:rPr b="1" lang="ru-RU" sz="3200" spc="-1" strike="noStrike" u="sng">
                <a:solidFill>
                  <a:srgbClr val="32594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3" descr="merime[1]"/>
          <p:cNvPicPr/>
          <p:nvPr/>
        </p:nvPicPr>
        <p:blipFill>
          <a:blip r:embed="rId1"/>
          <a:stretch/>
        </p:blipFill>
        <p:spPr>
          <a:xfrm>
            <a:off x="324000" y="549360"/>
            <a:ext cx="2898720" cy="3240000"/>
          </a:xfrm>
          <a:prstGeom prst="rect">
            <a:avLst/>
          </a:prstGeom>
          <a:ln w="0">
            <a:noFill/>
          </a:ln>
        </p:spPr>
      </p:pic>
      <p:sp>
        <p:nvSpPr>
          <p:cNvPr id="1183" name="Text Box 5"/>
          <p:cNvSpPr/>
          <p:nvPr/>
        </p:nvSpPr>
        <p:spPr>
          <a:xfrm>
            <a:off x="179280" y="4937040"/>
            <a:ext cx="878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f1108"/>
                </a:solidFill>
                <a:latin typeface="Arial"/>
              </a:rPr>
              <a:t>Проспер Мериме, французский писатель девятнадцатого 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9"/>
          <p:cNvSpPr/>
          <p:nvPr/>
        </p:nvSpPr>
        <p:spPr>
          <a:xfrm>
            <a:off x="4572000" y="112536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одился в семье ученого (химика) и худож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0"/>
          <p:cNvSpPr/>
          <p:nvPr/>
        </p:nvSpPr>
        <p:spPr>
          <a:xfrm>
            <a:off x="3780000" y="314172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одители мечтали, чтобы сын стал ю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Picture 4" descr="париж город"/>
          <p:cNvPicPr/>
          <p:nvPr/>
        </p:nvPicPr>
        <p:blipFill>
          <a:blip r:embed="rId1"/>
          <a:stretch/>
        </p:blipFill>
        <p:spPr>
          <a:xfrm>
            <a:off x="468360" y="189000"/>
            <a:ext cx="8028000" cy="5489640"/>
          </a:xfrm>
          <a:prstGeom prst="rect">
            <a:avLst/>
          </a:prstGeom>
          <a:ln w="0">
            <a:noFill/>
          </a:ln>
        </p:spPr>
      </p:pic>
      <p:sp>
        <p:nvSpPr>
          <p:cNvPr id="1187" name="Rectangle 5"/>
          <p:cNvSpPr/>
          <p:nvPr/>
        </p:nvSpPr>
        <p:spPr>
          <a:xfrm>
            <a:off x="395280" y="5877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олее 20 лет Мериме прослужил главным инспектором исторических памятников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Picture 6" descr="p274196_big[1]"/>
          <p:cNvPicPr/>
          <p:nvPr/>
        </p:nvPicPr>
        <p:blipFill>
          <a:blip r:embed="rId1"/>
          <a:stretch/>
        </p:blipFill>
        <p:spPr>
          <a:xfrm>
            <a:off x="250920" y="1268280"/>
            <a:ext cx="3635280" cy="367524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7" descr="франция"/>
          <p:cNvPicPr/>
          <p:nvPr/>
        </p:nvPicPr>
        <p:blipFill>
          <a:blip r:embed="rId2"/>
          <a:stretch/>
        </p:blipFill>
        <p:spPr>
          <a:xfrm>
            <a:off x="4211640" y="189000"/>
            <a:ext cx="4632480" cy="6192720"/>
          </a:xfrm>
          <a:prstGeom prst="rect">
            <a:avLst/>
          </a:prstGeom>
          <a:ln w="0">
            <a:noFill/>
          </a:ln>
        </p:spPr>
      </p:pic>
      <p:sp>
        <p:nvSpPr>
          <p:cNvPr id="1190" name="Text Box 8"/>
          <p:cNvSpPr/>
          <p:nvPr/>
        </p:nvSpPr>
        <p:spPr>
          <a:xfrm>
            <a:off x="900000" y="522936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овременная Фр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Рисунок 8" descr="портрет П.Мериме"/>
          <p:cNvPicPr/>
          <p:nvPr/>
        </p:nvPicPr>
        <p:blipFill>
          <a:blip r:embed="rId1"/>
          <a:stretch/>
        </p:blipFill>
        <p:spPr>
          <a:xfrm>
            <a:off x="468360" y="1268280"/>
            <a:ext cx="3612960" cy="4896000"/>
          </a:xfrm>
          <a:prstGeom prst="rect">
            <a:avLst/>
          </a:prstGeom>
          <a:ln w="0">
            <a:noFill/>
          </a:ln>
        </p:spPr>
      </p:pic>
      <p:sp>
        <p:nvSpPr>
          <p:cNvPr id="1192" name="Rectangle 4"/>
          <p:cNvSpPr/>
          <p:nvPr/>
        </p:nvSpPr>
        <p:spPr>
          <a:xfrm>
            <a:off x="4500720" y="906840"/>
            <a:ext cx="396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н интересовался литературой, историей, археолог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Но все-таки главным интересом оставалась литерату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324000" y="349920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н один из первых во Франции оценил достоинство нашей литературы и стал учиться по-русски, чтобы читать в подлиннике произведения </a:t>
            </a:r>
            <a:r>
              <a:rPr b="0" lang="ru-RU" sz="3200" spc="-1" strike="noStrike" u="sng">
                <a:solidFill>
                  <a:srgbClr val="fb4a18"/>
                </a:solidFill>
                <a:uFillTx/>
                <a:latin typeface="Arial"/>
                <a:hlinkClick r:id="rId1"/>
              </a:rPr>
              <a:t>Пушкина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fb4a18"/>
                </a:solidFill>
                <a:uFillTx/>
                <a:latin typeface="Arial"/>
                <a:hlinkClick r:id="rId2"/>
              </a:rPr>
              <a:t>Гогол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4" name="Picture 6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976400" cy="266544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8" descr="yasenevo_pushkin"/>
          <p:cNvPicPr/>
          <p:nvPr/>
        </p:nvPicPr>
        <p:blipFill>
          <a:blip r:embed="rId4"/>
          <a:stretch/>
        </p:blipFill>
        <p:spPr>
          <a:xfrm>
            <a:off x="468360" y="333360"/>
            <a:ext cx="2327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3"/>
          <p:cNvSpPr/>
          <p:nvPr/>
        </p:nvSpPr>
        <p:spPr>
          <a:xfrm>
            <a:off x="611280" y="25452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алант писателя по-настоящему раскрылся в исторических хрониках и новелл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468360" y="38433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Picture 8" descr="_50000005057"/>
          <p:cNvPicPr/>
          <p:nvPr/>
        </p:nvPicPr>
        <p:blipFill>
          <a:blip r:embed="rId1"/>
          <a:stretch/>
        </p:blipFill>
        <p:spPr>
          <a:xfrm>
            <a:off x="539640" y="1989000"/>
            <a:ext cx="2613240" cy="4319640"/>
          </a:xfrm>
          <a:prstGeom prst="rect">
            <a:avLst/>
          </a:prstGeom>
          <a:ln w="0">
            <a:noFill/>
          </a:ln>
        </p:spPr>
      </p:pic>
      <p:pic>
        <p:nvPicPr>
          <p:cNvPr id="1199" name="i-main-pic" descr="Картинка 26 из 506"/>
          <p:cNvPicPr/>
          <p:nvPr/>
        </p:nvPicPr>
        <p:blipFill>
          <a:blip r:embed="rId2"/>
          <a:stretch/>
        </p:blipFill>
        <p:spPr>
          <a:xfrm>
            <a:off x="4284720" y="1989000"/>
            <a:ext cx="4248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8:08:16Z</dcterms:created>
  <dc:creator>****</dc:creator>
  <dc:description/>
  <dc:language>en-US</dc:language>
  <cp:lastModifiedBy>Пользователь Windows</cp:lastModifiedBy>
  <dcterms:modified xsi:type="dcterms:W3CDTF">2019-05-14T03:13:24Z</dcterms:modified>
  <cp:revision>238</cp:revision>
  <dc:subject/>
  <dc:title>Слайд 1</dc:title>
</cp:coreProperties>
</file>