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9.jpeg" ContentType="image/jpeg"/>
  <Override PartName="/ppt/media/image1.gif" ContentType="image/gif"/>
  <Override PartName="/ppt/media/image17.png" ContentType="image/pn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A10A6-9D88-42BC-99C4-16983B2D74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D6DC5-BB7B-448C-AC5A-CD6AA864F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1DFED-2CFC-4AC7-A7D2-128B6847A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B79B4-96CF-4931-BF77-1DA332262E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1F8C4-6844-4B79-91FC-DA6C03FEEA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14154-8813-4802-A69A-28F0D5F20D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81E87-BA7C-4D7B-A49A-A9B3CF6B48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1635C-44D7-4142-9DB3-6D261E57E9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BF283-35E2-4FB0-A933-993F10D689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C0C78-E8CB-4818-9A69-747AB9D0B6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34A3F-AB3D-44B5-B925-EE41F7C191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AEEE7-3418-493C-AC0D-52381CE51E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14FE9-30DE-4747-8A7C-335AB357C7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D4C47-C737-42D7-B4E5-911D10849D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8D9D8-022C-4BB0-8DA0-30CCA33D40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3E8D4-64BB-4AF4-ADF7-5E91B80C0A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CD951-7BC2-4B39-BB3D-DCDF8610085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1CE4-65C8-435A-B166-3B48A44334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0698-9F2F-4026-9385-CDCCD30DB05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30DC-27AD-4B5B-9AAA-67DB2B59F3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9E7A-DD65-4779-8372-A3B7DFE0EFD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2299-7A95-4CFB-811B-EF0D766182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74681-D3A6-4783-8B53-D9A4E2B8F9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B2EF-4033-4F0F-BE66-66263AA26D0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F911-6DA9-4BF8-9C92-B66830700B2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057F-25A7-4C55-98A4-A3FA26CF820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B902-BAF2-416F-9C75-ED0804EF23E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EF7E-731E-4E40-85FF-F4926BE412C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7993-E99D-4962-AE91-4940E660541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9DD4-2F20-4DD7-ACB4-0882E2B457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C43CE-AD8E-47A7-97A3-E4F6244D1C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1A1F6-FEE4-4977-A2A6-16F23C8382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05575-56F2-49B2-8738-0288F6A933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DE903-A3C1-437C-9371-31BE420E63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18E8A-2B2D-4E3B-974F-03F5048041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35464-A844-4D3E-9446-7DFF3E6BE4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E2F8C-840B-4EAA-9751-43C0F4120A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16000" y="76320"/>
            <a:ext cx="8683560" cy="6778440"/>
            <a:chOff x="216000" y="76320"/>
            <a:chExt cx="8683560" cy="6778440"/>
          </a:xfrm>
        </p:grpSpPr>
        <p:grpSp>
          <p:nvGrpSpPr>
            <p:cNvPr id="6" name=""/>
            <p:cNvGrpSpPr/>
            <p:nvPr/>
          </p:nvGrpSpPr>
          <p:grpSpPr>
            <a:xfrm>
              <a:off x="216000" y="76320"/>
              <a:ext cx="8683560" cy="333360"/>
              <a:chOff x="216000" y="76320"/>
              <a:chExt cx="8683560" cy="33336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16000" y="76320"/>
                <a:ext cx="1673280" cy="333360"/>
                <a:chOff x="216000" y="76320"/>
                <a:chExt cx="1673280" cy="33336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1054080" y="76320"/>
                  <a:ext cx="835200" cy="16488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54080" y="244440"/>
                  <a:ext cx="835200" cy="16524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16000" y="244440"/>
                  <a:ext cx="834840" cy="16524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216000" y="76320"/>
                  <a:ext cx="834840" cy="16488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299880" y="160200"/>
                  <a:ext cx="1503360" cy="16524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1968480" y="76320"/>
                <a:ext cx="1673280" cy="333360"/>
                <a:chOff x="1968480" y="76320"/>
                <a:chExt cx="1673280" cy="33336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2806560" y="76320"/>
                  <a:ext cx="835200" cy="16488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2806560" y="244440"/>
                  <a:ext cx="835200" cy="16524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1968480" y="244440"/>
                  <a:ext cx="835200" cy="16524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1968480" y="76320"/>
                  <a:ext cx="835200" cy="16488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052720" y="160200"/>
                  <a:ext cx="1504800" cy="16524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3720960" y="76320"/>
                <a:ext cx="1673280" cy="333360"/>
                <a:chOff x="3720960" y="76320"/>
                <a:chExt cx="1673280" cy="33336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4559400" y="76320"/>
                  <a:ext cx="834840" cy="16488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4559400" y="244440"/>
                  <a:ext cx="834840" cy="16524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720960" y="244440"/>
                  <a:ext cx="835200" cy="16524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720960" y="76320"/>
                  <a:ext cx="835200" cy="16488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805200" y="160200"/>
                  <a:ext cx="1505160" cy="16524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5473800" y="76320"/>
                <a:ext cx="1673280" cy="333360"/>
                <a:chOff x="5473800" y="76320"/>
                <a:chExt cx="1673280" cy="33336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6311880" y="76320"/>
                  <a:ext cx="835200" cy="16488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311880" y="244440"/>
                  <a:ext cx="835200" cy="16524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5473800" y="244440"/>
                  <a:ext cx="834840" cy="16524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5473800" y="76320"/>
                  <a:ext cx="834840" cy="16488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557680" y="160200"/>
                  <a:ext cx="1503360" cy="16524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"/>
              <p:cNvGrpSpPr/>
              <p:nvPr/>
            </p:nvGrpSpPr>
            <p:grpSpPr>
              <a:xfrm>
                <a:off x="7226280" y="76320"/>
                <a:ext cx="1673280" cy="333360"/>
                <a:chOff x="7226280" y="76320"/>
                <a:chExt cx="1673280" cy="333360"/>
              </a:xfrm>
            </p:grpSpPr>
            <p:sp>
              <p:nvSpPr>
                <p:cNvPr id="32" name=""/>
                <p:cNvSpPr/>
                <p:nvPr/>
              </p:nvSpPr>
              <p:spPr>
                <a:xfrm>
                  <a:off x="8064360" y="76320"/>
                  <a:ext cx="835200" cy="16488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064360" y="244440"/>
                  <a:ext cx="835200" cy="16524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7226280" y="244440"/>
                  <a:ext cx="835200" cy="16524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7226280" y="76320"/>
                  <a:ext cx="835200" cy="16488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310520" y="160200"/>
                  <a:ext cx="1504800" cy="16524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"/>
            <p:cNvGrpSpPr/>
            <p:nvPr/>
          </p:nvGrpSpPr>
          <p:grpSpPr>
            <a:xfrm>
              <a:off x="304920" y="6783480"/>
              <a:ext cx="8454960" cy="71280"/>
              <a:chOff x="304920" y="6783480"/>
              <a:chExt cx="8454960" cy="71280"/>
            </a:xfrm>
          </p:grpSpPr>
          <p:grpSp>
            <p:nvGrpSpPr>
              <p:cNvPr id="38" name=""/>
              <p:cNvGrpSpPr/>
              <p:nvPr/>
            </p:nvGrpSpPr>
            <p:grpSpPr>
              <a:xfrm>
                <a:off x="304920" y="6783480"/>
                <a:ext cx="987480" cy="71280"/>
                <a:chOff x="304920" y="6783480"/>
                <a:chExt cx="987480" cy="71280"/>
              </a:xfrm>
            </p:grpSpPr>
            <p:sp>
              <p:nvSpPr>
                <p:cNvPr id="39" name=""/>
                <p:cNvSpPr/>
                <p:nvPr/>
              </p:nvSpPr>
              <p:spPr>
                <a:xfrm>
                  <a:off x="800280" y="6783480"/>
                  <a:ext cx="492120" cy="7128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304920" y="6783480"/>
                  <a:ext cx="492120" cy="7128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1371600" y="6783480"/>
                <a:ext cx="987480" cy="71280"/>
                <a:chOff x="1371600" y="6783480"/>
                <a:chExt cx="987480" cy="7128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1866960" y="6783480"/>
                  <a:ext cx="492120" cy="7128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1371600" y="6783480"/>
                  <a:ext cx="492120" cy="7128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2438280" y="6783480"/>
                <a:ext cx="987480" cy="71280"/>
                <a:chOff x="2438280" y="6783480"/>
                <a:chExt cx="987480" cy="7128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2933640" y="6783480"/>
                  <a:ext cx="492120" cy="7128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438280" y="6783480"/>
                  <a:ext cx="492120" cy="7128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3505320" y="6783480"/>
                <a:ext cx="987480" cy="71280"/>
                <a:chOff x="3505320" y="6783480"/>
                <a:chExt cx="987480" cy="7128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000680" y="6783480"/>
                  <a:ext cx="492120" cy="7128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505320" y="6783480"/>
                  <a:ext cx="492120" cy="7128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4572000" y="6783480"/>
                <a:ext cx="987480" cy="71280"/>
                <a:chOff x="4572000" y="6783480"/>
                <a:chExt cx="987480" cy="7128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5067360" y="6783480"/>
                  <a:ext cx="492120" cy="7128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572000" y="6783480"/>
                  <a:ext cx="492120" cy="7128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5638680" y="6783480"/>
                <a:ext cx="987480" cy="71280"/>
                <a:chOff x="5638680" y="6783480"/>
                <a:chExt cx="987480" cy="7128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6134040" y="6783480"/>
                  <a:ext cx="492120" cy="7128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638680" y="6783480"/>
                  <a:ext cx="492120" cy="7128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6705720" y="6783480"/>
                <a:ext cx="987480" cy="71280"/>
                <a:chOff x="6705720" y="6783480"/>
                <a:chExt cx="987480" cy="7128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7201080" y="6783480"/>
                  <a:ext cx="492120" cy="7128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705720" y="6783480"/>
                  <a:ext cx="492120" cy="7128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7772400" y="6783480"/>
                <a:ext cx="987480" cy="71280"/>
                <a:chOff x="7772400" y="6783480"/>
                <a:chExt cx="987480" cy="7128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267760" y="6783480"/>
                  <a:ext cx="492120" cy="7128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772400" y="6783480"/>
                  <a:ext cx="492120" cy="7128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097920" cy="6486480"/>
            <a:chOff x="0" y="108000"/>
            <a:chExt cx="9097920" cy="6486480"/>
          </a:xfrm>
        </p:grpSpPr>
        <p:sp>
          <p:nvSpPr>
            <p:cNvPr id="99" name=""/>
            <p:cNvSpPr/>
            <p:nvPr/>
          </p:nvSpPr>
          <p:spPr>
            <a:xfrm>
              <a:off x="0" y="93636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1731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55672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3516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1770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9726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5799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5944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6800" y="2282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62040" y="2282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62040" y="102348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6800" y="102348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5720" y="93636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5600" y="93636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95600" y="1731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5720" y="1731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6800" y="185040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62040" y="185040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2040" y="26456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800" y="26456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5720" y="255672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95600" y="255672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95600" y="33516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5720" y="33516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6800" y="34693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62040" y="34693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2040" y="426456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6800" y="426456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5720" y="41770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5600" y="41770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95600" y="49726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5720" y="49726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6800" y="50911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50911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58867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6800" y="58867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720" y="5799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5600" y="5799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5600" y="65944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5720" y="65944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2040" y="2282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57640" y="2282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7640" y="102348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62040" y="102348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50960" y="93636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90840" y="93636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90840" y="1731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0960" y="1731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2040" y="185040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7640" y="185040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57640" y="26456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62040" y="26456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0960" y="255672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90840" y="255672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90840" y="33516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50960" y="33516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62040" y="34693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57640" y="34693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7640" y="426456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62040" y="426456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0960" y="41770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840" y="41770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90840" y="49726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0960" y="49726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2040" y="50911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57640" y="50911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57640" y="58867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62040" y="58867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50960" y="5799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90840" y="5799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90840" y="65944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50960" y="65944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7640" y="2282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2880" y="2282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102348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57640" y="102348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6560" y="93636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86440" y="93636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6440" y="1731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6560" y="1731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57640" y="185040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2880" y="185040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2880" y="26456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57640" y="26456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46560" y="255672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86440" y="255672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86440" y="33516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6560" y="33516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7640" y="34693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34693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426456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57640" y="426456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46560" y="41770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86440" y="41770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86440" y="49726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46560" y="49726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57640" y="50911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2880" y="50911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52880" y="58867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7640" y="58867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46560" y="5799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86440" y="5799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86440" y="65944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6560" y="65944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53240" y="2282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48480" y="2282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48480" y="102348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53240" y="102348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2160" y="93636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81680" y="93636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1731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2160" y="1731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53240" y="185040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48480" y="185040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48480" y="26456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3240" y="26456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42160" y="255672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255672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33516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2160" y="33516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53240" y="34693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48480" y="34693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8480" y="426456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53240" y="426456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42160" y="41770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41770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81680" y="49726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2160" y="49726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53240" y="50911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48480" y="50911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48480" y="58867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3240" y="58867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42160" y="5799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5799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81680" y="65944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2160" y="65944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8480" y="2282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44080" y="2282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44080" y="102348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48480" y="102348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7400" y="93636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77280" y="93636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77280" y="1731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37400" y="1731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48480" y="185040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44080" y="185040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44080" y="26456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48480" y="26456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37400" y="255672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77280" y="255672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77280" y="33516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7400" y="33516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48480" y="34693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44080" y="34693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44080" y="426456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48480" y="426456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37400" y="41770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77280" y="41770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77280" y="49726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37400" y="49726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8480" y="50911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44080" y="50911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44080" y="58867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48480" y="58867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7400" y="5799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77280" y="5799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77280" y="65944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37400" y="65944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0" y="1080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0400" y="1080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00280" y="1080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6000" y="1080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95520" y="1080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51240" y="1080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91120" y="1080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6840" y="1080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6720" y="1080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2080" y="1080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81960" y="1080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33520" y="1905120"/>
            <a:ext cx="8074080" cy="1673280"/>
            <a:chOff x="533520" y="1905120"/>
            <a:chExt cx="8074080" cy="1673280"/>
          </a:xfrm>
        </p:grpSpPr>
        <p:sp>
          <p:nvSpPr>
            <p:cNvPr id="279" name=""/>
            <p:cNvSpPr/>
            <p:nvPr/>
          </p:nvSpPr>
          <p:spPr>
            <a:xfrm>
              <a:off x="4572000" y="1905120"/>
              <a:ext cx="4035600" cy="8348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0" y="2743200"/>
              <a:ext cx="4035600" cy="83520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3520" y="2743200"/>
              <a:ext cx="4035240" cy="8352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520" y="1905120"/>
              <a:ext cx="4035240" cy="83484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2057400"/>
              <a:ext cx="7769160" cy="136836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04920" y="6783480"/>
            <a:ext cx="8454960" cy="71280"/>
            <a:chOff x="304920" y="6783480"/>
            <a:chExt cx="8454960" cy="71280"/>
          </a:xfrm>
        </p:grpSpPr>
        <p:sp>
          <p:nvSpPr>
            <p:cNvPr id="285" name=""/>
            <p:cNvSpPr/>
            <p:nvPr/>
          </p:nvSpPr>
          <p:spPr>
            <a:xfrm>
              <a:off x="800280" y="6783480"/>
              <a:ext cx="492120" cy="712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04920" y="6783480"/>
              <a:ext cx="492120" cy="71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66960" y="6783480"/>
              <a:ext cx="492120" cy="712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371600" y="6783480"/>
              <a:ext cx="492120" cy="712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3640" y="6783480"/>
              <a:ext cx="492120" cy="712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438280" y="6783480"/>
              <a:ext cx="492120" cy="71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00680" y="6783480"/>
              <a:ext cx="492120" cy="712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6783480"/>
              <a:ext cx="492120" cy="712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67360" y="6783480"/>
              <a:ext cx="492120" cy="712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572000" y="6783480"/>
              <a:ext cx="492120" cy="71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34040" y="6783480"/>
              <a:ext cx="492120" cy="712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38680" y="6783480"/>
              <a:ext cx="492120" cy="712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01080" y="6783480"/>
              <a:ext cx="492120" cy="712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05720" y="6783480"/>
              <a:ext cx="492120" cy="71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267760" y="6783480"/>
              <a:ext cx="492120" cy="712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72400" y="6783480"/>
              <a:ext cx="492120" cy="712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7BCAC-C4D8-41E4-9486-3B232ECDE8AA}" type="slidenum">
              <a:rPr b="0" lang="ru-RU" sz="1400" spc="-1" strike="noStrike">
                <a:solidFill>
                  <a:srgbClr val="8383ad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0" y="108000"/>
            <a:ext cx="9097920" cy="6486480"/>
            <a:chOff x="0" y="108000"/>
            <a:chExt cx="9097920" cy="6486480"/>
          </a:xfrm>
        </p:grpSpPr>
        <p:sp>
          <p:nvSpPr>
            <p:cNvPr id="344" name=""/>
            <p:cNvSpPr/>
            <p:nvPr/>
          </p:nvSpPr>
          <p:spPr>
            <a:xfrm>
              <a:off x="0" y="93636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0" y="1731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0" y="255672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0" y="33516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0" y="41770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0" y="49726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0" y="5799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0" y="65944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66800" y="2282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62040" y="2282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62040" y="102348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66800" y="102348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55720" y="93636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95600" y="93636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95600" y="1731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55720" y="1731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66800" y="185040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62040" y="185040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62040" y="26456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6800" y="26456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55720" y="255672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95600" y="255672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95600" y="33516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55720" y="33516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66800" y="34693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562040" y="34693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562040" y="426456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66800" y="426456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55720" y="41770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95600" y="41770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95600" y="49726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55720" y="49726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6800" y="50911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562040" y="50911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562040" y="58867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66800" y="58867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55720" y="5799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95600" y="5799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695600" y="65944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55720" y="65944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62040" y="2282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57640" y="2282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257640" y="102348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62040" y="102348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50960" y="93636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390840" y="93636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390840" y="1731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50960" y="1731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462040" y="185040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57640" y="185040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57640" y="26456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62040" y="26456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50960" y="255672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390840" y="255672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390840" y="33516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550960" y="33516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62040" y="34693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57640" y="34693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257640" y="426456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62040" y="426456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550960" y="41770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390840" y="41770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390840" y="49726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550960" y="49726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62040" y="50911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57640" y="50911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257640" y="58867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62040" y="58867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550960" y="5799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390840" y="5799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390840" y="65944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550960" y="65944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57640" y="2282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952880" y="2282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952880" y="102348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57640" y="102348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46560" y="93636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86440" y="93636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086440" y="1731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46560" y="1731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57640" y="185040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52880" y="185040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952880" y="26456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157640" y="26456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46560" y="255672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086440" y="255672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086440" y="33516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246560" y="33516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157640" y="34693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952880" y="34693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952880" y="426456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57640" y="426456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246560" y="41770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086440" y="41770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86440" y="49726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46560" y="49726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57640" y="50911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952880" y="50911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52880" y="58867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157640" y="58867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246560" y="5799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086440" y="5799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086440" y="65944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46560" y="65944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853240" y="2282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48480" y="2282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648480" y="102348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853240" y="102348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942160" y="93636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81680" y="93636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81680" y="1731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942160" y="1731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853240" y="185040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648480" y="185040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48480" y="26456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853240" y="26456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42160" y="255672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781680" y="255672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781680" y="33516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42160" y="33516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853240" y="34693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648480" y="34693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648480" y="426456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53240" y="426456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942160" y="41770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781680" y="41770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781680" y="49726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942160" y="49726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853240" y="50911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648480" y="50911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648480" y="58867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853240" y="58867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2160" y="5799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781680" y="5799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781680" y="65944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942160" y="65944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548480" y="2282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44080" y="2282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344080" y="102348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48480" y="102348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637400" y="93636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477280" y="93636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477280" y="1731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37400" y="1731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548480" y="185040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344080" y="185040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44080" y="26456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48480" y="26456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637400" y="255672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477280" y="255672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477280" y="33516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637400" y="33516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548480" y="34693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344080" y="34693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344080" y="426456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548480" y="426456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637400" y="41770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477280" y="41770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477280" y="49726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37400" y="49726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548480" y="50911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344080" y="50911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344080" y="58867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548480" y="58867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37400" y="5799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477280" y="5799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477280" y="65944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637400" y="65944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680" y="1080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60400" y="1080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700280" y="1080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556000" y="1080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395520" y="1080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251240" y="1080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091120" y="1080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946840" y="1080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786720" y="1080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642080" y="1080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481960" y="1080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533520" y="1905120"/>
            <a:ext cx="8074080" cy="1673280"/>
            <a:chOff x="533520" y="1905120"/>
            <a:chExt cx="8074080" cy="1673280"/>
          </a:xfrm>
        </p:grpSpPr>
        <p:sp>
          <p:nvSpPr>
            <p:cNvPr id="524" name=""/>
            <p:cNvSpPr/>
            <p:nvPr/>
          </p:nvSpPr>
          <p:spPr>
            <a:xfrm>
              <a:off x="4572000" y="1905120"/>
              <a:ext cx="4035600" cy="8348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72000" y="2743200"/>
              <a:ext cx="4035600" cy="83520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3520" y="2743200"/>
              <a:ext cx="4035240" cy="8352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33520" y="1905120"/>
              <a:ext cx="4035240" cy="83484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85800" y="2057400"/>
              <a:ext cx="7769160" cy="136836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304920" y="6783480"/>
            <a:ext cx="8454960" cy="71280"/>
            <a:chOff x="304920" y="6783480"/>
            <a:chExt cx="8454960" cy="71280"/>
          </a:xfrm>
        </p:grpSpPr>
        <p:sp>
          <p:nvSpPr>
            <p:cNvPr id="530" name=""/>
            <p:cNvSpPr/>
            <p:nvPr/>
          </p:nvSpPr>
          <p:spPr>
            <a:xfrm>
              <a:off x="800280" y="6783480"/>
              <a:ext cx="492120" cy="712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04920" y="6783480"/>
              <a:ext cx="492120" cy="71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866960" y="6783480"/>
              <a:ext cx="492120" cy="712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371600" y="6783480"/>
              <a:ext cx="492120" cy="712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933640" y="6783480"/>
              <a:ext cx="492120" cy="712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438280" y="6783480"/>
              <a:ext cx="492120" cy="71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000680" y="6783480"/>
              <a:ext cx="492120" cy="712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505320" y="6783480"/>
              <a:ext cx="492120" cy="712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067360" y="6783480"/>
              <a:ext cx="492120" cy="712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572000" y="6783480"/>
              <a:ext cx="492120" cy="71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134040" y="6783480"/>
              <a:ext cx="492120" cy="712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38680" y="6783480"/>
              <a:ext cx="492120" cy="712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01080" y="6783480"/>
              <a:ext cx="492120" cy="712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705720" y="6783480"/>
              <a:ext cx="492120" cy="71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267760" y="6783480"/>
              <a:ext cx="492120" cy="712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772400" y="6783480"/>
              <a:ext cx="492120" cy="712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44104-7538-4AFD-A777-8B83A48E049A}" type="slidenum">
              <a:rPr b="0" lang="ru-RU" sz="1400" spc="-1" strike="noStrike">
                <a:solidFill>
                  <a:srgbClr val="8383ad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576360" y="1944720"/>
            <a:ext cx="79200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04176"/>
                </a:solidFill>
                <a:latin typeface="Times New Roman"/>
              </a:rPr>
              <a:t>Музыкальная живопись и живописная музыка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04176"/>
                </a:solidFill>
                <a:latin typeface="Times New Roman"/>
              </a:rPr>
              <a:t>Урок музыки в 5 классе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04176"/>
                </a:solidFill>
                <a:latin typeface="Times New Roman"/>
              </a:rPr>
              <a:t>Выполнила Посадских М.А.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04176"/>
                </a:solidFill>
                <a:latin typeface="Times New Roman"/>
              </a:rPr>
              <a:t>МОУ «СОШ № 32 г. Магнитогорска»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685800" y="35712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8397e"/>
                </a:solidFill>
                <a:latin typeface="Times New Roman"/>
              </a:rPr>
              <a:t>В. Борисов - Мусатов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1000080" y="1643040"/>
            <a:ext cx="7143840" cy="49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500040" y="609480"/>
            <a:ext cx="795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Рассмотрите картину Борисова-Мусатова «Водоём». Представьте, что она звучит, какую музыку вы слышите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428760" y="2071800"/>
            <a:ext cx="3809880" cy="318132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SzPct val="136783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8383ad"/>
                </a:solidFill>
                <a:latin typeface="Times New Roman"/>
              </a:rPr>
              <a:t>Послушаем романс С.В.Рахманинова «Островок»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SzPct val="136783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8383ad"/>
                </a:solidFill>
                <a:latin typeface="Times New Roman"/>
              </a:rPr>
              <a:t>Какими средствами выразительности  пользуется композитор, чтобы создать определенный образ? (мелодия, характер, темп, его изменения, лад, регистр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0" y="428760"/>
            <a:ext cx="91440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8397e"/>
                </a:solidFill>
                <a:latin typeface="Times New Roman"/>
              </a:rPr>
              <a:t>Мои помыслы – краски, мои краски – напевы…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1357200" y="1450800"/>
            <a:ext cx="6286680" cy="524988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2"/>
          <a:stretch/>
        </p:blipFill>
        <p:spPr>
          <a:xfrm>
            <a:off x="850104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8146800" cy="61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571680" y="609480"/>
            <a:ext cx="78865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176"/>
                </a:solidFill>
                <a:latin typeface="Times New Roman"/>
              </a:rPr>
              <a:t>Прочитайте стихотворение. Опишите словами, какую музыку вы  бы сочинили, если бы были композитором? (темп, лад, динамика, мелодия, характер…). Запишите в тетрадь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500040" y="2500200"/>
            <a:ext cx="3809880" cy="317988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2"/>
          <a:stretch/>
        </p:blipFill>
        <p:spPr>
          <a:xfrm>
            <a:off x="5213520" y="2000160"/>
            <a:ext cx="3073320" cy="457848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647640" y="720720"/>
            <a:ext cx="79200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Вопросы :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Чем похожи музыкальный пейзаж и живописный?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А чем они отличаются?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Назовите средства, с помощью которых создают пейзажи художники и композиторы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Цель: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04176"/>
                </a:solidFill>
                <a:latin typeface="Times New Roman"/>
              </a:rPr>
              <a:t>Дать понятие «музыкальный пейзаж»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04176"/>
                </a:solidFill>
                <a:latin typeface="Times New Roman"/>
              </a:rPr>
              <a:t>Расширить представления учащихся о взаимосвязи музыки и изобразительного искусства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Музыка часто вызывает в нашем воображении картины природы. Природа и искусство неразделимы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179280" y="1482840"/>
            <a:ext cx="3313080" cy="225252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4859280" y="1773360"/>
            <a:ext cx="3868920" cy="468000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3"/>
          <a:stretch/>
        </p:blipFill>
        <p:spPr>
          <a:xfrm>
            <a:off x="826920" y="3933720"/>
            <a:ext cx="3197520" cy="28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395280" y="26028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Художники, поэты, композиторы воспевают красоту родного края в своих произведениях. Природа глубоко проникает в искусство, так тесно они связаны друг с другом.</a:t>
            </a:r>
            <a:br>
              <a:rPr sz="2800"/>
            </a:b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977760" y="2276640"/>
            <a:ext cx="7086600" cy="39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250920" y="0"/>
            <a:ext cx="5689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Вопрос: </a:t>
            </a:r>
            <a:br>
              <a:rPr sz="4400"/>
            </a:b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как в изобразительном искусстве называется жанр живописи, изображающий картины природы?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324000" y="3581280"/>
            <a:ext cx="3433680" cy="280368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2"/>
          <a:stretch/>
        </p:blipFill>
        <p:spPr>
          <a:xfrm>
            <a:off x="5940360" y="620640"/>
            <a:ext cx="2952720" cy="196236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5148360" y="522936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04176"/>
                </a:solidFill>
                <a:latin typeface="Arial"/>
              </a:rPr>
              <a:t>Пейзаж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Э.Успенский «О картинах»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1989000"/>
            <a:ext cx="44956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Если видишь: на картине нарисована река,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Или ель и белый иней, или сад и облака,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Или снежная равнина, или поле и шалаш,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Обязательно картина называется -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4648320" y="2155680"/>
            <a:ext cx="4244760" cy="341496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2771640" y="558972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8383ad"/>
                </a:solidFill>
                <a:latin typeface="Arial"/>
              </a:rPr>
              <a:t>ПЕЙЗАЖ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dur="indefinite" fill="hold">
                      <p:stCondLst>
                        <p:cond delay="0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648320" y="692280"/>
            <a:ext cx="38098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Если видишь на картине чашку кофе на столе,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Или морс в большом графине, или розу в хрустале,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Или бронзовую вазу, или грушу, или торт,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Или все предметы сразу,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Знай, что это –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179280" y="2198520"/>
            <a:ext cx="4321440" cy="329904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4716360" y="57340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8383ad"/>
                </a:solidFill>
                <a:latin typeface="Arial"/>
              </a:rPr>
              <a:t>НАТЮРМОРТ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dur="indefinite" fill="hold">
                      <p:stCondLst>
                        <p:cond delay="0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0" y="620640"/>
            <a:ext cx="431640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Если видишь, что с картины смотрит кто-нибудь на нас,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Или принц в плаще старинном, или в робе верхолаз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Летчик или балерина, или Колька, твой сосед,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Обязательно картина называется –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5724360" y="3213000"/>
            <a:ext cx="2695680" cy="338472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4427640" y="189000"/>
            <a:ext cx="2311200" cy="295272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611280" y="501336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404176"/>
                </a:solidFill>
                <a:latin typeface="Arial"/>
              </a:rPr>
              <a:t>ПОРТРЕТ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dur="indefinite" fill="hold">
                      <p:stCondLst>
                        <p:cond delay="0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685800" y="609480"/>
            <a:ext cx="77724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В музыке тоже есть пейзажи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57120" y="1571760"/>
            <a:ext cx="850104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404176"/>
                </a:solidFill>
                <a:latin typeface="Times New Roman"/>
              </a:rPr>
              <a:t>Музыкальный пейзаж - </a:t>
            </a: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это пейзаж настроения, в котором выразительность интонаций сливается с изобразительными подробностями музыкального языка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У музыки есть свои художественные средства, с помощью которых она изображает жизнь: темп, тембр, регистр, лад, ритм и динамика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Задание: повторите значения этих терминов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9-06-11T05:01:28Z</dcterms:modified>
  <cp:revision>39</cp:revision>
  <dc:subject/>
  <dc:title>PowerPoint Presentation</dc:title>
</cp:coreProperties>
</file>