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jpeg" ContentType="image/jpeg"/>
  <Override PartName="/ppt/media/image1.gif" ContentType="image/gif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26246-4F0C-4815-9FEE-68F04F82B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3E356-6D64-46F8-B21D-5FD027F68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90BC-DE51-4C1B-9626-7E88D8E51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B4E3-8B61-4F3A-93C5-1125F2A1D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20D10-9D44-4437-BDC4-DA8BB1C9E0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BE177-51F0-46CF-8D50-4B00CB457C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4A128-29D5-4310-A3CC-3DA8733CB1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D2051-D0A4-4E9A-BB1F-45BE12873A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895DD-0D23-4FAC-8C4D-F7E49B6549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18FCE-5166-4E13-93D4-95A9B6F32B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44DB8-0601-4974-9030-3A8C6ECB2B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5F39F-F5B4-43F5-AC3F-F7B75E142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425F2-1C16-4D16-A0AB-BAC14D72BE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A1AA9-9675-465D-A91C-E0141D150B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3AD14-FC78-4D2E-8E7E-301780B06F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BA6FE-5300-497D-90CB-5A8CB45410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A0490-BCAF-4B64-9CF2-BCB4C03050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939-9314-403E-8B54-9828E6E374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1E6-7133-462A-A62C-BD2B2235DF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EE6-6D72-4606-97D9-82931DED02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980-0593-4008-8A7B-B55D44D8F4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9C2B-8565-47D9-B8B9-8071C89707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65A0F-EBC0-4E14-8986-BB67E75EB5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6F4-BCB9-4BF9-96FB-A5C09BF6B0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7E27-C16E-4332-B6A2-D24F28E52C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2456-599B-45A9-8BCF-24AEBBDD84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2CE-2BB4-4139-98BE-E6FDF41241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E39-738C-4B3B-9B6F-ED5BCCD227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34D-FDED-4632-99C7-FFC77DC233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F30-6E2B-4A5B-9D5B-192CAFA3D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EBE8-83AB-4E82-9727-4D45F14B3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162E-D166-4F3E-9D6A-8D7E88AC0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260D-06BB-4333-8A2B-50BE6B955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C195-DD21-483C-B63C-A5AFC26B4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4FA9-BDB3-4CAC-9371-CDA4F819CC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73346-4CF3-43EE-AE23-D2B055FD9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49F3E-D9C4-48B9-BF0F-D329E9D0CF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3560" cy="6778440"/>
            <a:chOff x="216000" y="76320"/>
            <a:chExt cx="8683560" cy="677844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3560" cy="333360"/>
              <a:chOff x="216000" y="76320"/>
              <a:chExt cx="8683560" cy="33336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3280" cy="333360"/>
                <a:chOff x="216000" y="76320"/>
                <a:chExt cx="1673280" cy="33336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5200" cy="1648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440"/>
                  <a:ext cx="835200" cy="16524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440"/>
                  <a:ext cx="834840" cy="1652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4840" cy="1648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3360" cy="16524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3280" cy="333360"/>
                <a:chOff x="1968480" y="76320"/>
                <a:chExt cx="1673280" cy="33336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560" y="76320"/>
                  <a:ext cx="835200" cy="1648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560" y="244440"/>
                  <a:ext cx="835200" cy="16524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440"/>
                  <a:ext cx="835200" cy="1652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5200" cy="1648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720" y="160200"/>
                  <a:ext cx="1504800" cy="16524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3280" cy="333360"/>
                <a:chOff x="3720960" y="76320"/>
                <a:chExt cx="1673280" cy="33336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4840" cy="1648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440"/>
                  <a:ext cx="834840" cy="16524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440"/>
                  <a:ext cx="835200" cy="1652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5200" cy="1648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5200" y="160200"/>
                  <a:ext cx="1505160" cy="16524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3280" cy="333360"/>
                <a:chOff x="5473800" y="76320"/>
                <a:chExt cx="1673280" cy="33336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5200" cy="1648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440"/>
                  <a:ext cx="835200" cy="16524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440"/>
                  <a:ext cx="834840" cy="1652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4840" cy="1648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3360" cy="16524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3280" cy="333360"/>
                <a:chOff x="7226280" y="76320"/>
                <a:chExt cx="1673280" cy="33336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360" y="76320"/>
                  <a:ext cx="835200" cy="1648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360" y="244440"/>
                  <a:ext cx="835200" cy="16524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440"/>
                  <a:ext cx="835200" cy="16524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5200" cy="1648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520" y="160200"/>
                  <a:ext cx="1504800" cy="16524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4960" cy="71280"/>
              <a:chOff x="304920" y="6783480"/>
              <a:chExt cx="8454960" cy="7128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87480" cy="71280"/>
                <a:chOff x="304920" y="6783480"/>
                <a:chExt cx="987480" cy="7128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800280" y="6783480"/>
                  <a:ext cx="492120" cy="712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2120" cy="712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87480" cy="71280"/>
                <a:chOff x="1371600" y="6783480"/>
                <a:chExt cx="987480" cy="7128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2120" cy="712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2120" cy="712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87480" cy="71280"/>
                <a:chOff x="2438280" y="6783480"/>
                <a:chExt cx="987480" cy="7128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2120" cy="712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2120" cy="712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87480" cy="71280"/>
                <a:chOff x="3505320" y="6783480"/>
                <a:chExt cx="987480" cy="712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680" y="6783480"/>
                  <a:ext cx="492120" cy="712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2120" cy="712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87480" cy="71280"/>
                <a:chOff x="4572000" y="6783480"/>
                <a:chExt cx="987480" cy="7128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2120" cy="712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2120" cy="712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87480" cy="71280"/>
                <a:chOff x="5638680" y="6783480"/>
                <a:chExt cx="987480" cy="712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2120" cy="712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2120" cy="712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87480" cy="71280"/>
                <a:chOff x="6705720" y="6783480"/>
                <a:chExt cx="987480" cy="7128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1080" y="6783480"/>
                  <a:ext cx="492120" cy="7128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2120" cy="7128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87480" cy="71280"/>
                <a:chOff x="7772400" y="6783480"/>
                <a:chExt cx="987480" cy="7128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2120" cy="712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2120" cy="7128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097920" cy="6486480"/>
            <a:chOff x="0" y="108000"/>
            <a:chExt cx="9097920" cy="6486480"/>
          </a:xfrm>
        </p:grpSpPr>
        <p:sp>
          <p:nvSpPr>
            <p:cNvPr id="99" name=""/>
            <p:cNvSpPr/>
            <p:nvPr/>
          </p:nvSpPr>
          <p:spPr>
            <a:xfrm>
              <a:off x="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4080" cy="1673280"/>
            <a:chOff x="533520" y="1905120"/>
            <a:chExt cx="8074080" cy="167328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5600" cy="8348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5600" cy="83520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5240" cy="8352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5240" cy="83484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69160" cy="13683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04920" y="6783480"/>
            <a:ext cx="8454960" cy="71280"/>
            <a:chOff x="304920" y="6783480"/>
            <a:chExt cx="8454960" cy="71280"/>
          </a:xfrm>
        </p:grpSpPr>
        <p:sp>
          <p:nvSpPr>
            <p:cNvPr id="285" name=""/>
            <p:cNvSpPr/>
            <p:nvPr/>
          </p:nvSpPr>
          <p:spPr>
            <a:xfrm>
              <a:off x="800280" y="6783480"/>
              <a:ext cx="492120" cy="712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4920" y="6783480"/>
              <a:ext cx="492120" cy="71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66960" y="6783480"/>
              <a:ext cx="492120" cy="712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71600" y="6783480"/>
              <a:ext cx="492120" cy="712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3640" y="6783480"/>
              <a:ext cx="492120" cy="712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438280" y="6783480"/>
              <a:ext cx="492120" cy="71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00680" y="6783480"/>
              <a:ext cx="492120" cy="712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6783480"/>
              <a:ext cx="492120" cy="712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67360" y="6783480"/>
              <a:ext cx="492120" cy="712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72000" y="6783480"/>
              <a:ext cx="492120" cy="71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34040" y="6783480"/>
              <a:ext cx="492120" cy="712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38680" y="6783480"/>
              <a:ext cx="492120" cy="712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01080" y="6783480"/>
              <a:ext cx="492120" cy="712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05720" y="6783480"/>
              <a:ext cx="492120" cy="71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67760" y="6783480"/>
              <a:ext cx="492120" cy="712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72400" y="6783480"/>
              <a:ext cx="492120" cy="712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3D9CB-C91D-4A5D-B265-04A21EE34B5A}" type="slidenum">
              <a:rPr b="0" lang="ru-RU" sz="1400" spc="-1" strike="noStrike">
                <a:solidFill>
                  <a:srgbClr val="8383ad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0" y="108000"/>
            <a:ext cx="9097920" cy="6486480"/>
            <a:chOff x="0" y="108000"/>
            <a:chExt cx="9097920" cy="6486480"/>
          </a:xfrm>
        </p:grpSpPr>
        <p:sp>
          <p:nvSpPr>
            <p:cNvPr id="344" name=""/>
            <p:cNvSpPr/>
            <p:nvPr/>
          </p:nvSpPr>
          <p:spPr>
            <a:xfrm>
              <a:off x="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680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6204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6204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680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572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9560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9560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5572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680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6204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6204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680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5572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9560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9560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5572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680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6204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6204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680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5572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9560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9560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5572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680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6204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6204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680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5572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9560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9560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5572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6204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5764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5764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6204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5096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9084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9084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5096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46204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5764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5764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6204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5096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9084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9084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5096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6204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5764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5764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6204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5096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9084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9084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5096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6204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5764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5764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6204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5096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9084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9084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5096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5764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95288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5288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5764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4656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8644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8644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4656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5764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5288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5288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5764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4656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8644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8644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4656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5764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5288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5288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5764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4656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8644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8644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4656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5764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5288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5288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5764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4656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08644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08644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4656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5324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4848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64848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85324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4216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8168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8168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4216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5324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4848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4848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85324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216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8168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78168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216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5324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4848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4848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5324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4216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8168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8168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4216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85324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4848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4848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5324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216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78168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78168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216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4848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44080" y="2282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34408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8480" y="102348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3740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77280" y="93636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7728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37400" y="1731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4848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344080" y="185040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4408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48480" y="264564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3740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77280" y="255672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47728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637400" y="33516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4848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44080" y="34693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4408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548480" y="426456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3740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477280" y="41770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47728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37400" y="49726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54848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344080" y="50911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34408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548480" y="5886720"/>
              <a:ext cx="0" cy="61560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3740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477280" y="579924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47728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37400" y="659448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68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6040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0028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55600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39552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25124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9112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4684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8672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4208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481960" y="108000"/>
              <a:ext cx="615960" cy="0"/>
            </a:xfrm>
            <a:prstGeom prst="line">
              <a:avLst/>
            </a:prstGeom>
            <a:ln cap="sq"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533520" y="1905120"/>
            <a:ext cx="8074080" cy="1673280"/>
            <a:chOff x="533520" y="1905120"/>
            <a:chExt cx="8074080" cy="1673280"/>
          </a:xfrm>
        </p:grpSpPr>
        <p:sp>
          <p:nvSpPr>
            <p:cNvPr id="524" name=""/>
            <p:cNvSpPr/>
            <p:nvPr/>
          </p:nvSpPr>
          <p:spPr>
            <a:xfrm>
              <a:off x="4572000" y="1905120"/>
              <a:ext cx="4035600" cy="8348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72000" y="2743200"/>
              <a:ext cx="4035600" cy="83520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3520" y="2743200"/>
              <a:ext cx="4035240" cy="8352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3520" y="1905120"/>
              <a:ext cx="4035240" cy="83484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5800" y="2057400"/>
              <a:ext cx="7769160" cy="13683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304920" y="6783480"/>
            <a:ext cx="8454960" cy="71280"/>
            <a:chOff x="304920" y="6783480"/>
            <a:chExt cx="8454960" cy="71280"/>
          </a:xfrm>
        </p:grpSpPr>
        <p:sp>
          <p:nvSpPr>
            <p:cNvPr id="530" name=""/>
            <p:cNvSpPr/>
            <p:nvPr/>
          </p:nvSpPr>
          <p:spPr>
            <a:xfrm>
              <a:off x="800280" y="6783480"/>
              <a:ext cx="492120" cy="712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4920" y="6783480"/>
              <a:ext cx="492120" cy="71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66960" y="6783480"/>
              <a:ext cx="492120" cy="712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71600" y="6783480"/>
              <a:ext cx="492120" cy="712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33640" y="6783480"/>
              <a:ext cx="492120" cy="712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438280" y="6783480"/>
              <a:ext cx="492120" cy="71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00680" y="6783480"/>
              <a:ext cx="492120" cy="712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05320" y="6783480"/>
              <a:ext cx="492120" cy="712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67360" y="6783480"/>
              <a:ext cx="492120" cy="712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72000" y="6783480"/>
              <a:ext cx="492120" cy="71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34040" y="6783480"/>
              <a:ext cx="492120" cy="712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38680" y="6783480"/>
              <a:ext cx="492120" cy="712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01080" y="6783480"/>
              <a:ext cx="492120" cy="712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705720" y="6783480"/>
              <a:ext cx="492120" cy="71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267760" y="6783480"/>
              <a:ext cx="492120" cy="712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72400" y="6783480"/>
              <a:ext cx="492120" cy="712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33EE7-207C-48A9-814A-C6C50A6D4C5E}" type="slidenum">
              <a:rPr b="0" lang="ru-RU" sz="1400" spc="-1" strike="noStrike">
                <a:solidFill>
                  <a:srgbClr val="8383ad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76360" y="1944720"/>
            <a:ext cx="79200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Times New Roman"/>
              </a:rPr>
              <a:t>Музыкальная живопись и живописная музыка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Times New Roman"/>
              </a:rPr>
              <a:t>Урок музыки в 5 классе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Times New Roman"/>
              </a:rPr>
              <a:t>Выполнила Посадских М.А.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Times New Roman"/>
              </a:rPr>
              <a:t>МОУ «СОШ № 32 г. Магнитогорска»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68580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8397e"/>
                </a:solidFill>
                <a:latin typeface="Times New Roman"/>
              </a:rPr>
              <a:t>В. Борисов - Мусатов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000080" y="1643040"/>
            <a:ext cx="714384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500040" y="609480"/>
            <a:ext cx="795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Рассмотрите картину Борисова-Мусатова «Водоём». Представьте, что она звучит, какую музыку вы слышите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428760" y="2071800"/>
            <a:ext cx="3809880" cy="318132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SzPct val="136783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Times New Roman"/>
              </a:rPr>
              <a:t>Послушаем романс С.В.Рахманинова «Островок»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SzPct val="136783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Times New Roman"/>
              </a:rPr>
              <a:t>Какими средствами выразительности  пользуется композитор, чтобы создать определенный образ? (мелодия, характер, темп, его изменения, лад, регистр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428760"/>
            <a:ext cx="9144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8397e"/>
                </a:solidFill>
                <a:latin typeface="Times New Roman"/>
              </a:rPr>
              <a:t>Мои помыслы – краски, мои краски – напевы…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1357200" y="1450800"/>
            <a:ext cx="6286680" cy="52498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850104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146800" cy="61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571680" y="609480"/>
            <a:ext cx="78865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176"/>
                </a:solidFill>
                <a:latin typeface="Times New Roman"/>
              </a:rPr>
              <a:t>Прочитайте стихотворение. Опишите словами, какую музыку вы  бы сочинили, если бы были композитором? (темп, лад, динамика, мелодия, характер…). Запишите в тетрадь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500040" y="2500200"/>
            <a:ext cx="3809880" cy="317988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5213520" y="2000160"/>
            <a:ext cx="3073320" cy="457848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647640" y="720720"/>
            <a:ext cx="7920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Вопросы :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Чем похожи музыкальный пейзаж и живописный?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А чем они отличаются?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Назовите средства, с помощью которых создают пейзажи художники и композиторы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Цель: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Times New Roman"/>
              </a:rPr>
              <a:t>Дать понятие «музыкальный пейзаж»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Times New Roman"/>
              </a:rPr>
              <a:t>Расширить представления учащихся о взаимосвязи музыки и изобразительного искусств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Музыка часто вызывает в нашем воображении картины природы. Природа и искусство неразделимы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179280" y="1482840"/>
            <a:ext cx="3313080" cy="22525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3868920" cy="46800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3197520" cy="28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395280" y="26028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Художники, поэты, композиторы воспевают красоту родного края в своих произведениях. Природа глубоко проникает в искусство, так тесно они связаны друг с другом.</a:t>
            </a:r>
            <a:br>
              <a:rPr sz="2800"/>
            </a:b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977760" y="2276640"/>
            <a:ext cx="7086600" cy="39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250920" y="0"/>
            <a:ext cx="5689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Вопрос: </a:t>
            </a:r>
            <a:br>
              <a:rPr sz="4400"/>
            </a:b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как в изобразительном искусстве называется жанр живописи, изображающий картины природы?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324000" y="3581280"/>
            <a:ext cx="3433680" cy="280368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5940360" y="620640"/>
            <a:ext cx="2952720" cy="196236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5148360" y="5229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04176"/>
                </a:solidFill>
                <a:latin typeface="Arial"/>
              </a:rPr>
              <a:t>Пейзаж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Э.Успенский «О картинах»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1989000"/>
            <a:ext cx="44956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Если видишь: на картине нарисована река,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Или ель и белый иней, или сад и облака,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Или снежная равнина, или поле и шалаш,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Обязательно картина называется -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648320" y="2155680"/>
            <a:ext cx="4244760" cy="341496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2771640" y="55897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383ad"/>
                </a:solidFill>
                <a:latin typeface="Arial"/>
              </a:rPr>
              <a:t>ПЕЙЗАЖ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0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648320" y="692280"/>
            <a:ext cx="3809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Если видишь на картине чашку кофе на столе,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Или морс в большом графине, или розу в хрустале,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Или бронзовую вазу, или грушу, или торт,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Или все предметы сразу,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Знай, что это –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179280" y="2198520"/>
            <a:ext cx="4321440" cy="329904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4716360" y="57340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383ad"/>
                </a:solidFill>
                <a:latin typeface="Arial"/>
              </a:rPr>
              <a:t>НАТЮРМОРТ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0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620640"/>
            <a:ext cx="43164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Если видишь, что с картины смотрит кто-нибудь на нас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Или принц в плаще старинном, или в робе верхолаз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Летчик или балерина, или Колька, твой сосед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Times New Roman"/>
              </a:rPr>
              <a:t>Обязательно картина называется –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5724360" y="3213000"/>
            <a:ext cx="2695680" cy="33847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4427640" y="189000"/>
            <a:ext cx="2311200" cy="295272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611280" y="501336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404176"/>
                </a:solidFill>
                <a:latin typeface="Arial"/>
              </a:rPr>
              <a:t>ПОРТРЕТ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fill="hold">
                      <p:stCondLst>
                        <p:cond delay="0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85800" y="609480"/>
            <a:ext cx="77724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В музыке тоже есть пейзажи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57120" y="1571760"/>
            <a:ext cx="850104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Музыкальный пейзаж - </a:t>
            </a: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это пейзаж настроения, в котором выразительность интонаций сливается с изобразительными подробностями музыкального языка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У музыки есть свои художественные средства, с помощью которых она изображает жизнь: темп, тембр, регистр, лад, ритм и динамика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Задание: повторите значения этих терминов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9-06-11T05:01:28Z</dcterms:modified>
  <cp:revision>39</cp:revision>
  <dc:subject/>
  <dc:title>PowerPoint Presentation</dc:title>
</cp:coreProperties>
</file>