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BD1-DD03-4458-AC38-844E6AEB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BB4-3C06-4E44-96B2-3153CFA5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71F-FD18-4BB8-B2C3-7864EA31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F7C-E08E-42F5-A11A-7D802BCB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7E89-EA2A-4E3D-B491-46F5682A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A31C-B369-4C65-93B1-5CC7FBD1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E48D-FF3F-411E-A3F0-DB229F6E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27CB-894F-4A9E-879B-C797200D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FF8A-DB21-4C54-B57F-751584F1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CBF8-F883-4A1F-9A8D-C6888AD4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E603-1914-4627-9F17-4D1E2F58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081-47D7-425C-8732-F7CAD19B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6D15-311A-4FBA-A3AA-E31C425F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72D4-13AC-405F-B646-54D0D718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BE05-6773-41BF-BB99-1D6B9310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28CF-11C9-40E7-B4B9-9A81575A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E5D6-CED0-40FC-B409-3699D42B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3DD8-AA51-4A80-B47D-5E022091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029C9-5CE5-4078-9EE9-B3979F4D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BD261-42EA-4A79-91BC-ECE71EA7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3F7B-362F-43C5-8EEB-BCCD3BED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FCAC-AB9C-48F8-BBE1-3034D9A2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633-4F01-4CA8-BE6C-6CB99C4C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8CC99-EB92-4747-8CFE-C438610F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CB02E-0DF5-4869-BD44-DB711427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0D1B4-49B0-4886-8EC8-E9B4EC3F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03CDF-22E2-43E4-84BA-1372588F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4819-C29B-4041-A9F3-C50224B7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2E820-393B-488B-86F5-8873B141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F4389-9DAC-484F-8E7D-68DA7D23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889BC-5EF6-4F89-88D6-1122FDD0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B4ED7-4BED-4A38-980D-57410190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7C24D-3CF9-46EA-8320-76A2CFDC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B9B-CF15-4E1D-8896-CF699285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6A9A9-FF99-43A6-A886-EB1E8443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950D1-A1DB-41C8-B9F6-7D79BDF9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F878-D9FD-4782-886F-C6687D45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6F27F-329E-4A41-B04D-E0AAFDCB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3BFFA-1395-4632-ADAC-DE1C8559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3C56-D790-49E6-94DA-0AD0D885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9C00E-D7ED-4C65-9690-6F782FB0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6B7B2-69A3-4B9B-A9DE-AD456757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F99BF-39AA-493F-A91C-C99800F6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08CCC-D73B-4349-9AD9-18A94032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3079-97B5-4444-90F5-0943A080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F475C-7B11-4819-863A-19082F4D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72334-FC40-4C21-ADBD-5338781F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6207E-FCFB-4252-A800-6668BFAE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D6E49-C94E-430A-8E2D-AD5A5D0D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76E3B-4D31-4213-8373-CF9DC876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35867-27A8-4686-AC27-701E61CB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FBFCB-38B8-466F-B5C3-CE7AE6B7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B8F03-A765-4CA6-88E7-EB9CEBC4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2FD6B-0C8F-4258-9CD2-4A9B02BA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DEF44-AEC0-489F-8010-B3CFF01D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D57-863A-46A1-AD58-61B3C15E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902E0-8D0A-42DA-9587-57855608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2D6F-4066-4699-A794-3BCBF976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B81-A57F-475E-974D-EB50D503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C102-C095-4455-85B5-3F26FC55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D46E7-984D-4EC8-9B28-D75CBD5DD8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/>
              <a:ahLst/>
              <a:rect l="l" t="t" r="r" b="b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58A05-75D5-4B41-8537-178B5AAE86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BDB84-1467-426A-92D8-82021D7467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BA4EF-4B41-46AC-A265-1D97A63ACF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7FB00-E7CA-4F92-9FD2-CA3A10556D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3640" y="490680"/>
            <a:ext cx="11544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ПОУ ТО «Ишимский медицинский колледж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523880" y="225576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храна труда и будущее сферы труда»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5029200" y="5956200"/>
            <a:ext cx="26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им, 2019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422000" y="457200"/>
            <a:ext cx="10363320" cy="598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02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мероприятия:</a:t>
            </a: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ультуры безопасности труда и создание благоприятного климата на рабочем месте;</a:t>
            </a:r>
            <a:endParaRPr b="0" lang="en-US" sz="4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е условий и охраны труда;</a:t>
            </a:r>
            <a:endParaRPr b="0" lang="en-US" sz="4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уровня производственного травматизма и профессиональных заболеваний.</a:t>
            </a:r>
            <a:endParaRPr b="0" lang="en-US" sz="4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"/>
          <p:cNvPicPr/>
          <p:nvPr/>
        </p:nvPicPr>
        <p:blipFill>
          <a:blip r:embed="rId1"/>
          <a:srcRect l="3816" t="2344" r="2345" b="14316"/>
          <a:stretch/>
        </p:blipFill>
        <p:spPr>
          <a:xfrm>
            <a:off x="0" y="0"/>
            <a:ext cx="12192120" cy="68612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2"/>
          <p:cNvSpPr/>
          <p:nvPr/>
        </p:nvSpPr>
        <p:spPr>
          <a:xfrm>
            <a:off x="1587600" y="673200"/>
            <a:ext cx="9016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600" spc="-1" strike="noStrike">
                <a:solidFill>
                  <a:srgbClr val="856af6"/>
                </a:solidFill>
                <a:latin typeface="Monotype Corsiva"/>
              </a:rPr>
              <a:t>Правила противопожарной безопасности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711360" y="6134040"/>
            <a:ext cx="111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Лам Алексей Альбертович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4" descr=""/>
          <p:cNvPicPr/>
          <p:nvPr/>
        </p:nvPicPr>
        <p:blipFill>
          <a:blip r:embed="rId1"/>
          <a:srcRect l="0" t="32965" r="0" b="0"/>
          <a:stretch/>
        </p:blipFill>
        <p:spPr>
          <a:xfrm>
            <a:off x="-7920" y="0"/>
            <a:ext cx="1220004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5"/>
          <p:cNvSpPr/>
          <p:nvPr/>
        </p:nvSpPr>
        <p:spPr>
          <a:xfrm>
            <a:off x="287280" y="1674720"/>
            <a:ext cx="1160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авила биомеханики и эргономики на рабочем месте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Прямоугольник 6"/>
          <p:cNvSpPr/>
          <p:nvPr/>
        </p:nvSpPr>
        <p:spPr>
          <a:xfrm>
            <a:off x="317520" y="6159600"/>
            <a:ext cx="1174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Носкова Оксана Витальев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4" descr=""/>
          <p:cNvPicPr/>
          <p:nvPr/>
        </p:nvPicPr>
        <p:blipFill>
          <a:blip r:embed="rId1"/>
          <a:stretch/>
        </p:blipFill>
        <p:spPr>
          <a:xfrm>
            <a:off x="0" y="1612800"/>
            <a:ext cx="12192120" cy="52452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222120" y="5981760"/>
            <a:ext cx="117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Латынцева Мария Сергеевн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349200" y="-173160"/>
            <a:ext cx="1149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Правила безопасности при воздействии физических факторов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"/>
          <p:cNvSpPr/>
          <p:nvPr/>
        </p:nvSpPr>
        <p:spPr>
          <a:xfrm>
            <a:off x="431640" y="88920"/>
            <a:ext cx="1137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при работе с биологическими материалами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520560" y="6019920"/>
            <a:ext cx="1143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Бочковская Надежда Николаев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4"/>
          <p:cNvSpPr/>
          <p:nvPr/>
        </p:nvSpPr>
        <p:spPr>
          <a:xfrm>
            <a:off x="216000" y="0"/>
            <a:ext cx="1164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требования по охране труда младшего медицинского персонала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1" name="Рисунок 1" descr=""/>
          <p:cNvPicPr/>
          <p:nvPr/>
        </p:nvPicPr>
        <p:blipFill>
          <a:blip r:embed="rId1"/>
          <a:stretch/>
        </p:blipFill>
        <p:spPr>
          <a:xfrm>
            <a:off x="0" y="1600200"/>
            <a:ext cx="12192120" cy="52578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216000" y="6067440"/>
            <a:ext cx="1143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Чернова Оксана Николаев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2"/>
          <p:cNvSpPr/>
          <p:nvPr/>
        </p:nvSpPr>
        <p:spPr>
          <a:xfrm>
            <a:off x="-933480" y="4680"/>
            <a:ext cx="109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ор электронных ресурсов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хране труда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380880" y="6035760"/>
            <a:ext cx="1143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Матвеевская Анастасия Александров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1638360" y="1155600"/>
            <a:ext cx="938520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0" spc="-1" strike="noStrike">
                <a:solidFill>
                  <a:srgbClr val="002060"/>
                </a:solidFill>
                <a:latin typeface="Monotype Corsiva"/>
              </a:rPr>
              <a:t>Спасибо </a:t>
            </a:r>
            <a:endParaRPr b="0" lang="en-US" sz="15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0" spc="-1" strike="noStrike">
                <a:solidFill>
                  <a:srgbClr val="002060"/>
                </a:solidFill>
                <a:latin typeface="Monotype Corsiva"/>
              </a:rPr>
              <a:t>за внимание</a:t>
            </a:r>
            <a:endParaRPr b="0" lang="en-US" sz="15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5T09:06:16Z</dcterms:created>
  <dc:creator>student</dc:creator>
  <dc:description/>
  <dc:language>en-US</dc:language>
  <cp:lastModifiedBy>Оксана</cp:lastModifiedBy>
  <dcterms:modified xsi:type="dcterms:W3CDTF">2019-06-11T13:56:19Z</dcterms:modified>
  <cp:revision>25</cp:revision>
  <dc:subject/>
  <dc:title>Презентация PowerPoint</dc:title>
</cp:coreProperties>
</file>