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934-A643-440A-81F4-56049980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908-C9CE-4594-A4AF-95D4A627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228-1DA4-4DBE-9F9E-E44AEA04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4B3-D515-4ECC-A42B-D82FE4D9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7CFA-8520-40A1-B5C8-DA252983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3AA5-E490-4D4A-A513-67338821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C3B3-91BF-46AF-B0F8-0866ABDA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ACCE-3353-475C-9884-F3788315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2A45-A870-4D0D-B344-E34C7F3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88BC-71CA-4201-8F6C-0E33A18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6C4-E70B-429D-80E1-62EBBC4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880-1948-4200-AFB8-89BA1BA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9886-045F-47DD-A5F2-AFA9FFE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B43-161C-479F-9246-7D910F5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3AE-6AC5-43E3-8F2B-9F2F5FF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B982-DBF0-445F-8DD2-90C4F45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071B-D80A-43E9-9B10-89382EDF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E183-5968-4180-BB4B-A8D56825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C3C8-57FE-434F-8E91-2DB0A90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0277-632B-4FD6-82A9-32E8AFA1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3259-ED3A-49AF-A61E-5BD980C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AE5D-2F97-45EB-AF92-E6B365BC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674-AD61-409F-B12E-FAA7FCF8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EC8D-0624-4CE5-BF00-0129621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52B3-F96D-4ADD-ACB4-D0788D1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4683-3558-4B6A-B186-82E1275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1036-A3E5-4E3A-BB60-9B0ED33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16F6-F7D0-44DE-A6F6-BD786DA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2159-F11F-4FDD-9A95-569BDFDB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04BD-C4CF-4082-A5BB-B1CD0B63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FF0E-7B3B-4F2F-9AA2-B7A76767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617D-70E4-41C5-AFD9-7E7D46B9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375F-4534-46FA-8E87-75A43236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FAF-CEDA-45D6-8B5F-4ACB4AC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5E8D-325A-4139-9DE2-7DA6FBCA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91DD-4355-4277-86CD-F1B4AF3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9A94-C5A8-40E4-A613-D111B515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0C43-B251-4113-A652-A359ED7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8D24-8455-42E1-845C-6D384C6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D94E-6F79-47ED-85F0-3D0556B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7D1E-1E3F-46A4-9473-213BE14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9E96-D677-4915-8DCC-8FB3E1E8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8521-6E64-4AA5-A722-09A63D05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3033-C92C-4658-8A26-2F6393D4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30E-33F5-49F8-B84B-BF119E7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1C2B-690F-423C-849D-1EFD89E6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C1F1-1A98-4454-9CA5-C2281422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0258-01B8-4E45-BA39-A2BE1D2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9124-AA7F-448E-8B3E-5579C97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3108A-AA1B-4C7D-8CB8-92C820C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F716-D283-4925-A59B-8A42B67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0A96-9AD1-47F5-B792-4100439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A6225-E8ED-45AB-831A-65CFAAD0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DB03-F9D4-4FCC-8257-93CE3523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64D7-3509-4A63-9525-3231FA17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378-6ACF-4C37-9C15-CFE4A07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D98A6-D444-47DD-8EC0-6992D084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1CC-6744-4574-8FB7-21A51F6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8A1-F40D-4439-AA33-E7CB4F7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E68-5CAE-47E4-8248-4D282BAA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20021-A51E-41EE-A5F8-627F3D376D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7B0BF-57EF-4612-8555-031FB56E74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0D711-A967-4208-9FAA-7B989AF3E1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17E94-AB6C-416C-BF1D-1D83EF7D28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B1354-DB25-424B-A63B-BD218B3DA7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490680"/>
            <a:ext cx="11544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ОУ ТО «Ишимский медицинский колледж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523880" y="22557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труда и будущее сферы труд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029200" y="5956200"/>
            <a:ext cx="26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им, 2019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422000" y="457200"/>
            <a:ext cx="10363320" cy="598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2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ероприятия: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ультуры безопасности труда и создание благоприятного климата на рабочем месте;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условий и охраны труда;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уровня производственного травматизма и профессиональных заболеваний.</a:t>
            </a:r>
            <a:endParaRPr b="0" lang="en-US" sz="4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rcRect l="3816" t="2344" r="2345" b="14316"/>
          <a:stretch/>
        </p:blipFill>
        <p:spPr>
          <a:xfrm>
            <a:off x="0" y="0"/>
            <a:ext cx="1219212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1587600" y="673200"/>
            <a:ext cx="901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856af6"/>
                </a:solidFill>
                <a:latin typeface="Monotype Corsiva"/>
              </a:rPr>
              <a:t>Правила противопожарной безопасности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11360" y="6134040"/>
            <a:ext cx="111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Лам Алексей Альбертови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4" descr=""/>
          <p:cNvPicPr/>
          <p:nvPr/>
        </p:nvPicPr>
        <p:blipFill>
          <a:blip r:embed="rId1"/>
          <a:srcRect l="0" t="32965" r="0" b="0"/>
          <a:stretch/>
        </p:blipFill>
        <p:spPr>
          <a:xfrm>
            <a:off x="-7920" y="0"/>
            <a:ext cx="122000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287280" y="1674720"/>
            <a:ext cx="1160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ила биомеханики и эргономики на рабочем месте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17520" y="6159600"/>
            <a:ext cx="117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Носкова Оксана Виталь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" descr=""/>
          <p:cNvPicPr/>
          <p:nvPr/>
        </p:nvPicPr>
        <p:blipFill>
          <a:blip r:embed="rId1"/>
          <a:stretch/>
        </p:blipFill>
        <p:spPr>
          <a:xfrm>
            <a:off x="0" y="1612800"/>
            <a:ext cx="12192120" cy="524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222120" y="5981760"/>
            <a:ext cx="117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Латынцева Мария Сергеевн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349200" y="-173160"/>
            <a:ext cx="1149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712018"/>
                </a:solidFill>
                <a:latin typeface="Times New Roman"/>
                <a:ea typeface="Times New Roman"/>
              </a:rPr>
              <a:t>Правила безопасности при воздействии физических факторов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431640" y="88920"/>
            <a:ext cx="1137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при работе с биологическими материалами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520560" y="601992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Бочковская Надежда Никола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4"/>
          <p:cNvSpPr/>
          <p:nvPr/>
        </p:nvSpPr>
        <p:spPr>
          <a:xfrm>
            <a:off x="216000" y="0"/>
            <a:ext cx="1164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по охране труда младшего медицинского персонала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1"/>
          <a:stretch/>
        </p:blipFill>
        <p:spPr>
          <a:xfrm>
            <a:off x="0" y="1600200"/>
            <a:ext cx="12192120" cy="5257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16000" y="606744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Чернова Оксана Николае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"/>
          <p:cNvSpPr/>
          <p:nvPr/>
        </p:nvSpPr>
        <p:spPr>
          <a:xfrm>
            <a:off x="-933480" y="4680"/>
            <a:ext cx="109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электронных ресурсов 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хране труд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80880" y="6035760"/>
            <a:ext cx="114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Матвеевская Анастасия Александр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638360" y="1155600"/>
            <a:ext cx="938520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0" spc="-1" strike="noStrike">
                <a:solidFill>
                  <a:srgbClr val="002060"/>
                </a:solidFill>
                <a:latin typeface="Monotype Corsiva"/>
              </a:rPr>
              <a:t>Спасибо </a:t>
            </a:r>
            <a:endParaRPr b="0" lang="en-US" sz="15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0" spc="-1" strike="noStrike">
                <a:solidFill>
                  <a:srgbClr val="002060"/>
                </a:solidFill>
                <a:latin typeface="Monotype Corsiva"/>
              </a:rPr>
              <a:t>за внимание</a:t>
            </a:r>
            <a:endParaRPr b="0" lang="en-US" sz="1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09:06:16Z</dcterms:created>
  <dc:creator>student</dc:creator>
  <dc:description/>
  <dc:language>en-US</dc:language>
  <cp:lastModifiedBy>Оксана</cp:lastModifiedBy>
  <dcterms:modified xsi:type="dcterms:W3CDTF">2019-06-11T13:56:19Z</dcterms:modified>
  <cp:revision>25</cp:revision>
  <dc:subject/>
  <dc:title>Презентация PowerPoint</dc:title>
</cp:coreProperties>
</file>