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gif" ContentType="image/gif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B78-79CF-41BA-B239-A6329E3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5F3-2A98-49BD-A9CB-414166BF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E83-3A42-4077-8BB8-7EEBD459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E0B-3450-49F9-8698-70C2354A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5C1-9348-4A85-964A-1C08A2BA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8B8-30F0-460D-9B8E-C954FE77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B91-C5E2-48A2-8786-A0B0201F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952-9DAB-4BE4-990E-A6BC9B8E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BE2-1244-46B3-AAB3-B8A00A6E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00E-1D9F-4427-8248-8F09B92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937-74C5-4B52-9E78-ABAE34D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DED-E085-4942-B836-2543D42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BBD-D761-43D2-926D-1F01253E8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1" descr="MCj03978100000[1]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305080" y="1889280"/>
            <a:ext cx="463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РАЗНЫЕ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ПРОФЕССИИ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MCj03978100000[1]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7913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3420360" y="2205000"/>
            <a:ext cx="23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Arial"/>
              </a:rPr>
              <a:t>КОНЕЦ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3553560" y="38606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 презент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урлуцкая Г.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d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j0359079"/>
          <p:cNvPicPr/>
          <p:nvPr/>
        </p:nvPicPr>
        <p:blipFill>
          <a:blip r:embed="rId1"/>
          <a:stretch/>
        </p:blipFill>
        <p:spPr>
          <a:xfrm>
            <a:off x="5508720" y="4365720"/>
            <a:ext cx="3024000" cy="22352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73"/>
          <p:cNvGrpSpPr/>
          <p:nvPr/>
        </p:nvGrpSpPr>
        <p:grpSpPr>
          <a:xfrm>
            <a:off x="324000" y="3860640"/>
            <a:ext cx="2376360" cy="2733840"/>
            <a:chOff x="324000" y="3860640"/>
            <a:chExt cx="2376360" cy="2733840"/>
          </a:xfrm>
        </p:grpSpPr>
        <p:pic>
          <p:nvPicPr>
            <p:cNvPr id="45" name="Picture 8" descr="j0360992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237636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128"/>
            <p:cNvSpPr/>
            <p:nvPr/>
          </p:nvSpPr>
          <p:spPr>
            <a:xfrm>
              <a:off x="1440000" y="3914640"/>
              <a:ext cx="222480" cy="164880"/>
            </a:xfrm>
            <a:prstGeom prst="plus">
              <a:avLst>
                <a:gd name="adj" fmla="val 340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85"/>
          <p:cNvGrpSpPr/>
          <p:nvPr/>
        </p:nvGrpSpPr>
        <p:grpSpPr>
          <a:xfrm>
            <a:off x="2411280" y="907920"/>
            <a:ext cx="3576240" cy="3700440"/>
            <a:chOff x="2411280" y="907920"/>
            <a:chExt cx="3576240" cy="3700440"/>
          </a:xfrm>
        </p:grpSpPr>
        <p:grpSp>
          <p:nvGrpSpPr>
            <p:cNvPr id="48" name="Group 179"/>
            <p:cNvGrpSpPr/>
            <p:nvPr/>
          </p:nvGrpSpPr>
          <p:grpSpPr>
            <a:xfrm>
              <a:off x="3635280" y="1522800"/>
              <a:ext cx="2352240" cy="3085560"/>
              <a:chOff x="3635280" y="1522800"/>
              <a:chExt cx="2352240" cy="3085560"/>
            </a:xfrm>
          </p:grpSpPr>
          <p:pic>
            <p:nvPicPr>
              <p:cNvPr id="49" name="Picture 176" descr="MCj01937060000[1]"/>
              <p:cNvPicPr/>
              <p:nvPr/>
            </p:nvPicPr>
            <p:blipFill>
              <a:blip r:embed="rId3"/>
              <a:stretch/>
            </p:blipFill>
            <p:spPr>
              <a:xfrm>
                <a:off x="3635280" y="3211560"/>
                <a:ext cx="2303280" cy="139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" name="Group 172"/>
              <p:cNvGrpSpPr/>
              <p:nvPr/>
            </p:nvGrpSpPr>
            <p:grpSpPr>
              <a:xfrm>
                <a:off x="3676680" y="1522800"/>
                <a:ext cx="2310840" cy="2307240"/>
                <a:chOff x="3676680" y="1522800"/>
                <a:chExt cx="2310840" cy="2307240"/>
              </a:xfrm>
            </p:grpSpPr>
            <p:sp>
              <p:nvSpPr>
                <p:cNvPr id="51" name="AutoShape 134"/>
                <p:cNvSpPr/>
                <p:nvPr/>
              </p:nvSpPr>
              <p:spPr>
                <a:xfrm rot="20446200">
                  <a:off x="3924000" y="1771200"/>
                  <a:ext cx="1816200" cy="18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37"/>
                <p:cNvSpPr/>
                <p:nvPr/>
              </p:nvSpPr>
              <p:spPr>
                <a:xfrm rot="20446200">
                  <a:off x="4470120" y="1829880"/>
                  <a:ext cx="117360" cy="108000"/>
                </a:xfrm>
                <a:custGeom>
                  <a:avLst/>
                  <a:gdLst/>
                  <a:ahLst/>
                  <a:rect l="l" t="t" r="r" b="b"/>
                  <a:pathLst>
                    <a:path w="147" h="134">
                      <a:moveTo>
                        <a:pt x="113" y="21"/>
                      </a:moveTo>
                      <a:lnTo>
                        <a:pt x="111" y="19"/>
                      </a:lnTo>
                      <a:lnTo>
                        <a:pt x="104" y="13"/>
                      </a:lnTo>
                      <a:lnTo>
                        <a:pt x="94" y="7"/>
                      </a:lnTo>
                      <a:lnTo>
                        <a:pt x="88" y="3"/>
                      </a:lnTo>
                      <a:lnTo>
                        <a:pt x="80" y="1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5" y="1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7"/>
                      </a:lnTo>
                      <a:lnTo>
                        <a:pt x="27" y="9"/>
                      </a:lnTo>
                      <a:lnTo>
                        <a:pt x="20" y="12"/>
                      </a:lnTo>
                      <a:lnTo>
                        <a:pt x="13" y="18"/>
                      </a:lnTo>
                      <a:lnTo>
                        <a:pt x="6" y="23"/>
                      </a:lnTo>
                      <a:lnTo>
                        <a:pt x="2" y="27"/>
                      </a:lnTo>
                      <a:lnTo>
                        <a:pt x="1" y="35"/>
                      </a:lnTo>
                      <a:lnTo>
                        <a:pt x="0" y="50"/>
                      </a:lnTo>
                      <a:lnTo>
                        <a:pt x="1" y="68"/>
                      </a:lnTo>
                      <a:lnTo>
                        <a:pt x="3" y="83"/>
                      </a:lnTo>
                      <a:lnTo>
                        <a:pt x="7" y="92"/>
                      </a:lnTo>
                      <a:lnTo>
                        <a:pt x="13" y="102"/>
                      </a:lnTo>
                      <a:lnTo>
                        <a:pt x="21" y="114"/>
                      </a:lnTo>
                      <a:lnTo>
                        <a:pt x="30" y="122"/>
                      </a:lnTo>
                      <a:lnTo>
                        <a:pt x="40" y="126"/>
                      </a:lnTo>
                      <a:lnTo>
                        <a:pt x="50" y="131"/>
                      </a:lnTo>
                      <a:lnTo>
                        <a:pt x="56" y="133"/>
                      </a:lnTo>
                      <a:lnTo>
                        <a:pt x="61" y="134"/>
                      </a:lnTo>
                      <a:lnTo>
                        <a:pt x="70" y="132"/>
                      </a:lnTo>
                      <a:lnTo>
                        <a:pt x="82" y="129"/>
                      </a:lnTo>
                      <a:lnTo>
                        <a:pt x="94" y="123"/>
                      </a:lnTo>
                      <a:lnTo>
                        <a:pt x="107" y="117"/>
                      </a:lnTo>
                      <a:lnTo>
                        <a:pt x="118" y="110"/>
                      </a:lnTo>
                      <a:lnTo>
                        <a:pt x="127" y="106"/>
                      </a:lnTo>
                      <a:lnTo>
                        <a:pt x="132" y="101"/>
                      </a:lnTo>
                      <a:lnTo>
                        <a:pt x="135" y="100"/>
                      </a:lnTo>
                      <a:lnTo>
                        <a:pt x="147" y="69"/>
                      </a:lnTo>
                      <a:lnTo>
                        <a:pt x="113" y="2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138"/>
                <p:cNvSpPr/>
                <p:nvPr/>
              </p:nvSpPr>
              <p:spPr>
                <a:xfrm rot="20446200">
                  <a:off x="4363560" y="191844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58"/>
                      </a:moveTo>
                      <a:lnTo>
                        <a:pt x="6" y="61"/>
                      </a:lnTo>
                      <a:lnTo>
                        <a:pt x="17" y="70"/>
                      </a:lnTo>
                      <a:lnTo>
                        <a:pt x="28" y="82"/>
                      </a:lnTo>
                      <a:lnTo>
                        <a:pt x="34" y="90"/>
                      </a:lnTo>
                      <a:lnTo>
                        <a:pt x="34" y="99"/>
                      </a:lnTo>
                      <a:lnTo>
                        <a:pt x="34" y="114"/>
                      </a:lnTo>
                      <a:lnTo>
                        <a:pt x="32" y="127"/>
                      </a:lnTo>
                      <a:lnTo>
                        <a:pt x="32" y="132"/>
                      </a:lnTo>
                      <a:lnTo>
                        <a:pt x="34" y="132"/>
                      </a:lnTo>
                      <a:lnTo>
                        <a:pt x="38" y="132"/>
                      </a:lnTo>
                      <a:lnTo>
                        <a:pt x="44" y="132"/>
                      </a:lnTo>
                      <a:lnTo>
                        <a:pt x="51" y="131"/>
                      </a:lnTo>
                      <a:lnTo>
                        <a:pt x="59" y="130"/>
                      </a:lnTo>
                      <a:lnTo>
                        <a:pt x="68" y="129"/>
                      </a:lnTo>
                      <a:lnTo>
                        <a:pt x="76" y="127"/>
                      </a:lnTo>
                      <a:lnTo>
                        <a:pt x="83" y="124"/>
                      </a:lnTo>
                      <a:lnTo>
                        <a:pt x="90" y="121"/>
                      </a:lnTo>
                      <a:lnTo>
                        <a:pt x="98" y="117"/>
                      </a:lnTo>
                      <a:lnTo>
                        <a:pt x="106" y="113"/>
                      </a:lnTo>
                      <a:lnTo>
                        <a:pt x="113" y="107"/>
                      </a:lnTo>
                      <a:lnTo>
                        <a:pt x="120" y="101"/>
                      </a:lnTo>
                      <a:lnTo>
                        <a:pt x="125" y="94"/>
                      </a:lnTo>
                      <a:lnTo>
                        <a:pt x="128" y="87"/>
                      </a:lnTo>
                      <a:lnTo>
                        <a:pt x="129" y="81"/>
                      </a:lnTo>
                      <a:lnTo>
                        <a:pt x="126" y="64"/>
                      </a:lnTo>
                      <a:lnTo>
                        <a:pt x="119" y="46"/>
                      </a:lnTo>
                      <a:lnTo>
                        <a:pt x="110" y="28"/>
                      </a:lnTo>
                      <a:lnTo>
                        <a:pt x="99" y="14"/>
                      </a:lnTo>
                      <a:lnTo>
                        <a:pt x="96" y="10"/>
                      </a:lnTo>
                      <a:lnTo>
                        <a:pt x="91" y="7"/>
                      </a:lnTo>
                      <a:lnTo>
                        <a:pt x="87" y="5"/>
                      </a:lnTo>
                      <a:lnTo>
                        <a:pt x="82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64" y="0"/>
                      </a:lnTo>
                      <a:lnTo>
                        <a:pt x="57" y="0"/>
                      </a:lnTo>
                      <a:lnTo>
                        <a:pt x="49" y="1"/>
                      </a:lnTo>
                      <a:lnTo>
                        <a:pt x="40" y="5"/>
                      </a:lnTo>
                      <a:lnTo>
                        <a:pt x="32" y="9"/>
                      </a:lnTo>
                      <a:lnTo>
                        <a:pt x="24" y="14"/>
                      </a:lnTo>
                      <a:lnTo>
                        <a:pt x="16" y="20"/>
                      </a:lnTo>
                      <a:lnTo>
                        <a:pt x="11" y="24"/>
                      </a:lnTo>
                      <a:lnTo>
                        <a:pt x="6" y="29"/>
                      </a:lnTo>
                      <a:lnTo>
                        <a:pt x="4" y="33"/>
                      </a:lnTo>
                      <a:lnTo>
                        <a:pt x="1" y="41"/>
                      </a:lnTo>
                      <a:lnTo>
                        <a:pt x="0" y="49"/>
                      </a:lnTo>
                      <a:lnTo>
                        <a:pt x="0" y="55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139"/>
                <p:cNvSpPr/>
                <p:nvPr/>
              </p:nvSpPr>
              <p:spPr>
                <a:xfrm rot="20446200">
                  <a:off x="5563800" y="2394720"/>
                  <a:ext cx="162000" cy="230040"/>
                </a:xfrm>
                <a:custGeom>
                  <a:avLst/>
                  <a:gdLst/>
                  <a:ahLst/>
                  <a:rect l="l" t="t" r="r" b="b"/>
                  <a:pathLst>
                    <a:path w="203" h="290">
                      <a:moveTo>
                        <a:pt x="8" y="84"/>
                      </a:moveTo>
                      <a:lnTo>
                        <a:pt x="0" y="208"/>
                      </a:lnTo>
                      <a:lnTo>
                        <a:pt x="81" y="248"/>
                      </a:lnTo>
                      <a:lnTo>
                        <a:pt x="82" y="251"/>
                      </a:lnTo>
                      <a:lnTo>
                        <a:pt x="86" y="256"/>
                      </a:lnTo>
                      <a:lnTo>
                        <a:pt x="90" y="263"/>
                      </a:lnTo>
                      <a:lnTo>
                        <a:pt x="96" y="269"/>
                      </a:lnTo>
                      <a:lnTo>
                        <a:pt x="111" y="277"/>
                      </a:lnTo>
                      <a:lnTo>
                        <a:pt x="124" y="283"/>
                      </a:lnTo>
                      <a:lnTo>
                        <a:pt x="134" y="286"/>
                      </a:lnTo>
                      <a:lnTo>
                        <a:pt x="142" y="289"/>
                      </a:lnTo>
                      <a:lnTo>
                        <a:pt x="149" y="290"/>
                      </a:lnTo>
                      <a:lnTo>
                        <a:pt x="152" y="290"/>
                      </a:lnTo>
                      <a:lnTo>
                        <a:pt x="155" y="290"/>
                      </a:lnTo>
                      <a:lnTo>
                        <a:pt x="156" y="290"/>
                      </a:lnTo>
                      <a:lnTo>
                        <a:pt x="157" y="289"/>
                      </a:lnTo>
                      <a:lnTo>
                        <a:pt x="162" y="284"/>
                      </a:lnTo>
                      <a:lnTo>
                        <a:pt x="169" y="276"/>
                      </a:lnTo>
                      <a:lnTo>
                        <a:pt x="175" y="266"/>
                      </a:lnTo>
                      <a:lnTo>
                        <a:pt x="184" y="251"/>
                      </a:lnTo>
                      <a:lnTo>
                        <a:pt x="190" y="233"/>
                      </a:lnTo>
                      <a:lnTo>
                        <a:pt x="197" y="213"/>
                      </a:lnTo>
                      <a:lnTo>
                        <a:pt x="201" y="187"/>
                      </a:lnTo>
                      <a:lnTo>
                        <a:pt x="203" y="128"/>
                      </a:lnTo>
                      <a:lnTo>
                        <a:pt x="200" y="79"/>
                      </a:lnTo>
                      <a:lnTo>
                        <a:pt x="194" y="46"/>
                      </a:lnTo>
                      <a:lnTo>
                        <a:pt x="190" y="30"/>
                      </a:lnTo>
                      <a:lnTo>
                        <a:pt x="185" y="18"/>
                      </a:lnTo>
                      <a:lnTo>
                        <a:pt x="177" y="9"/>
                      </a:lnTo>
                      <a:lnTo>
                        <a:pt x="170" y="4"/>
                      </a:lnTo>
                      <a:lnTo>
                        <a:pt x="163" y="1"/>
                      </a:lnTo>
                      <a:lnTo>
                        <a:pt x="156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5" y="0"/>
                      </a:lnTo>
                      <a:lnTo>
                        <a:pt x="143" y="0"/>
                      </a:lnTo>
                      <a:lnTo>
                        <a:pt x="137" y="1"/>
                      </a:lnTo>
                      <a:lnTo>
                        <a:pt x="131" y="2"/>
                      </a:lnTo>
                      <a:lnTo>
                        <a:pt x="120" y="4"/>
                      </a:lnTo>
                      <a:lnTo>
                        <a:pt x="111" y="8"/>
                      </a:lnTo>
                      <a:lnTo>
                        <a:pt x="101" y="12"/>
                      </a:lnTo>
                      <a:lnTo>
                        <a:pt x="92" y="18"/>
                      </a:lnTo>
                      <a:lnTo>
                        <a:pt x="87" y="24"/>
                      </a:lnTo>
                      <a:lnTo>
                        <a:pt x="79" y="40"/>
                      </a:lnTo>
                      <a:lnTo>
                        <a:pt x="72" y="55"/>
                      </a:lnTo>
                      <a:lnTo>
                        <a:pt x="67" y="66"/>
                      </a:lnTo>
                      <a:lnTo>
                        <a:pt x="66" y="71"/>
                      </a:lnTo>
                      <a:lnTo>
                        <a:pt x="8" y="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140"/>
                <p:cNvSpPr/>
                <p:nvPr/>
              </p:nvSpPr>
              <p:spPr>
                <a:xfrm rot="20446200">
                  <a:off x="5065560" y="2124000"/>
                  <a:ext cx="460440" cy="544320"/>
                </a:xfrm>
                <a:custGeom>
                  <a:avLst/>
                  <a:gdLst/>
                  <a:ahLst/>
                  <a:rect l="l" t="t" r="r" b="b"/>
                  <a:pathLst>
                    <a:path w="581" h="687">
                      <a:moveTo>
                        <a:pt x="502" y="614"/>
                      </a:moveTo>
                      <a:lnTo>
                        <a:pt x="487" y="614"/>
                      </a:lnTo>
                      <a:lnTo>
                        <a:pt x="469" y="615"/>
                      </a:lnTo>
                      <a:lnTo>
                        <a:pt x="448" y="615"/>
                      </a:lnTo>
                      <a:lnTo>
                        <a:pt x="425" y="614"/>
                      </a:lnTo>
                      <a:lnTo>
                        <a:pt x="401" y="613"/>
                      </a:lnTo>
                      <a:lnTo>
                        <a:pt x="377" y="611"/>
                      </a:lnTo>
                      <a:lnTo>
                        <a:pt x="354" y="605"/>
                      </a:lnTo>
                      <a:lnTo>
                        <a:pt x="332" y="598"/>
                      </a:lnTo>
                      <a:lnTo>
                        <a:pt x="305" y="583"/>
                      </a:lnTo>
                      <a:lnTo>
                        <a:pt x="284" y="566"/>
                      </a:lnTo>
                      <a:lnTo>
                        <a:pt x="269" y="547"/>
                      </a:lnTo>
                      <a:lnTo>
                        <a:pt x="259" y="529"/>
                      </a:lnTo>
                      <a:lnTo>
                        <a:pt x="251" y="512"/>
                      </a:lnTo>
                      <a:lnTo>
                        <a:pt x="246" y="498"/>
                      </a:lnTo>
                      <a:lnTo>
                        <a:pt x="244" y="489"/>
                      </a:lnTo>
                      <a:lnTo>
                        <a:pt x="244" y="485"/>
                      </a:lnTo>
                      <a:lnTo>
                        <a:pt x="249" y="458"/>
                      </a:lnTo>
                      <a:lnTo>
                        <a:pt x="259" y="394"/>
                      </a:lnTo>
                      <a:lnTo>
                        <a:pt x="271" y="323"/>
                      </a:lnTo>
                      <a:lnTo>
                        <a:pt x="278" y="272"/>
                      </a:lnTo>
                      <a:lnTo>
                        <a:pt x="276" y="249"/>
                      </a:lnTo>
                      <a:lnTo>
                        <a:pt x="271" y="226"/>
                      </a:lnTo>
                      <a:lnTo>
                        <a:pt x="261" y="205"/>
                      </a:lnTo>
                      <a:lnTo>
                        <a:pt x="250" y="186"/>
                      </a:lnTo>
                      <a:lnTo>
                        <a:pt x="238" y="171"/>
                      </a:lnTo>
                      <a:lnTo>
                        <a:pt x="228" y="158"/>
                      </a:lnTo>
                      <a:lnTo>
                        <a:pt x="220" y="150"/>
                      </a:lnTo>
                      <a:lnTo>
                        <a:pt x="218" y="148"/>
                      </a:lnTo>
                      <a:lnTo>
                        <a:pt x="220" y="143"/>
                      </a:lnTo>
                      <a:lnTo>
                        <a:pt x="226" y="133"/>
                      </a:lnTo>
                      <a:lnTo>
                        <a:pt x="230" y="120"/>
                      </a:lnTo>
                      <a:lnTo>
                        <a:pt x="233" y="110"/>
                      </a:lnTo>
                      <a:lnTo>
                        <a:pt x="230" y="88"/>
                      </a:lnTo>
                      <a:lnTo>
                        <a:pt x="223" y="67"/>
                      </a:lnTo>
                      <a:lnTo>
                        <a:pt x="213" y="49"/>
                      </a:lnTo>
                      <a:lnTo>
                        <a:pt x="199" y="33"/>
                      </a:lnTo>
                      <a:lnTo>
                        <a:pt x="182" y="19"/>
                      </a:lnTo>
                      <a:lnTo>
                        <a:pt x="161" y="10"/>
                      </a:lnTo>
                      <a:lnTo>
                        <a:pt x="139" y="3"/>
                      </a:lnTo>
                      <a:lnTo>
                        <a:pt x="116" y="0"/>
                      </a:lnTo>
                      <a:lnTo>
                        <a:pt x="93" y="3"/>
                      </a:lnTo>
                      <a:lnTo>
                        <a:pt x="71" y="10"/>
                      </a:lnTo>
                      <a:lnTo>
                        <a:pt x="51" y="19"/>
                      </a:lnTo>
                      <a:lnTo>
                        <a:pt x="34" y="33"/>
                      </a:lnTo>
                      <a:lnTo>
                        <a:pt x="19" y="49"/>
                      </a:lnTo>
                      <a:lnTo>
                        <a:pt x="9" y="67"/>
                      </a:lnTo>
                      <a:lnTo>
                        <a:pt x="2" y="88"/>
                      </a:lnTo>
                      <a:lnTo>
                        <a:pt x="0" y="110"/>
                      </a:lnTo>
                      <a:lnTo>
                        <a:pt x="2" y="132"/>
                      </a:lnTo>
                      <a:lnTo>
                        <a:pt x="9" y="152"/>
                      </a:lnTo>
                      <a:lnTo>
                        <a:pt x="19" y="171"/>
                      </a:lnTo>
                      <a:lnTo>
                        <a:pt x="34" y="187"/>
                      </a:lnTo>
                      <a:lnTo>
                        <a:pt x="51" y="201"/>
                      </a:lnTo>
                      <a:lnTo>
                        <a:pt x="71" y="211"/>
                      </a:lnTo>
                      <a:lnTo>
                        <a:pt x="93" y="217"/>
                      </a:lnTo>
                      <a:lnTo>
                        <a:pt x="116" y="219"/>
                      </a:lnTo>
                      <a:lnTo>
                        <a:pt x="123" y="219"/>
                      </a:lnTo>
                      <a:lnTo>
                        <a:pt x="131" y="219"/>
                      </a:lnTo>
                      <a:lnTo>
                        <a:pt x="137" y="218"/>
                      </a:lnTo>
                      <a:lnTo>
                        <a:pt x="144" y="217"/>
                      </a:lnTo>
                      <a:lnTo>
                        <a:pt x="150" y="216"/>
                      </a:lnTo>
                      <a:lnTo>
                        <a:pt x="155" y="213"/>
                      </a:lnTo>
                      <a:lnTo>
                        <a:pt x="161" y="211"/>
                      </a:lnTo>
                      <a:lnTo>
                        <a:pt x="168" y="208"/>
                      </a:lnTo>
                      <a:lnTo>
                        <a:pt x="173" y="217"/>
                      </a:lnTo>
                      <a:lnTo>
                        <a:pt x="177" y="226"/>
                      </a:lnTo>
                      <a:lnTo>
                        <a:pt x="183" y="235"/>
                      </a:lnTo>
                      <a:lnTo>
                        <a:pt x="190" y="246"/>
                      </a:lnTo>
                      <a:lnTo>
                        <a:pt x="195" y="257"/>
                      </a:lnTo>
                      <a:lnTo>
                        <a:pt x="198" y="269"/>
                      </a:lnTo>
                      <a:lnTo>
                        <a:pt x="200" y="281"/>
                      </a:lnTo>
                      <a:lnTo>
                        <a:pt x="200" y="294"/>
                      </a:lnTo>
                      <a:lnTo>
                        <a:pt x="197" y="324"/>
                      </a:lnTo>
                      <a:lnTo>
                        <a:pt x="191" y="367"/>
                      </a:lnTo>
                      <a:lnTo>
                        <a:pt x="185" y="408"/>
                      </a:lnTo>
                      <a:lnTo>
                        <a:pt x="181" y="438"/>
                      </a:lnTo>
                      <a:lnTo>
                        <a:pt x="177" y="466"/>
                      </a:lnTo>
                      <a:lnTo>
                        <a:pt x="176" y="490"/>
                      </a:lnTo>
                      <a:lnTo>
                        <a:pt x="178" y="513"/>
                      </a:lnTo>
                      <a:lnTo>
                        <a:pt x="182" y="534"/>
                      </a:lnTo>
                      <a:lnTo>
                        <a:pt x="188" y="552"/>
                      </a:lnTo>
                      <a:lnTo>
                        <a:pt x="196" y="568"/>
                      </a:lnTo>
                      <a:lnTo>
                        <a:pt x="203" y="582"/>
                      </a:lnTo>
                      <a:lnTo>
                        <a:pt x="211" y="593"/>
                      </a:lnTo>
                      <a:lnTo>
                        <a:pt x="220" y="606"/>
                      </a:lnTo>
                      <a:lnTo>
                        <a:pt x="231" y="618"/>
                      </a:lnTo>
                      <a:lnTo>
                        <a:pt x="243" y="629"/>
                      </a:lnTo>
                      <a:lnTo>
                        <a:pt x="256" y="638"/>
                      </a:lnTo>
                      <a:lnTo>
                        <a:pt x="271" y="649"/>
                      </a:lnTo>
                      <a:lnTo>
                        <a:pt x="287" y="657"/>
                      </a:lnTo>
                      <a:lnTo>
                        <a:pt x="306" y="665"/>
                      </a:lnTo>
                      <a:lnTo>
                        <a:pt x="328" y="673"/>
                      </a:lnTo>
                      <a:lnTo>
                        <a:pt x="345" y="678"/>
                      </a:lnTo>
                      <a:lnTo>
                        <a:pt x="363" y="681"/>
                      </a:lnTo>
                      <a:lnTo>
                        <a:pt x="381" y="683"/>
                      </a:lnTo>
                      <a:lnTo>
                        <a:pt x="400" y="686"/>
                      </a:lnTo>
                      <a:lnTo>
                        <a:pt x="417" y="687"/>
                      </a:lnTo>
                      <a:lnTo>
                        <a:pt x="434" y="687"/>
                      </a:lnTo>
                      <a:lnTo>
                        <a:pt x="451" y="687"/>
                      </a:lnTo>
                      <a:lnTo>
                        <a:pt x="468" y="686"/>
                      </a:lnTo>
                      <a:lnTo>
                        <a:pt x="483" y="684"/>
                      </a:lnTo>
                      <a:lnTo>
                        <a:pt x="496" y="683"/>
                      </a:lnTo>
                      <a:lnTo>
                        <a:pt x="509" y="682"/>
                      </a:lnTo>
                      <a:lnTo>
                        <a:pt x="519" y="681"/>
                      </a:lnTo>
                      <a:lnTo>
                        <a:pt x="529" y="680"/>
                      </a:lnTo>
                      <a:lnTo>
                        <a:pt x="534" y="679"/>
                      </a:lnTo>
                      <a:lnTo>
                        <a:pt x="539" y="678"/>
                      </a:lnTo>
                      <a:lnTo>
                        <a:pt x="540" y="678"/>
                      </a:lnTo>
                      <a:lnTo>
                        <a:pt x="574" y="673"/>
                      </a:lnTo>
                      <a:lnTo>
                        <a:pt x="581" y="569"/>
                      </a:lnTo>
                      <a:lnTo>
                        <a:pt x="578" y="572"/>
                      </a:lnTo>
                      <a:lnTo>
                        <a:pt x="572" y="576"/>
                      </a:lnTo>
                      <a:lnTo>
                        <a:pt x="564" y="583"/>
                      </a:lnTo>
                      <a:lnTo>
                        <a:pt x="554" y="591"/>
                      </a:lnTo>
                      <a:lnTo>
                        <a:pt x="541" y="600"/>
                      </a:lnTo>
                      <a:lnTo>
                        <a:pt x="529" y="607"/>
                      </a:lnTo>
                      <a:lnTo>
                        <a:pt x="515" y="612"/>
                      </a:lnTo>
                      <a:lnTo>
                        <a:pt x="502" y="614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41"/>
                <p:cNvSpPr/>
                <p:nvPr/>
              </p:nvSpPr>
              <p:spPr>
                <a:xfrm rot="20446200">
                  <a:off x="4586400" y="1969560"/>
                  <a:ext cx="583920" cy="425520"/>
                </a:xfrm>
                <a:custGeom>
                  <a:avLst/>
                  <a:gdLst/>
                  <a:ahLst/>
                  <a:rect l="l" t="t" r="r" b="b"/>
                  <a:pathLst>
                    <a:path w="736" h="537">
                      <a:moveTo>
                        <a:pt x="392" y="537"/>
                      </a:moveTo>
                      <a:lnTo>
                        <a:pt x="364" y="536"/>
                      </a:lnTo>
                      <a:lnTo>
                        <a:pt x="337" y="532"/>
                      </a:lnTo>
                      <a:lnTo>
                        <a:pt x="310" y="529"/>
                      </a:lnTo>
                      <a:lnTo>
                        <a:pt x="285" y="526"/>
                      </a:lnTo>
                      <a:lnTo>
                        <a:pt x="264" y="521"/>
                      </a:lnTo>
                      <a:lnTo>
                        <a:pt x="248" y="519"/>
                      </a:lnTo>
                      <a:lnTo>
                        <a:pt x="236" y="516"/>
                      </a:lnTo>
                      <a:lnTo>
                        <a:pt x="233" y="515"/>
                      </a:lnTo>
                      <a:lnTo>
                        <a:pt x="210" y="507"/>
                      </a:lnTo>
                      <a:lnTo>
                        <a:pt x="187" y="493"/>
                      </a:lnTo>
                      <a:lnTo>
                        <a:pt x="165" y="477"/>
                      </a:lnTo>
                      <a:lnTo>
                        <a:pt x="144" y="460"/>
                      </a:lnTo>
                      <a:lnTo>
                        <a:pt x="127" y="443"/>
                      </a:lnTo>
                      <a:lnTo>
                        <a:pt x="113" y="429"/>
                      </a:lnTo>
                      <a:lnTo>
                        <a:pt x="104" y="418"/>
                      </a:lnTo>
                      <a:lnTo>
                        <a:pt x="100" y="415"/>
                      </a:lnTo>
                      <a:lnTo>
                        <a:pt x="98" y="412"/>
                      </a:lnTo>
                      <a:lnTo>
                        <a:pt x="93" y="402"/>
                      </a:lnTo>
                      <a:lnTo>
                        <a:pt x="87" y="387"/>
                      </a:lnTo>
                      <a:lnTo>
                        <a:pt x="77" y="370"/>
                      </a:lnTo>
                      <a:lnTo>
                        <a:pt x="68" y="349"/>
                      </a:lnTo>
                      <a:lnTo>
                        <a:pt x="58" y="329"/>
                      </a:lnTo>
                      <a:lnTo>
                        <a:pt x="49" y="307"/>
                      </a:lnTo>
                      <a:lnTo>
                        <a:pt x="40" y="287"/>
                      </a:lnTo>
                      <a:lnTo>
                        <a:pt x="37" y="279"/>
                      </a:lnTo>
                      <a:lnTo>
                        <a:pt x="31" y="268"/>
                      </a:lnTo>
                      <a:lnTo>
                        <a:pt x="26" y="254"/>
                      </a:lnTo>
                      <a:lnTo>
                        <a:pt x="19" y="238"/>
                      </a:lnTo>
                      <a:lnTo>
                        <a:pt x="12" y="224"/>
                      </a:lnTo>
                      <a:lnTo>
                        <a:pt x="6" y="211"/>
                      </a:lnTo>
                      <a:lnTo>
                        <a:pt x="1" y="203"/>
                      </a:lnTo>
                      <a:lnTo>
                        <a:pt x="0" y="200"/>
                      </a:lnTo>
                      <a:lnTo>
                        <a:pt x="75" y="152"/>
                      </a:lnTo>
                      <a:lnTo>
                        <a:pt x="76" y="154"/>
                      </a:lnTo>
                      <a:lnTo>
                        <a:pt x="81" y="158"/>
                      </a:lnTo>
                      <a:lnTo>
                        <a:pt x="87" y="165"/>
                      </a:lnTo>
                      <a:lnTo>
                        <a:pt x="93" y="172"/>
                      </a:lnTo>
                      <a:lnTo>
                        <a:pt x="102" y="181"/>
                      </a:lnTo>
                      <a:lnTo>
                        <a:pt x="107" y="188"/>
                      </a:lnTo>
                      <a:lnTo>
                        <a:pt x="113" y="195"/>
                      </a:lnTo>
                      <a:lnTo>
                        <a:pt x="115" y="200"/>
                      </a:lnTo>
                      <a:lnTo>
                        <a:pt x="121" y="215"/>
                      </a:lnTo>
                      <a:lnTo>
                        <a:pt x="128" y="234"/>
                      </a:lnTo>
                      <a:lnTo>
                        <a:pt x="136" y="256"/>
                      </a:lnTo>
                      <a:lnTo>
                        <a:pt x="144" y="280"/>
                      </a:lnTo>
                      <a:lnTo>
                        <a:pt x="153" y="304"/>
                      </a:lnTo>
                      <a:lnTo>
                        <a:pt x="164" y="326"/>
                      </a:lnTo>
                      <a:lnTo>
                        <a:pt x="173" y="347"/>
                      </a:lnTo>
                      <a:lnTo>
                        <a:pt x="182" y="362"/>
                      </a:lnTo>
                      <a:lnTo>
                        <a:pt x="194" y="375"/>
                      </a:lnTo>
                      <a:lnTo>
                        <a:pt x="208" y="387"/>
                      </a:lnTo>
                      <a:lnTo>
                        <a:pt x="225" y="400"/>
                      </a:lnTo>
                      <a:lnTo>
                        <a:pt x="244" y="410"/>
                      </a:lnTo>
                      <a:lnTo>
                        <a:pt x="269" y="418"/>
                      </a:lnTo>
                      <a:lnTo>
                        <a:pt x="295" y="427"/>
                      </a:lnTo>
                      <a:lnTo>
                        <a:pt x="324" y="431"/>
                      </a:lnTo>
                      <a:lnTo>
                        <a:pt x="357" y="435"/>
                      </a:lnTo>
                      <a:lnTo>
                        <a:pt x="372" y="435"/>
                      </a:lnTo>
                      <a:lnTo>
                        <a:pt x="394" y="433"/>
                      </a:lnTo>
                      <a:lnTo>
                        <a:pt x="421" y="432"/>
                      </a:lnTo>
                      <a:lnTo>
                        <a:pt x="448" y="430"/>
                      </a:lnTo>
                      <a:lnTo>
                        <a:pt x="474" y="428"/>
                      </a:lnTo>
                      <a:lnTo>
                        <a:pt x="497" y="427"/>
                      </a:lnTo>
                      <a:lnTo>
                        <a:pt x="512" y="424"/>
                      </a:lnTo>
                      <a:lnTo>
                        <a:pt x="517" y="424"/>
                      </a:lnTo>
                      <a:lnTo>
                        <a:pt x="625" y="370"/>
                      </a:lnTo>
                      <a:lnTo>
                        <a:pt x="626" y="357"/>
                      </a:lnTo>
                      <a:lnTo>
                        <a:pt x="629" y="329"/>
                      </a:lnTo>
                      <a:lnTo>
                        <a:pt x="630" y="295"/>
                      </a:lnTo>
                      <a:lnTo>
                        <a:pt x="629" y="270"/>
                      </a:lnTo>
                      <a:lnTo>
                        <a:pt x="627" y="261"/>
                      </a:lnTo>
                      <a:lnTo>
                        <a:pt x="625" y="251"/>
                      </a:lnTo>
                      <a:lnTo>
                        <a:pt x="620" y="241"/>
                      </a:lnTo>
                      <a:lnTo>
                        <a:pt x="615" y="231"/>
                      </a:lnTo>
                      <a:lnTo>
                        <a:pt x="608" y="219"/>
                      </a:lnTo>
                      <a:lnTo>
                        <a:pt x="600" y="208"/>
                      </a:lnTo>
                      <a:lnTo>
                        <a:pt x="591" y="196"/>
                      </a:lnTo>
                      <a:lnTo>
                        <a:pt x="580" y="185"/>
                      </a:lnTo>
                      <a:lnTo>
                        <a:pt x="570" y="177"/>
                      </a:lnTo>
                      <a:lnTo>
                        <a:pt x="558" y="167"/>
                      </a:lnTo>
                      <a:lnTo>
                        <a:pt x="544" y="156"/>
                      </a:lnTo>
                      <a:lnTo>
                        <a:pt x="527" y="144"/>
                      </a:lnTo>
                      <a:lnTo>
                        <a:pt x="508" y="134"/>
                      </a:lnTo>
                      <a:lnTo>
                        <a:pt x="490" y="124"/>
                      </a:lnTo>
                      <a:lnTo>
                        <a:pt x="470" y="114"/>
                      </a:lnTo>
                      <a:lnTo>
                        <a:pt x="451" y="108"/>
                      </a:lnTo>
                      <a:lnTo>
                        <a:pt x="447" y="110"/>
                      </a:lnTo>
                      <a:lnTo>
                        <a:pt x="441" y="119"/>
                      </a:lnTo>
                      <a:lnTo>
                        <a:pt x="432" y="134"/>
                      </a:lnTo>
                      <a:lnTo>
                        <a:pt x="421" y="151"/>
                      </a:lnTo>
                      <a:lnTo>
                        <a:pt x="406" y="172"/>
                      </a:lnTo>
                      <a:lnTo>
                        <a:pt x="388" y="194"/>
                      </a:lnTo>
                      <a:lnTo>
                        <a:pt x="367" y="216"/>
                      </a:lnTo>
                      <a:lnTo>
                        <a:pt x="341" y="237"/>
                      </a:lnTo>
                      <a:lnTo>
                        <a:pt x="315" y="251"/>
                      </a:lnTo>
                      <a:lnTo>
                        <a:pt x="287" y="264"/>
                      </a:lnTo>
                      <a:lnTo>
                        <a:pt x="258" y="275"/>
                      </a:lnTo>
                      <a:lnTo>
                        <a:pt x="231" y="284"/>
                      </a:lnTo>
                      <a:lnTo>
                        <a:pt x="205" y="289"/>
                      </a:lnTo>
                      <a:lnTo>
                        <a:pt x="186" y="294"/>
                      </a:lnTo>
                      <a:lnTo>
                        <a:pt x="172" y="296"/>
                      </a:lnTo>
                      <a:lnTo>
                        <a:pt x="167" y="298"/>
                      </a:lnTo>
                      <a:lnTo>
                        <a:pt x="150" y="245"/>
                      </a:lnTo>
                      <a:lnTo>
                        <a:pt x="218" y="228"/>
                      </a:lnTo>
                      <a:lnTo>
                        <a:pt x="300" y="186"/>
                      </a:lnTo>
                      <a:lnTo>
                        <a:pt x="352" y="129"/>
                      </a:lnTo>
                      <a:lnTo>
                        <a:pt x="377" y="78"/>
                      </a:lnTo>
                      <a:lnTo>
                        <a:pt x="379" y="74"/>
                      </a:lnTo>
                      <a:lnTo>
                        <a:pt x="384" y="65"/>
                      </a:lnTo>
                      <a:lnTo>
                        <a:pt x="392" y="51"/>
                      </a:lnTo>
                      <a:lnTo>
                        <a:pt x="401" y="36"/>
                      </a:lnTo>
                      <a:lnTo>
                        <a:pt x="410" y="22"/>
                      </a:lnTo>
                      <a:lnTo>
                        <a:pt x="420" y="10"/>
                      </a:lnTo>
                      <a:lnTo>
                        <a:pt x="426" y="2"/>
                      </a:lnTo>
                      <a:lnTo>
                        <a:pt x="432" y="0"/>
                      </a:lnTo>
                      <a:lnTo>
                        <a:pt x="440" y="4"/>
                      </a:lnTo>
                      <a:lnTo>
                        <a:pt x="456" y="10"/>
                      </a:lnTo>
                      <a:lnTo>
                        <a:pt x="478" y="18"/>
                      </a:lnTo>
                      <a:lnTo>
                        <a:pt x="504" y="26"/>
                      </a:lnTo>
                      <a:lnTo>
                        <a:pt x="530" y="35"/>
                      </a:lnTo>
                      <a:lnTo>
                        <a:pt x="557" y="45"/>
                      </a:lnTo>
                      <a:lnTo>
                        <a:pt x="581" y="55"/>
                      </a:lnTo>
                      <a:lnTo>
                        <a:pt x="602" y="65"/>
                      </a:lnTo>
                      <a:lnTo>
                        <a:pt x="615" y="74"/>
                      </a:lnTo>
                      <a:lnTo>
                        <a:pt x="631" y="86"/>
                      </a:lnTo>
                      <a:lnTo>
                        <a:pt x="648" y="99"/>
                      </a:lnTo>
                      <a:lnTo>
                        <a:pt x="665" y="116"/>
                      </a:lnTo>
                      <a:lnTo>
                        <a:pt x="681" y="132"/>
                      </a:lnTo>
                      <a:lnTo>
                        <a:pt x="696" y="150"/>
                      </a:lnTo>
                      <a:lnTo>
                        <a:pt x="709" y="167"/>
                      </a:lnTo>
                      <a:lnTo>
                        <a:pt x="719" y="185"/>
                      </a:lnTo>
                      <a:lnTo>
                        <a:pt x="732" y="222"/>
                      </a:lnTo>
                      <a:lnTo>
                        <a:pt x="736" y="262"/>
                      </a:lnTo>
                      <a:lnTo>
                        <a:pt x="734" y="303"/>
                      </a:lnTo>
                      <a:lnTo>
                        <a:pt x="725" y="340"/>
                      </a:lnTo>
                      <a:lnTo>
                        <a:pt x="713" y="362"/>
                      </a:lnTo>
                      <a:lnTo>
                        <a:pt x="695" y="389"/>
                      </a:lnTo>
                      <a:lnTo>
                        <a:pt x="671" y="418"/>
                      </a:lnTo>
                      <a:lnTo>
                        <a:pt x="644" y="448"/>
                      </a:lnTo>
                      <a:lnTo>
                        <a:pt x="618" y="477"/>
                      </a:lnTo>
                      <a:lnTo>
                        <a:pt x="592" y="500"/>
                      </a:lnTo>
                      <a:lnTo>
                        <a:pt x="570" y="519"/>
                      </a:lnTo>
                      <a:lnTo>
                        <a:pt x="554" y="527"/>
                      </a:lnTo>
                      <a:lnTo>
                        <a:pt x="392" y="537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42"/>
                <p:cNvSpPr/>
                <p:nvPr/>
              </p:nvSpPr>
              <p:spPr>
                <a:xfrm rot="20446200">
                  <a:off x="5056200" y="2230920"/>
                  <a:ext cx="95400" cy="77760"/>
                </a:xfrm>
                <a:custGeom>
                  <a:avLst/>
                  <a:gdLst/>
                  <a:ahLst/>
                  <a:rect l="l" t="t" r="r" b="b"/>
                  <a:pathLst>
                    <a:path w="120" h="99">
                      <a:moveTo>
                        <a:pt x="60" y="99"/>
                      </a:moveTo>
                      <a:lnTo>
                        <a:pt x="73" y="98"/>
                      </a:lnTo>
                      <a:lnTo>
                        <a:pt x="83" y="95"/>
                      </a:lnTo>
                      <a:lnTo>
                        <a:pt x="93" y="91"/>
                      </a:lnTo>
                      <a:lnTo>
                        <a:pt x="103" y="84"/>
                      </a:lnTo>
                      <a:lnTo>
                        <a:pt x="109" y="77"/>
                      </a:lnTo>
                      <a:lnTo>
                        <a:pt x="115" y="69"/>
                      </a:lnTo>
                      <a:lnTo>
                        <a:pt x="119" y="60"/>
                      </a:lnTo>
                      <a:lnTo>
                        <a:pt x="120" y="49"/>
                      </a:lnTo>
                      <a:lnTo>
                        <a:pt x="119" y="39"/>
                      </a:lnTo>
                      <a:lnTo>
                        <a:pt x="115" y="30"/>
                      </a:lnTo>
                      <a:lnTo>
                        <a:pt x="109" y="22"/>
                      </a:lnTo>
                      <a:lnTo>
                        <a:pt x="103" y="14"/>
                      </a:lnTo>
                      <a:lnTo>
                        <a:pt x="93" y="8"/>
                      </a:lnTo>
                      <a:lnTo>
                        <a:pt x="83" y="3"/>
                      </a:lnTo>
                      <a:lnTo>
                        <a:pt x="73" y="1"/>
                      </a:lnTo>
                      <a:lnTo>
                        <a:pt x="60" y="0"/>
                      </a:lnTo>
                      <a:lnTo>
                        <a:pt x="47" y="1"/>
                      </a:lnTo>
                      <a:lnTo>
                        <a:pt x="37" y="3"/>
                      </a:lnTo>
                      <a:lnTo>
                        <a:pt x="27" y="8"/>
                      </a:lnTo>
                      <a:lnTo>
                        <a:pt x="17" y="14"/>
                      </a:lnTo>
                      <a:lnTo>
                        <a:pt x="10" y="22"/>
                      </a:lnTo>
                      <a:lnTo>
                        <a:pt x="5" y="30"/>
                      </a:lnTo>
                      <a:lnTo>
                        <a:pt x="1" y="39"/>
                      </a:lnTo>
                      <a:lnTo>
                        <a:pt x="0" y="49"/>
                      </a:lnTo>
                      <a:lnTo>
                        <a:pt x="1" y="60"/>
                      </a:lnTo>
                      <a:lnTo>
                        <a:pt x="5" y="69"/>
                      </a:lnTo>
                      <a:lnTo>
                        <a:pt x="10" y="77"/>
                      </a:lnTo>
                      <a:lnTo>
                        <a:pt x="17" y="84"/>
                      </a:lnTo>
                      <a:lnTo>
                        <a:pt x="27" y="91"/>
                      </a:lnTo>
                      <a:lnTo>
                        <a:pt x="37" y="95"/>
                      </a:lnTo>
                      <a:lnTo>
                        <a:pt x="47" y="98"/>
                      </a:lnTo>
                      <a:lnTo>
                        <a:pt x="60" y="9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43"/>
                <p:cNvSpPr/>
                <p:nvPr/>
              </p:nvSpPr>
              <p:spPr>
                <a:xfrm rot="20446200">
                  <a:off x="4561200" y="1773720"/>
                  <a:ext cx="285840" cy="309600"/>
                </a:xfrm>
                <a:custGeom>
                  <a:avLst/>
                  <a:gdLst/>
                  <a:ahLst/>
                  <a:rect l="l" t="t" r="r" b="b"/>
                  <a:pathLst>
                    <a:path w="360" h="392">
                      <a:moveTo>
                        <a:pt x="40" y="74"/>
                      </a:moveTo>
                      <a:lnTo>
                        <a:pt x="42" y="74"/>
                      </a:lnTo>
                      <a:lnTo>
                        <a:pt x="45" y="75"/>
                      </a:lnTo>
                      <a:lnTo>
                        <a:pt x="51" y="75"/>
                      </a:lnTo>
                      <a:lnTo>
                        <a:pt x="58" y="76"/>
                      </a:lnTo>
                      <a:lnTo>
                        <a:pt x="65" y="77"/>
                      </a:lnTo>
                      <a:lnTo>
                        <a:pt x="73" y="78"/>
                      </a:lnTo>
                      <a:lnTo>
                        <a:pt x="81" y="80"/>
                      </a:lnTo>
                      <a:lnTo>
                        <a:pt x="88" y="81"/>
                      </a:lnTo>
                      <a:lnTo>
                        <a:pt x="95" y="83"/>
                      </a:lnTo>
                      <a:lnTo>
                        <a:pt x="103" y="88"/>
                      </a:lnTo>
                      <a:lnTo>
                        <a:pt x="111" y="92"/>
                      </a:lnTo>
                      <a:lnTo>
                        <a:pt x="119" y="98"/>
                      </a:lnTo>
                      <a:lnTo>
                        <a:pt x="127" y="105"/>
                      </a:lnTo>
                      <a:lnTo>
                        <a:pt x="134" y="111"/>
                      </a:lnTo>
                      <a:lnTo>
                        <a:pt x="138" y="116"/>
                      </a:lnTo>
                      <a:lnTo>
                        <a:pt x="142" y="121"/>
                      </a:lnTo>
                      <a:lnTo>
                        <a:pt x="145" y="127"/>
                      </a:lnTo>
                      <a:lnTo>
                        <a:pt x="150" y="137"/>
                      </a:lnTo>
                      <a:lnTo>
                        <a:pt x="157" y="151"/>
                      </a:lnTo>
                      <a:lnTo>
                        <a:pt x="164" y="166"/>
                      </a:lnTo>
                      <a:lnTo>
                        <a:pt x="171" y="182"/>
                      </a:lnTo>
                      <a:lnTo>
                        <a:pt x="178" y="198"/>
                      </a:lnTo>
                      <a:lnTo>
                        <a:pt x="182" y="213"/>
                      </a:lnTo>
                      <a:lnTo>
                        <a:pt x="186" y="226"/>
                      </a:lnTo>
                      <a:lnTo>
                        <a:pt x="188" y="239"/>
                      </a:lnTo>
                      <a:lnTo>
                        <a:pt x="193" y="252"/>
                      </a:lnTo>
                      <a:lnTo>
                        <a:pt x="197" y="266"/>
                      </a:lnTo>
                      <a:lnTo>
                        <a:pt x="203" y="281"/>
                      </a:lnTo>
                      <a:lnTo>
                        <a:pt x="209" y="296"/>
                      </a:lnTo>
                      <a:lnTo>
                        <a:pt x="214" y="309"/>
                      </a:lnTo>
                      <a:lnTo>
                        <a:pt x="220" y="320"/>
                      </a:lnTo>
                      <a:lnTo>
                        <a:pt x="225" y="328"/>
                      </a:lnTo>
                      <a:lnTo>
                        <a:pt x="231" y="336"/>
                      </a:lnTo>
                      <a:lnTo>
                        <a:pt x="241" y="346"/>
                      </a:lnTo>
                      <a:lnTo>
                        <a:pt x="254" y="356"/>
                      </a:lnTo>
                      <a:lnTo>
                        <a:pt x="266" y="366"/>
                      </a:lnTo>
                      <a:lnTo>
                        <a:pt x="279" y="377"/>
                      </a:lnTo>
                      <a:lnTo>
                        <a:pt x="290" y="385"/>
                      </a:lnTo>
                      <a:lnTo>
                        <a:pt x="298" y="389"/>
                      </a:lnTo>
                      <a:lnTo>
                        <a:pt x="301" y="392"/>
                      </a:lnTo>
                      <a:lnTo>
                        <a:pt x="316" y="346"/>
                      </a:lnTo>
                      <a:lnTo>
                        <a:pt x="360" y="317"/>
                      </a:lnTo>
                      <a:lnTo>
                        <a:pt x="326" y="283"/>
                      </a:lnTo>
                      <a:lnTo>
                        <a:pt x="324" y="277"/>
                      </a:lnTo>
                      <a:lnTo>
                        <a:pt x="316" y="258"/>
                      </a:lnTo>
                      <a:lnTo>
                        <a:pt x="305" y="230"/>
                      </a:lnTo>
                      <a:lnTo>
                        <a:pt x="294" y="199"/>
                      </a:lnTo>
                      <a:lnTo>
                        <a:pt x="280" y="166"/>
                      </a:lnTo>
                      <a:lnTo>
                        <a:pt x="267" y="136"/>
                      </a:lnTo>
                      <a:lnTo>
                        <a:pt x="257" y="111"/>
                      </a:lnTo>
                      <a:lnTo>
                        <a:pt x="250" y="96"/>
                      </a:lnTo>
                      <a:lnTo>
                        <a:pt x="244" y="87"/>
                      </a:lnTo>
                      <a:lnTo>
                        <a:pt x="237" y="77"/>
                      </a:lnTo>
                      <a:lnTo>
                        <a:pt x="228" y="68"/>
                      </a:lnTo>
                      <a:lnTo>
                        <a:pt x="219" y="59"/>
                      </a:lnTo>
                      <a:lnTo>
                        <a:pt x="211" y="51"/>
                      </a:lnTo>
                      <a:lnTo>
                        <a:pt x="202" y="44"/>
                      </a:lnTo>
                      <a:lnTo>
                        <a:pt x="195" y="38"/>
                      </a:lnTo>
                      <a:lnTo>
                        <a:pt x="190" y="35"/>
                      </a:lnTo>
                      <a:lnTo>
                        <a:pt x="181" y="28"/>
                      </a:lnTo>
                      <a:lnTo>
                        <a:pt x="173" y="22"/>
                      </a:lnTo>
                      <a:lnTo>
                        <a:pt x="164" y="17"/>
                      </a:lnTo>
                      <a:lnTo>
                        <a:pt x="154" y="13"/>
                      </a:lnTo>
                      <a:lnTo>
                        <a:pt x="146" y="9"/>
                      </a:lnTo>
                      <a:lnTo>
                        <a:pt x="138" y="6"/>
                      </a:lnTo>
                      <a:lnTo>
                        <a:pt x="131" y="4"/>
                      </a:lnTo>
                      <a:lnTo>
                        <a:pt x="126" y="2"/>
                      </a:lnTo>
                      <a:lnTo>
                        <a:pt x="120" y="1"/>
                      </a:lnTo>
                      <a:lnTo>
                        <a:pt x="115" y="1"/>
                      </a:lnTo>
                      <a:lnTo>
                        <a:pt x="110" y="0"/>
                      </a:lnTo>
                      <a:lnTo>
                        <a:pt x="105" y="0"/>
                      </a:ln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92" y="0"/>
                      </a:lnTo>
                      <a:lnTo>
                        <a:pt x="89" y="0"/>
                      </a:lnTo>
                      <a:lnTo>
                        <a:pt x="81" y="0"/>
                      </a:lnTo>
                      <a:lnTo>
                        <a:pt x="74" y="1"/>
                      </a:lnTo>
                      <a:lnTo>
                        <a:pt x="68" y="2"/>
                      </a:lnTo>
                      <a:lnTo>
                        <a:pt x="62" y="2"/>
                      </a:lnTo>
                      <a:lnTo>
                        <a:pt x="57" y="4"/>
                      </a:lnTo>
                      <a:lnTo>
                        <a:pt x="52" y="5"/>
                      </a:lnTo>
                      <a:lnTo>
                        <a:pt x="47" y="6"/>
                      </a:lnTo>
                      <a:lnTo>
                        <a:pt x="43" y="6"/>
                      </a:lnTo>
                      <a:lnTo>
                        <a:pt x="36" y="7"/>
                      </a:lnTo>
                      <a:lnTo>
                        <a:pt x="29" y="9"/>
                      </a:lnTo>
                      <a:lnTo>
                        <a:pt x="22" y="12"/>
                      </a:lnTo>
                      <a:lnTo>
                        <a:pt x="15" y="14"/>
                      </a:lnTo>
                      <a:lnTo>
                        <a:pt x="9" y="16"/>
                      </a:lnTo>
                      <a:lnTo>
                        <a:pt x="5" y="17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40" y="7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44"/>
                <p:cNvSpPr/>
                <p:nvPr/>
              </p:nvSpPr>
              <p:spPr>
                <a:xfrm rot="20446200">
                  <a:off x="4329360" y="1947240"/>
                  <a:ext cx="272880" cy="312480"/>
                </a:xfrm>
                <a:custGeom>
                  <a:avLst/>
                  <a:gdLst/>
                  <a:ahLst/>
                  <a:rect l="l" t="t" r="r" b="b"/>
                  <a:pathLst>
                    <a:path w="346" h="393">
                      <a:moveTo>
                        <a:pt x="126" y="0"/>
                      </a:moveTo>
                      <a:lnTo>
                        <a:pt x="122" y="2"/>
                      </a:lnTo>
                      <a:lnTo>
                        <a:pt x="111" y="9"/>
                      </a:lnTo>
                      <a:lnTo>
                        <a:pt x="96" y="19"/>
                      </a:lnTo>
                      <a:lnTo>
                        <a:pt x="77" y="32"/>
                      </a:lnTo>
                      <a:lnTo>
                        <a:pt x="59" y="47"/>
                      </a:lnTo>
                      <a:lnTo>
                        <a:pt x="40" y="63"/>
                      </a:lnTo>
                      <a:lnTo>
                        <a:pt x="25" y="78"/>
                      </a:lnTo>
                      <a:lnTo>
                        <a:pt x="15" y="93"/>
                      </a:lnTo>
                      <a:lnTo>
                        <a:pt x="5" y="121"/>
                      </a:lnTo>
                      <a:lnTo>
                        <a:pt x="0" y="156"/>
                      </a:lnTo>
                      <a:lnTo>
                        <a:pt x="2" y="194"/>
                      </a:lnTo>
                      <a:lnTo>
                        <a:pt x="14" y="232"/>
                      </a:lnTo>
                      <a:lnTo>
                        <a:pt x="23" y="247"/>
                      </a:lnTo>
                      <a:lnTo>
                        <a:pt x="36" y="261"/>
                      </a:lnTo>
                      <a:lnTo>
                        <a:pt x="52" y="276"/>
                      </a:lnTo>
                      <a:lnTo>
                        <a:pt x="71" y="290"/>
                      </a:lnTo>
                      <a:lnTo>
                        <a:pt x="92" y="304"/>
                      </a:lnTo>
                      <a:lnTo>
                        <a:pt x="114" y="317"/>
                      </a:lnTo>
                      <a:lnTo>
                        <a:pt x="137" y="330"/>
                      </a:lnTo>
                      <a:lnTo>
                        <a:pt x="160" y="342"/>
                      </a:lnTo>
                      <a:lnTo>
                        <a:pt x="183" y="353"/>
                      </a:lnTo>
                      <a:lnTo>
                        <a:pt x="204" y="362"/>
                      </a:lnTo>
                      <a:lnTo>
                        <a:pt x="225" y="372"/>
                      </a:lnTo>
                      <a:lnTo>
                        <a:pt x="242" y="380"/>
                      </a:lnTo>
                      <a:lnTo>
                        <a:pt x="257" y="385"/>
                      </a:lnTo>
                      <a:lnTo>
                        <a:pt x="268" y="390"/>
                      </a:lnTo>
                      <a:lnTo>
                        <a:pt x="275" y="392"/>
                      </a:lnTo>
                      <a:lnTo>
                        <a:pt x="278" y="393"/>
                      </a:lnTo>
                      <a:lnTo>
                        <a:pt x="346" y="342"/>
                      </a:lnTo>
                      <a:lnTo>
                        <a:pt x="343" y="340"/>
                      </a:lnTo>
                      <a:lnTo>
                        <a:pt x="338" y="337"/>
                      </a:lnTo>
                      <a:lnTo>
                        <a:pt x="327" y="331"/>
                      </a:lnTo>
                      <a:lnTo>
                        <a:pt x="315" y="323"/>
                      </a:lnTo>
                      <a:lnTo>
                        <a:pt x="300" y="315"/>
                      </a:lnTo>
                      <a:lnTo>
                        <a:pt x="282" y="305"/>
                      </a:lnTo>
                      <a:lnTo>
                        <a:pt x="264" y="293"/>
                      </a:lnTo>
                      <a:lnTo>
                        <a:pt x="244" y="282"/>
                      </a:lnTo>
                      <a:lnTo>
                        <a:pt x="224" y="269"/>
                      </a:lnTo>
                      <a:lnTo>
                        <a:pt x="204" y="256"/>
                      </a:lnTo>
                      <a:lnTo>
                        <a:pt x="184" y="245"/>
                      </a:lnTo>
                      <a:lnTo>
                        <a:pt x="167" y="232"/>
                      </a:lnTo>
                      <a:lnTo>
                        <a:pt x="151" y="222"/>
                      </a:lnTo>
                      <a:lnTo>
                        <a:pt x="136" y="211"/>
                      </a:lnTo>
                      <a:lnTo>
                        <a:pt x="124" y="202"/>
                      </a:lnTo>
                      <a:lnTo>
                        <a:pt x="116" y="195"/>
                      </a:lnTo>
                      <a:lnTo>
                        <a:pt x="106" y="183"/>
                      </a:lnTo>
                      <a:lnTo>
                        <a:pt x="99" y="170"/>
                      </a:lnTo>
                      <a:lnTo>
                        <a:pt x="96" y="159"/>
                      </a:lnTo>
                      <a:lnTo>
                        <a:pt x="96" y="148"/>
                      </a:lnTo>
                      <a:lnTo>
                        <a:pt x="97" y="140"/>
                      </a:lnTo>
                      <a:lnTo>
                        <a:pt x="99" y="133"/>
                      </a:lnTo>
                      <a:lnTo>
                        <a:pt x="100" y="129"/>
                      </a:lnTo>
                      <a:lnTo>
                        <a:pt x="101" y="127"/>
                      </a:lnTo>
                      <a:lnTo>
                        <a:pt x="157" y="54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45"/>
                <p:cNvSpPr/>
                <p:nvPr/>
              </p:nvSpPr>
              <p:spPr>
                <a:xfrm rot="20446200">
                  <a:off x="4161960" y="2539800"/>
                  <a:ext cx="1260720" cy="1074960"/>
                </a:xfrm>
                <a:custGeom>
                  <a:avLst/>
                  <a:gdLst/>
                  <a:ahLst/>
                  <a:rect l="l" t="t" r="r" b="b"/>
                  <a:pathLst>
                    <a:path w="1589" h="1353">
                      <a:moveTo>
                        <a:pt x="438" y="0"/>
                      </a:moveTo>
                      <a:lnTo>
                        <a:pt x="160" y="145"/>
                      </a:lnTo>
                      <a:lnTo>
                        <a:pt x="158" y="147"/>
                      </a:lnTo>
                      <a:lnTo>
                        <a:pt x="153" y="153"/>
                      </a:lnTo>
                      <a:lnTo>
                        <a:pt x="146" y="161"/>
                      </a:lnTo>
                      <a:lnTo>
                        <a:pt x="137" y="172"/>
                      </a:lnTo>
                      <a:lnTo>
                        <a:pt x="128" y="183"/>
                      </a:lnTo>
                      <a:lnTo>
                        <a:pt x="120" y="195"/>
                      </a:lnTo>
                      <a:lnTo>
                        <a:pt x="113" y="205"/>
                      </a:lnTo>
                      <a:lnTo>
                        <a:pt x="108" y="213"/>
                      </a:lnTo>
                      <a:lnTo>
                        <a:pt x="96" y="252"/>
                      </a:lnTo>
                      <a:lnTo>
                        <a:pt x="81" y="318"/>
                      </a:lnTo>
                      <a:lnTo>
                        <a:pt x="62" y="400"/>
                      </a:lnTo>
                      <a:lnTo>
                        <a:pt x="44" y="488"/>
                      </a:lnTo>
                      <a:lnTo>
                        <a:pt x="28" y="575"/>
                      </a:lnTo>
                      <a:lnTo>
                        <a:pt x="13" y="648"/>
                      </a:lnTo>
                      <a:lnTo>
                        <a:pt x="4" y="699"/>
                      </a:lnTo>
                      <a:lnTo>
                        <a:pt x="0" y="719"/>
                      </a:lnTo>
                      <a:lnTo>
                        <a:pt x="2" y="721"/>
                      </a:lnTo>
                      <a:lnTo>
                        <a:pt x="10" y="729"/>
                      </a:lnTo>
                      <a:lnTo>
                        <a:pt x="22" y="740"/>
                      </a:lnTo>
                      <a:lnTo>
                        <a:pt x="38" y="758"/>
                      </a:lnTo>
                      <a:lnTo>
                        <a:pt x="59" y="777"/>
                      </a:lnTo>
                      <a:lnTo>
                        <a:pt x="84" y="801"/>
                      </a:lnTo>
                      <a:lnTo>
                        <a:pt x="112" y="828"/>
                      </a:lnTo>
                      <a:lnTo>
                        <a:pt x="144" y="858"/>
                      </a:lnTo>
                      <a:lnTo>
                        <a:pt x="179" y="889"/>
                      </a:lnTo>
                      <a:lnTo>
                        <a:pt x="218" y="922"/>
                      </a:lnTo>
                      <a:lnTo>
                        <a:pt x="258" y="958"/>
                      </a:lnTo>
                      <a:lnTo>
                        <a:pt x="302" y="994"/>
                      </a:lnTo>
                      <a:lnTo>
                        <a:pt x="348" y="1031"/>
                      </a:lnTo>
                      <a:lnTo>
                        <a:pt x="396" y="1069"/>
                      </a:lnTo>
                      <a:lnTo>
                        <a:pt x="446" y="1105"/>
                      </a:lnTo>
                      <a:lnTo>
                        <a:pt x="498" y="1142"/>
                      </a:lnTo>
                      <a:lnTo>
                        <a:pt x="520" y="1157"/>
                      </a:lnTo>
                      <a:lnTo>
                        <a:pt x="542" y="1172"/>
                      </a:lnTo>
                      <a:lnTo>
                        <a:pt x="563" y="1187"/>
                      </a:lnTo>
                      <a:lnTo>
                        <a:pt x="586" y="1201"/>
                      </a:lnTo>
                      <a:lnTo>
                        <a:pt x="608" y="1216"/>
                      </a:lnTo>
                      <a:lnTo>
                        <a:pt x="631" y="1230"/>
                      </a:lnTo>
                      <a:lnTo>
                        <a:pt x="654" y="1244"/>
                      </a:lnTo>
                      <a:lnTo>
                        <a:pt x="678" y="1256"/>
                      </a:lnTo>
                      <a:lnTo>
                        <a:pt x="701" y="1269"/>
                      </a:lnTo>
                      <a:lnTo>
                        <a:pt x="725" y="1282"/>
                      </a:lnTo>
                      <a:lnTo>
                        <a:pt x="748" y="1294"/>
                      </a:lnTo>
                      <a:lnTo>
                        <a:pt x="771" y="1306"/>
                      </a:lnTo>
                      <a:lnTo>
                        <a:pt x="795" y="1317"/>
                      </a:lnTo>
                      <a:lnTo>
                        <a:pt x="818" y="1328"/>
                      </a:lnTo>
                      <a:lnTo>
                        <a:pt x="842" y="1338"/>
                      </a:lnTo>
                      <a:lnTo>
                        <a:pt x="865" y="1347"/>
                      </a:lnTo>
                      <a:lnTo>
                        <a:pt x="870" y="1348"/>
                      </a:lnTo>
                      <a:lnTo>
                        <a:pt x="875" y="1350"/>
                      </a:lnTo>
                      <a:lnTo>
                        <a:pt x="879" y="1351"/>
                      </a:lnTo>
                      <a:lnTo>
                        <a:pt x="886" y="1352"/>
                      </a:lnTo>
                      <a:lnTo>
                        <a:pt x="892" y="1352"/>
                      </a:lnTo>
                      <a:lnTo>
                        <a:pt x="899" y="1353"/>
                      </a:lnTo>
                      <a:lnTo>
                        <a:pt x="906" y="1353"/>
                      </a:lnTo>
                      <a:lnTo>
                        <a:pt x="914" y="1353"/>
                      </a:lnTo>
                      <a:lnTo>
                        <a:pt x="925" y="1353"/>
                      </a:lnTo>
                      <a:lnTo>
                        <a:pt x="937" y="1352"/>
                      </a:lnTo>
                      <a:lnTo>
                        <a:pt x="949" y="1352"/>
                      </a:lnTo>
                      <a:lnTo>
                        <a:pt x="962" y="1351"/>
                      </a:lnTo>
                      <a:lnTo>
                        <a:pt x="976" y="1350"/>
                      </a:lnTo>
                      <a:lnTo>
                        <a:pt x="990" y="1347"/>
                      </a:lnTo>
                      <a:lnTo>
                        <a:pt x="1005" y="1345"/>
                      </a:lnTo>
                      <a:lnTo>
                        <a:pt x="1020" y="1344"/>
                      </a:lnTo>
                      <a:lnTo>
                        <a:pt x="1035" y="1341"/>
                      </a:lnTo>
                      <a:lnTo>
                        <a:pt x="1051" y="1338"/>
                      </a:lnTo>
                      <a:lnTo>
                        <a:pt x="1066" y="1336"/>
                      </a:lnTo>
                      <a:lnTo>
                        <a:pt x="1082" y="1333"/>
                      </a:lnTo>
                      <a:lnTo>
                        <a:pt x="1098" y="1330"/>
                      </a:lnTo>
                      <a:lnTo>
                        <a:pt x="1114" y="1328"/>
                      </a:lnTo>
                      <a:lnTo>
                        <a:pt x="1130" y="1324"/>
                      </a:lnTo>
                      <a:lnTo>
                        <a:pt x="1146" y="1321"/>
                      </a:lnTo>
                      <a:lnTo>
                        <a:pt x="1165" y="1317"/>
                      </a:lnTo>
                      <a:lnTo>
                        <a:pt x="1183" y="1313"/>
                      </a:lnTo>
                      <a:lnTo>
                        <a:pt x="1201" y="1309"/>
                      </a:lnTo>
                      <a:lnTo>
                        <a:pt x="1218" y="1305"/>
                      </a:lnTo>
                      <a:lnTo>
                        <a:pt x="1235" y="1300"/>
                      </a:lnTo>
                      <a:lnTo>
                        <a:pt x="1251" y="1297"/>
                      </a:lnTo>
                      <a:lnTo>
                        <a:pt x="1267" y="1292"/>
                      </a:lnTo>
                      <a:lnTo>
                        <a:pt x="1282" y="1289"/>
                      </a:lnTo>
                      <a:lnTo>
                        <a:pt x="1297" y="1284"/>
                      </a:lnTo>
                      <a:lnTo>
                        <a:pt x="1311" y="1280"/>
                      </a:lnTo>
                      <a:lnTo>
                        <a:pt x="1324" y="1277"/>
                      </a:lnTo>
                      <a:lnTo>
                        <a:pt x="1335" y="1274"/>
                      </a:lnTo>
                      <a:lnTo>
                        <a:pt x="1346" y="1270"/>
                      </a:lnTo>
                      <a:lnTo>
                        <a:pt x="1355" y="1267"/>
                      </a:lnTo>
                      <a:lnTo>
                        <a:pt x="1364" y="1263"/>
                      </a:lnTo>
                      <a:lnTo>
                        <a:pt x="1371" y="1261"/>
                      </a:lnTo>
                      <a:lnTo>
                        <a:pt x="1386" y="1252"/>
                      </a:lnTo>
                      <a:lnTo>
                        <a:pt x="1401" y="1238"/>
                      </a:lnTo>
                      <a:lnTo>
                        <a:pt x="1418" y="1217"/>
                      </a:lnTo>
                      <a:lnTo>
                        <a:pt x="1434" y="1194"/>
                      </a:lnTo>
                      <a:lnTo>
                        <a:pt x="1452" y="1166"/>
                      </a:lnTo>
                      <a:lnTo>
                        <a:pt x="1469" y="1137"/>
                      </a:lnTo>
                      <a:lnTo>
                        <a:pt x="1486" y="1104"/>
                      </a:lnTo>
                      <a:lnTo>
                        <a:pt x="1504" y="1071"/>
                      </a:lnTo>
                      <a:lnTo>
                        <a:pt x="1519" y="1039"/>
                      </a:lnTo>
                      <a:lnTo>
                        <a:pt x="1533" y="1005"/>
                      </a:lnTo>
                      <a:lnTo>
                        <a:pt x="1547" y="974"/>
                      </a:lnTo>
                      <a:lnTo>
                        <a:pt x="1560" y="945"/>
                      </a:lnTo>
                      <a:lnTo>
                        <a:pt x="1570" y="920"/>
                      </a:lnTo>
                      <a:lnTo>
                        <a:pt x="1578" y="898"/>
                      </a:lnTo>
                      <a:lnTo>
                        <a:pt x="1584" y="880"/>
                      </a:lnTo>
                      <a:lnTo>
                        <a:pt x="1588" y="868"/>
                      </a:lnTo>
                      <a:lnTo>
                        <a:pt x="1589" y="844"/>
                      </a:lnTo>
                      <a:lnTo>
                        <a:pt x="1585" y="812"/>
                      </a:lnTo>
                      <a:lnTo>
                        <a:pt x="1578" y="774"/>
                      </a:lnTo>
                      <a:lnTo>
                        <a:pt x="1569" y="733"/>
                      </a:lnTo>
                      <a:lnTo>
                        <a:pt x="1560" y="697"/>
                      </a:lnTo>
                      <a:lnTo>
                        <a:pt x="1552" y="666"/>
                      </a:lnTo>
                      <a:lnTo>
                        <a:pt x="1545" y="644"/>
                      </a:lnTo>
                      <a:lnTo>
                        <a:pt x="1543" y="636"/>
                      </a:lnTo>
                      <a:lnTo>
                        <a:pt x="438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46"/>
                <p:cNvSpPr/>
                <p:nvPr/>
              </p:nvSpPr>
              <p:spPr>
                <a:xfrm rot="20446200">
                  <a:off x="4434120" y="2424960"/>
                  <a:ext cx="911160" cy="841680"/>
                </a:xfrm>
                <a:custGeom>
                  <a:avLst/>
                  <a:gdLst/>
                  <a:ahLst/>
                  <a:rect l="l" t="t" r="r" b="b"/>
                  <a:pathLst>
                    <a:path w="1149" h="1059">
                      <a:moveTo>
                        <a:pt x="62" y="0"/>
                      </a:moveTo>
                      <a:lnTo>
                        <a:pt x="51" y="7"/>
                      </a:lnTo>
                      <a:lnTo>
                        <a:pt x="41" y="20"/>
                      </a:lnTo>
                      <a:lnTo>
                        <a:pt x="29" y="38"/>
                      </a:lnTo>
                      <a:lnTo>
                        <a:pt x="20" y="56"/>
                      </a:lnTo>
                      <a:lnTo>
                        <a:pt x="12" y="75"/>
                      </a:lnTo>
                      <a:lnTo>
                        <a:pt x="6" y="90"/>
                      </a:lnTo>
                      <a:lnTo>
                        <a:pt x="1" y="100"/>
                      </a:lnTo>
                      <a:lnTo>
                        <a:pt x="0" y="105"/>
                      </a:lnTo>
                      <a:lnTo>
                        <a:pt x="155" y="197"/>
                      </a:lnTo>
                      <a:lnTo>
                        <a:pt x="736" y="596"/>
                      </a:lnTo>
                      <a:lnTo>
                        <a:pt x="740" y="615"/>
                      </a:lnTo>
                      <a:lnTo>
                        <a:pt x="748" y="663"/>
                      </a:lnTo>
                      <a:lnTo>
                        <a:pt x="761" y="733"/>
                      </a:lnTo>
                      <a:lnTo>
                        <a:pt x="777" y="813"/>
                      </a:lnTo>
                      <a:lnTo>
                        <a:pt x="793" y="894"/>
                      </a:lnTo>
                      <a:lnTo>
                        <a:pt x="809" y="968"/>
                      </a:lnTo>
                      <a:lnTo>
                        <a:pt x="824" y="1022"/>
                      </a:lnTo>
                      <a:lnTo>
                        <a:pt x="837" y="1050"/>
                      </a:lnTo>
                      <a:lnTo>
                        <a:pt x="846" y="1057"/>
                      </a:lnTo>
                      <a:lnTo>
                        <a:pt x="857" y="1059"/>
                      </a:lnTo>
                      <a:lnTo>
                        <a:pt x="869" y="1059"/>
                      </a:lnTo>
                      <a:lnTo>
                        <a:pt x="882" y="1057"/>
                      </a:lnTo>
                      <a:lnTo>
                        <a:pt x="892" y="1055"/>
                      </a:lnTo>
                      <a:lnTo>
                        <a:pt x="901" y="1051"/>
                      </a:lnTo>
                      <a:lnTo>
                        <a:pt x="907" y="1049"/>
                      </a:lnTo>
                      <a:lnTo>
                        <a:pt x="909" y="1048"/>
                      </a:lnTo>
                      <a:lnTo>
                        <a:pt x="939" y="973"/>
                      </a:lnTo>
                      <a:lnTo>
                        <a:pt x="942" y="970"/>
                      </a:lnTo>
                      <a:lnTo>
                        <a:pt x="948" y="962"/>
                      </a:lnTo>
                      <a:lnTo>
                        <a:pt x="960" y="950"/>
                      </a:lnTo>
                      <a:lnTo>
                        <a:pt x="974" y="932"/>
                      </a:lnTo>
                      <a:lnTo>
                        <a:pt x="990" y="913"/>
                      </a:lnTo>
                      <a:lnTo>
                        <a:pt x="1008" y="890"/>
                      </a:lnTo>
                      <a:lnTo>
                        <a:pt x="1028" y="865"/>
                      </a:lnTo>
                      <a:lnTo>
                        <a:pt x="1049" y="838"/>
                      </a:lnTo>
                      <a:lnTo>
                        <a:pt x="1068" y="810"/>
                      </a:lnTo>
                      <a:lnTo>
                        <a:pt x="1088" y="783"/>
                      </a:lnTo>
                      <a:lnTo>
                        <a:pt x="1105" y="754"/>
                      </a:lnTo>
                      <a:lnTo>
                        <a:pt x="1121" y="728"/>
                      </a:lnTo>
                      <a:lnTo>
                        <a:pt x="1134" y="701"/>
                      </a:lnTo>
                      <a:lnTo>
                        <a:pt x="1143" y="677"/>
                      </a:lnTo>
                      <a:lnTo>
                        <a:pt x="1149" y="655"/>
                      </a:lnTo>
                      <a:lnTo>
                        <a:pt x="1149" y="637"/>
                      </a:lnTo>
                      <a:lnTo>
                        <a:pt x="1142" y="614"/>
                      </a:lnTo>
                      <a:lnTo>
                        <a:pt x="1129" y="589"/>
                      </a:lnTo>
                      <a:lnTo>
                        <a:pt x="1111" y="563"/>
                      </a:lnTo>
                      <a:lnTo>
                        <a:pt x="1088" y="535"/>
                      </a:lnTo>
                      <a:lnTo>
                        <a:pt x="1061" y="508"/>
                      </a:lnTo>
                      <a:lnTo>
                        <a:pt x="1033" y="480"/>
                      </a:lnTo>
                      <a:lnTo>
                        <a:pt x="1001" y="452"/>
                      </a:lnTo>
                      <a:lnTo>
                        <a:pt x="970" y="425"/>
                      </a:lnTo>
                      <a:lnTo>
                        <a:pt x="938" y="399"/>
                      </a:lnTo>
                      <a:lnTo>
                        <a:pt x="908" y="376"/>
                      </a:lnTo>
                      <a:lnTo>
                        <a:pt x="879" y="356"/>
                      </a:lnTo>
                      <a:lnTo>
                        <a:pt x="854" y="337"/>
                      </a:lnTo>
                      <a:lnTo>
                        <a:pt x="833" y="321"/>
                      </a:lnTo>
                      <a:lnTo>
                        <a:pt x="816" y="310"/>
                      </a:lnTo>
                      <a:lnTo>
                        <a:pt x="806" y="303"/>
                      </a:lnTo>
                      <a:lnTo>
                        <a:pt x="802" y="300"/>
                      </a:lnTo>
                      <a:lnTo>
                        <a:pt x="371" y="76"/>
                      </a:lnTo>
                      <a:lnTo>
                        <a:pt x="230" y="107"/>
                      </a:lnTo>
                      <a:lnTo>
                        <a:pt x="224" y="102"/>
                      </a:lnTo>
                      <a:lnTo>
                        <a:pt x="208" y="88"/>
                      </a:lnTo>
                      <a:lnTo>
                        <a:pt x="185" y="70"/>
                      </a:lnTo>
                      <a:lnTo>
                        <a:pt x="157" y="49"/>
                      </a:lnTo>
                      <a:lnTo>
                        <a:pt x="128" y="29"/>
                      </a:lnTo>
                      <a:lnTo>
                        <a:pt x="102" y="12"/>
                      </a:lnTo>
                      <a:lnTo>
                        <a:pt x="79" y="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147"/>
                <p:cNvSpPr/>
                <p:nvPr/>
              </p:nvSpPr>
              <p:spPr>
                <a:xfrm rot="20446200">
                  <a:off x="4664880" y="2505240"/>
                  <a:ext cx="588960" cy="603000"/>
                </a:xfrm>
                <a:custGeom>
                  <a:avLst/>
                  <a:gdLst/>
                  <a:ahLst/>
                  <a:rect l="l" t="t" r="r" b="b"/>
                  <a:pathLst>
                    <a:path w="742" h="760">
                      <a:moveTo>
                        <a:pt x="37" y="0"/>
                      </a:moveTo>
                      <a:lnTo>
                        <a:pt x="536" y="304"/>
                      </a:lnTo>
                      <a:lnTo>
                        <a:pt x="742" y="479"/>
                      </a:lnTo>
                      <a:lnTo>
                        <a:pt x="737" y="517"/>
                      </a:lnTo>
                      <a:lnTo>
                        <a:pt x="566" y="760"/>
                      </a:lnTo>
                      <a:lnTo>
                        <a:pt x="554" y="454"/>
                      </a:lnTo>
                      <a:lnTo>
                        <a:pt x="479" y="360"/>
                      </a:lnTo>
                      <a:lnTo>
                        <a:pt x="0" y="5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48"/>
                <p:cNvSpPr/>
                <p:nvPr/>
              </p:nvSpPr>
              <p:spPr>
                <a:xfrm rot="20446200">
                  <a:off x="4775400" y="2728440"/>
                  <a:ext cx="168120" cy="150840"/>
                </a:xfrm>
                <a:custGeom>
                  <a:avLst/>
                  <a:gdLst/>
                  <a:ahLst/>
                  <a:rect l="l" t="t" r="r" b="b"/>
                  <a:pathLst>
                    <a:path w="212" h="189">
                      <a:moveTo>
                        <a:pt x="124" y="189"/>
                      </a:moveTo>
                      <a:lnTo>
                        <a:pt x="146" y="184"/>
                      </a:lnTo>
                      <a:lnTo>
                        <a:pt x="165" y="179"/>
                      </a:lnTo>
                      <a:lnTo>
                        <a:pt x="180" y="173"/>
                      </a:lnTo>
                      <a:lnTo>
                        <a:pt x="191" y="163"/>
                      </a:lnTo>
                      <a:lnTo>
                        <a:pt x="200" y="153"/>
                      </a:lnTo>
                      <a:lnTo>
                        <a:pt x="207" y="139"/>
                      </a:lnTo>
                      <a:lnTo>
                        <a:pt x="211" y="122"/>
                      </a:lnTo>
                      <a:lnTo>
                        <a:pt x="212" y="102"/>
                      </a:lnTo>
                      <a:lnTo>
                        <a:pt x="211" y="82"/>
                      </a:lnTo>
                      <a:lnTo>
                        <a:pt x="205" y="62"/>
                      </a:lnTo>
                      <a:lnTo>
                        <a:pt x="198" y="44"/>
                      </a:lnTo>
                      <a:lnTo>
                        <a:pt x="187" y="29"/>
                      </a:lnTo>
                      <a:lnTo>
                        <a:pt x="173" y="17"/>
                      </a:lnTo>
                      <a:lnTo>
                        <a:pt x="157" y="8"/>
                      </a:lnTo>
                      <a:lnTo>
                        <a:pt x="138" y="2"/>
                      </a:lnTo>
                      <a:lnTo>
                        <a:pt x="117" y="0"/>
                      </a:lnTo>
                      <a:lnTo>
                        <a:pt x="96" y="1"/>
                      </a:lnTo>
                      <a:lnTo>
                        <a:pt x="75" y="6"/>
                      </a:lnTo>
                      <a:lnTo>
                        <a:pt x="55" y="14"/>
                      </a:lnTo>
                      <a:lnTo>
                        <a:pt x="38" y="25"/>
                      </a:lnTo>
                      <a:lnTo>
                        <a:pt x="23" y="39"/>
                      </a:lnTo>
                      <a:lnTo>
                        <a:pt x="11" y="56"/>
                      </a:lnTo>
                      <a:lnTo>
                        <a:pt x="3" y="78"/>
                      </a:lnTo>
                      <a:lnTo>
                        <a:pt x="0" y="102"/>
                      </a:lnTo>
                      <a:lnTo>
                        <a:pt x="124" y="1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149"/>
                <p:cNvSpPr/>
                <p:nvPr/>
              </p:nvSpPr>
              <p:spPr>
                <a:xfrm rot="20446200">
                  <a:off x="4482000" y="2643840"/>
                  <a:ext cx="169920" cy="158760"/>
                </a:xfrm>
                <a:custGeom>
                  <a:avLst/>
                  <a:gdLst/>
                  <a:ahLst/>
                  <a:rect l="l" t="t" r="r" b="b"/>
                  <a:pathLst>
                    <a:path w="215" h="200">
                      <a:moveTo>
                        <a:pt x="139" y="200"/>
                      </a:moveTo>
                      <a:lnTo>
                        <a:pt x="159" y="199"/>
                      </a:lnTo>
                      <a:lnTo>
                        <a:pt x="176" y="194"/>
                      </a:lnTo>
                      <a:lnTo>
                        <a:pt x="189" y="187"/>
                      </a:lnTo>
                      <a:lnTo>
                        <a:pt x="199" y="177"/>
                      </a:lnTo>
                      <a:lnTo>
                        <a:pt x="207" y="164"/>
                      </a:lnTo>
                      <a:lnTo>
                        <a:pt x="212" y="149"/>
                      </a:lnTo>
                      <a:lnTo>
                        <a:pt x="214" y="131"/>
                      </a:lnTo>
                      <a:lnTo>
                        <a:pt x="215" y="109"/>
                      </a:lnTo>
                      <a:lnTo>
                        <a:pt x="213" y="87"/>
                      </a:lnTo>
                      <a:lnTo>
                        <a:pt x="207" y="67"/>
                      </a:lnTo>
                      <a:lnTo>
                        <a:pt x="197" y="48"/>
                      </a:lnTo>
                      <a:lnTo>
                        <a:pt x="184" y="32"/>
                      </a:lnTo>
                      <a:lnTo>
                        <a:pt x="169" y="18"/>
                      </a:lnTo>
                      <a:lnTo>
                        <a:pt x="151" y="9"/>
                      </a:lnTo>
                      <a:lnTo>
                        <a:pt x="131" y="2"/>
                      </a:lnTo>
                      <a:lnTo>
                        <a:pt x="110" y="0"/>
                      </a:lnTo>
                      <a:lnTo>
                        <a:pt x="88" y="1"/>
                      </a:lnTo>
                      <a:lnTo>
                        <a:pt x="68" y="6"/>
                      </a:lnTo>
                      <a:lnTo>
                        <a:pt x="50" y="14"/>
                      </a:lnTo>
                      <a:lnTo>
                        <a:pt x="32" y="24"/>
                      </a:lnTo>
                      <a:lnTo>
                        <a:pt x="20" y="38"/>
                      </a:lnTo>
                      <a:lnTo>
                        <a:pt x="9" y="54"/>
                      </a:lnTo>
                      <a:lnTo>
                        <a:pt x="2" y="73"/>
                      </a:lnTo>
                      <a:lnTo>
                        <a:pt x="0" y="94"/>
                      </a:lnTo>
                      <a:lnTo>
                        <a:pt x="4" y="116"/>
                      </a:lnTo>
                      <a:lnTo>
                        <a:pt x="14" y="137"/>
                      </a:lnTo>
                      <a:lnTo>
                        <a:pt x="29" y="154"/>
                      </a:lnTo>
                      <a:lnTo>
                        <a:pt x="47" y="170"/>
                      </a:lnTo>
                      <a:lnTo>
                        <a:pt x="69" y="183"/>
                      </a:lnTo>
                      <a:lnTo>
                        <a:pt x="93" y="192"/>
                      </a:lnTo>
                      <a:lnTo>
                        <a:pt x="116" y="198"/>
                      </a:lnTo>
                      <a:lnTo>
                        <a:pt x="139" y="20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150"/>
                <p:cNvSpPr/>
                <p:nvPr/>
              </p:nvSpPr>
              <p:spPr>
                <a:xfrm rot="20446200">
                  <a:off x="4656600" y="2665440"/>
                  <a:ext cx="179280" cy="103320"/>
                </a:xfrm>
                <a:custGeom>
                  <a:avLst/>
                  <a:gdLst/>
                  <a:ahLst/>
                  <a:rect l="l" t="t" r="r" b="b"/>
                  <a:pathLst>
                    <a:path w="225" h="131">
                      <a:moveTo>
                        <a:pt x="0" y="78"/>
                      </a:moveTo>
                      <a:lnTo>
                        <a:pt x="60" y="15"/>
                      </a:lnTo>
                      <a:lnTo>
                        <a:pt x="225" y="0"/>
                      </a:lnTo>
                      <a:lnTo>
                        <a:pt x="217" y="75"/>
                      </a:lnTo>
                      <a:lnTo>
                        <a:pt x="97" y="131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51"/>
                <p:cNvSpPr/>
                <p:nvPr/>
              </p:nvSpPr>
              <p:spPr>
                <a:xfrm rot="20446200">
                  <a:off x="4500360" y="2423880"/>
                  <a:ext cx="600120" cy="361800"/>
                </a:xfrm>
                <a:custGeom>
                  <a:avLst/>
                  <a:gdLst/>
                  <a:ahLst/>
                  <a:rect l="l" t="t" r="r" b="b"/>
                  <a:pathLst>
                    <a:path w="756" h="456">
                      <a:moveTo>
                        <a:pt x="0" y="210"/>
                      </a:moveTo>
                      <a:lnTo>
                        <a:pt x="57" y="75"/>
                      </a:lnTo>
                      <a:lnTo>
                        <a:pt x="58" y="72"/>
                      </a:lnTo>
                      <a:lnTo>
                        <a:pt x="61" y="62"/>
                      </a:lnTo>
                      <a:lnTo>
                        <a:pt x="69" y="49"/>
                      </a:lnTo>
                      <a:lnTo>
                        <a:pt x="81" y="34"/>
                      </a:lnTo>
                      <a:lnTo>
                        <a:pt x="96" y="20"/>
                      </a:lnTo>
                      <a:lnTo>
                        <a:pt x="116" y="8"/>
                      </a:lnTo>
                      <a:lnTo>
                        <a:pt x="143" y="0"/>
                      </a:lnTo>
                      <a:lnTo>
                        <a:pt x="176" y="0"/>
                      </a:lnTo>
                      <a:lnTo>
                        <a:pt x="203" y="6"/>
                      </a:lnTo>
                      <a:lnTo>
                        <a:pt x="232" y="17"/>
                      </a:lnTo>
                      <a:lnTo>
                        <a:pt x="260" y="32"/>
                      </a:lnTo>
                      <a:lnTo>
                        <a:pt x="288" y="49"/>
                      </a:lnTo>
                      <a:lnTo>
                        <a:pt x="312" y="66"/>
                      </a:lnTo>
                      <a:lnTo>
                        <a:pt x="332" y="80"/>
                      </a:lnTo>
                      <a:lnTo>
                        <a:pt x="345" y="90"/>
                      </a:lnTo>
                      <a:lnTo>
                        <a:pt x="349" y="93"/>
                      </a:lnTo>
                      <a:lnTo>
                        <a:pt x="350" y="92"/>
                      </a:lnTo>
                      <a:lnTo>
                        <a:pt x="355" y="90"/>
                      </a:lnTo>
                      <a:lnTo>
                        <a:pt x="361" y="88"/>
                      </a:lnTo>
                      <a:lnTo>
                        <a:pt x="368" y="84"/>
                      </a:lnTo>
                      <a:lnTo>
                        <a:pt x="374" y="81"/>
                      </a:lnTo>
                      <a:lnTo>
                        <a:pt x="383" y="77"/>
                      </a:lnTo>
                      <a:lnTo>
                        <a:pt x="388" y="76"/>
                      </a:lnTo>
                      <a:lnTo>
                        <a:pt x="394" y="75"/>
                      </a:lnTo>
                      <a:lnTo>
                        <a:pt x="399" y="74"/>
                      </a:lnTo>
                      <a:lnTo>
                        <a:pt x="404" y="73"/>
                      </a:lnTo>
                      <a:lnTo>
                        <a:pt x="412" y="72"/>
                      </a:lnTo>
                      <a:lnTo>
                        <a:pt x="422" y="72"/>
                      </a:lnTo>
                      <a:lnTo>
                        <a:pt x="433" y="72"/>
                      </a:lnTo>
                      <a:lnTo>
                        <a:pt x="447" y="75"/>
                      </a:lnTo>
                      <a:lnTo>
                        <a:pt x="464" y="81"/>
                      </a:lnTo>
                      <a:lnTo>
                        <a:pt x="484" y="90"/>
                      </a:lnTo>
                      <a:lnTo>
                        <a:pt x="495" y="96"/>
                      </a:lnTo>
                      <a:lnTo>
                        <a:pt x="509" y="104"/>
                      </a:lnTo>
                      <a:lnTo>
                        <a:pt x="524" y="112"/>
                      </a:lnTo>
                      <a:lnTo>
                        <a:pt x="540" y="121"/>
                      </a:lnTo>
                      <a:lnTo>
                        <a:pt x="558" y="131"/>
                      </a:lnTo>
                      <a:lnTo>
                        <a:pt x="576" y="143"/>
                      </a:lnTo>
                      <a:lnTo>
                        <a:pt x="595" y="154"/>
                      </a:lnTo>
                      <a:lnTo>
                        <a:pt x="613" y="166"/>
                      </a:lnTo>
                      <a:lnTo>
                        <a:pt x="633" y="179"/>
                      </a:lnTo>
                      <a:lnTo>
                        <a:pt x="651" y="191"/>
                      </a:lnTo>
                      <a:lnTo>
                        <a:pt x="668" y="204"/>
                      </a:lnTo>
                      <a:lnTo>
                        <a:pt x="684" y="217"/>
                      </a:lnTo>
                      <a:lnTo>
                        <a:pt x="701" y="229"/>
                      </a:lnTo>
                      <a:lnTo>
                        <a:pt x="713" y="242"/>
                      </a:lnTo>
                      <a:lnTo>
                        <a:pt x="726" y="254"/>
                      </a:lnTo>
                      <a:lnTo>
                        <a:pt x="735" y="265"/>
                      </a:lnTo>
                      <a:lnTo>
                        <a:pt x="748" y="290"/>
                      </a:lnTo>
                      <a:lnTo>
                        <a:pt x="755" y="318"/>
                      </a:lnTo>
                      <a:lnTo>
                        <a:pt x="756" y="347"/>
                      </a:lnTo>
                      <a:lnTo>
                        <a:pt x="754" y="376"/>
                      </a:lnTo>
                      <a:lnTo>
                        <a:pt x="749" y="401"/>
                      </a:lnTo>
                      <a:lnTo>
                        <a:pt x="744" y="422"/>
                      </a:lnTo>
                      <a:lnTo>
                        <a:pt x="740" y="437"/>
                      </a:lnTo>
                      <a:lnTo>
                        <a:pt x="739" y="441"/>
                      </a:lnTo>
                      <a:lnTo>
                        <a:pt x="667" y="385"/>
                      </a:lnTo>
                      <a:lnTo>
                        <a:pt x="648" y="309"/>
                      </a:lnTo>
                      <a:lnTo>
                        <a:pt x="559" y="240"/>
                      </a:lnTo>
                      <a:lnTo>
                        <a:pt x="451" y="197"/>
                      </a:lnTo>
                      <a:lnTo>
                        <a:pt x="483" y="270"/>
                      </a:lnTo>
                      <a:lnTo>
                        <a:pt x="476" y="344"/>
                      </a:lnTo>
                      <a:lnTo>
                        <a:pt x="401" y="456"/>
                      </a:lnTo>
                      <a:lnTo>
                        <a:pt x="353" y="426"/>
                      </a:lnTo>
                      <a:lnTo>
                        <a:pt x="355" y="420"/>
                      </a:lnTo>
                      <a:lnTo>
                        <a:pt x="361" y="404"/>
                      </a:lnTo>
                      <a:lnTo>
                        <a:pt x="369" y="380"/>
                      </a:lnTo>
                      <a:lnTo>
                        <a:pt x="378" y="351"/>
                      </a:lnTo>
                      <a:lnTo>
                        <a:pt x="385" y="320"/>
                      </a:lnTo>
                      <a:lnTo>
                        <a:pt x="389" y="290"/>
                      </a:lnTo>
                      <a:lnTo>
                        <a:pt x="388" y="264"/>
                      </a:lnTo>
                      <a:lnTo>
                        <a:pt x="383" y="243"/>
                      </a:lnTo>
                      <a:lnTo>
                        <a:pt x="370" y="229"/>
                      </a:lnTo>
                      <a:lnTo>
                        <a:pt x="349" y="213"/>
                      </a:lnTo>
                      <a:lnTo>
                        <a:pt x="321" y="196"/>
                      </a:lnTo>
                      <a:lnTo>
                        <a:pt x="293" y="179"/>
                      </a:lnTo>
                      <a:lnTo>
                        <a:pt x="264" y="163"/>
                      </a:lnTo>
                      <a:lnTo>
                        <a:pt x="239" y="150"/>
                      </a:lnTo>
                      <a:lnTo>
                        <a:pt x="222" y="141"/>
                      </a:lnTo>
                      <a:lnTo>
                        <a:pt x="215" y="137"/>
                      </a:lnTo>
                      <a:lnTo>
                        <a:pt x="213" y="136"/>
                      </a:lnTo>
                      <a:lnTo>
                        <a:pt x="207" y="134"/>
                      </a:lnTo>
                      <a:lnTo>
                        <a:pt x="199" y="131"/>
                      </a:lnTo>
                      <a:lnTo>
                        <a:pt x="190" y="129"/>
                      </a:lnTo>
                      <a:lnTo>
                        <a:pt x="179" y="128"/>
                      </a:lnTo>
                      <a:lnTo>
                        <a:pt x="167" y="128"/>
                      </a:lnTo>
                      <a:lnTo>
                        <a:pt x="156" y="131"/>
                      </a:lnTo>
                      <a:lnTo>
                        <a:pt x="146" y="138"/>
                      </a:lnTo>
                      <a:lnTo>
                        <a:pt x="137" y="150"/>
                      </a:lnTo>
                      <a:lnTo>
                        <a:pt x="128" y="167"/>
                      </a:lnTo>
                      <a:lnTo>
                        <a:pt x="118" y="187"/>
                      </a:lnTo>
                      <a:lnTo>
                        <a:pt x="108" y="209"/>
                      </a:lnTo>
                      <a:lnTo>
                        <a:pt x="99" y="228"/>
                      </a:lnTo>
                      <a:lnTo>
                        <a:pt x="92" y="245"/>
                      </a:lnTo>
                      <a:lnTo>
                        <a:pt x="88" y="257"/>
                      </a:lnTo>
                      <a:lnTo>
                        <a:pt x="86" y="262"/>
                      </a:lnTo>
                      <a:lnTo>
                        <a:pt x="0" y="21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52"/>
                <p:cNvSpPr/>
                <p:nvPr/>
              </p:nvSpPr>
              <p:spPr>
                <a:xfrm rot="20446200">
                  <a:off x="4653360" y="2733120"/>
                  <a:ext cx="115920" cy="104760"/>
                </a:xfrm>
                <a:custGeom>
                  <a:avLst/>
                  <a:gdLst/>
                  <a:ahLst/>
                  <a:rect l="l" t="t" r="r" b="b"/>
                  <a:pathLst>
                    <a:path w="146" h="131">
                      <a:moveTo>
                        <a:pt x="37" y="0"/>
                      </a:moveTo>
                      <a:lnTo>
                        <a:pt x="0" y="64"/>
                      </a:lnTo>
                      <a:lnTo>
                        <a:pt x="93" y="131"/>
                      </a:lnTo>
                      <a:lnTo>
                        <a:pt x="146" y="71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53"/>
                <p:cNvSpPr/>
                <p:nvPr/>
              </p:nvSpPr>
              <p:spPr>
                <a:xfrm rot="20446200">
                  <a:off x="4601160" y="2824200"/>
                  <a:ext cx="161640" cy="163440"/>
                </a:xfrm>
                <a:custGeom>
                  <a:avLst/>
                  <a:gdLst/>
                  <a:ahLst/>
                  <a:rect l="l" t="t" r="r" b="b"/>
                  <a:pathLst>
                    <a:path w="204" h="206">
                      <a:moveTo>
                        <a:pt x="61" y="0"/>
                      </a:moveTo>
                      <a:lnTo>
                        <a:pt x="59" y="3"/>
                      </a:lnTo>
                      <a:lnTo>
                        <a:pt x="53" y="11"/>
                      </a:lnTo>
                      <a:lnTo>
                        <a:pt x="45" y="22"/>
                      </a:lnTo>
                      <a:lnTo>
                        <a:pt x="35" y="35"/>
                      </a:lnTo>
                      <a:lnTo>
                        <a:pt x="26" y="50"/>
                      </a:lnTo>
                      <a:lnTo>
                        <a:pt x="17" y="64"/>
                      </a:lnTo>
                      <a:lnTo>
                        <a:pt x="10" y="76"/>
                      </a:lnTo>
                      <a:lnTo>
                        <a:pt x="5" y="87"/>
                      </a:lnTo>
                      <a:lnTo>
                        <a:pt x="0" y="110"/>
                      </a:lnTo>
                      <a:lnTo>
                        <a:pt x="0" y="133"/>
                      </a:lnTo>
                      <a:lnTo>
                        <a:pt x="7" y="153"/>
                      </a:lnTo>
                      <a:lnTo>
                        <a:pt x="25" y="173"/>
                      </a:lnTo>
                      <a:lnTo>
                        <a:pt x="40" y="183"/>
                      </a:lnTo>
                      <a:lnTo>
                        <a:pt x="56" y="190"/>
                      </a:lnTo>
                      <a:lnTo>
                        <a:pt x="71" y="197"/>
                      </a:lnTo>
                      <a:lnTo>
                        <a:pt x="86" y="201"/>
                      </a:lnTo>
                      <a:lnTo>
                        <a:pt x="98" y="204"/>
                      </a:lnTo>
                      <a:lnTo>
                        <a:pt x="110" y="205"/>
                      </a:lnTo>
                      <a:lnTo>
                        <a:pt x="119" y="206"/>
                      </a:lnTo>
                      <a:lnTo>
                        <a:pt x="125" y="206"/>
                      </a:lnTo>
                      <a:lnTo>
                        <a:pt x="143" y="202"/>
                      </a:lnTo>
                      <a:lnTo>
                        <a:pt x="159" y="189"/>
                      </a:lnTo>
                      <a:lnTo>
                        <a:pt x="173" y="171"/>
                      </a:lnTo>
                      <a:lnTo>
                        <a:pt x="185" y="150"/>
                      </a:lnTo>
                      <a:lnTo>
                        <a:pt x="193" y="129"/>
                      </a:lnTo>
                      <a:lnTo>
                        <a:pt x="200" y="111"/>
                      </a:lnTo>
                      <a:lnTo>
                        <a:pt x="203" y="98"/>
                      </a:lnTo>
                      <a:lnTo>
                        <a:pt x="204" y="9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154"/>
                <p:cNvSpPr/>
                <p:nvPr/>
              </p:nvSpPr>
              <p:spPr>
                <a:xfrm rot="20446200">
                  <a:off x="4539600" y="2710440"/>
                  <a:ext cx="76320" cy="8424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48" y="106"/>
                      </a:moveTo>
                      <a:lnTo>
                        <a:pt x="57" y="105"/>
                      </a:lnTo>
                      <a:lnTo>
                        <a:pt x="66" y="101"/>
                      </a:lnTo>
                      <a:lnTo>
                        <a:pt x="75" y="97"/>
                      </a:lnTo>
                      <a:lnTo>
                        <a:pt x="81" y="90"/>
                      </a:lnTo>
                      <a:lnTo>
                        <a:pt x="87" y="83"/>
                      </a:lnTo>
                      <a:lnTo>
                        <a:pt x="92" y="74"/>
                      </a:lnTo>
                      <a:lnTo>
                        <a:pt x="94" y="63"/>
                      </a:lnTo>
                      <a:lnTo>
                        <a:pt x="95" y="53"/>
                      </a:lnTo>
                      <a:lnTo>
                        <a:pt x="94" y="43"/>
                      </a:lnTo>
                      <a:lnTo>
                        <a:pt x="92" y="32"/>
                      </a:lnTo>
                      <a:lnTo>
                        <a:pt x="87" y="23"/>
                      </a:lnTo>
                      <a:lnTo>
                        <a:pt x="81" y="15"/>
                      </a:lnTo>
                      <a:lnTo>
                        <a:pt x="75" y="9"/>
                      </a:lnTo>
                      <a:lnTo>
                        <a:pt x="66" y="5"/>
                      </a:lnTo>
                      <a:lnTo>
                        <a:pt x="57" y="1"/>
                      </a:lnTo>
                      <a:lnTo>
                        <a:pt x="48" y="0"/>
                      </a:lnTo>
                      <a:lnTo>
                        <a:pt x="39" y="1"/>
                      </a:lnTo>
                      <a:lnTo>
                        <a:pt x="30" y="5"/>
                      </a:lnTo>
                      <a:lnTo>
                        <a:pt x="22" y="9"/>
                      </a:lnTo>
                      <a:lnTo>
                        <a:pt x="13" y="15"/>
                      </a:lnTo>
                      <a:lnTo>
                        <a:pt x="8" y="23"/>
                      </a:lnTo>
                      <a:lnTo>
                        <a:pt x="3" y="32"/>
                      </a:lnTo>
                      <a:lnTo>
                        <a:pt x="1" y="43"/>
                      </a:lnTo>
                      <a:lnTo>
                        <a:pt x="0" y="53"/>
                      </a:lnTo>
                      <a:lnTo>
                        <a:pt x="1" y="63"/>
                      </a:lnTo>
                      <a:lnTo>
                        <a:pt x="3" y="74"/>
                      </a:lnTo>
                      <a:lnTo>
                        <a:pt x="8" y="83"/>
                      </a:lnTo>
                      <a:lnTo>
                        <a:pt x="13" y="90"/>
                      </a:lnTo>
                      <a:lnTo>
                        <a:pt x="22" y="97"/>
                      </a:lnTo>
                      <a:lnTo>
                        <a:pt x="30" y="101"/>
                      </a:lnTo>
                      <a:lnTo>
                        <a:pt x="39" y="105"/>
                      </a:lnTo>
                      <a:lnTo>
                        <a:pt x="48" y="106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5"/>
                <p:cNvSpPr/>
                <p:nvPr/>
              </p:nvSpPr>
              <p:spPr>
                <a:xfrm rot="20446200">
                  <a:off x="4821480" y="2775240"/>
                  <a:ext cx="75960" cy="83880"/>
                </a:xfrm>
                <a:custGeom>
                  <a:avLst/>
                  <a:gdLst/>
                  <a:ahLst/>
                  <a:rect l="l" t="t" r="r" b="b"/>
                  <a:pathLst>
                    <a:path w="96" h="106">
                      <a:moveTo>
                        <a:pt x="48" y="106"/>
                      </a:moveTo>
                      <a:lnTo>
                        <a:pt x="57" y="104"/>
                      </a:lnTo>
                      <a:lnTo>
                        <a:pt x="66" y="101"/>
                      </a:lnTo>
                      <a:lnTo>
                        <a:pt x="74" y="96"/>
                      </a:lnTo>
                      <a:lnTo>
                        <a:pt x="82" y="89"/>
                      </a:lnTo>
                      <a:lnTo>
                        <a:pt x="88" y="83"/>
                      </a:lnTo>
                      <a:lnTo>
                        <a:pt x="92" y="73"/>
                      </a:lnTo>
                      <a:lnTo>
                        <a:pt x="95" y="63"/>
                      </a:lnTo>
                      <a:lnTo>
                        <a:pt x="96" y="53"/>
                      </a:lnTo>
                      <a:lnTo>
                        <a:pt x="95" y="42"/>
                      </a:lnTo>
                      <a:lnTo>
                        <a:pt x="92" y="32"/>
                      </a:lnTo>
                      <a:lnTo>
                        <a:pt x="88" y="23"/>
                      </a:lnTo>
                      <a:lnTo>
                        <a:pt x="82" y="16"/>
                      </a:lnTo>
                      <a:lnTo>
                        <a:pt x="74" y="9"/>
                      </a:lnTo>
                      <a:lnTo>
                        <a:pt x="66" y="4"/>
                      </a:lnTo>
                      <a:lnTo>
                        <a:pt x="57" y="1"/>
                      </a:lnTo>
                      <a:lnTo>
                        <a:pt x="48" y="0"/>
                      </a:lnTo>
                      <a:lnTo>
                        <a:pt x="38" y="1"/>
                      </a:lnTo>
                      <a:lnTo>
                        <a:pt x="29" y="4"/>
                      </a:lnTo>
                      <a:lnTo>
                        <a:pt x="21" y="9"/>
                      </a:lnTo>
                      <a:lnTo>
                        <a:pt x="14" y="16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1" y="42"/>
                      </a:lnTo>
                      <a:lnTo>
                        <a:pt x="0" y="53"/>
                      </a:lnTo>
                      <a:lnTo>
                        <a:pt x="1" y="63"/>
                      </a:lnTo>
                      <a:lnTo>
                        <a:pt x="4" y="73"/>
                      </a:lnTo>
                      <a:lnTo>
                        <a:pt x="8" y="83"/>
                      </a:lnTo>
                      <a:lnTo>
                        <a:pt x="14" y="89"/>
                      </a:lnTo>
                      <a:lnTo>
                        <a:pt x="21" y="96"/>
                      </a:lnTo>
                      <a:lnTo>
                        <a:pt x="29" y="101"/>
                      </a:lnTo>
                      <a:lnTo>
                        <a:pt x="38" y="104"/>
                      </a:lnTo>
                      <a:lnTo>
                        <a:pt x="48" y="106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56"/>
                <p:cNvSpPr/>
                <p:nvPr/>
              </p:nvSpPr>
              <p:spPr>
                <a:xfrm rot="20446200">
                  <a:off x="4888080" y="2595600"/>
                  <a:ext cx="152280" cy="79200"/>
                </a:xfrm>
                <a:custGeom>
                  <a:avLst/>
                  <a:gdLst/>
                  <a:ahLst/>
                  <a:rect l="l" t="t" r="r" b="b"/>
                  <a:pathLst>
                    <a:path w="192" h="101">
                      <a:moveTo>
                        <a:pt x="30" y="0"/>
                      </a:moveTo>
                      <a:lnTo>
                        <a:pt x="135" y="0"/>
                      </a:lnTo>
                      <a:lnTo>
                        <a:pt x="192" y="52"/>
                      </a:lnTo>
                      <a:lnTo>
                        <a:pt x="192" y="101"/>
                      </a:lnTo>
                      <a:lnTo>
                        <a:pt x="143" y="78"/>
                      </a:lnTo>
                      <a:lnTo>
                        <a:pt x="125" y="52"/>
                      </a:lnTo>
                      <a:lnTo>
                        <a:pt x="0" y="6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7"/>
                <p:cNvSpPr/>
                <p:nvPr/>
              </p:nvSpPr>
              <p:spPr>
                <a:xfrm rot="20446200">
                  <a:off x="4986360" y="2607840"/>
                  <a:ext cx="301680" cy="439560"/>
                </a:xfrm>
                <a:custGeom>
                  <a:avLst/>
                  <a:gdLst/>
                  <a:ahLst/>
                  <a:rect l="l" t="t" r="r" b="b"/>
                  <a:pathLst>
                    <a:path w="379" h="553">
                      <a:moveTo>
                        <a:pt x="26" y="0"/>
                      </a:moveTo>
                      <a:lnTo>
                        <a:pt x="51" y="15"/>
                      </a:lnTo>
                      <a:lnTo>
                        <a:pt x="78" y="31"/>
                      </a:lnTo>
                      <a:lnTo>
                        <a:pt x="106" y="49"/>
                      </a:lnTo>
                      <a:lnTo>
                        <a:pt x="134" y="69"/>
                      </a:lnTo>
                      <a:lnTo>
                        <a:pt x="163" y="89"/>
                      </a:lnTo>
                      <a:lnTo>
                        <a:pt x="192" y="111"/>
                      </a:lnTo>
                      <a:lnTo>
                        <a:pt x="221" y="133"/>
                      </a:lnTo>
                      <a:lnTo>
                        <a:pt x="248" y="156"/>
                      </a:lnTo>
                      <a:lnTo>
                        <a:pt x="274" y="178"/>
                      </a:lnTo>
                      <a:lnTo>
                        <a:pt x="298" y="200"/>
                      </a:lnTo>
                      <a:lnTo>
                        <a:pt x="320" y="222"/>
                      </a:lnTo>
                      <a:lnTo>
                        <a:pt x="339" y="241"/>
                      </a:lnTo>
                      <a:lnTo>
                        <a:pt x="356" y="261"/>
                      </a:lnTo>
                      <a:lnTo>
                        <a:pt x="367" y="278"/>
                      </a:lnTo>
                      <a:lnTo>
                        <a:pt x="375" y="293"/>
                      </a:lnTo>
                      <a:lnTo>
                        <a:pt x="379" y="306"/>
                      </a:lnTo>
                      <a:lnTo>
                        <a:pt x="365" y="331"/>
                      </a:lnTo>
                      <a:lnTo>
                        <a:pt x="345" y="365"/>
                      </a:lnTo>
                      <a:lnTo>
                        <a:pt x="320" y="401"/>
                      </a:lnTo>
                      <a:lnTo>
                        <a:pt x="292" y="441"/>
                      </a:lnTo>
                      <a:lnTo>
                        <a:pt x="265" y="479"/>
                      </a:lnTo>
                      <a:lnTo>
                        <a:pt x="239" y="512"/>
                      </a:lnTo>
                      <a:lnTo>
                        <a:pt x="217" y="537"/>
                      </a:lnTo>
                      <a:lnTo>
                        <a:pt x="202" y="553"/>
                      </a:lnTo>
                      <a:lnTo>
                        <a:pt x="204" y="521"/>
                      </a:lnTo>
                      <a:lnTo>
                        <a:pt x="225" y="497"/>
                      </a:lnTo>
                      <a:lnTo>
                        <a:pt x="245" y="472"/>
                      </a:lnTo>
                      <a:lnTo>
                        <a:pt x="263" y="446"/>
                      </a:lnTo>
                      <a:lnTo>
                        <a:pt x="281" y="421"/>
                      </a:lnTo>
                      <a:lnTo>
                        <a:pt x="297" y="395"/>
                      </a:lnTo>
                      <a:lnTo>
                        <a:pt x="313" y="369"/>
                      </a:lnTo>
                      <a:lnTo>
                        <a:pt x="328" y="343"/>
                      </a:lnTo>
                      <a:lnTo>
                        <a:pt x="343" y="316"/>
                      </a:lnTo>
                      <a:lnTo>
                        <a:pt x="344" y="306"/>
                      </a:lnTo>
                      <a:lnTo>
                        <a:pt x="343" y="292"/>
                      </a:lnTo>
                      <a:lnTo>
                        <a:pt x="337" y="275"/>
                      </a:lnTo>
                      <a:lnTo>
                        <a:pt x="323" y="257"/>
                      </a:lnTo>
                      <a:lnTo>
                        <a:pt x="313" y="247"/>
                      </a:lnTo>
                      <a:lnTo>
                        <a:pt x="301" y="236"/>
                      </a:lnTo>
                      <a:lnTo>
                        <a:pt x="288" y="223"/>
                      </a:lnTo>
                      <a:lnTo>
                        <a:pt x="271" y="209"/>
                      </a:lnTo>
                      <a:lnTo>
                        <a:pt x="254" y="194"/>
                      </a:lnTo>
                      <a:lnTo>
                        <a:pt x="236" y="179"/>
                      </a:lnTo>
                      <a:lnTo>
                        <a:pt x="216" y="163"/>
                      </a:lnTo>
                      <a:lnTo>
                        <a:pt x="194" y="146"/>
                      </a:lnTo>
                      <a:lnTo>
                        <a:pt x="172" y="129"/>
                      </a:lnTo>
                      <a:lnTo>
                        <a:pt x="149" y="111"/>
                      </a:lnTo>
                      <a:lnTo>
                        <a:pt x="125" y="93"/>
                      </a:lnTo>
                      <a:lnTo>
                        <a:pt x="101" y="76"/>
                      </a:lnTo>
                      <a:lnTo>
                        <a:pt x="76" y="57"/>
                      </a:lnTo>
                      <a:lnTo>
                        <a:pt x="50" y="40"/>
                      </a:lnTo>
                      <a:lnTo>
                        <a:pt x="25" y="23"/>
                      </a:lnTo>
                      <a:lnTo>
                        <a:pt x="0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58"/>
                <p:cNvSpPr/>
                <p:nvPr/>
              </p:nvSpPr>
              <p:spPr>
                <a:xfrm rot="20446200">
                  <a:off x="4975560" y="2680920"/>
                  <a:ext cx="181080" cy="417600"/>
                </a:xfrm>
                <a:custGeom>
                  <a:avLst/>
                  <a:gdLst/>
                  <a:ahLst/>
                  <a:rect l="l" t="t" r="r" b="b"/>
                  <a:pathLst>
                    <a:path w="227" h="526">
                      <a:moveTo>
                        <a:pt x="4" y="0"/>
                      </a:moveTo>
                      <a:lnTo>
                        <a:pt x="19" y="9"/>
                      </a:lnTo>
                      <a:lnTo>
                        <a:pt x="33" y="17"/>
                      </a:lnTo>
                      <a:lnTo>
                        <a:pt x="46" y="26"/>
                      </a:lnTo>
                      <a:lnTo>
                        <a:pt x="60" y="34"/>
                      </a:lnTo>
                      <a:lnTo>
                        <a:pt x="73" y="43"/>
                      </a:lnTo>
                      <a:lnTo>
                        <a:pt x="87" y="53"/>
                      </a:lnTo>
                      <a:lnTo>
                        <a:pt x="99" y="61"/>
                      </a:lnTo>
                      <a:lnTo>
                        <a:pt x="113" y="70"/>
                      </a:lnTo>
                      <a:lnTo>
                        <a:pt x="134" y="86"/>
                      </a:lnTo>
                      <a:lnTo>
                        <a:pt x="154" y="102"/>
                      </a:lnTo>
                      <a:lnTo>
                        <a:pt x="172" y="118"/>
                      </a:lnTo>
                      <a:lnTo>
                        <a:pt x="188" y="136"/>
                      </a:lnTo>
                      <a:lnTo>
                        <a:pt x="202" y="155"/>
                      </a:lnTo>
                      <a:lnTo>
                        <a:pt x="212" y="175"/>
                      </a:lnTo>
                      <a:lnTo>
                        <a:pt x="220" y="198"/>
                      </a:lnTo>
                      <a:lnTo>
                        <a:pt x="225" y="222"/>
                      </a:lnTo>
                      <a:lnTo>
                        <a:pt x="227" y="297"/>
                      </a:lnTo>
                      <a:lnTo>
                        <a:pt x="226" y="373"/>
                      </a:lnTo>
                      <a:lnTo>
                        <a:pt x="223" y="448"/>
                      </a:lnTo>
                      <a:lnTo>
                        <a:pt x="216" y="524"/>
                      </a:lnTo>
                      <a:lnTo>
                        <a:pt x="211" y="526"/>
                      </a:lnTo>
                      <a:lnTo>
                        <a:pt x="207" y="525"/>
                      </a:lnTo>
                      <a:lnTo>
                        <a:pt x="203" y="521"/>
                      </a:lnTo>
                      <a:lnTo>
                        <a:pt x="200" y="518"/>
                      </a:lnTo>
                      <a:lnTo>
                        <a:pt x="200" y="478"/>
                      </a:lnTo>
                      <a:lnTo>
                        <a:pt x="200" y="385"/>
                      </a:lnTo>
                      <a:lnTo>
                        <a:pt x="198" y="288"/>
                      </a:lnTo>
                      <a:lnTo>
                        <a:pt x="196" y="227"/>
                      </a:lnTo>
                      <a:lnTo>
                        <a:pt x="195" y="215"/>
                      </a:lnTo>
                      <a:lnTo>
                        <a:pt x="192" y="205"/>
                      </a:lnTo>
                      <a:lnTo>
                        <a:pt x="188" y="194"/>
                      </a:lnTo>
                      <a:lnTo>
                        <a:pt x="185" y="184"/>
                      </a:lnTo>
                      <a:lnTo>
                        <a:pt x="179" y="174"/>
                      </a:lnTo>
                      <a:lnTo>
                        <a:pt x="172" y="162"/>
                      </a:lnTo>
                      <a:lnTo>
                        <a:pt x="165" y="152"/>
                      </a:lnTo>
                      <a:lnTo>
                        <a:pt x="156" y="141"/>
                      </a:lnTo>
                      <a:lnTo>
                        <a:pt x="139" y="125"/>
                      </a:lnTo>
                      <a:lnTo>
                        <a:pt x="120" y="109"/>
                      </a:lnTo>
                      <a:lnTo>
                        <a:pt x="102" y="94"/>
                      </a:lnTo>
                      <a:lnTo>
                        <a:pt x="82" y="80"/>
                      </a:lnTo>
                      <a:lnTo>
                        <a:pt x="63" y="67"/>
                      </a:lnTo>
                      <a:lnTo>
                        <a:pt x="43" y="53"/>
                      </a:lnTo>
                      <a:lnTo>
                        <a:pt x="22" y="39"/>
                      </a:lnTo>
                      <a:lnTo>
                        <a:pt x="0" y="2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59"/>
                <p:cNvSpPr/>
                <p:nvPr/>
              </p:nvSpPr>
              <p:spPr>
                <a:xfrm rot="20446200">
                  <a:off x="4613040" y="2827440"/>
                  <a:ext cx="136800" cy="144360"/>
                </a:xfrm>
                <a:custGeom>
                  <a:avLst/>
                  <a:gdLst/>
                  <a:ahLst/>
                  <a:rect l="l" t="t" r="r" b="b"/>
                  <a:pathLst>
                    <a:path w="172" h="183">
                      <a:moveTo>
                        <a:pt x="172" y="91"/>
                      </a:moveTo>
                      <a:lnTo>
                        <a:pt x="170" y="96"/>
                      </a:lnTo>
                      <a:lnTo>
                        <a:pt x="168" y="107"/>
                      </a:lnTo>
                      <a:lnTo>
                        <a:pt x="163" y="122"/>
                      </a:lnTo>
                      <a:lnTo>
                        <a:pt x="157" y="137"/>
                      </a:lnTo>
                      <a:lnTo>
                        <a:pt x="148" y="152"/>
                      </a:lnTo>
                      <a:lnTo>
                        <a:pt x="136" y="167"/>
                      </a:lnTo>
                      <a:lnTo>
                        <a:pt x="121" y="177"/>
                      </a:lnTo>
                      <a:lnTo>
                        <a:pt x="102" y="183"/>
                      </a:lnTo>
                      <a:lnTo>
                        <a:pt x="86" y="180"/>
                      </a:lnTo>
                      <a:lnTo>
                        <a:pt x="69" y="177"/>
                      </a:lnTo>
                      <a:lnTo>
                        <a:pt x="53" y="171"/>
                      </a:lnTo>
                      <a:lnTo>
                        <a:pt x="38" y="166"/>
                      </a:lnTo>
                      <a:lnTo>
                        <a:pt x="24" y="157"/>
                      </a:lnTo>
                      <a:lnTo>
                        <a:pt x="13" y="148"/>
                      </a:lnTo>
                      <a:lnTo>
                        <a:pt x="4" y="137"/>
                      </a:lnTo>
                      <a:lnTo>
                        <a:pt x="0" y="123"/>
                      </a:lnTo>
                      <a:lnTo>
                        <a:pt x="0" y="103"/>
                      </a:lnTo>
                      <a:lnTo>
                        <a:pt x="6" y="83"/>
                      </a:lnTo>
                      <a:lnTo>
                        <a:pt x="16" y="62"/>
                      </a:lnTo>
                      <a:lnTo>
                        <a:pt x="26" y="42"/>
                      </a:lnTo>
                      <a:lnTo>
                        <a:pt x="38" y="25"/>
                      </a:lnTo>
                      <a:lnTo>
                        <a:pt x="48" y="12"/>
                      </a:lnTo>
                      <a:lnTo>
                        <a:pt x="56" y="3"/>
                      </a:lnTo>
                      <a:lnTo>
                        <a:pt x="59" y="0"/>
                      </a:lnTo>
                      <a:lnTo>
                        <a:pt x="74" y="14"/>
                      </a:lnTo>
                      <a:lnTo>
                        <a:pt x="63" y="22"/>
                      </a:lnTo>
                      <a:lnTo>
                        <a:pt x="53" y="33"/>
                      </a:lnTo>
                      <a:lnTo>
                        <a:pt x="44" y="47"/>
                      </a:lnTo>
                      <a:lnTo>
                        <a:pt x="37" y="62"/>
                      </a:lnTo>
                      <a:lnTo>
                        <a:pt x="30" y="77"/>
                      </a:lnTo>
                      <a:lnTo>
                        <a:pt x="25" y="90"/>
                      </a:lnTo>
                      <a:lnTo>
                        <a:pt x="23" y="100"/>
                      </a:lnTo>
                      <a:lnTo>
                        <a:pt x="23" y="107"/>
                      </a:lnTo>
                      <a:lnTo>
                        <a:pt x="28" y="117"/>
                      </a:lnTo>
                      <a:lnTo>
                        <a:pt x="33" y="125"/>
                      </a:lnTo>
                      <a:lnTo>
                        <a:pt x="41" y="133"/>
                      </a:lnTo>
                      <a:lnTo>
                        <a:pt x="49" y="140"/>
                      </a:lnTo>
                      <a:lnTo>
                        <a:pt x="59" y="146"/>
                      </a:lnTo>
                      <a:lnTo>
                        <a:pt x="69" y="149"/>
                      </a:lnTo>
                      <a:lnTo>
                        <a:pt x="79" y="152"/>
                      </a:lnTo>
                      <a:lnTo>
                        <a:pt x="91" y="152"/>
                      </a:lnTo>
                      <a:lnTo>
                        <a:pt x="104" y="148"/>
                      </a:lnTo>
                      <a:lnTo>
                        <a:pt x="115" y="142"/>
                      </a:lnTo>
                      <a:lnTo>
                        <a:pt x="123" y="133"/>
                      </a:lnTo>
                      <a:lnTo>
                        <a:pt x="130" y="123"/>
                      </a:lnTo>
                      <a:lnTo>
                        <a:pt x="137" y="113"/>
                      </a:lnTo>
                      <a:lnTo>
                        <a:pt x="142" y="101"/>
                      </a:lnTo>
                      <a:lnTo>
                        <a:pt x="147" y="90"/>
                      </a:lnTo>
                      <a:lnTo>
                        <a:pt x="154" y="79"/>
                      </a:lnTo>
                      <a:lnTo>
                        <a:pt x="172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60"/>
                <p:cNvSpPr/>
                <p:nvPr/>
              </p:nvSpPr>
              <p:spPr>
                <a:xfrm rot="20446200">
                  <a:off x="4921560" y="2910960"/>
                  <a:ext cx="214560" cy="488880"/>
                </a:xfrm>
                <a:custGeom>
                  <a:avLst/>
                  <a:gdLst/>
                  <a:ahLst/>
                  <a:rect l="l" t="t" r="r" b="b"/>
                  <a:pathLst>
                    <a:path w="271" h="616">
                      <a:moveTo>
                        <a:pt x="271" y="14"/>
                      </a:moveTo>
                      <a:lnTo>
                        <a:pt x="260" y="30"/>
                      </a:lnTo>
                      <a:lnTo>
                        <a:pt x="248" y="45"/>
                      </a:lnTo>
                      <a:lnTo>
                        <a:pt x="234" y="59"/>
                      </a:lnTo>
                      <a:lnTo>
                        <a:pt x="220" y="73"/>
                      </a:lnTo>
                      <a:lnTo>
                        <a:pt x="205" y="85"/>
                      </a:lnTo>
                      <a:lnTo>
                        <a:pt x="190" y="98"/>
                      </a:lnTo>
                      <a:lnTo>
                        <a:pt x="175" y="112"/>
                      </a:lnTo>
                      <a:lnTo>
                        <a:pt x="161" y="126"/>
                      </a:lnTo>
                      <a:lnTo>
                        <a:pt x="151" y="155"/>
                      </a:lnTo>
                      <a:lnTo>
                        <a:pt x="141" y="183"/>
                      </a:lnTo>
                      <a:lnTo>
                        <a:pt x="130" y="212"/>
                      </a:lnTo>
                      <a:lnTo>
                        <a:pt x="121" y="241"/>
                      </a:lnTo>
                      <a:lnTo>
                        <a:pt x="111" y="271"/>
                      </a:lnTo>
                      <a:lnTo>
                        <a:pt x="101" y="301"/>
                      </a:lnTo>
                      <a:lnTo>
                        <a:pt x="92" y="331"/>
                      </a:lnTo>
                      <a:lnTo>
                        <a:pt x="83" y="361"/>
                      </a:lnTo>
                      <a:lnTo>
                        <a:pt x="76" y="384"/>
                      </a:lnTo>
                      <a:lnTo>
                        <a:pt x="69" y="408"/>
                      </a:lnTo>
                      <a:lnTo>
                        <a:pt x="62" y="433"/>
                      </a:lnTo>
                      <a:lnTo>
                        <a:pt x="57" y="460"/>
                      </a:lnTo>
                      <a:lnTo>
                        <a:pt x="52" y="486"/>
                      </a:lnTo>
                      <a:lnTo>
                        <a:pt x="48" y="513"/>
                      </a:lnTo>
                      <a:lnTo>
                        <a:pt x="48" y="539"/>
                      </a:lnTo>
                      <a:lnTo>
                        <a:pt x="50" y="564"/>
                      </a:lnTo>
                      <a:lnTo>
                        <a:pt x="57" y="578"/>
                      </a:lnTo>
                      <a:lnTo>
                        <a:pt x="66" y="592"/>
                      </a:lnTo>
                      <a:lnTo>
                        <a:pt x="73" y="604"/>
                      </a:lnTo>
                      <a:lnTo>
                        <a:pt x="73" y="616"/>
                      </a:lnTo>
                      <a:lnTo>
                        <a:pt x="61" y="612"/>
                      </a:lnTo>
                      <a:lnTo>
                        <a:pt x="50" y="606"/>
                      </a:lnTo>
                      <a:lnTo>
                        <a:pt x="38" y="598"/>
                      </a:lnTo>
                      <a:lnTo>
                        <a:pt x="29" y="589"/>
                      </a:lnTo>
                      <a:lnTo>
                        <a:pt x="20" y="578"/>
                      </a:lnTo>
                      <a:lnTo>
                        <a:pt x="13" y="567"/>
                      </a:lnTo>
                      <a:lnTo>
                        <a:pt x="7" y="554"/>
                      </a:lnTo>
                      <a:lnTo>
                        <a:pt x="4" y="540"/>
                      </a:lnTo>
                      <a:lnTo>
                        <a:pt x="0" y="494"/>
                      </a:lnTo>
                      <a:lnTo>
                        <a:pt x="72" y="249"/>
                      </a:lnTo>
                      <a:lnTo>
                        <a:pt x="78" y="227"/>
                      </a:lnTo>
                      <a:lnTo>
                        <a:pt x="85" y="204"/>
                      </a:lnTo>
                      <a:lnTo>
                        <a:pt x="92" y="182"/>
                      </a:lnTo>
                      <a:lnTo>
                        <a:pt x="100" y="160"/>
                      </a:lnTo>
                      <a:lnTo>
                        <a:pt x="110" y="140"/>
                      </a:lnTo>
                      <a:lnTo>
                        <a:pt x="120" y="120"/>
                      </a:lnTo>
                      <a:lnTo>
                        <a:pt x="133" y="102"/>
                      </a:lnTo>
                      <a:lnTo>
                        <a:pt x="146" y="85"/>
                      </a:lnTo>
                      <a:lnTo>
                        <a:pt x="161" y="75"/>
                      </a:lnTo>
                      <a:lnTo>
                        <a:pt x="176" y="64"/>
                      </a:lnTo>
                      <a:lnTo>
                        <a:pt x="191" y="52"/>
                      </a:lnTo>
                      <a:lnTo>
                        <a:pt x="206" y="39"/>
                      </a:lnTo>
                      <a:lnTo>
                        <a:pt x="221" y="29"/>
                      </a:lnTo>
                      <a:lnTo>
                        <a:pt x="237" y="17"/>
                      </a:lnTo>
                      <a:lnTo>
                        <a:pt x="254" y="8"/>
                      </a:lnTo>
                      <a:lnTo>
                        <a:pt x="271" y="0"/>
                      </a:lnTo>
                      <a:lnTo>
                        <a:pt x="27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161"/>
                <p:cNvSpPr/>
                <p:nvPr/>
              </p:nvSpPr>
              <p:spPr>
                <a:xfrm rot="20446200">
                  <a:off x="4309920" y="3172320"/>
                  <a:ext cx="655560" cy="490320"/>
                </a:xfrm>
                <a:custGeom>
                  <a:avLst/>
                  <a:gdLst/>
                  <a:ahLst/>
                  <a:rect l="l" t="t" r="r" b="b"/>
                  <a:pathLst>
                    <a:path w="826" h="618">
                      <a:moveTo>
                        <a:pt x="817" y="618"/>
                      </a:moveTo>
                      <a:lnTo>
                        <a:pt x="808" y="616"/>
                      </a:lnTo>
                      <a:lnTo>
                        <a:pt x="794" y="610"/>
                      </a:lnTo>
                      <a:lnTo>
                        <a:pt x="778" y="603"/>
                      </a:lnTo>
                      <a:lnTo>
                        <a:pt x="759" y="593"/>
                      </a:lnTo>
                      <a:lnTo>
                        <a:pt x="738" y="581"/>
                      </a:lnTo>
                      <a:lnTo>
                        <a:pt x="713" y="567"/>
                      </a:lnTo>
                      <a:lnTo>
                        <a:pt x="688" y="551"/>
                      </a:lnTo>
                      <a:lnTo>
                        <a:pt x="659" y="534"/>
                      </a:lnTo>
                      <a:lnTo>
                        <a:pt x="630" y="516"/>
                      </a:lnTo>
                      <a:lnTo>
                        <a:pt x="599" y="496"/>
                      </a:lnTo>
                      <a:lnTo>
                        <a:pt x="566" y="474"/>
                      </a:lnTo>
                      <a:lnTo>
                        <a:pt x="532" y="452"/>
                      </a:lnTo>
                      <a:lnTo>
                        <a:pt x="499" y="429"/>
                      </a:lnTo>
                      <a:lnTo>
                        <a:pt x="463" y="405"/>
                      </a:lnTo>
                      <a:lnTo>
                        <a:pt x="429" y="380"/>
                      </a:lnTo>
                      <a:lnTo>
                        <a:pt x="393" y="356"/>
                      </a:lnTo>
                      <a:lnTo>
                        <a:pt x="359" y="330"/>
                      </a:lnTo>
                      <a:lnTo>
                        <a:pt x="324" y="304"/>
                      </a:lnTo>
                      <a:lnTo>
                        <a:pt x="289" y="278"/>
                      </a:lnTo>
                      <a:lnTo>
                        <a:pt x="256" y="253"/>
                      </a:lnTo>
                      <a:lnTo>
                        <a:pt x="224" y="228"/>
                      </a:lnTo>
                      <a:lnTo>
                        <a:pt x="193" y="204"/>
                      </a:lnTo>
                      <a:lnTo>
                        <a:pt x="163" y="179"/>
                      </a:lnTo>
                      <a:lnTo>
                        <a:pt x="135" y="155"/>
                      </a:lnTo>
                      <a:lnTo>
                        <a:pt x="109" y="133"/>
                      </a:lnTo>
                      <a:lnTo>
                        <a:pt x="85" y="111"/>
                      </a:lnTo>
                      <a:lnTo>
                        <a:pt x="64" y="91"/>
                      </a:lnTo>
                      <a:lnTo>
                        <a:pt x="45" y="71"/>
                      </a:lnTo>
                      <a:lnTo>
                        <a:pt x="29" y="54"/>
                      </a:lnTo>
                      <a:lnTo>
                        <a:pt x="16" y="38"/>
                      </a:lnTo>
                      <a:lnTo>
                        <a:pt x="6" y="23"/>
                      </a:lnTo>
                      <a:lnTo>
                        <a:pt x="0" y="10"/>
                      </a:lnTo>
                      <a:lnTo>
                        <a:pt x="6" y="5"/>
                      </a:lnTo>
                      <a:lnTo>
                        <a:pt x="12" y="3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8"/>
                      </a:lnTo>
                      <a:lnTo>
                        <a:pt x="39" y="18"/>
                      </a:lnTo>
                      <a:lnTo>
                        <a:pt x="52" y="31"/>
                      </a:lnTo>
                      <a:lnTo>
                        <a:pt x="67" y="43"/>
                      </a:lnTo>
                      <a:lnTo>
                        <a:pt x="84" y="58"/>
                      </a:lnTo>
                      <a:lnTo>
                        <a:pt x="103" y="75"/>
                      </a:lnTo>
                      <a:lnTo>
                        <a:pt x="125" y="92"/>
                      </a:lnTo>
                      <a:lnTo>
                        <a:pt x="148" y="110"/>
                      </a:lnTo>
                      <a:lnTo>
                        <a:pt x="172" y="129"/>
                      </a:lnTo>
                      <a:lnTo>
                        <a:pt x="198" y="148"/>
                      </a:lnTo>
                      <a:lnTo>
                        <a:pt x="226" y="169"/>
                      </a:lnTo>
                      <a:lnTo>
                        <a:pt x="255" y="191"/>
                      </a:lnTo>
                      <a:lnTo>
                        <a:pt x="285" y="213"/>
                      </a:lnTo>
                      <a:lnTo>
                        <a:pt x="316" y="235"/>
                      </a:lnTo>
                      <a:lnTo>
                        <a:pt x="347" y="256"/>
                      </a:lnTo>
                      <a:lnTo>
                        <a:pt x="379" y="280"/>
                      </a:lnTo>
                      <a:lnTo>
                        <a:pt x="412" y="303"/>
                      </a:lnTo>
                      <a:lnTo>
                        <a:pt x="444" y="324"/>
                      </a:lnTo>
                      <a:lnTo>
                        <a:pt x="476" y="347"/>
                      </a:lnTo>
                      <a:lnTo>
                        <a:pt x="508" y="369"/>
                      </a:lnTo>
                      <a:lnTo>
                        <a:pt x="541" y="391"/>
                      </a:lnTo>
                      <a:lnTo>
                        <a:pt x="573" y="412"/>
                      </a:lnTo>
                      <a:lnTo>
                        <a:pt x="603" y="433"/>
                      </a:lnTo>
                      <a:lnTo>
                        <a:pt x="634" y="452"/>
                      </a:lnTo>
                      <a:lnTo>
                        <a:pt x="663" y="472"/>
                      </a:lnTo>
                      <a:lnTo>
                        <a:pt x="690" y="490"/>
                      </a:lnTo>
                      <a:lnTo>
                        <a:pt x="718" y="508"/>
                      </a:lnTo>
                      <a:lnTo>
                        <a:pt x="743" y="524"/>
                      </a:lnTo>
                      <a:lnTo>
                        <a:pt x="766" y="537"/>
                      </a:lnTo>
                      <a:lnTo>
                        <a:pt x="788" y="551"/>
                      </a:lnTo>
                      <a:lnTo>
                        <a:pt x="809" y="563"/>
                      </a:lnTo>
                      <a:lnTo>
                        <a:pt x="826" y="573"/>
                      </a:lnTo>
                      <a:lnTo>
                        <a:pt x="817" y="6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162"/>
                <p:cNvSpPr/>
                <p:nvPr/>
              </p:nvSpPr>
              <p:spPr>
                <a:xfrm rot="20446200">
                  <a:off x="4655880" y="2889000"/>
                  <a:ext cx="44280" cy="39960"/>
                </a:xfrm>
                <a:custGeom>
                  <a:avLst/>
                  <a:gdLst/>
                  <a:ahLst/>
                  <a:rect l="l" t="t" r="r" b="b"/>
                  <a:pathLst>
                    <a:path w="58" h="49">
                      <a:moveTo>
                        <a:pt x="46" y="49"/>
                      </a:moveTo>
                      <a:lnTo>
                        <a:pt x="58" y="32"/>
                      </a:lnTo>
                      <a:lnTo>
                        <a:pt x="13" y="0"/>
                      </a:lnTo>
                      <a:lnTo>
                        <a:pt x="0" y="16"/>
                      </a:lnTo>
                      <a:lnTo>
                        <a:pt x="46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163"/>
                <p:cNvSpPr/>
                <p:nvPr/>
              </p:nvSpPr>
              <p:spPr>
                <a:xfrm rot="20446200">
                  <a:off x="4659480" y="2857320"/>
                  <a:ext cx="46080" cy="39600"/>
                </a:xfrm>
                <a:custGeom>
                  <a:avLst/>
                  <a:gdLst/>
                  <a:ahLst/>
                  <a:rect l="l" t="t" r="r" b="b"/>
                  <a:pathLst>
                    <a:path w="57" h="51">
                      <a:moveTo>
                        <a:pt x="46" y="51"/>
                      </a:moveTo>
                      <a:lnTo>
                        <a:pt x="57" y="33"/>
                      </a:lnTo>
                      <a:lnTo>
                        <a:pt x="12" y="0"/>
                      </a:lnTo>
                      <a:lnTo>
                        <a:pt x="0" y="17"/>
                      </a:lnTo>
                      <a:lnTo>
                        <a:pt x="46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64"/>
                <p:cNvSpPr/>
                <p:nvPr/>
              </p:nvSpPr>
              <p:spPr>
                <a:xfrm rot="20446200">
                  <a:off x="4169880" y="2472120"/>
                  <a:ext cx="1228680" cy="1119240"/>
                </a:xfrm>
                <a:custGeom>
                  <a:avLst/>
                  <a:gdLst/>
                  <a:ahLst/>
                  <a:rect l="l" t="t" r="r" b="b"/>
                  <a:pathLst>
                    <a:path w="1548" h="1412">
                      <a:moveTo>
                        <a:pt x="1084" y="305"/>
                      </a:moveTo>
                      <a:lnTo>
                        <a:pt x="1094" y="304"/>
                      </a:lnTo>
                      <a:lnTo>
                        <a:pt x="1107" y="302"/>
                      </a:lnTo>
                      <a:lnTo>
                        <a:pt x="1121" y="300"/>
                      </a:lnTo>
                      <a:lnTo>
                        <a:pt x="1137" y="298"/>
                      </a:lnTo>
                      <a:lnTo>
                        <a:pt x="1155" y="298"/>
                      </a:lnTo>
                      <a:lnTo>
                        <a:pt x="1175" y="301"/>
                      </a:lnTo>
                      <a:lnTo>
                        <a:pt x="1196" y="304"/>
                      </a:lnTo>
                      <a:lnTo>
                        <a:pt x="1218" y="310"/>
                      </a:lnTo>
                      <a:lnTo>
                        <a:pt x="1218" y="325"/>
                      </a:lnTo>
                      <a:lnTo>
                        <a:pt x="1221" y="327"/>
                      </a:lnTo>
                      <a:lnTo>
                        <a:pt x="1230" y="334"/>
                      </a:lnTo>
                      <a:lnTo>
                        <a:pt x="1246" y="346"/>
                      </a:lnTo>
                      <a:lnTo>
                        <a:pt x="1266" y="361"/>
                      </a:lnTo>
                      <a:lnTo>
                        <a:pt x="1289" y="379"/>
                      </a:lnTo>
                      <a:lnTo>
                        <a:pt x="1314" y="400"/>
                      </a:lnTo>
                      <a:lnTo>
                        <a:pt x="1343" y="422"/>
                      </a:lnTo>
                      <a:lnTo>
                        <a:pt x="1372" y="446"/>
                      </a:lnTo>
                      <a:lnTo>
                        <a:pt x="1401" y="472"/>
                      </a:lnTo>
                      <a:lnTo>
                        <a:pt x="1428" y="498"/>
                      </a:lnTo>
                      <a:lnTo>
                        <a:pt x="1455" y="524"/>
                      </a:lnTo>
                      <a:lnTo>
                        <a:pt x="1479" y="551"/>
                      </a:lnTo>
                      <a:lnTo>
                        <a:pt x="1500" y="576"/>
                      </a:lnTo>
                      <a:lnTo>
                        <a:pt x="1517" y="599"/>
                      </a:lnTo>
                      <a:lnTo>
                        <a:pt x="1528" y="621"/>
                      </a:lnTo>
                      <a:lnTo>
                        <a:pt x="1533" y="640"/>
                      </a:lnTo>
                      <a:lnTo>
                        <a:pt x="1533" y="652"/>
                      </a:lnTo>
                      <a:lnTo>
                        <a:pt x="1532" y="663"/>
                      </a:lnTo>
                      <a:lnTo>
                        <a:pt x="1529" y="676"/>
                      </a:lnTo>
                      <a:lnTo>
                        <a:pt x="1525" y="688"/>
                      </a:lnTo>
                      <a:lnTo>
                        <a:pt x="1519" y="699"/>
                      </a:lnTo>
                      <a:lnTo>
                        <a:pt x="1515" y="709"/>
                      </a:lnTo>
                      <a:lnTo>
                        <a:pt x="1508" y="721"/>
                      </a:lnTo>
                      <a:lnTo>
                        <a:pt x="1502" y="731"/>
                      </a:lnTo>
                      <a:lnTo>
                        <a:pt x="1510" y="756"/>
                      </a:lnTo>
                      <a:lnTo>
                        <a:pt x="1516" y="779"/>
                      </a:lnTo>
                      <a:lnTo>
                        <a:pt x="1522" y="803"/>
                      </a:lnTo>
                      <a:lnTo>
                        <a:pt x="1528" y="826"/>
                      </a:lnTo>
                      <a:lnTo>
                        <a:pt x="1532" y="849"/>
                      </a:lnTo>
                      <a:lnTo>
                        <a:pt x="1538" y="873"/>
                      </a:lnTo>
                      <a:lnTo>
                        <a:pt x="1543" y="896"/>
                      </a:lnTo>
                      <a:lnTo>
                        <a:pt x="1548" y="920"/>
                      </a:lnTo>
                      <a:lnTo>
                        <a:pt x="1546" y="932"/>
                      </a:lnTo>
                      <a:lnTo>
                        <a:pt x="1540" y="949"/>
                      </a:lnTo>
                      <a:lnTo>
                        <a:pt x="1532" y="972"/>
                      </a:lnTo>
                      <a:lnTo>
                        <a:pt x="1521" y="1000"/>
                      </a:lnTo>
                      <a:lnTo>
                        <a:pt x="1507" y="1031"/>
                      </a:lnTo>
                      <a:lnTo>
                        <a:pt x="1491" y="1064"/>
                      </a:lnTo>
                      <a:lnTo>
                        <a:pt x="1475" y="1100"/>
                      </a:lnTo>
                      <a:lnTo>
                        <a:pt x="1456" y="1136"/>
                      </a:lnTo>
                      <a:lnTo>
                        <a:pt x="1437" y="1171"/>
                      </a:lnTo>
                      <a:lnTo>
                        <a:pt x="1418" y="1206"/>
                      </a:lnTo>
                      <a:lnTo>
                        <a:pt x="1399" y="1238"/>
                      </a:lnTo>
                      <a:lnTo>
                        <a:pt x="1380" y="1267"/>
                      </a:lnTo>
                      <a:lnTo>
                        <a:pt x="1363" y="1292"/>
                      </a:lnTo>
                      <a:lnTo>
                        <a:pt x="1347" y="1313"/>
                      </a:lnTo>
                      <a:lnTo>
                        <a:pt x="1333" y="1327"/>
                      </a:lnTo>
                      <a:lnTo>
                        <a:pt x="1320" y="1334"/>
                      </a:lnTo>
                      <a:lnTo>
                        <a:pt x="1316" y="1335"/>
                      </a:lnTo>
                      <a:lnTo>
                        <a:pt x="1304" y="1337"/>
                      </a:lnTo>
                      <a:lnTo>
                        <a:pt x="1284" y="1341"/>
                      </a:lnTo>
                      <a:lnTo>
                        <a:pt x="1260" y="1345"/>
                      </a:lnTo>
                      <a:lnTo>
                        <a:pt x="1230" y="1352"/>
                      </a:lnTo>
                      <a:lnTo>
                        <a:pt x="1197" y="1358"/>
                      </a:lnTo>
                      <a:lnTo>
                        <a:pt x="1161" y="1365"/>
                      </a:lnTo>
                      <a:lnTo>
                        <a:pt x="1124" y="1373"/>
                      </a:lnTo>
                      <a:lnTo>
                        <a:pt x="1086" y="1380"/>
                      </a:lnTo>
                      <a:lnTo>
                        <a:pt x="1048" y="1387"/>
                      </a:lnTo>
                      <a:lnTo>
                        <a:pt x="1013" y="1393"/>
                      </a:lnTo>
                      <a:lnTo>
                        <a:pt x="978" y="1399"/>
                      </a:lnTo>
                      <a:lnTo>
                        <a:pt x="948" y="1404"/>
                      </a:lnTo>
                      <a:lnTo>
                        <a:pt x="923" y="1408"/>
                      </a:lnTo>
                      <a:lnTo>
                        <a:pt x="903" y="1411"/>
                      </a:lnTo>
                      <a:lnTo>
                        <a:pt x="890" y="1412"/>
                      </a:lnTo>
                      <a:lnTo>
                        <a:pt x="888" y="1364"/>
                      </a:lnTo>
                      <a:lnTo>
                        <a:pt x="1301" y="1292"/>
                      </a:lnTo>
                      <a:lnTo>
                        <a:pt x="1325" y="1281"/>
                      </a:lnTo>
                      <a:lnTo>
                        <a:pt x="1351" y="1251"/>
                      </a:lnTo>
                      <a:lnTo>
                        <a:pt x="1380" y="1212"/>
                      </a:lnTo>
                      <a:lnTo>
                        <a:pt x="1408" y="1165"/>
                      </a:lnTo>
                      <a:lnTo>
                        <a:pt x="1433" y="1121"/>
                      </a:lnTo>
                      <a:lnTo>
                        <a:pt x="1454" y="1080"/>
                      </a:lnTo>
                      <a:lnTo>
                        <a:pt x="1468" y="1053"/>
                      </a:lnTo>
                      <a:lnTo>
                        <a:pt x="1472" y="1042"/>
                      </a:lnTo>
                      <a:lnTo>
                        <a:pt x="1484" y="1011"/>
                      </a:lnTo>
                      <a:lnTo>
                        <a:pt x="1492" y="978"/>
                      </a:lnTo>
                      <a:lnTo>
                        <a:pt x="1495" y="946"/>
                      </a:lnTo>
                      <a:lnTo>
                        <a:pt x="1496" y="912"/>
                      </a:lnTo>
                      <a:lnTo>
                        <a:pt x="1494" y="879"/>
                      </a:lnTo>
                      <a:lnTo>
                        <a:pt x="1488" y="845"/>
                      </a:lnTo>
                      <a:lnTo>
                        <a:pt x="1479" y="813"/>
                      </a:lnTo>
                      <a:lnTo>
                        <a:pt x="1468" y="782"/>
                      </a:lnTo>
                      <a:lnTo>
                        <a:pt x="1461" y="789"/>
                      </a:lnTo>
                      <a:lnTo>
                        <a:pt x="1455" y="797"/>
                      </a:lnTo>
                      <a:lnTo>
                        <a:pt x="1448" y="806"/>
                      </a:lnTo>
                      <a:lnTo>
                        <a:pt x="1442" y="817"/>
                      </a:lnTo>
                      <a:lnTo>
                        <a:pt x="1454" y="861"/>
                      </a:lnTo>
                      <a:lnTo>
                        <a:pt x="1455" y="909"/>
                      </a:lnTo>
                      <a:lnTo>
                        <a:pt x="1449" y="958"/>
                      </a:lnTo>
                      <a:lnTo>
                        <a:pt x="1441" y="1007"/>
                      </a:lnTo>
                      <a:lnTo>
                        <a:pt x="1433" y="1025"/>
                      </a:lnTo>
                      <a:lnTo>
                        <a:pt x="1424" y="1043"/>
                      </a:lnTo>
                      <a:lnTo>
                        <a:pt x="1413" y="1061"/>
                      </a:lnTo>
                      <a:lnTo>
                        <a:pt x="1402" y="1078"/>
                      </a:lnTo>
                      <a:lnTo>
                        <a:pt x="1388" y="1092"/>
                      </a:lnTo>
                      <a:lnTo>
                        <a:pt x="1371" y="1103"/>
                      </a:lnTo>
                      <a:lnTo>
                        <a:pt x="1350" y="1111"/>
                      </a:lnTo>
                      <a:lnTo>
                        <a:pt x="1326" y="1116"/>
                      </a:lnTo>
                      <a:lnTo>
                        <a:pt x="1311" y="1117"/>
                      </a:lnTo>
                      <a:lnTo>
                        <a:pt x="1296" y="1118"/>
                      </a:lnTo>
                      <a:lnTo>
                        <a:pt x="1282" y="1119"/>
                      </a:lnTo>
                      <a:lnTo>
                        <a:pt x="1268" y="1122"/>
                      </a:lnTo>
                      <a:lnTo>
                        <a:pt x="1254" y="1123"/>
                      </a:lnTo>
                      <a:lnTo>
                        <a:pt x="1242" y="1125"/>
                      </a:lnTo>
                      <a:lnTo>
                        <a:pt x="1229" y="1126"/>
                      </a:lnTo>
                      <a:lnTo>
                        <a:pt x="1216" y="1127"/>
                      </a:lnTo>
                      <a:lnTo>
                        <a:pt x="1203" y="1129"/>
                      </a:lnTo>
                      <a:lnTo>
                        <a:pt x="1190" y="1130"/>
                      </a:lnTo>
                      <a:lnTo>
                        <a:pt x="1176" y="1131"/>
                      </a:lnTo>
                      <a:lnTo>
                        <a:pt x="1162" y="1131"/>
                      </a:lnTo>
                      <a:lnTo>
                        <a:pt x="1147" y="1131"/>
                      </a:lnTo>
                      <a:lnTo>
                        <a:pt x="1131" y="1131"/>
                      </a:lnTo>
                      <a:lnTo>
                        <a:pt x="1115" y="1130"/>
                      </a:lnTo>
                      <a:lnTo>
                        <a:pt x="1098" y="1129"/>
                      </a:lnTo>
                      <a:lnTo>
                        <a:pt x="1093" y="1127"/>
                      </a:lnTo>
                      <a:lnTo>
                        <a:pt x="1085" y="1126"/>
                      </a:lnTo>
                      <a:lnTo>
                        <a:pt x="1075" y="1125"/>
                      </a:lnTo>
                      <a:lnTo>
                        <a:pt x="1064" y="1122"/>
                      </a:lnTo>
                      <a:lnTo>
                        <a:pt x="1053" y="1118"/>
                      </a:lnTo>
                      <a:lnTo>
                        <a:pt x="1041" y="1113"/>
                      </a:lnTo>
                      <a:lnTo>
                        <a:pt x="1032" y="1106"/>
                      </a:lnTo>
                      <a:lnTo>
                        <a:pt x="1025" y="1098"/>
                      </a:lnTo>
                      <a:lnTo>
                        <a:pt x="1018" y="1078"/>
                      </a:lnTo>
                      <a:lnTo>
                        <a:pt x="1018" y="1055"/>
                      </a:lnTo>
                      <a:lnTo>
                        <a:pt x="1021" y="1031"/>
                      </a:lnTo>
                      <a:lnTo>
                        <a:pt x="1024" y="1005"/>
                      </a:lnTo>
                      <a:lnTo>
                        <a:pt x="1025" y="1012"/>
                      </a:lnTo>
                      <a:lnTo>
                        <a:pt x="1029" y="1032"/>
                      </a:lnTo>
                      <a:lnTo>
                        <a:pt x="1036" y="1054"/>
                      </a:lnTo>
                      <a:lnTo>
                        <a:pt x="1051" y="1071"/>
                      </a:lnTo>
                      <a:lnTo>
                        <a:pt x="1064" y="1078"/>
                      </a:lnTo>
                      <a:lnTo>
                        <a:pt x="1079" y="1083"/>
                      </a:lnTo>
                      <a:lnTo>
                        <a:pt x="1093" y="1087"/>
                      </a:lnTo>
                      <a:lnTo>
                        <a:pt x="1108" y="1091"/>
                      </a:lnTo>
                      <a:lnTo>
                        <a:pt x="1122" y="1093"/>
                      </a:lnTo>
                      <a:lnTo>
                        <a:pt x="1137" y="1094"/>
                      </a:lnTo>
                      <a:lnTo>
                        <a:pt x="1152" y="1094"/>
                      </a:lnTo>
                      <a:lnTo>
                        <a:pt x="1167" y="1094"/>
                      </a:lnTo>
                      <a:lnTo>
                        <a:pt x="1181" y="1094"/>
                      </a:lnTo>
                      <a:lnTo>
                        <a:pt x="1196" y="1093"/>
                      </a:lnTo>
                      <a:lnTo>
                        <a:pt x="1211" y="1092"/>
                      </a:lnTo>
                      <a:lnTo>
                        <a:pt x="1225" y="1091"/>
                      </a:lnTo>
                      <a:lnTo>
                        <a:pt x="1240" y="1088"/>
                      </a:lnTo>
                      <a:lnTo>
                        <a:pt x="1253" y="1087"/>
                      </a:lnTo>
                      <a:lnTo>
                        <a:pt x="1268" y="1085"/>
                      </a:lnTo>
                      <a:lnTo>
                        <a:pt x="1282" y="1084"/>
                      </a:lnTo>
                      <a:lnTo>
                        <a:pt x="1309" y="1078"/>
                      </a:lnTo>
                      <a:lnTo>
                        <a:pt x="1332" y="1072"/>
                      </a:lnTo>
                      <a:lnTo>
                        <a:pt x="1350" y="1065"/>
                      </a:lnTo>
                      <a:lnTo>
                        <a:pt x="1366" y="1058"/>
                      </a:lnTo>
                      <a:lnTo>
                        <a:pt x="1379" y="1049"/>
                      </a:lnTo>
                      <a:lnTo>
                        <a:pt x="1390" y="1038"/>
                      </a:lnTo>
                      <a:lnTo>
                        <a:pt x="1400" y="1025"/>
                      </a:lnTo>
                      <a:lnTo>
                        <a:pt x="1408" y="1009"/>
                      </a:lnTo>
                      <a:lnTo>
                        <a:pt x="1424" y="963"/>
                      </a:lnTo>
                      <a:lnTo>
                        <a:pt x="1433" y="919"/>
                      </a:lnTo>
                      <a:lnTo>
                        <a:pt x="1433" y="876"/>
                      </a:lnTo>
                      <a:lnTo>
                        <a:pt x="1427" y="835"/>
                      </a:lnTo>
                      <a:lnTo>
                        <a:pt x="1411" y="853"/>
                      </a:lnTo>
                      <a:lnTo>
                        <a:pt x="1396" y="873"/>
                      </a:lnTo>
                      <a:lnTo>
                        <a:pt x="1382" y="893"/>
                      </a:lnTo>
                      <a:lnTo>
                        <a:pt x="1370" y="913"/>
                      </a:lnTo>
                      <a:lnTo>
                        <a:pt x="1356" y="934"/>
                      </a:lnTo>
                      <a:lnTo>
                        <a:pt x="1342" y="954"/>
                      </a:lnTo>
                      <a:lnTo>
                        <a:pt x="1326" y="973"/>
                      </a:lnTo>
                      <a:lnTo>
                        <a:pt x="1309" y="990"/>
                      </a:lnTo>
                      <a:lnTo>
                        <a:pt x="1310" y="999"/>
                      </a:lnTo>
                      <a:lnTo>
                        <a:pt x="1309" y="1008"/>
                      </a:lnTo>
                      <a:lnTo>
                        <a:pt x="1305" y="1017"/>
                      </a:lnTo>
                      <a:lnTo>
                        <a:pt x="1301" y="1025"/>
                      </a:lnTo>
                      <a:lnTo>
                        <a:pt x="1296" y="1030"/>
                      </a:lnTo>
                      <a:lnTo>
                        <a:pt x="1291" y="1034"/>
                      </a:lnTo>
                      <a:lnTo>
                        <a:pt x="1287" y="1038"/>
                      </a:lnTo>
                      <a:lnTo>
                        <a:pt x="1282" y="1040"/>
                      </a:lnTo>
                      <a:lnTo>
                        <a:pt x="1276" y="1042"/>
                      </a:lnTo>
                      <a:lnTo>
                        <a:pt x="1269" y="1043"/>
                      </a:lnTo>
                      <a:lnTo>
                        <a:pt x="1261" y="1045"/>
                      </a:lnTo>
                      <a:lnTo>
                        <a:pt x="1253" y="1043"/>
                      </a:lnTo>
                      <a:lnTo>
                        <a:pt x="1238" y="1022"/>
                      </a:lnTo>
                      <a:lnTo>
                        <a:pt x="1225" y="970"/>
                      </a:lnTo>
                      <a:lnTo>
                        <a:pt x="1210" y="901"/>
                      </a:lnTo>
                      <a:lnTo>
                        <a:pt x="1197" y="821"/>
                      </a:lnTo>
                      <a:lnTo>
                        <a:pt x="1185" y="743"/>
                      </a:lnTo>
                      <a:lnTo>
                        <a:pt x="1176" y="675"/>
                      </a:lnTo>
                      <a:lnTo>
                        <a:pt x="1170" y="627"/>
                      </a:lnTo>
                      <a:lnTo>
                        <a:pt x="1168" y="608"/>
                      </a:lnTo>
                      <a:lnTo>
                        <a:pt x="1160" y="595"/>
                      </a:lnTo>
                      <a:lnTo>
                        <a:pt x="1150" y="583"/>
                      </a:lnTo>
                      <a:lnTo>
                        <a:pt x="1137" y="571"/>
                      </a:lnTo>
                      <a:lnTo>
                        <a:pt x="1123" y="561"/>
                      </a:lnTo>
                      <a:lnTo>
                        <a:pt x="1108" y="551"/>
                      </a:lnTo>
                      <a:lnTo>
                        <a:pt x="1092" y="540"/>
                      </a:lnTo>
                      <a:lnTo>
                        <a:pt x="1077" y="529"/>
                      </a:lnTo>
                      <a:lnTo>
                        <a:pt x="1063" y="517"/>
                      </a:lnTo>
                      <a:lnTo>
                        <a:pt x="1064" y="492"/>
                      </a:lnTo>
                      <a:lnTo>
                        <a:pt x="1083" y="502"/>
                      </a:lnTo>
                      <a:lnTo>
                        <a:pt x="1101" y="513"/>
                      </a:lnTo>
                      <a:lnTo>
                        <a:pt x="1121" y="525"/>
                      </a:lnTo>
                      <a:lnTo>
                        <a:pt x="1140" y="538"/>
                      </a:lnTo>
                      <a:lnTo>
                        <a:pt x="1159" y="553"/>
                      </a:lnTo>
                      <a:lnTo>
                        <a:pt x="1175" y="568"/>
                      </a:lnTo>
                      <a:lnTo>
                        <a:pt x="1189" y="585"/>
                      </a:lnTo>
                      <a:lnTo>
                        <a:pt x="1200" y="602"/>
                      </a:lnTo>
                      <a:lnTo>
                        <a:pt x="1204" y="623"/>
                      </a:lnTo>
                      <a:lnTo>
                        <a:pt x="1210" y="666"/>
                      </a:lnTo>
                      <a:lnTo>
                        <a:pt x="1216" y="726"/>
                      </a:lnTo>
                      <a:lnTo>
                        <a:pt x="1223" y="794"/>
                      </a:lnTo>
                      <a:lnTo>
                        <a:pt x="1231" y="863"/>
                      </a:lnTo>
                      <a:lnTo>
                        <a:pt x="1241" y="926"/>
                      </a:lnTo>
                      <a:lnTo>
                        <a:pt x="1250" y="977"/>
                      </a:lnTo>
                      <a:lnTo>
                        <a:pt x="1259" y="1007"/>
                      </a:lnTo>
                      <a:lnTo>
                        <a:pt x="1266" y="1009"/>
                      </a:lnTo>
                      <a:lnTo>
                        <a:pt x="1274" y="1008"/>
                      </a:lnTo>
                      <a:lnTo>
                        <a:pt x="1281" y="1005"/>
                      </a:lnTo>
                      <a:lnTo>
                        <a:pt x="1287" y="1002"/>
                      </a:lnTo>
                      <a:lnTo>
                        <a:pt x="1290" y="988"/>
                      </a:lnTo>
                      <a:lnTo>
                        <a:pt x="1289" y="974"/>
                      </a:lnTo>
                      <a:lnTo>
                        <a:pt x="1286" y="962"/>
                      </a:lnTo>
                      <a:lnTo>
                        <a:pt x="1281" y="949"/>
                      </a:lnTo>
                      <a:lnTo>
                        <a:pt x="1283" y="948"/>
                      </a:lnTo>
                      <a:lnTo>
                        <a:pt x="1288" y="949"/>
                      </a:lnTo>
                      <a:lnTo>
                        <a:pt x="1293" y="951"/>
                      </a:lnTo>
                      <a:lnTo>
                        <a:pt x="1297" y="955"/>
                      </a:lnTo>
                      <a:lnTo>
                        <a:pt x="1321" y="926"/>
                      </a:lnTo>
                      <a:lnTo>
                        <a:pt x="1344" y="896"/>
                      </a:lnTo>
                      <a:lnTo>
                        <a:pt x="1367" y="866"/>
                      </a:lnTo>
                      <a:lnTo>
                        <a:pt x="1389" y="835"/>
                      </a:lnTo>
                      <a:lnTo>
                        <a:pt x="1410" y="804"/>
                      </a:lnTo>
                      <a:lnTo>
                        <a:pt x="1432" y="772"/>
                      </a:lnTo>
                      <a:lnTo>
                        <a:pt x="1453" y="741"/>
                      </a:lnTo>
                      <a:lnTo>
                        <a:pt x="1473" y="709"/>
                      </a:lnTo>
                      <a:lnTo>
                        <a:pt x="1480" y="700"/>
                      </a:lnTo>
                      <a:lnTo>
                        <a:pt x="1486" y="691"/>
                      </a:lnTo>
                      <a:lnTo>
                        <a:pt x="1492" y="682"/>
                      </a:lnTo>
                      <a:lnTo>
                        <a:pt x="1498" y="673"/>
                      </a:lnTo>
                      <a:lnTo>
                        <a:pt x="1501" y="663"/>
                      </a:lnTo>
                      <a:lnTo>
                        <a:pt x="1503" y="654"/>
                      </a:lnTo>
                      <a:lnTo>
                        <a:pt x="1504" y="645"/>
                      </a:lnTo>
                      <a:lnTo>
                        <a:pt x="1502" y="635"/>
                      </a:lnTo>
                      <a:lnTo>
                        <a:pt x="1498" y="622"/>
                      </a:lnTo>
                      <a:lnTo>
                        <a:pt x="1488" y="608"/>
                      </a:lnTo>
                      <a:lnTo>
                        <a:pt x="1478" y="592"/>
                      </a:lnTo>
                      <a:lnTo>
                        <a:pt x="1464" y="575"/>
                      </a:lnTo>
                      <a:lnTo>
                        <a:pt x="1447" y="556"/>
                      </a:lnTo>
                      <a:lnTo>
                        <a:pt x="1428" y="538"/>
                      </a:lnTo>
                      <a:lnTo>
                        <a:pt x="1408" y="517"/>
                      </a:lnTo>
                      <a:lnTo>
                        <a:pt x="1385" y="496"/>
                      </a:lnTo>
                      <a:lnTo>
                        <a:pt x="1360" y="476"/>
                      </a:lnTo>
                      <a:lnTo>
                        <a:pt x="1335" y="454"/>
                      </a:lnTo>
                      <a:lnTo>
                        <a:pt x="1307" y="432"/>
                      </a:lnTo>
                      <a:lnTo>
                        <a:pt x="1280" y="410"/>
                      </a:lnTo>
                      <a:lnTo>
                        <a:pt x="1251" y="388"/>
                      </a:lnTo>
                      <a:lnTo>
                        <a:pt x="1222" y="367"/>
                      </a:lnTo>
                      <a:lnTo>
                        <a:pt x="1192" y="346"/>
                      </a:lnTo>
                      <a:lnTo>
                        <a:pt x="1162" y="325"/>
                      </a:lnTo>
                      <a:lnTo>
                        <a:pt x="1155" y="324"/>
                      </a:lnTo>
                      <a:lnTo>
                        <a:pt x="1144" y="325"/>
                      </a:lnTo>
                      <a:lnTo>
                        <a:pt x="1131" y="325"/>
                      </a:lnTo>
                      <a:lnTo>
                        <a:pt x="1116" y="327"/>
                      </a:lnTo>
                      <a:lnTo>
                        <a:pt x="1101" y="329"/>
                      </a:lnTo>
                      <a:lnTo>
                        <a:pt x="1089" y="333"/>
                      </a:lnTo>
                      <a:lnTo>
                        <a:pt x="1078" y="336"/>
                      </a:lnTo>
                      <a:lnTo>
                        <a:pt x="1071" y="341"/>
                      </a:lnTo>
                      <a:lnTo>
                        <a:pt x="1040" y="405"/>
                      </a:lnTo>
                      <a:lnTo>
                        <a:pt x="1047" y="432"/>
                      </a:lnTo>
                      <a:lnTo>
                        <a:pt x="1051" y="460"/>
                      </a:lnTo>
                      <a:lnTo>
                        <a:pt x="1049" y="487"/>
                      </a:lnTo>
                      <a:lnTo>
                        <a:pt x="1040" y="511"/>
                      </a:lnTo>
                      <a:lnTo>
                        <a:pt x="1033" y="503"/>
                      </a:lnTo>
                      <a:lnTo>
                        <a:pt x="1034" y="484"/>
                      </a:lnTo>
                      <a:lnTo>
                        <a:pt x="1036" y="461"/>
                      </a:lnTo>
                      <a:lnTo>
                        <a:pt x="1031" y="442"/>
                      </a:lnTo>
                      <a:lnTo>
                        <a:pt x="1026" y="435"/>
                      </a:lnTo>
                      <a:lnTo>
                        <a:pt x="1007" y="453"/>
                      </a:lnTo>
                      <a:lnTo>
                        <a:pt x="1015" y="472"/>
                      </a:lnTo>
                      <a:lnTo>
                        <a:pt x="1018" y="493"/>
                      </a:lnTo>
                      <a:lnTo>
                        <a:pt x="1014" y="514"/>
                      </a:lnTo>
                      <a:lnTo>
                        <a:pt x="1002" y="533"/>
                      </a:lnTo>
                      <a:lnTo>
                        <a:pt x="992" y="526"/>
                      </a:lnTo>
                      <a:lnTo>
                        <a:pt x="995" y="515"/>
                      </a:lnTo>
                      <a:lnTo>
                        <a:pt x="998" y="500"/>
                      </a:lnTo>
                      <a:lnTo>
                        <a:pt x="998" y="486"/>
                      </a:lnTo>
                      <a:lnTo>
                        <a:pt x="994" y="472"/>
                      </a:lnTo>
                      <a:lnTo>
                        <a:pt x="990" y="467"/>
                      </a:lnTo>
                      <a:lnTo>
                        <a:pt x="985" y="461"/>
                      </a:lnTo>
                      <a:lnTo>
                        <a:pt x="978" y="456"/>
                      </a:lnTo>
                      <a:lnTo>
                        <a:pt x="971" y="452"/>
                      </a:lnTo>
                      <a:lnTo>
                        <a:pt x="964" y="447"/>
                      </a:lnTo>
                      <a:lnTo>
                        <a:pt x="957" y="442"/>
                      </a:lnTo>
                      <a:lnTo>
                        <a:pt x="950" y="437"/>
                      </a:lnTo>
                      <a:lnTo>
                        <a:pt x="945" y="430"/>
                      </a:lnTo>
                      <a:lnTo>
                        <a:pt x="938" y="431"/>
                      </a:lnTo>
                      <a:lnTo>
                        <a:pt x="932" y="433"/>
                      </a:lnTo>
                      <a:lnTo>
                        <a:pt x="926" y="438"/>
                      </a:lnTo>
                      <a:lnTo>
                        <a:pt x="923" y="441"/>
                      </a:lnTo>
                      <a:lnTo>
                        <a:pt x="918" y="447"/>
                      </a:lnTo>
                      <a:lnTo>
                        <a:pt x="915" y="453"/>
                      </a:lnTo>
                      <a:lnTo>
                        <a:pt x="912" y="458"/>
                      </a:lnTo>
                      <a:lnTo>
                        <a:pt x="910" y="464"/>
                      </a:lnTo>
                      <a:lnTo>
                        <a:pt x="908" y="476"/>
                      </a:lnTo>
                      <a:lnTo>
                        <a:pt x="909" y="487"/>
                      </a:lnTo>
                      <a:lnTo>
                        <a:pt x="913" y="498"/>
                      </a:lnTo>
                      <a:lnTo>
                        <a:pt x="923" y="507"/>
                      </a:lnTo>
                      <a:lnTo>
                        <a:pt x="930" y="511"/>
                      </a:lnTo>
                      <a:lnTo>
                        <a:pt x="937" y="516"/>
                      </a:lnTo>
                      <a:lnTo>
                        <a:pt x="945" y="522"/>
                      </a:lnTo>
                      <a:lnTo>
                        <a:pt x="952" y="526"/>
                      </a:lnTo>
                      <a:lnTo>
                        <a:pt x="960" y="531"/>
                      </a:lnTo>
                      <a:lnTo>
                        <a:pt x="966" y="536"/>
                      </a:lnTo>
                      <a:lnTo>
                        <a:pt x="973" y="539"/>
                      </a:lnTo>
                      <a:lnTo>
                        <a:pt x="980" y="544"/>
                      </a:lnTo>
                      <a:lnTo>
                        <a:pt x="978" y="548"/>
                      </a:lnTo>
                      <a:lnTo>
                        <a:pt x="977" y="556"/>
                      </a:lnTo>
                      <a:lnTo>
                        <a:pt x="973" y="562"/>
                      </a:lnTo>
                      <a:lnTo>
                        <a:pt x="969" y="566"/>
                      </a:lnTo>
                      <a:lnTo>
                        <a:pt x="955" y="560"/>
                      </a:lnTo>
                      <a:lnTo>
                        <a:pt x="942" y="553"/>
                      </a:lnTo>
                      <a:lnTo>
                        <a:pt x="930" y="546"/>
                      </a:lnTo>
                      <a:lnTo>
                        <a:pt x="917" y="539"/>
                      </a:lnTo>
                      <a:lnTo>
                        <a:pt x="905" y="531"/>
                      </a:lnTo>
                      <a:lnTo>
                        <a:pt x="894" y="523"/>
                      </a:lnTo>
                      <a:lnTo>
                        <a:pt x="884" y="515"/>
                      </a:lnTo>
                      <a:lnTo>
                        <a:pt x="874" y="507"/>
                      </a:lnTo>
                      <a:lnTo>
                        <a:pt x="864" y="530"/>
                      </a:lnTo>
                      <a:lnTo>
                        <a:pt x="863" y="554"/>
                      </a:lnTo>
                      <a:lnTo>
                        <a:pt x="866" y="577"/>
                      </a:lnTo>
                      <a:lnTo>
                        <a:pt x="871" y="601"/>
                      </a:lnTo>
                      <a:lnTo>
                        <a:pt x="880" y="601"/>
                      </a:lnTo>
                      <a:lnTo>
                        <a:pt x="888" y="600"/>
                      </a:lnTo>
                      <a:lnTo>
                        <a:pt x="897" y="598"/>
                      </a:lnTo>
                      <a:lnTo>
                        <a:pt x="907" y="594"/>
                      </a:lnTo>
                      <a:lnTo>
                        <a:pt x="916" y="592"/>
                      </a:lnTo>
                      <a:lnTo>
                        <a:pt x="926" y="587"/>
                      </a:lnTo>
                      <a:lnTo>
                        <a:pt x="935" y="585"/>
                      </a:lnTo>
                      <a:lnTo>
                        <a:pt x="945" y="582"/>
                      </a:lnTo>
                      <a:lnTo>
                        <a:pt x="947" y="584"/>
                      </a:lnTo>
                      <a:lnTo>
                        <a:pt x="950" y="586"/>
                      </a:lnTo>
                      <a:lnTo>
                        <a:pt x="953" y="589"/>
                      </a:lnTo>
                      <a:lnTo>
                        <a:pt x="953" y="592"/>
                      </a:lnTo>
                      <a:lnTo>
                        <a:pt x="945" y="600"/>
                      </a:lnTo>
                      <a:lnTo>
                        <a:pt x="935" y="607"/>
                      </a:lnTo>
                      <a:lnTo>
                        <a:pt x="925" y="613"/>
                      </a:lnTo>
                      <a:lnTo>
                        <a:pt x="913" y="617"/>
                      </a:lnTo>
                      <a:lnTo>
                        <a:pt x="902" y="621"/>
                      </a:lnTo>
                      <a:lnTo>
                        <a:pt x="890" y="624"/>
                      </a:lnTo>
                      <a:lnTo>
                        <a:pt x="879" y="628"/>
                      </a:lnTo>
                      <a:lnTo>
                        <a:pt x="867" y="630"/>
                      </a:lnTo>
                      <a:lnTo>
                        <a:pt x="856" y="620"/>
                      </a:lnTo>
                      <a:lnTo>
                        <a:pt x="848" y="608"/>
                      </a:lnTo>
                      <a:lnTo>
                        <a:pt x="842" y="595"/>
                      </a:lnTo>
                      <a:lnTo>
                        <a:pt x="837" y="582"/>
                      </a:lnTo>
                      <a:lnTo>
                        <a:pt x="834" y="568"/>
                      </a:lnTo>
                      <a:lnTo>
                        <a:pt x="833" y="553"/>
                      </a:lnTo>
                      <a:lnTo>
                        <a:pt x="832" y="538"/>
                      </a:lnTo>
                      <a:lnTo>
                        <a:pt x="831" y="524"/>
                      </a:lnTo>
                      <a:lnTo>
                        <a:pt x="836" y="508"/>
                      </a:lnTo>
                      <a:lnTo>
                        <a:pt x="846" y="493"/>
                      </a:lnTo>
                      <a:lnTo>
                        <a:pt x="855" y="480"/>
                      </a:lnTo>
                      <a:lnTo>
                        <a:pt x="864" y="468"/>
                      </a:lnTo>
                      <a:lnTo>
                        <a:pt x="885" y="479"/>
                      </a:lnTo>
                      <a:lnTo>
                        <a:pt x="887" y="468"/>
                      </a:lnTo>
                      <a:lnTo>
                        <a:pt x="889" y="456"/>
                      </a:lnTo>
                      <a:lnTo>
                        <a:pt x="893" y="445"/>
                      </a:lnTo>
                      <a:lnTo>
                        <a:pt x="899" y="433"/>
                      </a:lnTo>
                      <a:lnTo>
                        <a:pt x="905" y="424"/>
                      </a:lnTo>
                      <a:lnTo>
                        <a:pt x="912" y="415"/>
                      </a:lnTo>
                      <a:lnTo>
                        <a:pt x="923" y="408"/>
                      </a:lnTo>
                      <a:lnTo>
                        <a:pt x="933" y="402"/>
                      </a:lnTo>
                      <a:lnTo>
                        <a:pt x="932" y="399"/>
                      </a:lnTo>
                      <a:lnTo>
                        <a:pt x="932" y="396"/>
                      </a:lnTo>
                      <a:lnTo>
                        <a:pt x="932" y="393"/>
                      </a:lnTo>
                      <a:lnTo>
                        <a:pt x="930" y="391"/>
                      </a:lnTo>
                      <a:lnTo>
                        <a:pt x="920" y="393"/>
                      </a:lnTo>
                      <a:lnTo>
                        <a:pt x="912" y="396"/>
                      </a:lnTo>
                      <a:lnTo>
                        <a:pt x="907" y="402"/>
                      </a:lnTo>
                      <a:lnTo>
                        <a:pt x="902" y="409"/>
                      </a:lnTo>
                      <a:lnTo>
                        <a:pt x="897" y="417"/>
                      </a:lnTo>
                      <a:lnTo>
                        <a:pt x="894" y="424"/>
                      </a:lnTo>
                      <a:lnTo>
                        <a:pt x="890" y="432"/>
                      </a:lnTo>
                      <a:lnTo>
                        <a:pt x="886" y="438"/>
                      </a:lnTo>
                      <a:lnTo>
                        <a:pt x="874" y="427"/>
                      </a:lnTo>
                      <a:lnTo>
                        <a:pt x="874" y="419"/>
                      </a:lnTo>
                      <a:lnTo>
                        <a:pt x="877" y="410"/>
                      </a:lnTo>
                      <a:lnTo>
                        <a:pt x="880" y="401"/>
                      </a:lnTo>
                      <a:lnTo>
                        <a:pt x="887" y="392"/>
                      </a:lnTo>
                      <a:lnTo>
                        <a:pt x="896" y="382"/>
                      </a:lnTo>
                      <a:lnTo>
                        <a:pt x="909" y="376"/>
                      </a:lnTo>
                      <a:lnTo>
                        <a:pt x="923" y="370"/>
                      </a:lnTo>
                      <a:lnTo>
                        <a:pt x="940" y="365"/>
                      </a:lnTo>
                      <a:lnTo>
                        <a:pt x="939" y="343"/>
                      </a:lnTo>
                      <a:lnTo>
                        <a:pt x="928" y="347"/>
                      </a:lnTo>
                      <a:lnTo>
                        <a:pt x="919" y="349"/>
                      </a:lnTo>
                      <a:lnTo>
                        <a:pt x="911" y="353"/>
                      </a:lnTo>
                      <a:lnTo>
                        <a:pt x="902" y="356"/>
                      </a:lnTo>
                      <a:lnTo>
                        <a:pt x="894" y="361"/>
                      </a:lnTo>
                      <a:lnTo>
                        <a:pt x="885" y="367"/>
                      </a:lnTo>
                      <a:lnTo>
                        <a:pt x="873" y="376"/>
                      </a:lnTo>
                      <a:lnTo>
                        <a:pt x="862" y="387"/>
                      </a:lnTo>
                      <a:lnTo>
                        <a:pt x="860" y="394"/>
                      </a:lnTo>
                      <a:lnTo>
                        <a:pt x="856" y="401"/>
                      </a:lnTo>
                      <a:lnTo>
                        <a:pt x="850" y="410"/>
                      </a:lnTo>
                      <a:lnTo>
                        <a:pt x="843" y="418"/>
                      </a:lnTo>
                      <a:lnTo>
                        <a:pt x="836" y="427"/>
                      </a:lnTo>
                      <a:lnTo>
                        <a:pt x="829" y="435"/>
                      </a:lnTo>
                      <a:lnTo>
                        <a:pt x="822" y="442"/>
                      </a:lnTo>
                      <a:lnTo>
                        <a:pt x="818" y="448"/>
                      </a:lnTo>
                      <a:lnTo>
                        <a:pt x="809" y="445"/>
                      </a:lnTo>
                      <a:lnTo>
                        <a:pt x="796" y="437"/>
                      </a:lnTo>
                      <a:lnTo>
                        <a:pt x="783" y="427"/>
                      </a:lnTo>
                      <a:lnTo>
                        <a:pt x="769" y="415"/>
                      </a:lnTo>
                      <a:lnTo>
                        <a:pt x="757" y="403"/>
                      </a:lnTo>
                      <a:lnTo>
                        <a:pt x="745" y="392"/>
                      </a:lnTo>
                      <a:lnTo>
                        <a:pt x="735" y="382"/>
                      </a:lnTo>
                      <a:lnTo>
                        <a:pt x="728" y="376"/>
                      </a:lnTo>
                      <a:lnTo>
                        <a:pt x="736" y="373"/>
                      </a:lnTo>
                      <a:lnTo>
                        <a:pt x="745" y="374"/>
                      </a:lnTo>
                      <a:lnTo>
                        <a:pt x="757" y="378"/>
                      </a:lnTo>
                      <a:lnTo>
                        <a:pt x="769" y="384"/>
                      </a:lnTo>
                      <a:lnTo>
                        <a:pt x="781" y="392"/>
                      </a:lnTo>
                      <a:lnTo>
                        <a:pt x="793" y="400"/>
                      </a:lnTo>
                      <a:lnTo>
                        <a:pt x="803" y="409"/>
                      </a:lnTo>
                      <a:lnTo>
                        <a:pt x="811" y="417"/>
                      </a:lnTo>
                      <a:lnTo>
                        <a:pt x="820" y="411"/>
                      </a:lnTo>
                      <a:lnTo>
                        <a:pt x="826" y="403"/>
                      </a:lnTo>
                      <a:lnTo>
                        <a:pt x="826" y="394"/>
                      </a:lnTo>
                      <a:lnTo>
                        <a:pt x="819" y="387"/>
                      </a:lnTo>
                      <a:lnTo>
                        <a:pt x="811" y="382"/>
                      </a:lnTo>
                      <a:lnTo>
                        <a:pt x="801" y="377"/>
                      </a:lnTo>
                      <a:lnTo>
                        <a:pt x="789" y="370"/>
                      </a:lnTo>
                      <a:lnTo>
                        <a:pt x="779" y="362"/>
                      </a:lnTo>
                      <a:lnTo>
                        <a:pt x="769" y="353"/>
                      </a:lnTo>
                      <a:lnTo>
                        <a:pt x="763" y="344"/>
                      </a:lnTo>
                      <a:lnTo>
                        <a:pt x="760" y="335"/>
                      </a:lnTo>
                      <a:lnTo>
                        <a:pt x="763" y="327"/>
                      </a:lnTo>
                      <a:lnTo>
                        <a:pt x="766" y="329"/>
                      </a:lnTo>
                      <a:lnTo>
                        <a:pt x="773" y="334"/>
                      </a:lnTo>
                      <a:lnTo>
                        <a:pt x="784" y="341"/>
                      </a:lnTo>
                      <a:lnTo>
                        <a:pt x="798" y="350"/>
                      </a:lnTo>
                      <a:lnTo>
                        <a:pt x="812" y="359"/>
                      </a:lnTo>
                      <a:lnTo>
                        <a:pt x="825" y="367"/>
                      </a:lnTo>
                      <a:lnTo>
                        <a:pt x="834" y="374"/>
                      </a:lnTo>
                      <a:lnTo>
                        <a:pt x="840" y="379"/>
                      </a:lnTo>
                      <a:lnTo>
                        <a:pt x="851" y="366"/>
                      </a:lnTo>
                      <a:lnTo>
                        <a:pt x="864" y="354"/>
                      </a:lnTo>
                      <a:lnTo>
                        <a:pt x="878" y="343"/>
                      </a:lnTo>
                      <a:lnTo>
                        <a:pt x="894" y="335"/>
                      </a:lnTo>
                      <a:lnTo>
                        <a:pt x="910" y="328"/>
                      </a:lnTo>
                      <a:lnTo>
                        <a:pt x="926" y="324"/>
                      </a:lnTo>
                      <a:lnTo>
                        <a:pt x="942" y="320"/>
                      </a:lnTo>
                      <a:lnTo>
                        <a:pt x="958" y="320"/>
                      </a:lnTo>
                      <a:lnTo>
                        <a:pt x="963" y="309"/>
                      </a:lnTo>
                      <a:lnTo>
                        <a:pt x="966" y="296"/>
                      </a:lnTo>
                      <a:lnTo>
                        <a:pt x="966" y="285"/>
                      </a:lnTo>
                      <a:lnTo>
                        <a:pt x="964" y="273"/>
                      </a:lnTo>
                      <a:lnTo>
                        <a:pt x="945" y="272"/>
                      </a:lnTo>
                      <a:lnTo>
                        <a:pt x="919" y="273"/>
                      </a:lnTo>
                      <a:lnTo>
                        <a:pt x="892" y="277"/>
                      </a:lnTo>
                      <a:lnTo>
                        <a:pt x="864" y="281"/>
                      </a:lnTo>
                      <a:lnTo>
                        <a:pt x="837" y="286"/>
                      </a:lnTo>
                      <a:lnTo>
                        <a:pt x="814" y="291"/>
                      </a:lnTo>
                      <a:lnTo>
                        <a:pt x="798" y="295"/>
                      </a:lnTo>
                      <a:lnTo>
                        <a:pt x="790" y="298"/>
                      </a:lnTo>
                      <a:lnTo>
                        <a:pt x="784" y="297"/>
                      </a:lnTo>
                      <a:lnTo>
                        <a:pt x="783" y="293"/>
                      </a:lnTo>
                      <a:lnTo>
                        <a:pt x="783" y="288"/>
                      </a:lnTo>
                      <a:lnTo>
                        <a:pt x="782" y="283"/>
                      </a:lnTo>
                      <a:lnTo>
                        <a:pt x="807" y="270"/>
                      </a:lnTo>
                      <a:lnTo>
                        <a:pt x="804" y="264"/>
                      </a:lnTo>
                      <a:lnTo>
                        <a:pt x="798" y="258"/>
                      </a:lnTo>
                      <a:lnTo>
                        <a:pt x="790" y="251"/>
                      </a:lnTo>
                      <a:lnTo>
                        <a:pt x="782" y="244"/>
                      </a:lnTo>
                      <a:lnTo>
                        <a:pt x="773" y="237"/>
                      </a:lnTo>
                      <a:lnTo>
                        <a:pt x="766" y="230"/>
                      </a:lnTo>
                      <a:lnTo>
                        <a:pt x="761" y="225"/>
                      </a:lnTo>
                      <a:lnTo>
                        <a:pt x="759" y="219"/>
                      </a:lnTo>
                      <a:lnTo>
                        <a:pt x="764" y="218"/>
                      </a:lnTo>
                      <a:lnTo>
                        <a:pt x="771" y="220"/>
                      </a:lnTo>
                      <a:lnTo>
                        <a:pt x="781" y="225"/>
                      </a:lnTo>
                      <a:lnTo>
                        <a:pt x="793" y="232"/>
                      </a:lnTo>
                      <a:lnTo>
                        <a:pt x="805" y="239"/>
                      </a:lnTo>
                      <a:lnTo>
                        <a:pt x="817" y="247"/>
                      </a:lnTo>
                      <a:lnTo>
                        <a:pt x="828" y="253"/>
                      </a:lnTo>
                      <a:lnTo>
                        <a:pt x="836" y="260"/>
                      </a:lnTo>
                      <a:lnTo>
                        <a:pt x="846" y="258"/>
                      </a:lnTo>
                      <a:lnTo>
                        <a:pt x="855" y="257"/>
                      </a:lnTo>
                      <a:lnTo>
                        <a:pt x="862" y="256"/>
                      </a:lnTo>
                      <a:lnTo>
                        <a:pt x="869" y="255"/>
                      </a:lnTo>
                      <a:lnTo>
                        <a:pt x="875" y="253"/>
                      </a:lnTo>
                      <a:lnTo>
                        <a:pt x="884" y="252"/>
                      </a:lnTo>
                      <a:lnTo>
                        <a:pt x="890" y="251"/>
                      </a:lnTo>
                      <a:lnTo>
                        <a:pt x="900" y="248"/>
                      </a:lnTo>
                      <a:lnTo>
                        <a:pt x="886" y="235"/>
                      </a:lnTo>
                      <a:lnTo>
                        <a:pt x="869" y="221"/>
                      </a:lnTo>
                      <a:lnTo>
                        <a:pt x="850" y="206"/>
                      </a:lnTo>
                      <a:lnTo>
                        <a:pt x="833" y="191"/>
                      </a:lnTo>
                      <a:lnTo>
                        <a:pt x="816" y="179"/>
                      </a:lnTo>
                      <a:lnTo>
                        <a:pt x="803" y="168"/>
                      </a:lnTo>
                      <a:lnTo>
                        <a:pt x="794" y="160"/>
                      </a:lnTo>
                      <a:lnTo>
                        <a:pt x="790" y="158"/>
                      </a:lnTo>
                      <a:lnTo>
                        <a:pt x="811" y="167"/>
                      </a:lnTo>
                      <a:lnTo>
                        <a:pt x="835" y="179"/>
                      </a:lnTo>
                      <a:lnTo>
                        <a:pt x="860" y="192"/>
                      </a:lnTo>
                      <a:lnTo>
                        <a:pt x="886" y="206"/>
                      </a:lnTo>
                      <a:lnTo>
                        <a:pt x="908" y="220"/>
                      </a:lnTo>
                      <a:lnTo>
                        <a:pt x="926" y="230"/>
                      </a:lnTo>
                      <a:lnTo>
                        <a:pt x="939" y="239"/>
                      </a:lnTo>
                      <a:lnTo>
                        <a:pt x="943" y="241"/>
                      </a:lnTo>
                      <a:lnTo>
                        <a:pt x="934" y="224"/>
                      </a:lnTo>
                      <a:lnTo>
                        <a:pt x="923" y="207"/>
                      </a:lnTo>
                      <a:lnTo>
                        <a:pt x="909" y="192"/>
                      </a:lnTo>
                      <a:lnTo>
                        <a:pt x="892" y="180"/>
                      </a:lnTo>
                      <a:lnTo>
                        <a:pt x="874" y="167"/>
                      </a:lnTo>
                      <a:lnTo>
                        <a:pt x="856" y="157"/>
                      </a:lnTo>
                      <a:lnTo>
                        <a:pt x="837" y="148"/>
                      </a:lnTo>
                      <a:lnTo>
                        <a:pt x="819" y="139"/>
                      </a:lnTo>
                      <a:lnTo>
                        <a:pt x="788" y="130"/>
                      </a:lnTo>
                      <a:lnTo>
                        <a:pt x="764" y="131"/>
                      </a:lnTo>
                      <a:lnTo>
                        <a:pt x="745" y="141"/>
                      </a:lnTo>
                      <a:lnTo>
                        <a:pt x="731" y="154"/>
                      </a:lnTo>
                      <a:lnTo>
                        <a:pt x="722" y="171"/>
                      </a:lnTo>
                      <a:lnTo>
                        <a:pt x="715" y="188"/>
                      </a:lnTo>
                      <a:lnTo>
                        <a:pt x="711" y="203"/>
                      </a:lnTo>
                      <a:lnTo>
                        <a:pt x="707" y="214"/>
                      </a:lnTo>
                      <a:lnTo>
                        <a:pt x="687" y="201"/>
                      </a:lnTo>
                      <a:lnTo>
                        <a:pt x="693" y="183"/>
                      </a:lnTo>
                      <a:lnTo>
                        <a:pt x="700" y="167"/>
                      </a:lnTo>
                      <a:lnTo>
                        <a:pt x="707" y="152"/>
                      </a:lnTo>
                      <a:lnTo>
                        <a:pt x="714" y="137"/>
                      </a:lnTo>
                      <a:lnTo>
                        <a:pt x="723" y="125"/>
                      </a:lnTo>
                      <a:lnTo>
                        <a:pt x="733" y="113"/>
                      </a:lnTo>
                      <a:lnTo>
                        <a:pt x="745" y="104"/>
                      </a:lnTo>
                      <a:lnTo>
                        <a:pt x="760" y="97"/>
                      </a:lnTo>
                      <a:lnTo>
                        <a:pt x="778" y="98"/>
                      </a:lnTo>
                      <a:lnTo>
                        <a:pt x="796" y="100"/>
                      </a:lnTo>
                      <a:lnTo>
                        <a:pt x="814" y="106"/>
                      </a:lnTo>
                      <a:lnTo>
                        <a:pt x="834" y="114"/>
                      </a:lnTo>
                      <a:lnTo>
                        <a:pt x="854" y="123"/>
                      </a:lnTo>
                      <a:lnTo>
                        <a:pt x="873" y="135"/>
                      </a:lnTo>
                      <a:lnTo>
                        <a:pt x="892" y="146"/>
                      </a:lnTo>
                      <a:lnTo>
                        <a:pt x="910" y="160"/>
                      </a:lnTo>
                      <a:lnTo>
                        <a:pt x="927" y="173"/>
                      </a:lnTo>
                      <a:lnTo>
                        <a:pt x="943" y="187"/>
                      </a:lnTo>
                      <a:lnTo>
                        <a:pt x="958" y="199"/>
                      </a:lnTo>
                      <a:lnTo>
                        <a:pt x="971" y="212"/>
                      </a:lnTo>
                      <a:lnTo>
                        <a:pt x="983" y="225"/>
                      </a:lnTo>
                      <a:lnTo>
                        <a:pt x="991" y="235"/>
                      </a:lnTo>
                      <a:lnTo>
                        <a:pt x="996" y="244"/>
                      </a:lnTo>
                      <a:lnTo>
                        <a:pt x="999" y="251"/>
                      </a:lnTo>
                      <a:lnTo>
                        <a:pt x="1001" y="272"/>
                      </a:lnTo>
                      <a:lnTo>
                        <a:pt x="1001" y="291"/>
                      </a:lnTo>
                      <a:lnTo>
                        <a:pt x="999" y="310"/>
                      </a:lnTo>
                      <a:lnTo>
                        <a:pt x="994" y="328"/>
                      </a:lnTo>
                      <a:lnTo>
                        <a:pt x="988" y="347"/>
                      </a:lnTo>
                      <a:lnTo>
                        <a:pt x="981" y="365"/>
                      </a:lnTo>
                      <a:lnTo>
                        <a:pt x="973" y="384"/>
                      </a:lnTo>
                      <a:lnTo>
                        <a:pt x="966" y="403"/>
                      </a:lnTo>
                      <a:lnTo>
                        <a:pt x="992" y="423"/>
                      </a:lnTo>
                      <a:lnTo>
                        <a:pt x="1002" y="408"/>
                      </a:lnTo>
                      <a:lnTo>
                        <a:pt x="1014" y="387"/>
                      </a:lnTo>
                      <a:lnTo>
                        <a:pt x="1024" y="362"/>
                      </a:lnTo>
                      <a:lnTo>
                        <a:pt x="1036" y="334"/>
                      </a:lnTo>
                      <a:lnTo>
                        <a:pt x="1045" y="308"/>
                      </a:lnTo>
                      <a:lnTo>
                        <a:pt x="1052" y="283"/>
                      </a:lnTo>
                      <a:lnTo>
                        <a:pt x="1056" y="264"/>
                      </a:lnTo>
                      <a:lnTo>
                        <a:pt x="1056" y="251"/>
                      </a:lnTo>
                      <a:lnTo>
                        <a:pt x="1043" y="232"/>
                      </a:lnTo>
                      <a:lnTo>
                        <a:pt x="1026" y="213"/>
                      </a:lnTo>
                      <a:lnTo>
                        <a:pt x="1010" y="195"/>
                      </a:lnTo>
                      <a:lnTo>
                        <a:pt x="993" y="177"/>
                      </a:lnTo>
                      <a:lnTo>
                        <a:pt x="976" y="161"/>
                      </a:lnTo>
                      <a:lnTo>
                        <a:pt x="957" y="145"/>
                      </a:lnTo>
                      <a:lnTo>
                        <a:pt x="939" y="131"/>
                      </a:lnTo>
                      <a:lnTo>
                        <a:pt x="919" y="118"/>
                      </a:lnTo>
                      <a:lnTo>
                        <a:pt x="900" y="105"/>
                      </a:lnTo>
                      <a:lnTo>
                        <a:pt x="880" y="92"/>
                      </a:lnTo>
                      <a:lnTo>
                        <a:pt x="860" y="82"/>
                      </a:lnTo>
                      <a:lnTo>
                        <a:pt x="842" y="72"/>
                      </a:lnTo>
                      <a:lnTo>
                        <a:pt x="822" y="62"/>
                      </a:lnTo>
                      <a:lnTo>
                        <a:pt x="804" y="54"/>
                      </a:lnTo>
                      <a:lnTo>
                        <a:pt x="786" y="46"/>
                      </a:lnTo>
                      <a:lnTo>
                        <a:pt x="768" y="40"/>
                      </a:lnTo>
                      <a:lnTo>
                        <a:pt x="758" y="37"/>
                      </a:lnTo>
                      <a:lnTo>
                        <a:pt x="750" y="36"/>
                      </a:lnTo>
                      <a:lnTo>
                        <a:pt x="743" y="35"/>
                      </a:lnTo>
                      <a:lnTo>
                        <a:pt x="738" y="35"/>
                      </a:lnTo>
                      <a:lnTo>
                        <a:pt x="736" y="35"/>
                      </a:lnTo>
                      <a:lnTo>
                        <a:pt x="734" y="35"/>
                      </a:lnTo>
                      <a:lnTo>
                        <a:pt x="733" y="36"/>
                      </a:lnTo>
                      <a:lnTo>
                        <a:pt x="733" y="36"/>
                      </a:lnTo>
                      <a:lnTo>
                        <a:pt x="712" y="54"/>
                      </a:lnTo>
                      <a:lnTo>
                        <a:pt x="696" y="74"/>
                      </a:lnTo>
                      <a:lnTo>
                        <a:pt x="682" y="93"/>
                      </a:lnTo>
                      <a:lnTo>
                        <a:pt x="673" y="114"/>
                      </a:lnTo>
                      <a:lnTo>
                        <a:pt x="663" y="136"/>
                      </a:lnTo>
                      <a:lnTo>
                        <a:pt x="658" y="159"/>
                      </a:lnTo>
                      <a:lnTo>
                        <a:pt x="652" y="182"/>
                      </a:lnTo>
                      <a:lnTo>
                        <a:pt x="646" y="206"/>
                      </a:lnTo>
                      <a:lnTo>
                        <a:pt x="650" y="215"/>
                      </a:lnTo>
                      <a:lnTo>
                        <a:pt x="655" y="222"/>
                      </a:lnTo>
                      <a:lnTo>
                        <a:pt x="662" y="227"/>
                      </a:lnTo>
                      <a:lnTo>
                        <a:pt x="669" y="232"/>
                      </a:lnTo>
                      <a:lnTo>
                        <a:pt x="676" y="237"/>
                      </a:lnTo>
                      <a:lnTo>
                        <a:pt x="682" y="243"/>
                      </a:lnTo>
                      <a:lnTo>
                        <a:pt x="685" y="251"/>
                      </a:lnTo>
                      <a:lnTo>
                        <a:pt x="685" y="262"/>
                      </a:lnTo>
                      <a:lnTo>
                        <a:pt x="676" y="264"/>
                      </a:lnTo>
                      <a:lnTo>
                        <a:pt x="668" y="262"/>
                      </a:lnTo>
                      <a:lnTo>
                        <a:pt x="659" y="258"/>
                      </a:lnTo>
                      <a:lnTo>
                        <a:pt x="651" y="252"/>
                      </a:lnTo>
                      <a:lnTo>
                        <a:pt x="643" y="248"/>
                      </a:lnTo>
                      <a:lnTo>
                        <a:pt x="635" y="247"/>
                      </a:lnTo>
                      <a:lnTo>
                        <a:pt x="628" y="250"/>
                      </a:lnTo>
                      <a:lnTo>
                        <a:pt x="621" y="260"/>
                      </a:lnTo>
                      <a:lnTo>
                        <a:pt x="615" y="270"/>
                      </a:lnTo>
                      <a:lnTo>
                        <a:pt x="613" y="279"/>
                      </a:lnTo>
                      <a:lnTo>
                        <a:pt x="609" y="287"/>
                      </a:lnTo>
                      <a:lnTo>
                        <a:pt x="601" y="295"/>
                      </a:lnTo>
                      <a:lnTo>
                        <a:pt x="600" y="283"/>
                      </a:lnTo>
                      <a:lnTo>
                        <a:pt x="599" y="271"/>
                      </a:lnTo>
                      <a:lnTo>
                        <a:pt x="600" y="259"/>
                      </a:lnTo>
                      <a:lnTo>
                        <a:pt x="604" y="248"/>
                      </a:lnTo>
                      <a:lnTo>
                        <a:pt x="619" y="229"/>
                      </a:lnTo>
                      <a:lnTo>
                        <a:pt x="610" y="207"/>
                      </a:lnTo>
                      <a:lnTo>
                        <a:pt x="600" y="212"/>
                      </a:lnTo>
                      <a:lnTo>
                        <a:pt x="592" y="218"/>
                      </a:lnTo>
                      <a:lnTo>
                        <a:pt x="586" y="225"/>
                      </a:lnTo>
                      <a:lnTo>
                        <a:pt x="583" y="233"/>
                      </a:lnTo>
                      <a:lnTo>
                        <a:pt x="579" y="242"/>
                      </a:lnTo>
                      <a:lnTo>
                        <a:pt x="578" y="251"/>
                      </a:lnTo>
                      <a:lnTo>
                        <a:pt x="577" y="262"/>
                      </a:lnTo>
                      <a:lnTo>
                        <a:pt x="576" y="273"/>
                      </a:lnTo>
                      <a:lnTo>
                        <a:pt x="577" y="285"/>
                      </a:lnTo>
                      <a:lnTo>
                        <a:pt x="582" y="294"/>
                      </a:lnTo>
                      <a:lnTo>
                        <a:pt x="590" y="303"/>
                      </a:lnTo>
                      <a:lnTo>
                        <a:pt x="599" y="311"/>
                      </a:lnTo>
                      <a:lnTo>
                        <a:pt x="610" y="318"/>
                      </a:lnTo>
                      <a:lnTo>
                        <a:pt x="622" y="324"/>
                      </a:lnTo>
                      <a:lnTo>
                        <a:pt x="634" y="329"/>
                      </a:lnTo>
                      <a:lnTo>
                        <a:pt x="643" y="335"/>
                      </a:lnTo>
                      <a:lnTo>
                        <a:pt x="652" y="327"/>
                      </a:lnTo>
                      <a:lnTo>
                        <a:pt x="660" y="319"/>
                      </a:lnTo>
                      <a:lnTo>
                        <a:pt x="667" y="310"/>
                      </a:lnTo>
                      <a:lnTo>
                        <a:pt x="673" y="301"/>
                      </a:lnTo>
                      <a:lnTo>
                        <a:pt x="678" y="291"/>
                      </a:lnTo>
                      <a:lnTo>
                        <a:pt x="684" y="281"/>
                      </a:lnTo>
                      <a:lnTo>
                        <a:pt x="690" y="272"/>
                      </a:lnTo>
                      <a:lnTo>
                        <a:pt x="696" y="262"/>
                      </a:lnTo>
                      <a:lnTo>
                        <a:pt x="703" y="267"/>
                      </a:lnTo>
                      <a:lnTo>
                        <a:pt x="704" y="275"/>
                      </a:lnTo>
                      <a:lnTo>
                        <a:pt x="703" y="285"/>
                      </a:lnTo>
                      <a:lnTo>
                        <a:pt x="702" y="294"/>
                      </a:lnTo>
                      <a:lnTo>
                        <a:pt x="698" y="304"/>
                      </a:lnTo>
                      <a:lnTo>
                        <a:pt x="692" y="315"/>
                      </a:lnTo>
                      <a:lnTo>
                        <a:pt x="687" y="325"/>
                      </a:lnTo>
                      <a:lnTo>
                        <a:pt x="683" y="334"/>
                      </a:lnTo>
                      <a:lnTo>
                        <a:pt x="693" y="328"/>
                      </a:lnTo>
                      <a:lnTo>
                        <a:pt x="704" y="321"/>
                      </a:lnTo>
                      <a:lnTo>
                        <a:pt x="711" y="313"/>
                      </a:lnTo>
                      <a:lnTo>
                        <a:pt x="718" y="303"/>
                      </a:lnTo>
                      <a:lnTo>
                        <a:pt x="722" y="293"/>
                      </a:lnTo>
                      <a:lnTo>
                        <a:pt x="726" y="282"/>
                      </a:lnTo>
                      <a:lnTo>
                        <a:pt x="728" y="270"/>
                      </a:lnTo>
                      <a:lnTo>
                        <a:pt x="729" y="258"/>
                      </a:lnTo>
                      <a:lnTo>
                        <a:pt x="727" y="249"/>
                      </a:lnTo>
                      <a:lnTo>
                        <a:pt x="722" y="241"/>
                      </a:lnTo>
                      <a:lnTo>
                        <a:pt x="721" y="233"/>
                      </a:lnTo>
                      <a:lnTo>
                        <a:pt x="728" y="227"/>
                      </a:lnTo>
                      <a:lnTo>
                        <a:pt x="737" y="230"/>
                      </a:lnTo>
                      <a:lnTo>
                        <a:pt x="743" y="237"/>
                      </a:lnTo>
                      <a:lnTo>
                        <a:pt x="745" y="247"/>
                      </a:lnTo>
                      <a:lnTo>
                        <a:pt x="750" y="255"/>
                      </a:lnTo>
                      <a:lnTo>
                        <a:pt x="750" y="277"/>
                      </a:lnTo>
                      <a:lnTo>
                        <a:pt x="746" y="298"/>
                      </a:lnTo>
                      <a:lnTo>
                        <a:pt x="740" y="318"/>
                      </a:lnTo>
                      <a:lnTo>
                        <a:pt x="728" y="336"/>
                      </a:lnTo>
                      <a:lnTo>
                        <a:pt x="722" y="339"/>
                      </a:lnTo>
                      <a:lnTo>
                        <a:pt x="716" y="341"/>
                      </a:lnTo>
                      <a:lnTo>
                        <a:pt x="711" y="344"/>
                      </a:lnTo>
                      <a:lnTo>
                        <a:pt x="705" y="348"/>
                      </a:lnTo>
                      <a:lnTo>
                        <a:pt x="699" y="351"/>
                      </a:lnTo>
                      <a:lnTo>
                        <a:pt x="693" y="354"/>
                      </a:lnTo>
                      <a:lnTo>
                        <a:pt x="688" y="356"/>
                      </a:lnTo>
                      <a:lnTo>
                        <a:pt x="682" y="356"/>
                      </a:lnTo>
                      <a:lnTo>
                        <a:pt x="681" y="359"/>
                      </a:lnTo>
                      <a:lnTo>
                        <a:pt x="681" y="364"/>
                      </a:lnTo>
                      <a:lnTo>
                        <a:pt x="681" y="370"/>
                      </a:lnTo>
                      <a:lnTo>
                        <a:pt x="677" y="373"/>
                      </a:lnTo>
                      <a:lnTo>
                        <a:pt x="667" y="371"/>
                      </a:lnTo>
                      <a:lnTo>
                        <a:pt x="652" y="366"/>
                      </a:lnTo>
                      <a:lnTo>
                        <a:pt x="635" y="358"/>
                      </a:lnTo>
                      <a:lnTo>
                        <a:pt x="615" y="349"/>
                      </a:lnTo>
                      <a:lnTo>
                        <a:pt x="596" y="340"/>
                      </a:lnTo>
                      <a:lnTo>
                        <a:pt x="579" y="329"/>
                      </a:lnTo>
                      <a:lnTo>
                        <a:pt x="566" y="319"/>
                      </a:lnTo>
                      <a:lnTo>
                        <a:pt x="559" y="311"/>
                      </a:lnTo>
                      <a:lnTo>
                        <a:pt x="549" y="328"/>
                      </a:lnTo>
                      <a:lnTo>
                        <a:pt x="543" y="355"/>
                      </a:lnTo>
                      <a:lnTo>
                        <a:pt x="541" y="381"/>
                      </a:lnTo>
                      <a:lnTo>
                        <a:pt x="549" y="403"/>
                      </a:lnTo>
                      <a:lnTo>
                        <a:pt x="559" y="404"/>
                      </a:lnTo>
                      <a:lnTo>
                        <a:pt x="569" y="403"/>
                      </a:lnTo>
                      <a:lnTo>
                        <a:pt x="578" y="401"/>
                      </a:lnTo>
                      <a:lnTo>
                        <a:pt x="587" y="397"/>
                      </a:lnTo>
                      <a:lnTo>
                        <a:pt x="597" y="394"/>
                      </a:lnTo>
                      <a:lnTo>
                        <a:pt x="606" y="389"/>
                      </a:lnTo>
                      <a:lnTo>
                        <a:pt x="615" y="385"/>
                      </a:lnTo>
                      <a:lnTo>
                        <a:pt x="624" y="381"/>
                      </a:lnTo>
                      <a:lnTo>
                        <a:pt x="655" y="396"/>
                      </a:lnTo>
                      <a:lnTo>
                        <a:pt x="540" y="439"/>
                      </a:lnTo>
                      <a:lnTo>
                        <a:pt x="524" y="420"/>
                      </a:lnTo>
                      <a:lnTo>
                        <a:pt x="515" y="397"/>
                      </a:lnTo>
                      <a:lnTo>
                        <a:pt x="511" y="373"/>
                      </a:lnTo>
                      <a:lnTo>
                        <a:pt x="508" y="349"/>
                      </a:lnTo>
                      <a:lnTo>
                        <a:pt x="511" y="336"/>
                      </a:lnTo>
                      <a:lnTo>
                        <a:pt x="518" y="324"/>
                      </a:lnTo>
                      <a:lnTo>
                        <a:pt x="526" y="311"/>
                      </a:lnTo>
                      <a:lnTo>
                        <a:pt x="536" y="298"/>
                      </a:lnTo>
                      <a:lnTo>
                        <a:pt x="544" y="288"/>
                      </a:lnTo>
                      <a:lnTo>
                        <a:pt x="552" y="280"/>
                      </a:lnTo>
                      <a:lnTo>
                        <a:pt x="556" y="274"/>
                      </a:lnTo>
                      <a:lnTo>
                        <a:pt x="559" y="272"/>
                      </a:lnTo>
                      <a:lnTo>
                        <a:pt x="560" y="257"/>
                      </a:lnTo>
                      <a:lnTo>
                        <a:pt x="562" y="241"/>
                      </a:lnTo>
                      <a:lnTo>
                        <a:pt x="566" y="227"/>
                      </a:lnTo>
                      <a:lnTo>
                        <a:pt x="571" y="213"/>
                      </a:lnTo>
                      <a:lnTo>
                        <a:pt x="579" y="201"/>
                      </a:lnTo>
                      <a:lnTo>
                        <a:pt x="590" y="190"/>
                      </a:lnTo>
                      <a:lnTo>
                        <a:pt x="602" y="181"/>
                      </a:lnTo>
                      <a:lnTo>
                        <a:pt x="619" y="173"/>
                      </a:lnTo>
                      <a:lnTo>
                        <a:pt x="615" y="169"/>
                      </a:lnTo>
                      <a:lnTo>
                        <a:pt x="604" y="161"/>
                      </a:lnTo>
                      <a:lnTo>
                        <a:pt x="587" y="150"/>
                      </a:lnTo>
                      <a:lnTo>
                        <a:pt x="567" y="135"/>
                      </a:lnTo>
                      <a:lnTo>
                        <a:pt x="545" y="120"/>
                      </a:lnTo>
                      <a:lnTo>
                        <a:pt x="522" y="104"/>
                      </a:lnTo>
                      <a:lnTo>
                        <a:pt x="499" y="89"/>
                      </a:lnTo>
                      <a:lnTo>
                        <a:pt x="479" y="76"/>
                      </a:lnTo>
                      <a:lnTo>
                        <a:pt x="471" y="83"/>
                      </a:lnTo>
                      <a:lnTo>
                        <a:pt x="464" y="93"/>
                      </a:lnTo>
                      <a:lnTo>
                        <a:pt x="457" y="104"/>
                      </a:lnTo>
                      <a:lnTo>
                        <a:pt x="452" y="114"/>
                      </a:lnTo>
                      <a:lnTo>
                        <a:pt x="560" y="189"/>
                      </a:lnTo>
                      <a:lnTo>
                        <a:pt x="547" y="210"/>
                      </a:lnTo>
                      <a:lnTo>
                        <a:pt x="426" y="134"/>
                      </a:lnTo>
                      <a:lnTo>
                        <a:pt x="411" y="143"/>
                      </a:lnTo>
                      <a:lnTo>
                        <a:pt x="395" y="152"/>
                      </a:lnTo>
                      <a:lnTo>
                        <a:pt x="380" y="161"/>
                      </a:lnTo>
                      <a:lnTo>
                        <a:pt x="366" y="171"/>
                      </a:lnTo>
                      <a:lnTo>
                        <a:pt x="351" y="180"/>
                      </a:lnTo>
                      <a:lnTo>
                        <a:pt x="336" y="189"/>
                      </a:lnTo>
                      <a:lnTo>
                        <a:pt x="322" y="198"/>
                      </a:lnTo>
                      <a:lnTo>
                        <a:pt x="307" y="207"/>
                      </a:lnTo>
                      <a:lnTo>
                        <a:pt x="293" y="215"/>
                      </a:lnTo>
                      <a:lnTo>
                        <a:pt x="279" y="225"/>
                      </a:lnTo>
                      <a:lnTo>
                        <a:pt x="264" y="234"/>
                      </a:lnTo>
                      <a:lnTo>
                        <a:pt x="249" y="243"/>
                      </a:lnTo>
                      <a:lnTo>
                        <a:pt x="235" y="252"/>
                      </a:lnTo>
                      <a:lnTo>
                        <a:pt x="220" y="262"/>
                      </a:lnTo>
                      <a:lnTo>
                        <a:pt x="204" y="272"/>
                      </a:lnTo>
                      <a:lnTo>
                        <a:pt x="189" y="281"/>
                      </a:lnTo>
                      <a:lnTo>
                        <a:pt x="166" y="317"/>
                      </a:lnTo>
                      <a:lnTo>
                        <a:pt x="140" y="373"/>
                      </a:lnTo>
                      <a:lnTo>
                        <a:pt x="116" y="445"/>
                      </a:lnTo>
                      <a:lnTo>
                        <a:pt x="93" y="522"/>
                      </a:lnTo>
                      <a:lnTo>
                        <a:pt x="72" y="601"/>
                      </a:lnTo>
                      <a:lnTo>
                        <a:pt x="54" y="675"/>
                      </a:lnTo>
                      <a:lnTo>
                        <a:pt x="39" y="737"/>
                      </a:lnTo>
                      <a:lnTo>
                        <a:pt x="29" y="781"/>
                      </a:lnTo>
                      <a:lnTo>
                        <a:pt x="22" y="781"/>
                      </a:lnTo>
                      <a:lnTo>
                        <a:pt x="14" y="781"/>
                      </a:lnTo>
                      <a:lnTo>
                        <a:pt x="7" y="780"/>
                      </a:lnTo>
                      <a:lnTo>
                        <a:pt x="0" y="776"/>
                      </a:lnTo>
                      <a:lnTo>
                        <a:pt x="3" y="756"/>
                      </a:lnTo>
                      <a:lnTo>
                        <a:pt x="14" y="701"/>
                      </a:lnTo>
                      <a:lnTo>
                        <a:pt x="30" y="623"/>
                      </a:lnTo>
                      <a:lnTo>
                        <a:pt x="49" y="532"/>
                      </a:lnTo>
                      <a:lnTo>
                        <a:pt x="74" y="438"/>
                      </a:lnTo>
                      <a:lnTo>
                        <a:pt x="99" y="351"/>
                      </a:lnTo>
                      <a:lnTo>
                        <a:pt x="128" y="282"/>
                      </a:lnTo>
                      <a:lnTo>
                        <a:pt x="155" y="242"/>
                      </a:lnTo>
                      <a:lnTo>
                        <a:pt x="158" y="241"/>
                      </a:lnTo>
                      <a:lnTo>
                        <a:pt x="166" y="236"/>
                      </a:lnTo>
                      <a:lnTo>
                        <a:pt x="177" y="230"/>
                      </a:lnTo>
                      <a:lnTo>
                        <a:pt x="193" y="222"/>
                      </a:lnTo>
                      <a:lnTo>
                        <a:pt x="212" y="213"/>
                      </a:lnTo>
                      <a:lnTo>
                        <a:pt x="233" y="203"/>
                      </a:lnTo>
                      <a:lnTo>
                        <a:pt x="255" y="190"/>
                      </a:lnTo>
                      <a:lnTo>
                        <a:pt x="279" y="179"/>
                      </a:lnTo>
                      <a:lnTo>
                        <a:pt x="302" y="166"/>
                      </a:lnTo>
                      <a:lnTo>
                        <a:pt x="325" y="153"/>
                      </a:lnTo>
                      <a:lnTo>
                        <a:pt x="348" y="142"/>
                      </a:lnTo>
                      <a:lnTo>
                        <a:pt x="367" y="130"/>
                      </a:lnTo>
                      <a:lnTo>
                        <a:pt x="386" y="120"/>
                      </a:lnTo>
                      <a:lnTo>
                        <a:pt x="401" y="111"/>
                      </a:lnTo>
                      <a:lnTo>
                        <a:pt x="412" y="104"/>
                      </a:lnTo>
                      <a:lnTo>
                        <a:pt x="419" y="99"/>
                      </a:lnTo>
                      <a:lnTo>
                        <a:pt x="425" y="93"/>
                      </a:lnTo>
                      <a:lnTo>
                        <a:pt x="432" y="83"/>
                      </a:lnTo>
                      <a:lnTo>
                        <a:pt x="441" y="72"/>
                      </a:lnTo>
                      <a:lnTo>
                        <a:pt x="450" y="59"/>
                      </a:lnTo>
                      <a:lnTo>
                        <a:pt x="460" y="47"/>
                      </a:lnTo>
                      <a:lnTo>
                        <a:pt x="470" y="39"/>
                      </a:lnTo>
                      <a:lnTo>
                        <a:pt x="479" y="34"/>
                      </a:lnTo>
                      <a:lnTo>
                        <a:pt x="488" y="35"/>
                      </a:lnTo>
                      <a:lnTo>
                        <a:pt x="498" y="42"/>
                      </a:lnTo>
                      <a:lnTo>
                        <a:pt x="511" y="52"/>
                      </a:lnTo>
                      <a:lnTo>
                        <a:pt x="530" y="65"/>
                      </a:lnTo>
                      <a:lnTo>
                        <a:pt x="552" y="78"/>
                      </a:lnTo>
                      <a:lnTo>
                        <a:pt x="574" y="93"/>
                      </a:lnTo>
                      <a:lnTo>
                        <a:pt x="596" y="108"/>
                      </a:lnTo>
                      <a:lnTo>
                        <a:pt x="614" y="121"/>
                      </a:lnTo>
                      <a:lnTo>
                        <a:pt x="629" y="130"/>
                      </a:lnTo>
                      <a:lnTo>
                        <a:pt x="638" y="110"/>
                      </a:lnTo>
                      <a:lnTo>
                        <a:pt x="649" y="87"/>
                      </a:lnTo>
                      <a:lnTo>
                        <a:pt x="659" y="63"/>
                      </a:lnTo>
                      <a:lnTo>
                        <a:pt x="672" y="42"/>
                      </a:lnTo>
                      <a:lnTo>
                        <a:pt x="687" y="23"/>
                      </a:lnTo>
                      <a:lnTo>
                        <a:pt x="704" y="8"/>
                      </a:lnTo>
                      <a:lnTo>
                        <a:pt x="726" y="0"/>
                      </a:lnTo>
                      <a:lnTo>
                        <a:pt x="751" y="0"/>
                      </a:lnTo>
                      <a:lnTo>
                        <a:pt x="760" y="2"/>
                      </a:lnTo>
                      <a:lnTo>
                        <a:pt x="772" y="5"/>
                      </a:lnTo>
                      <a:lnTo>
                        <a:pt x="783" y="9"/>
                      </a:lnTo>
                      <a:lnTo>
                        <a:pt x="797" y="15"/>
                      </a:lnTo>
                      <a:lnTo>
                        <a:pt x="811" y="21"/>
                      </a:lnTo>
                      <a:lnTo>
                        <a:pt x="826" y="28"/>
                      </a:lnTo>
                      <a:lnTo>
                        <a:pt x="842" y="35"/>
                      </a:lnTo>
                      <a:lnTo>
                        <a:pt x="857" y="42"/>
                      </a:lnTo>
                      <a:lnTo>
                        <a:pt x="872" y="50"/>
                      </a:lnTo>
                      <a:lnTo>
                        <a:pt x="887" y="58"/>
                      </a:lnTo>
                      <a:lnTo>
                        <a:pt x="901" y="66"/>
                      </a:lnTo>
                      <a:lnTo>
                        <a:pt x="915" y="74"/>
                      </a:lnTo>
                      <a:lnTo>
                        <a:pt x="926" y="81"/>
                      </a:lnTo>
                      <a:lnTo>
                        <a:pt x="937" y="88"/>
                      </a:lnTo>
                      <a:lnTo>
                        <a:pt x="946" y="95"/>
                      </a:lnTo>
                      <a:lnTo>
                        <a:pt x="953" y="100"/>
                      </a:lnTo>
                      <a:lnTo>
                        <a:pt x="958" y="95"/>
                      </a:lnTo>
                      <a:lnTo>
                        <a:pt x="964" y="89"/>
                      </a:lnTo>
                      <a:lnTo>
                        <a:pt x="970" y="84"/>
                      </a:lnTo>
                      <a:lnTo>
                        <a:pt x="978" y="81"/>
                      </a:lnTo>
                      <a:lnTo>
                        <a:pt x="998" y="77"/>
                      </a:lnTo>
                      <a:lnTo>
                        <a:pt x="1015" y="76"/>
                      </a:lnTo>
                      <a:lnTo>
                        <a:pt x="1032" y="77"/>
                      </a:lnTo>
                      <a:lnTo>
                        <a:pt x="1048" y="81"/>
                      </a:lnTo>
                      <a:lnTo>
                        <a:pt x="1064" y="88"/>
                      </a:lnTo>
                      <a:lnTo>
                        <a:pt x="1083" y="96"/>
                      </a:lnTo>
                      <a:lnTo>
                        <a:pt x="1101" y="106"/>
                      </a:lnTo>
                      <a:lnTo>
                        <a:pt x="1123" y="118"/>
                      </a:lnTo>
                      <a:lnTo>
                        <a:pt x="1144" y="130"/>
                      </a:lnTo>
                      <a:lnTo>
                        <a:pt x="1165" y="143"/>
                      </a:lnTo>
                      <a:lnTo>
                        <a:pt x="1184" y="156"/>
                      </a:lnTo>
                      <a:lnTo>
                        <a:pt x="1204" y="169"/>
                      </a:lnTo>
                      <a:lnTo>
                        <a:pt x="1223" y="183"/>
                      </a:lnTo>
                      <a:lnTo>
                        <a:pt x="1243" y="198"/>
                      </a:lnTo>
                      <a:lnTo>
                        <a:pt x="1261" y="213"/>
                      </a:lnTo>
                      <a:lnTo>
                        <a:pt x="1281" y="229"/>
                      </a:lnTo>
                      <a:lnTo>
                        <a:pt x="1295" y="244"/>
                      </a:lnTo>
                      <a:lnTo>
                        <a:pt x="1306" y="259"/>
                      </a:lnTo>
                      <a:lnTo>
                        <a:pt x="1316" y="273"/>
                      </a:lnTo>
                      <a:lnTo>
                        <a:pt x="1322" y="287"/>
                      </a:lnTo>
                      <a:lnTo>
                        <a:pt x="1327" y="300"/>
                      </a:lnTo>
                      <a:lnTo>
                        <a:pt x="1331" y="313"/>
                      </a:lnTo>
                      <a:lnTo>
                        <a:pt x="1332" y="327"/>
                      </a:lnTo>
                      <a:lnTo>
                        <a:pt x="1332" y="341"/>
                      </a:lnTo>
                      <a:lnTo>
                        <a:pt x="1331" y="349"/>
                      </a:lnTo>
                      <a:lnTo>
                        <a:pt x="1328" y="356"/>
                      </a:lnTo>
                      <a:lnTo>
                        <a:pt x="1324" y="362"/>
                      </a:lnTo>
                      <a:lnTo>
                        <a:pt x="1317" y="364"/>
                      </a:lnTo>
                      <a:lnTo>
                        <a:pt x="1311" y="356"/>
                      </a:lnTo>
                      <a:lnTo>
                        <a:pt x="1307" y="344"/>
                      </a:lnTo>
                      <a:lnTo>
                        <a:pt x="1306" y="334"/>
                      </a:lnTo>
                      <a:lnTo>
                        <a:pt x="1306" y="323"/>
                      </a:lnTo>
                      <a:lnTo>
                        <a:pt x="1301" y="308"/>
                      </a:lnTo>
                      <a:lnTo>
                        <a:pt x="1294" y="293"/>
                      </a:lnTo>
                      <a:lnTo>
                        <a:pt x="1283" y="279"/>
                      </a:lnTo>
                      <a:lnTo>
                        <a:pt x="1273" y="265"/>
                      </a:lnTo>
                      <a:lnTo>
                        <a:pt x="1260" y="251"/>
                      </a:lnTo>
                      <a:lnTo>
                        <a:pt x="1246" y="239"/>
                      </a:lnTo>
                      <a:lnTo>
                        <a:pt x="1231" y="226"/>
                      </a:lnTo>
                      <a:lnTo>
                        <a:pt x="1215" y="213"/>
                      </a:lnTo>
                      <a:lnTo>
                        <a:pt x="1199" y="202"/>
                      </a:lnTo>
                      <a:lnTo>
                        <a:pt x="1182" y="190"/>
                      </a:lnTo>
                      <a:lnTo>
                        <a:pt x="1165" y="179"/>
                      </a:lnTo>
                      <a:lnTo>
                        <a:pt x="1147" y="168"/>
                      </a:lnTo>
                      <a:lnTo>
                        <a:pt x="1129" y="158"/>
                      </a:lnTo>
                      <a:lnTo>
                        <a:pt x="1113" y="148"/>
                      </a:lnTo>
                      <a:lnTo>
                        <a:pt x="1096" y="137"/>
                      </a:lnTo>
                      <a:lnTo>
                        <a:pt x="1079" y="127"/>
                      </a:lnTo>
                      <a:lnTo>
                        <a:pt x="1067" y="121"/>
                      </a:lnTo>
                      <a:lnTo>
                        <a:pt x="1054" y="114"/>
                      </a:lnTo>
                      <a:lnTo>
                        <a:pt x="1043" y="110"/>
                      </a:lnTo>
                      <a:lnTo>
                        <a:pt x="1030" y="105"/>
                      </a:lnTo>
                      <a:lnTo>
                        <a:pt x="1017" y="104"/>
                      </a:lnTo>
                      <a:lnTo>
                        <a:pt x="1006" y="105"/>
                      </a:lnTo>
                      <a:lnTo>
                        <a:pt x="994" y="111"/>
                      </a:lnTo>
                      <a:lnTo>
                        <a:pt x="983" y="120"/>
                      </a:lnTo>
                      <a:lnTo>
                        <a:pt x="988" y="127"/>
                      </a:lnTo>
                      <a:lnTo>
                        <a:pt x="994" y="133"/>
                      </a:lnTo>
                      <a:lnTo>
                        <a:pt x="1000" y="138"/>
                      </a:lnTo>
                      <a:lnTo>
                        <a:pt x="1007" y="144"/>
                      </a:lnTo>
                      <a:lnTo>
                        <a:pt x="1013" y="149"/>
                      </a:lnTo>
                      <a:lnTo>
                        <a:pt x="1019" y="154"/>
                      </a:lnTo>
                      <a:lnTo>
                        <a:pt x="1026" y="160"/>
                      </a:lnTo>
                      <a:lnTo>
                        <a:pt x="1032" y="166"/>
                      </a:lnTo>
                      <a:lnTo>
                        <a:pt x="1049" y="169"/>
                      </a:lnTo>
                      <a:lnTo>
                        <a:pt x="1067" y="175"/>
                      </a:lnTo>
                      <a:lnTo>
                        <a:pt x="1083" y="181"/>
                      </a:lnTo>
                      <a:lnTo>
                        <a:pt x="1100" y="188"/>
                      </a:lnTo>
                      <a:lnTo>
                        <a:pt x="1117" y="196"/>
                      </a:lnTo>
                      <a:lnTo>
                        <a:pt x="1134" y="204"/>
                      </a:lnTo>
                      <a:lnTo>
                        <a:pt x="1151" y="213"/>
                      </a:lnTo>
                      <a:lnTo>
                        <a:pt x="1166" y="222"/>
                      </a:lnTo>
                      <a:lnTo>
                        <a:pt x="1181" y="233"/>
                      </a:lnTo>
                      <a:lnTo>
                        <a:pt x="1196" y="243"/>
                      </a:lnTo>
                      <a:lnTo>
                        <a:pt x="1210" y="253"/>
                      </a:lnTo>
                      <a:lnTo>
                        <a:pt x="1222" y="264"/>
                      </a:lnTo>
                      <a:lnTo>
                        <a:pt x="1235" y="274"/>
                      </a:lnTo>
                      <a:lnTo>
                        <a:pt x="1245" y="286"/>
                      </a:lnTo>
                      <a:lnTo>
                        <a:pt x="1256" y="296"/>
                      </a:lnTo>
                      <a:lnTo>
                        <a:pt x="1264" y="306"/>
                      </a:lnTo>
                      <a:lnTo>
                        <a:pt x="1264" y="313"/>
                      </a:lnTo>
                      <a:lnTo>
                        <a:pt x="1264" y="321"/>
                      </a:lnTo>
                      <a:lnTo>
                        <a:pt x="1263" y="329"/>
                      </a:lnTo>
                      <a:lnTo>
                        <a:pt x="1260" y="338"/>
                      </a:lnTo>
                      <a:lnTo>
                        <a:pt x="1250" y="325"/>
                      </a:lnTo>
                      <a:lnTo>
                        <a:pt x="1243" y="315"/>
                      </a:lnTo>
                      <a:lnTo>
                        <a:pt x="1236" y="305"/>
                      </a:lnTo>
                      <a:lnTo>
                        <a:pt x="1228" y="297"/>
                      </a:lnTo>
                      <a:lnTo>
                        <a:pt x="1208" y="281"/>
                      </a:lnTo>
                      <a:lnTo>
                        <a:pt x="1190" y="265"/>
                      </a:lnTo>
                      <a:lnTo>
                        <a:pt x="1170" y="250"/>
                      </a:lnTo>
                      <a:lnTo>
                        <a:pt x="1150" y="235"/>
                      </a:lnTo>
                      <a:lnTo>
                        <a:pt x="1129" y="222"/>
                      </a:lnTo>
                      <a:lnTo>
                        <a:pt x="1107" y="211"/>
                      </a:lnTo>
                      <a:lnTo>
                        <a:pt x="1084" y="202"/>
                      </a:lnTo>
                      <a:lnTo>
                        <a:pt x="1060" y="195"/>
                      </a:lnTo>
                      <a:lnTo>
                        <a:pt x="1066" y="201"/>
                      </a:lnTo>
                      <a:lnTo>
                        <a:pt x="1070" y="206"/>
                      </a:lnTo>
                      <a:lnTo>
                        <a:pt x="1075" y="213"/>
                      </a:lnTo>
                      <a:lnTo>
                        <a:pt x="1079" y="220"/>
                      </a:lnTo>
                      <a:lnTo>
                        <a:pt x="1084" y="227"/>
                      </a:lnTo>
                      <a:lnTo>
                        <a:pt x="1087" y="234"/>
                      </a:lnTo>
                      <a:lnTo>
                        <a:pt x="1092" y="242"/>
                      </a:lnTo>
                      <a:lnTo>
                        <a:pt x="1096" y="249"/>
                      </a:lnTo>
                      <a:lnTo>
                        <a:pt x="1100" y="250"/>
                      </a:lnTo>
                      <a:lnTo>
                        <a:pt x="1108" y="250"/>
                      </a:lnTo>
                      <a:lnTo>
                        <a:pt x="1120" y="250"/>
                      </a:lnTo>
                      <a:lnTo>
                        <a:pt x="1131" y="251"/>
                      </a:lnTo>
                      <a:lnTo>
                        <a:pt x="1143" y="255"/>
                      </a:lnTo>
                      <a:lnTo>
                        <a:pt x="1153" y="258"/>
                      </a:lnTo>
                      <a:lnTo>
                        <a:pt x="1160" y="264"/>
                      </a:lnTo>
                      <a:lnTo>
                        <a:pt x="1162" y="272"/>
                      </a:lnTo>
                      <a:lnTo>
                        <a:pt x="1151" y="272"/>
                      </a:lnTo>
                      <a:lnTo>
                        <a:pt x="1140" y="271"/>
                      </a:lnTo>
                      <a:lnTo>
                        <a:pt x="1131" y="271"/>
                      </a:lnTo>
                      <a:lnTo>
                        <a:pt x="1122" y="270"/>
                      </a:lnTo>
                      <a:lnTo>
                        <a:pt x="1114" y="270"/>
                      </a:lnTo>
                      <a:lnTo>
                        <a:pt x="1107" y="270"/>
                      </a:lnTo>
                      <a:lnTo>
                        <a:pt x="1101" y="270"/>
                      </a:lnTo>
                      <a:lnTo>
                        <a:pt x="1096" y="270"/>
                      </a:lnTo>
                      <a:lnTo>
                        <a:pt x="1084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165"/>
                <p:cNvSpPr/>
                <p:nvPr/>
              </p:nvSpPr>
              <p:spPr>
                <a:xfrm rot="20446200">
                  <a:off x="4524840" y="1789560"/>
                  <a:ext cx="336600" cy="438120"/>
                </a:xfrm>
                <a:custGeom>
                  <a:avLst/>
                  <a:gdLst/>
                  <a:ahLst/>
                  <a:rect l="l" t="t" r="r" b="b"/>
                  <a:pathLst>
                    <a:path w="423" h="552">
                      <a:moveTo>
                        <a:pt x="147" y="552"/>
                      </a:moveTo>
                      <a:lnTo>
                        <a:pt x="169" y="548"/>
                      </a:lnTo>
                      <a:lnTo>
                        <a:pt x="189" y="542"/>
                      </a:lnTo>
                      <a:lnTo>
                        <a:pt x="210" y="535"/>
                      </a:lnTo>
                      <a:lnTo>
                        <a:pt x="228" y="527"/>
                      </a:lnTo>
                      <a:lnTo>
                        <a:pt x="246" y="519"/>
                      </a:lnTo>
                      <a:lnTo>
                        <a:pt x="263" y="510"/>
                      </a:lnTo>
                      <a:lnTo>
                        <a:pt x="280" y="500"/>
                      </a:lnTo>
                      <a:lnTo>
                        <a:pt x="295" y="490"/>
                      </a:lnTo>
                      <a:lnTo>
                        <a:pt x="310" y="479"/>
                      </a:lnTo>
                      <a:lnTo>
                        <a:pt x="324" y="467"/>
                      </a:lnTo>
                      <a:lnTo>
                        <a:pt x="336" y="454"/>
                      </a:lnTo>
                      <a:lnTo>
                        <a:pt x="349" y="441"/>
                      </a:lnTo>
                      <a:lnTo>
                        <a:pt x="359" y="427"/>
                      </a:lnTo>
                      <a:lnTo>
                        <a:pt x="370" y="413"/>
                      </a:lnTo>
                      <a:lnTo>
                        <a:pt x="380" y="398"/>
                      </a:lnTo>
                      <a:lnTo>
                        <a:pt x="388" y="382"/>
                      </a:lnTo>
                      <a:lnTo>
                        <a:pt x="394" y="363"/>
                      </a:lnTo>
                      <a:lnTo>
                        <a:pt x="399" y="351"/>
                      </a:lnTo>
                      <a:lnTo>
                        <a:pt x="402" y="342"/>
                      </a:lnTo>
                      <a:lnTo>
                        <a:pt x="405" y="335"/>
                      </a:lnTo>
                      <a:lnTo>
                        <a:pt x="409" y="331"/>
                      </a:lnTo>
                      <a:lnTo>
                        <a:pt x="412" y="328"/>
                      </a:lnTo>
                      <a:lnTo>
                        <a:pt x="417" y="325"/>
                      </a:lnTo>
                      <a:lnTo>
                        <a:pt x="423" y="323"/>
                      </a:lnTo>
                      <a:lnTo>
                        <a:pt x="423" y="314"/>
                      </a:lnTo>
                      <a:lnTo>
                        <a:pt x="417" y="313"/>
                      </a:lnTo>
                      <a:lnTo>
                        <a:pt x="412" y="312"/>
                      </a:lnTo>
                      <a:lnTo>
                        <a:pt x="408" y="313"/>
                      </a:lnTo>
                      <a:lnTo>
                        <a:pt x="403" y="315"/>
                      </a:lnTo>
                      <a:lnTo>
                        <a:pt x="400" y="318"/>
                      </a:lnTo>
                      <a:lnTo>
                        <a:pt x="395" y="322"/>
                      </a:lnTo>
                      <a:lnTo>
                        <a:pt x="392" y="325"/>
                      </a:lnTo>
                      <a:lnTo>
                        <a:pt x="388" y="329"/>
                      </a:lnTo>
                      <a:lnTo>
                        <a:pt x="371" y="321"/>
                      </a:lnTo>
                      <a:lnTo>
                        <a:pt x="357" y="308"/>
                      </a:lnTo>
                      <a:lnTo>
                        <a:pt x="344" y="293"/>
                      </a:lnTo>
                      <a:lnTo>
                        <a:pt x="334" y="276"/>
                      </a:lnTo>
                      <a:lnTo>
                        <a:pt x="325" y="255"/>
                      </a:lnTo>
                      <a:lnTo>
                        <a:pt x="316" y="233"/>
                      </a:lnTo>
                      <a:lnTo>
                        <a:pt x="308" y="211"/>
                      </a:lnTo>
                      <a:lnTo>
                        <a:pt x="298" y="187"/>
                      </a:lnTo>
                      <a:lnTo>
                        <a:pt x="289" y="164"/>
                      </a:lnTo>
                      <a:lnTo>
                        <a:pt x="279" y="141"/>
                      </a:lnTo>
                      <a:lnTo>
                        <a:pt x="267" y="119"/>
                      </a:lnTo>
                      <a:lnTo>
                        <a:pt x="253" y="99"/>
                      </a:lnTo>
                      <a:lnTo>
                        <a:pt x="238" y="80"/>
                      </a:lnTo>
                      <a:lnTo>
                        <a:pt x="219" y="64"/>
                      </a:lnTo>
                      <a:lnTo>
                        <a:pt x="197" y="51"/>
                      </a:lnTo>
                      <a:lnTo>
                        <a:pt x="172" y="42"/>
                      </a:lnTo>
                      <a:lnTo>
                        <a:pt x="166" y="41"/>
                      </a:lnTo>
                      <a:lnTo>
                        <a:pt x="159" y="41"/>
                      </a:lnTo>
                      <a:lnTo>
                        <a:pt x="153" y="41"/>
                      </a:lnTo>
                      <a:lnTo>
                        <a:pt x="147" y="42"/>
                      </a:lnTo>
                      <a:lnTo>
                        <a:pt x="143" y="43"/>
                      </a:lnTo>
                      <a:lnTo>
                        <a:pt x="137" y="44"/>
                      </a:lnTo>
                      <a:lnTo>
                        <a:pt x="132" y="46"/>
                      </a:lnTo>
                      <a:lnTo>
                        <a:pt x="129" y="47"/>
                      </a:lnTo>
                      <a:lnTo>
                        <a:pt x="113" y="25"/>
                      </a:lnTo>
                      <a:lnTo>
                        <a:pt x="123" y="24"/>
                      </a:lnTo>
                      <a:lnTo>
                        <a:pt x="132" y="21"/>
                      </a:lnTo>
                      <a:lnTo>
                        <a:pt x="140" y="20"/>
                      </a:lnTo>
                      <a:lnTo>
                        <a:pt x="149" y="19"/>
                      </a:lnTo>
                      <a:lnTo>
                        <a:pt x="157" y="18"/>
                      </a:lnTo>
                      <a:lnTo>
                        <a:pt x="165" y="18"/>
                      </a:lnTo>
                      <a:lnTo>
                        <a:pt x="172" y="19"/>
                      </a:lnTo>
                      <a:lnTo>
                        <a:pt x="180" y="20"/>
                      </a:lnTo>
                      <a:lnTo>
                        <a:pt x="214" y="32"/>
                      </a:lnTo>
                      <a:lnTo>
                        <a:pt x="243" y="50"/>
                      </a:lnTo>
                      <a:lnTo>
                        <a:pt x="268" y="74"/>
                      </a:lnTo>
                      <a:lnTo>
                        <a:pt x="290" y="103"/>
                      </a:lnTo>
                      <a:lnTo>
                        <a:pt x="309" y="134"/>
                      </a:lnTo>
                      <a:lnTo>
                        <a:pt x="325" y="168"/>
                      </a:lnTo>
                      <a:lnTo>
                        <a:pt x="339" y="200"/>
                      </a:lnTo>
                      <a:lnTo>
                        <a:pt x="351" y="230"/>
                      </a:lnTo>
                      <a:lnTo>
                        <a:pt x="356" y="238"/>
                      </a:lnTo>
                      <a:lnTo>
                        <a:pt x="361" y="247"/>
                      </a:lnTo>
                      <a:lnTo>
                        <a:pt x="364" y="255"/>
                      </a:lnTo>
                      <a:lnTo>
                        <a:pt x="369" y="262"/>
                      </a:lnTo>
                      <a:lnTo>
                        <a:pt x="373" y="268"/>
                      </a:lnTo>
                      <a:lnTo>
                        <a:pt x="379" y="271"/>
                      </a:lnTo>
                      <a:lnTo>
                        <a:pt x="386" y="274"/>
                      </a:lnTo>
                      <a:lnTo>
                        <a:pt x="394" y="274"/>
                      </a:lnTo>
                      <a:lnTo>
                        <a:pt x="389" y="264"/>
                      </a:lnTo>
                      <a:lnTo>
                        <a:pt x="387" y="257"/>
                      </a:lnTo>
                      <a:lnTo>
                        <a:pt x="385" y="252"/>
                      </a:lnTo>
                      <a:lnTo>
                        <a:pt x="382" y="245"/>
                      </a:lnTo>
                      <a:lnTo>
                        <a:pt x="370" y="216"/>
                      </a:lnTo>
                      <a:lnTo>
                        <a:pt x="358" y="187"/>
                      </a:lnTo>
                      <a:lnTo>
                        <a:pt x="347" y="156"/>
                      </a:lnTo>
                      <a:lnTo>
                        <a:pt x="335" y="126"/>
                      </a:lnTo>
                      <a:lnTo>
                        <a:pt x="321" y="97"/>
                      </a:lnTo>
                      <a:lnTo>
                        <a:pt x="305" y="71"/>
                      </a:lnTo>
                      <a:lnTo>
                        <a:pt x="284" y="48"/>
                      </a:lnTo>
                      <a:lnTo>
                        <a:pt x="258" y="28"/>
                      </a:lnTo>
                      <a:lnTo>
                        <a:pt x="237" y="17"/>
                      </a:lnTo>
                      <a:lnTo>
                        <a:pt x="215" y="9"/>
                      </a:lnTo>
                      <a:lnTo>
                        <a:pt x="195" y="3"/>
                      </a:lnTo>
                      <a:lnTo>
                        <a:pt x="174" y="1"/>
                      </a:lnTo>
                      <a:lnTo>
                        <a:pt x="153" y="0"/>
                      </a:lnTo>
                      <a:lnTo>
                        <a:pt x="132" y="1"/>
                      </a:lnTo>
                      <a:lnTo>
                        <a:pt x="113" y="4"/>
                      </a:lnTo>
                      <a:lnTo>
                        <a:pt x="93" y="9"/>
                      </a:lnTo>
                      <a:lnTo>
                        <a:pt x="79" y="2"/>
                      </a:lnTo>
                      <a:lnTo>
                        <a:pt x="69" y="1"/>
                      </a:lnTo>
                      <a:lnTo>
                        <a:pt x="60" y="0"/>
                      </a:lnTo>
                      <a:lnTo>
                        <a:pt x="52" y="1"/>
                      </a:lnTo>
                      <a:lnTo>
                        <a:pt x="43" y="2"/>
                      </a:lnTo>
                      <a:lnTo>
                        <a:pt x="34" y="4"/>
                      </a:lnTo>
                      <a:lnTo>
                        <a:pt x="26" y="6"/>
                      </a:lnTo>
                      <a:lnTo>
                        <a:pt x="17" y="10"/>
                      </a:lnTo>
                      <a:lnTo>
                        <a:pt x="8" y="13"/>
                      </a:lnTo>
                      <a:lnTo>
                        <a:pt x="2" y="19"/>
                      </a:lnTo>
                      <a:lnTo>
                        <a:pt x="0" y="25"/>
                      </a:lnTo>
                      <a:lnTo>
                        <a:pt x="2" y="31"/>
                      </a:lnTo>
                      <a:lnTo>
                        <a:pt x="8" y="36"/>
                      </a:lnTo>
                      <a:lnTo>
                        <a:pt x="20" y="38"/>
                      </a:lnTo>
                      <a:lnTo>
                        <a:pt x="28" y="42"/>
                      </a:lnTo>
                      <a:lnTo>
                        <a:pt x="34" y="49"/>
                      </a:lnTo>
                      <a:lnTo>
                        <a:pt x="40" y="56"/>
                      </a:lnTo>
                      <a:lnTo>
                        <a:pt x="45" y="65"/>
                      </a:lnTo>
                      <a:lnTo>
                        <a:pt x="47" y="72"/>
                      </a:lnTo>
                      <a:lnTo>
                        <a:pt x="48" y="78"/>
                      </a:lnTo>
                      <a:lnTo>
                        <a:pt x="49" y="80"/>
                      </a:lnTo>
                      <a:lnTo>
                        <a:pt x="53" y="80"/>
                      </a:lnTo>
                      <a:lnTo>
                        <a:pt x="56" y="79"/>
                      </a:lnTo>
                      <a:lnTo>
                        <a:pt x="59" y="77"/>
                      </a:lnTo>
                      <a:lnTo>
                        <a:pt x="61" y="74"/>
                      </a:lnTo>
                      <a:lnTo>
                        <a:pt x="59" y="59"/>
                      </a:lnTo>
                      <a:lnTo>
                        <a:pt x="53" y="47"/>
                      </a:lnTo>
                      <a:lnTo>
                        <a:pt x="44" y="35"/>
                      </a:lnTo>
                      <a:lnTo>
                        <a:pt x="31" y="26"/>
                      </a:lnTo>
                      <a:lnTo>
                        <a:pt x="33" y="24"/>
                      </a:lnTo>
                      <a:lnTo>
                        <a:pt x="38" y="21"/>
                      </a:lnTo>
                      <a:lnTo>
                        <a:pt x="44" y="19"/>
                      </a:lnTo>
                      <a:lnTo>
                        <a:pt x="49" y="17"/>
                      </a:lnTo>
                      <a:lnTo>
                        <a:pt x="56" y="14"/>
                      </a:lnTo>
                      <a:lnTo>
                        <a:pt x="63" y="14"/>
                      </a:lnTo>
                      <a:lnTo>
                        <a:pt x="70" y="14"/>
                      </a:lnTo>
                      <a:lnTo>
                        <a:pt x="77" y="17"/>
                      </a:lnTo>
                      <a:lnTo>
                        <a:pt x="90" y="28"/>
                      </a:lnTo>
                      <a:lnTo>
                        <a:pt x="99" y="41"/>
                      </a:lnTo>
                      <a:lnTo>
                        <a:pt x="105" y="55"/>
                      </a:lnTo>
                      <a:lnTo>
                        <a:pt x="111" y="69"/>
                      </a:lnTo>
                      <a:lnTo>
                        <a:pt x="104" y="72"/>
                      </a:lnTo>
                      <a:lnTo>
                        <a:pt x="97" y="76"/>
                      </a:lnTo>
                      <a:lnTo>
                        <a:pt x="89" y="79"/>
                      </a:lnTo>
                      <a:lnTo>
                        <a:pt x="82" y="81"/>
                      </a:lnTo>
                      <a:lnTo>
                        <a:pt x="74" y="85"/>
                      </a:lnTo>
                      <a:lnTo>
                        <a:pt x="66" y="87"/>
                      </a:lnTo>
                      <a:lnTo>
                        <a:pt x="58" y="89"/>
                      </a:lnTo>
                      <a:lnTo>
                        <a:pt x="49" y="93"/>
                      </a:lnTo>
                      <a:lnTo>
                        <a:pt x="43" y="90"/>
                      </a:lnTo>
                      <a:lnTo>
                        <a:pt x="36" y="87"/>
                      </a:lnTo>
                      <a:lnTo>
                        <a:pt x="29" y="82"/>
                      </a:lnTo>
                      <a:lnTo>
                        <a:pt x="23" y="77"/>
                      </a:lnTo>
                      <a:lnTo>
                        <a:pt x="18" y="70"/>
                      </a:lnTo>
                      <a:lnTo>
                        <a:pt x="14" y="63"/>
                      </a:lnTo>
                      <a:lnTo>
                        <a:pt x="9" y="56"/>
                      </a:lnTo>
                      <a:lnTo>
                        <a:pt x="6" y="49"/>
                      </a:lnTo>
                      <a:lnTo>
                        <a:pt x="3" y="66"/>
                      </a:lnTo>
                      <a:lnTo>
                        <a:pt x="7" y="80"/>
                      </a:lnTo>
                      <a:lnTo>
                        <a:pt x="14" y="93"/>
                      </a:lnTo>
                      <a:lnTo>
                        <a:pt x="22" y="103"/>
                      </a:lnTo>
                      <a:lnTo>
                        <a:pt x="31" y="110"/>
                      </a:lnTo>
                      <a:lnTo>
                        <a:pt x="40" y="116"/>
                      </a:lnTo>
                      <a:lnTo>
                        <a:pt x="46" y="119"/>
                      </a:lnTo>
                      <a:lnTo>
                        <a:pt x="48" y="120"/>
                      </a:lnTo>
                      <a:lnTo>
                        <a:pt x="61" y="118"/>
                      </a:lnTo>
                      <a:lnTo>
                        <a:pt x="74" y="115"/>
                      </a:lnTo>
                      <a:lnTo>
                        <a:pt x="86" y="110"/>
                      </a:lnTo>
                      <a:lnTo>
                        <a:pt x="98" y="105"/>
                      </a:lnTo>
                      <a:lnTo>
                        <a:pt x="108" y="100"/>
                      </a:lnTo>
                      <a:lnTo>
                        <a:pt x="117" y="94"/>
                      </a:lnTo>
                      <a:lnTo>
                        <a:pt x="125" y="87"/>
                      </a:lnTo>
                      <a:lnTo>
                        <a:pt x="130" y="80"/>
                      </a:lnTo>
                      <a:lnTo>
                        <a:pt x="130" y="74"/>
                      </a:lnTo>
                      <a:lnTo>
                        <a:pt x="131" y="70"/>
                      </a:lnTo>
                      <a:lnTo>
                        <a:pt x="134" y="66"/>
                      </a:lnTo>
                      <a:lnTo>
                        <a:pt x="137" y="64"/>
                      </a:lnTo>
                      <a:lnTo>
                        <a:pt x="149" y="62"/>
                      </a:lnTo>
                      <a:lnTo>
                        <a:pt x="159" y="61"/>
                      </a:lnTo>
                      <a:lnTo>
                        <a:pt x="170" y="63"/>
                      </a:lnTo>
                      <a:lnTo>
                        <a:pt x="183" y="66"/>
                      </a:lnTo>
                      <a:lnTo>
                        <a:pt x="195" y="73"/>
                      </a:lnTo>
                      <a:lnTo>
                        <a:pt x="206" y="82"/>
                      </a:lnTo>
                      <a:lnTo>
                        <a:pt x="219" y="94"/>
                      </a:lnTo>
                      <a:lnTo>
                        <a:pt x="230" y="108"/>
                      </a:lnTo>
                      <a:lnTo>
                        <a:pt x="246" y="132"/>
                      </a:lnTo>
                      <a:lnTo>
                        <a:pt x="258" y="156"/>
                      </a:lnTo>
                      <a:lnTo>
                        <a:pt x="267" y="180"/>
                      </a:lnTo>
                      <a:lnTo>
                        <a:pt x="275" y="204"/>
                      </a:lnTo>
                      <a:lnTo>
                        <a:pt x="283" y="229"/>
                      </a:lnTo>
                      <a:lnTo>
                        <a:pt x="291" y="252"/>
                      </a:lnTo>
                      <a:lnTo>
                        <a:pt x="301" y="276"/>
                      </a:lnTo>
                      <a:lnTo>
                        <a:pt x="312" y="299"/>
                      </a:lnTo>
                      <a:lnTo>
                        <a:pt x="320" y="309"/>
                      </a:lnTo>
                      <a:lnTo>
                        <a:pt x="327" y="318"/>
                      </a:lnTo>
                      <a:lnTo>
                        <a:pt x="333" y="327"/>
                      </a:lnTo>
                      <a:lnTo>
                        <a:pt x="340" y="333"/>
                      </a:lnTo>
                      <a:lnTo>
                        <a:pt x="347" y="339"/>
                      </a:lnTo>
                      <a:lnTo>
                        <a:pt x="355" y="346"/>
                      </a:lnTo>
                      <a:lnTo>
                        <a:pt x="365" y="351"/>
                      </a:lnTo>
                      <a:lnTo>
                        <a:pt x="377" y="356"/>
                      </a:lnTo>
                      <a:lnTo>
                        <a:pt x="370" y="371"/>
                      </a:lnTo>
                      <a:lnTo>
                        <a:pt x="361" y="386"/>
                      </a:lnTo>
                      <a:lnTo>
                        <a:pt x="351" y="401"/>
                      </a:lnTo>
                      <a:lnTo>
                        <a:pt x="342" y="415"/>
                      </a:lnTo>
                      <a:lnTo>
                        <a:pt x="331" y="429"/>
                      </a:lnTo>
                      <a:lnTo>
                        <a:pt x="319" y="443"/>
                      </a:lnTo>
                      <a:lnTo>
                        <a:pt x="305" y="456"/>
                      </a:lnTo>
                      <a:lnTo>
                        <a:pt x="291" y="468"/>
                      </a:lnTo>
                      <a:lnTo>
                        <a:pt x="276" y="480"/>
                      </a:lnTo>
                      <a:lnTo>
                        <a:pt x="260" y="491"/>
                      </a:lnTo>
                      <a:lnTo>
                        <a:pt x="243" y="502"/>
                      </a:lnTo>
                      <a:lnTo>
                        <a:pt x="225" y="510"/>
                      </a:lnTo>
                      <a:lnTo>
                        <a:pt x="205" y="518"/>
                      </a:lnTo>
                      <a:lnTo>
                        <a:pt x="185" y="525"/>
                      </a:lnTo>
                      <a:lnTo>
                        <a:pt x="164" y="530"/>
                      </a:lnTo>
                      <a:lnTo>
                        <a:pt x="140" y="534"/>
                      </a:lnTo>
                      <a:lnTo>
                        <a:pt x="147" y="5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66"/>
                <p:cNvSpPr/>
                <p:nvPr/>
              </p:nvSpPr>
              <p:spPr>
                <a:xfrm rot="20446200">
                  <a:off x="4392720" y="1848960"/>
                  <a:ext cx="559080" cy="555480"/>
                </a:xfrm>
                <a:custGeom>
                  <a:avLst/>
                  <a:gdLst/>
                  <a:ahLst/>
                  <a:rect l="l" t="t" r="r" b="b"/>
                  <a:pathLst>
                    <a:path w="704" h="700">
                      <a:moveTo>
                        <a:pt x="66" y="53"/>
                      </a:moveTo>
                      <a:lnTo>
                        <a:pt x="77" y="64"/>
                      </a:lnTo>
                      <a:lnTo>
                        <a:pt x="81" y="73"/>
                      </a:lnTo>
                      <a:lnTo>
                        <a:pt x="83" y="82"/>
                      </a:lnTo>
                      <a:lnTo>
                        <a:pt x="84" y="90"/>
                      </a:lnTo>
                      <a:lnTo>
                        <a:pt x="58" y="111"/>
                      </a:lnTo>
                      <a:lnTo>
                        <a:pt x="38" y="128"/>
                      </a:lnTo>
                      <a:lnTo>
                        <a:pt x="22" y="145"/>
                      </a:lnTo>
                      <a:lnTo>
                        <a:pt x="10" y="162"/>
                      </a:lnTo>
                      <a:lnTo>
                        <a:pt x="2" y="178"/>
                      </a:lnTo>
                      <a:lnTo>
                        <a:pt x="0" y="195"/>
                      </a:lnTo>
                      <a:lnTo>
                        <a:pt x="0" y="214"/>
                      </a:lnTo>
                      <a:lnTo>
                        <a:pt x="3" y="236"/>
                      </a:lnTo>
                      <a:lnTo>
                        <a:pt x="13" y="250"/>
                      </a:lnTo>
                      <a:lnTo>
                        <a:pt x="27" y="264"/>
                      </a:lnTo>
                      <a:lnTo>
                        <a:pt x="45" y="278"/>
                      </a:lnTo>
                      <a:lnTo>
                        <a:pt x="63" y="292"/>
                      </a:lnTo>
                      <a:lnTo>
                        <a:pt x="83" y="305"/>
                      </a:lnTo>
                      <a:lnTo>
                        <a:pt x="104" y="318"/>
                      </a:lnTo>
                      <a:lnTo>
                        <a:pt x="126" y="331"/>
                      </a:lnTo>
                      <a:lnTo>
                        <a:pt x="147" y="342"/>
                      </a:lnTo>
                      <a:lnTo>
                        <a:pt x="169" y="353"/>
                      </a:lnTo>
                      <a:lnTo>
                        <a:pt x="189" y="363"/>
                      </a:lnTo>
                      <a:lnTo>
                        <a:pt x="207" y="371"/>
                      </a:lnTo>
                      <a:lnTo>
                        <a:pt x="223" y="379"/>
                      </a:lnTo>
                      <a:lnTo>
                        <a:pt x="237" y="385"/>
                      </a:lnTo>
                      <a:lnTo>
                        <a:pt x="247" y="390"/>
                      </a:lnTo>
                      <a:lnTo>
                        <a:pt x="254" y="392"/>
                      </a:lnTo>
                      <a:lnTo>
                        <a:pt x="257" y="393"/>
                      </a:lnTo>
                      <a:lnTo>
                        <a:pt x="272" y="404"/>
                      </a:lnTo>
                      <a:lnTo>
                        <a:pt x="284" y="425"/>
                      </a:lnTo>
                      <a:lnTo>
                        <a:pt x="296" y="452"/>
                      </a:lnTo>
                      <a:lnTo>
                        <a:pt x="307" y="482"/>
                      </a:lnTo>
                      <a:lnTo>
                        <a:pt x="318" y="514"/>
                      </a:lnTo>
                      <a:lnTo>
                        <a:pt x="330" y="547"/>
                      </a:lnTo>
                      <a:lnTo>
                        <a:pt x="344" y="578"/>
                      </a:lnTo>
                      <a:lnTo>
                        <a:pt x="360" y="606"/>
                      </a:lnTo>
                      <a:lnTo>
                        <a:pt x="375" y="626"/>
                      </a:lnTo>
                      <a:lnTo>
                        <a:pt x="391" y="643"/>
                      </a:lnTo>
                      <a:lnTo>
                        <a:pt x="409" y="657"/>
                      </a:lnTo>
                      <a:lnTo>
                        <a:pt x="428" y="668"/>
                      </a:lnTo>
                      <a:lnTo>
                        <a:pt x="448" y="679"/>
                      </a:lnTo>
                      <a:lnTo>
                        <a:pt x="469" y="685"/>
                      </a:lnTo>
                      <a:lnTo>
                        <a:pt x="490" y="691"/>
                      </a:lnTo>
                      <a:lnTo>
                        <a:pt x="512" y="696"/>
                      </a:lnTo>
                      <a:lnTo>
                        <a:pt x="535" y="698"/>
                      </a:lnTo>
                      <a:lnTo>
                        <a:pt x="558" y="700"/>
                      </a:lnTo>
                      <a:lnTo>
                        <a:pt x="583" y="700"/>
                      </a:lnTo>
                      <a:lnTo>
                        <a:pt x="606" y="700"/>
                      </a:lnTo>
                      <a:lnTo>
                        <a:pt x="630" y="699"/>
                      </a:lnTo>
                      <a:lnTo>
                        <a:pt x="653" y="698"/>
                      </a:lnTo>
                      <a:lnTo>
                        <a:pt x="676" y="696"/>
                      </a:lnTo>
                      <a:lnTo>
                        <a:pt x="699" y="695"/>
                      </a:lnTo>
                      <a:lnTo>
                        <a:pt x="704" y="670"/>
                      </a:lnTo>
                      <a:lnTo>
                        <a:pt x="693" y="673"/>
                      </a:lnTo>
                      <a:lnTo>
                        <a:pt x="682" y="674"/>
                      </a:lnTo>
                      <a:lnTo>
                        <a:pt x="667" y="676"/>
                      </a:lnTo>
                      <a:lnTo>
                        <a:pt x="652" y="677"/>
                      </a:lnTo>
                      <a:lnTo>
                        <a:pt x="634" y="679"/>
                      </a:lnTo>
                      <a:lnTo>
                        <a:pt x="616" y="679"/>
                      </a:lnTo>
                      <a:lnTo>
                        <a:pt x="596" y="679"/>
                      </a:lnTo>
                      <a:lnTo>
                        <a:pt x="577" y="677"/>
                      </a:lnTo>
                      <a:lnTo>
                        <a:pt x="557" y="676"/>
                      </a:lnTo>
                      <a:lnTo>
                        <a:pt x="537" y="674"/>
                      </a:lnTo>
                      <a:lnTo>
                        <a:pt x="517" y="670"/>
                      </a:lnTo>
                      <a:lnTo>
                        <a:pt x="496" y="667"/>
                      </a:lnTo>
                      <a:lnTo>
                        <a:pt x="478" y="661"/>
                      </a:lnTo>
                      <a:lnTo>
                        <a:pt x="459" y="654"/>
                      </a:lnTo>
                      <a:lnTo>
                        <a:pt x="442" y="647"/>
                      </a:lnTo>
                      <a:lnTo>
                        <a:pt x="427" y="638"/>
                      </a:lnTo>
                      <a:lnTo>
                        <a:pt x="416" y="630"/>
                      </a:lnTo>
                      <a:lnTo>
                        <a:pt x="405" y="622"/>
                      </a:lnTo>
                      <a:lnTo>
                        <a:pt x="395" y="613"/>
                      </a:lnTo>
                      <a:lnTo>
                        <a:pt x="387" y="603"/>
                      </a:lnTo>
                      <a:lnTo>
                        <a:pt x="378" y="590"/>
                      </a:lnTo>
                      <a:lnTo>
                        <a:pt x="369" y="575"/>
                      </a:lnTo>
                      <a:lnTo>
                        <a:pt x="361" y="559"/>
                      </a:lnTo>
                      <a:lnTo>
                        <a:pt x="353" y="539"/>
                      </a:lnTo>
                      <a:lnTo>
                        <a:pt x="346" y="516"/>
                      </a:lnTo>
                      <a:lnTo>
                        <a:pt x="339" y="492"/>
                      </a:lnTo>
                      <a:lnTo>
                        <a:pt x="331" y="469"/>
                      </a:lnTo>
                      <a:lnTo>
                        <a:pt x="322" y="446"/>
                      </a:lnTo>
                      <a:lnTo>
                        <a:pt x="311" y="425"/>
                      </a:lnTo>
                      <a:lnTo>
                        <a:pt x="299" y="407"/>
                      </a:lnTo>
                      <a:lnTo>
                        <a:pt x="284" y="391"/>
                      </a:lnTo>
                      <a:lnTo>
                        <a:pt x="268" y="378"/>
                      </a:lnTo>
                      <a:lnTo>
                        <a:pt x="254" y="370"/>
                      </a:lnTo>
                      <a:lnTo>
                        <a:pt x="239" y="363"/>
                      </a:lnTo>
                      <a:lnTo>
                        <a:pt x="225" y="356"/>
                      </a:lnTo>
                      <a:lnTo>
                        <a:pt x="212" y="348"/>
                      </a:lnTo>
                      <a:lnTo>
                        <a:pt x="197" y="341"/>
                      </a:lnTo>
                      <a:lnTo>
                        <a:pt x="183" y="333"/>
                      </a:lnTo>
                      <a:lnTo>
                        <a:pt x="169" y="325"/>
                      </a:lnTo>
                      <a:lnTo>
                        <a:pt x="154" y="317"/>
                      </a:lnTo>
                      <a:lnTo>
                        <a:pt x="140" y="309"/>
                      </a:lnTo>
                      <a:lnTo>
                        <a:pt x="126" y="301"/>
                      </a:lnTo>
                      <a:lnTo>
                        <a:pt x="113" y="293"/>
                      </a:lnTo>
                      <a:lnTo>
                        <a:pt x="99" y="284"/>
                      </a:lnTo>
                      <a:lnTo>
                        <a:pt x="85" y="274"/>
                      </a:lnTo>
                      <a:lnTo>
                        <a:pt x="72" y="264"/>
                      </a:lnTo>
                      <a:lnTo>
                        <a:pt x="58" y="254"/>
                      </a:lnTo>
                      <a:lnTo>
                        <a:pt x="46" y="243"/>
                      </a:lnTo>
                      <a:lnTo>
                        <a:pt x="33" y="228"/>
                      </a:lnTo>
                      <a:lnTo>
                        <a:pt x="25" y="211"/>
                      </a:lnTo>
                      <a:lnTo>
                        <a:pt x="24" y="191"/>
                      </a:lnTo>
                      <a:lnTo>
                        <a:pt x="31" y="168"/>
                      </a:lnTo>
                      <a:lnTo>
                        <a:pt x="34" y="159"/>
                      </a:lnTo>
                      <a:lnTo>
                        <a:pt x="39" y="151"/>
                      </a:lnTo>
                      <a:lnTo>
                        <a:pt x="45" y="144"/>
                      </a:lnTo>
                      <a:lnTo>
                        <a:pt x="50" y="138"/>
                      </a:lnTo>
                      <a:lnTo>
                        <a:pt x="57" y="133"/>
                      </a:lnTo>
                      <a:lnTo>
                        <a:pt x="65" y="127"/>
                      </a:lnTo>
                      <a:lnTo>
                        <a:pt x="72" y="120"/>
                      </a:lnTo>
                      <a:lnTo>
                        <a:pt x="79" y="114"/>
                      </a:lnTo>
                      <a:lnTo>
                        <a:pt x="89" y="115"/>
                      </a:lnTo>
                      <a:lnTo>
                        <a:pt x="100" y="114"/>
                      </a:lnTo>
                      <a:lnTo>
                        <a:pt x="111" y="112"/>
                      </a:lnTo>
                      <a:lnTo>
                        <a:pt x="122" y="109"/>
                      </a:lnTo>
                      <a:lnTo>
                        <a:pt x="132" y="104"/>
                      </a:lnTo>
                      <a:lnTo>
                        <a:pt x="142" y="99"/>
                      </a:lnTo>
                      <a:lnTo>
                        <a:pt x="152" y="94"/>
                      </a:lnTo>
                      <a:lnTo>
                        <a:pt x="161" y="87"/>
                      </a:lnTo>
                      <a:lnTo>
                        <a:pt x="168" y="76"/>
                      </a:lnTo>
                      <a:lnTo>
                        <a:pt x="170" y="65"/>
                      </a:lnTo>
                      <a:lnTo>
                        <a:pt x="168" y="53"/>
                      </a:lnTo>
                      <a:lnTo>
                        <a:pt x="163" y="42"/>
                      </a:lnTo>
                      <a:lnTo>
                        <a:pt x="157" y="31"/>
                      </a:lnTo>
                      <a:lnTo>
                        <a:pt x="153" y="22"/>
                      </a:lnTo>
                      <a:lnTo>
                        <a:pt x="147" y="16"/>
                      </a:lnTo>
                      <a:lnTo>
                        <a:pt x="141" y="11"/>
                      </a:lnTo>
                      <a:lnTo>
                        <a:pt x="134" y="7"/>
                      </a:lnTo>
                      <a:lnTo>
                        <a:pt x="128" y="4"/>
                      </a:lnTo>
                      <a:lnTo>
                        <a:pt x="121" y="1"/>
                      </a:lnTo>
                      <a:lnTo>
                        <a:pt x="111" y="0"/>
                      </a:lnTo>
                      <a:lnTo>
                        <a:pt x="106" y="1"/>
                      </a:lnTo>
                      <a:lnTo>
                        <a:pt x="101" y="3"/>
                      </a:lnTo>
                      <a:lnTo>
                        <a:pt x="95" y="4"/>
                      </a:lnTo>
                      <a:lnTo>
                        <a:pt x="91" y="5"/>
                      </a:lnTo>
                      <a:lnTo>
                        <a:pt x="86" y="7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6" y="18"/>
                      </a:lnTo>
                      <a:lnTo>
                        <a:pt x="55" y="39"/>
                      </a:lnTo>
                      <a:lnTo>
                        <a:pt x="62" y="35"/>
                      </a:lnTo>
                      <a:lnTo>
                        <a:pt x="69" y="30"/>
                      </a:lnTo>
                      <a:lnTo>
                        <a:pt x="77" y="26"/>
                      </a:lnTo>
                      <a:lnTo>
                        <a:pt x="84" y="22"/>
                      </a:lnTo>
                      <a:lnTo>
                        <a:pt x="91" y="20"/>
                      </a:lnTo>
                      <a:lnTo>
                        <a:pt x="98" y="18"/>
                      </a:lnTo>
                      <a:lnTo>
                        <a:pt x="103" y="18"/>
                      </a:lnTo>
                      <a:lnTo>
                        <a:pt x="109" y="18"/>
                      </a:lnTo>
                      <a:lnTo>
                        <a:pt x="118" y="21"/>
                      </a:lnTo>
                      <a:lnTo>
                        <a:pt x="125" y="26"/>
                      </a:lnTo>
                      <a:lnTo>
                        <a:pt x="132" y="31"/>
                      </a:lnTo>
                      <a:lnTo>
                        <a:pt x="137" y="39"/>
                      </a:lnTo>
                      <a:lnTo>
                        <a:pt x="139" y="46"/>
                      </a:lnTo>
                      <a:lnTo>
                        <a:pt x="141" y="54"/>
                      </a:lnTo>
                      <a:lnTo>
                        <a:pt x="141" y="62"/>
                      </a:lnTo>
                      <a:lnTo>
                        <a:pt x="140" y="69"/>
                      </a:lnTo>
                      <a:lnTo>
                        <a:pt x="134" y="73"/>
                      </a:lnTo>
                      <a:lnTo>
                        <a:pt x="128" y="77"/>
                      </a:lnTo>
                      <a:lnTo>
                        <a:pt x="122" y="81"/>
                      </a:lnTo>
                      <a:lnTo>
                        <a:pt x="115" y="83"/>
                      </a:lnTo>
                      <a:lnTo>
                        <a:pt x="108" y="84"/>
                      </a:lnTo>
                      <a:lnTo>
                        <a:pt x="103" y="84"/>
                      </a:lnTo>
                      <a:lnTo>
                        <a:pt x="100" y="82"/>
                      </a:lnTo>
                      <a:lnTo>
                        <a:pt x="98" y="77"/>
                      </a:lnTo>
                      <a:lnTo>
                        <a:pt x="94" y="69"/>
                      </a:lnTo>
                      <a:lnTo>
                        <a:pt x="92" y="61"/>
                      </a:lnTo>
                      <a:lnTo>
                        <a:pt x="87" y="53"/>
                      </a:lnTo>
                      <a:lnTo>
                        <a:pt x="81" y="46"/>
                      </a:lnTo>
                      <a:lnTo>
                        <a:pt x="66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167"/>
                <p:cNvSpPr/>
                <p:nvPr/>
              </p:nvSpPr>
              <p:spPr>
                <a:xfrm rot="20446200">
                  <a:off x="4344840" y="1973160"/>
                  <a:ext cx="212760" cy="281160"/>
                </a:xfrm>
                <a:custGeom>
                  <a:avLst/>
                  <a:gdLst/>
                  <a:ahLst/>
                  <a:rect l="l" t="t" r="r" b="b"/>
                  <a:pathLst>
                    <a:path w="269" h="353">
                      <a:moveTo>
                        <a:pt x="96" y="0"/>
                      </a:moveTo>
                      <a:lnTo>
                        <a:pt x="92" y="2"/>
                      </a:lnTo>
                      <a:lnTo>
                        <a:pt x="84" y="6"/>
                      </a:lnTo>
                      <a:lnTo>
                        <a:pt x="75" y="13"/>
                      </a:lnTo>
                      <a:lnTo>
                        <a:pt x="64" y="22"/>
                      </a:lnTo>
                      <a:lnTo>
                        <a:pt x="51" y="33"/>
                      </a:lnTo>
                      <a:lnTo>
                        <a:pt x="38" y="47"/>
                      </a:lnTo>
                      <a:lnTo>
                        <a:pt x="26" y="62"/>
                      </a:lnTo>
                      <a:lnTo>
                        <a:pt x="15" y="78"/>
                      </a:lnTo>
                      <a:lnTo>
                        <a:pt x="6" y="101"/>
                      </a:lnTo>
                      <a:lnTo>
                        <a:pt x="0" y="127"/>
                      </a:lnTo>
                      <a:lnTo>
                        <a:pt x="0" y="155"/>
                      </a:lnTo>
                      <a:lnTo>
                        <a:pt x="7" y="188"/>
                      </a:lnTo>
                      <a:lnTo>
                        <a:pt x="11" y="198"/>
                      </a:lnTo>
                      <a:lnTo>
                        <a:pt x="15" y="208"/>
                      </a:lnTo>
                      <a:lnTo>
                        <a:pt x="21" y="218"/>
                      </a:lnTo>
                      <a:lnTo>
                        <a:pt x="27" y="227"/>
                      </a:lnTo>
                      <a:lnTo>
                        <a:pt x="32" y="235"/>
                      </a:lnTo>
                      <a:lnTo>
                        <a:pt x="40" y="243"/>
                      </a:lnTo>
                      <a:lnTo>
                        <a:pt x="47" y="250"/>
                      </a:lnTo>
                      <a:lnTo>
                        <a:pt x="55" y="257"/>
                      </a:lnTo>
                      <a:lnTo>
                        <a:pt x="65" y="264"/>
                      </a:lnTo>
                      <a:lnTo>
                        <a:pt x="75" y="270"/>
                      </a:lnTo>
                      <a:lnTo>
                        <a:pt x="85" y="277"/>
                      </a:lnTo>
                      <a:lnTo>
                        <a:pt x="97" y="283"/>
                      </a:lnTo>
                      <a:lnTo>
                        <a:pt x="107" y="289"/>
                      </a:lnTo>
                      <a:lnTo>
                        <a:pt x="119" y="295"/>
                      </a:lnTo>
                      <a:lnTo>
                        <a:pt x="129" y="300"/>
                      </a:lnTo>
                      <a:lnTo>
                        <a:pt x="141" y="306"/>
                      </a:lnTo>
                      <a:lnTo>
                        <a:pt x="152" y="312"/>
                      </a:lnTo>
                      <a:lnTo>
                        <a:pt x="166" y="318"/>
                      </a:lnTo>
                      <a:lnTo>
                        <a:pt x="180" y="323"/>
                      </a:lnTo>
                      <a:lnTo>
                        <a:pt x="195" y="330"/>
                      </a:lnTo>
                      <a:lnTo>
                        <a:pt x="209" y="336"/>
                      </a:lnTo>
                      <a:lnTo>
                        <a:pt x="223" y="343"/>
                      </a:lnTo>
                      <a:lnTo>
                        <a:pt x="236" y="349"/>
                      </a:lnTo>
                      <a:lnTo>
                        <a:pt x="248" y="353"/>
                      </a:lnTo>
                      <a:lnTo>
                        <a:pt x="269" y="344"/>
                      </a:lnTo>
                      <a:lnTo>
                        <a:pt x="255" y="337"/>
                      </a:lnTo>
                      <a:lnTo>
                        <a:pt x="239" y="330"/>
                      </a:lnTo>
                      <a:lnTo>
                        <a:pt x="224" y="323"/>
                      </a:lnTo>
                      <a:lnTo>
                        <a:pt x="209" y="317"/>
                      </a:lnTo>
                      <a:lnTo>
                        <a:pt x="194" y="310"/>
                      </a:lnTo>
                      <a:lnTo>
                        <a:pt x="180" y="304"/>
                      </a:lnTo>
                      <a:lnTo>
                        <a:pt x="168" y="299"/>
                      </a:lnTo>
                      <a:lnTo>
                        <a:pt x="159" y="295"/>
                      </a:lnTo>
                      <a:lnTo>
                        <a:pt x="136" y="283"/>
                      </a:lnTo>
                      <a:lnTo>
                        <a:pt x="113" y="270"/>
                      </a:lnTo>
                      <a:lnTo>
                        <a:pt x="90" y="258"/>
                      </a:lnTo>
                      <a:lnTo>
                        <a:pt x="69" y="242"/>
                      </a:lnTo>
                      <a:lnTo>
                        <a:pt x="51" y="226"/>
                      </a:lnTo>
                      <a:lnTo>
                        <a:pt x="36" y="206"/>
                      </a:lnTo>
                      <a:lnTo>
                        <a:pt x="24" y="185"/>
                      </a:lnTo>
                      <a:lnTo>
                        <a:pt x="19" y="162"/>
                      </a:lnTo>
                      <a:lnTo>
                        <a:pt x="19" y="135"/>
                      </a:lnTo>
                      <a:lnTo>
                        <a:pt x="23" y="109"/>
                      </a:lnTo>
                      <a:lnTo>
                        <a:pt x="32" y="87"/>
                      </a:lnTo>
                      <a:lnTo>
                        <a:pt x="45" y="67"/>
                      </a:lnTo>
                      <a:lnTo>
                        <a:pt x="51" y="60"/>
                      </a:lnTo>
                      <a:lnTo>
                        <a:pt x="57" y="53"/>
                      </a:lnTo>
                      <a:lnTo>
                        <a:pt x="62" y="46"/>
                      </a:lnTo>
                      <a:lnTo>
                        <a:pt x="69" y="39"/>
                      </a:lnTo>
                      <a:lnTo>
                        <a:pt x="76" y="33"/>
                      </a:lnTo>
                      <a:lnTo>
                        <a:pt x="84" y="26"/>
                      </a:lnTo>
                      <a:lnTo>
                        <a:pt x="91" y="19"/>
                      </a:lnTo>
                      <a:lnTo>
                        <a:pt x="99" y="13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168"/>
                <p:cNvSpPr/>
                <p:nvPr/>
              </p:nvSpPr>
              <p:spPr>
                <a:xfrm rot="20446200">
                  <a:off x="4777200" y="1860480"/>
                  <a:ext cx="850680" cy="893880"/>
                </a:xfrm>
                <a:custGeom>
                  <a:avLst/>
                  <a:gdLst/>
                  <a:ahLst/>
                  <a:rect l="l" t="t" r="r" b="b"/>
                  <a:pathLst>
                    <a:path w="1071" h="1126">
                      <a:moveTo>
                        <a:pt x="2" y="308"/>
                      </a:moveTo>
                      <a:lnTo>
                        <a:pt x="31" y="300"/>
                      </a:lnTo>
                      <a:lnTo>
                        <a:pt x="58" y="292"/>
                      </a:lnTo>
                      <a:lnTo>
                        <a:pt x="83" y="284"/>
                      </a:lnTo>
                      <a:lnTo>
                        <a:pt x="104" y="275"/>
                      </a:lnTo>
                      <a:lnTo>
                        <a:pt x="125" y="265"/>
                      </a:lnTo>
                      <a:lnTo>
                        <a:pt x="144" y="255"/>
                      </a:lnTo>
                      <a:lnTo>
                        <a:pt x="161" y="243"/>
                      </a:lnTo>
                      <a:lnTo>
                        <a:pt x="177" y="232"/>
                      </a:lnTo>
                      <a:lnTo>
                        <a:pt x="192" y="220"/>
                      </a:lnTo>
                      <a:lnTo>
                        <a:pt x="206" y="208"/>
                      </a:lnTo>
                      <a:lnTo>
                        <a:pt x="220" y="194"/>
                      </a:lnTo>
                      <a:lnTo>
                        <a:pt x="232" y="179"/>
                      </a:lnTo>
                      <a:lnTo>
                        <a:pt x="244" y="164"/>
                      </a:lnTo>
                      <a:lnTo>
                        <a:pt x="257" y="148"/>
                      </a:lnTo>
                      <a:lnTo>
                        <a:pt x="268" y="131"/>
                      </a:lnTo>
                      <a:lnTo>
                        <a:pt x="281" y="112"/>
                      </a:lnTo>
                      <a:lnTo>
                        <a:pt x="296" y="114"/>
                      </a:lnTo>
                      <a:lnTo>
                        <a:pt x="311" y="119"/>
                      </a:lnTo>
                      <a:lnTo>
                        <a:pt x="326" y="125"/>
                      </a:lnTo>
                      <a:lnTo>
                        <a:pt x="339" y="132"/>
                      </a:lnTo>
                      <a:lnTo>
                        <a:pt x="354" y="139"/>
                      </a:lnTo>
                      <a:lnTo>
                        <a:pt x="368" y="148"/>
                      </a:lnTo>
                      <a:lnTo>
                        <a:pt x="381" y="156"/>
                      </a:lnTo>
                      <a:lnTo>
                        <a:pt x="395" y="165"/>
                      </a:lnTo>
                      <a:lnTo>
                        <a:pt x="412" y="179"/>
                      </a:lnTo>
                      <a:lnTo>
                        <a:pt x="427" y="194"/>
                      </a:lnTo>
                      <a:lnTo>
                        <a:pt x="441" y="211"/>
                      </a:lnTo>
                      <a:lnTo>
                        <a:pt x="452" y="231"/>
                      </a:lnTo>
                      <a:lnTo>
                        <a:pt x="462" y="250"/>
                      </a:lnTo>
                      <a:lnTo>
                        <a:pt x="467" y="272"/>
                      </a:lnTo>
                      <a:lnTo>
                        <a:pt x="471" y="294"/>
                      </a:lnTo>
                      <a:lnTo>
                        <a:pt x="472" y="316"/>
                      </a:lnTo>
                      <a:lnTo>
                        <a:pt x="471" y="329"/>
                      </a:lnTo>
                      <a:lnTo>
                        <a:pt x="468" y="346"/>
                      </a:lnTo>
                      <a:lnTo>
                        <a:pt x="465" y="366"/>
                      </a:lnTo>
                      <a:lnTo>
                        <a:pt x="458" y="379"/>
                      </a:lnTo>
                      <a:lnTo>
                        <a:pt x="454" y="380"/>
                      </a:lnTo>
                      <a:lnTo>
                        <a:pt x="449" y="380"/>
                      </a:lnTo>
                      <a:lnTo>
                        <a:pt x="443" y="379"/>
                      </a:lnTo>
                      <a:lnTo>
                        <a:pt x="436" y="379"/>
                      </a:lnTo>
                      <a:lnTo>
                        <a:pt x="428" y="379"/>
                      </a:lnTo>
                      <a:lnTo>
                        <a:pt x="420" y="380"/>
                      </a:lnTo>
                      <a:lnTo>
                        <a:pt x="409" y="384"/>
                      </a:lnTo>
                      <a:lnTo>
                        <a:pt x="397" y="389"/>
                      </a:lnTo>
                      <a:lnTo>
                        <a:pt x="380" y="398"/>
                      </a:lnTo>
                      <a:lnTo>
                        <a:pt x="367" y="409"/>
                      </a:lnTo>
                      <a:lnTo>
                        <a:pt x="359" y="422"/>
                      </a:lnTo>
                      <a:lnTo>
                        <a:pt x="353" y="435"/>
                      </a:lnTo>
                      <a:lnTo>
                        <a:pt x="350" y="447"/>
                      </a:lnTo>
                      <a:lnTo>
                        <a:pt x="349" y="456"/>
                      </a:lnTo>
                      <a:lnTo>
                        <a:pt x="349" y="463"/>
                      </a:lnTo>
                      <a:lnTo>
                        <a:pt x="351" y="467"/>
                      </a:lnTo>
                      <a:lnTo>
                        <a:pt x="361" y="450"/>
                      </a:lnTo>
                      <a:lnTo>
                        <a:pt x="372" y="436"/>
                      </a:lnTo>
                      <a:lnTo>
                        <a:pt x="381" y="424"/>
                      </a:lnTo>
                      <a:lnTo>
                        <a:pt x="391" y="416"/>
                      </a:lnTo>
                      <a:lnTo>
                        <a:pt x="402" y="410"/>
                      </a:lnTo>
                      <a:lnTo>
                        <a:pt x="413" y="406"/>
                      </a:lnTo>
                      <a:lnTo>
                        <a:pt x="427" y="404"/>
                      </a:lnTo>
                      <a:lnTo>
                        <a:pt x="442" y="402"/>
                      </a:lnTo>
                      <a:lnTo>
                        <a:pt x="454" y="404"/>
                      </a:lnTo>
                      <a:lnTo>
                        <a:pt x="466" y="406"/>
                      </a:lnTo>
                      <a:lnTo>
                        <a:pt x="478" y="410"/>
                      </a:lnTo>
                      <a:lnTo>
                        <a:pt x="489" y="416"/>
                      </a:lnTo>
                      <a:lnTo>
                        <a:pt x="498" y="424"/>
                      </a:lnTo>
                      <a:lnTo>
                        <a:pt x="508" y="433"/>
                      </a:lnTo>
                      <a:lnTo>
                        <a:pt x="516" y="444"/>
                      </a:lnTo>
                      <a:lnTo>
                        <a:pt x="521" y="455"/>
                      </a:lnTo>
                      <a:lnTo>
                        <a:pt x="525" y="470"/>
                      </a:lnTo>
                      <a:lnTo>
                        <a:pt x="527" y="486"/>
                      </a:lnTo>
                      <a:lnTo>
                        <a:pt x="525" y="504"/>
                      </a:lnTo>
                      <a:lnTo>
                        <a:pt x="518" y="519"/>
                      </a:lnTo>
                      <a:lnTo>
                        <a:pt x="523" y="523"/>
                      </a:lnTo>
                      <a:lnTo>
                        <a:pt x="527" y="529"/>
                      </a:lnTo>
                      <a:lnTo>
                        <a:pt x="532" y="534"/>
                      </a:lnTo>
                      <a:lnTo>
                        <a:pt x="538" y="538"/>
                      </a:lnTo>
                      <a:lnTo>
                        <a:pt x="542" y="544"/>
                      </a:lnTo>
                      <a:lnTo>
                        <a:pt x="548" y="550"/>
                      </a:lnTo>
                      <a:lnTo>
                        <a:pt x="553" y="556"/>
                      </a:lnTo>
                      <a:lnTo>
                        <a:pt x="558" y="561"/>
                      </a:lnTo>
                      <a:lnTo>
                        <a:pt x="576" y="594"/>
                      </a:lnTo>
                      <a:lnTo>
                        <a:pt x="584" y="625"/>
                      </a:lnTo>
                      <a:lnTo>
                        <a:pt x="584" y="656"/>
                      </a:lnTo>
                      <a:lnTo>
                        <a:pt x="579" y="691"/>
                      </a:lnTo>
                      <a:lnTo>
                        <a:pt x="550" y="830"/>
                      </a:lnTo>
                      <a:lnTo>
                        <a:pt x="548" y="848"/>
                      </a:lnTo>
                      <a:lnTo>
                        <a:pt x="548" y="868"/>
                      </a:lnTo>
                      <a:lnTo>
                        <a:pt x="550" y="885"/>
                      </a:lnTo>
                      <a:lnTo>
                        <a:pt x="556" y="902"/>
                      </a:lnTo>
                      <a:lnTo>
                        <a:pt x="563" y="918"/>
                      </a:lnTo>
                      <a:lnTo>
                        <a:pt x="572" y="933"/>
                      </a:lnTo>
                      <a:lnTo>
                        <a:pt x="584" y="946"/>
                      </a:lnTo>
                      <a:lnTo>
                        <a:pt x="599" y="957"/>
                      </a:lnTo>
                      <a:lnTo>
                        <a:pt x="617" y="969"/>
                      </a:lnTo>
                      <a:lnTo>
                        <a:pt x="634" y="978"/>
                      </a:lnTo>
                      <a:lnTo>
                        <a:pt x="653" y="985"/>
                      </a:lnTo>
                      <a:lnTo>
                        <a:pt x="670" y="991"/>
                      </a:lnTo>
                      <a:lnTo>
                        <a:pt x="690" y="995"/>
                      </a:lnTo>
                      <a:lnTo>
                        <a:pt x="710" y="998"/>
                      </a:lnTo>
                      <a:lnTo>
                        <a:pt x="733" y="1000"/>
                      </a:lnTo>
                      <a:lnTo>
                        <a:pt x="759" y="1002"/>
                      </a:lnTo>
                      <a:lnTo>
                        <a:pt x="777" y="1002"/>
                      </a:lnTo>
                      <a:lnTo>
                        <a:pt x="796" y="1000"/>
                      </a:lnTo>
                      <a:lnTo>
                        <a:pt x="813" y="999"/>
                      </a:lnTo>
                      <a:lnTo>
                        <a:pt x="830" y="995"/>
                      </a:lnTo>
                      <a:lnTo>
                        <a:pt x="845" y="992"/>
                      </a:lnTo>
                      <a:lnTo>
                        <a:pt x="858" y="988"/>
                      </a:lnTo>
                      <a:lnTo>
                        <a:pt x="871" y="985"/>
                      </a:lnTo>
                      <a:lnTo>
                        <a:pt x="880" y="980"/>
                      </a:lnTo>
                      <a:lnTo>
                        <a:pt x="881" y="1000"/>
                      </a:lnTo>
                      <a:lnTo>
                        <a:pt x="882" y="1020"/>
                      </a:lnTo>
                      <a:lnTo>
                        <a:pt x="884" y="1038"/>
                      </a:lnTo>
                      <a:lnTo>
                        <a:pt x="892" y="1055"/>
                      </a:lnTo>
                      <a:lnTo>
                        <a:pt x="954" y="1082"/>
                      </a:lnTo>
                      <a:lnTo>
                        <a:pt x="950" y="1060"/>
                      </a:lnTo>
                      <a:lnTo>
                        <a:pt x="907" y="1039"/>
                      </a:lnTo>
                      <a:lnTo>
                        <a:pt x="904" y="1016"/>
                      </a:lnTo>
                      <a:lnTo>
                        <a:pt x="904" y="992"/>
                      </a:lnTo>
                      <a:lnTo>
                        <a:pt x="906" y="970"/>
                      </a:lnTo>
                      <a:lnTo>
                        <a:pt x="911" y="949"/>
                      </a:lnTo>
                      <a:lnTo>
                        <a:pt x="952" y="944"/>
                      </a:lnTo>
                      <a:lnTo>
                        <a:pt x="952" y="970"/>
                      </a:lnTo>
                      <a:lnTo>
                        <a:pt x="955" y="1001"/>
                      </a:lnTo>
                      <a:lnTo>
                        <a:pt x="958" y="1031"/>
                      </a:lnTo>
                      <a:lnTo>
                        <a:pt x="965" y="1059"/>
                      </a:lnTo>
                      <a:lnTo>
                        <a:pt x="966" y="1040"/>
                      </a:lnTo>
                      <a:lnTo>
                        <a:pt x="970" y="995"/>
                      </a:lnTo>
                      <a:lnTo>
                        <a:pt x="978" y="942"/>
                      </a:lnTo>
                      <a:lnTo>
                        <a:pt x="990" y="899"/>
                      </a:lnTo>
                      <a:lnTo>
                        <a:pt x="995" y="892"/>
                      </a:lnTo>
                      <a:lnTo>
                        <a:pt x="1002" y="887"/>
                      </a:lnTo>
                      <a:lnTo>
                        <a:pt x="1009" y="885"/>
                      </a:lnTo>
                      <a:lnTo>
                        <a:pt x="1016" y="884"/>
                      </a:lnTo>
                      <a:lnTo>
                        <a:pt x="1011" y="932"/>
                      </a:lnTo>
                      <a:lnTo>
                        <a:pt x="1007" y="984"/>
                      </a:lnTo>
                      <a:lnTo>
                        <a:pt x="1005" y="1037"/>
                      </a:lnTo>
                      <a:lnTo>
                        <a:pt x="1008" y="1086"/>
                      </a:lnTo>
                      <a:lnTo>
                        <a:pt x="1004" y="1088"/>
                      </a:lnTo>
                      <a:lnTo>
                        <a:pt x="1000" y="1089"/>
                      </a:lnTo>
                      <a:lnTo>
                        <a:pt x="995" y="1089"/>
                      </a:lnTo>
                      <a:lnTo>
                        <a:pt x="990" y="1088"/>
                      </a:lnTo>
                      <a:lnTo>
                        <a:pt x="985" y="1086"/>
                      </a:lnTo>
                      <a:lnTo>
                        <a:pt x="980" y="1084"/>
                      </a:lnTo>
                      <a:lnTo>
                        <a:pt x="974" y="1082"/>
                      </a:lnTo>
                      <a:lnTo>
                        <a:pt x="970" y="1079"/>
                      </a:lnTo>
                      <a:lnTo>
                        <a:pt x="972" y="1089"/>
                      </a:lnTo>
                      <a:lnTo>
                        <a:pt x="977" y="1097"/>
                      </a:lnTo>
                      <a:lnTo>
                        <a:pt x="985" y="1104"/>
                      </a:lnTo>
                      <a:lnTo>
                        <a:pt x="994" y="1111"/>
                      </a:lnTo>
                      <a:lnTo>
                        <a:pt x="1004" y="1115"/>
                      </a:lnTo>
                      <a:lnTo>
                        <a:pt x="1015" y="1120"/>
                      </a:lnTo>
                      <a:lnTo>
                        <a:pt x="1025" y="1123"/>
                      </a:lnTo>
                      <a:lnTo>
                        <a:pt x="1034" y="1126"/>
                      </a:lnTo>
                      <a:lnTo>
                        <a:pt x="1032" y="1099"/>
                      </a:lnTo>
                      <a:lnTo>
                        <a:pt x="1028" y="1037"/>
                      </a:lnTo>
                      <a:lnTo>
                        <a:pt x="1028" y="964"/>
                      </a:lnTo>
                      <a:lnTo>
                        <a:pt x="1038" y="904"/>
                      </a:lnTo>
                      <a:lnTo>
                        <a:pt x="1051" y="944"/>
                      </a:lnTo>
                      <a:lnTo>
                        <a:pt x="1055" y="1001"/>
                      </a:lnTo>
                      <a:lnTo>
                        <a:pt x="1054" y="1052"/>
                      </a:lnTo>
                      <a:lnTo>
                        <a:pt x="1054" y="1074"/>
                      </a:lnTo>
                      <a:lnTo>
                        <a:pt x="1068" y="1023"/>
                      </a:lnTo>
                      <a:lnTo>
                        <a:pt x="1071" y="971"/>
                      </a:lnTo>
                      <a:lnTo>
                        <a:pt x="1065" y="918"/>
                      </a:lnTo>
                      <a:lnTo>
                        <a:pt x="1054" y="864"/>
                      </a:lnTo>
                      <a:lnTo>
                        <a:pt x="1045" y="860"/>
                      </a:lnTo>
                      <a:lnTo>
                        <a:pt x="1033" y="857"/>
                      </a:lnTo>
                      <a:lnTo>
                        <a:pt x="1020" y="857"/>
                      </a:lnTo>
                      <a:lnTo>
                        <a:pt x="1008" y="858"/>
                      </a:lnTo>
                      <a:lnTo>
                        <a:pt x="994" y="863"/>
                      </a:lnTo>
                      <a:lnTo>
                        <a:pt x="982" y="869"/>
                      </a:lnTo>
                      <a:lnTo>
                        <a:pt x="973" y="876"/>
                      </a:lnTo>
                      <a:lnTo>
                        <a:pt x="967" y="885"/>
                      </a:lnTo>
                      <a:lnTo>
                        <a:pt x="956" y="922"/>
                      </a:lnTo>
                      <a:lnTo>
                        <a:pt x="945" y="923"/>
                      </a:lnTo>
                      <a:lnTo>
                        <a:pt x="935" y="923"/>
                      </a:lnTo>
                      <a:lnTo>
                        <a:pt x="924" y="924"/>
                      </a:lnTo>
                      <a:lnTo>
                        <a:pt x="913" y="925"/>
                      </a:lnTo>
                      <a:lnTo>
                        <a:pt x="903" y="927"/>
                      </a:lnTo>
                      <a:lnTo>
                        <a:pt x="895" y="931"/>
                      </a:lnTo>
                      <a:lnTo>
                        <a:pt x="888" y="937"/>
                      </a:lnTo>
                      <a:lnTo>
                        <a:pt x="883" y="945"/>
                      </a:lnTo>
                      <a:lnTo>
                        <a:pt x="873" y="953"/>
                      </a:lnTo>
                      <a:lnTo>
                        <a:pt x="858" y="960"/>
                      </a:lnTo>
                      <a:lnTo>
                        <a:pt x="839" y="965"/>
                      </a:lnTo>
                      <a:lnTo>
                        <a:pt x="818" y="971"/>
                      </a:lnTo>
                      <a:lnTo>
                        <a:pt x="795" y="975"/>
                      </a:lnTo>
                      <a:lnTo>
                        <a:pt x="769" y="977"/>
                      </a:lnTo>
                      <a:lnTo>
                        <a:pt x="744" y="978"/>
                      </a:lnTo>
                      <a:lnTo>
                        <a:pt x="718" y="976"/>
                      </a:lnTo>
                      <a:lnTo>
                        <a:pt x="702" y="974"/>
                      </a:lnTo>
                      <a:lnTo>
                        <a:pt x="686" y="970"/>
                      </a:lnTo>
                      <a:lnTo>
                        <a:pt x="671" y="965"/>
                      </a:lnTo>
                      <a:lnTo>
                        <a:pt x="656" y="961"/>
                      </a:lnTo>
                      <a:lnTo>
                        <a:pt x="642" y="954"/>
                      </a:lnTo>
                      <a:lnTo>
                        <a:pt x="630" y="946"/>
                      </a:lnTo>
                      <a:lnTo>
                        <a:pt x="617" y="937"/>
                      </a:lnTo>
                      <a:lnTo>
                        <a:pt x="607" y="926"/>
                      </a:lnTo>
                      <a:lnTo>
                        <a:pt x="595" y="908"/>
                      </a:lnTo>
                      <a:lnTo>
                        <a:pt x="587" y="888"/>
                      </a:lnTo>
                      <a:lnTo>
                        <a:pt x="581" y="870"/>
                      </a:lnTo>
                      <a:lnTo>
                        <a:pt x="579" y="850"/>
                      </a:lnTo>
                      <a:lnTo>
                        <a:pt x="578" y="832"/>
                      </a:lnTo>
                      <a:lnTo>
                        <a:pt x="579" y="812"/>
                      </a:lnTo>
                      <a:lnTo>
                        <a:pt x="581" y="793"/>
                      </a:lnTo>
                      <a:lnTo>
                        <a:pt x="585" y="773"/>
                      </a:lnTo>
                      <a:lnTo>
                        <a:pt x="591" y="743"/>
                      </a:lnTo>
                      <a:lnTo>
                        <a:pt x="598" y="712"/>
                      </a:lnTo>
                      <a:lnTo>
                        <a:pt x="603" y="682"/>
                      </a:lnTo>
                      <a:lnTo>
                        <a:pt x="606" y="652"/>
                      </a:lnTo>
                      <a:lnTo>
                        <a:pt x="606" y="623"/>
                      </a:lnTo>
                      <a:lnTo>
                        <a:pt x="600" y="595"/>
                      </a:lnTo>
                      <a:lnTo>
                        <a:pt x="587" y="567"/>
                      </a:lnTo>
                      <a:lnTo>
                        <a:pt x="568" y="539"/>
                      </a:lnTo>
                      <a:lnTo>
                        <a:pt x="550" y="521"/>
                      </a:lnTo>
                      <a:lnTo>
                        <a:pt x="556" y="506"/>
                      </a:lnTo>
                      <a:lnTo>
                        <a:pt x="558" y="490"/>
                      </a:lnTo>
                      <a:lnTo>
                        <a:pt x="558" y="475"/>
                      </a:lnTo>
                      <a:lnTo>
                        <a:pt x="555" y="460"/>
                      </a:lnTo>
                      <a:lnTo>
                        <a:pt x="550" y="445"/>
                      </a:lnTo>
                      <a:lnTo>
                        <a:pt x="543" y="431"/>
                      </a:lnTo>
                      <a:lnTo>
                        <a:pt x="535" y="417"/>
                      </a:lnTo>
                      <a:lnTo>
                        <a:pt x="527" y="405"/>
                      </a:lnTo>
                      <a:lnTo>
                        <a:pt x="534" y="395"/>
                      </a:lnTo>
                      <a:lnTo>
                        <a:pt x="541" y="386"/>
                      </a:lnTo>
                      <a:lnTo>
                        <a:pt x="547" y="376"/>
                      </a:lnTo>
                      <a:lnTo>
                        <a:pt x="553" y="364"/>
                      </a:lnTo>
                      <a:lnTo>
                        <a:pt x="557" y="354"/>
                      </a:lnTo>
                      <a:lnTo>
                        <a:pt x="562" y="342"/>
                      </a:lnTo>
                      <a:lnTo>
                        <a:pt x="565" y="330"/>
                      </a:lnTo>
                      <a:lnTo>
                        <a:pt x="568" y="318"/>
                      </a:lnTo>
                      <a:lnTo>
                        <a:pt x="569" y="296"/>
                      </a:lnTo>
                      <a:lnTo>
                        <a:pt x="566" y="272"/>
                      </a:lnTo>
                      <a:lnTo>
                        <a:pt x="563" y="247"/>
                      </a:lnTo>
                      <a:lnTo>
                        <a:pt x="554" y="219"/>
                      </a:lnTo>
                      <a:lnTo>
                        <a:pt x="539" y="192"/>
                      </a:lnTo>
                      <a:lnTo>
                        <a:pt x="518" y="163"/>
                      </a:lnTo>
                      <a:lnTo>
                        <a:pt x="490" y="133"/>
                      </a:lnTo>
                      <a:lnTo>
                        <a:pt x="452" y="103"/>
                      </a:lnTo>
                      <a:lnTo>
                        <a:pt x="435" y="91"/>
                      </a:lnTo>
                      <a:lnTo>
                        <a:pt x="418" y="81"/>
                      </a:lnTo>
                      <a:lnTo>
                        <a:pt x="399" y="72"/>
                      </a:lnTo>
                      <a:lnTo>
                        <a:pt x="381" y="63"/>
                      </a:lnTo>
                      <a:lnTo>
                        <a:pt x="363" y="55"/>
                      </a:lnTo>
                      <a:lnTo>
                        <a:pt x="344" y="45"/>
                      </a:lnTo>
                      <a:lnTo>
                        <a:pt x="327" y="37"/>
                      </a:lnTo>
                      <a:lnTo>
                        <a:pt x="310" y="27"/>
                      </a:lnTo>
                      <a:lnTo>
                        <a:pt x="305" y="24"/>
                      </a:lnTo>
                      <a:lnTo>
                        <a:pt x="300" y="21"/>
                      </a:lnTo>
                      <a:lnTo>
                        <a:pt x="296" y="18"/>
                      </a:lnTo>
                      <a:lnTo>
                        <a:pt x="290" y="14"/>
                      </a:lnTo>
                      <a:lnTo>
                        <a:pt x="284" y="11"/>
                      </a:lnTo>
                      <a:lnTo>
                        <a:pt x="278" y="7"/>
                      </a:lnTo>
                      <a:lnTo>
                        <a:pt x="271" y="4"/>
                      </a:lnTo>
                      <a:lnTo>
                        <a:pt x="263" y="0"/>
                      </a:lnTo>
                      <a:lnTo>
                        <a:pt x="267" y="6"/>
                      </a:lnTo>
                      <a:lnTo>
                        <a:pt x="275" y="19"/>
                      </a:lnTo>
                      <a:lnTo>
                        <a:pt x="285" y="33"/>
                      </a:lnTo>
                      <a:lnTo>
                        <a:pt x="296" y="43"/>
                      </a:lnTo>
                      <a:lnTo>
                        <a:pt x="415" y="111"/>
                      </a:lnTo>
                      <a:lnTo>
                        <a:pt x="441" y="127"/>
                      </a:lnTo>
                      <a:lnTo>
                        <a:pt x="464" y="143"/>
                      </a:lnTo>
                      <a:lnTo>
                        <a:pt x="485" y="162"/>
                      </a:lnTo>
                      <a:lnTo>
                        <a:pt x="502" y="182"/>
                      </a:lnTo>
                      <a:lnTo>
                        <a:pt x="516" y="205"/>
                      </a:lnTo>
                      <a:lnTo>
                        <a:pt x="527" y="232"/>
                      </a:lnTo>
                      <a:lnTo>
                        <a:pt x="535" y="261"/>
                      </a:lnTo>
                      <a:lnTo>
                        <a:pt x="540" y="294"/>
                      </a:lnTo>
                      <a:lnTo>
                        <a:pt x="540" y="308"/>
                      </a:lnTo>
                      <a:lnTo>
                        <a:pt x="539" y="322"/>
                      </a:lnTo>
                      <a:lnTo>
                        <a:pt x="535" y="334"/>
                      </a:lnTo>
                      <a:lnTo>
                        <a:pt x="531" y="347"/>
                      </a:lnTo>
                      <a:lnTo>
                        <a:pt x="526" y="359"/>
                      </a:lnTo>
                      <a:lnTo>
                        <a:pt x="519" y="370"/>
                      </a:lnTo>
                      <a:lnTo>
                        <a:pt x="512" y="382"/>
                      </a:lnTo>
                      <a:lnTo>
                        <a:pt x="504" y="392"/>
                      </a:lnTo>
                      <a:lnTo>
                        <a:pt x="488" y="385"/>
                      </a:lnTo>
                      <a:lnTo>
                        <a:pt x="501" y="351"/>
                      </a:lnTo>
                      <a:lnTo>
                        <a:pt x="504" y="311"/>
                      </a:lnTo>
                      <a:lnTo>
                        <a:pt x="500" y="273"/>
                      </a:lnTo>
                      <a:lnTo>
                        <a:pt x="488" y="239"/>
                      </a:lnTo>
                      <a:lnTo>
                        <a:pt x="478" y="220"/>
                      </a:lnTo>
                      <a:lnTo>
                        <a:pt x="467" y="204"/>
                      </a:lnTo>
                      <a:lnTo>
                        <a:pt x="456" y="188"/>
                      </a:lnTo>
                      <a:lnTo>
                        <a:pt x="444" y="174"/>
                      </a:lnTo>
                      <a:lnTo>
                        <a:pt x="432" y="162"/>
                      </a:lnTo>
                      <a:lnTo>
                        <a:pt x="418" y="150"/>
                      </a:lnTo>
                      <a:lnTo>
                        <a:pt x="405" y="139"/>
                      </a:lnTo>
                      <a:lnTo>
                        <a:pt x="391" y="129"/>
                      </a:lnTo>
                      <a:lnTo>
                        <a:pt x="376" y="120"/>
                      </a:lnTo>
                      <a:lnTo>
                        <a:pt x="363" y="113"/>
                      </a:lnTo>
                      <a:lnTo>
                        <a:pt x="348" y="105"/>
                      </a:lnTo>
                      <a:lnTo>
                        <a:pt x="333" y="100"/>
                      </a:lnTo>
                      <a:lnTo>
                        <a:pt x="318" y="94"/>
                      </a:lnTo>
                      <a:lnTo>
                        <a:pt x="303" y="88"/>
                      </a:lnTo>
                      <a:lnTo>
                        <a:pt x="286" y="83"/>
                      </a:lnTo>
                      <a:lnTo>
                        <a:pt x="271" y="79"/>
                      </a:lnTo>
                      <a:lnTo>
                        <a:pt x="266" y="90"/>
                      </a:lnTo>
                      <a:lnTo>
                        <a:pt x="260" y="102"/>
                      </a:lnTo>
                      <a:lnTo>
                        <a:pt x="255" y="111"/>
                      </a:lnTo>
                      <a:lnTo>
                        <a:pt x="250" y="120"/>
                      </a:lnTo>
                      <a:lnTo>
                        <a:pt x="245" y="129"/>
                      </a:lnTo>
                      <a:lnTo>
                        <a:pt x="238" y="139"/>
                      </a:lnTo>
                      <a:lnTo>
                        <a:pt x="230" y="149"/>
                      </a:lnTo>
                      <a:lnTo>
                        <a:pt x="221" y="161"/>
                      </a:lnTo>
                      <a:lnTo>
                        <a:pt x="210" y="172"/>
                      </a:lnTo>
                      <a:lnTo>
                        <a:pt x="200" y="182"/>
                      </a:lnTo>
                      <a:lnTo>
                        <a:pt x="190" y="194"/>
                      </a:lnTo>
                      <a:lnTo>
                        <a:pt x="178" y="204"/>
                      </a:lnTo>
                      <a:lnTo>
                        <a:pt x="167" y="214"/>
                      </a:lnTo>
                      <a:lnTo>
                        <a:pt x="155" y="224"/>
                      </a:lnTo>
                      <a:lnTo>
                        <a:pt x="142" y="233"/>
                      </a:lnTo>
                      <a:lnTo>
                        <a:pt x="129" y="241"/>
                      </a:lnTo>
                      <a:lnTo>
                        <a:pt x="115" y="249"/>
                      </a:lnTo>
                      <a:lnTo>
                        <a:pt x="101" y="257"/>
                      </a:lnTo>
                      <a:lnTo>
                        <a:pt x="85" y="264"/>
                      </a:lnTo>
                      <a:lnTo>
                        <a:pt x="70" y="270"/>
                      </a:lnTo>
                      <a:lnTo>
                        <a:pt x="54" y="276"/>
                      </a:lnTo>
                      <a:lnTo>
                        <a:pt x="36" y="280"/>
                      </a:lnTo>
                      <a:lnTo>
                        <a:pt x="18" y="285"/>
                      </a:lnTo>
                      <a:lnTo>
                        <a:pt x="0" y="288"/>
                      </a:lnTo>
                      <a:lnTo>
                        <a:pt x="2" y="3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169"/>
                <p:cNvSpPr/>
                <p:nvPr/>
              </p:nvSpPr>
              <p:spPr>
                <a:xfrm rot="20446200">
                  <a:off x="4625280" y="2112840"/>
                  <a:ext cx="495360" cy="301680"/>
                </a:xfrm>
                <a:custGeom>
                  <a:avLst/>
                  <a:gdLst/>
                  <a:ahLst/>
                  <a:rect l="l" t="t" r="r" b="b"/>
                  <a:pathLst>
                    <a:path w="622" h="380">
                      <a:moveTo>
                        <a:pt x="0" y="14"/>
                      </a:moveTo>
                      <a:lnTo>
                        <a:pt x="2" y="23"/>
                      </a:lnTo>
                      <a:lnTo>
                        <a:pt x="12" y="45"/>
                      </a:lnTo>
                      <a:lnTo>
                        <a:pt x="24" y="75"/>
                      </a:lnTo>
                      <a:lnTo>
                        <a:pt x="38" y="109"/>
                      </a:lnTo>
                      <a:lnTo>
                        <a:pt x="53" y="143"/>
                      </a:lnTo>
                      <a:lnTo>
                        <a:pt x="67" y="171"/>
                      </a:lnTo>
                      <a:lnTo>
                        <a:pt x="76" y="192"/>
                      </a:lnTo>
                      <a:lnTo>
                        <a:pt x="79" y="200"/>
                      </a:lnTo>
                      <a:lnTo>
                        <a:pt x="89" y="216"/>
                      </a:lnTo>
                      <a:lnTo>
                        <a:pt x="99" y="232"/>
                      </a:lnTo>
                      <a:lnTo>
                        <a:pt x="109" y="247"/>
                      </a:lnTo>
                      <a:lnTo>
                        <a:pt x="121" y="261"/>
                      </a:lnTo>
                      <a:lnTo>
                        <a:pt x="135" y="275"/>
                      </a:lnTo>
                      <a:lnTo>
                        <a:pt x="149" y="287"/>
                      </a:lnTo>
                      <a:lnTo>
                        <a:pt x="164" y="298"/>
                      </a:lnTo>
                      <a:lnTo>
                        <a:pt x="180" y="307"/>
                      </a:lnTo>
                      <a:lnTo>
                        <a:pt x="196" y="315"/>
                      </a:lnTo>
                      <a:lnTo>
                        <a:pt x="212" y="322"/>
                      </a:lnTo>
                      <a:lnTo>
                        <a:pt x="227" y="328"/>
                      </a:lnTo>
                      <a:lnTo>
                        <a:pt x="244" y="333"/>
                      </a:lnTo>
                      <a:lnTo>
                        <a:pt x="260" y="336"/>
                      </a:lnTo>
                      <a:lnTo>
                        <a:pt x="278" y="339"/>
                      </a:lnTo>
                      <a:lnTo>
                        <a:pt x="295" y="342"/>
                      </a:lnTo>
                      <a:lnTo>
                        <a:pt x="313" y="344"/>
                      </a:lnTo>
                      <a:lnTo>
                        <a:pt x="332" y="345"/>
                      </a:lnTo>
                      <a:lnTo>
                        <a:pt x="351" y="346"/>
                      </a:lnTo>
                      <a:lnTo>
                        <a:pt x="372" y="346"/>
                      </a:lnTo>
                      <a:lnTo>
                        <a:pt x="393" y="345"/>
                      </a:lnTo>
                      <a:lnTo>
                        <a:pt x="415" y="344"/>
                      </a:lnTo>
                      <a:lnTo>
                        <a:pt x="438" y="343"/>
                      </a:lnTo>
                      <a:lnTo>
                        <a:pt x="462" y="342"/>
                      </a:lnTo>
                      <a:lnTo>
                        <a:pt x="487" y="339"/>
                      </a:lnTo>
                      <a:lnTo>
                        <a:pt x="501" y="351"/>
                      </a:lnTo>
                      <a:lnTo>
                        <a:pt x="517" y="363"/>
                      </a:lnTo>
                      <a:lnTo>
                        <a:pt x="535" y="371"/>
                      </a:lnTo>
                      <a:lnTo>
                        <a:pt x="554" y="377"/>
                      </a:lnTo>
                      <a:lnTo>
                        <a:pt x="573" y="380"/>
                      </a:lnTo>
                      <a:lnTo>
                        <a:pt x="591" y="379"/>
                      </a:lnTo>
                      <a:lnTo>
                        <a:pt x="608" y="372"/>
                      </a:lnTo>
                      <a:lnTo>
                        <a:pt x="622" y="359"/>
                      </a:lnTo>
                      <a:lnTo>
                        <a:pt x="594" y="359"/>
                      </a:lnTo>
                      <a:lnTo>
                        <a:pt x="571" y="357"/>
                      </a:lnTo>
                      <a:lnTo>
                        <a:pt x="552" y="352"/>
                      </a:lnTo>
                      <a:lnTo>
                        <a:pt x="536" y="344"/>
                      </a:lnTo>
                      <a:lnTo>
                        <a:pt x="523" y="335"/>
                      </a:lnTo>
                      <a:lnTo>
                        <a:pt x="513" y="325"/>
                      </a:lnTo>
                      <a:lnTo>
                        <a:pt x="503" y="312"/>
                      </a:lnTo>
                      <a:lnTo>
                        <a:pt x="497" y="299"/>
                      </a:lnTo>
                      <a:lnTo>
                        <a:pt x="491" y="300"/>
                      </a:lnTo>
                      <a:lnTo>
                        <a:pt x="486" y="306"/>
                      </a:lnTo>
                      <a:lnTo>
                        <a:pt x="482" y="313"/>
                      </a:lnTo>
                      <a:lnTo>
                        <a:pt x="477" y="316"/>
                      </a:lnTo>
                      <a:lnTo>
                        <a:pt x="453" y="319"/>
                      </a:lnTo>
                      <a:lnTo>
                        <a:pt x="430" y="320"/>
                      </a:lnTo>
                      <a:lnTo>
                        <a:pt x="409" y="321"/>
                      </a:lnTo>
                      <a:lnTo>
                        <a:pt x="388" y="321"/>
                      </a:lnTo>
                      <a:lnTo>
                        <a:pt x="370" y="321"/>
                      </a:lnTo>
                      <a:lnTo>
                        <a:pt x="351" y="321"/>
                      </a:lnTo>
                      <a:lnTo>
                        <a:pt x="334" y="321"/>
                      </a:lnTo>
                      <a:lnTo>
                        <a:pt x="317" y="320"/>
                      </a:lnTo>
                      <a:lnTo>
                        <a:pt x="301" y="318"/>
                      </a:lnTo>
                      <a:lnTo>
                        <a:pt x="285" y="315"/>
                      </a:lnTo>
                      <a:lnTo>
                        <a:pt x="268" y="313"/>
                      </a:lnTo>
                      <a:lnTo>
                        <a:pt x="253" y="310"/>
                      </a:lnTo>
                      <a:lnTo>
                        <a:pt x="237" y="306"/>
                      </a:lnTo>
                      <a:lnTo>
                        <a:pt x="222" y="301"/>
                      </a:lnTo>
                      <a:lnTo>
                        <a:pt x="206" y="296"/>
                      </a:lnTo>
                      <a:lnTo>
                        <a:pt x="190" y="290"/>
                      </a:lnTo>
                      <a:lnTo>
                        <a:pt x="153" y="265"/>
                      </a:lnTo>
                      <a:lnTo>
                        <a:pt x="124" y="234"/>
                      </a:lnTo>
                      <a:lnTo>
                        <a:pt x="101" y="200"/>
                      </a:lnTo>
                      <a:lnTo>
                        <a:pt x="83" y="164"/>
                      </a:lnTo>
                      <a:lnTo>
                        <a:pt x="67" y="129"/>
                      </a:lnTo>
                      <a:lnTo>
                        <a:pt x="52" y="92"/>
                      </a:lnTo>
                      <a:lnTo>
                        <a:pt x="37" y="56"/>
                      </a:lnTo>
                      <a:lnTo>
                        <a:pt x="18" y="23"/>
                      </a:lnTo>
                      <a:lnTo>
                        <a:pt x="25" y="18"/>
                      </a:lnTo>
                      <a:lnTo>
                        <a:pt x="33" y="14"/>
                      </a:lnTo>
                      <a:lnTo>
                        <a:pt x="40" y="8"/>
                      </a:lnTo>
                      <a:lnTo>
                        <a:pt x="40" y="0"/>
                      </a:lnTo>
                      <a:lnTo>
                        <a:pt x="37" y="1"/>
                      </a:lnTo>
                      <a:lnTo>
                        <a:pt x="32" y="2"/>
                      </a:lnTo>
                      <a:lnTo>
                        <a:pt x="26" y="4"/>
                      </a:lnTo>
                      <a:lnTo>
                        <a:pt x="21" y="7"/>
                      </a:lnTo>
                      <a:lnTo>
                        <a:pt x="14" y="9"/>
                      </a:lnTo>
                      <a:lnTo>
                        <a:pt x="8" y="11"/>
                      </a:lnTo>
                      <a:lnTo>
                        <a:pt x="3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170"/>
                <p:cNvSpPr/>
                <p:nvPr/>
              </p:nvSpPr>
              <p:spPr>
                <a:xfrm rot="20446200">
                  <a:off x="5222160" y="2237760"/>
                  <a:ext cx="298440" cy="401400"/>
                </a:xfrm>
                <a:custGeom>
                  <a:avLst/>
                  <a:gdLst/>
                  <a:ahLst/>
                  <a:rect l="l" t="t" r="r" b="b"/>
                  <a:pathLst>
                    <a:path w="375" h="507">
                      <a:moveTo>
                        <a:pt x="371" y="480"/>
                      </a:moveTo>
                      <a:lnTo>
                        <a:pt x="350" y="484"/>
                      </a:lnTo>
                      <a:lnTo>
                        <a:pt x="330" y="485"/>
                      </a:lnTo>
                      <a:lnTo>
                        <a:pt x="312" y="487"/>
                      </a:lnTo>
                      <a:lnTo>
                        <a:pt x="296" y="488"/>
                      </a:lnTo>
                      <a:lnTo>
                        <a:pt x="280" y="488"/>
                      </a:lnTo>
                      <a:lnTo>
                        <a:pt x="265" y="488"/>
                      </a:lnTo>
                      <a:lnTo>
                        <a:pt x="251" y="488"/>
                      </a:lnTo>
                      <a:lnTo>
                        <a:pt x="238" y="487"/>
                      </a:lnTo>
                      <a:lnTo>
                        <a:pt x="226" y="485"/>
                      </a:lnTo>
                      <a:lnTo>
                        <a:pt x="214" y="484"/>
                      </a:lnTo>
                      <a:lnTo>
                        <a:pt x="203" y="481"/>
                      </a:lnTo>
                      <a:lnTo>
                        <a:pt x="192" y="479"/>
                      </a:lnTo>
                      <a:lnTo>
                        <a:pt x="181" y="476"/>
                      </a:lnTo>
                      <a:lnTo>
                        <a:pt x="170" y="473"/>
                      </a:lnTo>
                      <a:lnTo>
                        <a:pt x="160" y="470"/>
                      </a:lnTo>
                      <a:lnTo>
                        <a:pt x="148" y="466"/>
                      </a:lnTo>
                      <a:lnTo>
                        <a:pt x="128" y="458"/>
                      </a:lnTo>
                      <a:lnTo>
                        <a:pt x="108" y="447"/>
                      </a:lnTo>
                      <a:lnTo>
                        <a:pt x="91" y="432"/>
                      </a:lnTo>
                      <a:lnTo>
                        <a:pt x="75" y="416"/>
                      </a:lnTo>
                      <a:lnTo>
                        <a:pt x="61" y="397"/>
                      </a:lnTo>
                      <a:lnTo>
                        <a:pt x="51" y="377"/>
                      </a:lnTo>
                      <a:lnTo>
                        <a:pt x="41" y="355"/>
                      </a:lnTo>
                      <a:lnTo>
                        <a:pt x="37" y="333"/>
                      </a:lnTo>
                      <a:lnTo>
                        <a:pt x="34" y="296"/>
                      </a:lnTo>
                      <a:lnTo>
                        <a:pt x="38" y="259"/>
                      </a:lnTo>
                      <a:lnTo>
                        <a:pt x="44" y="222"/>
                      </a:lnTo>
                      <a:lnTo>
                        <a:pt x="49" y="185"/>
                      </a:lnTo>
                      <a:lnTo>
                        <a:pt x="55" y="149"/>
                      </a:lnTo>
                      <a:lnTo>
                        <a:pt x="56" y="113"/>
                      </a:lnTo>
                      <a:lnTo>
                        <a:pt x="52" y="77"/>
                      </a:lnTo>
                      <a:lnTo>
                        <a:pt x="40" y="41"/>
                      </a:lnTo>
                      <a:lnTo>
                        <a:pt x="33" y="28"/>
                      </a:lnTo>
                      <a:lnTo>
                        <a:pt x="29" y="16"/>
                      </a:lnTo>
                      <a:lnTo>
                        <a:pt x="24" y="7"/>
                      </a:lnTo>
                      <a:lnTo>
                        <a:pt x="17" y="0"/>
                      </a:lnTo>
                      <a:lnTo>
                        <a:pt x="0" y="7"/>
                      </a:lnTo>
                      <a:lnTo>
                        <a:pt x="9" y="24"/>
                      </a:lnTo>
                      <a:lnTo>
                        <a:pt x="15" y="37"/>
                      </a:lnTo>
                      <a:lnTo>
                        <a:pt x="19" y="50"/>
                      </a:lnTo>
                      <a:lnTo>
                        <a:pt x="24" y="66"/>
                      </a:lnTo>
                      <a:lnTo>
                        <a:pt x="30" y="88"/>
                      </a:lnTo>
                      <a:lnTo>
                        <a:pt x="33" y="113"/>
                      </a:lnTo>
                      <a:lnTo>
                        <a:pt x="36" y="139"/>
                      </a:lnTo>
                      <a:lnTo>
                        <a:pt x="34" y="167"/>
                      </a:lnTo>
                      <a:lnTo>
                        <a:pt x="30" y="196"/>
                      </a:lnTo>
                      <a:lnTo>
                        <a:pt x="25" y="223"/>
                      </a:lnTo>
                      <a:lnTo>
                        <a:pt x="21" y="252"/>
                      </a:lnTo>
                      <a:lnTo>
                        <a:pt x="17" y="280"/>
                      </a:lnTo>
                      <a:lnTo>
                        <a:pt x="15" y="307"/>
                      </a:lnTo>
                      <a:lnTo>
                        <a:pt x="16" y="333"/>
                      </a:lnTo>
                      <a:lnTo>
                        <a:pt x="19" y="357"/>
                      </a:lnTo>
                      <a:lnTo>
                        <a:pt x="27" y="380"/>
                      </a:lnTo>
                      <a:lnTo>
                        <a:pt x="39" y="402"/>
                      </a:lnTo>
                      <a:lnTo>
                        <a:pt x="53" y="421"/>
                      </a:lnTo>
                      <a:lnTo>
                        <a:pt x="68" y="439"/>
                      </a:lnTo>
                      <a:lnTo>
                        <a:pt x="85" y="454"/>
                      </a:lnTo>
                      <a:lnTo>
                        <a:pt x="104" y="466"/>
                      </a:lnTo>
                      <a:lnTo>
                        <a:pt x="123" y="478"/>
                      </a:lnTo>
                      <a:lnTo>
                        <a:pt x="145" y="487"/>
                      </a:lnTo>
                      <a:lnTo>
                        <a:pt x="167" y="494"/>
                      </a:lnTo>
                      <a:lnTo>
                        <a:pt x="190" y="500"/>
                      </a:lnTo>
                      <a:lnTo>
                        <a:pt x="215" y="503"/>
                      </a:lnTo>
                      <a:lnTo>
                        <a:pt x="239" y="506"/>
                      </a:lnTo>
                      <a:lnTo>
                        <a:pt x="266" y="507"/>
                      </a:lnTo>
                      <a:lnTo>
                        <a:pt x="292" y="507"/>
                      </a:lnTo>
                      <a:lnTo>
                        <a:pt x="320" y="506"/>
                      </a:lnTo>
                      <a:lnTo>
                        <a:pt x="348" y="503"/>
                      </a:lnTo>
                      <a:lnTo>
                        <a:pt x="375" y="500"/>
                      </a:lnTo>
                      <a:lnTo>
                        <a:pt x="371" y="4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171"/>
                <p:cNvSpPr/>
                <p:nvPr/>
              </p:nvSpPr>
              <p:spPr>
                <a:xfrm rot="20446200">
                  <a:off x="5074200" y="2225520"/>
                  <a:ext cx="68040" cy="6984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23" y="82"/>
                      </a:moveTo>
                      <a:lnTo>
                        <a:pt x="31" y="81"/>
                      </a:lnTo>
                      <a:lnTo>
                        <a:pt x="39" y="80"/>
                      </a:lnTo>
                      <a:lnTo>
                        <a:pt x="46" y="76"/>
                      </a:lnTo>
                      <a:lnTo>
                        <a:pt x="53" y="72"/>
                      </a:lnTo>
                      <a:lnTo>
                        <a:pt x="57" y="67"/>
                      </a:lnTo>
                      <a:lnTo>
                        <a:pt x="61" y="61"/>
                      </a:lnTo>
                      <a:lnTo>
                        <a:pt x="63" y="56"/>
                      </a:lnTo>
                      <a:lnTo>
                        <a:pt x="64" y="49"/>
                      </a:lnTo>
                      <a:lnTo>
                        <a:pt x="63" y="42"/>
                      </a:lnTo>
                      <a:lnTo>
                        <a:pt x="61" y="36"/>
                      </a:lnTo>
                      <a:lnTo>
                        <a:pt x="57" y="30"/>
                      </a:lnTo>
                      <a:lnTo>
                        <a:pt x="53" y="24"/>
                      </a:lnTo>
                      <a:lnTo>
                        <a:pt x="46" y="21"/>
                      </a:lnTo>
                      <a:lnTo>
                        <a:pt x="39" y="18"/>
                      </a:lnTo>
                      <a:lnTo>
                        <a:pt x="31" y="16"/>
                      </a:ln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1" y="16"/>
                      </a:lnTo>
                      <a:lnTo>
                        <a:pt x="5" y="19"/>
                      </a:lnTo>
                      <a:lnTo>
                        <a:pt x="0" y="21"/>
                      </a:lnTo>
                      <a:lnTo>
                        <a:pt x="3" y="16"/>
                      </a:lnTo>
                      <a:lnTo>
                        <a:pt x="8" y="13"/>
                      </a:lnTo>
                      <a:lnTo>
                        <a:pt x="12" y="8"/>
                      </a:lnTo>
                      <a:lnTo>
                        <a:pt x="17" y="6"/>
                      </a:lnTo>
                      <a:lnTo>
                        <a:pt x="21" y="4"/>
                      </a:lnTo>
                      <a:lnTo>
                        <a:pt x="27" y="1"/>
                      </a:lnTo>
                      <a:lnTo>
                        <a:pt x="34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8" y="4"/>
                      </a:lnTo>
                      <a:lnTo>
                        <a:pt x="65" y="7"/>
                      </a:lnTo>
                      <a:lnTo>
                        <a:pt x="72" y="13"/>
                      </a:lnTo>
                      <a:lnTo>
                        <a:pt x="78" y="20"/>
                      </a:lnTo>
                      <a:lnTo>
                        <a:pt x="82" y="27"/>
                      </a:lnTo>
                      <a:lnTo>
                        <a:pt x="85" y="35"/>
                      </a:lnTo>
                      <a:lnTo>
                        <a:pt x="86" y="44"/>
                      </a:lnTo>
                      <a:lnTo>
                        <a:pt x="85" y="53"/>
                      </a:lnTo>
                      <a:lnTo>
                        <a:pt x="82" y="61"/>
                      </a:lnTo>
                      <a:lnTo>
                        <a:pt x="78" y="68"/>
                      </a:lnTo>
                      <a:lnTo>
                        <a:pt x="72" y="75"/>
                      </a:lnTo>
                      <a:lnTo>
                        <a:pt x="65" y="81"/>
                      </a:lnTo>
                      <a:lnTo>
                        <a:pt x="58" y="84"/>
                      </a:lnTo>
                      <a:lnTo>
                        <a:pt x="49" y="87"/>
                      </a:lnTo>
                      <a:lnTo>
                        <a:pt x="40" y="88"/>
                      </a:lnTo>
                      <a:lnTo>
                        <a:pt x="33" y="88"/>
                      </a:lnTo>
                      <a:lnTo>
                        <a:pt x="27" y="86"/>
                      </a:lnTo>
                      <a:lnTo>
                        <a:pt x="21" y="84"/>
                      </a:lnTo>
                      <a:lnTo>
                        <a:pt x="16" y="81"/>
                      </a:lnTo>
                      <a:lnTo>
                        <a:pt x="18" y="81"/>
                      </a:lnTo>
                      <a:lnTo>
                        <a:pt x="19" y="81"/>
                      </a:lnTo>
                      <a:lnTo>
                        <a:pt x="21" y="82"/>
                      </a:lnTo>
                      <a:lnTo>
                        <a:pt x="2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175"/>
            <p:cNvGrpSpPr/>
            <p:nvPr/>
          </p:nvGrpSpPr>
          <p:grpSpPr>
            <a:xfrm>
              <a:off x="2411280" y="907920"/>
              <a:ext cx="2001960" cy="3644640"/>
              <a:chOff x="2411280" y="907920"/>
              <a:chExt cx="2001960" cy="3644640"/>
            </a:xfrm>
          </p:grpSpPr>
          <p:pic>
            <p:nvPicPr>
              <p:cNvPr id="88" name="Picture 130" descr="j0424160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1123560"/>
                <a:ext cx="200196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AutoShape 131"/>
              <p:cNvSpPr/>
              <p:nvPr/>
            </p:nvSpPr>
            <p:spPr>
              <a:xfrm>
                <a:off x="2797200" y="907920"/>
                <a:ext cx="1008000" cy="6458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" name="Picture 180" descr="MCj02810420000[1]"/>
            <p:cNvPicPr/>
            <p:nvPr/>
          </p:nvPicPr>
          <p:blipFill>
            <a:blip r:embed="rId5"/>
            <a:stretch/>
          </p:blipFill>
          <p:spPr>
            <a:xfrm rot="21115800">
              <a:off x="5148360" y="2852280"/>
              <a:ext cx="63504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82"/>
          <p:cNvSpPr/>
          <p:nvPr/>
        </p:nvSpPr>
        <p:spPr>
          <a:xfrm>
            <a:off x="5838480" y="189000"/>
            <a:ext cx="30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Times New Roman"/>
              </a:rPr>
              <a:t>ДОКТОР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3"/>
          <p:cNvSpPr/>
          <p:nvPr/>
        </p:nvSpPr>
        <p:spPr>
          <a:xfrm>
            <a:off x="6032880" y="1149480"/>
            <a:ext cx="274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Доктор лечит ребятише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Малышей и чуть повыш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Если заболел животик,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Голова или бронхи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Мама доктору звони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84"/>
          <p:cNvSpPr/>
          <p:nvPr/>
        </p:nvSpPr>
        <p:spPr>
          <a:xfrm>
            <a:off x="3203640" y="191628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7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7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5" repeatCount="indefinite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24360" y="1890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ПОЧТАЛЬОН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761360" y="1149480"/>
            <a:ext cx="309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очтальон приносит почт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Это знают дети точ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Журналы, газеты, реклам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ля брата, для папы и мам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6948360" y="2492280"/>
            <a:ext cx="1978200" cy="4105440"/>
            <a:chOff x="6948360" y="2492280"/>
            <a:chExt cx="1978200" cy="4105440"/>
          </a:xfrm>
        </p:grpSpPr>
        <p:sp>
          <p:nvSpPr>
            <p:cNvPr id="97" name="AutoShape 9"/>
            <p:cNvSpPr/>
            <p:nvPr/>
          </p:nvSpPr>
          <p:spPr>
            <a:xfrm>
              <a:off x="8316720" y="4221000"/>
              <a:ext cx="71640" cy="2376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376720"/>
                <a:gd name="textAreaBottom" fmla="*/ 2373480 h 2376720"/>
              </a:gdLst>
              <a:ahLst/>
              <a:rect l="textAreaLeft" t="textAreaTop" r="textAreaRight" b="textAreaBottom"/>
              <a:pathLst>
                <a:path w="21600" h="713124">
                  <a:moveTo>
                    <a:pt x="3600" y="0"/>
                  </a:moveTo>
                  <a:arcTo wR="3600" hR="3600" stAng="16200000" swAng="-5400000"/>
                  <a:lnTo>
                    <a:pt x="0" y="709524"/>
                  </a:lnTo>
                  <a:arcTo wR="3600" hR="3600" stAng="10800000" swAng="-5400000"/>
                  <a:lnTo>
                    <a:pt x="18000" y="7131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5" descr="MCj04264360000[1]"/>
            <p:cNvPicPr/>
            <p:nvPr/>
          </p:nvPicPr>
          <p:blipFill>
            <a:blip r:embed="rId1"/>
            <a:stretch/>
          </p:blipFill>
          <p:spPr>
            <a:xfrm>
              <a:off x="6948360" y="2492280"/>
              <a:ext cx="19782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8"/>
            <p:cNvSpPr/>
            <p:nvPr/>
          </p:nvSpPr>
          <p:spPr>
            <a:xfrm>
              <a:off x="8820000" y="4221000"/>
              <a:ext cx="71640" cy="2376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376720"/>
                <a:gd name="textAreaBottom" fmla="*/ 2373480 h 2376720"/>
              </a:gdLst>
              <a:ahLst/>
              <a:rect l="textAreaLeft" t="textAreaTop" r="textAreaRight" b="textAreaBottom"/>
              <a:pathLst>
                <a:path w="21600" h="713124">
                  <a:moveTo>
                    <a:pt x="3600" y="0"/>
                  </a:moveTo>
                  <a:arcTo wR="3600" hR="3600" stAng="16200000" swAng="-5400000"/>
                  <a:lnTo>
                    <a:pt x="0" y="709524"/>
                  </a:lnTo>
                  <a:arcTo wR="3600" hR="3600" stAng="10800000" swAng="-5400000"/>
                  <a:lnTo>
                    <a:pt x="18000" y="7131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8"/>
          <p:cNvGrpSpPr/>
          <p:nvPr/>
        </p:nvGrpSpPr>
        <p:grpSpPr>
          <a:xfrm>
            <a:off x="2023920" y="2421000"/>
            <a:ext cx="2972520" cy="1079280"/>
            <a:chOff x="2023920" y="2421000"/>
            <a:chExt cx="2972520" cy="1079280"/>
          </a:xfrm>
        </p:grpSpPr>
        <p:sp>
          <p:nvSpPr>
            <p:cNvPr id="101" name="AutoShape 46"/>
            <p:cNvSpPr/>
            <p:nvPr/>
          </p:nvSpPr>
          <p:spPr>
            <a:xfrm flipH="1">
              <a:off x="2023560" y="2421000"/>
              <a:ext cx="2950920" cy="1079280"/>
            </a:xfrm>
            <a:prstGeom prst="wedgeEllipseCallout">
              <a:avLst>
                <a:gd name="adj1" fmla="val -37416"/>
                <a:gd name="adj2" fmla="val 6985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7"/>
            <p:cNvSpPr/>
            <p:nvPr/>
          </p:nvSpPr>
          <p:spPr>
            <a:xfrm flipH="1">
              <a:off x="2038680" y="2681280"/>
              <a:ext cx="29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В Новый год и к Рождеству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Вам открытку принесу!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Oval 51"/>
          <p:cNvSpPr/>
          <p:nvPr/>
        </p:nvSpPr>
        <p:spPr>
          <a:xfrm>
            <a:off x="8244000" y="6453360"/>
            <a:ext cx="21564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2"/>
          <p:cNvSpPr/>
          <p:nvPr/>
        </p:nvSpPr>
        <p:spPr>
          <a:xfrm>
            <a:off x="8748720" y="6453360"/>
            <a:ext cx="21600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4241620000[1]"/>
          <p:cNvPicPr/>
          <p:nvPr/>
        </p:nvPicPr>
        <p:blipFill>
          <a:blip r:embed="rId2"/>
          <a:stretch/>
        </p:blipFill>
        <p:spPr>
          <a:xfrm>
            <a:off x="0" y="2565360"/>
            <a:ext cx="3095640" cy="4084560"/>
          </a:xfrm>
          <a:prstGeom prst="rect">
            <a:avLst/>
          </a:prstGeom>
          <a:ln w="0">
            <a:noFill/>
          </a:ln>
        </p:spPr>
      </p:pic>
      <p:sp>
        <p:nvSpPr>
          <p:cNvPr id="106" name="Oval 50"/>
          <p:cNvSpPr/>
          <p:nvPr/>
        </p:nvSpPr>
        <p:spPr>
          <a:xfrm>
            <a:off x="6084720" y="3716280"/>
            <a:ext cx="2160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5E-006 -1.15607E-007 L 0.5118 -1.15607E-007 E"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5" repeatCount="6000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f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0"/>
          <p:cNvSpPr/>
          <p:nvPr/>
        </p:nvSpPr>
        <p:spPr>
          <a:xfrm>
            <a:off x="900000" y="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Times New Roman"/>
              </a:rPr>
              <a:t>ДВОРНИК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1153800" y="1004760"/>
            <a:ext cx="297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Кто следит за чистотой?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Это дворник – он с метло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Убирает мусор, снег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И в подъезде включит све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4"/>
          <p:cNvGrpSpPr/>
          <p:nvPr/>
        </p:nvGrpSpPr>
        <p:grpSpPr>
          <a:xfrm>
            <a:off x="3759120" y="1011240"/>
            <a:ext cx="3621960" cy="4796640"/>
            <a:chOff x="3759120" y="1011240"/>
            <a:chExt cx="3621960" cy="4796640"/>
          </a:xfrm>
        </p:grpSpPr>
        <p:grpSp>
          <p:nvGrpSpPr>
            <p:cNvPr id="110" name="Group 183"/>
            <p:cNvGrpSpPr/>
            <p:nvPr/>
          </p:nvGrpSpPr>
          <p:grpSpPr>
            <a:xfrm>
              <a:off x="3759120" y="1011240"/>
              <a:ext cx="3621960" cy="4796640"/>
              <a:chOff x="3759120" y="1011240"/>
              <a:chExt cx="3621960" cy="4796640"/>
            </a:xfrm>
          </p:grpSpPr>
          <p:pic>
            <p:nvPicPr>
              <p:cNvPr id="111" name="Picture 53" descr="MCj01984570000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4074120" y="1011240"/>
                <a:ext cx="3306960" cy="479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79" descr="MCj03523840000[1]"/>
              <p:cNvPicPr/>
              <p:nvPr/>
            </p:nvPicPr>
            <p:blipFill>
              <a:blip r:embed="rId2"/>
              <a:stretch/>
            </p:blipFill>
            <p:spPr>
              <a:xfrm flipH="1" rot="4233600">
                <a:off x="4031280" y="4196880"/>
                <a:ext cx="1243080" cy="145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189"/>
            <p:cNvGrpSpPr/>
            <p:nvPr/>
          </p:nvGrpSpPr>
          <p:grpSpPr>
            <a:xfrm>
              <a:off x="4585320" y="4521960"/>
              <a:ext cx="1233360" cy="1269000"/>
              <a:chOff x="4585320" y="4521960"/>
              <a:chExt cx="1233360" cy="1269000"/>
            </a:xfrm>
          </p:grpSpPr>
          <p:pic>
            <p:nvPicPr>
              <p:cNvPr id="114" name="Picture 170" descr="wb01246_"/>
              <p:cNvPicPr/>
              <p:nvPr/>
            </p:nvPicPr>
            <p:blipFill>
              <a:blip r:embed="rId3"/>
              <a:stretch/>
            </p:blipFill>
            <p:spPr>
              <a:xfrm rot="21457200">
                <a:off x="4597920" y="4993920"/>
                <a:ext cx="61956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81" descr="wb01246_"/>
              <p:cNvPicPr/>
              <p:nvPr/>
            </p:nvPicPr>
            <p:blipFill>
              <a:blip r:embed="rId4"/>
              <a:stretch/>
            </p:blipFill>
            <p:spPr>
              <a:xfrm rot="6511800">
                <a:off x="5000400" y="5105880"/>
                <a:ext cx="613080" cy="59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84" descr="wb01241_"/>
              <p:cNvPicPr/>
              <p:nvPr/>
            </p:nvPicPr>
            <p:blipFill>
              <a:blip r:embed="rId5"/>
              <a:stretch/>
            </p:blipFill>
            <p:spPr>
              <a:xfrm>
                <a:off x="4746600" y="4994280"/>
                <a:ext cx="52236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85" descr="wb01246_"/>
              <p:cNvPicPr/>
              <p:nvPr/>
            </p:nvPicPr>
            <p:blipFill>
              <a:blip r:embed="rId6"/>
              <a:stretch/>
            </p:blipFill>
            <p:spPr>
              <a:xfrm rot="7316400">
                <a:off x="4915080" y="4670640"/>
                <a:ext cx="766440" cy="74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86" descr="wb01241_"/>
              <p:cNvPicPr/>
              <p:nvPr/>
            </p:nvPicPr>
            <p:blipFill>
              <a:blip r:embed="rId7"/>
              <a:stretch/>
            </p:blipFill>
            <p:spPr>
              <a:xfrm rot="18062400">
                <a:off x="5042880" y="4997520"/>
                <a:ext cx="328680" cy="32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2" repeatCount="3000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2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d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003640" y="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ОВАР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896000" y="932040"/>
            <a:ext cx="296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вар готовит для детк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пчик, картошку, котлетк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ит кашу-манк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алатик со сметанко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рендельки, лепешк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готовьте ложки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MCj04062360000[1]"/>
          <p:cNvPicPr/>
          <p:nvPr/>
        </p:nvPicPr>
        <p:blipFill>
          <a:blip r:embed="rId1"/>
          <a:stretch/>
        </p:blipFill>
        <p:spPr>
          <a:xfrm>
            <a:off x="706320" y="1628640"/>
            <a:ext cx="3699000" cy="3711600"/>
          </a:xfrm>
          <a:prstGeom prst="rect">
            <a:avLst/>
          </a:prstGeom>
          <a:ln w="0">
            <a:noFill/>
          </a:ln>
        </p:spPr>
      </p:pic>
      <p:pic>
        <p:nvPicPr>
          <p:cNvPr id="122" name="Запи3280.WAV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751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c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440520" y="0"/>
            <a:ext cx="55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ВОСПИТАТЕЛЬ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172400" y="932040"/>
            <a:ext cx="403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Воспитатель работает в детском сад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Я туда рано утром сегодня пойд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Воспитатель и добрая нян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Занимаются целый день с нам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24" descr="j0412032"/>
          <p:cNvPicPr/>
          <p:nvPr/>
        </p:nvPicPr>
        <p:blipFill>
          <a:blip r:embed="rId1"/>
          <a:stretch/>
        </p:blipFill>
        <p:spPr>
          <a:xfrm flipH="1">
            <a:off x="395280" y="1833480"/>
            <a:ext cx="2944800" cy="366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41" descr="j0232107"/>
          <p:cNvPicPr/>
          <p:nvPr/>
        </p:nvPicPr>
        <p:blipFill>
          <a:blip r:embed="rId2"/>
          <a:stretch/>
        </p:blipFill>
        <p:spPr>
          <a:xfrm flipH="1">
            <a:off x="4992480" y="5229360"/>
            <a:ext cx="1230120" cy="13557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63"/>
          <p:cNvGrpSpPr/>
          <p:nvPr/>
        </p:nvGrpSpPr>
        <p:grpSpPr>
          <a:xfrm>
            <a:off x="4356000" y="2349360"/>
            <a:ext cx="971640" cy="1216080"/>
            <a:chOff x="4356000" y="2349360"/>
            <a:chExt cx="971640" cy="1216080"/>
          </a:xfrm>
        </p:grpSpPr>
        <p:pic>
          <p:nvPicPr>
            <p:cNvPr id="128" name="Picture 349" descr="j0349093"/>
            <p:cNvPicPr/>
            <p:nvPr/>
          </p:nvPicPr>
          <p:blipFill>
            <a:blip r:embed="rId3"/>
            <a:stretch/>
          </p:blipFill>
          <p:spPr>
            <a:xfrm>
              <a:off x="4356000" y="2349360"/>
              <a:ext cx="97164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62"/>
            <p:cNvSpPr/>
            <p:nvPr/>
          </p:nvSpPr>
          <p:spPr>
            <a:xfrm flipV="1" rot="20785800">
              <a:off x="4787640" y="2851920"/>
              <a:ext cx="75960" cy="7164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68"/>
          <p:cNvGrpSpPr/>
          <p:nvPr/>
        </p:nvGrpSpPr>
        <p:grpSpPr>
          <a:xfrm>
            <a:off x="6222960" y="3665520"/>
            <a:ext cx="925560" cy="1239840"/>
            <a:chOff x="6222960" y="3665520"/>
            <a:chExt cx="925560" cy="1239840"/>
          </a:xfrm>
        </p:grpSpPr>
        <p:pic>
          <p:nvPicPr>
            <p:cNvPr id="131" name="Picture 331" descr="j0349111"/>
            <p:cNvPicPr/>
            <p:nvPr/>
          </p:nvPicPr>
          <p:blipFill>
            <a:blip r:embed="rId4"/>
            <a:stretch/>
          </p:blipFill>
          <p:spPr>
            <a:xfrm>
              <a:off x="6222960" y="3665520"/>
              <a:ext cx="9255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Freeform 364"/>
            <p:cNvSpPr/>
            <p:nvPr/>
          </p:nvSpPr>
          <p:spPr>
            <a:xfrm flipV="1" rot="20785800">
              <a:off x="6511680" y="4168080"/>
              <a:ext cx="76320" cy="7164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69"/>
          <p:cNvGrpSpPr/>
          <p:nvPr/>
        </p:nvGrpSpPr>
        <p:grpSpPr>
          <a:xfrm>
            <a:off x="3828960" y="3813120"/>
            <a:ext cx="1054080" cy="1260360"/>
            <a:chOff x="3828960" y="3813120"/>
            <a:chExt cx="1054080" cy="1260360"/>
          </a:xfrm>
        </p:grpSpPr>
        <p:grpSp>
          <p:nvGrpSpPr>
            <p:cNvPr id="134" name="Group 353"/>
            <p:cNvGrpSpPr/>
            <p:nvPr/>
          </p:nvGrpSpPr>
          <p:grpSpPr>
            <a:xfrm>
              <a:off x="3828960" y="3813120"/>
              <a:ext cx="1054080" cy="1260360"/>
              <a:chOff x="3828960" y="3813120"/>
              <a:chExt cx="1054080" cy="1260360"/>
            </a:xfrm>
          </p:grpSpPr>
          <p:pic>
            <p:nvPicPr>
              <p:cNvPr id="135" name="Picture 332" descr="j0349105"/>
              <p:cNvPicPr/>
              <p:nvPr/>
            </p:nvPicPr>
            <p:blipFill>
              <a:blip r:embed="rId5"/>
              <a:stretch/>
            </p:blipFill>
            <p:spPr>
              <a:xfrm>
                <a:off x="3828960" y="3813120"/>
                <a:ext cx="960480" cy="12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336" descr="j0435811"/>
              <p:cNvPicPr/>
              <p:nvPr/>
            </p:nvPicPr>
            <p:blipFill>
              <a:blip r:embed="rId6"/>
              <a:stretch/>
            </p:blipFill>
            <p:spPr>
              <a:xfrm>
                <a:off x="4514760" y="4173480"/>
                <a:ext cx="368280" cy="63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Freeform 365"/>
            <p:cNvSpPr/>
            <p:nvPr/>
          </p:nvSpPr>
          <p:spPr>
            <a:xfrm flipH="1" flipV="1" rot="814200">
              <a:off x="4333320" y="4316400"/>
              <a:ext cx="76320" cy="7056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d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179600" y="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Times New Roman"/>
              </a:rPr>
              <a:t>СТРОИТЕЛЬ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58400" y="932040"/>
            <a:ext cx="372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троитель  строил  д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  котором  мы  живе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Кирпич за кирпич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лохая  погода ему нипоче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н двери поставил, поставил ок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 в нашей квартире уютно, тепло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Cj03341080000[1]"/>
          <p:cNvPicPr/>
          <p:nvPr/>
        </p:nvPicPr>
        <p:blipFill>
          <a:blip r:embed="rId1"/>
          <a:stretch/>
        </p:blipFill>
        <p:spPr>
          <a:xfrm>
            <a:off x="530280" y="692280"/>
            <a:ext cx="3681360" cy="413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n00325_"/>
          <p:cNvPicPr/>
          <p:nvPr/>
        </p:nvPicPr>
        <p:blipFill>
          <a:blip r:embed="rId2"/>
          <a:stretch/>
        </p:blipFill>
        <p:spPr>
          <a:xfrm rot="360600">
            <a:off x="5364000" y="3141720"/>
            <a:ext cx="28101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7" presetSubtype="4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c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871520" y="18900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Times New Roman"/>
              </a:rPr>
              <a:t>ПРОДАВЕЦ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20800" y="1125360"/>
            <a:ext cx="3160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Продавец кричит: - «Купите»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И скорей домой несит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Яблоки, груши и дын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На рынке и в магазин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Не много не мал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Разного товар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j0412020"/>
          <p:cNvPicPr/>
          <p:nvPr/>
        </p:nvPicPr>
        <p:blipFill>
          <a:blip r:embed="rId1"/>
          <a:stretch/>
        </p:blipFill>
        <p:spPr>
          <a:xfrm>
            <a:off x="684360" y="1081080"/>
            <a:ext cx="490824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fa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13"/>
          <p:cNvSpPr/>
          <p:nvPr/>
        </p:nvSpPr>
        <p:spPr>
          <a:xfrm>
            <a:off x="250920" y="907920"/>
            <a:ext cx="4321080" cy="561672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3830760" y="0"/>
            <a:ext cx="531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ПАРИКМАХЕР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5343480" y="1076400"/>
            <a:ext cx="318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арикмахер подстриг челку -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олюбуйтесь на девчонку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Феном волос уложи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 с прической угадил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06"/>
          <p:cNvGrpSpPr/>
          <p:nvPr/>
        </p:nvGrpSpPr>
        <p:grpSpPr>
          <a:xfrm>
            <a:off x="394920" y="901800"/>
            <a:ext cx="5400360" cy="5955840"/>
            <a:chOff x="394920" y="901800"/>
            <a:chExt cx="5400360" cy="5955840"/>
          </a:xfrm>
        </p:grpSpPr>
        <p:sp>
          <p:nvSpPr>
            <p:cNvPr id="149" name="AutoShape 225"/>
            <p:cNvSpPr/>
            <p:nvPr/>
          </p:nvSpPr>
          <p:spPr>
            <a:xfrm flipH="1">
              <a:off x="394560" y="901800"/>
              <a:ext cx="5400360" cy="59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8"/>
            <p:cNvSpPr/>
            <p:nvPr/>
          </p:nvSpPr>
          <p:spPr>
            <a:xfrm flipH="1">
              <a:off x="1061280" y="1197000"/>
              <a:ext cx="3550680" cy="4729320"/>
            </a:xfrm>
            <a:custGeom>
              <a:avLst/>
              <a:gdLst/>
              <a:ahLst/>
              <a:rect l="l" t="t" r="r" b="b"/>
              <a:pathLst>
                <a:path w="1760" h="2115">
                  <a:moveTo>
                    <a:pt x="24" y="0"/>
                  </a:moveTo>
                  <a:lnTo>
                    <a:pt x="0" y="2115"/>
                  </a:lnTo>
                  <a:lnTo>
                    <a:pt x="1755" y="2105"/>
                  </a:lnTo>
                  <a:lnTo>
                    <a:pt x="176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b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9"/>
            <p:cNvSpPr/>
            <p:nvPr/>
          </p:nvSpPr>
          <p:spPr>
            <a:xfrm flipH="1">
              <a:off x="1530000" y="1716480"/>
              <a:ext cx="2537640" cy="3680280"/>
            </a:xfrm>
            <a:custGeom>
              <a:avLst/>
              <a:gdLst/>
              <a:ahLst/>
              <a:rect l="l" t="t" r="r" b="b"/>
              <a:pathLst>
                <a:path w="1258" h="1646">
                  <a:moveTo>
                    <a:pt x="724" y="0"/>
                  </a:moveTo>
                  <a:lnTo>
                    <a:pt x="629" y="0"/>
                  </a:lnTo>
                  <a:lnTo>
                    <a:pt x="0" y="5"/>
                  </a:lnTo>
                  <a:lnTo>
                    <a:pt x="0" y="1646"/>
                  </a:lnTo>
                  <a:lnTo>
                    <a:pt x="473" y="1642"/>
                  </a:lnTo>
                  <a:lnTo>
                    <a:pt x="516" y="1642"/>
                  </a:lnTo>
                  <a:lnTo>
                    <a:pt x="922" y="1637"/>
                  </a:lnTo>
                  <a:lnTo>
                    <a:pt x="1258" y="1637"/>
                  </a:lnTo>
                  <a:lnTo>
                    <a:pt x="1258" y="0"/>
                  </a:lnTo>
                  <a:lnTo>
                    <a:pt x="724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30"/>
            <p:cNvSpPr/>
            <p:nvPr/>
          </p:nvSpPr>
          <p:spPr>
            <a:xfrm flipH="1">
              <a:off x="1530000" y="1716480"/>
              <a:ext cx="2537640" cy="3670560"/>
            </a:xfrm>
            <a:custGeom>
              <a:avLst/>
              <a:gdLst/>
              <a:ahLst/>
              <a:rect l="l" t="t" r="r" b="b"/>
              <a:pathLst>
                <a:path w="1258" h="1642">
                  <a:moveTo>
                    <a:pt x="0" y="1012"/>
                  </a:moveTo>
                  <a:lnTo>
                    <a:pt x="0" y="1012"/>
                  </a:lnTo>
                  <a:lnTo>
                    <a:pt x="133" y="1074"/>
                  </a:lnTo>
                  <a:lnTo>
                    <a:pt x="260" y="1140"/>
                  </a:lnTo>
                  <a:lnTo>
                    <a:pt x="388" y="1211"/>
                  </a:lnTo>
                  <a:lnTo>
                    <a:pt x="506" y="1287"/>
                  </a:lnTo>
                  <a:lnTo>
                    <a:pt x="620" y="1367"/>
                  </a:lnTo>
                  <a:lnTo>
                    <a:pt x="728" y="1452"/>
                  </a:lnTo>
                  <a:lnTo>
                    <a:pt x="828" y="1542"/>
                  </a:lnTo>
                  <a:lnTo>
                    <a:pt x="922" y="1637"/>
                  </a:lnTo>
                  <a:lnTo>
                    <a:pt x="1258" y="1637"/>
                  </a:lnTo>
                  <a:lnTo>
                    <a:pt x="1258" y="1618"/>
                  </a:lnTo>
                  <a:lnTo>
                    <a:pt x="1258" y="1618"/>
                  </a:lnTo>
                  <a:lnTo>
                    <a:pt x="1121" y="1523"/>
                  </a:lnTo>
                  <a:lnTo>
                    <a:pt x="970" y="1433"/>
                  </a:lnTo>
                  <a:lnTo>
                    <a:pt x="814" y="1344"/>
                  </a:lnTo>
                  <a:lnTo>
                    <a:pt x="653" y="1254"/>
                  </a:lnTo>
                  <a:lnTo>
                    <a:pt x="487" y="1169"/>
                  </a:lnTo>
                  <a:lnTo>
                    <a:pt x="322" y="1083"/>
                  </a:lnTo>
                  <a:lnTo>
                    <a:pt x="0" y="927"/>
                  </a:lnTo>
                  <a:lnTo>
                    <a:pt x="0" y="1012"/>
                  </a:lnTo>
                  <a:close/>
                  <a:moveTo>
                    <a:pt x="0" y="1367"/>
                  </a:moveTo>
                  <a:lnTo>
                    <a:pt x="0" y="1367"/>
                  </a:lnTo>
                  <a:lnTo>
                    <a:pt x="128" y="1424"/>
                  </a:lnTo>
                  <a:lnTo>
                    <a:pt x="251" y="1495"/>
                  </a:lnTo>
                  <a:lnTo>
                    <a:pt x="364" y="1566"/>
                  </a:lnTo>
                  <a:lnTo>
                    <a:pt x="473" y="1642"/>
                  </a:lnTo>
                  <a:lnTo>
                    <a:pt x="516" y="1642"/>
                  </a:lnTo>
                  <a:lnTo>
                    <a:pt x="516" y="1642"/>
                  </a:lnTo>
                  <a:lnTo>
                    <a:pt x="260" y="1481"/>
                  </a:lnTo>
                  <a:lnTo>
                    <a:pt x="133" y="1400"/>
                  </a:lnTo>
                  <a:lnTo>
                    <a:pt x="0" y="1325"/>
                  </a:lnTo>
                  <a:lnTo>
                    <a:pt x="0" y="1367"/>
                  </a:lnTo>
                  <a:close/>
                  <a:moveTo>
                    <a:pt x="0" y="904"/>
                  </a:moveTo>
                  <a:lnTo>
                    <a:pt x="0" y="904"/>
                  </a:lnTo>
                  <a:lnTo>
                    <a:pt x="605" y="1164"/>
                  </a:lnTo>
                  <a:lnTo>
                    <a:pt x="1258" y="1452"/>
                  </a:lnTo>
                  <a:lnTo>
                    <a:pt x="1258" y="1277"/>
                  </a:lnTo>
                  <a:lnTo>
                    <a:pt x="1258" y="1277"/>
                  </a:lnTo>
                  <a:lnTo>
                    <a:pt x="1078" y="1221"/>
                  </a:lnTo>
                  <a:lnTo>
                    <a:pt x="903" y="1154"/>
                  </a:lnTo>
                  <a:lnTo>
                    <a:pt x="743" y="1088"/>
                  </a:lnTo>
                  <a:lnTo>
                    <a:pt x="587" y="1017"/>
                  </a:lnTo>
                  <a:lnTo>
                    <a:pt x="435" y="951"/>
                  </a:lnTo>
                  <a:lnTo>
                    <a:pt x="289" y="875"/>
                  </a:lnTo>
                  <a:lnTo>
                    <a:pt x="0" y="733"/>
                  </a:lnTo>
                  <a:lnTo>
                    <a:pt x="0" y="904"/>
                  </a:lnTo>
                  <a:close/>
                  <a:moveTo>
                    <a:pt x="0" y="568"/>
                  </a:moveTo>
                  <a:lnTo>
                    <a:pt x="0" y="568"/>
                  </a:lnTo>
                  <a:lnTo>
                    <a:pt x="596" y="733"/>
                  </a:lnTo>
                  <a:lnTo>
                    <a:pt x="1258" y="918"/>
                  </a:lnTo>
                  <a:lnTo>
                    <a:pt x="1258" y="823"/>
                  </a:lnTo>
                  <a:lnTo>
                    <a:pt x="1258" y="823"/>
                  </a:lnTo>
                  <a:lnTo>
                    <a:pt x="918" y="729"/>
                  </a:lnTo>
                  <a:lnTo>
                    <a:pt x="601" y="639"/>
                  </a:lnTo>
                  <a:lnTo>
                    <a:pt x="298" y="549"/>
                  </a:lnTo>
                  <a:lnTo>
                    <a:pt x="0" y="473"/>
                  </a:lnTo>
                  <a:lnTo>
                    <a:pt x="0" y="568"/>
                  </a:lnTo>
                  <a:close/>
                  <a:moveTo>
                    <a:pt x="0" y="293"/>
                  </a:moveTo>
                  <a:lnTo>
                    <a:pt x="0" y="293"/>
                  </a:lnTo>
                  <a:lnTo>
                    <a:pt x="596" y="473"/>
                  </a:lnTo>
                  <a:lnTo>
                    <a:pt x="918" y="563"/>
                  </a:lnTo>
                  <a:lnTo>
                    <a:pt x="1258" y="653"/>
                  </a:lnTo>
                  <a:lnTo>
                    <a:pt x="1258" y="502"/>
                  </a:lnTo>
                  <a:lnTo>
                    <a:pt x="1258" y="502"/>
                  </a:lnTo>
                  <a:lnTo>
                    <a:pt x="1078" y="487"/>
                  </a:lnTo>
                  <a:lnTo>
                    <a:pt x="903" y="468"/>
                  </a:lnTo>
                  <a:lnTo>
                    <a:pt x="738" y="445"/>
                  </a:lnTo>
                  <a:lnTo>
                    <a:pt x="582" y="416"/>
                  </a:lnTo>
                  <a:lnTo>
                    <a:pt x="430" y="383"/>
                  </a:lnTo>
                  <a:lnTo>
                    <a:pt x="279" y="346"/>
                  </a:lnTo>
                  <a:lnTo>
                    <a:pt x="137" y="303"/>
                  </a:lnTo>
                  <a:lnTo>
                    <a:pt x="0" y="256"/>
                  </a:lnTo>
                  <a:lnTo>
                    <a:pt x="0" y="293"/>
                  </a:lnTo>
                  <a:close/>
                  <a:moveTo>
                    <a:pt x="724" y="0"/>
                  </a:moveTo>
                  <a:lnTo>
                    <a:pt x="629" y="0"/>
                  </a:lnTo>
                  <a:lnTo>
                    <a:pt x="629" y="0"/>
                  </a:lnTo>
                  <a:lnTo>
                    <a:pt x="766" y="48"/>
                  </a:lnTo>
                  <a:lnTo>
                    <a:pt x="913" y="100"/>
                  </a:lnTo>
                  <a:lnTo>
                    <a:pt x="1074" y="156"/>
                  </a:lnTo>
                  <a:lnTo>
                    <a:pt x="1258" y="218"/>
                  </a:lnTo>
                  <a:lnTo>
                    <a:pt x="1258" y="152"/>
                  </a:lnTo>
                  <a:lnTo>
                    <a:pt x="1258" y="152"/>
                  </a:lnTo>
                  <a:lnTo>
                    <a:pt x="1097" y="114"/>
                  </a:lnTo>
                  <a:lnTo>
                    <a:pt x="955" y="76"/>
                  </a:lnTo>
                  <a:lnTo>
                    <a:pt x="837" y="38"/>
                  </a:lnTo>
                  <a:lnTo>
                    <a:pt x="724" y="0"/>
                  </a:lnTo>
                  <a:lnTo>
                    <a:pt x="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31"/>
            <p:cNvSpPr/>
            <p:nvPr/>
          </p:nvSpPr>
          <p:spPr>
            <a:xfrm flipH="1">
              <a:off x="4105440" y="1250280"/>
              <a:ext cx="430920" cy="454320"/>
            </a:xfrm>
            <a:custGeom>
              <a:avLst/>
              <a:gdLst/>
              <a:ahLst/>
              <a:rect l="l" t="t" r="r" b="b"/>
              <a:pathLst>
                <a:path w="213" h="203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04" y="203"/>
                  </a:lnTo>
                  <a:lnTo>
                    <a:pt x="204" y="203"/>
                  </a:lnTo>
                  <a:lnTo>
                    <a:pt x="208" y="203"/>
                  </a:lnTo>
                  <a:lnTo>
                    <a:pt x="213" y="203"/>
                  </a:lnTo>
                  <a:lnTo>
                    <a:pt x="213" y="203"/>
                  </a:lnTo>
                  <a:lnTo>
                    <a:pt x="213" y="199"/>
                  </a:lnTo>
                  <a:lnTo>
                    <a:pt x="213" y="19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2"/>
            <p:cNvSpPr/>
            <p:nvPr/>
          </p:nvSpPr>
          <p:spPr>
            <a:xfrm flipH="1">
              <a:off x="1089360" y="1250280"/>
              <a:ext cx="412200" cy="44676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199" y="0"/>
                  </a:moveTo>
                  <a:lnTo>
                    <a:pt x="199" y="0"/>
                  </a:lnTo>
                  <a:lnTo>
                    <a:pt x="194" y="0"/>
                  </a:lnTo>
                  <a:lnTo>
                    <a:pt x="190" y="5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5" y="194"/>
                  </a:lnTo>
                  <a:lnTo>
                    <a:pt x="5" y="194"/>
                  </a:lnTo>
                  <a:lnTo>
                    <a:pt x="10" y="199"/>
                  </a:lnTo>
                  <a:lnTo>
                    <a:pt x="15" y="194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4" y="5"/>
                  </a:lnTo>
                  <a:lnTo>
                    <a:pt x="199" y="0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3"/>
            <p:cNvSpPr/>
            <p:nvPr/>
          </p:nvSpPr>
          <p:spPr>
            <a:xfrm flipH="1">
              <a:off x="1101600" y="5418720"/>
              <a:ext cx="370080" cy="462600"/>
            </a:xfrm>
            <a:custGeom>
              <a:avLst/>
              <a:gdLst/>
              <a:ahLst/>
              <a:rect l="l" t="t" r="r" b="b"/>
              <a:pathLst>
                <a:path w="184" h="208">
                  <a:moveTo>
                    <a:pt x="179" y="208"/>
                  </a:moveTo>
                  <a:lnTo>
                    <a:pt x="179" y="208"/>
                  </a:lnTo>
                  <a:lnTo>
                    <a:pt x="184" y="203"/>
                  </a:lnTo>
                  <a:lnTo>
                    <a:pt x="184" y="19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70" y="203"/>
                  </a:lnTo>
                  <a:lnTo>
                    <a:pt x="170" y="203"/>
                  </a:lnTo>
                  <a:lnTo>
                    <a:pt x="175" y="208"/>
                  </a:lnTo>
                  <a:lnTo>
                    <a:pt x="179" y="208"/>
                  </a:lnTo>
                  <a:lnTo>
                    <a:pt x="179" y="208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4"/>
            <p:cNvSpPr/>
            <p:nvPr/>
          </p:nvSpPr>
          <p:spPr>
            <a:xfrm flipH="1">
              <a:off x="4096800" y="5418720"/>
              <a:ext cx="496800" cy="462600"/>
            </a:xfrm>
            <a:custGeom>
              <a:avLst/>
              <a:gdLst/>
              <a:ahLst/>
              <a:rect l="l" t="t" r="r" b="b"/>
              <a:pathLst>
                <a:path w="246" h="208">
                  <a:moveTo>
                    <a:pt x="5" y="208"/>
                  </a:moveTo>
                  <a:lnTo>
                    <a:pt x="5" y="208"/>
                  </a:lnTo>
                  <a:lnTo>
                    <a:pt x="9" y="208"/>
                  </a:lnTo>
                  <a:lnTo>
                    <a:pt x="14" y="208"/>
                  </a:lnTo>
                  <a:lnTo>
                    <a:pt x="246" y="9"/>
                  </a:lnTo>
                  <a:lnTo>
                    <a:pt x="246" y="9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1" y="0"/>
                  </a:lnTo>
                  <a:lnTo>
                    <a:pt x="236" y="4"/>
                  </a:lnTo>
                  <a:lnTo>
                    <a:pt x="5" y="198"/>
                  </a:lnTo>
                  <a:lnTo>
                    <a:pt x="5" y="198"/>
                  </a:lnTo>
                  <a:lnTo>
                    <a:pt x="0" y="203"/>
                  </a:lnTo>
                  <a:lnTo>
                    <a:pt x="5" y="208"/>
                  </a:lnTo>
                  <a:lnTo>
                    <a:pt x="5" y="208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5"/>
            <p:cNvSpPr/>
            <p:nvPr/>
          </p:nvSpPr>
          <p:spPr>
            <a:xfrm flipH="1">
              <a:off x="3342960" y="4446720"/>
              <a:ext cx="246960" cy="875520"/>
            </a:xfrm>
            <a:custGeom>
              <a:avLst/>
              <a:gdLst/>
              <a:ahLst/>
              <a:rect l="l" t="t" r="r" b="b"/>
              <a:pathLst>
                <a:path w="123" h="392">
                  <a:moveTo>
                    <a:pt x="123" y="326"/>
                  </a:moveTo>
                  <a:lnTo>
                    <a:pt x="123" y="326"/>
                  </a:lnTo>
                  <a:lnTo>
                    <a:pt x="118" y="350"/>
                  </a:lnTo>
                  <a:lnTo>
                    <a:pt x="104" y="373"/>
                  </a:lnTo>
                  <a:lnTo>
                    <a:pt x="85" y="387"/>
                  </a:lnTo>
                  <a:lnTo>
                    <a:pt x="61" y="392"/>
                  </a:lnTo>
                  <a:lnTo>
                    <a:pt x="61" y="392"/>
                  </a:lnTo>
                  <a:lnTo>
                    <a:pt x="61" y="392"/>
                  </a:lnTo>
                  <a:lnTo>
                    <a:pt x="37" y="387"/>
                  </a:lnTo>
                  <a:lnTo>
                    <a:pt x="14" y="373"/>
                  </a:lnTo>
                  <a:lnTo>
                    <a:pt x="4" y="350"/>
                  </a:lnTo>
                  <a:lnTo>
                    <a:pt x="0" y="32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37"/>
                  </a:lnTo>
                  <a:lnTo>
                    <a:pt x="14" y="18"/>
                  </a:lnTo>
                  <a:lnTo>
                    <a:pt x="37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85" y="4"/>
                  </a:lnTo>
                  <a:lnTo>
                    <a:pt x="104" y="18"/>
                  </a:lnTo>
                  <a:lnTo>
                    <a:pt x="118" y="37"/>
                  </a:lnTo>
                  <a:lnTo>
                    <a:pt x="123" y="66"/>
                  </a:lnTo>
                  <a:lnTo>
                    <a:pt x="123" y="3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36"/>
            <p:cNvSpPr/>
            <p:nvPr/>
          </p:nvSpPr>
          <p:spPr>
            <a:xfrm flipH="1">
              <a:off x="3600000" y="4529160"/>
              <a:ext cx="237600" cy="793080"/>
            </a:xfrm>
            <a:custGeom>
              <a:avLst/>
              <a:gdLst/>
              <a:ahLst/>
              <a:rect l="l" t="t" r="r" b="b"/>
              <a:pathLst>
                <a:path w="118" h="355">
                  <a:moveTo>
                    <a:pt x="118" y="298"/>
                  </a:moveTo>
                  <a:lnTo>
                    <a:pt x="118" y="298"/>
                  </a:lnTo>
                  <a:lnTo>
                    <a:pt x="113" y="317"/>
                  </a:lnTo>
                  <a:lnTo>
                    <a:pt x="99" y="336"/>
                  </a:lnTo>
                  <a:lnTo>
                    <a:pt x="80" y="350"/>
                  </a:lnTo>
                  <a:lnTo>
                    <a:pt x="56" y="355"/>
                  </a:lnTo>
                  <a:lnTo>
                    <a:pt x="56" y="355"/>
                  </a:lnTo>
                  <a:lnTo>
                    <a:pt x="56" y="355"/>
                  </a:lnTo>
                  <a:lnTo>
                    <a:pt x="37" y="350"/>
                  </a:lnTo>
                  <a:lnTo>
                    <a:pt x="19" y="336"/>
                  </a:lnTo>
                  <a:lnTo>
                    <a:pt x="4" y="317"/>
                  </a:lnTo>
                  <a:lnTo>
                    <a:pt x="0" y="29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34"/>
                  </a:lnTo>
                  <a:lnTo>
                    <a:pt x="19" y="15"/>
                  </a:lnTo>
                  <a:lnTo>
                    <a:pt x="37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80" y="5"/>
                  </a:lnTo>
                  <a:lnTo>
                    <a:pt x="99" y="15"/>
                  </a:lnTo>
                  <a:lnTo>
                    <a:pt x="113" y="34"/>
                  </a:lnTo>
                  <a:lnTo>
                    <a:pt x="118" y="57"/>
                  </a:lnTo>
                  <a:lnTo>
                    <a:pt x="118" y="29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37"/>
            <p:cNvSpPr/>
            <p:nvPr/>
          </p:nvSpPr>
          <p:spPr>
            <a:xfrm flipH="1">
              <a:off x="604080" y="4997880"/>
              <a:ext cx="534600" cy="1288800"/>
            </a:xfrm>
            <a:custGeom>
              <a:avLst/>
              <a:gdLst/>
              <a:ahLst/>
              <a:rect l="l" t="t" r="r" b="b"/>
              <a:pathLst>
                <a:path w="265" h="577">
                  <a:moveTo>
                    <a:pt x="170" y="392"/>
                  </a:moveTo>
                  <a:lnTo>
                    <a:pt x="99" y="0"/>
                  </a:lnTo>
                  <a:lnTo>
                    <a:pt x="0" y="14"/>
                  </a:lnTo>
                  <a:lnTo>
                    <a:pt x="99" y="402"/>
                  </a:lnTo>
                  <a:lnTo>
                    <a:pt x="203" y="577"/>
                  </a:lnTo>
                  <a:lnTo>
                    <a:pt x="265" y="572"/>
                  </a:lnTo>
                  <a:lnTo>
                    <a:pt x="170" y="392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38"/>
            <p:cNvSpPr/>
            <p:nvPr/>
          </p:nvSpPr>
          <p:spPr>
            <a:xfrm flipH="1">
              <a:off x="1320840" y="2657520"/>
              <a:ext cx="56880" cy="18072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19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9" y="76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39"/>
            <p:cNvSpPr/>
            <p:nvPr/>
          </p:nvSpPr>
          <p:spPr>
            <a:xfrm flipH="1">
              <a:off x="1368360" y="2645640"/>
              <a:ext cx="46800" cy="16704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4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76"/>
                  </a:lnTo>
                  <a:lnTo>
                    <a:pt x="9" y="71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40"/>
            <p:cNvSpPr/>
            <p:nvPr/>
          </p:nvSpPr>
          <p:spPr>
            <a:xfrm flipH="1">
              <a:off x="1405440" y="2625840"/>
              <a:ext cx="58680" cy="1789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0" y="76"/>
                  </a:lnTo>
                  <a:lnTo>
                    <a:pt x="10" y="71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41"/>
            <p:cNvSpPr/>
            <p:nvPr/>
          </p:nvSpPr>
          <p:spPr>
            <a:xfrm flipH="1">
              <a:off x="1442880" y="2614320"/>
              <a:ext cx="58680" cy="17064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9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42"/>
            <p:cNvSpPr/>
            <p:nvPr/>
          </p:nvSpPr>
          <p:spPr>
            <a:xfrm flipH="1">
              <a:off x="1480680" y="2594520"/>
              <a:ext cx="58680" cy="16668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5" y="75"/>
                  </a:lnTo>
                  <a:lnTo>
                    <a:pt x="5" y="75"/>
                  </a:lnTo>
                  <a:lnTo>
                    <a:pt x="10" y="75"/>
                  </a:lnTo>
                  <a:lnTo>
                    <a:pt x="10" y="71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3"/>
            <p:cNvSpPr/>
            <p:nvPr/>
          </p:nvSpPr>
          <p:spPr>
            <a:xfrm flipH="1">
              <a:off x="2618280" y="3334680"/>
              <a:ext cx="3070440" cy="3302280"/>
            </a:xfrm>
            <a:custGeom>
              <a:avLst/>
              <a:gdLst/>
              <a:ahLst/>
              <a:rect l="l" t="t" r="r" b="b"/>
              <a:pathLst>
                <a:path w="1523" h="1476">
                  <a:moveTo>
                    <a:pt x="1301" y="90"/>
                  </a:moveTo>
                  <a:lnTo>
                    <a:pt x="1301" y="90"/>
                  </a:lnTo>
                  <a:lnTo>
                    <a:pt x="1296" y="109"/>
                  </a:lnTo>
                  <a:lnTo>
                    <a:pt x="1296" y="123"/>
                  </a:lnTo>
                  <a:lnTo>
                    <a:pt x="1301" y="142"/>
                  </a:lnTo>
                  <a:lnTo>
                    <a:pt x="1310" y="156"/>
                  </a:lnTo>
                  <a:lnTo>
                    <a:pt x="1310" y="156"/>
                  </a:lnTo>
                  <a:lnTo>
                    <a:pt x="1329" y="184"/>
                  </a:lnTo>
                  <a:lnTo>
                    <a:pt x="1348" y="199"/>
                  </a:lnTo>
                  <a:lnTo>
                    <a:pt x="1362" y="208"/>
                  </a:lnTo>
                  <a:lnTo>
                    <a:pt x="1381" y="213"/>
                  </a:lnTo>
                  <a:lnTo>
                    <a:pt x="1381" y="213"/>
                  </a:lnTo>
                  <a:lnTo>
                    <a:pt x="1395" y="217"/>
                  </a:lnTo>
                  <a:lnTo>
                    <a:pt x="1409" y="222"/>
                  </a:lnTo>
                  <a:lnTo>
                    <a:pt x="1424" y="241"/>
                  </a:lnTo>
                  <a:lnTo>
                    <a:pt x="1438" y="270"/>
                  </a:lnTo>
                  <a:lnTo>
                    <a:pt x="1438" y="270"/>
                  </a:lnTo>
                  <a:lnTo>
                    <a:pt x="1447" y="288"/>
                  </a:lnTo>
                  <a:lnTo>
                    <a:pt x="1447" y="307"/>
                  </a:lnTo>
                  <a:lnTo>
                    <a:pt x="1447" y="307"/>
                  </a:lnTo>
                  <a:lnTo>
                    <a:pt x="1438" y="317"/>
                  </a:lnTo>
                  <a:lnTo>
                    <a:pt x="1424" y="322"/>
                  </a:lnTo>
                  <a:lnTo>
                    <a:pt x="1381" y="336"/>
                  </a:lnTo>
                  <a:lnTo>
                    <a:pt x="1381" y="336"/>
                  </a:lnTo>
                  <a:lnTo>
                    <a:pt x="1357" y="340"/>
                  </a:lnTo>
                  <a:lnTo>
                    <a:pt x="1334" y="350"/>
                  </a:lnTo>
                  <a:lnTo>
                    <a:pt x="1310" y="364"/>
                  </a:lnTo>
                  <a:lnTo>
                    <a:pt x="1305" y="374"/>
                  </a:lnTo>
                  <a:lnTo>
                    <a:pt x="1301" y="383"/>
                  </a:lnTo>
                  <a:lnTo>
                    <a:pt x="1301" y="383"/>
                  </a:lnTo>
                  <a:lnTo>
                    <a:pt x="1296" y="397"/>
                  </a:lnTo>
                  <a:lnTo>
                    <a:pt x="1296" y="416"/>
                  </a:lnTo>
                  <a:lnTo>
                    <a:pt x="1296" y="430"/>
                  </a:lnTo>
                  <a:lnTo>
                    <a:pt x="1305" y="445"/>
                  </a:lnTo>
                  <a:lnTo>
                    <a:pt x="1305" y="445"/>
                  </a:lnTo>
                  <a:lnTo>
                    <a:pt x="1315" y="459"/>
                  </a:lnTo>
                  <a:lnTo>
                    <a:pt x="1324" y="473"/>
                  </a:lnTo>
                  <a:lnTo>
                    <a:pt x="1362" y="497"/>
                  </a:lnTo>
                  <a:lnTo>
                    <a:pt x="1409" y="520"/>
                  </a:lnTo>
                  <a:lnTo>
                    <a:pt x="1466" y="539"/>
                  </a:lnTo>
                  <a:lnTo>
                    <a:pt x="1466" y="539"/>
                  </a:lnTo>
                  <a:lnTo>
                    <a:pt x="1490" y="549"/>
                  </a:lnTo>
                  <a:lnTo>
                    <a:pt x="1504" y="563"/>
                  </a:lnTo>
                  <a:lnTo>
                    <a:pt x="1509" y="582"/>
                  </a:lnTo>
                  <a:lnTo>
                    <a:pt x="1509" y="596"/>
                  </a:lnTo>
                  <a:lnTo>
                    <a:pt x="1509" y="596"/>
                  </a:lnTo>
                  <a:lnTo>
                    <a:pt x="1504" y="615"/>
                  </a:lnTo>
                  <a:lnTo>
                    <a:pt x="1499" y="634"/>
                  </a:lnTo>
                  <a:lnTo>
                    <a:pt x="1485" y="653"/>
                  </a:lnTo>
                  <a:lnTo>
                    <a:pt x="1471" y="672"/>
                  </a:lnTo>
                  <a:lnTo>
                    <a:pt x="1452" y="686"/>
                  </a:lnTo>
                  <a:lnTo>
                    <a:pt x="1438" y="700"/>
                  </a:lnTo>
                  <a:lnTo>
                    <a:pt x="1414" y="709"/>
                  </a:lnTo>
                  <a:lnTo>
                    <a:pt x="1395" y="709"/>
                  </a:lnTo>
                  <a:lnTo>
                    <a:pt x="1395" y="709"/>
                  </a:lnTo>
                  <a:lnTo>
                    <a:pt x="1357" y="714"/>
                  </a:lnTo>
                  <a:lnTo>
                    <a:pt x="1310" y="728"/>
                  </a:lnTo>
                  <a:lnTo>
                    <a:pt x="1268" y="752"/>
                  </a:lnTo>
                  <a:lnTo>
                    <a:pt x="1249" y="766"/>
                  </a:lnTo>
                  <a:lnTo>
                    <a:pt x="1234" y="780"/>
                  </a:lnTo>
                  <a:lnTo>
                    <a:pt x="1234" y="780"/>
                  </a:lnTo>
                  <a:lnTo>
                    <a:pt x="1220" y="804"/>
                  </a:lnTo>
                  <a:lnTo>
                    <a:pt x="1211" y="832"/>
                  </a:lnTo>
                  <a:lnTo>
                    <a:pt x="1206" y="856"/>
                  </a:lnTo>
                  <a:lnTo>
                    <a:pt x="1211" y="884"/>
                  </a:lnTo>
                  <a:lnTo>
                    <a:pt x="1211" y="884"/>
                  </a:lnTo>
                  <a:lnTo>
                    <a:pt x="1220" y="922"/>
                  </a:lnTo>
                  <a:lnTo>
                    <a:pt x="1234" y="951"/>
                  </a:lnTo>
                  <a:lnTo>
                    <a:pt x="1268" y="1003"/>
                  </a:lnTo>
                  <a:lnTo>
                    <a:pt x="1268" y="1003"/>
                  </a:lnTo>
                  <a:lnTo>
                    <a:pt x="1287" y="1036"/>
                  </a:lnTo>
                  <a:lnTo>
                    <a:pt x="1301" y="1069"/>
                  </a:lnTo>
                  <a:lnTo>
                    <a:pt x="1305" y="1088"/>
                  </a:lnTo>
                  <a:lnTo>
                    <a:pt x="1310" y="1102"/>
                  </a:lnTo>
                  <a:lnTo>
                    <a:pt x="1305" y="1121"/>
                  </a:lnTo>
                  <a:lnTo>
                    <a:pt x="1301" y="1135"/>
                  </a:lnTo>
                  <a:lnTo>
                    <a:pt x="1301" y="1135"/>
                  </a:lnTo>
                  <a:lnTo>
                    <a:pt x="1296" y="1149"/>
                  </a:lnTo>
                  <a:lnTo>
                    <a:pt x="1287" y="1154"/>
                  </a:lnTo>
                  <a:lnTo>
                    <a:pt x="1272" y="1159"/>
                  </a:lnTo>
                  <a:lnTo>
                    <a:pt x="1253" y="1159"/>
                  </a:lnTo>
                  <a:lnTo>
                    <a:pt x="1216" y="1154"/>
                  </a:lnTo>
                  <a:lnTo>
                    <a:pt x="1168" y="1145"/>
                  </a:lnTo>
                  <a:lnTo>
                    <a:pt x="1168" y="1145"/>
                  </a:lnTo>
                  <a:lnTo>
                    <a:pt x="1116" y="1135"/>
                  </a:lnTo>
                  <a:lnTo>
                    <a:pt x="1088" y="1130"/>
                  </a:lnTo>
                  <a:lnTo>
                    <a:pt x="1064" y="1130"/>
                  </a:lnTo>
                  <a:lnTo>
                    <a:pt x="1045" y="1130"/>
                  </a:lnTo>
                  <a:lnTo>
                    <a:pt x="1026" y="1140"/>
                  </a:lnTo>
                  <a:lnTo>
                    <a:pt x="1012" y="1154"/>
                  </a:lnTo>
                  <a:lnTo>
                    <a:pt x="1003" y="1173"/>
                  </a:lnTo>
                  <a:lnTo>
                    <a:pt x="1003" y="1173"/>
                  </a:lnTo>
                  <a:lnTo>
                    <a:pt x="993" y="1192"/>
                  </a:lnTo>
                  <a:lnTo>
                    <a:pt x="970" y="1216"/>
                  </a:lnTo>
                  <a:lnTo>
                    <a:pt x="941" y="1239"/>
                  </a:lnTo>
                  <a:lnTo>
                    <a:pt x="899" y="1268"/>
                  </a:lnTo>
                  <a:lnTo>
                    <a:pt x="851" y="1296"/>
                  </a:lnTo>
                  <a:lnTo>
                    <a:pt x="795" y="1324"/>
                  </a:lnTo>
                  <a:lnTo>
                    <a:pt x="733" y="1353"/>
                  </a:lnTo>
                  <a:lnTo>
                    <a:pt x="667" y="1376"/>
                  </a:lnTo>
                  <a:lnTo>
                    <a:pt x="591" y="1400"/>
                  </a:lnTo>
                  <a:lnTo>
                    <a:pt x="516" y="1424"/>
                  </a:lnTo>
                  <a:lnTo>
                    <a:pt x="430" y="1438"/>
                  </a:lnTo>
                  <a:lnTo>
                    <a:pt x="350" y="1452"/>
                  </a:lnTo>
                  <a:lnTo>
                    <a:pt x="260" y="1461"/>
                  </a:lnTo>
                  <a:lnTo>
                    <a:pt x="175" y="1461"/>
                  </a:lnTo>
                  <a:lnTo>
                    <a:pt x="90" y="1452"/>
                  </a:lnTo>
                  <a:lnTo>
                    <a:pt x="0" y="1443"/>
                  </a:lnTo>
                  <a:lnTo>
                    <a:pt x="0" y="1457"/>
                  </a:lnTo>
                  <a:lnTo>
                    <a:pt x="0" y="1457"/>
                  </a:lnTo>
                  <a:lnTo>
                    <a:pt x="85" y="1466"/>
                  </a:lnTo>
                  <a:lnTo>
                    <a:pt x="175" y="1476"/>
                  </a:lnTo>
                  <a:lnTo>
                    <a:pt x="260" y="1476"/>
                  </a:lnTo>
                  <a:lnTo>
                    <a:pt x="345" y="1466"/>
                  </a:lnTo>
                  <a:lnTo>
                    <a:pt x="430" y="1457"/>
                  </a:lnTo>
                  <a:lnTo>
                    <a:pt x="516" y="1438"/>
                  </a:lnTo>
                  <a:lnTo>
                    <a:pt x="591" y="1419"/>
                  </a:lnTo>
                  <a:lnTo>
                    <a:pt x="667" y="1395"/>
                  </a:lnTo>
                  <a:lnTo>
                    <a:pt x="738" y="1367"/>
                  </a:lnTo>
                  <a:lnTo>
                    <a:pt x="804" y="1343"/>
                  </a:lnTo>
                  <a:lnTo>
                    <a:pt x="861" y="1310"/>
                  </a:lnTo>
                  <a:lnTo>
                    <a:pt x="908" y="1282"/>
                  </a:lnTo>
                  <a:lnTo>
                    <a:pt x="951" y="1253"/>
                  </a:lnTo>
                  <a:lnTo>
                    <a:pt x="984" y="1225"/>
                  </a:lnTo>
                  <a:lnTo>
                    <a:pt x="1007" y="1201"/>
                  </a:lnTo>
                  <a:lnTo>
                    <a:pt x="1017" y="1178"/>
                  </a:lnTo>
                  <a:lnTo>
                    <a:pt x="1017" y="1178"/>
                  </a:lnTo>
                  <a:lnTo>
                    <a:pt x="1022" y="1163"/>
                  </a:lnTo>
                  <a:lnTo>
                    <a:pt x="1036" y="1149"/>
                  </a:lnTo>
                  <a:lnTo>
                    <a:pt x="1045" y="1145"/>
                  </a:lnTo>
                  <a:lnTo>
                    <a:pt x="1064" y="1145"/>
                  </a:lnTo>
                  <a:lnTo>
                    <a:pt x="1107" y="1145"/>
                  </a:lnTo>
                  <a:lnTo>
                    <a:pt x="1164" y="1159"/>
                  </a:lnTo>
                  <a:lnTo>
                    <a:pt x="1164" y="1159"/>
                  </a:lnTo>
                  <a:lnTo>
                    <a:pt x="1216" y="1168"/>
                  </a:lnTo>
                  <a:lnTo>
                    <a:pt x="1258" y="1173"/>
                  </a:lnTo>
                  <a:lnTo>
                    <a:pt x="1277" y="1173"/>
                  </a:lnTo>
                  <a:lnTo>
                    <a:pt x="1296" y="1168"/>
                  </a:lnTo>
                  <a:lnTo>
                    <a:pt x="1310" y="1159"/>
                  </a:lnTo>
                  <a:lnTo>
                    <a:pt x="1315" y="1140"/>
                  </a:lnTo>
                  <a:lnTo>
                    <a:pt x="1315" y="1140"/>
                  </a:lnTo>
                  <a:lnTo>
                    <a:pt x="1324" y="1121"/>
                  </a:lnTo>
                  <a:lnTo>
                    <a:pt x="1324" y="1102"/>
                  </a:lnTo>
                  <a:lnTo>
                    <a:pt x="1320" y="1083"/>
                  </a:lnTo>
                  <a:lnTo>
                    <a:pt x="1315" y="1064"/>
                  </a:lnTo>
                  <a:lnTo>
                    <a:pt x="1301" y="1031"/>
                  </a:lnTo>
                  <a:lnTo>
                    <a:pt x="1277" y="998"/>
                  </a:lnTo>
                  <a:lnTo>
                    <a:pt x="1277" y="998"/>
                  </a:lnTo>
                  <a:lnTo>
                    <a:pt x="1244" y="946"/>
                  </a:lnTo>
                  <a:lnTo>
                    <a:pt x="1234" y="913"/>
                  </a:lnTo>
                  <a:lnTo>
                    <a:pt x="1225" y="884"/>
                  </a:lnTo>
                  <a:lnTo>
                    <a:pt x="1225" y="884"/>
                  </a:lnTo>
                  <a:lnTo>
                    <a:pt x="1220" y="856"/>
                  </a:lnTo>
                  <a:lnTo>
                    <a:pt x="1225" y="832"/>
                  </a:lnTo>
                  <a:lnTo>
                    <a:pt x="1230" y="813"/>
                  </a:lnTo>
                  <a:lnTo>
                    <a:pt x="1244" y="790"/>
                  </a:lnTo>
                  <a:lnTo>
                    <a:pt x="1244" y="790"/>
                  </a:lnTo>
                  <a:lnTo>
                    <a:pt x="1272" y="766"/>
                  </a:lnTo>
                  <a:lnTo>
                    <a:pt x="1310" y="743"/>
                  </a:lnTo>
                  <a:lnTo>
                    <a:pt x="1353" y="733"/>
                  </a:lnTo>
                  <a:lnTo>
                    <a:pt x="1395" y="728"/>
                  </a:lnTo>
                  <a:lnTo>
                    <a:pt x="1395" y="728"/>
                  </a:lnTo>
                  <a:lnTo>
                    <a:pt x="1419" y="724"/>
                  </a:lnTo>
                  <a:lnTo>
                    <a:pt x="1443" y="714"/>
                  </a:lnTo>
                  <a:lnTo>
                    <a:pt x="1461" y="700"/>
                  </a:lnTo>
                  <a:lnTo>
                    <a:pt x="1480" y="681"/>
                  </a:lnTo>
                  <a:lnTo>
                    <a:pt x="1499" y="662"/>
                  </a:lnTo>
                  <a:lnTo>
                    <a:pt x="1509" y="643"/>
                  </a:lnTo>
                  <a:lnTo>
                    <a:pt x="1518" y="620"/>
                  </a:lnTo>
                  <a:lnTo>
                    <a:pt x="1523" y="601"/>
                  </a:lnTo>
                  <a:lnTo>
                    <a:pt x="1523" y="601"/>
                  </a:lnTo>
                  <a:lnTo>
                    <a:pt x="1523" y="572"/>
                  </a:lnTo>
                  <a:lnTo>
                    <a:pt x="1514" y="549"/>
                  </a:lnTo>
                  <a:lnTo>
                    <a:pt x="1495" y="534"/>
                  </a:lnTo>
                  <a:lnTo>
                    <a:pt x="1466" y="525"/>
                  </a:lnTo>
                  <a:lnTo>
                    <a:pt x="1466" y="525"/>
                  </a:lnTo>
                  <a:lnTo>
                    <a:pt x="1414" y="506"/>
                  </a:lnTo>
                  <a:lnTo>
                    <a:pt x="1372" y="487"/>
                  </a:lnTo>
                  <a:lnTo>
                    <a:pt x="1339" y="463"/>
                  </a:lnTo>
                  <a:lnTo>
                    <a:pt x="1315" y="440"/>
                  </a:lnTo>
                  <a:lnTo>
                    <a:pt x="1315" y="440"/>
                  </a:lnTo>
                  <a:lnTo>
                    <a:pt x="1310" y="416"/>
                  </a:lnTo>
                  <a:lnTo>
                    <a:pt x="1315" y="388"/>
                  </a:lnTo>
                  <a:lnTo>
                    <a:pt x="1315" y="388"/>
                  </a:lnTo>
                  <a:lnTo>
                    <a:pt x="1324" y="374"/>
                  </a:lnTo>
                  <a:lnTo>
                    <a:pt x="1339" y="364"/>
                  </a:lnTo>
                  <a:lnTo>
                    <a:pt x="1386" y="350"/>
                  </a:lnTo>
                  <a:lnTo>
                    <a:pt x="1386" y="350"/>
                  </a:lnTo>
                  <a:lnTo>
                    <a:pt x="1428" y="336"/>
                  </a:lnTo>
                  <a:lnTo>
                    <a:pt x="1447" y="326"/>
                  </a:lnTo>
                  <a:lnTo>
                    <a:pt x="1457" y="312"/>
                  </a:lnTo>
                  <a:lnTo>
                    <a:pt x="1457" y="312"/>
                  </a:lnTo>
                  <a:lnTo>
                    <a:pt x="1461" y="303"/>
                  </a:lnTo>
                  <a:lnTo>
                    <a:pt x="1461" y="288"/>
                  </a:lnTo>
                  <a:lnTo>
                    <a:pt x="1452" y="260"/>
                  </a:lnTo>
                  <a:lnTo>
                    <a:pt x="1452" y="260"/>
                  </a:lnTo>
                  <a:lnTo>
                    <a:pt x="1433" y="232"/>
                  </a:lnTo>
                  <a:lnTo>
                    <a:pt x="1419" y="213"/>
                  </a:lnTo>
                  <a:lnTo>
                    <a:pt x="1400" y="203"/>
                  </a:lnTo>
                  <a:lnTo>
                    <a:pt x="1381" y="199"/>
                  </a:lnTo>
                  <a:lnTo>
                    <a:pt x="1381" y="199"/>
                  </a:lnTo>
                  <a:lnTo>
                    <a:pt x="1367" y="194"/>
                  </a:lnTo>
                  <a:lnTo>
                    <a:pt x="1353" y="189"/>
                  </a:lnTo>
                  <a:lnTo>
                    <a:pt x="1339" y="175"/>
                  </a:lnTo>
                  <a:lnTo>
                    <a:pt x="1324" y="151"/>
                  </a:lnTo>
                  <a:lnTo>
                    <a:pt x="1324" y="151"/>
                  </a:lnTo>
                  <a:lnTo>
                    <a:pt x="1315" y="137"/>
                  </a:lnTo>
                  <a:lnTo>
                    <a:pt x="1315" y="123"/>
                  </a:lnTo>
                  <a:lnTo>
                    <a:pt x="1315" y="109"/>
                  </a:lnTo>
                  <a:lnTo>
                    <a:pt x="1315" y="95"/>
                  </a:lnTo>
                  <a:lnTo>
                    <a:pt x="1315" y="95"/>
                  </a:lnTo>
                  <a:lnTo>
                    <a:pt x="1324" y="80"/>
                  </a:lnTo>
                  <a:lnTo>
                    <a:pt x="1339" y="61"/>
                  </a:lnTo>
                  <a:lnTo>
                    <a:pt x="1367" y="38"/>
                  </a:lnTo>
                  <a:lnTo>
                    <a:pt x="1395" y="24"/>
                  </a:lnTo>
                  <a:lnTo>
                    <a:pt x="1405" y="14"/>
                  </a:lnTo>
                  <a:lnTo>
                    <a:pt x="1400" y="0"/>
                  </a:lnTo>
                  <a:lnTo>
                    <a:pt x="1400" y="0"/>
                  </a:lnTo>
                  <a:lnTo>
                    <a:pt x="1386" y="9"/>
                  </a:lnTo>
                  <a:lnTo>
                    <a:pt x="1357" y="28"/>
                  </a:lnTo>
                  <a:lnTo>
                    <a:pt x="1324" y="52"/>
                  </a:lnTo>
                  <a:lnTo>
                    <a:pt x="1310" y="71"/>
                  </a:lnTo>
                  <a:lnTo>
                    <a:pt x="1301" y="90"/>
                  </a:lnTo>
                  <a:lnTo>
                    <a:pt x="1301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4"/>
            <p:cNvSpPr/>
            <p:nvPr/>
          </p:nvSpPr>
          <p:spPr>
            <a:xfrm flipH="1">
              <a:off x="3075480" y="1377720"/>
              <a:ext cx="1335960" cy="1416960"/>
            </a:xfrm>
            <a:custGeom>
              <a:avLst/>
              <a:gdLst/>
              <a:ahLst/>
              <a:rect l="l" t="t" r="r" b="b"/>
              <a:pathLst>
                <a:path w="662" h="634">
                  <a:moveTo>
                    <a:pt x="284" y="0"/>
                  </a:moveTo>
                  <a:lnTo>
                    <a:pt x="284" y="0"/>
                  </a:lnTo>
                  <a:lnTo>
                    <a:pt x="331" y="0"/>
                  </a:lnTo>
                  <a:lnTo>
                    <a:pt x="378" y="9"/>
                  </a:lnTo>
                  <a:lnTo>
                    <a:pt x="378" y="9"/>
                  </a:lnTo>
                  <a:lnTo>
                    <a:pt x="440" y="28"/>
                  </a:lnTo>
                  <a:lnTo>
                    <a:pt x="492" y="52"/>
                  </a:lnTo>
                  <a:lnTo>
                    <a:pt x="492" y="52"/>
                  </a:lnTo>
                  <a:lnTo>
                    <a:pt x="534" y="71"/>
                  </a:lnTo>
                  <a:lnTo>
                    <a:pt x="567" y="99"/>
                  </a:lnTo>
                  <a:lnTo>
                    <a:pt x="596" y="128"/>
                  </a:lnTo>
                  <a:lnTo>
                    <a:pt x="615" y="156"/>
                  </a:lnTo>
                  <a:lnTo>
                    <a:pt x="634" y="184"/>
                  </a:lnTo>
                  <a:lnTo>
                    <a:pt x="643" y="213"/>
                  </a:lnTo>
                  <a:lnTo>
                    <a:pt x="653" y="241"/>
                  </a:lnTo>
                  <a:lnTo>
                    <a:pt x="657" y="269"/>
                  </a:lnTo>
                  <a:lnTo>
                    <a:pt x="657" y="269"/>
                  </a:lnTo>
                  <a:lnTo>
                    <a:pt x="662" y="326"/>
                  </a:lnTo>
                  <a:lnTo>
                    <a:pt x="662" y="369"/>
                  </a:lnTo>
                  <a:lnTo>
                    <a:pt x="653" y="435"/>
                  </a:lnTo>
                  <a:lnTo>
                    <a:pt x="648" y="539"/>
                  </a:lnTo>
                  <a:lnTo>
                    <a:pt x="648" y="539"/>
                  </a:lnTo>
                  <a:lnTo>
                    <a:pt x="648" y="563"/>
                  </a:lnTo>
                  <a:lnTo>
                    <a:pt x="648" y="563"/>
                  </a:lnTo>
                  <a:lnTo>
                    <a:pt x="610" y="563"/>
                  </a:lnTo>
                  <a:lnTo>
                    <a:pt x="572" y="567"/>
                  </a:lnTo>
                  <a:lnTo>
                    <a:pt x="530" y="577"/>
                  </a:lnTo>
                  <a:lnTo>
                    <a:pt x="492" y="591"/>
                  </a:lnTo>
                  <a:lnTo>
                    <a:pt x="492" y="591"/>
                  </a:lnTo>
                  <a:lnTo>
                    <a:pt x="487" y="615"/>
                  </a:lnTo>
                  <a:lnTo>
                    <a:pt x="482" y="634"/>
                  </a:lnTo>
                  <a:lnTo>
                    <a:pt x="482" y="634"/>
                  </a:lnTo>
                  <a:lnTo>
                    <a:pt x="468" y="634"/>
                  </a:lnTo>
                  <a:lnTo>
                    <a:pt x="440" y="624"/>
                  </a:lnTo>
                  <a:lnTo>
                    <a:pt x="397" y="610"/>
                  </a:lnTo>
                  <a:lnTo>
                    <a:pt x="336" y="586"/>
                  </a:lnTo>
                  <a:lnTo>
                    <a:pt x="250" y="553"/>
                  </a:lnTo>
                  <a:lnTo>
                    <a:pt x="142" y="501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5" y="355"/>
                  </a:lnTo>
                  <a:lnTo>
                    <a:pt x="19" y="284"/>
                  </a:lnTo>
                  <a:lnTo>
                    <a:pt x="42" y="222"/>
                  </a:lnTo>
                  <a:lnTo>
                    <a:pt x="71" y="165"/>
                  </a:lnTo>
                  <a:lnTo>
                    <a:pt x="113" y="113"/>
                  </a:lnTo>
                  <a:lnTo>
                    <a:pt x="161" y="66"/>
                  </a:lnTo>
                  <a:lnTo>
                    <a:pt x="217" y="28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45"/>
            <p:cNvSpPr/>
            <p:nvPr/>
          </p:nvSpPr>
          <p:spPr>
            <a:xfrm flipH="1">
              <a:off x="3819960" y="1409400"/>
              <a:ext cx="551880" cy="952200"/>
            </a:xfrm>
            <a:custGeom>
              <a:avLst/>
              <a:gdLst/>
              <a:ahLst/>
              <a:rect l="l" t="t" r="r" b="b"/>
              <a:pathLst>
                <a:path w="274" h="426">
                  <a:moveTo>
                    <a:pt x="269" y="0"/>
                  </a:moveTo>
                  <a:lnTo>
                    <a:pt x="269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74" y="5"/>
                  </a:lnTo>
                  <a:lnTo>
                    <a:pt x="231" y="19"/>
                  </a:lnTo>
                  <a:lnTo>
                    <a:pt x="194" y="38"/>
                  </a:lnTo>
                  <a:lnTo>
                    <a:pt x="161" y="62"/>
                  </a:lnTo>
                  <a:lnTo>
                    <a:pt x="132" y="90"/>
                  </a:lnTo>
                  <a:lnTo>
                    <a:pt x="109" y="123"/>
                  </a:lnTo>
                  <a:lnTo>
                    <a:pt x="85" y="151"/>
                  </a:lnTo>
                  <a:lnTo>
                    <a:pt x="71" y="185"/>
                  </a:lnTo>
                  <a:lnTo>
                    <a:pt x="52" y="218"/>
                  </a:lnTo>
                  <a:lnTo>
                    <a:pt x="33" y="284"/>
                  </a:lnTo>
                  <a:lnTo>
                    <a:pt x="19" y="345"/>
                  </a:lnTo>
                  <a:lnTo>
                    <a:pt x="4" y="426"/>
                  </a:lnTo>
                  <a:lnTo>
                    <a:pt x="4" y="426"/>
                  </a:lnTo>
                  <a:lnTo>
                    <a:pt x="0" y="421"/>
                  </a:lnTo>
                  <a:lnTo>
                    <a:pt x="0" y="421"/>
                  </a:lnTo>
                  <a:lnTo>
                    <a:pt x="4" y="388"/>
                  </a:lnTo>
                  <a:lnTo>
                    <a:pt x="9" y="336"/>
                  </a:lnTo>
                  <a:lnTo>
                    <a:pt x="23" y="274"/>
                  </a:lnTo>
                  <a:lnTo>
                    <a:pt x="47" y="208"/>
                  </a:lnTo>
                  <a:lnTo>
                    <a:pt x="66" y="175"/>
                  </a:lnTo>
                  <a:lnTo>
                    <a:pt x="85" y="142"/>
                  </a:lnTo>
                  <a:lnTo>
                    <a:pt x="104" y="114"/>
                  </a:lnTo>
                  <a:lnTo>
                    <a:pt x="127" y="80"/>
                  </a:lnTo>
                  <a:lnTo>
                    <a:pt x="161" y="57"/>
                  </a:lnTo>
                  <a:lnTo>
                    <a:pt x="189" y="33"/>
                  </a:lnTo>
                  <a:lnTo>
                    <a:pt x="227" y="14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46"/>
            <p:cNvSpPr/>
            <p:nvPr/>
          </p:nvSpPr>
          <p:spPr>
            <a:xfrm flipH="1">
              <a:off x="3809520" y="1431000"/>
              <a:ext cx="478080" cy="979920"/>
            </a:xfrm>
            <a:custGeom>
              <a:avLst/>
              <a:gdLst/>
              <a:ahLst/>
              <a:rect l="l" t="t" r="r" b="b"/>
              <a:pathLst>
                <a:path w="237" h="439">
                  <a:moveTo>
                    <a:pt x="232" y="0"/>
                  </a:moveTo>
                  <a:lnTo>
                    <a:pt x="232" y="0"/>
                  </a:lnTo>
                  <a:lnTo>
                    <a:pt x="237" y="4"/>
                  </a:lnTo>
                  <a:lnTo>
                    <a:pt x="237" y="4"/>
                  </a:lnTo>
                  <a:lnTo>
                    <a:pt x="237" y="9"/>
                  </a:lnTo>
                  <a:lnTo>
                    <a:pt x="237" y="9"/>
                  </a:lnTo>
                  <a:lnTo>
                    <a:pt x="199" y="28"/>
                  </a:lnTo>
                  <a:lnTo>
                    <a:pt x="166" y="52"/>
                  </a:lnTo>
                  <a:lnTo>
                    <a:pt x="133" y="75"/>
                  </a:lnTo>
                  <a:lnTo>
                    <a:pt x="109" y="104"/>
                  </a:lnTo>
                  <a:lnTo>
                    <a:pt x="85" y="132"/>
                  </a:lnTo>
                  <a:lnTo>
                    <a:pt x="71" y="165"/>
                  </a:lnTo>
                  <a:lnTo>
                    <a:pt x="52" y="198"/>
                  </a:lnTo>
                  <a:lnTo>
                    <a:pt x="43" y="227"/>
                  </a:lnTo>
                  <a:lnTo>
                    <a:pt x="24" y="293"/>
                  </a:lnTo>
                  <a:lnTo>
                    <a:pt x="14" y="350"/>
                  </a:lnTo>
                  <a:lnTo>
                    <a:pt x="10" y="402"/>
                  </a:lnTo>
                  <a:lnTo>
                    <a:pt x="10" y="439"/>
                  </a:lnTo>
                  <a:lnTo>
                    <a:pt x="10" y="439"/>
                  </a:lnTo>
                  <a:lnTo>
                    <a:pt x="0" y="435"/>
                  </a:lnTo>
                  <a:lnTo>
                    <a:pt x="0" y="435"/>
                  </a:lnTo>
                  <a:lnTo>
                    <a:pt x="0" y="397"/>
                  </a:lnTo>
                  <a:lnTo>
                    <a:pt x="5" y="345"/>
                  </a:lnTo>
                  <a:lnTo>
                    <a:pt x="14" y="283"/>
                  </a:lnTo>
                  <a:lnTo>
                    <a:pt x="33" y="222"/>
                  </a:lnTo>
                  <a:lnTo>
                    <a:pt x="48" y="189"/>
                  </a:lnTo>
                  <a:lnTo>
                    <a:pt x="62" y="156"/>
                  </a:lnTo>
                  <a:lnTo>
                    <a:pt x="81" y="122"/>
                  </a:lnTo>
                  <a:lnTo>
                    <a:pt x="104" y="94"/>
                  </a:lnTo>
                  <a:lnTo>
                    <a:pt x="133" y="66"/>
                  </a:lnTo>
                  <a:lnTo>
                    <a:pt x="161" y="42"/>
                  </a:lnTo>
                  <a:lnTo>
                    <a:pt x="194" y="18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47"/>
            <p:cNvSpPr/>
            <p:nvPr/>
          </p:nvSpPr>
          <p:spPr>
            <a:xfrm flipH="1">
              <a:off x="1480680" y="5556600"/>
              <a:ext cx="421560" cy="812520"/>
            </a:xfrm>
            <a:custGeom>
              <a:avLst/>
              <a:gdLst/>
              <a:ahLst/>
              <a:rect l="l" t="t" r="r" b="b"/>
              <a:pathLst>
                <a:path w="208" h="364">
                  <a:moveTo>
                    <a:pt x="66" y="364"/>
                  </a:moveTo>
                  <a:lnTo>
                    <a:pt x="208" y="355"/>
                  </a:lnTo>
                  <a:lnTo>
                    <a:pt x="137" y="0"/>
                  </a:lnTo>
                  <a:lnTo>
                    <a:pt x="0" y="5"/>
                  </a:lnTo>
                  <a:lnTo>
                    <a:pt x="66" y="36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48"/>
            <p:cNvSpPr/>
            <p:nvPr/>
          </p:nvSpPr>
          <p:spPr>
            <a:xfrm flipH="1">
              <a:off x="1436040" y="4920840"/>
              <a:ext cx="714240" cy="10486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99" y="34"/>
                  </a:moveTo>
                  <a:lnTo>
                    <a:pt x="132" y="24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36" y="0"/>
                  </a:lnTo>
                  <a:lnTo>
                    <a:pt x="260" y="10"/>
                  </a:lnTo>
                  <a:lnTo>
                    <a:pt x="284" y="24"/>
                  </a:lnTo>
                  <a:lnTo>
                    <a:pt x="302" y="43"/>
                  </a:lnTo>
                  <a:lnTo>
                    <a:pt x="321" y="71"/>
                  </a:lnTo>
                  <a:lnTo>
                    <a:pt x="336" y="109"/>
                  </a:lnTo>
                  <a:lnTo>
                    <a:pt x="350" y="147"/>
                  </a:lnTo>
                  <a:lnTo>
                    <a:pt x="354" y="190"/>
                  </a:lnTo>
                  <a:lnTo>
                    <a:pt x="354" y="190"/>
                  </a:lnTo>
                  <a:lnTo>
                    <a:pt x="354" y="227"/>
                  </a:lnTo>
                  <a:lnTo>
                    <a:pt x="354" y="261"/>
                  </a:lnTo>
                  <a:lnTo>
                    <a:pt x="350" y="298"/>
                  </a:lnTo>
                  <a:lnTo>
                    <a:pt x="345" y="327"/>
                  </a:lnTo>
                  <a:lnTo>
                    <a:pt x="336" y="355"/>
                  </a:lnTo>
                  <a:lnTo>
                    <a:pt x="321" y="384"/>
                  </a:lnTo>
                  <a:lnTo>
                    <a:pt x="307" y="402"/>
                  </a:lnTo>
                  <a:lnTo>
                    <a:pt x="288" y="421"/>
                  </a:lnTo>
                  <a:lnTo>
                    <a:pt x="288" y="421"/>
                  </a:lnTo>
                  <a:lnTo>
                    <a:pt x="274" y="431"/>
                  </a:lnTo>
                  <a:lnTo>
                    <a:pt x="260" y="440"/>
                  </a:lnTo>
                  <a:lnTo>
                    <a:pt x="146" y="469"/>
                  </a:lnTo>
                  <a:lnTo>
                    <a:pt x="146" y="469"/>
                  </a:lnTo>
                  <a:lnTo>
                    <a:pt x="123" y="469"/>
                  </a:lnTo>
                  <a:lnTo>
                    <a:pt x="99" y="464"/>
                  </a:lnTo>
                  <a:lnTo>
                    <a:pt x="75" y="445"/>
                  </a:lnTo>
                  <a:lnTo>
                    <a:pt x="56" y="426"/>
                  </a:lnTo>
                  <a:lnTo>
                    <a:pt x="38" y="398"/>
                  </a:lnTo>
                  <a:lnTo>
                    <a:pt x="23" y="365"/>
                  </a:lnTo>
                  <a:lnTo>
                    <a:pt x="9" y="322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0" y="237"/>
                  </a:lnTo>
                  <a:lnTo>
                    <a:pt x="4" y="194"/>
                  </a:lnTo>
                  <a:lnTo>
                    <a:pt x="9" y="152"/>
                  </a:lnTo>
                  <a:lnTo>
                    <a:pt x="23" y="119"/>
                  </a:lnTo>
                  <a:lnTo>
                    <a:pt x="38" y="86"/>
                  </a:lnTo>
                  <a:lnTo>
                    <a:pt x="56" y="62"/>
                  </a:lnTo>
                  <a:lnTo>
                    <a:pt x="75" y="43"/>
                  </a:lnTo>
                  <a:lnTo>
                    <a:pt x="99" y="34"/>
                  </a:lnTo>
                  <a:lnTo>
                    <a:pt x="99" y="3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49"/>
            <p:cNvSpPr/>
            <p:nvPr/>
          </p:nvSpPr>
          <p:spPr>
            <a:xfrm flipH="1">
              <a:off x="824040" y="4497840"/>
              <a:ext cx="1116720" cy="1914840"/>
            </a:xfrm>
            <a:custGeom>
              <a:avLst/>
              <a:gdLst/>
              <a:ahLst/>
              <a:rect l="l" t="t" r="r" b="b"/>
              <a:pathLst>
                <a:path w="553" h="856">
                  <a:moveTo>
                    <a:pt x="0" y="856"/>
                  </a:moveTo>
                  <a:lnTo>
                    <a:pt x="0" y="856"/>
                  </a:lnTo>
                  <a:lnTo>
                    <a:pt x="19" y="823"/>
                  </a:lnTo>
                  <a:lnTo>
                    <a:pt x="38" y="800"/>
                  </a:lnTo>
                  <a:lnTo>
                    <a:pt x="61" y="776"/>
                  </a:lnTo>
                  <a:lnTo>
                    <a:pt x="90" y="743"/>
                  </a:lnTo>
                  <a:lnTo>
                    <a:pt x="90" y="743"/>
                  </a:lnTo>
                  <a:lnTo>
                    <a:pt x="99" y="719"/>
                  </a:lnTo>
                  <a:lnTo>
                    <a:pt x="109" y="686"/>
                  </a:lnTo>
                  <a:lnTo>
                    <a:pt x="123" y="596"/>
                  </a:lnTo>
                  <a:lnTo>
                    <a:pt x="127" y="487"/>
                  </a:lnTo>
                  <a:lnTo>
                    <a:pt x="132" y="369"/>
                  </a:lnTo>
                  <a:lnTo>
                    <a:pt x="132" y="142"/>
                  </a:lnTo>
                  <a:lnTo>
                    <a:pt x="142" y="62"/>
                  </a:lnTo>
                  <a:lnTo>
                    <a:pt x="142" y="33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98" y="0"/>
                  </a:lnTo>
                  <a:lnTo>
                    <a:pt x="250" y="0"/>
                  </a:lnTo>
                  <a:lnTo>
                    <a:pt x="312" y="5"/>
                  </a:lnTo>
                  <a:lnTo>
                    <a:pt x="312" y="5"/>
                  </a:lnTo>
                  <a:lnTo>
                    <a:pt x="392" y="19"/>
                  </a:lnTo>
                  <a:lnTo>
                    <a:pt x="421" y="24"/>
                  </a:lnTo>
                  <a:lnTo>
                    <a:pt x="440" y="29"/>
                  </a:lnTo>
                  <a:lnTo>
                    <a:pt x="440" y="29"/>
                  </a:lnTo>
                  <a:lnTo>
                    <a:pt x="449" y="38"/>
                  </a:lnTo>
                  <a:lnTo>
                    <a:pt x="454" y="52"/>
                  </a:lnTo>
                  <a:lnTo>
                    <a:pt x="468" y="85"/>
                  </a:lnTo>
                  <a:lnTo>
                    <a:pt x="477" y="133"/>
                  </a:lnTo>
                  <a:lnTo>
                    <a:pt x="477" y="133"/>
                  </a:lnTo>
                  <a:lnTo>
                    <a:pt x="511" y="161"/>
                  </a:lnTo>
                  <a:lnTo>
                    <a:pt x="534" y="189"/>
                  </a:lnTo>
                  <a:lnTo>
                    <a:pt x="548" y="218"/>
                  </a:lnTo>
                  <a:lnTo>
                    <a:pt x="553" y="241"/>
                  </a:lnTo>
                  <a:lnTo>
                    <a:pt x="544" y="270"/>
                  </a:lnTo>
                  <a:lnTo>
                    <a:pt x="525" y="293"/>
                  </a:lnTo>
                  <a:lnTo>
                    <a:pt x="496" y="317"/>
                  </a:lnTo>
                  <a:lnTo>
                    <a:pt x="454" y="345"/>
                  </a:lnTo>
                  <a:lnTo>
                    <a:pt x="336" y="771"/>
                  </a:lnTo>
                  <a:lnTo>
                    <a:pt x="364" y="818"/>
                  </a:lnTo>
                  <a:lnTo>
                    <a:pt x="364" y="818"/>
                  </a:lnTo>
                  <a:lnTo>
                    <a:pt x="198" y="837"/>
                  </a:lnTo>
                  <a:lnTo>
                    <a:pt x="0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0"/>
            <p:cNvSpPr/>
            <p:nvPr/>
          </p:nvSpPr>
          <p:spPr>
            <a:xfrm flipH="1">
              <a:off x="1157400" y="3926880"/>
              <a:ext cx="322920" cy="930960"/>
            </a:xfrm>
            <a:custGeom>
              <a:avLst/>
              <a:gdLst/>
              <a:ahLst/>
              <a:rect l="l" t="t" r="r" b="b"/>
              <a:pathLst>
                <a:path w="161" h="416">
                  <a:moveTo>
                    <a:pt x="19" y="0"/>
                  </a:moveTo>
                  <a:lnTo>
                    <a:pt x="19" y="0"/>
                  </a:lnTo>
                  <a:lnTo>
                    <a:pt x="9" y="71"/>
                  </a:lnTo>
                  <a:lnTo>
                    <a:pt x="5" y="151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19" y="284"/>
                  </a:lnTo>
                  <a:lnTo>
                    <a:pt x="61" y="340"/>
                  </a:lnTo>
                  <a:lnTo>
                    <a:pt x="90" y="373"/>
                  </a:lnTo>
                  <a:lnTo>
                    <a:pt x="113" y="397"/>
                  </a:lnTo>
                  <a:lnTo>
                    <a:pt x="137" y="411"/>
                  </a:lnTo>
                  <a:lnTo>
                    <a:pt x="146" y="416"/>
                  </a:lnTo>
                  <a:lnTo>
                    <a:pt x="156" y="411"/>
                  </a:lnTo>
                  <a:lnTo>
                    <a:pt x="156" y="411"/>
                  </a:lnTo>
                  <a:lnTo>
                    <a:pt x="161" y="392"/>
                  </a:lnTo>
                  <a:lnTo>
                    <a:pt x="161" y="340"/>
                  </a:lnTo>
                  <a:lnTo>
                    <a:pt x="161" y="274"/>
                  </a:lnTo>
                  <a:lnTo>
                    <a:pt x="161" y="274"/>
                  </a:lnTo>
                  <a:lnTo>
                    <a:pt x="146" y="265"/>
                  </a:lnTo>
                  <a:lnTo>
                    <a:pt x="132" y="255"/>
                  </a:lnTo>
                  <a:lnTo>
                    <a:pt x="118" y="232"/>
                  </a:lnTo>
                  <a:lnTo>
                    <a:pt x="104" y="203"/>
                  </a:lnTo>
                  <a:lnTo>
                    <a:pt x="94" y="165"/>
                  </a:lnTo>
                  <a:lnTo>
                    <a:pt x="94" y="109"/>
                  </a:lnTo>
                  <a:lnTo>
                    <a:pt x="104" y="4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1"/>
            <p:cNvSpPr/>
            <p:nvPr/>
          </p:nvSpPr>
          <p:spPr>
            <a:xfrm flipH="1">
              <a:off x="1472040" y="4497840"/>
              <a:ext cx="317520" cy="582480"/>
            </a:xfrm>
            <a:custGeom>
              <a:avLst/>
              <a:gdLst/>
              <a:ahLst/>
              <a:rect l="l" t="t" r="r" b="b"/>
              <a:pathLst>
                <a:path w="157" h="260">
                  <a:moveTo>
                    <a:pt x="10" y="137"/>
                  </a:moveTo>
                  <a:lnTo>
                    <a:pt x="10" y="137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5" y="62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24" y="24"/>
                  </a:lnTo>
                  <a:lnTo>
                    <a:pt x="38" y="19"/>
                  </a:lnTo>
                  <a:lnTo>
                    <a:pt x="67" y="5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10"/>
                  </a:lnTo>
                  <a:lnTo>
                    <a:pt x="109" y="14"/>
                  </a:lnTo>
                  <a:lnTo>
                    <a:pt x="105" y="19"/>
                  </a:lnTo>
                  <a:lnTo>
                    <a:pt x="105" y="24"/>
                  </a:lnTo>
                  <a:lnTo>
                    <a:pt x="157" y="213"/>
                  </a:lnTo>
                  <a:lnTo>
                    <a:pt x="157" y="213"/>
                  </a:lnTo>
                  <a:lnTo>
                    <a:pt x="105" y="237"/>
                  </a:lnTo>
                  <a:lnTo>
                    <a:pt x="52" y="260"/>
                  </a:lnTo>
                  <a:lnTo>
                    <a:pt x="1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2"/>
            <p:cNvSpPr/>
            <p:nvPr/>
          </p:nvSpPr>
          <p:spPr>
            <a:xfrm flipH="1">
              <a:off x="1157400" y="5048640"/>
              <a:ext cx="525240" cy="1301040"/>
            </a:xfrm>
            <a:custGeom>
              <a:avLst/>
              <a:gdLst/>
              <a:ahLst/>
              <a:rect l="l" t="t" r="r" b="b"/>
              <a:pathLst>
                <a:path w="261" h="582">
                  <a:moveTo>
                    <a:pt x="171" y="393"/>
                  </a:moveTo>
                  <a:lnTo>
                    <a:pt x="100" y="0"/>
                  </a:lnTo>
                  <a:lnTo>
                    <a:pt x="0" y="14"/>
                  </a:lnTo>
                  <a:lnTo>
                    <a:pt x="100" y="402"/>
                  </a:lnTo>
                  <a:lnTo>
                    <a:pt x="204" y="582"/>
                  </a:lnTo>
                  <a:lnTo>
                    <a:pt x="261" y="572"/>
                  </a:lnTo>
                  <a:lnTo>
                    <a:pt x="171" y="393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3"/>
            <p:cNvSpPr/>
            <p:nvPr/>
          </p:nvSpPr>
          <p:spPr>
            <a:xfrm flipH="1">
              <a:off x="966960" y="2848320"/>
              <a:ext cx="1001160" cy="614160"/>
            </a:xfrm>
            <a:custGeom>
              <a:avLst/>
              <a:gdLst/>
              <a:ahLst/>
              <a:rect l="l" t="t" r="r" b="b"/>
              <a:pathLst>
                <a:path w="496" h="275">
                  <a:moveTo>
                    <a:pt x="496" y="95"/>
                  </a:moveTo>
                  <a:lnTo>
                    <a:pt x="496" y="95"/>
                  </a:lnTo>
                  <a:lnTo>
                    <a:pt x="473" y="76"/>
                  </a:lnTo>
                  <a:lnTo>
                    <a:pt x="473" y="76"/>
                  </a:lnTo>
                  <a:lnTo>
                    <a:pt x="454" y="57"/>
                  </a:lnTo>
                  <a:lnTo>
                    <a:pt x="430" y="43"/>
                  </a:lnTo>
                  <a:lnTo>
                    <a:pt x="406" y="29"/>
                  </a:lnTo>
                  <a:lnTo>
                    <a:pt x="378" y="15"/>
                  </a:lnTo>
                  <a:lnTo>
                    <a:pt x="345" y="5"/>
                  </a:lnTo>
                  <a:lnTo>
                    <a:pt x="307" y="0"/>
                  </a:lnTo>
                  <a:lnTo>
                    <a:pt x="269" y="0"/>
                  </a:lnTo>
                  <a:lnTo>
                    <a:pt x="227" y="10"/>
                  </a:lnTo>
                  <a:lnTo>
                    <a:pt x="227" y="10"/>
                  </a:lnTo>
                  <a:lnTo>
                    <a:pt x="175" y="24"/>
                  </a:lnTo>
                  <a:lnTo>
                    <a:pt x="123" y="43"/>
                  </a:lnTo>
                  <a:lnTo>
                    <a:pt x="123" y="43"/>
                  </a:lnTo>
                  <a:lnTo>
                    <a:pt x="80" y="6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19" y="142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28" y="232"/>
                  </a:lnTo>
                  <a:lnTo>
                    <a:pt x="56" y="251"/>
                  </a:lnTo>
                  <a:lnTo>
                    <a:pt x="89" y="265"/>
                  </a:lnTo>
                  <a:lnTo>
                    <a:pt x="118" y="270"/>
                  </a:lnTo>
                  <a:lnTo>
                    <a:pt x="151" y="275"/>
                  </a:lnTo>
                  <a:lnTo>
                    <a:pt x="184" y="270"/>
                  </a:lnTo>
                  <a:lnTo>
                    <a:pt x="212" y="260"/>
                  </a:lnTo>
                  <a:lnTo>
                    <a:pt x="246" y="251"/>
                  </a:lnTo>
                  <a:lnTo>
                    <a:pt x="307" y="218"/>
                  </a:lnTo>
                  <a:lnTo>
                    <a:pt x="373" y="175"/>
                  </a:lnTo>
                  <a:lnTo>
                    <a:pt x="496" y="95"/>
                  </a:lnTo>
                  <a:lnTo>
                    <a:pt x="496" y="95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4"/>
            <p:cNvSpPr/>
            <p:nvPr/>
          </p:nvSpPr>
          <p:spPr>
            <a:xfrm flipH="1">
              <a:off x="879840" y="3061080"/>
              <a:ext cx="1107000" cy="549000"/>
            </a:xfrm>
            <a:custGeom>
              <a:avLst/>
              <a:gdLst/>
              <a:ahLst/>
              <a:rect l="l" t="t" r="r" b="b"/>
              <a:pathLst>
                <a:path w="549" h="246">
                  <a:moveTo>
                    <a:pt x="549" y="61"/>
                  </a:moveTo>
                  <a:lnTo>
                    <a:pt x="549" y="61"/>
                  </a:lnTo>
                  <a:lnTo>
                    <a:pt x="525" y="28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383" y="80"/>
                  </a:lnTo>
                  <a:lnTo>
                    <a:pt x="317" y="123"/>
                  </a:lnTo>
                  <a:lnTo>
                    <a:pt x="256" y="156"/>
                  </a:lnTo>
                  <a:lnTo>
                    <a:pt x="222" y="165"/>
                  </a:lnTo>
                  <a:lnTo>
                    <a:pt x="194" y="175"/>
                  </a:lnTo>
                  <a:lnTo>
                    <a:pt x="161" y="180"/>
                  </a:lnTo>
                  <a:lnTo>
                    <a:pt x="128" y="175"/>
                  </a:lnTo>
                  <a:lnTo>
                    <a:pt x="99" y="170"/>
                  </a:lnTo>
                  <a:lnTo>
                    <a:pt x="66" y="156"/>
                  </a:lnTo>
                  <a:lnTo>
                    <a:pt x="38" y="137"/>
                  </a:lnTo>
                  <a:lnTo>
                    <a:pt x="10" y="109"/>
                  </a:lnTo>
                  <a:lnTo>
                    <a:pt x="10" y="109"/>
                  </a:lnTo>
                  <a:lnTo>
                    <a:pt x="5" y="14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19" y="208"/>
                  </a:lnTo>
                  <a:lnTo>
                    <a:pt x="43" y="227"/>
                  </a:lnTo>
                  <a:lnTo>
                    <a:pt x="66" y="241"/>
                  </a:lnTo>
                  <a:lnTo>
                    <a:pt x="99" y="246"/>
                  </a:lnTo>
                  <a:lnTo>
                    <a:pt x="133" y="246"/>
                  </a:lnTo>
                  <a:lnTo>
                    <a:pt x="170" y="241"/>
                  </a:lnTo>
                  <a:lnTo>
                    <a:pt x="208" y="232"/>
                  </a:lnTo>
                  <a:lnTo>
                    <a:pt x="246" y="222"/>
                  </a:lnTo>
                  <a:lnTo>
                    <a:pt x="326" y="189"/>
                  </a:lnTo>
                  <a:lnTo>
                    <a:pt x="407" y="147"/>
                  </a:lnTo>
                  <a:lnTo>
                    <a:pt x="483" y="104"/>
                  </a:lnTo>
                  <a:lnTo>
                    <a:pt x="549" y="61"/>
                  </a:lnTo>
                  <a:lnTo>
                    <a:pt x="549" y="61"/>
                  </a:lnTo>
                  <a:close/>
                </a:path>
              </a:pathLst>
            </a:custGeom>
            <a:solidFill>
              <a:srgbClr val="332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5"/>
            <p:cNvSpPr/>
            <p:nvPr/>
          </p:nvSpPr>
          <p:spPr>
            <a:xfrm flipH="1">
              <a:off x="489240" y="3196800"/>
              <a:ext cx="1509840" cy="1037160"/>
            </a:xfrm>
            <a:custGeom>
              <a:avLst/>
              <a:gdLst/>
              <a:ahLst/>
              <a:rect l="l" t="t" r="r" b="b"/>
              <a:pathLst>
                <a:path w="748" h="464">
                  <a:moveTo>
                    <a:pt x="634" y="123"/>
                  </a:moveTo>
                  <a:lnTo>
                    <a:pt x="634" y="123"/>
                  </a:lnTo>
                  <a:lnTo>
                    <a:pt x="582" y="48"/>
                  </a:lnTo>
                  <a:lnTo>
                    <a:pt x="554" y="0"/>
                  </a:lnTo>
                  <a:lnTo>
                    <a:pt x="554" y="0"/>
                  </a:lnTo>
                  <a:lnTo>
                    <a:pt x="488" y="38"/>
                  </a:lnTo>
                  <a:lnTo>
                    <a:pt x="412" y="81"/>
                  </a:lnTo>
                  <a:lnTo>
                    <a:pt x="336" y="119"/>
                  </a:lnTo>
                  <a:lnTo>
                    <a:pt x="256" y="147"/>
                  </a:lnTo>
                  <a:lnTo>
                    <a:pt x="218" y="157"/>
                  </a:lnTo>
                  <a:lnTo>
                    <a:pt x="180" y="166"/>
                  </a:lnTo>
                  <a:lnTo>
                    <a:pt x="142" y="171"/>
                  </a:lnTo>
                  <a:lnTo>
                    <a:pt x="109" y="171"/>
                  </a:lnTo>
                  <a:lnTo>
                    <a:pt x="81" y="166"/>
                  </a:lnTo>
                  <a:lnTo>
                    <a:pt x="52" y="157"/>
                  </a:lnTo>
                  <a:lnTo>
                    <a:pt x="24" y="142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0" y="166"/>
                  </a:lnTo>
                  <a:lnTo>
                    <a:pt x="5" y="213"/>
                  </a:lnTo>
                  <a:lnTo>
                    <a:pt x="15" y="256"/>
                  </a:lnTo>
                  <a:lnTo>
                    <a:pt x="24" y="303"/>
                  </a:lnTo>
                  <a:lnTo>
                    <a:pt x="38" y="346"/>
                  </a:lnTo>
                  <a:lnTo>
                    <a:pt x="57" y="388"/>
                  </a:lnTo>
                  <a:lnTo>
                    <a:pt x="81" y="426"/>
                  </a:lnTo>
                  <a:lnTo>
                    <a:pt x="109" y="464"/>
                  </a:lnTo>
                  <a:lnTo>
                    <a:pt x="109" y="464"/>
                  </a:lnTo>
                  <a:lnTo>
                    <a:pt x="279" y="431"/>
                  </a:lnTo>
                  <a:lnTo>
                    <a:pt x="365" y="407"/>
                  </a:lnTo>
                  <a:lnTo>
                    <a:pt x="450" y="384"/>
                  </a:lnTo>
                  <a:lnTo>
                    <a:pt x="530" y="350"/>
                  </a:lnTo>
                  <a:lnTo>
                    <a:pt x="606" y="313"/>
                  </a:lnTo>
                  <a:lnTo>
                    <a:pt x="681" y="265"/>
                  </a:lnTo>
                  <a:lnTo>
                    <a:pt x="715" y="242"/>
                  </a:lnTo>
                  <a:lnTo>
                    <a:pt x="748" y="213"/>
                  </a:lnTo>
                  <a:lnTo>
                    <a:pt x="748" y="213"/>
                  </a:lnTo>
                  <a:lnTo>
                    <a:pt x="734" y="204"/>
                  </a:lnTo>
                  <a:lnTo>
                    <a:pt x="705" y="190"/>
                  </a:lnTo>
                  <a:lnTo>
                    <a:pt x="667" y="161"/>
                  </a:lnTo>
                  <a:lnTo>
                    <a:pt x="634" y="123"/>
                  </a:lnTo>
                  <a:lnTo>
                    <a:pt x="634" y="123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56"/>
            <p:cNvSpPr/>
            <p:nvPr/>
          </p:nvSpPr>
          <p:spPr>
            <a:xfrm flipH="1">
              <a:off x="814680" y="2954880"/>
              <a:ext cx="1020240" cy="972000"/>
            </a:xfrm>
            <a:custGeom>
              <a:avLst/>
              <a:gdLst/>
              <a:ahLst/>
              <a:rect l="l" t="t" r="r" b="b"/>
              <a:pathLst>
                <a:path w="506" h="435">
                  <a:moveTo>
                    <a:pt x="321" y="42"/>
                  </a:moveTo>
                  <a:lnTo>
                    <a:pt x="321" y="42"/>
                  </a:lnTo>
                  <a:lnTo>
                    <a:pt x="288" y="28"/>
                  </a:lnTo>
                  <a:lnTo>
                    <a:pt x="255" y="14"/>
                  </a:lnTo>
                  <a:lnTo>
                    <a:pt x="217" y="9"/>
                  </a:lnTo>
                  <a:lnTo>
                    <a:pt x="180" y="9"/>
                  </a:lnTo>
                  <a:lnTo>
                    <a:pt x="137" y="14"/>
                  </a:lnTo>
                  <a:lnTo>
                    <a:pt x="94" y="23"/>
                  </a:lnTo>
                  <a:lnTo>
                    <a:pt x="52" y="37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47" y="28"/>
                  </a:lnTo>
                  <a:lnTo>
                    <a:pt x="94" y="14"/>
                  </a:lnTo>
                  <a:lnTo>
                    <a:pt x="137" y="4"/>
                  </a:lnTo>
                  <a:lnTo>
                    <a:pt x="180" y="0"/>
                  </a:lnTo>
                  <a:lnTo>
                    <a:pt x="217" y="0"/>
                  </a:lnTo>
                  <a:lnTo>
                    <a:pt x="255" y="9"/>
                  </a:lnTo>
                  <a:lnTo>
                    <a:pt x="293" y="19"/>
                  </a:lnTo>
                  <a:lnTo>
                    <a:pt x="326" y="37"/>
                  </a:lnTo>
                  <a:lnTo>
                    <a:pt x="326" y="37"/>
                  </a:lnTo>
                  <a:lnTo>
                    <a:pt x="350" y="56"/>
                  </a:lnTo>
                  <a:lnTo>
                    <a:pt x="378" y="80"/>
                  </a:lnTo>
                  <a:lnTo>
                    <a:pt x="397" y="104"/>
                  </a:lnTo>
                  <a:lnTo>
                    <a:pt x="416" y="132"/>
                  </a:lnTo>
                  <a:lnTo>
                    <a:pt x="449" y="189"/>
                  </a:lnTo>
                  <a:lnTo>
                    <a:pt x="473" y="250"/>
                  </a:lnTo>
                  <a:lnTo>
                    <a:pt x="487" y="307"/>
                  </a:lnTo>
                  <a:lnTo>
                    <a:pt x="501" y="359"/>
                  </a:lnTo>
                  <a:lnTo>
                    <a:pt x="506" y="430"/>
                  </a:lnTo>
                  <a:lnTo>
                    <a:pt x="506" y="430"/>
                  </a:lnTo>
                  <a:lnTo>
                    <a:pt x="501" y="435"/>
                  </a:lnTo>
                  <a:lnTo>
                    <a:pt x="501" y="435"/>
                  </a:lnTo>
                  <a:lnTo>
                    <a:pt x="492" y="369"/>
                  </a:lnTo>
                  <a:lnTo>
                    <a:pt x="482" y="317"/>
                  </a:lnTo>
                  <a:lnTo>
                    <a:pt x="468" y="255"/>
                  </a:lnTo>
                  <a:lnTo>
                    <a:pt x="444" y="194"/>
                  </a:lnTo>
                  <a:lnTo>
                    <a:pt x="411" y="137"/>
                  </a:lnTo>
                  <a:lnTo>
                    <a:pt x="392" y="108"/>
                  </a:lnTo>
                  <a:lnTo>
                    <a:pt x="373" y="85"/>
                  </a:lnTo>
                  <a:lnTo>
                    <a:pt x="350" y="61"/>
                  </a:lnTo>
                  <a:lnTo>
                    <a:pt x="321" y="42"/>
                  </a:lnTo>
                  <a:lnTo>
                    <a:pt x="321" y="42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57"/>
            <p:cNvSpPr/>
            <p:nvPr/>
          </p:nvSpPr>
          <p:spPr>
            <a:xfrm flipH="1">
              <a:off x="710640" y="2932920"/>
              <a:ext cx="1144800" cy="928800"/>
            </a:xfrm>
            <a:custGeom>
              <a:avLst/>
              <a:gdLst/>
              <a:ahLst/>
              <a:rect l="l" t="t" r="r" b="b"/>
              <a:pathLst>
                <a:path w="568" h="416">
                  <a:moveTo>
                    <a:pt x="322" y="38"/>
                  </a:moveTo>
                  <a:lnTo>
                    <a:pt x="322" y="38"/>
                  </a:lnTo>
                  <a:lnTo>
                    <a:pt x="284" y="24"/>
                  </a:lnTo>
                  <a:lnTo>
                    <a:pt x="251" y="14"/>
                  </a:lnTo>
                  <a:lnTo>
                    <a:pt x="213" y="10"/>
                  </a:lnTo>
                  <a:lnTo>
                    <a:pt x="175" y="10"/>
                  </a:lnTo>
                  <a:lnTo>
                    <a:pt x="133" y="14"/>
                  </a:lnTo>
                  <a:lnTo>
                    <a:pt x="90" y="24"/>
                  </a:lnTo>
                  <a:lnTo>
                    <a:pt x="48" y="38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8" y="33"/>
                  </a:lnTo>
                  <a:lnTo>
                    <a:pt x="90" y="14"/>
                  </a:lnTo>
                  <a:lnTo>
                    <a:pt x="133" y="5"/>
                  </a:lnTo>
                  <a:lnTo>
                    <a:pt x="175" y="0"/>
                  </a:lnTo>
                  <a:lnTo>
                    <a:pt x="213" y="0"/>
                  </a:lnTo>
                  <a:lnTo>
                    <a:pt x="251" y="5"/>
                  </a:lnTo>
                  <a:lnTo>
                    <a:pt x="289" y="14"/>
                  </a:lnTo>
                  <a:lnTo>
                    <a:pt x="322" y="29"/>
                  </a:lnTo>
                  <a:lnTo>
                    <a:pt x="322" y="29"/>
                  </a:lnTo>
                  <a:lnTo>
                    <a:pt x="355" y="47"/>
                  </a:lnTo>
                  <a:lnTo>
                    <a:pt x="383" y="71"/>
                  </a:lnTo>
                  <a:lnTo>
                    <a:pt x="412" y="95"/>
                  </a:lnTo>
                  <a:lnTo>
                    <a:pt x="435" y="123"/>
                  </a:lnTo>
                  <a:lnTo>
                    <a:pt x="478" y="180"/>
                  </a:lnTo>
                  <a:lnTo>
                    <a:pt x="506" y="241"/>
                  </a:lnTo>
                  <a:lnTo>
                    <a:pt x="535" y="298"/>
                  </a:lnTo>
                  <a:lnTo>
                    <a:pt x="549" y="350"/>
                  </a:lnTo>
                  <a:lnTo>
                    <a:pt x="568" y="416"/>
                  </a:lnTo>
                  <a:lnTo>
                    <a:pt x="568" y="416"/>
                  </a:lnTo>
                  <a:lnTo>
                    <a:pt x="558" y="416"/>
                  </a:lnTo>
                  <a:lnTo>
                    <a:pt x="558" y="416"/>
                  </a:lnTo>
                  <a:lnTo>
                    <a:pt x="544" y="360"/>
                  </a:lnTo>
                  <a:lnTo>
                    <a:pt x="530" y="308"/>
                  </a:lnTo>
                  <a:lnTo>
                    <a:pt x="506" y="251"/>
                  </a:lnTo>
                  <a:lnTo>
                    <a:pt x="473" y="189"/>
                  </a:lnTo>
                  <a:lnTo>
                    <a:pt x="431" y="128"/>
                  </a:lnTo>
                  <a:lnTo>
                    <a:pt x="407" y="104"/>
                  </a:lnTo>
                  <a:lnTo>
                    <a:pt x="383" y="76"/>
                  </a:lnTo>
                  <a:lnTo>
                    <a:pt x="350" y="57"/>
                  </a:lnTo>
                  <a:lnTo>
                    <a:pt x="322" y="38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58"/>
            <p:cNvSpPr/>
            <p:nvPr/>
          </p:nvSpPr>
          <p:spPr>
            <a:xfrm flipH="1">
              <a:off x="537840" y="2838240"/>
              <a:ext cx="1354680" cy="899640"/>
            </a:xfrm>
            <a:custGeom>
              <a:avLst/>
              <a:gdLst/>
              <a:ahLst/>
              <a:rect l="l" t="t" r="r" b="b"/>
              <a:pathLst>
                <a:path w="672" h="402">
                  <a:moveTo>
                    <a:pt x="525" y="222"/>
                  </a:moveTo>
                  <a:lnTo>
                    <a:pt x="488" y="160"/>
                  </a:lnTo>
                  <a:lnTo>
                    <a:pt x="488" y="160"/>
                  </a:lnTo>
                  <a:lnTo>
                    <a:pt x="469" y="132"/>
                  </a:lnTo>
                  <a:lnTo>
                    <a:pt x="445" y="104"/>
                  </a:lnTo>
                  <a:lnTo>
                    <a:pt x="426" y="80"/>
                  </a:lnTo>
                  <a:lnTo>
                    <a:pt x="402" y="61"/>
                  </a:lnTo>
                  <a:lnTo>
                    <a:pt x="374" y="42"/>
                  </a:lnTo>
                  <a:lnTo>
                    <a:pt x="350" y="28"/>
                  </a:lnTo>
                  <a:lnTo>
                    <a:pt x="322" y="19"/>
                  </a:lnTo>
                  <a:lnTo>
                    <a:pt x="294" y="14"/>
                  </a:lnTo>
                  <a:lnTo>
                    <a:pt x="294" y="14"/>
                  </a:lnTo>
                  <a:lnTo>
                    <a:pt x="256" y="9"/>
                  </a:lnTo>
                  <a:lnTo>
                    <a:pt x="213" y="14"/>
                  </a:lnTo>
                  <a:lnTo>
                    <a:pt x="175" y="19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90" y="52"/>
                  </a:lnTo>
                  <a:lnTo>
                    <a:pt x="52" y="71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0" y="10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0" y="89"/>
                  </a:lnTo>
                  <a:lnTo>
                    <a:pt x="10" y="89"/>
                  </a:lnTo>
                  <a:lnTo>
                    <a:pt x="48" y="66"/>
                  </a:lnTo>
                  <a:lnTo>
                    <a:pt x="86" y="42"/>
                  </a:lnTo>
                  <a:lnTo>
                    <a:pt x="138" y="23"/>
                  </a:lnTo>
                  <a:lnTo>
                    <a:pt x="138" y="23"/>
                  </a:lnTo>
                  <a:lnTo>
                    <a:pt x="175" y="9"/>
                  </a:lnTo>
                  <a:lnTo>
                    <a:pt x="213" y="4"/>
                  </a:lnTo>
                  <a:lnTo>
                    <a:pt x="256" y="0"/>
                  </a:lnTo>
                  <a:lnTo>
                    <a:pt x="294" y="4"/>
                  </a:lnTo>
                  <a:lnTo>
                    <a:pt x="294" y="4"/>
                  </a:lnTo>
                  <a:lnTo>
                    <a:pt x="322" y="14"/>
                  </a:lnTo>
                  <a:lnTo>
                    <a:pt x="350" y="23"/>
                  </a:lnTo>
                  <a:lnTo>
                    <a:pt x="379" y="37"/>
                  </a:lnTo>
                  <a:lnTo>
                    <a:pt x="407" y="52"/>
                  </a:lnTo>
                  <a:lnTo>
                    <a:pt x="431" y="75"/>
                  </a:lnTo>
                  <a:lnTo>
                    <a:pt x="454" y="99"/>
                  </a:lnTo>
                  <a:lnTo>
                    <a:pt x="473" y="127"/>
                  </a:lnTo>
                  <a:lnTo>
                    <a:pt x="497" y="156"/>
                  </a:lnTo>
                  <a:lnTo>
                    <a:pt x="530" y="217"/>
                  </a:lnTo>
                  <a:lnTo>
                    <a:pt x="530" y="217"/>
                  </a:lnTo>
                  <a:lnTo>
                    <a:pt x="563" y="269"/>
                  </a:lnTo>
                  <a:lnTo>
                    <a:pt x="592" y="317"/>
                  </a:lnTo>
                  <a:lnTo>
                    <a:pt x="629" y="359"/>
                  </a:lnTo>
                  <a:lnTo>
                    <a:pt x="648" y="378"/>
                  </a:lnTo>
                  <a:lnTo>
                    <a:pt x="672" y="397"/>
                  </a:lnTo>
                  <a:lnTo>
                    <a:pt x="672" y="397"/>
                  </a:lnTo>
                  <a:lnTo>
                    <a:pt x="663" y="402"/>
                  </a:lnTo>
                  <a:lnTo>
                    <a:pt x="663" y="402"/>
                  </a:lnTo>
                  <a:lnTo>
                    <a:pt x="644" y="383"/>
                  </a:lnTo>
                  <a:lnTo>
                    <a:pt x="620" y="364"/>
                  </a:lnTo>
                  <a:lnTo>
                    <a:pt x="587" y="321"/>
                  </a:lnTo>
                  <a:lnTo>
                    <a:pt x="554" y="274"/>
                  </a:lnTo>
                  <a:lnTo>
                    <a:pt x="525" y="222"/>
                  </a:lnTo>
                  <a:lnTo>
                    <a:pt x="525" y="222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9"/>
            <p:cNvSpPr/>
            <p:nvPr/>
          </p:nvSpPr>
          <p:spPr>
            <a:xfrm flipH="1">
              <a:off x="978840" y="3061080"/>
              <a:ext cx="884160" cy="1153080"/>
            </a:xfrm>
            <a:custGeom>
              <a:avLst/>
              <a:gdLst/>
              <a:ahLst/>
              <a:rect l="l" t="t" r="r" b="b"/>
              <a:pathLst>
                <a:path w="439" h="515">
                  <a:moveTo>
                    <a:pt x="383" y="104"/>
                  </a:moveTo>
                  <a:lnTo>
                    <a:pt x="383" y="104"/>
                  </a:lnTo>
                  <a:lnTo>
                    <a:pt x="373" y="85"/>
                  </a:lnTo>
                  <a:lnTo>
                    <a:pt x="350" y="61"/>
                  </a:lnTo>
                  <a:lnTo>
                    <a:pt x="321" y="38"/>
                  </a:lnTo>
                  <a:lnTo>
                    <a:pt x="283" y="19"/>
                  </a:lnTo>
                  <a:lnTo>
                    <a:pt x="241" y="5"/>
                  </a:lnTo>
                  <a:lnTo>
                    <a:pt x="198" y="0"/>
                  </a:lnTo>
                  <a:lnTo>
                    <a:pt x="175" y="5"/>
                  </a:lnTo>
                  <a:lnTo>
                    <a:pt x="151" y="9"/>
                  </a:lnTo>
                  <a:lnTo>
                    <a:pt x="127" y="14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61" y="57"/>
                  </a:lnTo>
                  <a:lnTo>
                    <a:pt x="33" y="85"/>
                  </a:lnTo>
                  <a:lnTo>
                    <a:pt x="14" y="113"/>
                  </a:lnTo>
                  <a:lnTo>
                    <a:pt x="4" y="147"/>
                  </a:lnTo>
                  <a:lnTo>
                    <a:pt x="0" y="180"/>
                  </a:lnTo>
                  <a:lnTo>
                    <a:pt x="4" y="218"/>
                  </a:lnTo>
                  <a:lnTo>
                    <a:pt x="14" y="255"/>
                  </a:lnTo>
                  <a:lnTo>
                    <a:pt x="28" y="293"/>
                  </a:lnTo>
                  <a:lnTo>
                    <a:pt x="28" y="293"/>
                  </a:lnTo>
                  <a:lnTo>
                    <a:pt x="52" y="340"/>
                  </a:lnTo>
                  <a:lnTo>
                    <a:pt x="75" y="378"/>
                  </a:lnTo>
                  <a:lnTo>
                    <a:pt x="104" y="411"/>
                  </a:lnTo>
                  <a:lnTo>
                    <a:pt x="127" y="440"/>
                  </a:lnTo>
                  <a:lnTo>
                    <a:pt x="156" y="459"/>
                  </a:lnTo>
                  <a:lnTo>
                    <a:pt x="184" y="478"/>
                  </a:lnTo>
                  <a:lnTo>
                    <a:pt x="208" y="492"/>
                  </a:lnTo>
                  <a:lnTo>
                    <a:pt x="231" y="501"/>
                  </a:lnTo>
                  <a:lnTo>
                    <a:pt x="279" y="511"/>
                  </a:lnTo>
                  <a:lnTo>
                    <a:pt x="317" y="515"/>
                  </a:lnTo>
                  <a:lnTo>
                    <a:pt x="350" y="511"/>
                  </a:lnTo>
                  <a:lnTo>
                    <a:pt x="350" y="511"/>
                  </a:lnTo>
                  <a:lnTo>
                    <a:pt x="369" y="492"/>
                  </a:lnTo>
                  <a:lnTo>
                    <a:pt x="392" y="468"/>
                  </a:lnTo>
                  <a:lnTo>
                    <a:pt x="416" y="430"/>
                  </a:lnTo>
                  <a:lnTo>
                    <a:pt x="430" y="388"/>
                  </a:lnTo>
                  <a:lnTo>
                    <a:pt x="435" y="359"/>
                  </a:lnTo>
                  <a:lnTo>
                    <a:pt x="439" y="331"/>
                  </a:lnTo>
                  <a:lnTo>
                    <a:pt x="439" y="298"/>
                  </a:lnTo>
                  <a:lnTo>
                    <a:pt x="435" y="265"/>
                  </a:lnTo>
                  <a:lnTo>
                    <a:pt x="430" y="227"/>
                  </a:lnTo>
                  <a:lnTo>
                    <a:pt x="421" y="189"/>
                  </a:lnTo>
                  <a:lnTo>
                    <a:pt x="402" y="147"/>
                  </a:lnTo>
                  <a:lnTo>
                    <a:pt x="383" y="104"/>
                  </a:lnTo>
                  <a:lnTo>
                    <a:pt x="383" y="104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0"/>
            <p:cNvSpPr/>
            <p:nvPr/>
          </p:nvSpPr>
          <p:spPr>
            <a:xfrm flipH="1">
              <a:off x="1148040" y="3409200"/>
              <a:ext cx="209880" cy="47592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104" y="175"/>
                  </a:moveTo>
                  <a:lnTo>
                    <a:pt x="48" y="213"/>
                  </a:lnTo>
                  <a:lnTo>
                    <a:pt x="85" y="175"/>
                  </a:lnTo>
                  <a:lnTo>
                    <a:pt x="85" y="175"/>
                  </a:lnTo>
                  <a:lnTo>
                    <a:pt x="71" y="166"/>
                  </a:lnTo>
                  <a:lnTo>
                    <a:pt x="52" y="151"/>
                  </a:lnTo>
                  <a:lnTo>
                    <a:pt x="33" y="132"/>
                  </a:lnTo>
                  <a:lnTo>
                    <a:pt x="14" y="109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9"/>
                  </a:lnTo>
                  <a:lnTo>
                    <a:pt x="5" y="38"/>
                  </a:lnTo>
                  <a:lnTo>
                    <a:pt x="10" y="62"/>
                  </a:lnTo>
                  <a:lnTo>
                    <a:pt x="14" y="85"/>
                  </a:lnTo>
                  <a:lnTo>
                    <a:pt x="29" y="109"/>
                  </a:lnTo>
                  <a:lnTo>
                    <a:pt x="43" y="132"/>
                  </a:lnTo>
                  <a:lnTo>
                    <a:pt x="71" y="156"/>
                  </a:lnTo>
                  <a:lnTo>
                    <a:pt x="104" y="175"/>
                  </a:lnTo>
                  <a:lnTo>
                    <a:pt x="104" y="175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61"/>
            <p:cNvSpPr/>
            <p:nvPr/>
          </p:nvSpPr>
          <p:spPr>
            <a:xfrm flipH="1">
              <a:off x="1051560" y="3271320"/>
              <a:ext cx="306360" cy="19080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19" y="37"/>
                  </a:moveTo>
                  <a:lnTo>
                    <a:pt x="19" y="37"/>
                  </a:lnTo>
                  <a:lnTo>
                    <a:pt x="33" y="23"/>
                  </a:lnTo>
                  <a:lnTo>
                    <a:pt x="62" y="9"/>
                  </a:lnTo>
                  <a:lnTo>
                    <a:pt x="81" y="4"/>
                  </a:lnTo>
                  <a:lnTo>
                    <a:pt x="100" y="0"/>
                  </a:lnTo>
                  <a:lnTo>
                    <a:pt x="123" y="0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37" y="9"/>
                  </a:lnTo>
                  <a:lnTo>
                    <a:pt x="104" y="9"/>
                  </a:lnTo>
                  <a:lnTo>
                    <a:pt x="81" y="14"/>
                  </a:lnTo>
                  <a:lnTo>
                    <a:pt x="62" y="18"/>
                  </a:lnTo>
                  <a:lnTo>
                    <a:pt x="43" y="28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19" y="61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0" y="85"/>
                  </a:lnTo>
                  <a:lnTo>
                    <a:pt x="5" y="85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61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62"/>
            <p:cNvSpPr/>
            <p:nvPr/>
          </p:nvSpPr>
          <p:spPr>
            <a:xfrm flipH="1">
              <a:off x="1464120" y="3450600"/>
              <a:ext cx="322920" cy="17064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14" y="0"/>
                  </a:moveTo>
                  <a:lnTo>
                    <a:pt x="114" y="0"/>
                  </a:lnTo>
                  <a:lnTo>
                    <a:pt x="95" y="5"/>
                  </a:lnTo>
                  <a:lnTo>
                    <a:pt x="62" y="9"/>
                  </a:lnTo>
                  <a:lnTo>
                    <a:pt x="48" y="19"/>
                  </a:lnTo>
                  <a:lnTo>
                    <a:pt x="29" y="33"/>
                  </a:lnTo>
                  <a:lnTo>
                    <a:pt x="15" y="5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66"/>
                  </a:lnTo>
                  <a:lnTo>
                    <a:pt x="34" y="43"/>
                  </a:lnTo>
                  <a:lnTo>
                    <a:pt x="52" y="28"/>
                  </a:lnTo>
                  <a:lnTo>
                    <a:pt x="71" y="19"/>
                  </a:lnTo>
                  <a:lnTo>
                    <a:pt x="90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33" y="19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52" y="28"/>
                  </a:lnTo>
                  <a:lnTo>
                    <a:pt x="157" y="28"/>
                  </a:lnTo>
                  <a:lnTo>
                    <a:pt x="161" y="24"/>
                  </a:lnTo>
                  <a:lnTo>
                    <a:pt x="157" y="19"/>
                  </a:lnTo>
                  <a:lnTo>
                    <a:pt x="157" y="19"/>
                  </a:lnTo>
                  <a:lnTo>
                    <a:pt x="138" y="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63"/>
            <p:cNvSpPr/>
            <p:nvPr/>
          </p:nvSpPr>
          <p:spPr>
            <a:xfrm flipH="1">
              <a:off x="1435320" y="3556800"/>
              <a:ext cx="304200" cy="12780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81" y="38"/>
                  </a:moveTo>
                  <a:lnTo>
                    <a:pt x="81" y="38"/>
                  </a:lnTo>
                  <a:lnTo>
                    <a:pt x="114" y="29"/>
                  </a:lnTo>
                  <a:lnTo>
                    <a:pt x="137" y="29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33" y="19"/>
                  </a:lnTo>
                  <a:lnTo>
                    <a:pt x="118" y="10"/>
                  </a:lnTo>
                  <a:lnTo>
                    <a:pt x="95" y="5"/>
                  </a:lnTo>
                  <a:lnTo>
                    <a:pt x="71" y="0"/>
                  </a:lnTo>
                  <a:lnTo>
                    <a:pt x="47" y="10"/>
                  </a:lnTo>
                  <a:lnTo>
                    <a:pt x="33" y="14"/>
                  </a:lnTo>
                  <a:lnTo>
                    <a:pt x="24" y="29"/>
                  </a:lnTo>
                  <a:lnTo>
                    <a:pt x="10" y="4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81" y="38"/>
                  </a:lnTo>
                  <a:lnTo>
                    <a:pt x="81" y="38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4"/>
            <p:cNvSpPr/>
            <p:nvPr/>
          </p:nvSpPr>
          <p:spPr>
            <a:xfrm flipH="1">
              <a:off x="1452960" y="3556800"/>
              <a:ext cx="302400" cy="13536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0" y="62"/>
                  </a:moveTo>
                  <a:lnTo>
                    <a:pt x="0" y="62"/>
                  </a:lnTo>
                  <a:lnTo>
                    <a:pt x="9" y="43"/>
                  </a:lnTo>
                  <a:lnTo>
                    <a:pt x="23" y="29"/>
                  </a:lnTo>
                  <a:lnTo>
                    <a:pt x="37" y="14"/>
                  </a:lnTo>
                  <a:lnTo>
                    <a:pt x="61" y="5"/>
                  </a:lnTo>
                  <a:lnTo>
                    <a:pt x="85" y="0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37" y="14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37" y="19"/>
                  </a:lnTo>
                  <a:lnTo>
                    <a:pt x="123" y="14"/>
                  </a:lnTo>
                  <a:lnTo>
                    <a:pt x="99" y="10"/>
                  </a:lnTo>
                  <a:lnTo>
                    <a:pt x="80" y="10"/>
                  </a:lnTo>
                  <a:lnTo>
                    <a:pt x="56" y="14"/>
                  </a:lnTo>
                  <a:lnTo>
                    <a:pt x="33" y="33"/>
                  </a:lnTo>
                  <a:lnTo>
                    <a:pt x="14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a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65"/>
            <p:cNvSpPr/>
            <p:nvPr/>
          </p:nvSpPr>
          <p:spPr>
            <a:xfrm flipH="1">
              <a:off x="1436040" y="3621600"/>
              <a:ext cx="294480" cy="102600"/>
            </a:xfrm>
            <a:custGeom>
              <a:avLst/>
              <a:gdLst/>
              <a:ahLst/>
              <a:rect l="l" t="t" r="r" b="b"/>
              <a:pathLst>
                <a:path w="146" h="47">
                  <a:moveTo>
                    <a:pt x="42" y="47"/>
                  </a:moveTo>
                  <a:lnTo>
                    <a:pt x="42" y="47"/>
                  </a:lnTo>
                  <a:lnTo>
                    <a:pt x="76" y="42"/>
                  </a:lnTo>
                  <a:lnTo>
                    <a:pt x="99" y="33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28" y="0"/>
                  </a:lnTo>
                  <a:lnTo>
                    <a:pt x="85" y="0"/>
                  </a:lnTo>
                  <a:lnTo>
                    <a:pt x="61" y="4"/>
                  </a:lnTo>
                  <a:lnTo>
                    <a:pt x="38" y="9"/>
                  </a:lnTo>
                  <a:lnTo>
                    <a:pt x="14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5" y="42"/>
                  </a:lnTo>
                  <a:lnTo>
                    <a:pt x="14" y="47"/>
                  </a:lnTo>
                  <a:lnTo>
                    <a:pt x="42" y="47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6"/>
            <p:cNvSpPr/>
            <p:nvPr/>
          </p:nvSpPr>
          <p:spPr>
            <a:xfrm flipH="1">
              <a:off x="1502280" y="3621600"/>
              <a:ext cx="73440" cy="6912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19"/>
                  </a:moveTo>
                  <a:lnTo>
                    <a:pt x="0" y="19"/>
                  </a:lnTo>
                  <a:lnTo>
                    <a:pt x="4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33" y="28"/>
                  </a:lnTo>
                  <a:lnTo>
                    <a:pt x="37" y="19"/>
                  </a:lnTo>
                  <a:lnTo>
                    <a:pt x="37" y="1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0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7"/>
            <p:cNvSpPr/>
            <p:nvPr/>
          </p:nvSpPr>
          <p:spPr>
            <a:xfrm flipH="1">
              <a:off x="1509840" y="3629880"/>
              <a:ext cx="20880" cy="194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8"/>
            <p:cNvSpPr/>
            <p:nvPr/>
          </p:nvSpPr>
          <p:spPr>
            <a:xfrm flipH="1">
              <a:off x="1711800" y="3061080"/>
              <a:ext cx="247680" cy="1160640"/>
            </a:xfrm>
            <a:custGeom>
              <a:avLst/>
              <a:gdLst/>
              <a:ahLst/>
              <a:rect l="l" t="t" r="r" b="b"/>
              <a:pathLst>
                <a:path w="123" h="520">
                  <a:moveTo>
                    <a:pt x="52" y="5"/>
                  </a:moveTo>
                  <a:lnTo>
                    <a:pt x="52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38" y="42"/>
                  </a:lnTo>
                  <a:lnTo>
                    <a:pt x="19" y="80"/>
                  </a:lnTo>
                  <a:lnTo>
                    <a:pt x="15" y="118"/>
                  </a:lnTo>
                  <a:lnTo>
                    <a:pt x="10" y="156"/>
                  </a:lnTo>
                  <a:lnTo>
                    <a:pt x="10" y="199"/>
                  </a:lnTo>
                  <a:lnTo>
                    <a:pt x="15" y="236"/>
                  </a:lnTo>
                  <a:lnTo>
                    <a:pt x="19" y="274"/>
                  </a:lnTo>
                  <a:lnTo>
                    <a:pt x="29" y="312"/>
                  </a:lnTo>
                  <a:lnTo>
                    <a:pt x="57" y="383"/>
                  </a:lnTo>
                  <a:lnTo>
                    <a:pt x="85" y="445"/>
                  </a:lnTo>
                  <a:lnTo>
                    <a:pt x="123" y="515"/>
                  </a:lnTo>
                  <a:lnTo>
                    <a:pt x="123" y="515"/>
                  </a:lnTo>
                  <a:lnTo>
                    <a:pt x="119" y="520"/>
                  </a:lnTo>
                  <a:lnTo>
                    <a:pt x="119" y="520"/>
                  </a:lnTo>
                  <a:lnTo>
                    <a:pt x="100" y="487"/>
                  </a:lnTo>
                  <a:lnTo>
                    <a:pt x="76" y="440"/>
                  </a:lnTo>
                  <a:lnTo>
                    <a:pt x="48" y="378"/>
                  </a:lnTo>
                  <a:lnTo>
                    <a:pt x="24" y="307"/>
                  </a:lnTo>
                  <a:lnTo>
                    <a:pt x="10" y="270"/>
                  </a:lnTo>
                  <a:lnTo>
                    <a:pt x="5" y="232"/>
                  </a:lnTo>
                  <a:lnTo>
                    <a:pt x="0" y="194"/>
                  </a:lnTo>
                  <a:lnTo>
                    <a:pt x="0" y="151"/>
                  </a:lnTo>
                  <a:lnTo>
                    <a:pt x="5" y="113"/>
                  </a:lnTo>
                  <a:lnTo>
                    <a:pt x="15" y="76"/>
                  </a:lnTo>
                  <a:lnTo>
                    <a:pt x="29" y="38"/>
                  </a:lnTo>
                  <a:lnTo>
                    <a:pt x="52" y="5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9"/>
            <p:cNvSpPr/>
            <p:nvPr/>
          </p:nvSpPr>
          <p:spPr>
            <a:xfrm flipH="1">
              <a:off x="1683000" y="3133800"/>
              <a:ext cx="209880" cy="263520"/>
            </a:xfrm>
            <a:custGeom>
              <a:avLst/>
              <a:gdLst/>
              <a:ahLst/>
              <a:rect l="l" t="t" r="r" b="b"/>
              <a:pathLst>
                <a:path w="104" h="118">
                  <a:moveTo>
                    <a:pt x="0" y="118"/>
                  </a:moveTo>
                  <a:lnTo>
                    <a:pt x="0" y="118"/>
                  </a:lnTo>
                  <a:lnTo>
                    <a:pt x="29" y="118"/>
                  </a:lnTo>
                  <a:lnTo>
                    <a:pt x="52" y="114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71" y="14"/>
                  </a:lnTo>
                  <a:lnTo>
                    <a:pt x="48" y="24"/>
                  </a:lnTo>
                  <a:lnTo>
                    <a:pt x="29" y="33"/>
                  </a:lnTo>
                  <a:lnTo>
                    <a:pt x="19" y="47"/>
                  </a:lnTo>
                  <a:lnTo>
                    <a:pt x="10" y="62"/>
                  </a:lnTo>
                  <a:lnTo>
                    <a:pt x="0" y="76"/>
                  </a:lnTo>
                  <a:lnTo>
                    <a:pt x="0" y="95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0"/>
            <p:cNvSpPr/>
            <p:nvPr/>
          </p:nvSpPr>
          <p:spPr>
            <a:xfrm flipH="1">
              <a:off x="1673640" y="3312720"/>
              <a:ext cx="219240" cy="234000"/>
            </a:xfrm>
            <a:custGeom>
              <a:avLst/>
              <a:gdLst/>
              <a:ahLst/>
              <a:rect l="l" t="t" r="r" b="b"/>
              <a:pathLst>
                <a:path w="109" h="105">
                  <a:moveTo>
                    <a:pt x="109" y="81"/>
                  </a:moveTo>
                  <a:lnTo>
                    <a:pt x="109" y="81"/>
                  </a:lnTo>
                  <a:lnTo>
                    <a:pt x="104" y="19"/>
                  </a:lnTo>
                  <a:lnTo>
                    <a:pt x="104" y="19"/>
                  </a:lnTo>
                  <a:lnTo>
                    <a:pt x="90" y="5"/>
                  </a:lnTo>
                  <a:lnTo>
                    <a:pt x="76" y="0"/>
                  </a:lnTo>
                  <a:lnTo>
                    <a:pt x="62" y="5"/>
                  </a:lnTo>
                  <a:lnTo>
                    <a:pt x="48" y="15"/>
                  </a:lnTo>
                  <a:lnTo>
                    <a:pt x="19" y="29"/>
                  </a:lnTo>
                  <a:lnTo>
                    <a:pt x="1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29" y="105"/>
                  </a:lnTo>
                  <a:lnTo>
                    <a:pt x="38" y="100"/>
                  </a:lnTo>
                  <a:lnTo>
                    <a:pt x="57" y="86"/>
                  </a:lnTo>
                  <a:lnTo>
                    <a:pt x="67" y="76"/>
                  </a:lnTo>
                  <a:lnTo>
                    <a:pt x="76" y="76"/>
                  </a:lnTo>
                  <a:lnTo>
                    <a:pt x="90" y="76"/>
                  </a:lnTo>
                  <a:lnTo>
                    <a:pt x="109" y="81"/>
                  </a:lnTo>
                  <a:lnTo>
                    <a:pt x="109" y="81"/>
                  </a:lnTo>
                  <a:close/>
                </a:path>
              </a:pathLst>
            </a:custGeom>
            <a:solidFill>
              <a:srgbClr val="332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71"/>
            <p:cNvSpPr/>
            <p:nvPr/>
          </p:nvSpPr>
          <p:spPr>
            <a:xfrm flipH="1">
              <a:off x="1452960" y="3440880"/>
              <a:ext cx="421200" cy="741600"/>
            </a:xfrm>
            <a:custGeom>
              <a:avLst/>
              <a:gdLst/>
              <a:ahLst/>
              <a:rect l="l" t="t" r="r" b="b"/>
              <a:pathLst>
                <a:path w="208" h="331">
                  <a:moveTo>
                    <a:pt x="118" y="185"/>
                  </a:moveTo>
                  <a:lnTo>
                    <a:pt x="118" y="185"/>
                  </a:lnTo>
                  <a:lnTo>
                    <a:pt x="104" y="109"/>
                  </a:lnTo>
                  <a:lnTo>
                    <a:pt x="99" y="24"/>
                  </a:lnTo>
                  <a:lnTo>
                    <a:pt x="99" y="24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66" y="5"/>
                  </a:lnTo>
                  <a:lnTo>
                    <a:pt x="57" y="14"/>
                  </a:lnTo>
                  <a:lnTo>
                    <a:pt x="33" y="33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9" y="114"/>
                  </a:lnTo>
                  <a:lnTo>
                    <a:pt x="42" y="175"/>
                  </a:lnTo>
                  <a:lnTo>
                    <a:pt x="66" y="227"/>
                  </a:lnTo>
                  <a:lnTo>
                    <a:pt x="94" y="265"/>
                  </a:lnTo>
                  <a:lnTo>
                    <a:pt x="118" y="293"/>
                  </a:lnTo>
                  <a:lnTo>
                    <a:pt x="137" y="317"/>
                  </a:lnTo>
                  <a:lnTo>
                    <a:pt x="156" y="331"/>
                  </a:lnTo>
                  <a:lnTo>
                    <a:pt x="208" y="322"/>
                  </a:lnTo>
                  <a:lnTo>
                    <a:pt x="208" y="322"/>
                  </a:lnTo>
                  <a:lnTo>
                    <a:pt x="199" y="317"/>
                  </a:lnTo>
                  <a:lnTo>
                    <a:pt x="175" y="293"/>
                  </a:lnTo>
                  <a:lnTo>
                    <a:pt x="161" y="275"/>
                  </a:lnTo>
                  <a:lnTo>
                    <a:pt x="147" y="251"/>
                  </a:lnTo>
                  <a:lnTo>
                    <a:pt x="132" y="223"/>
                  </a:lnTo>
                  <a:lnTo>
                    <a:pt x="118" y="185"/>
                  </a:lnTo>
                  <a:lnTo>
                    <a:pt x="118" y="185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72"/>
            <p:cNvSpPr/>
            <p:nvPr/>
          </p:nvSpPr>
          <p:spPr>
            <a:xfrm flipH="1">
              <a:off x="1567800" y="3080880"/>
              <a:ext cx="334440" cy="1111680"/>
            </a:xfrm>
            <a:custGeom>
              <a:avLst/>
              <a:gdLst/>
              <a:ahLst/>
              <a:rect l="l" t="t" r="r" b="b"/>
              <a:pathLst>
                <a:path w="165" h="497">
                  <a:moveTo>
                    <a:pt x="33" y="0"/>
                  </a:moveTo>
                  <a:lnTo>
                    <a:pt x="3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3" y="38"/>
                  </a:lnTo>
                  <a:lnTo>
                    <a:pt x="14" y="76"/>
                  </a:lnTo>
                  <a:lnTo>
                    <a:pt x="9" y="114"/>
                  </a:lnTo>
                  <a:lnTo>
                    <a:pt x="9" y="152"/>
                  </a:lnTo>
                  <a:lnTo>
                    <a:pt x="14" y="190"/>
                  </a:lnTo>
                  <a:lnTo>
                    <a:pt x="23" y="227"/>
                  </a:lnTo>
                  <a:lnTo>
                    <a:pt x="47" y="298"/>
                  </a:lnTo>
                  <a:lnTo>
                    <a:pt x="75" y="365"/>
                  </a:lnTo>
                  <a:lnTo>
                    <a:pt x="108" y="421"/>
                  </a:lnTo>
                  <a:lnTo>
                    <a:pt x="142" y="464"/>
                  </a:lnTo>
                  <a:lnTo>
                    <a:pt x="165" y="497"/>
                  </a:lnTo>
                  <a:lnTo>
                    <a:pt x="165" y="497"/>
                  </a:lnTo>
                  <a:lnTo>
                    <a:pt x="156" y="497"/>
                  </a:lnTo>
                  <a:lnTo>
                    <a:pt x="156" y="497"/>
                  </a:lnTo>
                  <a:lnTo>
                    <a:pt x="132" y="464"/>
                  </a:lnTo>
                  <a:lnTo>
                    <a:pt x="99" y="421"/>
                  </a:lnTo>
                  <a:lnTo>
                    <a:pt x="66" y="365"/>
                  </a:lnTo>
                  <a:lnTo>
                    <a:pt x="38" y="298"/>
                  </a:lnTo>
                  <a:lnTo>
                    <a:pt x="14" y="223"/>
                  </a:lnTo>
                  <a:lnTo>
                    <a:pt x="4" y="185"/>
                  </a:lnTo>
                  <a:lnTo>
                    <a:pt x="0" y="147"/>
                  </a:lnTo>
                  <a:lnTo>
                    <a:pt x="0" y="109"/>
                  </a:lnTo>
                  <a:lnTo>
                    <a:pt x="4" y="76"/>
                  </a:lnTo>
                  <a:lnTo>
                    <a:pt x="19" y="38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3"/>
            <p:cNvSpPr/>
            <p:nvPr/>
          </p:nvSpPr>
          <p:spPr>
            <a:xfrm flipH="1">
              <a:off x="1539360" y="3102120"/>
              <a:ext cx="305640" cy="1078560"/>
            </a:xfrm>
            <a:custGeom>
              <a:avLst/>
              <a:gdLst/>
              <a:ahLst/>
              <a:rect l="l" t="t" r="r" b="b"/>
              <a:pathLst>
                <a:path w="151" h="482">
                  <a:moveTo>
                    <a:pt x="33" y="5"/>
                  </a:move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24" y="42"/>
                  </a:lnTo>
                  <a:lnTo>
                    <a:pt x="14" y="76"/>
                  </a:lnTo>
                  <a:lnTo>
                    <a:pt x="10" y="109"/>
                  </a:lnTo>
                  <a:lnTo>
                    <a:pt x="10" y="142"/>
                  </a:lnTo>
                  <a:lnTo>
                    <a:pt x="10" y="180"/>
                  </a:lnTo>
                  <a:lnTo>
                    <a:pt x="19" y="213"/>
                  </a:lnTo>
                  <a:lnTo>
                    <a:pt x="38" y="279"/>
                  </a:lnTo>
                  <a:lnTo>
                    <a:pt x="66" y="345"/>
                  </a:lnTo>
                  <a:lnTo>
                    <a:pt x="95" y="397"/>
                  </a:lnTo>
                  <a:lnTo>
                    <a:pt x="123" y="444"/>
                  </a:lnTo>
                  <a:lnTo>
                    <a:pt x="151" y="482"/>
                  </a:lnTo>
                  <a:lnTo>
                    <a:pt x="151" y="482"/>
                  </a:lnTo>
                  <a:lnTo>
                    <a:pt x="142" y="482"/>
                  </a:lnTo>
                  <a:lnTo>
                    <a:pt x="142" y="482"/>
                  </a:lnTo>
                  <a:lnTo>
                    <a:pt x="114" y="444"/>
                  </a:lnTo>
                  <a:lnTo>
                    <a:pt x="85" y="397"/>
                  </a:lnTo>
                  <a:lnTo>
                    <a:pt x="57" y="340"/>
                  </a:lnTo>
                  <a:lnTo>
                    <a:pt x="28" y="279"/>
                  </a:lnTo>
                  <a:lnTo>
                    <a:pt x="10" y="213"/>
                  </a:lnTo>
                  <a:lnTo>
                    <a:pt x="5" y="175"/>
                  </a:lnTo>
                  <a:lnTo>
                    <a:pt x="0" y="142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19" y="38"/>
                  </a:lnTo>
                  <a:lnTo>
                    <a:pt x="33" y="5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74"/>
            <p:cNvSpPr/>
            <p:nvPr/>
          </p:nvSpPr>
          <p:spPr>
            <a:xfrm flipH="1">
              <a:off x="1452960" y="3145320"/>
              <a:ext cx="249120" cy="1013400"/>
            </a:xfrm>
            <a:custGeom>
              <a:avLst/>
              <a:gdLst/>
              <a:ahLst/>
              <a:rect l="l" t="t" r="r" b="b"/>
              <a:pathLst>
                <a:path w="123" h="454">
                  <a:moveTo>
                    <a:pt x="0" y="4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113"/>
                  </a:lnTo>
                  <a:lnTo>
                    <a:pt x="14" y="203"/>
                  </a:lnTo>
                  <a:lnTo>
                    <a:pt x="28" y="279"/>
                  </a:lnTo>
                  <a:lnTo>
                    <a:pt x="47" y="340"/>
                  </a:lnTo>
                  <a:lnTo>
                    <a:pt x="66" y="383"/>
                  </a:lnTo>
                  <a:lnTo>
                    <a:pt x="90" y="416"/>
                  </a:lnTo>
                  <a:lnTo>
                    <a:pt x="109" y="440"/>
                  </a:lnTo>
                  <a:lnTo>
                    <a:pt x="123" y="454"/>
                  </a:lnTo>
                  <a:lnTo>
                    <a:pt x="123" y="454"/>
                  </a:lnTo>
                  <a:lnTo>
                    <a:pt x="114" y="454"/>
                  </a:lnTo>
                  <a:lnTo>
                    <a:pt x="114" y="454"/>
                  </a:lnTo>
                  <a:lnTo>
                    <a:pt x="99" y="440"/>
                  </a:lnTo>
                  <a:lnTo>
                    <a:pt x="76" y="416"/>
                  </a:lnTo>
                  <a:lnTo>
                    <a:pt x="57" y="383"/>
                  </a:lnTo>
                  <a:lnTo>
                    <a:pt x="38" y="336"/>
                  </a:lnTo>
                  <a:lnTo>
                    <a:pt x="19" y="274"/>
                  </a:lnTo>
                  <a:lnTo>
                    <a:pt x="5" y="198"/>
                  </a:lnTo>
                  <a:lnTo>
                    <a:pt x="0" y="10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75"/>
            <p:cNvSpPr/>
            <p:nvPr/>
          </p:nvSpPr>
          <p:spPr>
            <a:xfrm flipH="1">
              <a:off x="1691280" y="3048840"/>
              <a:ext cx="182880" cy="101880"/>
            </a:xfrm>
            <a:custGeom>
              <a:avLst/>
              <a:gdLst/>
              <a:ahLst/>
              <a:rect l="l" t="t" r="r" b="b"/>
              <a:pathLst>
                <a:path w="90" h="47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76"/>
            <p:cNvSpPr/>
            <p:nvPr/>
          </p:nvSpPr>
          <p:spPr>
            <a:xfrm flipH="1">
              <a:off x="1435320" y="3610080"/>
              <a:ext cx="361080" cy="84600"/>
            </a:xfrm>
            <a:custGeom>
              <a:avLst/>
              <a:gdLst/>
              <a:ahLst/>
              <a:rect l="l" t="t" r="r" b="b"/>
              <a:pathLst>
                <a:path w="179" h="38">
                  <a:moveTo>
                    <a:pt x="179" y="5"/>
                  </a:moveTo>
                  <a:lnTo>
                    <a:pt x="179" y="5"/>
                  </a:lnTo>
                  <a:lnTo>
                    <a:pt x="170" y="5"/>
                  </a:lnTo>
                  <a:lnTo>
                    <a:pt x="142" y="0"/>
                  </a:lnTo>
                  <a:lnTo>
                    <a:pt x="123" y="0"/>
                  </a:lnTo>
                  <a:lnTo>
                    <a:pt x="104" y="0"/>
                  </a:lnTo>
                  <a:lnTo>
                    <a:pt x="75" y="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28" y="24"/>
                  </a:lnTo>
                  <a:lnTo>
                    <a:pt x="14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3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104" y="14"/>
                  </a:lnTo>
                  <a:lnTo>
                    <a:pt x="142" y="9"/>
                  </a:lnTo>
                  <a:lnTo>
                    <a:pt x="179" y="5"/>
                  </a:lnTo>
                  <a:lnTo>
                    <a:pt x="1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7"/>
            <p:cNvSpPr/>
            <p:nvPr/>
          </p:nvSpPr>
          <p:spPr>
            <a:xfrm flipH="1">
              <a:off x="1577160" y="3684960"/>
              <a:ext cx="181080" cy="5292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8" y="14"/>
                  </a:lnTo>
                  <a:lnTo>
                    <a:pt x="47" y="19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80" y="19"/>
                  </a:lnTo>
                  <a:lnTo>
                    <a:pt x="52" y="24"/>
                  </a:lnTo>
                  <a:lnTo>
                    <a:pt x="37" y="24"/>
                  </a:lnTo>
                  <a:lnTo>
                    <a:pt x="23" y="19"/>
                  </a:lnTo>
                  <a:lnTo>
                    <a:pt x="9" y="14"/>
                  </a:lnTo>
                  <a:lnTo>
                    <a:pt x="0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78"/>
            <p:cNvSpPr/>
            <p:nvPr/>
          </p:nvSpPr>
          <p:spPr>
            <a:xfrm flipH="1">
              <a:off x="2475000" y="2297520"/>
              <a:ext cx="1086120" cy="739800"/>
            </a:xfrm>
            <a:custGeom>
              <a:avLst/>
              <a:gdLst/>
              <a:ahLst/>
              <a:rect l="l" t="t" r="r" b="b"/>
              <a:pathLst>
                <a:path w="539" h="331">
                  <a:moveTo>
                    <a:pt x="28" y="218"/>
                  </a:moveTo>
                  <a:lnTo>
                    <a:pt x="28" y="218"/>
                  </a:lnTo>
                  <a:lnTo>
                    <a:pt x="14" y="237"/>
                  </a:lnTo>
                  <a:lnTo>
                    <a:pt x="4" y="256"/>
                  </a:lnTo>
                  <a:lnTo>
                    <a:pt x="0" y="270"/>
                  </a:lnTo>
                  <a:lnTo>
                    <a:pt x="4" y="284"/>
                  </a:lnTo>
                  <a:lnTo>
                    <a:pt x="19" y="308"/>
                  </a:lnTo>
                  <a:lnTo>
                    <a:pt x="28" y="331"/>
                  </a:lnTo>
                  <a:lnTo>
                    <a:pt x="28" y="331"/>
                  </a:lnTo>
                  <a:lnTo>
                    <a:pt x="336" y="175"/>
                  </a:lnTo>
                  <a:lnTo>
                    <a:pt x="539" y="67"/>
                  </a:lnTo>
                  <a:lnTo>
                    <a:pt x="515" y="0"/>
                  </a:lnTo>
                  <a:lnTo>
                    <a:pt x="515" y="0"/>
                  </a:lnTo>
                  <a:lnTo>
                    <a:pt x="28" y="218"/>
                  </a:lnTo>
                  <a:lnTo>
                    <a:pt x="28" y="218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79"/>
            <p:cNvSpPr/>
            <p:nvPr/>
          </p:nvSpPr>
          <p:spPr>
            <a:xfrm flipH="1">
              <a:off x="3410280" y="2785320"/>
              <a:ext cx="610200" cy="570600"/>
            </a:xfrm>
            <a:custGeom>
              <a:avLst/>
              <a:gdLst/>
              <a:ahLst/>
              <a:rect l="l" t="t" r="r" b="b"/>
              <a:pathLst>
                <a:path w="302" h="255">
                  <a:moveTo>
                    <a:pt x="0" y="61"/>
                  </a:moveTo>
                  <a:lnTo>
                    <a:pt x="14" y="255"/>
                  </a:lnTo>
                  <a:lnTo>
                    <a:pt x="14" y="255"/>
                  </a:lnTo>
                  <a:lnTo>
                    <a:pt x="127" y="194"/>
                  </a:lnTo>
                  <a:lnTo>
                    <a:pt x="302" y="104"/>
                  </a:lnTo>
                  <a:lnTo>
                    <a:pt x="302" y="104"/>
                  </a:lnTo>
                  <a:lnTo>
                    <a:pt x="284" y="47"/>
                  </a:lnTo>
                  <a:lnTo>
                    <a:pt x="269" y="24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80"/>
            <p:cNvSpPr/>
            <p:nvPr/>
          </p:nvSpPr>
          <p:spPr>
            <a:xfrm flipH="1">
              <a:off x="3877560" y="2826720"/>
              <a:ext cx="1547280" cy="2127600"/>
            </a:xfrm>
            <a:custGeom>
              <a:avLst/>
              <a:gdLst/>
              <a:ahLst/>
              <a:rect l="l" t="t" r="r" b="b"/>
              <a:pathLst>
                <a:path w="767" h="951">
                  <a:moveTo>
                    <a:pt x="0" y="880"/>
                  </a:moveTo>
                  <a:lnTo>
                    <a:pt x="0" y="880"/>
                  </a:lnTo>
                  <a:lnTo>
                    <a:pt x="71" y="785"/>
                  </a:lnTo>
                  <a:lnTo>
                    <a:pt x="119" y="738"/>
                  </a:lnTo>
                  <a:lnTo>
                    <a:pt x="166" y="690"/>
                  </a:lnTo>
                  <a:lnTo>
                    <a:pt x="166" y="690"/>
                  </a:lnTo>
                  <a:lnTo>
                    <a:pt x="175" y="676"/>
                  </a:lnTo>
                  <a:lnTo>
                    <a:pt x="190" y="653"/>
                  </a:lnTo>
                  <a:lnTo>
                    <a:pt x="213" y="582"/>
                  </a:lnTo>
                  <a:lnTo>
                    <a:pt x="237" y="487"/>
                  </a:lnTo>
                  <a:lnTo>
                    <a:pt x="265" y="383"/>
                  </a:lnTo>
                  <a:lnTo>
                    <a:pt x="294" y="274"/>
                  </a:lnTo>
                  <a:lnTo>
                    <a:pt x="322" y="175"/>
                  </a:lnTo>
                  <a:lnTo>
                    <a:pt x="350" y="94"/>
                  </a:lnTo>
                  <a:lnTo>
                    <a:pt x="365" y="61"/>
                  </a:lnTo>
                  <a:lnTo>
                    <a:pt x="384" y="42"/>
                  </a:lnTo>
                  <a:lnTo>
                    <a:pt x="384" y="42"/>
                  </a:lnTo>
                  <a:lnTo>
                    <a:pt x="407" y="28"/>
                  </a:lnTo>
                  <a:lnTo>
                    <a:pt x="473" y="9"/>
                  </a:lnTo>
                  <a:lnTo>
                    <a:pt x="511" y="5"/>
                  </a:lnTo>
                  <a:lnTo>
                    <a:pt x="549" y="0"/>
                  </a:lnTo>
                  <a:lnTo>
                    <a:pt x="592" y="5"/>
                  </a:lnTo>
                  <a:lnTo>
                    <a:pt x="625" y="14"/>
                  </a:lnTo>
                  <a:lnTo>
                    <a:pt x="625" y="14"/>
                  </a:lnTo>
                  <a:lnTo>
                    <a:pt x="705" y="52"/>
                  </a:lnTo>
                  <a:lnTo>
                    <a:pt x="729" y="61"/>
                  </a:lnTo>
                  <a:lnTo>
                    <a:pt x="748" y="76"/>
                  </a:lnTo>
                  <a:lnTo>
                    <a:pt x="748" y="76"/>
                  </a:lnTo>
                  <a:lnTo>
                    <a:pt x="752" y="90"/>
                  </a:lnTo>
                  <a:lnTo>
                    <a:pt x="752" y="109"/>
                  </a:lnTo>
                  <a:lnTo>
                    <a:pt x="743" y="165"/>
                  </a:lnTo>
                  <a:lnTo>
                    <a:pt x="719" y="241"/>
                  </a:lnTo>
                  <a:lnTo>
                    <a:pt x="719" y="241"/>
                  </a:lnTo>
                  <a:lnTo>
                    <a:pt x="743" y="284"/>
                  </a:lnTo>
                  <a:lnTo>
                    <a:pt x="762" y="317"/>
                  </a:lnTo>
                  <a:lnTo>
                    <a:pt x="767" y="350"/>
                  </a:lnTo>
                  <a:lnTo>
                    <a:pt x="762" y="378"/>
                  </a:lnTo>
                  <a:lnTo>
                    <a:pt x="757" y="388"/>
                  </a:lnTo>
                  <a:lnTo>
                    <a:pt x="748" y="402"/>
                  </a:lnTo>
                  <a:lnTo>
                    <a:pt x="724" y="421"/>
                  </a:lnTo>
                  <a:lnTo>
                    <a:pt x="686" y="440"/>
                  </a:lnTo>
                  <a:lnTo>
                    <a:pt x="630" y="454"/>
                  </a:lnTo>
                  <a:lnTo>
                    <a:pt x="426" y="813"/>
                  </a:lnTo>
                  <a:lnTo>
                    <a:pt x="502" y="899"/>
                  </a:lnTo>
                  <a:lnTo>
                    <a:pt x="502" y="899"/>
                  </a:lnTo>
                  <a:lnTo>
                    <a:pt x="440" y="922"/>
                  </a:lnTo>
                  <a:lnTo>
                    <a:pt x="379" y="941"/>
                  </a:lnTo>
                  <a:lnTo>
                    <a:pt x="313" y="951"/>
                  </a:lnTo>
                  <a:lnTo>
                    <a:pt x="246" y="951"/>
                  </a:lnTo>
                  <a:lnTo>
                    <a:pt x="175" y="946"/>
                  </a:lnTo>
                  <a:lnTo>
                    <a:pt x="114" y="932"/>
                  </a:lnTo>
                  <a:lnTo>
                    <a:pt x="52" y="908"/>
                  </a:lnTo>
                  <a:lnTo>
                    <a:pt x="0" y="8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1"/>
            <p:cNvSpPr/>
            <p:nvPr/>
          </p:nvSpPr>
          <p:spPr>
            <a:xfrm flipH="1">
              <a:off x="3935160" y="2246040"/>
              <a:ext cx="419400" cy="1015200"/>
            </a:xfrm>
            <a:custGeom>
              <a:avLst/>
              <a:gdLst/>
              <a:ahLst/>
              <a:rect l="l" t="t" r="r" b="b"/>
              <a:pathLst>
                <a:path w="208" h="454">
                  <a:moveTo>
                    <a:pt x="137" y="0"/>
                  </a:moveTo>
                  <a:lnTo>
                    <a:pt x="137" y="0"/>
                  </a:lnTo>
                  <a:lnTo>
                    <a:pt x="128" y="28"/>
                  </a:lnTo>
                  <a:lnTo>
                    <a:pt x="100" y="94"/>
                  </a:lnTo>
                  <a:lnTo>
                    <a:pt x="57" y="179"/>
                  </a:lnTo>
                  <a:lnTo>
                    <a:pt x="29" y="227"/>
                  </a:lnTo>
                  <a:lnTo>
                    <a:pt x="0" y="265"/>
                  </a:lnTo>
                  <a:lnTo>
                    <a:pt x="0" y="265"/>
                  </a:lnTo>
                  <a:lnTo>
                    <a:pt x="14" y="293"/>
                  </a:lnTo>
                  <a:lnTo>
                    <a:pt x="43" y="359"/>
                  </a:lnTo>
                  <a:lnTo>
                    <a:pt x="62" y="397"/>
                  </a:lnTo>
                  <a:lnTo>
                    <a:pt x="85" y="425"/>
                  </a:lnTo>
                  <a:lnTo>
                    <a:pt x="104" y="444"/>
                  </a:lnTo>
                  <a:lnTo>
                    <a:pt x="114" y="449"/>
                  </a:lnTo>
                  <a:lnTo>
                    <a:pt x="123" y="454"/>
                  </a:lnTo>
                  <a:lnTo>
                    <a:pt x="123" y="454"/>
                  </a:lnTo>
                  <a:lnTo>
                    <a:pt x="133" y="430"/>
                  </a:lnTo>
                  <a:lnTo>
                    <a:pt x="152" y="378"/>
                  </a:lnTo>
                  <a:lnTo>
                    <a:pt x="170" y="307"/>
                  </a:lnTo>
                  <a:lnTo>
                    <a:pt x="170" y="307"/>
                  </a:lnTo>
                  <a:lnTo>
                    <a:pt x="161" y="302"/>
                  </a:lnTo>
                  <a:lnTo>
                    <a:pt x="156" y="288"/>
                  </a:lnTo>
                  <a:lnTo>
                    <a:pt x="152" y="269"/>
                  </a:lnTo>
                  <a:lnTo>
                    <a:pt x="152" y="241"/>
                  </a:lnTo>
                  <a:lnTo>
                    <a:pt x="161" y="198"/>
                  </a:lnTo>
                  <a:lnTo>
                    <a:pt x="180" y="151"/>
                  </a:lnTo>
                  <a:lnTo>
                    <a:pt x="208" y="8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2"/>
            <p:cNvSpPr/>
            <p:nvPr/>
          </p:nvSpPr>
          <p:spPr>
            <a:xfrm flipH="1">
              <a:off x="3200400" y="1421280"/>
              <a:ext cx="619560" cy="1247760"/>
            </a:xfrm>
            <a:custGeom>
              <a:avLst/>
              <a:gdLst/>
              <a:ahLst/>
              <a:rect l="l" t="t" r="r" b="b"/>
              <a:pathLst>
                <a:path w="307" h="558">
                  <a:moveTo>
                    <a:pt x="5" y="0"/>
                  </a:moveTo>
                  <a:lnTo>
                    <a:pt x="5" y="0"/>
                  </a:lnTo>
                  <a:lnTo>
                    <a:pt x="62" y="14"/>
                  </a:lnTo>
                  <a:lnTo>
                    <a:pt x="109" y="33"/>
                  </a:lnTo>
                  <a:lnTo>
                    <a:pt x="151" y="52"/>
                  </a:lnTo>
                  <a:lnTo>
                    <a:pt x="189" y="75"/>
                  </a:lnTo>
                  <a:lnTo>
                    <a:pt x="222" y="104"/>
                  </a:lnTo>
                  <a:lnTo>
                    <a:pt x="251" y="137"/>
                  </a:lnTo>
                  <a:lnTo>
                    <a:pt x="270" y="170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303" y="250"/>
                  </a:lnTo>
                  <a:lnTo>
                    <a:pt x="307" y="298"/>
                  </a:lnTo>
                  <a:lnTo>
                    <a:pt x="303" y="345"/>
                  </a:lnTo>
                  <a:lnTo>
                    <a:pt x="298" y="388"/>
                  </a:lnTo>
                  <a:lnTo>
                    <a:pt x="289" y="435"/>
                  </a:lnTo>
                  <a:lnTo>
                    <a:pt x="274" y="478"/>
                  </a:lnTo>
                  <a:lnTo>
                    <a:pt x="241" y="558"/>
                  </a:lnTo>
                  <a:lnTo>
                    <a:pt x="241" y="558"/>
                  </a:lnTo>
                  <a:lnTo>
                    <a:pt x="232" y="558"/>
                  </a:lnTo>
                  <a:lnTo>
                    <a:pt x="232" y="558"/>
                  </a:lnTo>
                  <a:lnTo>
                    <a:pt x="265" y="482"/>
                  </a:lnTo>
                  <a:lnTo>
                    <a:pt x="279" y="440"/>
                  </a:lnTo>
                  <a:lnTo>
                    <a:pt x="289" y="392"/>
                  </a:lnTo>
                  <a:lnTo>
                    <a:pt x="298" y="345"/>
                  </a:lnTo>
                  <a:lnTo>
                    <a:pt x="298" y="298"/>
                  </a:lnTo>
                  <a:lnTo>
                    <a:pt x="293" y="255"/>
                  </a:lnTo>
                  <a:lnTo>
                    <a:pt x="279" y="208"/>
                  </a:lnTo>
                  <a:lnTo>
                    <a:pt x="279" y="208"/>
                  </a:lnTo>
                  <a:lnTo>
                    <a:pt x="265" y="175"/>
                  </a:lnTo>
                  <a:lnTo>
                    <a:pt x="241" y="142"/>
                  </a:lnTo>
                  <a:lnTo>
                    <a:pt x="218" y="109"/>
                  </a:lnTo>
                  <a:lnTo>
                    <a:pt x="185" y="85"/>
                  </a:lnTo>
                  <a:lnTo>
                    <a:pt x="147" y="61"/>
                  </a:lnTo>
                  <a:lnTo>
                    <a:pt x="104" y="38"/>
                  </a:lnTo>
                  <a:lnTo>
                    <a:pt x="57" y="2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83"/>
            <p:cNvSpPr/>
            <p:nvPr/>
          </p:nvSpPr>
          <p:spPr>
            <a:xfrm flipH="1">
              <a:off x="3170160" y="1389960"/>
              <a:ext cx="659160" cy="1255320"/>
            </a:xfrm>
            <a:custGeom>
              <a:avLst/>
              <a:gdLst/>
              <a:ahLst/>
              <a:rect l="l" t="t" r="r" b="b"/>
              <a:pathLst>
                <a:path w="327" h="562">
                  <a:moveTo>
                    <a:pt x="10" y="0"/>
                  </a:moveTo>
                  <a:lnTo>
                    <a:pt x="10" y="0"/>
                  </a:lnTo>
                  <a:lnTo>
                    <a:pt x="57" y="14"/>
                  </a:lnTo>
                  <a:lnTo>
                    <a:pt x="104" y="33"/>
                  </a:lnTo>
                  <a:lnTo>
                    <a:pt x="152" y="52"/>
                  </a:lnTo>
                  <a:lnTo>
                    <a:pt x="190" y="75"/>
                  </a:lnTo>
                  <a:lnTo>
                    <a:pt x="223" y="99"/>
                  </a:lnTo>
                  <a:lnTo>
                    <a:pt x="251" y="127"/>
                  </a:lnTo>
                  <a:lnTo>
                    <a:pt x="275" y="160"/>
                  </a:lnTo>
                  <a:lnTo>
                    <a:pt x="298" y="198"/>
                  </a:lnTo>
                  <a:lnTo>
                    <a:pt x="298" y="198"/>
                  </a:lnTo>
                  <a:lnTo>
                    <a:pt x="312" y="246"/>
                  </a:lnTo>
                  <a:lnTo>
                    <a:pt x="322" y="293"/>
                  </a:lnTo>
                  <a:lnTo>
                    <a:pt x="327" y="340"/>
                  </a:lnTo>
                  <a:lnTo>
                    <a:pt x="327" y="387"/>
                  </a:lnTo>
                  <a:lnTo>
                    <a:pt x="322" y="435"/>
                  </a:lnTo>
                  <a:lnTo>
                    <a:pt x="317" y="477"/>
                  </a:lnTo>
                  <a:lnTo>
                    <a:pt x="294" y="562"/>
                  </a:lnTo>
                  <a:lnTo>
                    <a:pt x="294" y="562"/>
                  </a:lnTo>
                  <a:lnTo>
                    <a:pt x="284" y="562"/>
                  </a:lnTo>
                  <a:lnTo>
                    <a:pt x="284" y="562"/>
                  </a:lnTo>
                  <a:lnTo>
                    <a:pt x="308" y="482"/>
                  </a:lnTo>
                  <a:lnTo>
                    <a:pt x="317" y="435"/>
                  </a:lnTo>
                  <a:lnTo>
                    <a:pt x="322" y="387"/>
                  </a:lnTo>
                  <a:lnTo>
                    <a:pt x="322" y="340"/>
                  </a:lnTo>
                  <a:lnTo>
                    <a:pt x="317" y="293"/>
                  </a:lnTo>
                  <a:lnTo>
                    <a:pt x="308" y="246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270" y="165"/>
                  </a:lnTo>
                  <a:lnTo>
                    <a:pt x="246" y="132"/>
                  </a:lnTo>
                  <a:lnTo>
                    <a:pt x="218" y="104"/>
                  </a:lnTo>
                  <a:lnTo>
                    <a:pt x="185" y="80"/>
                  </a:lnTo>
                  <a:lnTo>
                    <a:pt x="147" y="56"/>
                  </a:lnTo>
                  <a:lnTo>
                    <a:pt x="104" y="37"/>
                  </a:lnTo>
                  <a:lnTo>
                    <a:pt x="57" y="23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84"/>
            <p:cNvSpPr/>
            <p:nvPr/>
          </p:nvSpPr>
          <p:spPr>
            <a:xfrm flipH="1">
              <a:off x="3085200" y="1366200"/>
              <a:ext cx="782280" cy="1271520"/>
            </a:xfrm>
            <a:custGeom>
              <a:avLst/>
              <a:gdLst/>
              <a:ahLst/>
              <a:rect l="l" t="t" r="r" b="b"/>
              <a:pathLst>
                <a:path w="388" h="568">
                  <a:moveTo>
                    <a:pt x="19" y="0"/>
                  </a:moveTo>
                  <a:lnTo>
                    <a:pt x="19" y="0"/>
                  </a:lnTo>
                  <a:lnTo>
                    <a:pt x="67" y="5"/>
                  </a:lnTo>
                  <a:lnTo>
                    <a:pt x="119" y="14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213" y="43"/>
                  </a:lnTo>
                  <a:lnTo>
                    <a:pt x="251" y="66"/>
                  </a:lnTo>
                  <a:lnTo>
                    <a:pt x="284" y="90"/>
                  </a:lnTo>
                  <a:lnTo>
                    <a:pt x="317" y="118"/>
                  </a:lnTo>
                  <a:lnTo>
                    <a:pt x="317" y="118"/>
                  </a:lnTo>
                  <a:lnTo>
                    <a:pt x="336" y="147"/>
                  </a:lnTo>
                  <a:lnTo>
                    <a:pt x="355" y="170"/>
                  </a:lnTo>
                  <a:lnTo>
                    <a:pt x="369" y="204"/>
                  </a:lnTo>
                  <a:lnTo>
                    <a:pt x="379" y="232"/>
                  </a:lnTo>
                  <a:lnTo>
                    <a:pt x="388" y="270"/>
                  </a:lnTo>
                  <a:lnTo>
                    <a:pt x="388" y="303"/>
                  </a:lnTo>
                  <a:lnTo>
                    <a:pt x="388" y="341"/>
                  </a:lnTo>
                  <a:lnTo>
                    <a:pt x="388" y="383"/>
                  </a:lnTo>
                  <a:lnTo>
                    <a:pt x="379" y="454"/>
                  </a:lnTo>
                  <a:lnTo>
                    <a:pt x="379" y="454"/>
                  </a:lnTo>
                  <a:lnTo>
                    <a:pt x="369" y="516"/>
                  </a:lnTo>
                  <a:lnTo>
                    <a:pt x="365" y="568"/>
                  </a:lnTo>
                  <a:lnTo>
                    <a:pt x="365" y="568"/>
                  </a:lnTo>
                  <a:lnTo>
                    <a:pt x="355" y="568"/>
                  </a:lnTo>
                  <a:lnTo>
                    <a:pt x="355" y="568"/>
                  </a:lnTo>
                  <a:lnTo>
                    <a:pt x="360" y="511"/>
                  </a:lnTo>
                  <a:lnTo>
                    <a:pt x="369" y="454"/>
                  </a:lnTo>
                  <a:lnTo>
                    <a:pt x="379" y="383"/>
                  </a:lnTo>
                  <a:lnTo>
                    <a:pt x="379" y="383"/>
                  </a:lnTo>
                  <a:lnTo>
                    <a:pt x="384" y="341"/>
                  </a:lnTo>
                  <a:lnTo>
                    <a:pt x="384" y="303"/>
                  </a:lnTo>
                  <a:lnTo>
                    <a:pt x="379" y="270"/>
                  </a:lnTo>
                  <a:lnTo>
                    <a:pt x="369" y="237"/>
                  </a:lnTo>
                  <a:lnTo>
                    <a:pt x="360" y="204"/>
                  </a:lnTo>
                  <a:lnTo>
                    <a:pt x="350" y="175"/>
                  </a:lnTo>
                  <a:lnTo>
                    <a:pt x="331" y="151"/>
                  </a:lnTo>
                  <a:lnTo>
                    <a:pt x="313" y="123"/>
                  </a:lnTo>
                  <a:lnTo>
                    <a:pt x="313" y="123"/>
                  </a:lnTo>
                  <a:lnTo>
                    <a:pt x="279" y="95"/>
                  </a:lnTo>
                  <a:lnTo>
                    <a:pt x="246" y="71"/>
                  </a:lnTo>
                  <a:lnTo>
                    <a:pt x="209" y="52"/>
                  </a:lnTo>
                  <a:lnTo>
                    <a:pt x="171" y="38"/>
                  </a:lnTo>
                  <a:lnTo>
                    <a:pt x="171" y="38"/>
                  </a:lnTo>
                  <a:lnTo>
                    <a:pt x="114" y="24"/>
                  </a:lnTo>
                  <a:lnTo>
                    <a:pt x="67" y="14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85"/>
            <p:cNvSpPr/>
            <p:nvPr/>
          </p:nvSpPr>
          <p:spPr>
            <a:xfrm flipH="1">
              <a:off x="1052280" y="2381760"/>
              <a:ext cx="1622880" cy="434880"/>
            </a:xfrm>
            <a:custGeom>
              <a:avLst/>
              <a:gdLst/>
              <a:ahLst/>
              <a:rect l="l" t="t" r="r" b="b"/>
              <a:pathLst>
                <a:path w="804" h="194">
                  <a:moveTo>
                    <a:pt x="520" y="71"/>
                  </a:moveTo>
                  <a:lnTo>
                    <a:pt x="520" y="71"/>
                  </a:lnTo>
                  <a:lnTo>
                    <a:pt x="544" y="66"/>
                  </a:lnTo>
                  <a:lnTo>
                    <a:pt x="567" y="57"/>
                  </a:lnTo>
                  <a:lnTo>
                    <a:pt x="619" y="57"/>
                  </a:lnTo>
                  <a:lnTo>
                    <a:pt x="662" y="57"/>
                  </a:lnTo>
                  <a:lnTo>
                    <a:pt x="676" y="57"/>
                  </a:lnTo>
                  <a:lnTo>
                    <a:pt x="737" y="104"/>
                  </a:lnTo>
                  <a:lnTo>
                    <a:pt x="804" y="189"/>
                  </a:lnTo>
                  <a:lnTo>
                    <a:pt x="804" y="189"/>
                  </a:lnTo>
                  <a:lnTo>
                    <a:pt x="794" y="194"/>
                  </a:lnTo>
                  <a:lnTo>
                    <a:pt x="780" y="189"/>
                  </a:lnTo>
                  <a:lnTo>
                    <a:pt x="761" y="175"/>
                  </a:lnTo>
                  <a:lnTo>
                    <a:pt x="747" y="156"/>
                  </a:lnTo>
                  <a:lnTo>
                    <a:pt x="742" y="147"/>
                  </a:lnTo>
                  <a:lnTo>
                    <a:pt x="742" y="147"/>
                  </a:lnTo>
                  <a:lnTo>
                    <a:pt x="704" y="137"/>
                  </a:lnTo>
                  <a:lnTo>
                    <a:pt x="685" y="137"/>
                  </a:lnTo>
                  <a:lnTo>
                    <a:pt x="676" y="142"/>
                  </a:lnTo>
                  <a:lnTo>
                    <a:pt x="676" y="152"/>
                  </a:lnTo>
                  <a:lnTo>
                    <a:pt x="643" y="142"/>
                  </a:lnTo>
                  <a:lnTo>
                    <a:pt x="643" y="142"/>
                  </a:lnTo>
                  <a:lnTo>
                    <a:pt x="638" y="147"/>
                  </a:lnTo>
                  <a:lnTo>
                    <a:pt x="610" y="161"/>
                  </a:lnTo>
                  <a:lnTo>
                    <a:pt x="596" y="161"/>
                  </a:lnTo>
                  <a:lnTo>
                    <a:pt x="577" y="161"/>
                  </a:lnTo>
                  <a:lnTo>
                    <a:pt x="558" y="152"/>
                  </a:lnTo>
                  <a:lnTo>
                    <a:pt x="539" y="142"/>
                  </a:lnTo>
                  <a:lnTo>
                    <a:pt x="506" y="123"/>
                  </a:lnTo>
                  <a:lnTo>
                    <a:pt x="0" y="76"/>
                  </a:lnTo>
                  <a:lnTo>
                    <a:pt x="23" y="0"/>
                  </a:lnTo>
                  <a:lnTo>
                    <a:pt x="520" y="71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6"/>
            <p:cNvSpPr/>
            <p:nvPr/>
          </p:nvSpPr>
          <p:spPr>
            <a:xfrm flipH="1">
              <a:off x="3685680" y="3177000"/>
              <a:ext cx="857880" cy="1070640"/>
            </a:xfrm>
            <a:custGeom>
              <a:avLst/>
              <a:gdLst/>
              <a:ahLst/>
              <a:rect l="l" t="t" r="r" b="b"/>
              <a:pathLst>
                <a:path w="425" h="478">
                  <a:moveTo>
                    <a:pt x="113" y="19"/>
                  </a:moveTo>
                  <a:lnTo>
                    <a:pt x="113" y="19"/>
                  </a:lnTo>
                  <a:lnTo>
                    <a:pt x="89" y="5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9"/>
                  </a:lnTo>
                  <a:lnTo>
                    <a:pt x="23" y="2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227" y="303"/>
                  </a:lnTo>
                  <a:lnTo>
                    <a:pt x="378" y="478"/>
                  </a:lnTo>
                  <a:lnTo>
                    <a:pt x="425" y="426"/>
                  </a:lnTo>
                  <a:lnTo>
                    <a:pt x="425" y="426"/>
                  </a:lnTo>
                  <a:lnTo>
                    <a:pt x="113" y="19"/>
                  </a:lnTo>
                  <a:lnTo>
                    <a:pt x="113" y="19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87"/>
            <p:cNvSpPr/>
            <p:nvPr/>
          </p:nvSpPr>
          <p:spPr>
            <a:xfrm flipH="1">
              <a:off x="3075480" y="3334680"/>
              <a:ext cx="791640" cy="897120"/>
            </a:xfrm>
            <a:custGeom>
              <a:avLst/>
              <a:gdLst/>
              <a:ahLst/>
              <a:rect l="l" t="t" r="r" b="b"/>
              <a:pathLst>
                <a:path w="393" h="402">
                  <a:moveTo>
                    <a:pt x="0" y="340"/>
                  </a:moveTo>
                  <a:lnTo>
                    <a:pt x="48" y="402"/>
                  </a:lnTo>
                  <a:lnTo>
                    <a:pt x="393" y="52"/>
                  </a:lnTo>
                  <a:lnTo>
                    <a:pt x="393" y="52"/>
                  </a:lnTo>
                  <a:lnTo>
                    <a:pt x="369" y="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88"/>
            <p:cNvSpPr/>
            <p:nvPr/>
          </p:nvSpPr>
          <p:spPr>
            <a:xfrm flipH="1">
              <a:off x="3323880" y="1494360"/>
              <a:ext cx="458640" cy="1279080"/>
            </a:xfrm>
            <a:custGeom>
              <a:avLst/>
              <a:gdLst/>
              <a:ahLst/>
              <a:rect l="l" t="t" r="r" b="b"/>
              <a:pathLst>
                <a:path w="227" h="572">
                  <a:moveTo>
                    <a:pt x="5" y="0"/>
                  </a:moveTo>
                  <a:lnTo>
                    <a:pt x="5" y="0"/>
                  </a:lnTo>
                  <a:lnTo>
                    <a:pt x="47" y="19"/>
                  </a:lnTo>
                  <a:lnTo>
                    <a:pt x="85" y="38"/>
                  </a:lnTo>
                  <a:lnTo>
                    <a:pt x="118" y="57"/>
                  </a:lnTo>
                  <a:lnTo>
                    <a:pt x="147" y="80"/>
                  </a:lnTo>
                  <a:lnTo>
                    <a:pt x="170" y="109"/>
                  </a:lnTo>
                  <a:lnTo>
                    <a:pt x="189" y="137"/>
                  </a:lnTo>
                  <a:lnTo>
                    <a:pt x="203" y="165"/>
                  </a:lnTo>
                  <a:lnTo>
                    <a:pt x="218" y="199"/>
                  </a:lnTo>
                  <a:lnTo>
                    <a:pt x="218" y="199"/>
                  </a:lnTo>
                  <a:lnTo>
                    <a:pt x="227" y="251"/>
                  </a:lnTo>
                  <a:lnTo>
                    <a:pt x="227" y="303"/>
                  </a:lnTo>
                  <a:lnTo>
                    <a:pt x="218" y="355"/>
                  </a:lnTo>
                  <a:lnTo>
                    <a:pt x="203" y="407"/>
                  </a:lnTo>
                  <a:lnTo>
                    <a:pt x="184" y="454"/>
                  </a:lnTo>
                  <a:lnTo>
                    <a:pt x="166" y="497"/>
                  </a:lnTo>
                  <a:lnTo>
                    <a:pt x="123" y="572"/>
                  </a:lnTo>
                  <a:lnTo>
                    <a:pt x="118" y="572"/>
                  </a:lnTo>
                  <a:lnTo>
                    <a:pt x="118" y="572"/>
                  </a:lnTo>
                  <a:lnTo>
                    <a:pt x="156" y="497"/>
                  </a:lnTo>
                  <a:lnTo>
                    <a:pt x="175" y="454"/>
                  </a:lnTo>
                  <a:lnTo>
                    <a:pt x="194" y="407"/>
                  </a:lnTo>
                  <a:lnTo>
                    <a:pt x="208" y="359"/>
                  </a:lnTo>
                  <a:lnTo>
                    <a:pt x="218" y="307"/>
                  </a:lnTo>
                  <a:lnTo>
                    <a:pt x="218" y="255"/>
                  </a:lnTo>
                  <a:lnTo>
                    <a:pt x="208" y="203"/>
                  </a:lnTo>
                  <a:lnTo>
                    <a:pt x="208" y="203"/>
                  </a:lnTo>
                  <a:lnTo>
                    <a:pt x="199" y="170"/>
                  </a:lnTo>
                  <a:lnTo>
                    <a:pt x="184" y="142"/>
                  </a:lnTo>
                  <a:lnTo>
                    <a:pt x="161" y="113"/>
                  </a:lnTo>
                  <a:lnTo>
                    <a:pt x="137" y="90"/>
                  </a:lnTo>
                  <a:lnTo>
                    <a:pt x="109" y="66"/>
                  </a:lnTo>
                  <a:lnTo>
                    <a:pt x="80" y="42"/>
                  </a:lnTo>
                  <a:lnTo>
                    <a:pt x="43" y="24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89"/>
            <p:cNvSpPr/>
            <p:nvPr/>
          </p:nvSpPr>
          <p:spPr>
            <a:xfrm flipH="1">
              <a:off x="2600280" y="3114360"/>
              <a:ext cx="563040" cy="389520"/>
            </a:xfrm>
            <a:custGeom>
              <a:avLst/>
              <a:gdLst/>
              <a:ahLst/>
              <a:rect l="l" t="t" r="r" b="b"/>
              <a:pathLst>
                <a:path w="279" h="175">
                  <a:moveTo>
                    <a:pt x="0" y="123"/>
                  </a:moveTo>
                  <a:lnTo>
                    <a:pt x="90" y="23"/>
                  </a:lnTo>
                  <a:lnTo>
                    <a:pt x="138" y="0"/>
                  </a:lnTo>
                  <a:lnTo>
                    <a:pt x="223" y="14"/>
                  </a:lnTo>
                  <a:lnTo>
                    <a:pt x="275" y="66"/>
                  </a:lnTo>
                  <a:lnTo>
                    <a:pt x="279" y="94"/>
                  </a:lnTo>
                  <a:lnTo>
                    <a:pt x="270" y="123"/>
                  </a:lnTo>
                  <a:lnTo>
                    <a:pt x="270" y="123"/>
                  </a:lnTo>
                  <a:lnTo>
                    <a:pt x="256" y="132"/>
                  </a:lnTo>
                  <a:lnTo>
                    <a:pt x="227" y="146"/>
                  </a:lnTo>
                  <a:lnTo>
                    <a:pt x="227" y="146"/>
                  </a:lnTo>
                  <a:lnTo>
                    <a:pt x="190" y="151"/>
                  </a:lnTo>
                  <a:lnTo>
                    <a:pt x="166" y="156"/>
                  </a:lnTo>
                  <a:lnTo>
                    <a:pt x="100" y="123"/>
                  </a:lnTo>
                  <a:lnTo>
                    <a:pt x="90" y="118"/>
                  </a:lnTo>
                  <a:lnTo>
                    <a:pt x="90" y="118"/>
                  </a:lnTo>
                  <a:lnTo>
                    <a:pt x="62" y="132"/>
                  </a:lnTo>
                  <a:lnTo>
                    <a:pt x="38" y="151"/>
                  </a:lnTo>
                  <a:lnTo>
                    <a:pt x="15" y="175"/>
                  </a:lnTo>
                  <a:lnTo>
                    <a:pt x="15" y="175"/>
                  </a:lnTo>
                  <a:lnTo>
                    <a:pt x="10" y="165"/>
                  </a:lnTo>
                  <a:lnTo>
                    <a:pt x="5" y="151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90"/>
            <p:cNvSpPr/>
            <p:nvPr/>
          </p:nvSpPr>
          <p:spPr>
            <a:xfrm flipH="1">
              <a:off x="4163040" y="2889720"/>
              <a:ext cx="545760" cy="688680"/>
            </a:xfrm>
            <a:custGeom>
              <a:avLst/>
              <a:gdLst/>
              <a:ahLst/>
              <a:rect l="l" t="t" r="r" b="b"/>
              <a:pathLst>
                <a:path w="270" h="308">
                  <a:moveTo>
                    <a:pt x="85" y="213"/>
                  </a:moveTo>
                  <a:lnTo>
                    <a:pt x="85" y="213"/>
                  </a:lnTo>
                  <a:lnTo>
                    <a:pt x="52" y="175"/>
                  </a:lnTo>
                  <a:lnTo>
                    <a:pt x="33" y="152"/>
                  </a:lnTo>
                  <a:lnTo>
                    <a:pt x="14" y="123"/>
                  </a:lnTo>
                  <a:lnTo>
                    <a:pt x="5" y="95"/>
                  </a:lnTo>
                  <a:lnTo>
                    <a:pt x="0" y="62"/>
                  </a:lnTo>
                  <a:lnTo>
                    <a:pt x="5" y="48"/>
                  </a:lnTo>
                  <a:lnTo>
                    <a:pt x="10" y="38"/>
                  </a:lnTo>
                  <a:lnTo>
                    <a:pt x="14" y="2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43" y="5"/>
                  </a:lnTo>
                  <a:lnTo>
                    <a:pt x="62" y="0"/>
                  </a:lnTo>
                  <a:lnTo>
                    <a:pt x="81" y="10"/>
                  </a:lnTo>
                  <a:lnTo>
                    <a:pt x="100" y="19"/>
                  </a:lnTo>
                  <a:lnTo>
                    <a:pt x="142" y="57"/>
                  </a:lnTo>
                  <a:lnTo>
                    <a:pt x="180" y="104"/>
                  </a:lnTo>
                  <a:lnTo>
                    <a:pt x="218" y="152"/>
                  </a:lnTo>
                  <a:lnTo>
                    <a:pt x="246" y="199"/>
                  </a:lnTo>
                  <a:lnTo>
                    <a:pt x="270" y="241"/>
                  </a:lnTo>
                  <a:lnTo>
                    <a:pt x="270" y="241"/>
                  </a:lnTo>
                  <a:lnTo>
                    <a:pt x="256" y="265"/>
                  </a:lnTo>
                  <a:lnTo>
                    <a:pt x="241" y="279"/>
                  </a:lnTo>
                  <a:lnTo>
                    <a:pt x="199" y="308"/>
                  </a:lnTo>
                  <a:lnTo>
                    <a:pt x="85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91"/>
            <p:cNvSpPr/>
            <p:nvPr/>
          </p:nvSpPr>
          <p:spPr>
            <a:xfrm flipH="1">
              <a:off x="4047120" y="4761720"/>
              <a:ext cx="1729080" cy="2080440"/>
            </a:xfrm>
            <a:custGeom>
              <a:avLst/>
              <a:gdLst/>
              <a:ahLst/>
              <a:rect l="l" t="t" r="r" b="b"/>
              <a:pathLst>
                <a:path w="857" h="928">
                  <a:moveTo>
                    <a:pt x="592" y="857"/>
                  </a:moveTo>
                  <a:lnTo>
                    <a:pt x="592" y="857"/>
                  </a:lnTo>
                  <a:lnTo>
                    <a:pt x="715" y="847"/>
                  </a:lnTo>
                  <a:lnTo>
                    <a:pt x="857" y="828"/>
                  </a:lnTo>
                  <a:lnTo>
                    <a:pt x="606" y="5"/>
                  </a:lnTo>
                  <a:lnTo>
                    <a:pt x="606" y="5"/>
                  </a:lnTo>
                  <a:lnTo>
                    <a:pt x="568" y="10"/>
                  </a:lnTo>
                  <a:lnTo>
                    <a:pt x="469" y="19"/>
                  </a:lnTo>
                  <a:lnTo>
                    <a:pt x="407" y="24"/>
                  </a:lnTo>
                  <a:lnTo>
                    <a:pt x="346" y="19"/>
                  </a:lnTo>
                  <a:lnTo>
                    <a:pt x="280" y="15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90" y="38"/>
                  </a:lnTo>
                  <a:lnTo>
                    <a:pt x="166" y="90"/>
                  </a:lnTo>
                  <a:lnTo>
                    <a:pt x="142" y="152"/>
                  </a:lnTo>
                  <a:lnTo>
                    <a:pt x="119" y="223"/>
                  </a:lnTo>
                  <a:lnTo>
                    <a:pt x="100" y="298"/>
                  </a:lnTo>
                  <a:lnTo>
                    <a:pt x="81" y="374"/>
                  </a:lnTo>
                  <a:lnTo>
                    <a:pt x="52" y="535"/>
                  </a:lnTo>
                  <a:lnTo>
                    <a:pt x="29" y="682"/>
                  </a:lnTo>
                  <a:lnTo>
                    <a:pt x="15" y="809"/>
                  </a:lnTo>
                  <a:lnTo>
                    <a:pt x="0" y="928"/>
                  </a:lnTo>
                  <a:lnTo>
                    <a:pt x="0" y="928"/>
                  </a:lnTo>
                  <a:lnTo>
                    <a:pt x="190" y="913"/>
                  </a:lnTo>
                  <a:lnTo>
                    <a:pt x="284" y="899"/>
                  </a:lnTo>
                  <a:lnTo>
                    <a:pt x="384" y="341"/>
                  </a:lnTo>
                  <a:lnTo>
                    <a:pt x="592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92"/>
            <p:cNvSpPr/>
            <p:nvPr/>
          </p:nvSpPr>
          <p:spPr>
            <a:xfrm flipH="1">
              <a:off x="5145840" y="4562640"/>
              <a:ext cx="54720" cy="511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14"/>
                  </a:moveTo>
                  <a:lnTo>
                    <a:pt x="29" y="14"/>
                  </a:lnTo>
                  <a:lnTo>
                    <a:pt x="24" y="1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3"/>
            <p:cNvSpPr/>
            <p:nvPr/>
          </p:nvSpPr>
          <p:spPr>
            <a:xfrm flipH="1">
              <a:off x="5107680" y="4605840"/>
              <a:ext cx="48960" cy="51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4"/>
                  </a:moveTo>
                  <a:lnTo>
                    <a:pt x="24" y="14"/>
                  </a:lnTo>
                  <a:lnTo>
                    <a:pt x="19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4"/>
            <p:cNvSpPr/>
            <p:nvPr/>
          </p:nvSpPr>
          <p:spPr>
            <a:xfrm flipH="1">
              <a:off x="4973400" y="4730040"/>
              <a:ext cx="48960" cy="529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24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5"/>
            <p:cNvSpPr/>
            <p:nvPr/>
          </p:nvSpPr>
          <p:spPr>
            <a:xfrm flipH="1">
              <a:off x="5040720" y="4637520"/>
              <a:ext cx="65880" cy="864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96"/>
            <p:cNvSpPr/>
            <p:nvPr/>
          </p:nvSpPr>
          <p:spPr>
            <a:xfrm flipH="1">
              <a:off x="5194440" y="4466160"/>
              <a:ext cx="66240" cy="78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97"/>
            <p:cNvSpPr/>
            <p:nvPr/>
          </p:nvSpPr>
          <p:spPr>
            <a:xfrm flipH="1">
              <a:off x="4984920" y="4668840"/>
              <a:ext cx="46800" cy="529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19" y="19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5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98"/>
            <p:cNvSpPr/>
            <p:nvPr/>
          </p:nvSpPr>
          <p:spPr>
            <a:xfrm flipH="1">
              <a:off x="4994280" y="4795200"/>
              <a:ext cx="46800" cy="507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9"/>
                  </a:moveTo>
                  <a:lnTo>
                    <a:pt x="23" y="9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9"/>
            <p:cNvSpPr/>
            <p:nvPr/>
          </p:nvSpPr>
          <p:spPr>
            <a:xfrm flipH="1">
              <a:off x="4935600" y="4688640"/>
              <a:ext cx="37440" cy="33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0"/>
                  </a:lnTo>
                  <a:lnTo>
                    <a:pt x="14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0"/>
            <p:cNvSpPr/>
            <p:nvPr/>
          </p:nvSpPr>
          <p:spPr>
            <a:xfrm flipH="1">
              <a:off x="4850280" y="4668840"/>
              <a:ext cx="84600" cy="8640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9"/>
                  </a:moveTo>
                  <a:lnTo>
                    <a:pt x="42" y="19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8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9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38" y="9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1"/>
            <p:cNvSpPr/>
            <p:nvPr/>
          </p:nvSpPr>
          <p:spPr>
            <a:xfrm flipH="1">
              <a:off x="4791600" y="4678560"/>
              <a:ext cx="58680" cy="63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14"/>
                  </a:moveTo>
                  <a:lnTo>
                    <a:pt x="29" y="14"/>
                  </a:lnTo>
                  <a:lnTo>
                    <a:pt x="29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2"/>
            <p:cNvSpPr/>
            <p:nvPr/>
          </p:nvSpPr>
          <p:spPr>
            <a:xfrm flipH="1">
              <a:off x="4718520" y="4668840"/>
              <a:ext cx="54720" cy="608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03"/>
            <p:cNvSpPr/>
            <p:nvPr/>
          </p:nvSpPr>
          <p:spPr>
            <a:xfrm flipH="1">
              <a:off x="4680720" y="4678560"/>
              <a:ext cx="280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14" y="4"/>
                  </a:lnTo>
                  <a:lnTo>
                    <a:pt x="14" y="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04"/>
            <p:cNvSpPr/>
            <p:nvPr/>
          </p:nvSpPr>
          <p:spPr>
            <a:xfrm flipH="1">
              <a:off x="5194440" y="4529160"/>
              <a:ext cx="28080" cy="33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0"/>
                  </a:moveTo>
                  <a:lnTo>
                    <a:pt x="14" y="10"/>
                  </a:lnTo>
                  <a:lnTo>
                    <a:pt x="14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05"/>
            <p:cNvSpPr/>
            <p:nvPr/>
          </p:nvSpPr>
          <p:spPr>
            <a:xfrm flipH="1">
              <a:off x="4640760" y="4678560"/>
              <a:ext cx="28080" cy="19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4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06"/>
            <p:cNvSpPr/>
            <p:nvPr/>
          </p:nvSpPr>
          <p:spPr>
            <a:xfrm flipH="1">
              <a:off x="4593600" y="4657320"/>
              <a:ext cx="46800" cy="41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0"/>
                  </a:moveTo>
                  <a:lnTo>
                    <a:pt x="24" y="10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07"/>
            <p:cNvSpPr/>
            <p:nvPr/>
          </p:nvSpPr>
          <p:spPr>
            <a:xfrm flipH="1">
              <a:off x="4935600" y="4741920"/>
              <a:ext cx="20880" cy="19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08"/>
            <p:cNvSpPr/>
            <p:nvPr/>
          </p:nvSpPr>
          <p:spPr>
            <a:xfrm flipH="1">
              <a:off x="4935600" y="4785480"/>
              <a:ext cx="20880" cy="19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9"/>
            <p:cNvSpPr/>
            <p:nvPr/>
          </p:nvSpPr>
          <p:spPr>
            <a:xfrm flipH="1">
              <a:off x="4907520" y="4816440"/>
              <a:ext cx="45360" cy="41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0" y="19"/>
                  </a:moveTo>
                  <a:lnTo>
                    <a:pt x="10" y="19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0"/>
            <p:cNvSpPr/>
            <p:nvPr/>
          </p:nvSpPr>
          <p:spPr>
            <a:xfrm flipH="1">
              <a:off x="5022720" y="4858200"/>
              <a:ext cx="18720" cy="19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1"/>
            <p:cNvSpPr/>
            <p:nvPr/>
          </p:nvSpPr>
          <p:spPr>
            <a:xfrm flipH="1">
              <a:off x="5022720" y="4889160"/>
              <a:ext cx="37440" cy="529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5" y="19"/>
                  </a:moveTo>
                  <a:lnTo>
                    <a:pt x="5" y="1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2"/>
            <p:cNvSpPr/>
            <p:nvPr/>
          </p:nvSpPr>
          <p:spPr>
            <a:xfrm flipH="1">
              <a:off x="4515480" y="4605840"/>
              <a:ext cx="77400" cy="824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8"/>
                  </a:moveTo>
                  <a:lnTo>
                    <a:pt x="38" y="18"/>
                  </a:lnTo>
                  <a:lnTo>
                    <a:pt x="33" y="28"/>
                  </a:lnTo>
                  <a:lnTo>
                    <a:pt x="33" y="33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4" y="37"/>
                  </a:lnTo>
                  <a:lnTo>
                    <a:pt x="5" y="3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3"/>
            <p:cNvSpPr/>
            <p:nvPr/>
          </p:nvSpPr>
          <p:spPr>
            <a:xfrm flipH="1">
              <a:off x="3334320" y="1588680"/>
              <a:ext cx="818280" cy="1206360"/>
            </a:xfrm>
            <a:custGeom>
              <a:avLst/>
              <a:gdLst/>
              <a:ahLst/>
              <a:rect l="l" t="t" r="r" b="b"/>
              <a:pathLst>
                <a:path w="406" h="540">
                  <a:moveTo>
                    <a:pt x="406" y="242"/>
                  </a:moveTo>
                  <a:lnTo>
                    <a:pt x="406" y="242"/>
                  </a:lnTo>
                  <a:lnTo>
                    <a:pt x="406" y="223"/>
                  </a:lnTo>
                  <a:lnTo>
                    <a:pt x="406" y="194"/>
                  </a:lnTo>
                  <a:lnTo>
                    <a:pt x="402" y="157"/>
                  </a:lnTo>
                  <a:lnTo>
                    <a:pt x="392" y="123"/>
                  </a:lnTo>
                  <a:lnTo>
                    <a:pt x="373" y="86"/>
                  </a:lnTo>
                  <a:lnTo>
                    <a:pt x="350" y="52"/>
                  </a:lnTo>
                  <a:lnTo>
                    <a:pt x="331" y="38"/>
                  </a:lnTo>
                  <a:lnTo>
                    <a:pt x="312" y="29"/>
                  </a:lnTo>
                  <a:lnTo>
                    <a:pt x="293" y="15"/>
                  </a:lnTo>
                  <a:lnTo>
                    <a:pt x="269" y="10"/>
                  </a:lnTo>
                  <a:lnTo>
                    <a:pt x="269" y="10"/>
                  </a:lnTo>
                  <a:lnTo>
                    <a:pt x="222" y="0"/>
                  </a:lnTo>
                  <a:lnTo>
                    <a:pt x="184" y="0"/>
                  </a:lnTo>
                  <a:lnTo>
                    <a:pt x="146" y="5"/>
                  </a:lnTo>
                  <a:lnTo>
                    <a:pt x="118" y="19"/>
                  </a:lnTo>
                  <a:lnTo>
                    <a:pt x="89" y="38"/>
                  </a:lnTo>
                  <a:lnTo>
                    <a:pt x="66" y="62"/>
                  </a:lnTo>
                  <a:lnTo>
                    <a:pt x="47" y="90"/>
                  </a:lnTo>
                  <a:lnTo>
                    <a:pt x="33" y="128"/>
                  </a:lnTo>
                  <a:lnTo>
                    <a:pt x="33" y="128"/>
                  </a:lnTo>
                  <a:lnTo>
                    <a:pt x="14" y="185"/>
                  </a:lnTo>
                  <a:lnTo>
                    <a:pt x="4" y="237"/>
                  </a:lnTo>
                  <a:lnTo>
                    <a:pt x="0" y="280"/>
                  </a:lnTo>
                  <a:lnTo>
                    <a:pt x="0" y="322"/>
                  </a:lnTo>
                  <a:lnTo>
                    <a:pt x="0" y="360"/>
                  </a:lnTo>
                  <a:lnTo>
                    <a:pt x="4" y="393"/>
                  </a:lnTo>
                  <a:lnTo>
                    <a:pt x="14" y="421"/>
                  </a:lnTo>
                  <a:lnTo>
                    <a:pt x="23" y="445"/>
                  </a:lnTo>
                  <a:lnTo>
                    <a:pt x="47" y="488"/>
                  </a:lnTo>
                  <a:lnTo>
                    <a:pt x="70" y="516"/>
                  </a:lnTo>
                  <a:lnTo>
                    <a:pt x="104" y="540"/>
                  </a:lnTo>
                  <a:lnTo>
                    <a:pt x="104" y="540"/>
                  </a:lnTo>
                  <a:lnTo>
                    <a:pt x="122" y="540"/>
                  </a:lnTo>
                  <a:lnTo>
                    <a:pt x="156" y="540"/>
                  </a:lnTo>
                  <a:lnTo>
                    <a:pt x="193" y="530"/>
                  </a:lnTo>
                  <a:lnTo>
                    <a:pt x="241" y="507"/>
                  </a:lnTo>
                  <a:lnTo>
                    <a:pt x="264" y="492"/>
                  </a:lnTo>
                  <a:lnTo>
                    <a:pt x="288" y="473"/>
                  </a:lnTo>
                  <a:lnTo>
                    <a:pt x="312" y="445"/>
                  </a:lnTo>
                  <a:lnTo>
                    <a:pt x="331" y="417"/>
                  </a:lnTo>
                  <a:lnTo>
                    <a:pt x="354" y="384"/>
                  </a:lnTo>
                  <a:lnTo>
                    <a:pt x="373" y="341"/>
                  </a:lnTo>
                  <a:lnTo>
                    <a:pt x="387" y="294"/>
                  </a:lnTo>
                  <a:lnTo>
                    <a:pt x="406" y="242"/>
                  </a:lnTo>
                  <a:lnTo>
                    <a:pt x="406" y="242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4"/>
            <p:cNvSpPr/>
            <p:nvPr/>
          </p:nvSpPr>
          <p:spPr>
            <a:xfrm flipH="1">
              <a:off x="3323160" y="2033640"/>
              <a:ext cx="496440" cy="44424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137" y="0"/>
                  </a:moveTo>
                  <a:lnTo>
                    <a:pt x="137" y="0"/>
                  </a:lnTo>
                  <a:lnTo>
                    <a:pt x="151" y="0"/>
                  </a:lnTo>
                  <a:lnTo>
                    <a:pt x="185" y="10"/>
                  </a:lnTo>
                  <a:lnTo>
                    <a:pt x="199" y="14"/>
                  </a:lnTo>
                  <a:lnTo>
                    <a:pt x="218" y="28"/>
                  </a:lnTo>
                  <a:lnTo>
                    <a:pt x="232" y="43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37" y="57"/>
                  </a:lnTo>
                  <a:lnTo>
                    <a:pt x="213" y="33"/>
                  </a:lnTo>
                  <a:lnTo>
                    <a:pt x="194" y="24"/>
                  </a:lnTo>
                  <a:lnTo>
                    <a:pt x="180" y="14"/>
                  </a:lnTo>
                  <a:lnTo>
                    <a:pt x="156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18" y="19"/>
                  </a:lnTo>
                  <a:lnTo>
                    <a:pt x="95" y="33"/>
                  </a:lnTo>
                  <a:lnTo>
                    <a:pt x="80" y="47"/>
                  </a:lnTo>
                  <a:lnTo>
                    <a:pt x="66" y="66"/>
                  </a:lnTo>
                  <a:lnTo>
                    <a:pt x="52" y="95"/>
                  </a:lnTo>
                  <a:lnTo>
                    <a:pt x="47" y="123"/>
                  </a:lnTo>
                  <a:lnTo>
                    <a:pt x="52" y="161"/>
                  </a:lnTo>
                  <a:lnTo>
                    <a:pt x="62" y="199"/>
                  </a:lnTo>
                  <a:lnTo>
                    <a:pt x="0" y="189"/>
                  </a:lnTo>
                  <a:lnTo>
                    <a:pt x="47" y="189"/>
                  </a:lnTo>
                  <a:lnTo>
                    <a:pt x="47" y="189"/>
                  </a:lnTo>
                  <a:lnTo>
                    <a:pt x="43" y="166"/>
                  </a:lnTo>
                  <a:lnTo>
                    <a:pt x="38" y="147"/>
                  </a:lnTo>
                  <a:lnTo>
                    <a:pt x="43" y="114"/>
                  </a:lnTo>
                  <a:lnTo>
                    <a:pt x="47" y="85"/>
                  </a:lnTo>
                  <a:lnTo>
                    <a:pt x="62" y="52"/>
                  </a:lnTo>
                  <a:lnTo>
                    <a:pt x="76" y="38"/>
                  </a:lnTo>
                  <a:lnTo>
                    <a:pt x="90" y="24"/>
                  </a:lnTo>
                  <a:lnTo>
                    <a:pt x="114" y="1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5"/>
            <p:cNvSpPr/>
            <p:nvPr/>
          </p:nvSpPr>
          <p:spPr>
            <a:xfrm flipH="1">
              <a:off x="3323160" y="2033640"/>
              <a:ext cx="304200" cy="147600"/>
            </a:xfrm>
            <a:custGeom>
              <a:avLst/>
              <a:gdLst/>
              <a:ahLst/>
              <a:rect l="l" t="t" r="r" b="b"/>
              <a:pathLst>
                <a:path w="151" h="66">
                  <a:moveTo>
                    <a:pt x="42" y="0"/>
                  </a:moveTo>
                  <a:lnTo>
                    <a:pt x="42" y="0"/>
                  </a:lnTo>
                  <a:lnTo>
                    <a:pt x="61" y="0"/>
                  </a:lnTo>
                  <a:lnTo>
                    <a:pt x="90" y="10"/>
                  </a:lnTo>
                  <a:lnTo>
                    <a:pt x="108" y="14"/>
                  </a:lnTo>
                  <a:lnTo>
                    <a:pt x="123" y="28"/>
                  </a:lnTo>
                  <a:lnTo>
                    <a:pt x="137" y="47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42" y="57"/>
                  </a:lnTo>
                  <a:lnTo>
                    <a:pt x="118" y="38"/>
                  </a:lnTo>
                  <a:lnTo>
                    <a:pt x="104" y="24"/>
                  </a:lnTo>
                  <a:lnTo>
                    <a:pt x="85" y="14"/>
                  </a:lnTo>
                  <a:lnTo>
                    <a:pt x="66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3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9" y="1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16"/>
            <p:cNvSpPr/>
            <p:nvPr/>
          </p:nvSpPr>
          <p:spPr>
            <a:xfrm flipH="1">
              <a:off x="3742920" y="1854000"/>
              <a:ext cx="296280" cy="167040"/>
            </a:xfrm>
            <a:custGeom>
              <a:avLst/>
              <a:gdLst/>
              <a:ahLst/>
              <a:rect l="l" t="t" r="r" b="b"/>
              <a:pathLst>
                <a:path w="147" h="75">
                  <a:moveTo>
                    <a:pt x="123" y="33"/>
                  </a:moveTo>
                  <a:lnTo>
                    <a:pt x="123" y="33"/>
                  </a:lnTo>
                  <a:lnTo>
                    <a:pt x="109" y="19"/>
                  </a:lnTo>
                  <a:lnTo>
                    <a:pt x="81" y="4"/>
                  </a:lnTo>
                  <a:lnTo>
                    <a:pt x="66" y="0"/>
                  </a:lnTo>
                  <a:lnTo>
                    <a:pt x="43" y="0"/>
                  </a:lnTo>
                  <a:lnTo>
                    <a:pt x="2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4" y="4"/>
                  </a:lnTo>
                  <a:lnTo>
                    <a:pt x="43" y="4"/>
                  </a:lnTo>
                  <a:lnTo>
                    <a:pt x="62" y="9"/>
                  </a:lnTo>
                  <a:lnTo>
                    <a:pt x="81" y="14"/>
                  </a:lnTo>
                  <a:lnTo>
                    <a:pt x="100" y="23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23" y="56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133" y="75"/>
                  </a:lnTo>
                  <a:lnTo>
                    <a:pt x="137" y="75"/>
                  </a:lnTo>
                  <a:lnTo>
                    <a:pt x="142" y="75"/>
                  </a:lnTo>
                  <a:lnTo>
                    <a:pt x="147" y="71"/>
                  </a:lnTo>
                  <a:lnTo>
                    <a:pt x="147" y="71"/>
                  </a:lnTo>
                  <a:lnTo>
                    <a:pt x="137" y="52"/>
                  </a:lnTo>
                  <a:lnTo>
                    <a:pt x="123" y="33"/>
                  </a:lnTo>
                  <a:lnTo>
                    <a:pt x="123" y="33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7"/>
            <p:cNvSpPr/>
            <p:nvPr/>
          </p:nvSpPr>
          <p:spPr>
            <a:xfrm flipH="1">
              <a:off x="3800160" y="1948680"/>
              <a:ext cx="239760" cy="20052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66" y="43"/>
                  </a:moveTo>
                  <a:lnTo>
                    <a:pt x="66" y="43"/>
                  </a:lnTo>
                  <a:lnTo>
                    <a:pt x="95" y="62"/>
                  </a:lnTo>
                  <a:lnTo>
                    <a:pt x="109" y="76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4" y="71"/>
                  </a:lnTo>
                  <a:lnTo>
                    <a:pt x="109" y="52"/>
                  </a:lnTo>
                  <a:lnTo>
                    <a:pt x="100" y="33"/>
                  </a:lnTo>
                  <a:lnTo>
                    <a:pt x="85" y="19"/>
                  </a:lnTo>
                  <a:lnTo>
                    <a:pt x="66" y="5"/>
                  </a:lnTo>
                  <a:lnTo>
                    <a:pt x="38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66" y="43"/>
                  </a:lnTo>
                  <a:lnTo>
                    <a:pt x="66" y="43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18"/>
            <p:cNvSpPr/>
            <p:nvPr/>
          </p:nvSpPr>
          <p:spPr>
            <a:xfrm flipH="1">
              <a:off x="3800160" y="1938960"/>
              <a:ext cx="247680" cy="192600"/>
            </a:xfrm>
            <a:custGeom>
              <a:avLst/>
              <a:gdLst/>
              <a:ahLst/>
              <a:rect l="l" t="t" r="r" b="b"/>
              <a:pathLst>
                <a:path w="123" h="85">
                  <a:moveTo>
                    <a:pt x="0" y="4"/>
                  </a:moveTo>
                  <a:lnTo>
                    <a:pt x="0" y="4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75" y="9"/>
                  </a:lnTo>
                  <a:lnTo>
                    <a:pt x="94" y="23"/>
                  </a:lnTo>
                  <a:lnTo>
                    <a:pt x="113" y="47"/>
                  </a:lnTo>
                  <a:lnTo>
                    <a:pt x="123" y="85"/>
                  </a:lnTo>
                  <a:lnTo>
                    <a:pt x="123" y="85"/>
                  </a:lnTo>
                  <a:lnTo>
                    <a:pt x="118" y="70"/>
                  </a:lnTo>
                  <a:lnTo>
                    <a:pt x="108" y="56"/>
                  </a:lnTo>
                  <a:lnTo>
                    <a:pt x="99" y="37"/>
                  </a:lnTo>
                  <a:lnTo>
                    <a:pt x="85" y="23"/>
                  </a:lnTo>
                  <a:lnTo>
                    <a:pt x="61" y="14"/>
                  </a:lnTo>
                  <a:lnTo>
                    <a:pt x="37" y="9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19"/>
            <p:cNvSpPr/>
            <p:nvPr/>
          </p:nvSpPr>
          <p:spPr>
            <a:xfrm flipH="1">
              <a:off x="3800160" y="1980360"/>
              <a:ext cx="247680" cy="1688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23" y="38"/>
                  </a:moveTo>
                  <a:lnTo>
                    <a:pt x="23" y="38"/>
                  </a:lnTo>
                  <a:lnTo>
                    <a:pt x="47" y="52"/>
                  </a:lnTo>
                  <a:lnTo>
                    <a:pt x="70" y="62"/>
                  </a:lnTo>
                  <a:lnTo>
                    <a:pt x="123" y="76"/>
                  </a:lnTo>
                  <a:lnTo>
                    <a:pt x="123" y="76"/>
                  </a:lnTo>
                  <a:lnTo>
                    <a:pt x="113" y="62"/>
                  </a:lnTo>
                  <a:lnTo>
                    <a:pt x="85" y="34"/>
                  </a:lnTo>
                  <a:lnTo>
                    <a:pt x="66" y="19"/>
                  </a:lnTo>
                  <a:lnTo>
                    <a:pt x="47" y="5"/>
                  </a:lnTo>
                  <a:lnTo>
                    <a:pt x="2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9"/>
                  </a:lnTo>
                  <a:lnTo>
                    <a:pt x="23" y="3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0"/>
            <p:cNvSpPr/>
            <p:nvPr/>
          </p:nvSpPr>
          <p:spPr>
            <a:xfrm flipH="1">
              <a:off x="3848760" y="2054880"/>
              <a:ext cx="75240" cy="748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5" y="4"/>
                  </a:moveTo>
                  <a:lnTo>
                    <a:pt x="5" y="4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9" y="33"/>
                  </a:lnTo>
                  <a:lnTo>
                    <a:pt x="28" y="33"/>
                  </a:lnTo>
                  <a:lnTo>
                    <a:pt x="33" y="2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3" y="1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21"/>
            <p:cNvSpPr/>
            <p:nvPr/>
          </p:nvSpPr>
          <p:spPr>
            <a:xfrm flipH="1">
              <a:off x="3858840" y="2086560"/>
              <a:ext cx="18720" cy="19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22"/>
            <p:cNvSpPr/>
            <p:nvPr/>
          </p:nvSpPr>
          <p:spPr>
            <a:xfrm flipH="1">
              <a:off x="3800160" y="1897920"/>
              <a:ext cx="258480" cy="251640"/>
            </a:xfrm>
            <a:custGeom>
              <a:avLst/>
              <a:gdLst/>
              <a:ahLst/>
              <a:rect l="l" t="t" r="r" b="b"/>
              <a:pathLst>
                <a:path w="128" h="113">
                  <a:moveTo>
                    <a:pt x="128" y="113"/>
                  </a:moveTo>
                  <a:lnTo>
                    <a:pt x="128" y="113"/>
                  </a:lnTo>
                  <a:lnTo>
                    <a:pt x="123" y="104"/>
                  </a:lnTo>
                  <a:lnTo>
                    <a:pt x="109" y="85"/>
                  </a:lnTo>
                  <a:lnTo>
                    <a:pt x="99" y="71"/>
                  </a:lnTo>
                  <a:lnTo>
                    <a:pt x="80" y="56"/>
                  </a:lnTo>
                  <a:lnTo>
                    <a:pt x="57" y="42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14" y="23"/>
                  </a:lnTo>
                  <a:lnTo>
                    <a:pt x="5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2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71" y="66"/>
                  </a:lnTo>
                  <a:lnTo>
                    <a:pt x="104" y="89"/>
                  </a:lnTo>
                  <a:lnTo>
                    <a:pt x="128" y="113"/>
                  </a:lnTo>
                  <a:lnTo>
                    <a:pt x="1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23"/>
            <p:cNvSpPr/>
            <p:nvPr/>
          </p:nvSpPr>
          <p:spPr>
            <a:xfrm flipH="1">
              <a:off x="3953160" y="1948680"/>
              <a:ext cx="105840" cy="14760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14" y="10"/>
                  </a:moveTo>
                  <a:lnTo>
                    <a:pt x="14" y="10"/>
                  </a:lnTo>
                  <a:lnTo>
                    <a:pt x="14" y="14"/>
                  </a:lnTo>
                  <a:lnTo>
                    <a:pt x="14" y="24"/>
                  </a:lnTo>
                  <a:lnTo>
                    <a:pt x="23" y="43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42" y="62"/>
                  </a:lnTo>
                  <a:lnTo>
                    <a:pt x="23" y="48"/>
                  </a:lnTo>
                  <a:lnTo>
                    <a:pt x="14" y="38"/>
                  </a:lnTo>
                  <a:lnTo>
                    <a:pt x="5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24"/>
            <p:cNvSpPr/>
            <p:nvPr/>
          </p:nvSpPr>
          <p:spPr>
            <a:xfrm flipH="1">
              <a:off x="3725640" y="2509920"/>
              <a:ext cx="237960" cy="159120"/>
            </a:xfrm>
            <a:custGeom>
              <a:avLst/>
              <a:gdLst/>
              <a:ahLst/>
              <a:rect l="l" t="t" r="r" b="b"/>
              <a:pathLst>
                <a:path w="118" h="71">
                  <a:moveTo>
                    <a:pt x="0" y="0"/>
                  </a:moveTo>
                  <a:lnTo>
                    <a:pt x="0" y="0"/>
                  </a:lnTo>
                  <a:lnTo>
                    <a:pt x="5" y="14"/>
                  </a:lnTo>
                  <a:lnTo>
                    <a:pt x="10" y="28"/>
                  </a:lnTo>
                  <a:lnTo>
                    <a:pt x="19" y="43"/>
                  </a:lnTo>
                  <a:lnTo>
                    <a:pt x="33" y="57"/>
                  </a:lnTo>
                  <a:lnTo>
                    <a:pt x="52" y="66"/>
                  </a:lnTo>
                  <a:lnTo>
                    <a:pt x="81" y="71"/>
                  </a:lnTo>
                  <a:lnTo>
                    <a:pt x="109" y="66"/>
                  </a:lnTo>
                  <a:lnTo>
                    <a:pt x="109" y="66"/>
                  </a:lnTo>
                  <a:lnTo>
                    <a:pt x="114" y="57"/>
                  </a:lnTo>
                  <a:lnTo>
                    <a:pt x="118" y="52"/>
                  </a:lnTo>
                  <a:lnTo>
                    <a:pt x="114" y="43"/>
                  </a:lnTo>
                  <a:lnTo>
                    <a:pt x="104" y="33"/>
                  </a:lnTo>
                  <a:lnTo>
                    <a:pt x="85" y="24"/>
                  </a:lnTo>
                  <a:lnTo>
                    <a:pt x="5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5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25"/>
            <p:cNvSpPr/>
            <p:nvPr/>
          </p:nvSpPr>
          <p:spPr>
            <a:xfrm flipH="1">
              <a:off x="3858120" y="2594520"/>
              <a:ext cx="48600" cy="45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4"/>
                  </a:moveTo>
                  <a:lnTo>
                    <a:pt x="24" y="14"/>
                  </a:lnTo>
                  <a:lnTo>
                    <a:pt x="19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c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26"/>
            <p:cNvSpPr/>
            <p:nvPr/>
          </p:nvSpPr>
          <p:spPr>
            <a:xfrm flipH="1">
              <a:off x="3389400" y="2202840"/>
              <a:ext cx="268200" cy="12780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90" y="57"/>
                  </a:moveTo>
                  <a:lnTo>
                    <a:pt x="90" y="57"/>
                  </a:lnTo>
                  <a:lnTo>
                    <a:pt x="62" y="47"/>
                  </a:lnTo>
                  <a:lnTo>
                    <a:pt x="38" y="38"/>
                  </a:lnTo>
                  <a:lnTo>
                    <a:pt x="0" y="5"/>
                  </a:lnTo>
                  <a:lnTo>
                    <a:pt x="0" y="5"/>
                  </a:lnTo>
                  <a:lnTo>
                    <a:pt x="19" y="0"/>
                  </a:lnTo>
                  <a:lnTo>
                    <a:pt x="62" y="5"/>
                  </a:lnTo>
                  <a:lnTo>
                    <a:pt x="86" y="5"/>
                  </a:lnTo>
                  <a:lnTo>
                    <a:pt x="109" y="14"/>
                  </a:lnTo>
                  <a:lnTo>
                    <a:pt x="123" y="28"/>
                  </a:lnTo>
                  <a:lnTo>
                    <a:pt x="128" y="38"/>
                  </a:lnTo>
                  <a:lnTo>
                    <a:pt x="133" y="47"/>
                  </a:lnTo>
                  <a:lnTo>
                    <a:pt x="133" y="47"/>
                  </a:lnTo>
                  <a:lnTo>
                    <a:pt x="133" y="47"/>
                  </a:lnTo>
                  <a:lnTo>
                    <a:pt x="128" y="57"/>
                  </a:lnTo>
                  <a:lnTo>
                    <a:pt x="114" y="57"/>
                  </a:lnTo>
                  <a:lnTo>
                    <a:pt x="90" y="57"/>
                  </a:lnTo>
                  <a:lnTo>
                    <a:pt x="9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27"/>
            <p:cNvSpPr/>
            <p:nvPr/>
          </p:nvSpPr>
          <p:spPr>
            <a:xfrm flipH="1">
              <a:off x="3380040" y="2161080"/>
              <a:ext cx="277560" cy="136080"/>
            </a:xfrm>
            <a:custGeom>
              <a:avLst/>
              <a:gdLst/>
              <a:ahLst/>
              <a:rect l="l" t="t" r="r" b="b"/>
              <a:pathLst>
                <a:path w="138" h="61">
                  <a:moveTo>
                    <a:pt x="67" y="33"/>
                  </a:moveTo>
                  <a:lnTo>
                    <a:pt x="67" y="33"/>
                  </a:lnTo>
                  <a:lnTo>
                    <a:pt x="34" y="24"/>
                  </a:lnTo>
                  <a:lnTo>
                    <a:pt x="10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5" y="14"/>
                  </a:lnTo>
                  <a:lnTo>
                    <a:pt x="29" y="5"/>
                  </a:lnTo>
                  <a:lnTo>
                    <a:pt x="52" y="0"/>
                  </a:lnTo>
                  <a:lnTo>
                    <a:pt x="76" y="0"/>
                  </a:lnTo>
                  <a:lnTo>
                    <a:pt x="95" y="9"/>
                  </a:lnTo>
                  <a:lnTo>
                    <a:pt x="119" y="28"/>
                  </a:lnTo>
                  <a:lnTo>
                    <a:pt x="128" y="42"/>
                  </a:lnTo>
                  <a:lnTo>
                    <a:pt x="138" y="61"/>
                  </a:lnTo>
                  <a:lnTo>
                    <a:pt x="138" y="61"/>
                  </a:lnTo>
                  <a:lnTo>
                    <a:pt x="67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28"/>
            <p:cNvSpPr/>
            <p:nvPr/>
          </p:nvSpPr>
          <p:spPr>
            <a:xfrm flipH="1">
              <a:off x="3418200" y="2253960"/>
              <a:ext cx="73440" cy="766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24"/>
                  </a:moveTo>
                  <a:lnTo>
                    <a:pt x="38" y="24"/>
                  </a:lnTo>
                  <a:lnTo>
                    <a:pt x="33" y="29"/>
                  </a:lnTo>
                  <a:lnTo>
                    <a:pt x="24" y="34"/>
                  </a:lnTo>
                  <a:lnTo>
                    <a:pt x="19" y="34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24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29"/>
            <p:cNvSpPr/>
            <p:nvPr/>
          </p:nvSpPr>
          <p:spPr>
            <a:xfrm flipH="1">
              <a:off x="3429000" y="2289240"/>
              <a:ext cx="14760" cy="79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30"/>
            <p:cNvSpPr/>
            <p:nvPr/>
          </p:nvSpPr>
          <p:spPr>
            <a:xfrm flipH="1">
              <a:off x="3360960" y="2161080"/>
              <a:ext cx="286920" cy="136080"/>
            </a:xfrm>
            <a:custGeom>
              <a:avLst/>
              <a:gdLst/>
              <a:ahLst/>
              <a:rect l="l" t="t" r="r" b="b"/>
              <a:pathLst>
                <a:path w="142" h="61">
                  <a:moveTo>
                    <a:pt x="142" y="61"/>
                  </a:moveTo>
                  <a:lnTo>
                    <a:pt x="142" y="61"/>
                  </a:lnTo>
                  <a:lnTo>
                    <a:pt x="133" y="47"/>
                  </a:lnTo>
                  <a:lnTo>
                    <a:pt x="123" y="33"/>
                  </a:lnTo>
                  <a:lnTo>
                    <a:pt x="109" y="19"/>
                  </a:lnTo>
                  <a:lnTo>
                    <a:pt x="90" y="5"/>
                  </a:lnTo>
                  <a:lnTo>
                    <a:pt x="66" y="0"/>
                  </a:lnTo>
                  <a:lnTo>
                    <a:pt x="33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4" y="14"/>
                  </a:lnTo>
                  <a:lnTo>
                    <a:pt x="29" y="9"/>
                  </a:lnTo>
                  <a:lnTo>
                    <a:pt x="52" y="9"/>
                  </a:lnTo>
                  <a:lnTo>
                    <a:pt x="71" y="9"/>
                  </a:lnTo>
                  <a:lnTo>
                    <a:pt x="95" y="19"/>
                  </a:lnTo>
                  <a:lnTo>
                    <a:pt x="114" y="33"/>
                  </a:lnTo>
                  <a:lnTo>
                    <a:pt x="128" y="61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1"/>
            <p:cNvSpPr/>
            <p:nvPr/>
          </p:nvSpPr>
          <p:spPr>
            <a:xfrm flipH="1">
              <a:off x="3360960" y="2297520"/>
              <a:ext cx="171720" cy="4320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71" y="0"/>
                  </a:moveTo>
                  <a:lnTo>
                    <a:pt x="71" y="0"/>
                  </a:lnTo>
                  <a:lnTo>
                    <a:pt x="66" y="5"/>
                  </a:lnTo>
                  <a:lnTo>
                    <a:pt x="57" y="10"/>
                  </a:lnTo>
                  <a:lnTo>
                    <a:pt x="38" y="1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10"/>
                  </a:lnTo>
                  <a:lnTo>
                    <a:pt x="33" y="15"/>
                  </a:lnTo>
                  <a:lnTo>
                    <a:pt x="47" y="19"/>
                  </a:lnTo>
                  <a:lnTo>
                    <a:pt x="61" y="19"/>
                  </a:lnTo>
                  <a:lnTo>
                    <a:pt x="76" y="15"/>
                  </a:lnTo>
                  <a:lnTo>
                    <a:pt x="8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32"/>
            <p:cNvSpPr/>
            <p:nvPr/>
          </p:nvSpPr>
          <p:spPr>
            <a:xfrm flipH="1">
              <a:off x="3323880" y="2202840"/>
              <a:ext cx="334080" cy="94320"/>
            </a:xfrm>
            <a:custGeom>
              <a:avLst/>
              <a:gdLst/>
              <a:ahLst/>
              <a:rect l="l" t="t" r="r" b="b"/>
              <a:pathLst>
                <a:path w="166" h="42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71" y="5"/>
                  </a:lnTo>
                  <a:lnTo>
                    <a:pt x="95" y="14"/>
                  </a:lnTo>
                  <a:lnTo>
                    <a:pt x="123" y="28"/>
                  </a:lnTo>
                  <a:lnTo>
                    <a:pt x="123" y="28"/>
                  </a:lnTo>
                  <a:lnTo>
                    <a:pt x="142" y="33"/>
                  </a:lnTo>
                  <a:lnTo>
                    <a:pt x="152" y="38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1" y="38"/>
                  </a:lnTo>
                  <a:lnTo>
                    <a:pt x="157" y="42"/>
                  </a:lnTo>
                  <a:lnTo>
                    <a:pt x="142" y="42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71" y="19"/>
                  </a:lnTo>
                  <a:lnTo>
                    <a:pt x="34" y="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3"/>
            <p:cNvSpPr/>
            <p:nvPr/>
          </p:nvSpPr>
          <p:spPr>
            <a:xfrm flipH="1">
              <a:off x="3742920" y="1462680"/>
              <a:ext cx="821880" cy="700560"/>
            </a:xfrm>
            <a:custGeom>
              <a:avLst/>
              <a:gdLst/>
              <a:ahLst/>
              <a:rect l="l" t="t" r="r" b="b"/>
              <a:pathLst>
                <a:path w="407" h="312">
                  <a:moveTo>
                    <a:pt x="379" y="0"/>
                  </a:moveTo>
                  <a:lnTo>
                    <a:pt x="379" y="0"/>
                  </a:lnTo>
                  <a:lnTo>
                    <a:pt x="350" y="23"/>
                  </a:lnTo>
                  <a:lnTo>
                    <a:pt x="289" y="80"/>
                  </a:lnTo>
                  <a:lnTo>
                    <a:pt x="199" y="146"/>
                  </a:lnTo>
                  <a:lnTo>
                    <a:pt x="151" y="179"/>
                  </a:lnTo>
                  <a:lnTo>
                    <a:pt x="99" y="208"/>
                  </a:lnTo>
                  <a:lnTo>
                    <a:pt x="99" y="208"/>
                  </a:lnTo>
                  <a:lnTo>
                    <a:pt x="43" y="231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14" y="279"/>
                  </a:lnTo>
                  <a:lnTo>
                    <a:pt x="33" y="312"/>
                  </a:lnTo>
                  <a:lnTo>
                    <a:pt x="33" y="312"/>
                  </a:lnTo>
                  <a:lnTo>
                    <a:pt x="81" y="302"/>
                  </a:lnTo>
                  <a:lnTo>
                    <a:pt x="147" y="279"/>
                  </a:lnTo>
                  <a:lnTo>
                    <a:pt x="222" y="236"/>
                  </a:lnTo>
                  <a:lnTo>
                    <a:pt x="265" y="208"/>
                  </a:lnTo>
                  <a:lnTo>
                    <a:pt x="312" y="175"/>
                  </a:lnTo>
                  <a:lnTo>
                    <a:pt x="312" y="175"/>
                  </a:lnTo>
                  <a:lnTo>
                    <a:pt x="341" y="156"/>
                  </a:lnTo>
                  <a:lnTo>
                    <a:pt x="369" y="127"/>
                  </a:lnTo>
                  <a:lnTo>
                    <a:pt x="393" y="94"/>
                  </a:lnTo>
                  <a:lnTo>
                    <a:pt x="402" y="75"/>
                  </a:lnTo>
                  <a:lnTo>
                    <a:pt x="407" y="56"/>
                  </a:lnTo>
                  <a:lnTo>
                    <a:pt x="407" y="56"/>
                  </a:lnTo>
                  <a:lnTo>
                    <a:pt x="407" y="42"/>
                  </a:lnTo>
                  <a:lnTo>
                    <a:pt x="397" y="28"/>
                  </a:lnTo>
                  <a:lnTo>
                    <a:pt x="379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34"/>
            <p:cNvSpPr/>
            <p:nvPr/>
          </p:nvSpPr>
          <p:spPr>
            <a:xfrm flipH="1">
              <a:off x="3800160" y="1472400"/>
              <a:ext cx="774720" cy="541080"/>
            </a:xfrm>
            <a:custGeom>
              <a:avLst/>
              <a:gdLst/>
              <a:ahLst/>
              <a:rect l="l" t="t" r="r" b="b"/>
              <a:pathLst>
                <a:path w="384" h="242">
                  <a:moveTo>
                    <a:pt x="384" y="0"/>
                  </a:moveTo>
                  <a:lnTo>
                    <a:pt x="384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13" y="57"/>
                  </a:lnTo>
                  <a:lnTo>
                    <a:pt x="256" y="104"/>
                  </a:lnTo>
                  <a:lnTo>
                    <a:pt x="204" y="142"/>
                  </a:lnTo>
                  <a:lnTo>
                    <a:pt x="152" y="175"/>
                  </a:lnTo>
                  <a:lnTo>
                    <a:pt x="109" y="199"/>
                  </a:lnTo>
                  <a:lnTo>
                    <a:pt x="67" y="213"/>
                  </a:lnTo>
                  <a:lnTo>
                    <a:pt x="34" y="227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5" y="242"/>
                  </a:lnTo>
                  <a:lnTo>
                    <a:pt x="5" y="242"/>
                  </a:lnTo>
                  <a:lnTo>
                    <a:pt x="38" y="232"/>
                  </a:lnTo>
                  <a:lnTo>
                    <a:pt x="71" y="223"/>
                  </a:lnTo>
                  <a:lnTo>
                    <a:pt x="114" y="204"/>
                  </a:lnTo>
                  <a:lnTo>
                    <a:pt x="156" y="180"/>
                  </a:lnTo>
                  <a:lnTo>
                    <a:pt x="209" y="152"/>
                  </a:lnTo>
                  <a:lnTo>
                    <a:pt x="261" y="109"/>
                  </a:lnTo>
                  <a:lnTo>
                    <a:pt x="322" y="62"/>
                  </a:lnTo>
                  <a:lnTo>
                    <a:pt x="384" y="5"/>
                  </a:lnTo>
                  <a:lnTo>
                    <a:pt x="384" y="5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35"/>
            <p:cNvSpPr/>
            <p:nvPr/>
          </p:nvSpPr>
          <p:spPr>
            <a:xfrm flipH="1">
              <a:off x="3799440" y="1462680"/>
              <a:ext cx="744120" cy="623880"/>
            </a:xfrm>
            <a:custGeom>
              <a:avLst/>
              <a:gdLst/>
              <a:ahLst/>
              <a:rect l="l" t="t" r="r" b="b"/>
              <a:pathLst>
                <a:path w="369" h="279">
                  <a:moveTo>
                    <a:pt x="369" y="4"/>
                  </a:moveTo>
                  <a:lnTo>
                    <a:pt x="369" y="4"/>
                  </a:lnTo>
                  <a:lnTo>
                    <a:pt x="369" y="0"/>
                  </a:lnTo>
                  <a:lnTo>
                    <a:pt x="369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50" y="33"/>
                  </a:lnTo>
                  <a:lnTo>
                    <a:pt x="335" y="61"/>
                  </a:lnTo>
                  <a:lnTo>
                    <a:pt x="316" y="85"/>
                  </a:lnTo>
                  <a:lnTo>
                    <a:pt x="298" y="108"/>
                  </a:lnTo>
                  <a:lnTo>
                    <a:pt x="255" y="156"/>
                  </a:lnTo>
                  <a:lnTo>
                    <a:pt x="203" y="189"/>
                  </a:lnTo>
                  <a:lnTo>
                    <a:pt x="151" y="217"/>
                  </a:lnTo>
                  <a:lnTo>
                    <a:pt x="99" y="241"/>
                  </a:lnTo>
                  <a:lnTo>
                    <a:pt x="47" y="260"/>
                  </a:lnTo>
                  <a:lnTo>
                    <a:pt x="0" y="269"/>
                  </a:lnTo>
                  <a:lnTo>
                    <a:pt x="0" y="269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52" y="265"/>
                  </a:lnTo>
                  <a:lnTo>
                    <a:pt x="104" y="250"/>
                  </a:lnTo>
                  <a:lnTo>
                    <a:pt x="156" y="227"/>
                  </a:lnTo>
                  <a:lnTo>
                    <a:pt x="212" y="194"/>
                  </a:lnTo>
                  <a:lnTo>
                    <a:pt x="260" y="161"/>
                  </a:lnTo>
                  <a:lnTo>
                    <a:pt x="307" y="118"/>
                  </a:lnTo>
                  <a:lnTo>
                    <a:pt x="326" y="90"/>
                  </a:lnTo>
                  <a:lnTo>
                    <a:pt x="345" y="66"/>
                  </a:lnTo>
                  <a:lnTo>
                    <a:pt x="359" y="33"/>
                  </a:lnTo>
                  <a:lnTo>
                    <a:pt x="369" y="4"/>
                  </a:lnTo>
                  <a:lnTo>
                    <a:pt x="369" y="4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6"/>
            <p:cNvSpPr/>
            <p:nvPr/>
          </p:nvSpPr>
          <p:spPr>
            <a:xfrm flipH="1">
              <a:off x="3734280" y="1588680"/>
              <a:ext cx="791280" cy="529200"/>
            </a:xfrm>
            <a:custGeom>
              <a:avLst/>
              <a:gdLst/>
              <a:ahLst/>
              <a:rect l="l" t="t" r="r" b="b"/>
              <a:pathLst>
                <a:path w="393" h="237">
                  <a:moveTo>
                    <a:pt x="393" y="0"/>
                  </a:moveTo>
                  <a:lnTo>
                    <a:pt x="393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69" y="29"/>
                  </a:lnTo>
                  <a:lnTo>
                    <a:pt x="355" y="57"/>
                  </a:lnTo>
                  <a:lnTo>
                    <a:pt x="331" y="81"/>
                  </a:lnTo>
                  <a:lnTo>
                    <a:pt x="312" y="105"/>
                  </a:lnTo>
                  <a:lnTo>
                    <a:pt x="260" y="138"/>
                  </a:lnTo>
                  <a:lnTo>
                    <a:pt x="208" y="171"/>
                  </a:lnTo>
                  <a:lnTo>
                    <a:pt x="156" y="194"/>
                  </a:lnTo>
                  <a:lnTo>
                    <a:pt x="99" y="209"/>
                  </a:lnTo>
                  <a:lnTo>
                    <a:pt x="47" y="218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0" y="237"/>
                  </a:lnTo>
                  <a:lnTo>
                    <a:pt x="0" y="237"/>
                  </a:lnTo>
                  <a:lnTo>
                    <a:pt x="52" y="227"/>
                  </a:lnTo>
                  <a:lnTo>
                    <a:pt x="104" y="218"/>
                  </a:lnTo>
                  <a:lnTo>
                    <a:pt x="161" y="199"/>
                  </a:lnTo>
                  <a:lnTo>
                    <a:pt x="213" y="175"/>
                  </a:lnTo>
                  <a:lnTo>
                    <a:pt x="270" y="147"/>
                  </a:lnTo>
                  <a:lnTo>
                    <a:pt x="317" y="109"/>
                  </a:lnTo>
                  <a:lnTo>
                    <a:pt x="341" y="86"/>
                  </a:lnTo>
                  <a:lnTo>
                    <a:pt x="360" y="62"/>
                  </a:lnTo>
                  <a:lnTo>
                    <a:pt x="378" y="34"/>
                  </a:lnTo>
                  <a:lnTo>
                    <a:pt x="393" y="5"/>
                  </a:lnTo>
                  <a:lnTo>
                    <a:pt x="393" y="5"/>
                  </a:lnTo>
                  <a:lnTo>
                    <a:pt x="393" y="0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7"/>
            <p:cNvSpPr/>
            <p:nvPr/>
          </p:nvSpPr>
          <p:spPr>
            <a:xfrm flipH="1">
              <a:off x="3733560" y="1588680"/>
              <a:ext cx="744120" cy="62568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369" y="5"/>
                  </a:moveTo>
                  <a:lnTo>
                    <a:pt x="369" y="5"/>
                  </a:lnTo>
                  <a:lnTo>
                    <a:pt x="369" y="0"/>
                  </a:lnTo>
                  <a:lnTo>
                    <a:pt x="369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50" y="34"/>
                  </a:lnTo>
                  <a:lnTo>
                    <a:pt x="336" y="62"/>
                  </a:lnTo>
                  <a:lnTo>
                    <a:pt x="317" y="86"/>
                  </a:lnTo>
                  <a:lnTo>
                    <a:pt x="298" y="109"/>
                  </a:lnTo>
                  <a:lnTo>
                    <a:pt x="255" y="152"/>
                  </a:lnTo>
                  <a:lnTo>
                    <a:pt x="203" y="190"/>
                  </a:lnTo>
                  <a:lnTo>
                    <a:pt x="151" y="218"/>
                  </a:lnTo>
                  <a:lnTo>
                    <a:pt x="99" y="242"/>
                  </a:lnTo>
                  <a:lnTo>
                    <a:pt x="47" y="256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56" y="265"/>
                  </a:lnTo>
                  <a:lnTo>
                    <a:pt x="108" y="246"/>
                  </a:lnTo>
                  <a:lnTo>
                    <a:pt x="161" y="223"/>
                  </a:lnTo>
                  <a:lnTo>
                    <a:pt x="213" y="194"/>
                  </a:lnTo>
                  <a:lnTo>
                    <a:pt x="260" y="161"/>
                  </a:lnTo>
                  <a:lnTo>
                    <a:pt x="307" y="114"/>
                  </a:lnTo>
                  <a:lnTo>
                    <a:pt x="326" y="90"/>
                  </a:lnTo>
                  <a:lnTo>
                    <a:pt x="340" y="62"/>
                  </a:lnTo>
                  <a:lnTo>
                    <a:pt x="359" y="34"/>
                  </a:lnTo>
                  <a:lnTo>
                    <a:pt x="369" y="5"/>
                  </a:lnTo>
                  <a:lnTo>
                    <a:pt x="369" y="5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38"/>
            <p:cNvSpPr/>
            <p:nvPr/>
          </p:nvSpPr>
          <p:spPr>
            <a:xfrm flipH="1">
              <a:off x="3734280" y="1377720"/>
              <a:ext cx="103680" cy="22248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9"/>
            <p:cNvSpPr/>
            <p:nvPr/>
          </p:nvSpPr>
          <p:spPr>
            <a:xfrm flipH="1">
              <a:off x="1893600" y="2625840"/>
              <a:ext cx="581760" cy="316800"/>
            </a:xfrm>
            <a:custGeom>
              <a:avLst/>
              <a:gdLst/>
              <a:ahLst/>
              <a:rect l="l" t="t" r="r" b="b"/>
              <a:pathLst>
                <a:path w="288" h="142">
                  <a:moveTo>
                    <a:pt x="288" y="104"/>
                  </a:moveTo>
                  <a:lnTo>
                    <a:pt x="9" y="0"/>
                  </a:lnTo>
                  <a:lnTo>
                    <a:pt x="0" y="33"/>
                  </a:lnTo>
                  <a:lnTo>
                    <a:pt x="279" y="142"/>
                  </a:lnTo>
                  <a:lnTo>
                    <a:pt x="288" y="10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0"/>
            <p:cNvSpPr/>
            <p:nvPr/>
          </p:nvSpPr>
          <p:spPr>
            <a:xfrm flipH="1">
              <a:off x="1846080" y="2497680"/>
              <a:ext cx="617760" cy="413640"/>
            </a:xfrm>
            <a:custGeom>
              <a:avLst/>
              <a:gdLst/>
              <a:ahLst/>
              <a:rect l="l" t="t" r="r" b="b"/>
              <a:pathLst>
                <a:path w="307" h="185">
                  <a:moveTo>
                    <a:pt x="307" y="104"/>
                  </a:moveTo>
                  <a:lnTo>
                    <a:pt x="28" y="0"/>
                  </a:lnTo>
                  <a:lnTo>
                    <a:pt x="0" y="81"/>
                  </a:lnTo>
                  <a:lnTo>
                    <a:pt x="279" y="185"/>
                  </a:lnTo>
                  <a:lnTo>
                    <a:pt x="307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41"/>
            <p:cNvSpPr/>
            <p:nvPr/>
          </p:nvSpPr>
          <p:spPr>
            <a:xfrm flipH="1">
              <a:off x="2579400" y="2700720"/>
              <a:ext cx="287280" cy="549000"/>
            </a:xfrm>
            <a:custGeom>
              <a:avLst/>
              <a:gdLst/>
              <a:ahLst/>
              <a:rect l="l" t="t" r="r" b="b"/>
              <a:pathLst>
                <a:path w="142" h="246">
                  <a:moveTo>
                    <a:pt x="80" y="66"/>
                  </a:moveTo>
                  <a:lnTo>
                    <a:pt x="80" y="66"/>
                  </a:lnTo>
                  <a:lnTo>
                    <a:pt x="90" y="52"/>
                  </a:lnTo>
                  <a:lnTo>
                    <a:pt x="104" y="43"/>
                  </a:lnTo>
                  <a:lnTo>
                    <a:pt x="118" y="43"/>
                  </a:lnTo>
                  <a:lnTo>
                    <a:pt x="132" y="43"/>
                  </a:lnTo>
                  <a:lnTo>
                    <a:pt x="132" y="43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37" y="24"/>
                  </a:lnTo>
                  <a:lnTo>
                    <a:pt x="132" y="10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99" y="0"/>
                  </a:lnTo>
                  <a:lnTo>
                    <a:pt x="85" y="5"/>
                  </a:lnTo>
                  <a:lnTo>
                    <a:pt x="76" y="10"/>
                  </a:lnTo>
                  <a:lnTo>
                    <a:pt x="66" y="24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0" y="227"/>
                  </a:lnTo>
                  <a:lnTo>
                    <a:pt x="5" y="237"/>
                  </a:lnTo>
                  <a:lnTo>
                    <a:pt x="14" y="246"/>
                  </a:lnTo>
                  <a:lnTo>
                    <a:pt x="14" y="246"/>
                  </a:lnTo>
                  <a:lnTo>
                    <a:pt x="14" y="246"/>
                  </a:lnTo>
                  <a:lnTo>
                    <a:pt x="80" y="6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42"/>
            <p:cNvSpPr/>
            <p:nvPr/>
          </p:nvSpPr>
          <p:spPr>
            <a:xfrm flipH="1">
              <a:off x="2579400" y="2795040"/>
              <a:ext cx="258480" cy="4662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62" y="189"/>
                  </a:moveTo>
                  <a:lnTo>
                    <a:pt x="128" y="9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9"/>
                  </a:lnTo>
                  <a:lnTo>
                    <a:pt x="66" y="2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10" y="208"/>
                  </a:lnTo>
                  <a:lnTo>
                    <a:pt x="10" y="208"/>
                  </a:lnTo>
                  <a:lnTo>
                    <a:pt x="24" y="208"/>
                  </a:lnTo>
                  <a:lnTo>
                    <a:pt x="43" y="208"/>
                  </a:lnTo>
                  <a:lnTo>
                    <a:pt x="52" y="198"/>
                  </a:lnTo>
                  <a:lnTo>
                    <a:pt x="62" y="189"/>
                  </a:lnTo>
                  <a:lnTo>
                    <a:pt x="62" y="1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43"/>
            <p:cNvSpPr/>
            <p:nvPr/>
          </p:nvSpPr>
          <p:spPr>
            <a:xfrm flipH="1">
              <a:off x="2644920" y="2913480"/>
              <a:ext cx="39240" cy="511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23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9" y="4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4"/>
            <p:cNvSpPr/>
            <p:nvPr/>
          </p:nvSpPr>
          <p:spPr>
            <a:xfrm flipH="1">
              <a:off x="2673360" y="2974320"/>
              <a:ext cx="39240" cy="529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24"/>
                  </a:moveTo>
                  <a:lnTo>
                    <a:pt x="0" y="19"/>
                  </a:lnTo>
                  <a:lnTo>
                    <a:pt x="9" y="0"/>
                  </a:lnTo>
                  <a:lnTo>
                    <a:pt x="19" y="5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5"/>
            <p:cNvSpPr/>
            <p:nvPr/>
          </p:nvSpPr>
          <p:spPr>
            <a:xfrm flipH="1">
              <a:off x="2693880" y="3048840"/>
              <a:ext cx="34200" cy="529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0" y="24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9" y="5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46"/>
            <p:cNvSpPr/>
            <p:nvPr/>
          </p:nvSpPr>
          <p:spPr>
            <a:xfrm flipH="1">
              <a:off x="2253600" y="2265840"/>
              <a:ext cx="592920" cy="623880"/>
            </a:xfrm>
            <a:custGeom>
              <a:avLst/>
              <a:gdLst/>
              <a:ahLst/>
              <a:rect l="l" t="t" r="r" b="b"/>
              <a:pathLst>
                <a:path w="294" h="279">
                  <a:moveTo>
                    <a:pt x="289" y="194"/>
                  </a:moveTo>
                  <a:lnTo>
                    <a:pt x="289" y="194"/>
                  </a:lnTo>
                  <a:lnTo>
                    <a:pt x="275" y="218"/>
                  </a:lnTo>
                  <a:lnTo>
                    <a:pt x="261" y="237"/>
                  </a:lnTo>
                  <a:lnTo>
                    <a:pt x="237" y="256"/>
                  </a:lnTo>
                  <a:lnTo>
                    <a:pt x="213" y="265"/>
                  </a:lnTo>
                  <a:lnTo>
                    <a:pt x="185" y="275"/>
                  </a:lnTo>
                  <a:lnTo>
                    <a:pt x="161" y="279"/>
                  </a:lnTo>
                  <a:lnTo>
                    <a:pt x="128" y="275"/>
                  </a:lnTo>
                  <a:lnTo>
                    <a:pt x="100" y="265"/>
                  </a:lnTo>
                  <a:lnTo>
                    <a:pt x="100" y="265"/>
                  </a:lnTo>
                  <a:lnTo>
                    <a:pt x="71" y="256"/>
                  </a:lnTo>
                  <a:lnTo>
                    <a:pt x="48" y="237"/>
                  </a:lnTo>
                  <a:lnTo>
                    <a:pt x="29" y="218"/>
                  </a:lnTo>
                  <a:lnTo>
                    <a:pt x="15" y="194"/>
                  </a:lnTo>
                  <a:lnTo>
                    <a:pt x="5" y="166"/>
                  </a:lnTo>
                  <a:lnTo>
                    <a:pt x="0" y="142"/>
                  </a:lnTo>
                  <a:lnTo>
                    <a:pt x="0" y="114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9" y="62"/>
                  </a:lnTo>
                  <a:lnTo>
                    <a:pt x="38" y="43"/>
                  </a:lnTo>
                  <a:lnTo>
                    <a:pt x="57" y="24"/>
                  </a:lnTo>
                  <a:lnTo>
                    <a:pt x="81" y="14"/>
                  </a:lnTo>
                  <a:lnTo>
                    <a:pt x="109" y="5"/>
                  </a:lnTo>
                  <a:lnTo>
                    <a:pt x="138" y="0"/>
                  </a:lnTo>
                  <a:lnTo>
                    <a:pt x="166" y="5"/>
                  </a:lnTo>
                  <a:lnTo>
                    <a:pt x="194" y="14"/>
                  </a:lnTo>
                  <a:lnTo>
                    <a:pt x="194" y="14"/>
                  </a:lnTo>
                  <a:lnTo>
                    <a:pt x="223" y="24"/>
                  </a:lnTo>
                  <a:lnTo>
                    <a:pt x="246" y="43"/>
                  </a:lnTo>
                  <a:lnTo>
                    <a:pt x="265" y="62"/>
                  </a:lnTo>
                  <a:lnTo>
                    <a:pt x="280" y="85"/>
                  </a:lnTo>
                  <a:lnTo>
                    <a:pt x="289" y="114"/>
                  </a:lnTo>
                  <a:lnTo>
                    <a:pt x="294" y="137"/>
                  </a:lnTo>
                  <a:lnTo>
                    <a:pt x="294" y="166"/>
                  </a:lnTo>
                  <a:lnTo>
                    <a:pt x="289" y="194"/>
                  </a:lnTo>
                  <a:lnTo>
                    <a:pt x="289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7"/>
            <p:cNvSpPr/>
            <p:nvPr/>
          </p:nvSpPr>
          <p:spPr>
            <a:xfrm flipH="1">
              <a:off x="2418480" y="2446920"/>
              <a:ext cx="266400" cy="26352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128" y="80"/>
                  </a:moveTo>
                  <a:lnTo>
                    <a:pt x="128" y="80"/>
                  </a:lnTo>
                  <a:lnTo>
                    <a:pt x="118" y="104"/>
                  </a:lnTo>
                  <a:lnTo>
                    <a:pt x="94" y="113"/>
                  </a:lnTo>
                  <a:lnTo>
                    <a:pt x="71" y="118"/>
                  </a:lnTo>
                  <a:lnTo>
                    <a:pt x="47" y="113"/>
                  </a:lnTo>
                  <a:lnTo>
                    <a:pt x="47" y="113"/>
                  </a:lnTo>
                  <a:lnTo>
                    <a:pt x="24" y="99"/>
                  </a:lnTo>
                  <a:lnTo>
                    <a:pt x="9" y="80"/>
                  </a:lnTo>
                  <a:lnTo>
                    <a:pt x="0" y="61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19" y="14"/>
                  </a:lnTo>
                  <a:lnTo>
                    <a:pt x="38" y="4"/>
                  </a:lnTo>
                  <a:lnTo>
                    <a:pt x="61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109" y="14"/>
                  </a:lnTo>
                  <a:lnTo>
                    <a:pt x="128" y="37"/>
                  </a:lnTo>
                  <a:lnTo>
                    <a:pt x="132" y="56"/>
                  </a:lnTo>
                  <a:lnTo>
                    <a:pt x="128" y="80"/>
                  </a:lnTo>
                  <a:lnTo>
                    <a:pt x="128" y="8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48"/>
            <p:cNvSpPr/>
            <p:nvPr/>
          </p:nvSpPr>
          <p:spPr>
            <a:xfrm flipH="1">
              <a:off x="1082880" y="3905280"/>
              <a:ext cx="275760" cy="14976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33" y="38"/>
                  </a:moveTo>
                  <a:lnTo>
                    <a:pt x="33" y="38"/>
                  </a:lnTo>
                  <a:lnTo>
                    <a:pt x="14" y="4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4" y="57"/>
                  </a:lnTo>
                  <a:lnTo>
                    <a:pt x="33" y="62"/>
                  </a:lnTo>
                  <a:lnTo>
                    <a:pt x="52" y="67"/>
                  </a:lnTo>
                  <a:lnTo>
                    <a:pt x="76" y="67"/>
                  </a:lnTo>
                  <a:lnTo>
                    <a:pt x="95" y="57"/>
                  </a:lnTo>
                  <a:lnTo>
                    <a:pt x="119" y="43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0"/>
                  </a:lnTo>
                  <a:lnTo>
                    <a:pt x="137" y="5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95" y="5"/>
                  </a:lnTo>
                  <a:lnTo>
                    <a:pt x="71" y="15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fa5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49"/>
            <p:cNvSpPr/>
            <p:nvPr/>
          </p:nvSpPr>
          <p:spPr>
            <a:xfrm flipH="1">
              <a:off x="1177200" y="4001400"/>
              <a:ext cx="47520" cy="31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5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c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50"/>
            <p:cNvSpPr/>
            <p:nvPr/>
          </p:nvSpPr>
          <p:spPr>
            <a:xfrm flipH="1">
              <a:off x="1014120" y="3397680"/>
              <a:ext cx="268200" cy="16884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104" y="48"/>
                  </a:moveTo>
                  <a:lnTo>
                    <a:pt x="104" y="48"/>
                  </a:lnTo>
                  <a:lnTo>
                    <a:pt x="76" y="62"/>
                  </a:lnTo>
                  <a:lnTo>
                    <a:pt x="52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4" y="62"/>
                  </a:lnTo>
                  <a:lnTo>
                    <a:pt x="47" y="29"/>
                  </a:lnTo>
                  <a:lnTo>
                    <a:pt x="71" y="14"/>
                  </a:lnTo>
                  <a:lnTo>
                    <a:pt x="90" y="5"/>
                  </a:lnTo>
                  <a:lnTo>
                    <a:pt x="114" y="0"/>
                  </a:lnTo>
                  <a:lnTo>
                    <a:pt x="123" y="5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14"/>
                  </a:lnTo>
                  <a:lnTo>
                    <a:pt x="133" y="19"/>
                  </a:lnTo>
                  <a:lnTo>
                    <a:pt x="128" y="33"/>
                  </a:lnTo>
                  <a:lnTo>
                    <a:pt x="104" y="48"/>
                  </a:lnTo>
                  <a:lnTo>
                    <a:pt x="10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51"/>
            <p:cNvSpPr/>
            <p:nvPr/>
          </p:nvSpPr>
          <p:spPr>
            <a:xfrm flipH="1">
              <a:off x="1014120" y="3377880"/>
              <a:ext cx="268200" cy="188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57" y="47"/>
                  </a:moveTo>
                  <a:lnTo>
                    <a:pt x="57" y="47"/>
                  </a:lnTo>
                  <a:lnTo>
                    <a:pt x="24" y="61"/>
                  </a:lnTo>
                  <a:lnTo>
                    <a:pt x="10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66"/>
                  </a:lnTo>
                  <a:lnTo>
                    <a:pt x="10" y="47"/>
                  </a:lnTo>
                  <a:lnTo>
                    <a:pt x="24" y="33"/>
                  </a:lnTo>
                  <a:lnTo>
                    <a:pt x="43" y="14"/>
                  </a:lnTo>
                  <a:lnTo>
                    <a:pt x="66" y="5"/>
                  </a:lnTo>
                  <a:lnTo>
                    <a:pt x="81" y="0"/>
                  </a:lnTo>
                  <a:lnTo>
                    <a:pt x="95" y="5"/>
                  </a:lnTo>
                  <a:lnTo>
                    <a:pt x="114" y="5"/>
                  </a:lnTo>
                  <a:lnTo>
                    <a:pt x="133" y="14"/>
                  </a:lnTo>
                  <a:lnTo>
                    <a:pt x="133" y="14"/>
                  </a:lnTo>
                  <a:lnTo>
                    <a:pt x="57" y="4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2"/>
            <p:cNvSpPr/>
            <p:nvPr/>
          </p:nvSpPr>
          <p:spPr>
            <a:xfrm flipH="1">
              <a:off x="1045080" y="3429000"/>
              <a:ext cx="73440" cy="7668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7" y="10"/>
                  </a:moveTo>
                  <a:lnTo>
                    <a:pt x="37" y="10"/>
                  </a:lnTo>
                  <a:lnTo>
                    <a:pt x="37" y="15"/>
                  </a:lnTo>
                  <a:lnTo>
                    <a:pt x="37" y="24"/>
                  </a:lnTo>
                  <a:lnTo>
                    <a:pt x="33" y="29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18" y="34"/>
                  </a:lnTo>
                  <a:lnTo>
                    <a:pt x="9" y="34"/>
                  </a:lnTo>
                  <a:lnTo>
                    <a:pt x="4" y="2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60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53"/>
            <p:cNvSpPr/>
            <p:nvPr/>
          </p:nvSpPr>
          <p:spPr>
            <a:xfrm flipH="1">
              <a:off x="1052280" y="3440880"/>
              <a:ext cx="20880" cy="21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54"/>
            <p:cNvSpPr/>
            <p:nvPr/>
          </p:nvSpPr>
          <p:spPr>
            <a:xfrm flipH="1">
              <a:off x="995760" y="3377880"/>
              <a:ext cx="282960" cy="178920"/>
            </a:xfrm>
            <a:custGeom>
              <a:avLst/>
              <a:gdLst/>
              <a:ahLst/>
              <a:rect l="l" t="t" r="r" b="b"/>
              <a:pathLst>
                <a:path w="142" h="80">
                  <a:moveTo>
                    <a:pt x="142" y="9"/>
                  </a:moveTo>
                  <a:lnTo>
                    <a:pt x="142" y="9"/>
                  </a:lnTo>
                  <a:lnTo>
                    <a:pt x="123" y="5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57" y="5"/>
                  </a:lnTo>
                  <a:lnTo>
                    <a:pt x="38" y="14"/>
                  </a:lnTo>
                  <a:lnTo>
                    <a:pt x="24" y="28"/>
                  </a:lnTo>
                  <a:lnTo>
                    <a:pt x="14" y="38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0" y="61"/>
                  </a:lnTo>
                  <a:lnTo>
                    <a:pt x="19" y="47"/>
                  </a:lnTo>
                  <a:lnTo>
                    <a:pt x="33" y="33"/>
                  </a:lnTo>
                  <a:lnTo>
                    <a:pt x="47" y="19"/>
                  </a:lnTo>
                  <a:lnTo>
                    <a:pt x="71" y="9"/>
                  </a:lnTo>
                  <a:lnTo>
                    <a:pt x="99" y="9"/>
                  </a:lnTo>
                  <a:lnTo>
                    <a:pt x="133" y="14"/>
                  </a:lnTo>
                  <a:lnTo>
                    <a:pt x="142" y="9"/>
                  </a:lnTo>
                  <a:close/>
                </a:path>
              </a:pathLst>
            </a:custGeom>
            <a:solidFill>
              <a:srgbClr val="ca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55"/>
            <p:cNvSpPr/>
            <p:nvPr/>
          </p:nvSpPr>
          <p:spPr>
            <a:xfrm flipH="1">
              <a:off x="908280" y="3048840"/>
              <a:ext cx="857880" cy="930960"/>
            </a:xfrm>
            <a:custGeom>
              <a:avLst/>
              <a:gdLst/>
              <a:ahLst/>
              <a:rect l="l" t="t" r="r" b="b"/>
              <a:pathLst>
                <a:path w="426" h="416">
                  <a:moveTo>
                    <a:pt x="279" y="47"/>
                  </a:moveTo>
                  <a:lnTo>
                    <a:pt x="279" y="47"/>
                  </a:lnTo>
                  <a:lnTo>
                    <a:pt x="251" y="33"/>
                  </a:lnTo>
                  <a:lnTo>
                    <a:pt x="222" y="19"/>
                  </a:lnTo>
                  <a:lnTo>
                    <a:pt x="189" y="10"/>
                  </a:lnTo>
                  <a:lnTo>
                    <a:pt x="156" y="5"/>
                  </a:lnTo>
                  <a:lnTo>
                    <a:pt x="118" y="5"/>
                  </a:lnTo>
                  <a:lnTo>
                    <a:pt x="80" y="10"/>
                  </a:lnTo>
                  <a:lnTo>
                    <a:pt x="42" y="1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2" y="10"/>
                  </a:lnTo>
                  <a:lnTo>
                    <a:pt x="80" y="0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89" y="5"/>
                  </a:lnTo>
                  <a:lnTo>
                    <a:pt x="222" y="10"/>
                  </a:lnTo>
                  <a:lnTo>
                    <a:pt x="255" y="24"/>
                  </a:lnTo>
                  <a:lnTo>
                    <a:pt x="284" y="43"/>
                  </a:lnTo>
                  <a:lnTo>
                    <a:pt x="284" y="43"/>
                  </a:lnTo>
                  <a:lnTo>
                    <a:pt x="307" y="62"/>
                  </a:lnTo>
                  <a:lnTo>
                    <a:pt x="326" y="81"/>
                  </a:lnTo>
                  <a:lnTo>
                    <a:pt x="345" y="104"/>
                  </a:lnTo>
                  <a:lnTo>
                    <a:pt x="359" y="128"/>
                  </a:lnTo>
                  <a:lnTo>
                    <a:pt x="383" y="185"/>
                  </a:lnTo>
                  <a:lnTo>
                    <a:pt x="402" y="241"/>
                  </a:lnTo>
                  <a:lnTo>
                    <a:pt x="411" y="293"/>
                  </a:lnTo>
                  <a:lnTo>
                    <a:pt x="421" y="345"/>
                  </a:lnTo>
                  <a:lnTo>
                    <a:pt x="426" y="412"/>
                  </a:lnTo>
                  <a:lnTo>
                    <a:pt x="426" y="412"/>
                  </a:lnTo>
                  <a:lnTo>
                    <a:pt x="416" y="416"/>
                  </a:lnTo>
                  <a:lnTo>
                    <a:pt x="416" y="416"/>
                  </a:lnTo>
                  <a:lnTo>
                    <a:pt x="411" y="350"/>
                  </a:lnTo>
                  <a:lnTo>
                    <a:pt x="407" y="298"/>
                  </a:lnTo>
                  <a:lnTo>
                    <a:pt x="392" y="246"/>
                  </a:lnTo>
                  <a:lnTo>
                    <a:pt x="378" y="189"/>
                  </a:lnTo>
                  <a:lnTo>
                    <a:pt x="355" y="137"/>
                  </a:lnTo>
                  <a:lnTo>
                    <a:pt x="340" y="114"/>
                  </a:lnTo>
                  <a:lnTo>
                    <a:pt x="322" y="90"/>
                  </a:lnTo>
                  <a:lnTo>
                    <a:pt x="303" y="66"/>
                  </a:lnTo>
                  <a:lnTo>
                    <a:pt x="279" y="47"/>
                  </a:lnTo>
                  <a:lnTo>
                    <a:pt x="279" y="47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6"/>
            <p:cNvSpPr/>
            <p:nvPr/>
          </p:nvSpPr>
          <p:spPr>
            <a:xfrm flipH="1">
              <a:off x="995040" y="3397680"/>
              <a:ext cx="122760" cy="1396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7" y="10"/>
                  </a:moveTo>
                  <a:lnTo>
                    <a:pt x="47" y="10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33" y="43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9" y="62"/>
                  </a:lnTo>
                  <a:lnTo>
                    <a:pt x="33" y="48"/>
                  </a:lnTo>
                  <a:lnTo>
                    <a:pt x="42" y="38"/>
                  </a:lnTo>
                  <a:lnTo>
                    <a:pt x="52" y="29"/>
                  </a:lnTo>
                  <a:lnTo>
                    <a:pt x="61" y="14"/>
                  </a:lnTo>
                  <a:lnTo>
                    <a:pt x="61" y="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7"/>
            <p:cNvSpPr/>
            <p:nvPr/>
          </p:nvSpPr>
          <p:spPr>
            <a:xfrm flipH="1">
              <a:off x="986400" y="3346200"/>
              <a:ext cx="292320" cy="220320"/>
            </a:xfrm>
            <a:custGeom>
              <a:avLst/>
              <a:gdLst/>
              <a:ahLst/>
              <a:rect l="l" t="t" r="r" b="b"/>
              <a:pathLst>
                <a:path w="147" h="99">
                  <a:moveTo>
                    <a:pt x="0" y="99"/>
                  </a:moveTo>
                  <a:lnTo>
                    <a:pt x="0" y="99"/>
                  </a:lnTo>
                  <a:lnTo>
                    <a:pt x="5" y="90"/>
                  </a:lnTo>
                  <a:lnTo>
                    <a:pt x="19" y="71"/>
                  </a:lnTo>
                  <a:lnTo>
                    <a:pt x="33" y="61"/>
                  </a:lnTo>
                  <a:lnTo>
                    <a:pt x="52" y="47"/>
                  </a:lnTo>
                  <a:lnTo>
                    <a:pt x="81" y="37"/>
                  </a:lnTo>
                  <a:lnTo>
                    <a:pt x="109" y="28"/>
                  </a:lnTo>
                  <a:lnTo>
                    <a:pt x="109" y="28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4"/>
                  </a:lnTo>
                  <a:lnTo>
                    <a:pt x="147" y="14"/>
                  </a:lnTo>
                  <a:lnTo>
                    <a:pt x="137" y="28"/>
                  </a:lnTo>
                  <a:lnTo>
                    <a:pt x="114" y="37"/>
                  </a:lnTo>
                  <a:lnTo>
                    <a:pt x="114" y="37"/>
                  </a:lnTo>
                  <a:lnTo>
                    <a:pt x="62" y="56"/>
                  </a:lnTo>
                  <a:lnTo>
                    <a:pt x="29" y="7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8"/>
            <p:cNvSpPr/>
            <p:nvPr/>
          </p:nvSpPr>
          <p:spPr>
            <a:xfrm flipH="1">
              <a:off x="985680" y="2657520"/>
              <a:ext cx="311400" cy="297000"/>
            </a:xfrm>
            <a:custGeom>
              <a:avLst/>
              <a:gdLst/>
              <a:ahLst/>
              <a:rect l="l" t="t" r="r" b="b"/>
              <a:pathLst>
                <a:path w="156" h="133">
                  <a:moveTo>
                    <a:pt x="28" y="5"/>
                  </a:moveTo>
                  <a:lnTo>
                    <a:pt x="28" y="5"/>
                  </a:lnTo>
                  <a:lnTo>
                    <a:pt x="90" y="24"/>
                  </a:lnTo>
                  <a:lnTo>
                    <a:pt x="132" y="43"/>
                  </a:lnTo>
                  <a:lnTo>
                    <a:pt x="146" y="4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6" y="76"/>
                  </a:lnTo>
                  <a:lnTo>
                    <a:pt x="146" y="104"/>
                  </a:lnTo>
                  <a:lnTo>
                    <a:pt x="137" y="133"/>
                  </a:lnTo>
                  <a:lnTo>
                    <a:pt x="137" y="133"/>
                  </a:lnTo>
                  <a:lnTo>
                    <a:pt x="132" y="133"/>
                  </a:lnTo>
                  <a:lnTo>
                    <a:pt x="127" y="128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7" y="76"/>
                  </a:lnTo>
                  <a:lnTo>
                    <a:pt x="137" y="62"/>
                  </a:lnTo>
                  <a:lnTo>
                    <a:pt x="132" y="57"/>
                  </a:lnTo>
                  <a:lnTo>
                    <a:pt x="123" y="52"/>
                  </a:lnTo>
                  <a:lnTo>
                    <a:pt x="123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59"/>
            <p:cNvSpPr/>
            <p:nvPr/>
          </p:nvSpPr>
          <p:spPr>
            <a:xfrm flipH="1">
              <a:off x="1032840" y="2761560"/>
              <a:ext cx="56520" cy="171360"/>
            </a:xfrm>
            <a:custGeom>
              <a:avLst/>
              <a:gdLst/>
              <a:ahLst/>
              <a:rect l="l" t="t" r="r" b="b"/>
              <a:pathLst>
                <a:path w="28" h="76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6"/>
                  </a:lnTo>
                  <a:lnTo>
                    <a:pt x="9" y="71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60"/>
            <p:cNvSpPr/>
            <p:nvPr/>
          </p:nvSpPr>
          <p:spPr>
            <a:xfrm flipH="1">
              <a:off x="1072800" y="2754000"/>
              <a:ext cx="56520" cy="1670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14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5" y="75"/>
                  </a:lnTo>
                  <a:lnTo>
                    <a:pt x="9" y="71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61"/>
            <p:cNvSpPr/>
            <p:nvPr/>
          </p:nvSpPr>
          <p:spPr>
            <a:xfrm flipH="1">
              <a:off x="1118160" y="2732040"/>
              <a:ext cx="57960" cy="181080"/>
            </a:xfrm>
            <a:custGeom>
              <a:avLst/>
              <a:gdLst/>
              <a:ahLst/>
              <a:rect l="l" t="t" r="r" b="b"/>
              <a:pathLst>
                <a:path w="29" h="81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62"/>
            <p:cNvSpPr/>
            <p:nvPr/>
          </p:nvSpPr>
          <p:spPr>
            <a:xfrm flipH="1">
              <a:off x="1167840" y="2722320"/>
              <a:ext cx="48960" cy="17892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4" y="4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80"/>
                  </a:lnTo>
                  <a:lnTo>
                    <a:pt x="10" y="7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63"/>
            <p:cNvSpPr/>
            <p:nvPr/>
          </p:nvSpPr>
          <p:spPr>
            <a:xfrm flipH="1">
              <a:off x="1205280" y="2710800"/>
              <a:ext cx="48960" cy="17892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5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76"/>
                  </a:lnTo>
                  <a:lnTo>
                    <a:pt x="10" y="71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64"/>
            <p:cNvSpPr/>
            <p:nvPr/>
          </p:nvSpPr>
          <p:spPr>
            <a:xfrm flipH="1">
              <a:off x="1242720" y="2700720"/>
              <a:ext cx="56520" cy="168840"/>
            </a:xfrm>
            <a:custGeom>
              <a:avLst/>
              <a:gdLst/>
              <a:ahLst/>
              <a:rect l="l" t="t" r="r" b="b"/>
              <a:pathLst>
                <a:path w="28" h="76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6"/>
                  </a:lnTo>
                  <a:lnTo>
                    <a:pt x="9" y="71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65"/>
            <p:cNvSpPr/>
            <p:nvPr/>
          </p:nvSpPr>
          <p:spPr>
            <a:xfrm flipH="1">
              <a:off x="1283040" y="2679120"/>
              <a:ext cx="56880" cy="1670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9" y="75"/>
                  </a:lnTo>
                  <a:lnTo>
                    <a:pt x="9" y="71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66"/>
            <p:cNvSpPr/>
            <p:nvPr/>
          </p:nvSpPr>
          <p:spPr>
            <a:xfrm flipH="1">
              <a:off x="1167120" y="2657520"/>
              <a:ext cx="428760" cy="159120"/>
            </a:xfrm>
            <a:custGeom>
              <a:avLst/>
              <a:gdLst/>
              <a:ahLst/>
              <a:rect l="l" t="t" r="r" b="b"/>
              <a:pathLst>
                <a:path w="213" h="71">
                  <a:moveTo>
                    <a:pt x="142" y="24"/>
                  </a:moveTo>
                  <a:lnTo>
                    <a:pt x="180" y="43"/>
                  </a:lnTo>
                  <a:lnTo>
                    <a:pt x="180" y="43"/>
                  </a:lnTo>
                  <a:lnTo>
                    <a:pt x="194" y="47"/>
                  </a:lnTo>
                  <a:lnTo>
                    <a:pt x="208" y="57"/>
                  </a:lnTo>
                  <a:lnTo>
                    <a:pt x="213" y="62"/>
                  </a:lnTo>
                  <a:lnTo>
                    <a:pt x="213" y="71"/>
                  </a:lnTo>
                  <a:lnTo>
                    <a:pt x="213" y="71"/>
                  </a:lnTo>
                  <a:lnTo>
                    <a:pt x="199" y="71"/>
                  </a:lnTo>
                  <a:lnTo>
                    <a:pt x="185" y="66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51" y="57"/>
                  </a:lnTo>
                  <a:lnTo>
                    <a:pt x="137" y="52"/>
                  </a:lnTo>
                  <a:lnTo>
                    <a:pt x="95" y="52"/>
                  </a:lnTo>
                  <a:lnTo>
                    <a:pt x="71" y="47"/>
                  </a:lnTo>
                  <a:lnTo>
                    <a:pt x="47" y="43"/>
                  </a:lnTo>
                  <a:lnTo>
                    <a:pt x="28" y="33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57" y="5"/>
                  </a:lnTo>
                  <a:lnTo>
                    <a:pt x="114" y="14"/>
                  </a:lnTo>
                  <a:lnTo>
                    <a:pt x="142" y="24"/>
                  </a:lnTo>
                  <a:lnTo>
                    <a:pt x="142" y="24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67"/>
            <p:cNvSpPr/>
            <p:nvPr/>
          </p:nvSpPr>
          <p:spPr>
            <a:xfrm flipH="1">
              <a:off x="2390400" y="5196240"/>
              <a:ext cx="1649520" cy="24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68"/>
            <p:cNvSpPr/>
            <p:nvPr/>
          </p:nvSpPr>
          <p:spPr>
            <a:xfrm flipH="1">
              <a:off x="2522160" y="5409000"/>
              <a:ext cx="1384920" cy="1218240"/>
            </a:xfrm>
            <a:custGeom>
              <a:avLst/>
              <a:gdLst/>
              <a:ahLst/>
              <a:rect l="l" t="t" r="r" b="b"/>
              <a:pathLst>
                <a:path w="686" h="544">
                  <a:moveTo>
                    <a:pt x="686" y="482"/>
                  </a:moveTo>
                  <a:lnTo>
                    <a:pt x="0" y="544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86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69"/>
            <p:cNvSpPr/>
            <p:nvPr/>
          </p:nvSpPr>
          <p:spPr>
            <a:xfrm flipH="1">
              <a:off x="2656800" y="5578560"/>
              <a:ext cx="1126080" cy="1035000"/>
            </a:xfrm>
            <a:custGeom>
              <a:avLst/>
              <a:gdLst/>
              <a:ahLst/>
              <a:rect l="l" t="t" r="r" b="b"/>
              <a:pathLst>
                <a:path w="558" h="463">
                  <a:moveTo>
                    <a:pt x="558" y="406"/>
                  </a:moveTo>
                  <a:lnTo>
                    <a:pt x="0" y="463"/>
                  </a:lnTo>
                  <a:lnTo>
                    <a:pt x="0" y="0"/>
                  </a:lnTo>
                  <a:lnTo>
                    <a:pt x="558" y="0"/>
                  </a:lnTo>
                  <a:lnTo>
                    <a:pt x="558" y="40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70"/>
            <p:cNvSpPr/>
            <p:nvPr/>
          </p:nvSpPr>
          <p:spPr>
            <a:xfrm flipH="1">
              <a:off x="2628720" y="5853960"/>
              <a:ext cx="120168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71"/>
            <p:cNvSpPr/>
            <p:nvPr/>
          </p:nvSpPr>
          <p:spPr>
            <a:xfrm flipH="1">
              <a:off x="2628720" y="6276960"/>
              <a:ext cx="1201680" cy="11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72"/>
            <p:cNvSpPr/>
            <p:nvPr/>
          </p:nvSpPr>
          <p:spPr>
            <a:xfrm flipH="1">
              <a:off x="3667680" y="5745960"/>
              <a:ext cx="84960" cy="10980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3" y="24"/>
                  </a:moveTo>
                  <a:lnTo>
                    <a:pt x="43" y="24"/>
                  </a:lnTo>
                  <a:lnTo>
                    <a:pt x="43" y="33"/>
                  </a:lnTo>
                  <a:lnTo>
                    <a:pt x="38" y="43"/>
                  </a:lnTo>
                  <a:lnTo>
                    <a:pt x="29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8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38" y="10"/>
                  </a:lnTo>
                  <a:lnTo>
                    <a:pt x="43" y="15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73"/>
            <p:cNvSpPr/>
            <p:nvPr/>
          </p:nvSpPr>
          <p:spPr>
            <a:xfrm flipH="1">
              <a:off x="3485880" y="5757480"/>
              <a:ext cx="96120" cy="9612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48" y="24"/>
                  </a:moveTo>
                  <a:lnTo>
                    <a:pt x="48" y="24"/>
                  </a:lnTo>
                  <a:lnTo>
                    <a:pt x="43" y="33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74"/>
            <p:cNvSpPr/>
            <p:nvPr/>
          </p:nvSpPr>
          <p:spPr>
            <a:xfrm flipH="1">
              <a:off x="3400920" y="5757480"/>
              <a:ext cx="84600" cy="961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33"/>
                  </a:lnTo>
                  <a:lnTo>
                    <a:pt x="37" y="38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4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7" y="5"/>
                  </a:lnTo>
                  <a:lnTo>
                    <a:pt x="42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5"/>
            <p:cNvSpPr/>
            <p:nvPr/>
          </p:nvSpPr>
          <p:spPr>
            <a:xfrm flipH="1">
              <a:off x="3457440" y="5662800"/>
              <a:ext cx="84600" cy="943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3"/>
                  </a:moveTo>
                  <a:lnTo>
                    <a:pt x="43" y="23"/>
                  </a:lnTo>
                  <a:lnTo>
                    <a:pt x="43" y="28"/>
                  </a:lnTo>
                  <a:lnTo>
                    <a:pt x="38" y="37"/>
                  </a:lnTo>
                  <a:lnTo>
                    <a:pt x="29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8" y="4"/>
                  </a:lnTo>
                  <a:lnTo>
                    <a:pt x="43" y="14"/>
                  </a:lnTo>
                  <a:lnTo>
                    <a:pt x="43" y="23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6"/>
            <p:cNvSpPr/>
            <p:nvPr/>
          </p:nvSpPr>
          <p:spPr>
            <a:xfrm flipH="1">
              <a:off x="3658320" y="5641560"/>
              <a:ext cx="84960" cy="939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33"/>
                  </a:lnTo>
                  <a:lnTo>
                    <a:pt x="38" y="38"/>
                  </a:lnTo>
                  <a:lnTo>
                    <a:pt x="28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4" y="43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7"/>
            <p:cNvSpPr/>
            <p:nvPr/>
          </p:nvSpPr>
          <p:spPr>
            <a:xfrm flipH="1">
              <a:off x="3582000" y="5757480"/>
              <a:ext cx="93960" cy="961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24"/>
                  </a:moveTo>
                  <a:lnTo>
                    <a:pt x="47" y="24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78"/>
            <p:cNvSpPr/>
            <p:nvPr/>
          </p:nvSpPr>
          <p:spPr>
            <a:xfrm flipH="1">
              <a:off x="3545280" y="5682600"/>
              <a:ext cx="113040" cy="1180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24"/>
                  </a:moveTo>
                  <a:lnTo>
                    <a:pt x="57" y="24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52"/>
                  </a:lnTo>
                  <a:lnTo>
                    <a:pt x="10" y="43"/>
                  </a:lnTo>
                  <a:lnTo>
                    <a:pt x="5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5"/>
                  </a:lnTo>
                  <a:lnTo>
                    <a:pt x="52" y="14"/>
                  </a:lnTo>
                  <a:lnTo>
                    <a:pt x="57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9"/>
            <p:cNvSpPr/>
            <p:nvPr/>
          </p:nvSpPr>
          <p:spPr>
            <a:xfrm flipH="1">
              <a:off x="2932200" y="6170760"/>
              <a:ext cx="93960" cy="106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3"/>
                  </a:moveTo>
                  <a:lnTo>
                    <a:pt x="47" y="23"/>
                  </a:lnTo>
                  <a:lnTo>
                    <a:pt x="47" y="33"/>
                  </a:lnTo>
                  <a:lnTo>
                    <a:pt x="37" y="37"/>
                  </a:lnTo>
                  <a:lnTo>
                    <a:pt x="3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14" y="47"/>
                  </a:lnTo>
                  <a:lnTo>
                    <a:pt x="9" y="37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37" y="9"/>
                  </a:lnTo>
                  <a:lnTo>
                    <a:pt x="47" y="14"/>
                  </a:lnTo>
                  <a:lnTo>
                    <a:pt x="47" y="23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0"/>
            <p:cNvSpPr/>
            <p:nvPr/>
          </p:nvSpPr>
          <p:spPr>
            <a:xfrm flipH="1">
              <a:off x="3026520" y="6170760"/>
              <a:ext cx="96120" cy="106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3"/>
                  </a:moveTo>
                  <a:lnTo>
                    <a:pt x="48" y="23"/>
                  </a:lnTo>
                  <a:lnTo>
                    <a:pt x="43" y="33"/>
                  </a:lnTo>
                  <a:lnTo>
                    <a:pt x="38" y="3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5" y="47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4"/>
                  </a:lnTo>
                  <a:lnTo>
                    <a:pt x="38" y="9"/>
                  </a:lnTo>
                  <a:lnTo>
                    <a:pt x="43" y="14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81"/>
            <p:cNvSpPr/>
            <p:nvPr/>
          </p:nvSpPr>
          <p:spPr>
            <a:xfrm flipH="1">
              <a:off x="2760840" y="6180480"/>
              <a:ext cx="86400" cy="961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4"/>
                  </a:moveTo>
                  <a:lnTo>
                    <a:pt x="43" y="24"/>
                  </a:lnTo>
                  <a:lnTo>
                    <a:pt x="43" y="29"/>
                  </a:lnTo>
                  <a:lnTo>
                    <a:pt x="38" y="38"/>
                  </a:lnTo>
                  <a:lnTo>
                    <a:pt x="29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5" y="38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2"/>
            <p:cNvSpPr/>
            <p:nvPr/>
          </p:nvSpPr>
          <p:spPr>
            <a:xfrm flipH="1">
              <a:off x="2665440" y="6180480"/>
              <a:ext cx="94680" cy="961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24"/>
                  </a:moveTo>
                  <a:lnTo>
                    <a:pt x="47" y="24"/>
                  </a:lnTo>
                  <a:lnTo>
                    <a:pt x="43" y="29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83"/>
            <p:cNvSpPr/>
            <p:nvPr/>
          </p:nvSpPr>
          <p:spPr>
            <a:xfrm flipH="1">
              <a:off x="2721960" y="6086160"/>
              <a:ext cx="94680" cy="9432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7" y="19"/>
                  </a:moveTo>
                  <a:lnTo>
                    <a:pt x="47" y="19"/>
                  </a:lnTo>
                  <a:lnTo>
                    <a:pt x="47" y="28"/>
                  </a:lnTo>
                  <a:lnTo>
                    <a:pt x="37" y="38"/>
                  </a:lnTo>
                  <a:lnTo>
                    <a:pt x="3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47" y="14"/>
                  </a:lnTo>
                  <a:lnTo>
                    <a:pt x="47" y="19"/>
                  </a:lnTo>
                  <a:lnTo>
                    <a:pt x="47" y="19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84"/>
            <p:cNvSpPr/>
            <p:nvPr/>
          </p:nvSpPr>
          <p:spPr>
            <a:xfrm flipH="1">
              <a:off x="2846880" y="6180480"/>
              <a:ext cx="94680" cy="961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24"/>
                  </a:moveTo>
                  <a:lnTo>
                    <a:pt x="47" y="24"/>
                  </a:lnTo>
                  <a:lnTo>
                    <a:pt x="43" y="29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5" y="38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85"/>
            <p:cNvSpPr/>
            <p:nvPr/>
          </p:nvSpPr>
          <p:spPr>
            <a:xfrm flipH="1">
              <a:off x="3009600" y="5682600"/>
              <a:ext cx="313560" cy="15948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147" y="5"/>
                  </a:moveTo>
                  <a:lnTo>
                    <a:pt x="147" y="5"/>
                  </a:lnTo>
                  <a:lnTo>
                    <a:pt x="137" y="61"/>
                  </a:lnTo>
                  <a:lnTo>
                    <a:pt x="137" y="61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4" y="71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7" y="66"/>
                  </a:lnTo>
                  <a:lnTo>
                    <a:pt x="156" y="5"/>
                  </a:lnTo>
                  <a:lnTo>
                    <a:pt x="156" y="5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47" y="5"/>
                  </a:lnTo>
                  <a:lnTo>
                    <a:pt x="14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86"/>
            <p:cNvSpPr/>
            <p:nvPr/>
          </p:nvSpPr>
          <p:spPr>
            <a:xfrm flipH="1">
              <a:off x="3236400" y="5694480"/>
              <a:ext cx="29880" cy="16704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5" y="0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5" y="71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87"/>
            <p:cNvSpPr/>
            <p:nvPr/>
          </p:nvSpPr>
          <p:spPr>
            <a:xfrm flipH="1">
              <a:off x="3179880" y="5682600"/>
              <a:ext cx="24120" cy="171360"/>
            </a:xfrm>
            <a:custGeom>
              <a:avLst/>
              <a:gdLst/>
              <a:ahLst/>
              <a:rect l="l" t="t" r="r" b="b"/>
              <a:pathLst>
                <a:path w="14" h="76">
                  <a:moveTo>
                    <a:pt x="4" y="0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4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88"/>
            <p:cNvSpPr/>
            <p:nvPr/>
          </p:nvSpPr>
          <p:spPr>
            <a:xfrm flipH="1">
              <a:off x="3123360" y="5682600"/>
              <a:ext cx="28080" cy="171360"/>
            </a:xfrm>
            <a:custGeom>
              <a:avLst/>
              <a:gdLst/>
              <a:ahLst/>
              <a:rect l="l" t="t" r="r" b="b"/>
              <a:pathLst>
                <a:path w="14" h="7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7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9"/>
            <p:cNvSpPr/>
            <p:nvPr/>
          </p:nvSpPr>
          <p:spPr>
            <a:xfrm flipH="1">
              <a:off x="3075480" y="5682600"/>
              <a:ext cx="16920" cy="171360"/>
            </a:xfrm>
            <a:custGeom>
              <a:avLst/>
              <a:gdLst/>
              <a:ahLst/>
              <a:rect l="l" t="t" r="r" b="b"/>
              <a:pathLst>
                <a:path w="9" h="76">
                  <a:moveTo>
                    <a:pt x="0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90"/>
            <p:cNvSpPr/>
            <p:nvPr/>
          </p:nvSpPr>
          <p:spPr>
            <a:xfrm flipH="1">
              <a:off x="2981520" y="5682600"/>
              <a:ext cx="322920" cy="159480"/>
            </a:xfrm>
            <a:custGeom>
              <a:avLst/>
              <a:gdLst/>
              <a:ahLst/>
              <a:rect l="l" t="t" r="r" b="b"/>
              <a:pathLst>
                <a:path w="161" h="71">
                  <a:moveTo>
                    <a:pt x="152" y="5"/>
                  </a:moveTo>
                  <a:lnTo>
                    <a:pt x="152" y="5"/>
                  </a:lnTo>
                  <a:lnTo>
                    <a:pt x="142" y="61"/>
                  </a:lnTo>
                  <a:lnTo>
                    <a:pt x="142" y="61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9" y="71"/>
                  </a:lnTo>
                  <a:lnTo>
                    <a:pt x="147" y="71"/>
                  </a:lnTo>
                  <a:lnTo>
                    <a:pt x="147" y="71"/>
                  </a:lnTo>
                  <a:lnTo>
                    <a:pt x="152" y="66"/>
                  </a:lnTo>
                  <a:lnTo>
                    <a:pt x="161" y="5"/>
                  </a:lnTo>
                  <a:lnTo>
                    <a:pt x="161" y="5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2" y="5"/>
                  </a:lnTo>
                  <a:lnTo>
                    <a:pt x="15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91"/>
            <p:cNvSpPr/>
            <p:nvPr/>
          </p:nvSpPr>
          <p:spPr>
            <a:xfrm flipH="1">
              <a:off x="3208680" y="5694480"/>
              <a:ext cx="28080" cy="167040"/>
            </a:xfrm>
            <a:custGeom>
              <a:avLst/>
              <a:gdLst/>
              <a:ahLst/>
              <a:rect l="l" t="t" r="r" b="b"/>
              <a:pathLst>
                <a:path w="14" h="75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14" y="71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92"/>
            <p:cNvSpPr/>
            <p:nvPr/>
          </p:nvSpPr>
          <p:spPr>
            <a:xfrm flipH="1">
              <a:off x="3151080" y="5682600"/>
              <a:ext cx="28440" cy="171360"/>
            </a:xfrm>
            <a:custGeom>
              <a:avLst/>
              <a:gdLst/>
              <a:ahLst/>
              <a:rect l="l" t="t" r="r" b="b"/>
              <a:pathLst>
                <a:path w="14" h="7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4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93"/>
            <p:cNvSpPr/>
            <p:nvPr/>
          </p:nvSpPr>
          <p:spPr>
            <a:xfrm flipH="1">
              <a:off x="3092760" y="5682600"/>
              <a:ext cx="29880" cy="17136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94"/>
            <p:cNvSpPr/>
            <p:nvPr/>
          </p:nvSpPr>
          <p:spPr>
            <a:xfrm flipH="1">
              <a:off x="3048120" y="5682600"/>
              <a:ext cx="18720" cy="171360"/>
            </a:xfrm>
            <a:custGeom>
              <a:avLst/>
              <a:gdLst/>
              <a:ahLst/>
              <a:rect l="l" t="t" r="r" b="b"/>
              <a:pathLst>
                <a:path w="9" h="76">
                  <a:moveTo>
                    <a:pt x="0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95"/>
            <p:cNvSpPr/>
            <p:nvPr/>
          </p:nvSpPr>
          <p:spPr>
            <a:xfrm flipH="1">
              <a:off x="2713320" y="5779080"/>
              <a:ext cx="638640" cy="82800"/>
            </a:xfrm>
            <a:custGeom>
              <a:avLst/>
              <a:gdLst/>
              <a:ahLst/>
              <a:rect l="l" t="t" r="r" b="b"/>
              <a:pathLst>
                <a:path w="317" h="37">
                  <a:moveTo>
                    <a:pt x="180" y="18"/>
                  </a:moveTo>
                  <a:lnTo>
                    <a:pt x="18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3"/>
                  </a:lnTo>
                  <a:lnTo>
                    <a:pt x="9" y="37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189" y="33"/>
                  </a:lnTo>
                  <a:lnTo>
                    <a:pt x="189" y="33"/>
                  </a:lnTo>
                  <a:lnTo>
                    <a:pt x="198" y="28"/>
                  </a:lnTo>
                  <a:lnTo>
                    <a:pt x="222" y="23"/>
                  </a:lnTo>
                  <a:lnTo>
                    <a:pt x="241" y="18"/>
                  </a:lnTo>
                  <a:lnTo>
                    <a:pt x="260" y="18"/>
                  </a:lnTo>
                  <a:lnTo>
                    <a:pt x="279" y="23"/>
                  </a:lnTo>
                  <a:lnTo>
                    <a:pt x="302" y="33"/>
                  </a:lnTo>
                  <a:lnTo>
                    <a:pt x="302" y="33"/>
                  </a:lnTo>
                  <a:lnTo>
                    <a:pt x="312" y="37"/>
                  </a:lnTo>
                  <a:lnTo>
                    <a:pt x="317" y="33"/>
                  </a:lnTo>
                  <a:lnTo>
                    <a:pt x="317" y="33"/>
                  </a:lnTo>
                  <a:lnTo>
                    <a:pt x="317" y="23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288" y="9"/>
                  </a:lnTo>
                  <a:lnTo>
                    <a:pt x="265" y="0"/>
                  </a:lnTo>
                  <a:lnTo>
                    <a:pt x="241" y="0"/>
                  </a:lnTo>
                  <a:lnTo>
                    <a:pt x="222" y="0"/>
                  </a:lnTo>
                  <a:lnTo>
                    <a:pt x="194" y="9"/>
                  </a:lnTo>
                  <a:lnTo>
                    <a:pt x="180" y="18"/>
                  </a:lnTo>
                  <a:lnTo>
                    <a:pt x="180" y="18"/>
                  </a:lnTo>
                  <a:close/>
                </a:path>
              </a:pathLst>
            </a:custGeom>
            <a:solidFill>
              <a:srgbClr val="c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96"/>
            <p:cNvSpPr/>
            <p:nvPr/>
          </p:nvSpPr>
          <p:spPr>
            <a:xfrm flipH="1">
              <a:off x="3418200" y="6042600"/>
              <a:ext cx="311760" cy="23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397"/>
            <p:cNvSpPr/>
            <p:nvPr/>
          </p:nvSpPr>
          <p:spPr>
            <a:xfrm flipH="1">
              <a:off x="3417480" y="6129360"/>
              <a:ext cx="3229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98"/>
            <p:cNvSpPr/>
            <p:nvPr/>
          </p:nvSpPr>
          <p:spPr>
            <a:xfrm flipH="1">
              <a:off x="3179880" y="6159240"/>
              <a:ext cx="181080" cy="12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399"/>
            <p:cNvSpPr/>
            <p:nvPr/>
          </p:nvSpPr>
          <p:spPr>
            <a:xfrm flipH="1">
              <a:off x="3180600" y="6202440"/>
              <a:ext cx="192240" cy="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00"/>
            <p:cNvSpPr/>
            <p:nvPr/>
          </p:nvSpPr>
          <p:spPr>
            <a:xfrm flipH="1">
              <a:off x="3686400" y="4381920"/>
              <a:ext cx="73440" cy="14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01"/>
            <p:cNvSpPr/>
            <p:nvPr/>
          </p:nvSpPr>
          <p:spPr>
            <a:xfrm flipH="1">
              <a:off x="3429000" y="4308480"/>
              <a:ext cx="8460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412" descr="j0283462"/>
          <p:cNvPicPr/>
          <p:nvPr/>
        </p:nvPicPr>
        <p:blipFill>
          <a:blip r:embed="rId1"/>
          <a:stretch/>
        </p:blipFill>
        <p:spPr>
          <a:xfrm rot="15819600">
            <a:off x="539640" y="22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11"/>
          <p:cNvSpPr/>
          <p:nvPr/>
        </p:nvSpPr>
        <p:spPr>
          <a:xfrm rot="6714000">
            <a:off x="1366200" y="281772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31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42:09Z</dcterms:created>
  <dc:creator>Пользователь</dc:creator>
  <dc:description/>
  <dc:language>en-US</dc:language>
  <cp:lastModifiedBy>Галина</cp:lastModifiedBy>
  <dcterms:modified xsi:type="dcterms:W3CDTF">2019-06-11T16:06:48Z</dcterms:modified>
  <cp:revision>90</cp:revision>
  <dc:subject/>
  <dc:title>Слайд 1</dc:title>
</cp:coreProperties>
</file>