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D42-C5E9-4468-A2E6-7707920E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6BB-F0DD-4549-BFAE-F47A5C55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4A6-FF6B-49D9-9F22-D6C4B66B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A89-CA35-4F98-A6E9-4D0FAEFC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9DD0-3386-4F6A-8393-89A96BA6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F022-7292-45FC-8DB6-5A42BFEA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27A9-B635-4B0C-A7E9-9B90BD28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6C77-F94B-4DCC-AEBA-1BF075B9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0401-9AA0-4896-BE2D-B25859A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0EEF-B4A6-481F-A668-54F2B51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9171-0D5D-4923-B03D-D5218EE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A07-65BA-48E7-98B3-F604049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A233-18B0-4CFB-BA41-542C4C0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DD88-2C67-434A-8623-F5EC252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1C6-9BBA-4B2A-BB56-5EF4318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A6CB-3EDE-413B-ABF5-C7C9C659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9B3B-5F5B-410B-9FFB-71CE2056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D00-8195-4660-AEC0-963DD7D7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05B-3950-4881-9DA3-2777545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A23-3E48-485E-A773-71ACE38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DE5-CCB1-4A7B-91CC-2E8BADDB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8CA-AA81-4A5D-BCF1-51654D6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B5A-274B-4E57-A6E5-7DFF51C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F5B-25CB-4CA0-B439-3B58A68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298-9934-4ED0-B78D-B62860E13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1DDD-5614-4D63-A5ED-5413E9847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Центр развития ребенка – детский сад № 50» города Невинномысска</a:t>
            </a:r>
            <a:br>
              <a:rPr sz="2000"/>
            </a:br>
            <a:br>
              <a:rPr sz="36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Деловая игра: 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«Дивергентное мышление педагогов ДОУ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85560" y="4285800"/>
            <a:ext cx="65530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тор: воспитатель МБДОУ №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реда Инна Геннад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4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Вставь число:</a:t>
            </a:r>
            <a:br>
              <a:rPr sz="32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280" y="2008080"/>
            <a:ext cx="7272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755640" y="1935000"/>
            <a:ext cx="74167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857160" y="576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3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601"/>
                </a:solidFill>
                <a:latin typeface="Times New Roman"/>
                <a:ea typeface="Times New Roman"/>
              </a:rPr>
              <a:t>Задача №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3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2439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713040" y="7142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601"/>
                </a:solidFill>
                <a:latin typeface="Times New Roman"/>
              </a:rPr>
              <a:t>Задача №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11" descr=""/>
          <p:cNvPicPr/>
          <p:nvPr/>
        </p:nvPicPr>
        <p:blipFill>
          <a:blip r:embed="rId1"/>
          <a:srcRect l="55430" t="-249" r="5563" b="72816"/>
          <a:stretch/>
        </p:blipFill>
        <p:spPr>
          <a:xfrm>
            <a:off x="1428840" y="1857240"/>
            <a:ext cx="6526080" cy="3213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2"/>
          <a:stretch/>
        </p:blipFill>
        <p:spPr>
          <a:xfrm>
            <a:off x="880920" y="155736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2" descr=""/>
          <p:cNvPicPr/>
          <p:nvPr/>
        </p:nvPicPr>
        <p:blipFill>
          <a:blip r:embed="rId1"/>
          <a:srcRect l="55807" t="59876" r="7006" b="13409"/>
          <a:stretch/>
        </p:blipFill>
        <p:spPr>
          <a:xfrm>
            <a:off x="1357200" y="2000160"/>
            <a:ext cx="6715080" cy="3417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410120" y="716040"/>
            <a:ext cx="64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4601"/>
                </a:solidFill>
                <a:latin typeface="Times New Roman"/>
                <a:ea typeface="Times New Roman"/>
              </a:rPr>
              <a:t>Что изображено на карти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Рисунок 5" descr="https://cdn1.lamp.im/wp-content/uploads/2018/09/test_1_1537297825641.jpg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 строго выверенный баланс в использовании заданий, направленных на развитие конвергентного и дивергентного  видов мышления у дете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такой подход обеспечивает полноценное развитие творческого мыш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ожешь прочитать?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1238400" y="1190520"/>
            <a:ext cx="66672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а вида мышления важны для продуктивной работы сознания и достижения целе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70280" y="2584440"/>
            <a:ext cx="88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a26d18"/>
                </a:solidFill>
                <a:latin typeface="Times New Roman"/>
              </a:rPr>
              <a:t>Спасибо за </a:t>
            </a:r>
            <a:r>
              <a:rPr b="1" i="1" lang="ru-RU" sz="6600" spc="-1" strike="noStrike">
                <a:solidFill>
                  <a:srgbClr val="a26d18"/>
                </a:solidFill>
                <a:latin typeface="Times New Roman"/>
              </a:rPr>
              <a:t>внимание</a:t>
            </a:r>
            <a:r>
              <a:rPr b="1" i="1" lang="ru-RU" sz="7200" spc="-1" strike="noStrike">
                <a:solidFill>
                  <a:srgbClr val="a26d18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Найди ошибку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Объект 3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793116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Будь внимателен!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57200" y="1577880"/>
            <a:ext cx="8229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a5212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7a5212"/>
                </a:solidFill>
                <a:latin typeface="Times New Roman"/>
              </a:rPr>
              <a:t>Сколько красных кругов ты види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3272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Cлепота невнимания (или перцептивная слепота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явление, при котором мы сознательно воспринимаем гораздо меньше информации из окружающего мира, чем полага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7720" y="857160"/>
            <a:ext cx="8007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Можно учить, но нельзя научить ребенка, обучается он са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жени Леш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ым фактором, определяющим  развитие интеллекта и мышления выступает не столько то, чему мы учим, сколько то, как мы это дел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1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Picture 5" descr="http://itd2.mycdn.me/image?id=839790287028&amp;t=20&amp;plc=WEB&amp;tkn=*0ilPO8sX0Z32gL2ql_o26fcPVv4"/>
          <p:cNvPicPr/>
          <p:nvPr/>
        </p:nvPicPr>
        <p:blipFill>
          <a:blip r:embed="rId1"/>
          <a:stretch/>
        </p:blipFill>
        <p:spPr>
          <a:xfrm>
            <a:off x="257040" y="1484280"/>
            <a:ext cx="84297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4500"/>
                </a:solidFill>
                <a:latin typeface="Times New Roman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d4500"/>
                </a:solidFill>
                <a:latin typeface="Times New Roman"/>
              </a:rPr>
              <a:t>Продолжи ряд: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d4500"/>
                </a:solidFill>
                <a:latin typeface="Times New Roman"/>
              </a:rPr>
              <a:t>О, Д, Т,Ч,П,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1052280"/>
            <a:ext cx="80071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4500"/>
                </a:solidFill>
                <a:latin typeface="Times New Roman"/>
              </a:rPr>
              <a:t>Задача №3</a:t>
            </a: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Продолжи ря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юбовь, Дыхание, Рим, Власть, Колонна, Чувство, Неб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0:40:28Z</dcterms:created>
  <dc:creator>WIN7XP</dc:creator>
  <dc:description/>
  <dc:language>en-US</dc:language>
  <cp:lastModifiedBy>inna inna030970.mail.ru</cp:lastModifiedBy>
  <dcterms:modified xsi:type="dcterms:W3CDTF">2019-03-10T19:24:36Z</dcterms:modified>
  <cp:revision>41</cp:revision>
  <dc:subject/>
  <dc:title>Ресурсный центр «Психологическое сопровождение педагогического процесса» ДОУ № 1 г. Липецк Мастер-класс «Развитие интеллектуальных способностей дошкольников через использование игровых технологий»</dc:title>
</cp:coreProperties>
</file>