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37A-3E9D-421A-B7AA-C59BBD29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643-06A0-4C3B-97D7-118989F1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13B-9C53-47FB-A246-AF195B3D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ECC-00C7-45A2-A379-96D19D97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D539-DA53-46A7-BF9C-9E2D9A82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C5E9-AF95-4CB5-99B3-6B9709DF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3FF0-EBA4-4E55-8B42-3F4C69C4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1B6E-99D9-42CE-94B2-E9EB1B6D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19FC-7374-4434-8182-C7EC9A9B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132A-4DC5-4FEE-A6C9-301BC8F8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F0A4-ECF7-4DC4-95D5-A24D28AC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ED4-2C8D-408C-A808-049C0FE1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6BD2-69F1-4A1D-B3AE-8A596AD8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2955-6CE7-4D57-B4D9-B9DD9725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DCAE-F3CE-443F-A56F-326B6C49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F14A-5113-43B6-AC79-261EC4CC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749F-BBA7-439C-83C7-BAE6B146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E74-AE76-40B0-883E-51A423B2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A18-19DB-4E34-81CC-5026E208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F67-B084-4566-B239-4DEA1187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70C-0902-46BC-9726-DC91F64B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B83-67D2-4BD5-9422-3F00FC9B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EE1-52F5-4040-A5D4-43D7362C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081-E540-43D2-8841-3C83327C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2869-8EB8-4305-B395-427AC4C135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FE94-08A0-4368-B504-0B584C215A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«Центр развития ребенка – детский сад № 50» города Невинномысска</a:t>
            </a:r>
            <a:br>
              <a:rPr sz="2000"/>
            </a:br>
            <a:br>
              <a:rPr sz="36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Деловая игра: 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«Дивергентное мышление педагогов ДОУ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85560" y="4285800"/>
            <a:ext cx="65530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втор: воспитатель МБДОУ №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ереда Инна Геннад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Задача №4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Вставь число:</a:t>
            </a:r>
            <a:br>
              <a:rPr sz="3200"/>
            </a:b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5280" y="2008080"/>
            <a:ext cx="72723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Рисунок 3" descr=""/>
          <p:cNvPicPr/>
          <p:nvPr/>
        </p:nvPicPr>
        <p:blipFill>
          <a:blip r:embed="rId1"/>
          <a:stretch/>
        </p:blipFill>
        <p:spPr>
          <a:xfrm>
            <a:off x="755640" y="1935000"/>
            <a:ext cx="741672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857160" y="57600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30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84601"/>
                </a:solidFill>
                <a:latin typeface="Times New Roman"/>
                <a:ea typeface="Times New Roman"/>
              </a:rPr>
              <a:t>Задача №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30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857160" y="1268280"/>
            <a:ext cx="724392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3713040" y="7142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84601"/>
                </a:solidFill>
                <a:latin typeface="Times New Roman"/>
              </a:rPr>
              <a:t>Задача №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Рисунок 11" descr=""/>
          <p:cNvPicPr/>
          <p:nvPr/>
        </p:nvPicPr>
        <p:blipFill>
          <a:blip r:embed="rId1"/>
          <a:srcRect l="55430" t="-249" r="5563" b="72816"/>
          <a:stretch/>
        </p:blipFill>
        <p:spPr>
          <a:xfrm>
            <a:off x="1428840" y="1857240"/>
            <a:ext cx="6526080" cy="32133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" descr=""/>
          <p:cNvPicPr/>
          <p:nvPr/>
        </p:nvPicPr>
        <p:blipFill>
          <a:blip r:embed="rId2"/>
          <a:stretch/>
        </p:blipFill>
        <p:spPr>
          <a:xfrm>
            <a:off x="880920" y="155736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2" descr=""/>
          <p:cNvPicPr/>
          <p:nvPr/>
        </p:nvPicPr>
        <p:blipFill>
          <a:blip r:embed="rId1"/>
          <a:srcRect l="55807" t="59876" r="7006" b="13409"/>
          <a:stretch/>
        </p:blipFill>
        <p:spPr>
          <a:xfrm>
            <a:off x="1357200" y="2000160"/>
            <a:ext cx="6715080" cy="34178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1410120" y="716040"/>
            <a:ext cx="641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84601"/>
                </a:solidFill>
                <a:latin typeface="Times New Roman"/>
                <a:ea typeface="Times New Roman"/>
              </a:rPr>
              <a:t>Что изображено на картинк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Рисунок 5" descr="https://cdn1.lamp.im/wp-content/uploads/2018/09/test_1_1537297825641.jpg"/>
          <p:cNvPicPr/>
          <p:nvPr/>
        </p:nvPicPr>
        <p:blipFill>
          <a:blip r:embed="rId1"/>
          <a:stretch/>
        </p:blipFill>
        <p:spPr>
          <a:xfrm>
            <a:off x="324000" y="1773360"/>
            <a:ext cx="849600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обходим строго выверенный баланс в использовании заданий, направленных на развитие конвергентного и дивергентного  видов мышления у детей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лько такой подход обеспечивает полноценное развитие творческого мышл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Можешь прочитать?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1" name="Рисунок 2" descr=""/>
          <p:cNvPicPr/>
          <p:nvPr/>
        </p:nvPicPr>
        <p:blipFill>
          <a:blip r:embed="rId1"/>
          <a:stretch/>
        </p:blipFill>
        <p:spPr>
          <a:xfrm>
            <a:off x="1238400" y="1190520"/>
            <a:ext cx="66672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а вида мышления важны для продуктивной работы сознания и достижения целей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170280" y="2584440"/>
            <a:ext cx="881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a26d18"/>
                </a:solidFill>
                <a:latin typeface="Times New Roman"/>
              </a:rPr>
              <a:t>Спасибо за </a:t>
            </a:r>
            <a:r>
              <a:rPr b="1" i="1" lang="ru-RU" sz="6600" spc="-1" strike="noStrike">
                <a:solidFill>
                  <a:srgbClr val="a26d18"/>
                </a:solidFill>
                <a:latin typeface="Times New Roman"/>
              </a:rPr>
              <a:t>внимание</a:t>
            </a:r>
            <a:r>
              <a:rPr b="1" i="1" lang="ru-RU" sz="7200" spc="-1" strike="noStrike">
                <a:solidFill>
                  <a:srgbClr val="a26d18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Найди ошибку: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4" name="Объект 3" descr=""/>
          <p:cNvPicPr/>
          <p:nvPr/>
        </p:nvPicPr>
        <p:blipFill>
          <a:blip r:embed="rId1"/>
          <a:stretch/>
        </p:blipFill>
        <p:spPr>
          <a:xfrm>
            <a:off x="457200" y="1420920"/>
            <a:ext cx="7931160" cy="51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Будь внимателен!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457200" y="1577880"/>
            <a:ext cx="82296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a5212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7a5212"/>
                </a:solidFill>
                <a:latin typeface="Times New Roman"/>
              </a:rPr>
              <a:t>Сколько красных кругов ты видиш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Рисунок 1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63272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Cлепота невнимания (или перцептивная слепота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это явление, при котором мы сознательно воспринимаем гораздо меньше информации из окружающего мира, чем полагае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7720" y="857160"/>
            <a:ext cx="80074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Можно учить, но нельзя научить ребенка, обучается он са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жени Леш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лавным фактором, определяющим  развитие интеллекта и мышления выступает не столько то, чему мы учим, сколько то, как мы это дела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Задача №1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3" name="Picture 5" descr="http://itd2.mycdn.me/image?id=839790287028&amp;t=20&amp;plc=WEB&amp;tkn=*0ilPO8sX0Z32gL2ql_o26fcPVv4"/>
          <p:cNvPicPr/>
          <p:nvPr/>
        </p:nvPicPr>
        <p:blipFill>
          <a:blip r:embed="rId1"/>
          <a:stretch/>
        </p:blipFill>
        <p:spPr>
          <a:xfrm>
            <a:off x="257040" y="1484280"/>
            <a:ext cx="842976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7720" y="115560"/>
            <a:ext cx="8007480" cy="59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d4500"/>
                </a:solidFill>
                <a:latin typeface="Times New Roman"/>
              </a:rPr>
              <a:t>Задача №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d4500"/>
                </a:solidFill>
                <a:latin typeface="Times New Roman"/>
              </a:rPr>
              <a:t>Продолжи ряд: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d4500"/>
                </a:solidFill>
                <a:latin typeface="Times New Roman"/>
              </a:rPr>
              <a:t>О, Д, Т,Ч,П,Ш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11280" y="1052280"/>
            <a:ext cx="800712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d4500"/>
                </a:solidFill>
                <a:latin typeface="Times New Roman"/>
              </a:rPr>
              <a:t>Задача №3</a:t>
            </a:r>
            <a:r>
              <a:rPr b="1" lang="ru-RU" sz="4000" spc="-1" strike="noStrike">
                <a:solidFill>
                  <a:srgbClr val="6d45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1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d4500"/>
                </a:solidFill>
                <a:latin typeface="Times New Roman"/>
              </a:rPr>
              <a:t>Продолжи ряд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1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1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Любовь, Дыхание, Рим, Власть, Колонна, Чувство, Неб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0:40:28Z</dcterms:created>
  <dc:creator>WIN7XP</dc:creator>
  <dc:description/>
  <dc:language>en-US</dc:language>
  <cp:lastModifiedBy>inna inna030970.mail.ru</cp:lastModifiedBy>
  <dcterms:modified xsi:type="dcterms:W3CDTF">2019-03-10T19:24:36Z</dcterms:modified>
  <cp:revision>41</cp:revision>
  <dc:subject/>
  <dc:title>Ресурсный центр «Психологическое сопровождение педагогического процесса» ДОУ № 1 г. Липецк Мастер-класс «Развитие интеллектуальных способностей дошкольников через использование игровых технологий»</dc:title>
</cp:coreProperties>
</file>