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83C-E7E8-49E1-B959-9102FA64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F63-111B-44A1-B683-9A99E003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CB2-6911-4258-B096-5C015D7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C72-88C3-40C0-9E1D-A4492797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F024-06EC-442D-B89F-D1F6EA5B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B65B-02BB-4477-9671-947DA74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1D4B2-E3FD-45CD-8C46-7D578007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E8185-D346-4737-8330-9E1DB196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4B349-0614-4AEC-9B34-BCDE1F02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C36A-46E9-4878-89C5-32069A26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D3A6-2332-402E-834C-057681F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41C-1733-4164-A598-1EA97785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2DC2F-0B13-45D1-B7CD-5E27A220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84F93-66FB-4500-BF5F-52B1A06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07D91-65E3-4101-B00C-32B389A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C24B0-6ADF-401C-8AA8-87819AA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8CB2-F75D-4F71-AAA4-4874B2DE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398-1BC0-4D0E-940F-D2E1081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F70-8F03-420C-AB60-7F0FBCD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9B2-0B5A-43C0-81F5-83FEF104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4B4-2451-44A1-81DD-DC231B48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2DB-6751-41D7-ACF9-2FE9CF1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A8D-C740-437E-81A1-19B436A8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3B6-E8BA-4A30-9F35-8689CF6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DA9-6D7A-4337-ACB0-3D1ECC330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6470-5606-4082-97AC-ACE1A158B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14600" y="2421000"/>
            <a:ext cx="79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ОТБОРОЧНЫЙ ТУ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милия первой женщины космонав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Ковале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ух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милия первой женщины космонав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Ковале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ух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3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о заряженная частица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элек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ей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квази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про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о заряженная частица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элек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ей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квази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про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5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обретателем микроскопа счит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М. Шлейд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Р. Г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Ф. К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Г.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обретателем микроскопа счит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М. Шлейд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Р. Г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Ф. К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Г.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молекулами спиртов образуется следующая химическая связ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овале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е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оложите элемен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огласно их порядку в периодической системе химически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ов Д.И. Менделеева</a:t>
            </a:r>
            <a:br>
              <a:rPr sz="28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а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кадм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палла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хл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молекулами спиртов образуется следующая химическая связ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овале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е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очайшая гора в Африке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аргер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ве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Фудзи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илиманджа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очайшая гора в Африке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аргер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ве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Фудзи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илиманджа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4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озы относятся к отряду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дву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ерепончат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прям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озы относятся к отряду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дву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ерепончат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прям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50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8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из любимых поэтов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.И. Менделеева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Ф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Бараты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из любимых поэтов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.И. Менделеева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Ф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Бараты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8568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оложите элемен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огласно их порядку в периодической системе химически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ов Д.И. Менделеев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_s9231"/>
          <p:cNvSpPr/>
          <p:nvPr/>
        </p:nvSpPr>
        <p:spPr>
          <a:xfrm>
            <a:off x="2987640" y="249228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а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_s1028"/>
          <p:cNvSpPr/>
          <p:nvPr/>
        </p:nvSpPr>
        <p:spPr>
          <a:xfrm>
            <a:off x="3059280" y="335772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хл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_s9231"/>
          <p:cNvSpPr/>
          <p:nvPr/>
        </p:nvSpPr>
        <p:spPr>
          <a:xfrm>
            <a:off x="3059280" y="4221000"/>
            <a:ext cx="305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палла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_s9231"/>
          <p:cNvSpPr/>
          <p:nvPr/>
        </p:nvSpPr>
        <p:spPr>
          <a:xfrm>
            <a:off x="3059280" y="5084640"/>
            <a:ext cx="305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кадм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4316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6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 характер движения те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уравнен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2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_s9231"/>
          <p:cNvSpPr/>
          <p:nvPr/>
        </p:nvSpPr>
        <p:spPr>
          <a:xfrm>
            <a:off x="158760" y="436572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_s9231"/>
          <p:cNvSpPr/>
          <p:nvPr/>
        </p:nvSpPr>
        <p:spPr>
          <a:xfrm>
            <a:off x="478800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ускор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_s9231"/>
          <p:cNvSpPr/>
          <p:nvPr/>
        </p:nvSpPr>
        <p:spPr>
          <a:xfrm>
            <a:off x="4716360" y="4365720"/>
            <a:ext cx="431820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равнозамедл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_s1028"/>
          <p:cNvSpPr/>
          <p:nvPr/>
        </p:nvSpPr>
        <p:spPr>
          <a:xfrm>
            <a:off x="15876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е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 характер движения те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уравнен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2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_s9231"/>
          <p:cNvSpPr/>
          <p:nvPr/>
        </p:nvSpPr>
        <p:spPr>
          <a:xfrm>
            <a:off x="158760" y="436572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_s9231"/>
          <p:cNvSpPr/>
          <p:nvPr/>
        </p:nvSpPr>
        <p:spPr>
          <a:xfrm>
            <a:off x="478800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ускор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_s9231"/>
          <p:cNvSpPr/>
          <p:nvPr/>
        </p:nvSpPr>
        <p:spPr>
          <a:xfrm>
            <a:off x="4716360" y="4365720"/>
            <a:ext cx="431820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равнозамедл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_s1028"/>
          <p:cNvSpPr/>
          <p:nvPr/>
        </p:nvSpPr>
        <p:spPr>
          <a:xfrm>
            <a:off x="15876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е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1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3688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32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тносятся к земноводным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ж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ляг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яще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трит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тносятся к земноводным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ж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ляг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яще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трит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03688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64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итель первой русской кругосветной экспедиц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03 – 1806 гг.?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рузенште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ики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итель первой русской кругосветной экспедиц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03 – 1806 гг.?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рузенште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ики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0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25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79640" y="234936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И  Г  Р  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действующая 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ый единичный заряд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лектрическом поле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Лоре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Амп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ес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тяж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500"/>
                            </p:stCondLst>
                            <p:childTnLst>
                              <p:par>
                                <p:cTn id="7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действующая 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ый единичный заряд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лектрическом поле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Лоре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Амп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ес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тяж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1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5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5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в мире вышел в открытый космос летчик-космонавт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Ю.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Греч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. Беля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Ле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в мире вышел в открытый космос летчик-космонавт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Ю.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Греч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. Беля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Ле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1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0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50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все берега которого принадлежат Турции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рамо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редизем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Ч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гей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все берега которого принадлежат Турции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рамо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редизем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Ч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гей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1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5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48560" y="2060640"/>
            <a:ext cx="665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 00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вещество образует истинный водный раствор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це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бенз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яичный бе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9280" y="5158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.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8640" y="10587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. 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8640" y="16146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. 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800" y="2205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.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000" y="278136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5. 1000   («4» за ур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9000" y="3341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6.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640" y="3917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7. 4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640" y="446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8. 8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7840" y="512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9. 16 000 («5» за ур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67480" y="106848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0. 32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7480" y="162864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1. 64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67120" y="218916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2. 125 000 («5» за к/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480" y="276552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3. 25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67480" y="334152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4. 5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9080" y="391788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5. 1 000 000 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(«5» за полугод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вещество образует истинный водный раствор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це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бенз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яичный бе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1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0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жайшее к Земле небесное тел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Лу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жайшее к Земле небесное тел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Лу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7T07:31:29Z</dcterms:created>
  <dc:creator>Андрей</dc:creator>
  <dc:description/>
  <dc:language>en-US</dc:language>
  <cp:lastModifiedBy>Андрей</cp:lastModifiedBy>
  <dcterms:modified xsi:type="dcterms:W3CDTF">2005-08-09T16:54:59Z</dcterms:modified>
  <cp:revision>6</cp:revision>
  <dc:subject/>
  <dc:title>Слайд 1</dc:title>
</cp:coreProperties>
</file>