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BAA-5210-400F-8F40-262E6F23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E26-197D-4455-BD30-B08B62E6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EFE-2020-424C-88B5-4C485F20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48A-38C4-4F0A-8097-C29C8F9D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0BE87-61E3-48FE-BEF9-807BA07D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3E0B9-99FE-4933-80DC-7769BBC2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7971E-61BE-4B27-BAFF-662DE3FB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7FBA3-42B4-4570-BC6A-E8E106F0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A2F8B-4F85-4732-A337-6CD60868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DF448-0319-403B-BB31-6EE303E6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39B8B-29E1-4B1F-94B2-D0B39768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DF6-5024-4BE4-9C3D-9D97B117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3C781-907B-4335-A265-EDB0AF7E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E3892-3C3B-40B2-9F8F-64D83743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91373-4D27-4291-9091-CF5A1154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1EE1E-8974-4575-BE1D-8251DA0A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CDC3D-6776-447C-BCA5-7876C133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A17-7AFC-45B2-ACC2-ECDD9465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D56D-8CF3-481E-B6A7-DF855ACA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0BD-B374-4F8A-9D7D-B6683885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9BF-3E37-40DA-B1BC-A2587B85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6C6-13B0-4F91-82FD-3F5EC09B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DFC-99F8-43D6-8443-81F4B3DE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8730-3464-4538-904D-99DA88BF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3FF7-8CC6-448E-BD52-7575790DA7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8376-5E8D-4FF3-A657-2AF889A899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14600" y="2421000"/>
            <a:ext cx="79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ОТБОРОЧНЫЙ ТУР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амилия первой женщины космонавт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Тереш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Ковалев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Мух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Савиц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амилия первой женщины космонавт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Тереш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Ковалев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Мух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Савиц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1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491920" y="2060640"/>
            <a:ext cx="429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3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ожительно заряженная частица это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электр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нейтр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квазитр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прот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ожительно заряженная частица это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электр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нейтр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квазитр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прот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491920" y="2060640"/>
            <a:ext cx="429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5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обретателем микроскопа считается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С – М. Шлейд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Р. Г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Ф. Кр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Г. Гали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5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обретателем микроскопа считается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С – М. Шлейд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Р. Г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Ф. Кр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Г. Гали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35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480400" y="2060640"/>
            <a:ext cx="477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1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жду молекулами спиртов образуется следующая химическая связь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ковалент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ио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водород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металл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50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положите элементы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огласно их порядку в периодической системе химических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ментов Д.И. Менделеева</a:t>
            </a:r>
            <a:br>
              <a:rPr sz="28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_s9231"/>
          <p:cNvSpPr/>
          <p:nvPr/>
        </p:nvSpPr>
        <p:spPr>
          <a:xfrm>
            <a:off x="1290600" y="4329000"/>
            <a:ext cx="305928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нат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_s9231"/>
          <p:cNvSpPr/>
          <p:nvPr/>
        </p:nvSpPr>
        <p:spPr>
          <a:xfrm>
            <a:off x="5580000" y="2847960"/>
            <a:ext cx="305928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кадм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_s9231"/>
          <p:cNvSpPr/>
          <p:nvPr/>
        </p:nvSpPr>
        <p:spPr>
          <a:xfrm>
            <a:off x="5580000" y="4334040"/>
            <a:ext cx="3059280" cy="46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паллад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_s1028"/>
          <p:cNvSpPr/>
          <p:nvPr/>
        </p:nvSpPr>
        <p:spPr>
          <a:xfrm>
            <a:off x="1289160" y="2857680"/>
            <a:ext cx="3058920" cy="46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хл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жду молекулами спиртов образуется следующая химическая связь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ковалент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ио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водород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металл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0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480400" y="2060640"/>
            <a:ext cx="477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2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сочайшая гора в Африке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Маргери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Эвер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Фудзия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Килиманджа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4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сочайшая гора в Африке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Маргери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Эвер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Фудзия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Килиманджа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1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480400" y="2060640"/>
            <a:ext cx="477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4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козы относятся к отряду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равнокры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двукры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перепончатокры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прямокры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5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козы относятся к отряду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равнокры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двукры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перепончатокры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прямокры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1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50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480400" y="2060640"/>
            <a:ext cx="477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8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ин из любимых поэтов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Д.И. Менделеева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Ф. Тютч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А. Ф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М. Лермо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Е. Баратын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ин из любимых поэтов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Д.И. Менделеева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Ф. Тютч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А. Ф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М. Лермо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Е. Баратын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55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8568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положите элементы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огласно их порядку в периодической системе химических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ментов Д.И. Менделеев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_s9231"/>
          <p:cNvSpPr/>
          <p:nvPr/>
        </p:nvSpPr>
        <p:spPr>
          <a:xfrm>
            <a:off x="2987640" y="2492280"/>
            <a:ext cx="305928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нат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_s1028"/>
          <p:cNvSpPr/>
          <p:nvPr/>
        </p:nvSpPr>
        <p:spPr>
          <a:xfrm>
            <a:off x="3059280" y="3357720"/>
            <a:ext cx="3058920" cy="46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хл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_s9231"/>
          <p:cNvSpPr/>
          <p:nvPr/>
        </p:nvSpPr>
        <p:spPr>
          <a:xfrm>
            <a:off x="3059280" y="4221000"/>
            <a:ext cx="305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паллад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_s9231"/>
          <p:cNvSpPr/>
          <p:nvPr/>
        </p:nvSpPr>
        <p:spPr>
          <a:xfrm>
            <a:off x="3059280" y="5084640"/>
            <a:ext cx="305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кадм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243160" y="2060640"/>
            <a:ext cx="54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16 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в характер движения тел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гласно уравнению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=2t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_s9231"/>
          <p:cNvSpPr/>
          <p:nvPr/>
        </p:nvSpPr>
        <p:spPr>
          <a:xfrm>
            <a:off x="158760" y="4365720"/>
            <a:ext cx="431784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равномер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_s9231"/>
          <p:cNvSpPr/>
          <p:nvPr/>
        </p:nvSpPr>
        <p:spPr>
          <a:xfrm>
            <a:off x="4788000" y="2852640"/>
            <a:ext cx="431784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равноускор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_s9231"/>
          <p:cNvSpPr/>
          <p:nvPr/>
        </p:nvSpPr>
        <p:spPr>
          <a:xfrm>
            <a:off x="4716360" y="4365720"/>
            <a:ext cx="431820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равнозамедл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_s1028"/>
          <p:cNvSpPr/>
          <p:nvPr/>
        </p:nvSpPr>
        <p:spPr>
          <a:xfrm>
            <a:off x="158760" y="2852640"/>
            <a:ext cx="431784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неравномер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500"/>
                            </p:stCondLst>
                            <p:childTnLst>
                              <p:par>
                                <p:cTn id="59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в характер движения тел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гласно уравнению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=2t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3" name="_s9231"/>
          <p:cNvSpPr/>
          <p:nvPr/>
        </p:nvSpPr>
        <p:spPr>
          <a:xfrm>
            <a:off x="158760" y="4365720"/>
            <a:ext cx="431784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равномер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_s9231"/>
          <p:cNvSpPr/>
          <p:nvPr/>
        </p:nvSpPr>
        <p:spPr>
          <a:xfrm>
            <a:off x="4788000" y="2852640"/>
            <a:ext cx="431784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равноускор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_s9231"/>
          <p:cNvSpPr/>
          <p:nvPr/>
        </p:nvSpPr>
        <p:spPr>
          <a:xfrm>
            <a:off x="4716360" y="4365720"/>
            <a:ext cx="431820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равнозамедлен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_s1028"/>
          <p:cNvSpPr/>
          <p:nvPr/>
        </p:nvSpPr>
        <p:spPr>
          <a:xfrm>
            <a:off x="158760" y="2852640"/>
            <a:ext cx="431784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неравномер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1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60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036880" y="2060640"/>
            <a:ext cx="54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32 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относятся к земноводным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жа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лягу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яще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трит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500"/>
                            </p:stCondLst>
                            <p:childTnLst>
                              <p:par>
                                <p:cTn id="64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относятся к земноводным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жа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лягу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яще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трит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1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65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036880" y="2060640"/>
            <a:ext cx="54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64 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уководитель первой русской кругосветной экспедиции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1803 – 1806 гг.?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Бери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Беллинсгауз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Крузенштер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Никит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500"/>
                            </p:stCondLst>
                            <p:childTnLst>
                              <p:par>
                                <p:cTn id="69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уководитель первой русской кругосветной экспедиции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1803 – 1806 гг.?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Бери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Беллинсгауз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Крузенштер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Никит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1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70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25360" y="2060640"/>
            <a:ext cx="595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125 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79640" y="2349360"/>
            <a:ext cx="489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И  Г  Р  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ла, действующая на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ожительный единичный заряд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электрическом поле, - это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1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сила Лорен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сила Амп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вес т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сила тяж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500"/>
                            </p:stCondLst>
                            <p:childTnLst>
                              <p:par>
                                <p:cTn id="74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ла, действующая на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ожительный единичный заряд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электрическом поле, - это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сила Лорен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сила Амп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вес т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сила тяж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1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75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6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025360" y="2060640"/>
            <a:ext cx="595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250 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первые в мире вышел в открытый космос летчик-космонавт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Ю. Гага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Е. Греч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В. Беля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А. Лео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3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500"/>
                            </p:stCondLst>
                            <p:childTnLst>
                              <p:par>
                                <p:cTn id="79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5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первые в мире вышел в открытый космос летчик-космонавт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Ю. Гага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Е. Греч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В. Беля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А. Лео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1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804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025360" y="2060640"/>
            <a:ext cx="595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500 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ре все берега которого принадлежат Турции, - это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3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Мрамор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Средизем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Чер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Эгейск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3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9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ре все берега которого принадлежат Турции, - это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Мрамор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Средизем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Чер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Эгейск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1" dur="2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85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6" dur="2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348560" y="2060640"/>
            <a:ext cx="665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1 000 0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е вещество образует истинный водный раствор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г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глице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бенз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яичный бел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8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500"/>
                            </p:stCondLst>
                            <p:childTnLst>
                              <p:par>
                                <p:cTn id="89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5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49280" y="51588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1.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8640" y="105876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2. 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8640" y="161460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3. 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9800" y="220500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4. 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9000" y="2781360"/>
            <a:ext cx="38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5. 1000   («4» за уро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9000" y="33415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6.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9640" y="3917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7. 4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9640" y="446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8. 8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67840" y="51264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9. 16 000 («5» за уро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67480" y="106848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10. 32 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67480" y="162864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11. 64 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67120" y="2189160"/>
            <a:ext cx="40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2. 125 000 («5» за к/р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480" y="276552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13. 250 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67480" y="334152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14. 500 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9080" y="3917880"/>
            <a:ext cx="404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15. 1 000 000 </a:t>
            </a:r>
            <a:br>
              <a:rPr sz="2800"/>
            </a:b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     («5» за полугоди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е вещество образует истинный водный раствор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_s9231"/>
          <p:cNvSpPr/>
          <p:nvPr/>
        </p:nvSpPr>
        <p:spPr>
          <a:xfrm>
            <a:off x="324000" y="436572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г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_s9231"/>
          <p:cNvSpPr/>
          <p:nvPr/>
        </p:nvSpPr>
        <p:spPr>
          <a:xfrm>
            <a:off x="4788000" y="285264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глице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_s9231"/>
          <p:cNvSpPr/>
          <p:nvPr/>
        </p:nvSpPr>
        <p:spPr>
          <a:xfrm>
            <a:off x="4716360" y="4365720"/>
            <a:ext cx="359892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бенз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_s1028"/>
          <p:cNvSpPr/>
          <p:nvPr/>
        </p:nvSpPr>
        <p:spPr>
          <a:xfrm>
            <a:off x="324000" y="2852640"/>
            <a:ext cx="359856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яичный бел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1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90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491920" y="2060640"/>
            <a:ext cx="429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1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лижайшее к Земле небесное тело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_s9231"/>
          <p:cNvSpPr/>
          <p:nvPr/>
        </p:nvSpPr>
        <p:spPr>
          <a:xfrm>
            <a:off x="1290600" y="4329000"/>
            <a:ext cx="305928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Вен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_s9231"/>
          <p:cNvSpPr/>
          <p:nvPr/>
        </p:nvSpPr>
        <p:spPr>
          <a:xfrm>
            <a:off x="5580000" y="2847960"/>
            <a:ext cx="305928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Лу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_s9231"/>
          <p:cNvSpPr/>
          <p:nvPr/>
        </p:nvSpPr>
        <p:spPr>
          <a:xfrm>
            <a:off x="5580000" y="4334040"/>
            <a:ext cx="3059280" cy="46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_s1028"/>
          <p:cNvSpPr/>
          <p:nvPr/>
        </p:nvSpPr>
        <p:spPr>
          <a:xfrm>
            <a:off x="1289160" y="2857680"/>
            <a:ext cx="3058920" cy="46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Солн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2915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лижайшее к Земле небесное тело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_s9231"/>
          <p:cNvSpPr/>
          <p:nvPr/>
        </p:nvSpPr>
        <p:spPr>
          <a:xfrm>
            <a:off x="1290600" y="4329000"/>
            <a:ext cx="305928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 – Вен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_s9231"/>
          <p:cNvSpPr/>
          <p:nvPr/>
        </p:nvSpPr>
        <p:spPr>
          <a:xfrm>
            <a:off x="5580000" y="2847960"/>
            <a:ext cx="3059280" cy="468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В – Лу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_s9231"/>
          <p:cNvSpPr/>
          <p:nvPr/>
        </p:nvSpPr>
        <p:spPr>
          <a:xfrm>
            <a:off x="5580000" y="4334040"/>
            <a:ext cx="3059280" cy="46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 – 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_s1028"/>
          <p:cNvSpPr/>
          <p:nvPr/>
        </p:nvSpPr>
        <p:spPr>
          <a:xfrm>
            <a:off x="1289160" y="2857680"/>
            <a:ext cx="3058920" cy="46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А – Солн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0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491920" y="2060640"/>
            <a:ext cx="429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200 очк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7T07:31:29Z</dcterms:created>
  <dc:creator>Андрей</dc:creator>
  <dc:description/>
  <dc:language>en-US</dc:language>
  <cp:lastModifiedBy>Андрей</cp:lastModifiedBy>
  <dcterms:modified xsi:type="dcterms:W3CDTF">2005-08-09T16:54:59Z</dcterms:modified>
  <cp:revision>6</cp:revision>
  <dc:subject/>
  <dc:title>Слайд 1</dc:title>
</cp:coreProperties>
</file>