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CF0-B7A8-48B9-9734-C368B386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83E-B0B2-4451-A43D-480DB0C3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FF7-3748-45D6-AB79-B0BBFAC1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E5F-A072-459C-8C53-E2879DC8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653-E8D9-4900-9432-26E071D6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3C1-05DF-4D88-94B8-61B2CCF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913-8CC1-4A3B-BE41-7E4CF12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801-88A1-4E08-824D-6905187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8CE-A84B-478B-88C5-B699386D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500-4BA7-48E0-BD80-D37DDD7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C64-6D83-4B37-817B-11DF47F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6BA-24AD-430A-8E22-2B72BEA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CD3-E96B-4756-B4AE-7F60875B26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3360" y="366876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5f74"/>
                </a:solidFill>
                <a:latin typeface="Arial"/>
              </a:rPr>
              <a:t>Наглядное пособие</a:t>
            </a:r>
            <a:br>
              <a:rPr sz="4000"/>
            </a:br>
            <a:r>
              <a:rPr b="0" lang="ru-RU" sz="4000" spc="-1" strike="noStrike">
                <a:solidFill>
                  <a:srgbClr val="f15f74"/>
                </a:solidFill>
                <a:latin typeface="Arial"/>
              </a:rPr>
              <a:t> к песне А. Кудряшова «ГАВ-ГАВ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3960" y="453960"/>
            <a:ext cx="480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МБДОУ Детский сад комбинированного вида №61 «Золотая рыб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1280" y="778176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Вирюкина Л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9680" y="366840"/>
            <a:ext cx="6037200" cy="780228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450" t="0" r="1190" b="6408"/>
          <a:stretch/>
        </p:blipFill>
        <p:spPr>
          <a:xfrm>
            <a:off x="498600" y="368280"/>
            <a:ext cx="5879880" cy="766296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9199" b="8799"/>
          <a:stretch/>
        </p:blipFill>
        <p:spPr>
          <a:xfrm>
            <a:off x="409680" y="366840"/>
            <a:ext cx="5978520" cy="775656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admin</dc:creator>
  <dc:description/>
  <dc:language>en-US</dc:language>
  <cp:lastModifiedBy/>
  <dcterms:modified xsi:type="dcterms:W3CDTF">2019-06-11T21:25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