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A940-E8A4-4963-9D37-60940AC6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880"/>
            <a:ext cx="6172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7B0F-0E04-4346-9262-6A9575A1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88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88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E024-C78C-43E2-A29C-9DB65EC3D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880"/>
            <a:ext cx="1987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880"/>
            <a:ext cx="1987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880"/>
            <a:ext cx="1987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331A-9EA8-41DC-9242-53168A957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DF15-2842-43AA-8C8A-6B4E4ADF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1B47-8F12-4847-BF0C-E39D788C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5E8F-6DE7-43E7-A6B7-1955BDDC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9886-ED93-4C28-8DC6-4140D78B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E88B-5822-4C47-B422-FEA99C8C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88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36FD-D1FE-4F77-94F4-B84F1770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88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BB92-110C-474E-91DA-AE62EBA6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880"/>
            <a:ext cx="6172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ABD8-5E96-404F-8545-5709B4F5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0569-F130-4F32-983F-6E891A73FE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3360" y="3668760"/>
            <a:ext cx="582948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15f74"/>
                </a:solidFill>
                <a:latin typeface="Arial"/>
              </a:rPr>
              <a:t>Наглядное пособие</a:t>
            </a:r>
            <a:br>
              <a:rPr sz="4000"/>
            </a:br>
            <a:r>
              <a:rPr b="0" lang="ru-RU" sz="4000" spc="-1" strike="noStrike">
                <a:solidFill>
                  <a:srgbClr val="f15f74"/>
                </a:solidFill>
                <a:latin typeface="Arial"/>
              </a:rPr>
              <a:t> к песне А. Кудряшова «ГАВ-ГАВ»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83960" y="453960"/>
            <a:ext cx="480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Arial"/>
              </a:rPr>
              <a:t>МБДОУ Детский сад комбинированного вида №61 «Золотая рыбк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51280" y="7781760"/>
            <a:ext cx="33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cc"/>
                </a:solidFill>
                <a:latin typeface="Arial"/>
              </a:rPr>
              <a:t>Музыкальный руководи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cc"/>
                </a:solidFill>
                <a:latin typeface="Arial"/>
              </a:rPr>
              <a:t>Вирюкина Л.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09680" y="366840"/>
            <a:ext cx="6037200" cy="7802280"/>
          </a:xfrm>
          <a:prstGeom prst="rect">
            <a:avLst/>
          </a:prstGeom>
          <a:ln w="76320">
            <a:solidFill>
              <a:srgbClr val="f15f7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1450" t="0" r="1190" b="6408"/>
          <a:stretch/>
        </p:blipFill>
        <p:spPr>
          <a:xfrm>
            <a:off x="498600" y="368280"/>
            <a:ext cx="5879880" cy="7662960"/>
          </a:xfrm>
          <a:prstGeom prst="rect">
            <a:avLst/>
          </a:prstGeom>
          <a:ln w="76320">
            <a:solidFill>
              <a:srgbClr val="f15f7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9199" b="8799"/>
          <a:stretch/>
        </p:blipFill>
        <p:spPr>
          <a:xfrm>
            <a:off x="409680" y="366840"/>
            <a:ext cx="5978520" cy="7756560"/>
          </a:xfrm>
          <a:prstGeom prst="rect">
            <a:avLst/>
          </a:prstGeom>
          <a:ln w="76320">
            <a:solidFill>
              <a:srgbClr val="f15f7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5T06:11:31Z</dcterms:created>
  <dc:creator>admin</dc:creator>
  <dc:description/>
  <dc:language>en-US</dc:language>
  <cp:lastModifiedBy/>
  <dcterms:modified xsi:type="dcterms:W3CDTF">2019-06-11T21:25:4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9.1.0.5247</vt:lpwstr>
  </property>
</Properties>
</file>