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A1E-8CD7-4FA6-9011-6BB27C75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C23-1181-4F58-B4D0-330B0341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BDF-237C-401A-93BE-14003AC7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B5B-6B10-462C-AD6D-A3F3E43B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5F6-8E6E-40A0-B43F-03C4F2BD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3166-8403-4BC9-9D9D-DF348C60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0059-1616-40AF-9DD3-3B9FCB4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E7AA-2341-4E5A-A3DA-6574166D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E79-7018-4A0F-9E39-404982AF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C2DD-5A51-4BE6-BB5F-B959BFB3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108-FFB1-4F37-9AFC-8643562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3C5-98B6-42DB-B265-06749B5D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6826-47DD-4EF2-B700-A6CB0AB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B554-C6F9-4E52-BDBC-2C30D6F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DCC1-C439-4D21-8338-5206220E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5B59-EA91-4D3B-9C51-0B0CADEF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3D8D-82EC-4772-8163-EEFEAAB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F42B-3FF0-4BF0-94CA-D3B5CFA6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C542-3348-44BE-8E23-DEEB7166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0E45-BE8D-423B-876A-6A2C19C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BCD9-49F2-40A7-B343-0FACBC6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47D4-59B7-486C-9B0E-EDCC62D7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423-62F6-40DE-96B1-10FB3687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4BCC-FB8F-4357-8F30-A165A43F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DD96-E659-4582-AC24-7C24285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07BB-8204-416C-BCAF-EAA12A0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CAF6-8041-47AF-9F65-9401E35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5503-CF9B-48DB-B106-C0EFAC4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EB58-B7A6-46F2-B355-58343000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2931-20FF-40C1-9B0E-E11175C5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8238-2A0E-40C4-984B-3565DAC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E4729-3B51-4000-989C-BC00271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F605-190D-42C9-A595-389853CE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35C-F1A6-4488-9BC6-5730BF6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D051-2F73-4641-ADD1-B8286C4A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BB46C-7E88-4285-BBC0-571B7A8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3EDE-D2E6-4D08-81A5-19196E9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3298-9681-46F0-9B65-E633C76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DD20-C814-471D-841B-2128760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206F-CF11-4E6F-A2D3-B99931D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188D-AE59-4542-A69C-7FBF625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2CFF-111A-4DB8-BFA5-66058D4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7D2A-DB7B-45AC-9A12-4B55F46C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593C-0523-4DB3-8413-4540314A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35D-A488-43D8-AF4A-7210034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F89E-01C1-4CD7-BAA7-11D633B9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3D39-8EB9-4D89-B949-09B0890D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C2F46-87FB-4CC1-B588-59A93DF4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0BB0-6AF7-4202-8A22-080777A3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0480-46F9-4825-9E0D-158C106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A2F8-98E7-42E9-B233-AB4464C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834A-7980-4C2B-8C25-B336173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BF27-CEBF-4434-A7DB-9BF34A39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CF8CE-97F4-49DE-9588-F69E898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E784-E246-4C2D-920C-48E6B84D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4C3-8520-4349-91C7-B6FE1D9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23E6B-6955-4AE5-9720-597AF2E1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7037-8AD6-4BAB-B7FC-BD21B69B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73F6-8772-4751-BA0E-AA3AF40F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CE74-6FEF-42ED-B543-AD2C942A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54D5A-90AE-4DDD-9F73-9CEA8A80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C4F8-D4E9-4BE7-8DAE-62DD619D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9EEB-D141-466E-BC18-B88D1567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F1A2-BF3D-47EE-8965-EAC7928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93CD-D3A2-4D7C-8C13-D5AB65E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4C893-E175-4EFB-9987-A311F360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C1B-0974-430D-8D2D-DD7A25B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147C-D630-414E-971E-4FCF503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595A-BB00-411C-844A-0CC0AB2B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3F3C-E5D0-4433-8B74-D2FE8DB2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89D28-471E-40F4-B5B1-1F5D60D7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3519D-7BEF-44C8-A526-1192F435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52550-653B-49F7-B8E2-992F2BE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A8655-0966-4721-B1D5-28F0151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15A0-DB2C-4085-A58F-29C8815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CC5C-AE28-4847-AFE2-7A71CE9E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B636-10A1-417A-9E13-A45AF81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D5E-C33D-4C9A-93E7-F2D3C80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99BF-E095-4E24-BD43-54CB9E24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9DD4-3624-4B5C-B7C9-5A5EE046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5F6A-F219-424A-82EB-24587800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ADAD-44AB-423E-B8DD-350DD1DB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90D0-374E-4922-A229-DE8E632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577-794B-40AD-B90F-195F015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61.xml"/><Relationship Id="rId14" Type="http://schemas.openxmlformats.org/officeDocument/2006/relationships/slideLayout" Target="../slideLayouts/slideLayout62.xml"/><Relationship Id="rId15" Type="http://schemas.openxmlformats.org/officeDocument/2006/relationships/slideLayout" Target="../slideLayouts/slideLayout63.xml"/><Relationship Id="rId16" Type="http://schemas.openxmlformats.org/officeDocument/2006/relationships/slideLayout" Target="../slideLayouts/slideLayout64.xml"/><Relationship Id="rId17" Type="http://schemas.openxmlformats.org/officeDocument/2006/relationships/slideLayout" Target="../slideLayouts/slideLayout65.xml"/><Relationship Id="rId18" Type="http://schemas.openxmlformats.org/officeDocument/2006/relationships/slideLayout" Target="../slideLayouts/slideLayout66.xml"/><Relationship Id="rId19" Type="http://schemas.openxmlformats.org/officeDocument/2006/relationships/slideLayout" Target="../slideLayouts/slideLayout67.xml"/><Relationship Id="rId20" Type="http://schemas.openxmlformats.org/officeDocument/2006/relationships/slideLayout" Target="../slideLayouts/slideLayout68.xml"/><Relationship Id="rId21" Type="http://schemas.openxmlformats.org/officeDocument/2006/relationships/slideLayout" Target="../slideLayouts/slideLayout69.xml"/><Relationship Id="rId22" Type="http://schemas.openxmlformats.org/officeDocument/2006/relationships/slideLayout" Target="../slideLayouts/slideLayout70.xml"/><Relationship Id="rId23" Type="http://schemas.openxmlformats.org/officeDocument/2006/relationships/slideLayout" Target="../slideLayouts/slideLayout71.xml"/><Relationship Id="rId2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D82-4EAD-4FD8-BF1F-5C0FD8E98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оугольник 8"/>
          <p:cNvSpPr/>
          <p:nvPr/>
        </p:nvSpPr>
        <p:spPr>
          <a:xfrm>
            <a:off x="142920" y="142920"/>
            <a:ext cx="8858160" cy="48578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850-0AE8-4BCE-8FF9-03FC6AE01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9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Рисунок 8" descr="2057b30133f41ab.jpg"/>
          <p:cNvPicPr/>
          <p:nvPr/>
        </p:nvPicPr>
        <p:blipFill>
          <a:blip r:embed="rId4"/>
          <a:stretch/>
        </p:blipFill>
        <p:spPr>
          <a:xfrm>
            <a:off x="0" y="4572000"/>
            <a:ext cx="148428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2057b30133f41ab.jpg"/>
          <p:cNvPicPr/>
          <p:nvPr/>
        </p:nvPicPr>
        <p:blipFill>
          <a:blip r:embed="rId5"/>
          <a:stretch/>
        </p:blipFill>
        <p:spPr>
          <a:xfrm>
            <a:off x="492912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2057b30133f41ab.jpg"/>
          <p:cNvPicPr/>
          <p:nvPr/>
        </p:nvPicPr>
        <p:blipFill>
          <a:blip r:embed="rId6"/>
          <a:stretch/>
        </p:blipFill>
        <p:spPr>
          <a:xfrm>
            <a:off x="628668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2057b30133f41ab.jpg"/>
          <p:cNvPicPr/>
          <p:nvPr/>
        </p:nvPicPr>
        <p:blipFill>
          <a:blip r:embed="rId7"/>
          <a:stretch/>
        </p:blipFill>
        <p:spPr>
          <a:xfrm>
            <a:off x="765972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2057b30133f41ab.jpg"/>
          <p:cNvPicPr/>
          <p:nvPr/>
        </p:nvPicPr>
        <p:blipFill>
          <a:blip r:embed="rId8"/>
          <a:stretch/>
        </p:blipFill>
        <p:spPr>
          <a:xfrm>
            <a:off x="114300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2057b30133f41ab.jpg"/>
          <p:cNvPicPr/>
          <p:nvPr/>
        </p:nvPicPr>
        <p:blipFill>
          <a:blip r:embed="rId9"/>
          <a:stretch/>
        </p:blipFill>
        <p:spPr>
          <a:xfrm>
            <a:off x="2286000" y="4565520"/>
            <a:ext cx="1484280" cy="578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2057b30133f41ab.jpg"/>
          <p:cNvPicPr/>
          <p:nvPr/>
        </p:nvPicPr>
        <p:blipFill>
          <a:blip r:embed="rId10"/>
          <a:stretch/>
        </p:blipFill>
        <p:spPr>
          <a:xfrm>
            <a:off x="3571920" y="4565520"/>
            <a:ext cx="1484280" cy="578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EA2-EE9A-4592-A76F-65A571FEF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141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Рисунок 8" descr="f043f3eed00cca6233bd534a917bad08.jpg"/>
          <p:cNvPicPr/>
          <p:nvPr/>
        </p:nvPicPr>
        <p:blipFill>
          <a:blip r:embed="rId4"/>
          <a:stretch/>
        </p:blipFill>
        <p:spPr>
          <a:xfrm>
            <a:off x="0" y="4429080"/>
            <a:ext cx="3929040" cy="792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f043f3eed00cca6233bd534a917bad08.jpg"/>
          <p:cNvPicPr/>
          <p:nvPr/>
        </p:nvPicPr>
        <p:blipFill>
          <a:blip r:embed="rId5"/>
          <a:stretch/>
        </p:blipFill>
        <p:spPr>
          <a:xfrm>
            <a:off x="5214960" y="4422600"/>
            <a:ext cx="3929040" cy="7923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f043f3eed00cca6233bd534a917bad08.jpg"/>
          <p:cNvPicPr/>
          <p:nvPr/>
        </p:nvPicPr>
        <p:blipFill>
          <a:blip r:embed="rId6"/>
          <a:stretch/>
        </p:blipFill>
        <p:spPr>
          <a:xfrm>
            <a:off x="3571920" y="4422600"/>
            <a:ext cx="2214360" cy="792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485-4EC3-4B28-A0F8-1C6D3CF6C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18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Рисунок 8" descr="0_97e29_cd06a4e1_L.png"/>
          <p:cNvPicPr/>
          <p:nvPr/>
        </p:nvPicPr>
        <p:blipFill>
          <a:blip r:embed="rId4"/>
          <a:srcRect l="9449" t="0" r="0" b="0"/>
          <a:stretch/>
        </p:blipFill>
        <p:spPr>
          <a:xfrm>
            <a:off x="0" y="0"/>
            <a:ext cx="273852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9" descr="667519_36cd9.png"/>
          <p:cNvPicPr/>
          <p:nvPr/>
        </p:nvPicPr>
        <p:blipFill>
          <a:blip r:embed="rId5"/>
          <a:stretch/>
        </p:blipFill>
        <p:spPr>
          <a:xfrm>
            <a:off x="0" y="4143240"/>
            <a:ext cx="1905120" cy="10004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0" descr="n8FxMdzJlzKam-Q3r5-a-9WwI30@320x330.png"/>
          <p:cNvPicPr/>
          <p:nvPr/>
        </p:nvPicPr>
        <p:blipFill>
          <a:blip r:embed="rId6"/>
          <a:stretch/>
        </p:blipFill>
        <p:spPr>
          <a:xfrm>
            <a:off x="7500960" y="3429000"/>
            <a:ext cx="1603440" cy="1658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4FFD-077E-478B-BAE2-486C60138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23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Рисунок 8" descr="ef0a271864e5af07c35986ba40203812.gif"/>
          <p:cNvPicPr/>
          <p:nvPr/>
        </p:nvPicPr>
        <p:blipFill>
          <a:blip r:embed="rId4"/>
          <a:stretch/>
        </p:blipFill>
        <p:spPr>
          <a:xfrm>
            <a:off x="0" y="4572000"/>
            <a:ext cx="1428840" cy="582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ef0a271864e5af07c35986ba40203812.gif"/>
          <p:cNvPicPr/>
          <p:nvPr/>
        </p:nvPicPr>
        <p:blipFill>
          <a:blip r:embed="rId5"/>
          <a:stretch/>
        </p:blipFill>
        <p:spPr>
          <a:xfrm>
            <a:off x="114300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ef0a271864e5af07c35986ba40203812.gif"/>
          <p:cNvPicPr/>
          <p:nvPr/>
        </p:nvPicPr>
        <p:blipFill>
          <a:blip r:embed="rId6"/>
          <a:stretch/>
        </p:blipFill>
        <p:spPr>
          <a:xfrm>
            <a:off x="2428920" y="4572000"/>
            <a:ext cx="1500120" cy="582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ef0a271864e5af07c35986ba40203812.gif"/>
          <p:cNvPicPr/>
          <p:nvPr/>
        </p:nvPicPr>
        <p:blipFill>
          <a:blip r:embed="rId7"/>
          <a:stretch/>
        </p:blipFill>
        <p:spPr>
          <a:xfrm>
            <a:off x="3643200" y="4560840"/>
            <a:ext cx="1500480" cy="582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2" descr="ef0a271864e5af07c35986ba40203812.gif"/>
          <p:cNvPicPr/>
          <p:nvPr/>
        </p:nvPicPr>
        <p:blipFill>
          <a:blip r:embed="rId8"/>
          <a:stretch/>
        </p:blipFill>
        <p:spPr>
          <a:xfrm>
            <a:off x="507204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3" descr="ef0a271864e5af07c35986ba40203812.gif"/>
          <p:cNvPicPr/>
          <p:nvPr/>
        </p:nvPicPr>
        <p:blipFill>
          <a:blip r:embed="rId9"/>
          <a:stretch/>
        </p:blipFill>
        <p:spPr>
          <a:xfrm>
            <a:off x="635796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4" descr="ef0a271864e5af07c35986ba40203812.gif"/>
          <p:cNvPicPr/>
          <p:nvPr/>
        </p:nvPicPr>
        <p:blipFill>
          <a:blip r:embed="rId10"/>
          <a:stretch/>
        </p:blipFill>
        <p:spPr>
          <a:xfrm>
            <a:off x="7643880" y="4560840"/>
            <a:ext cx="1500120" cy="5828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5" descr="2ced2374e1cf9ee67f3d7f9a3a1a2b26_t.jpeg"/>
          <p:cNvPicPr/>
          <p:nvPr/>
        </p:nvPicPr>
        <p:blipFill>
          <a:blip r:embed="rId11"/>
          <a:stretch/>
        </p:blipFill>
        <p:spPr>
          <a:xfrm>
            <a:off x="-17640" y="-15840"/>
            <a:ext cx="1946520" cy="22305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6" descr="2ced2374e1cf9ee67f3d7f9a3a1a2b26_t.jpeg"/>
          <p:cNvPicPr/>
          <p:nvPr/>
        </p:nvPicPr>
        <p:blipFill>
          <a:blip r:embed="rId12"/>
          <a:stretch/>
        </p:blipFill>
        <p:spPr>
          <a:xfrm>
            <a:off x="7304040" y="-71280"/>
            <a:ext cx="1839960" cy="2230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750-D6CE-4E4B-A77B-2D14C4837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3"/>
    <p:sldLayoutId id="2147483715" r:id="rId14"/>
    <p:sldLayoutId id="2147483716" r:id="rId15"/>
    <p:sldLayoutId id="2147483717" r:id="rId16"/>
    <p:sldLayoutId id="2147483718" r:id="rId17"/>
    <p:sldLayoutId id="2147483719" r:id="rId18"/>
    <p:sldLayoutId id="2147483720" r:id="rId19"/>
    <p:sldLayoutId id="2147483721" r:id="rId20"/>
    <p:sldLayoutId id="2147483722" r:id="rId21"/>
    <p:sldLayoutId id="2147483723" r:id="rId22"/>
    <p:sldLayoutId id="2147483724" r:id="rId23"/>
    <p:sldLayoutId id="2147483725" r:id="rId2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Прямоугольник 7"/>
          <p:cNvGrpSpPr/>
          <p:nvPr/>
        </p:nvGrpSpPr>
        <p:grpSpPr>
          <a:xfrm>
            <a:off x="96840" y="96840"/>
            <a:ext cx="8943840" cy="4944960"/>
            <a:chOff x="96840" y="96840"/>
            <a:chExt cx="8943840" cy="4944960"/>
          </a:xfrm>
        </p:grpSpPr>
        <p:pic>
          <p:nvPicPr>
            <p:cNvPr id="28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96840" y="96840"/>
              <a:ext cx="8943840" cy="49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2920" y="142920"/>
              <a:ext cx="8858160" cy="48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Рисунок 8" descr="Osen-Seminar.png"/>
          <p:cNvPicPr/>
          <p:nvPr/>
        </p:nvPicPr>
        <p:blipFill>
          <a:blip r:embed="rId4"/>
          <a:stretch/>
        </p:blipFill>
        <p:spPr>
          <a:xfrm>
            <a:off x="0" y="4286160"/>
            <a:ext cx="1265400" cy="85752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9" descr="sQfOlYFjXIQ00toojdgI-lHm7xQ@250x676.png"/>
          <p:cNvPicPr/>
          <p:nvPr/>
        </p:nvPicPr>
        <p:blipFill>
          <a:blip r:embed="rId5"/>
          <a:stretch/>
        </p:blipFill>
        <p:spPr>
          <a:xfrm>
            <a:off x="8325000" y="0"/>
            <a:ext cx="819000" cy="26431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0" descr="sQfOlYFjXIQ00toojdgI-lHm7xQ@250x676.png"/>
          <p:cNvPicPr/>
          <p:nvPr/>
        </p:nvPicPr>
        <p:blipFill>
          <a:blip r:embed="rId6"/>
          <a:stretch/>
        </p:blipFill>
        <p:spPr>
          <a:xfrm>
            <a:off x="8325000" y="2500200"/>
            <a:ext cx="819000" cy="26434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436B-91C2-4E0B-AD39-465CEA8B5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2500200" y="192888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енние посид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http://poim-museum.ucoz.ru/_ph/6/730000593.jpg"/>
          <p:cNvPicPr/>
          <p:nvPr/>
        </p:nvPicPr>
        <p:blipFill>
          <a:blip r:embed="rId1"/>
          <a:stretch/>
        </p:blipFill>
        <p:spPr>
          <a:xfrm>
            <a:off x="428760" y="642960"/>
            <a:ext cx="4101840" cy="2000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http://mtdata.ru/u2/photoEE40/20654932776-0/original.jpg"/>
          <p:cNvPicPr/>
          <p:nvPr/>
        </p:nvPicPr>
        <p:blipFill>
          <a:blip r:embed="rId2"/>
          <a:stretch/>
        </p:blipFill>
        <p:spPr>
          <a:xfrm>
            <a:off x="4714920" y="928800"/>
            <a:ext cx="3143160" cy="1768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cvr.68edu.ru/wp-content/uploads/2014/10/%D0%BF%D0%BE%D0%BA%D1%80%D0%BE%D0%B2%D1%81%D0%BA%D0%B8%D0%B5-%D0%BF%D0%BE%D1%81%D0%B8%D0%B4%D0%B5%D0%BB%D0%BA%D0%B8-768x553.jpg"/>
          <p:cNvPicPr/>
          <p:nvPr/>
        </p:nvPicPr>
        <p:blipFill>
          <a:blip r:embed="rId3"/>
          <a:stretch/>
        </p:blipFill>
        <p:spPr>
          <a:xfrm>
            <a:off x="2571840" y="2786040"/>
            <a:ext cx="34290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http://itd0.mycdn.me/image?id=812427783462&amp;t=20&amp;plc=WEB&amp;tkn=*ZJkxZoQHimabkNDl-DzXaV-qUSQ"/>
          <p:cNvPicPr/>
          <p:nvPr/>
        </p:nvPicPr>
        <p:blipFill>
          <a:blip r:embed="rId1"/>
          <a:stretch/>
        </p:blipFill>
        <p:spPr>
          <a:xfrm>
            <a:off x="1889280" y="1000080"/>
            <a:ext cx="5325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s://opt-533611.ssl.1c-bitrix-cdn.ru/upload/medialibrary/aff/aff39a97f1475c9b22a2a22efc9d19bb.jpg?1482824259110046"/>
          <p:cNvPicPr/>
          <p:nvPr/>
        </p:nvPicPr>
        <p:blipFill>
          <a:blip r:embed="rId1"/>
          <a:stretch/>
        </p:blipFill>
        <p:spPr>
          <a:xfrm>
            <a:off x="1714680" y="714240"/>
            <a:ext cx="47559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857160" y="1743480"/>
            <a:ext cx="61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2T08:31:29Z</dcterms:created>
  <dc:creator>Lenovo</dc:creator>
  <dc:description/>
  <dc:language>en-US</dc:language>
  <cp:lastModifiedBy>baby</cp:lastModifiedBy>
  <dcterms:modified xsi:type="dcterms:W3CDTF">2019-06-12T18:36:16Z</dcterms:modified>
  <cp:revision>15</cp:revision>
  <dc:subject/>
  <dc:title>Слайд 1</dc:title>
</cp:coreProperties>
</file>