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A52-2EF6-41BA-ADFD-30397750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017-9DDF-472C-891D-EE502551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AE0-6F2B-4EB0-BACB-55280CB0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B7E-4208-4B69-8591-D00CC160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8412-797B-4DDE-921C-0AD71F1B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F113-67A6-466F-A501-DF9883FE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E7FF-052E-41BF-BDC0-F216EF76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94AD-CB90-4B47-BA3C-84092BAB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0653-5E62-4D2E-9D59-8506692D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619D-A253-40DF-8646-48255A54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AF4F-1983-4498-AFAA-612F71AC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39B-89B7-4EF7-8056-7E0CC276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80A9-F977-47F6-8642-341EB41B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7B6E-2D92-4397-869A-09DBFDC7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10F7-CBB9-42F9-95BF-FB79360E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A376-39F7-4B06-83B4-53BC5D02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A00B-DCEE-4C62-887F-2D2BBB37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064EF-3849-4431-A71A-1D521BF5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F782-9FB9-4712-AFE7-53461C5E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CF51-CCFD-4ED5-B67A-1CBB17CF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1739-DF3D-4D78-8BBA-78879D71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27DB-4B16-4B7C-8DDE-1C50AE1A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E92-0965-4DA3-B2E5-B91AF29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EAB74-CF06-406B-A434-768627B0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B0B1-AF4E-4032-AA45-29761A34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D811-0494-4F70-B111-1C13D85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AD23-A6E8-4387-90FE-3240D904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16399-A0F5-4BDE-B17A-71006506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DF59-E5A1-4930-9C7F-68C02922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3BC0-878A-451F-8DD7-C8F1E8E3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EBC6-E779-4877-BDB5-E37E133C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7964E-3AFC-4B3D-BD96-D8E70890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AA24A-6567-4109-B993-DEC96F38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0FA-CEF0-41D4-BB6C-C58CBD65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259FA-B6D1-49EF-A543-EBB47BD8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4DE7-343D-4B76-B484-DE26964B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0771E-6F2E-45A8-95CA-9F46C47B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7D9E-66D2-4636-A2CE-5162AF45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AFEBD-C5B3-42E3-B1F8-8687ACB5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564A-2000-433F-86FA-E822E4CC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5041-ECF6-43A7-BA4E-5117D486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A07AF-3E0D-40CD-8282-5D5FA854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B449-A61A-4C76-AB2E-1E3E38D0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46C9A-A5FD-4BE5-9841-D572B4B3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123-B20A-4058-A9B0-BEA80265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A0EB1-A766-4FD3-AB15-4831C20D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0F752-A648-485F-B210-8D98A756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44EEB-3177-40CB-97B4-579E325E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683B9-0A40-485A-BD98-96C87B0F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C5F89-E71C-4D73-A393-127F08A4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1482-CEA8-4533-83DD-2B9C1A93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CC382-DFBD-44F3-80C6-828B268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FF14A-CAAE-4C16-93CC-FBDCDFC8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8695E-15C1-41F6-A433-EE1E1134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19330-6563-4C86-BCFD-B0F1C11E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D89-F8C8-4A71-A0CB-5471B23C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D8B46-DE83-4ADF-A9DC-2D16F1C8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36D62-7562-43A8-915B-0F8FB452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70D95-C324-4BEB-AE01-6E744D9E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7C359-B952-4E78-AF9D-BE40C5AF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27810-D171-450C-941F-B412FF21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22E81-9995-40B0-9C43-09C0ACF8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2EFA8-B23C-4739-ACB6-E7F39F6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4918C-EC8C-42AE-A1D1-17840B96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DEAB9-7B53-4701-B196-20F1758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3FC3-C357-4ADC-A592-521591A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2C6-227E-47CC-9B08-980D3202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F7FE0-646C-441C-BC26-949442C7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30C8F-F4FE-4721-8674-31E9CECF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A49A3-75B3-4823-A343-C27FF6A3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C9749-A5CB-496B-B2FB-D070501D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97079-BE07-49A6-8829-F2FAB2DD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6A80C-5CDD-414E-9975-31470671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DC33-1DC7-4FAE-8B3B-6AB7352C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7BACB-E098-4FCA-BB87-D858D3C1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AB402-D6D0-4479-B166-54A15CA4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3DDCC-DF75-4662-A4E6-E56E19DB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84D-58F0-4D4E-B06C-4FCBD1F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2AB84-22BD-4C00-A56F-68FB1C05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70CCA-6B41-4DDC-A4FB-8A16A6F1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FA061-9056-46A0-8AC5-3DD54878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9456E-C7D5-44B0-99F0-6423F3F4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A1B15-2B58-4D7B-B72F-30C97372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208-A979-45F1-A25F-68BF325A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61.xml"/><Relationship Id="rId14" Type="http://schemas.openxmlformats.org/officeDocument/2006/relationships/slideLayout" Target="../slideLayouts/slideLayout62.xml"/><Relationship Id="rId15" Type="http://schemas.openxmlformats.org/officeDocument/2006/relationships/slideLayout" Target="../slideLayouts/slideLayout63.xml"/><Relationship Id="rId16" Type="http://schemas.openxmlformats.org/officeDocument/2006/relationships/slideLayout" Target="../slideLayouts/slideLayout64.xml"/><Relationship Id="rId17" Type="http://schemas.openxmlformats.org/officeDocument/2006/relationships/slideLayout" Target="../slideLayouts/slideLayout65.xml"/><Relationship Id="rId18" Type="http://schemas.openxmlformats.org/officeDocument/2006/relationships/slideLayout" Target="../slideLayouts/slideLayout66.xml"/><Relationship Id="rId19" Type="http://schemas.openxmlformats.org/officeDocument/2006/relationships/slideLayout" Target="../slideLayouts/slideLayout67.xml"/><Relationship Id="rId20" Type="http://schemas.openxmlformats.org/officeDocument/2006/relationships/slideLayout" Target="../slideLayouts/slideLayout68.xml"/><Relationship Id="rId21" Type="http://schemas.openxmlformats.org/officeDocument/2006/relationships/slideLayout" Target="../slideLayouts/slideLayout69.xml"/><Relationship Id="rId22" Type="http://schemas.openxmlformats.org/officeDocument/2006/relationships/slideLayout" Target="../slideLayouts/slideLayout70.xml"/><Relationship Id="rId23" Type="http://schemas.openxmlformats.org/officeDocument/2006/relationships/slideLayout" Target="../slideLayouts/slideLayout71.xml"/><Relationship Id="rId2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AA83-E6B6-49D4-A118-45E2C560C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оугольник 8"/>
          <p:cNvSpPr/>
          <p:nvPr/>
        </p:nvSpPr>
        <p:spPr>
          <a:xfrm>
            <a:off x="142920" y="142920"/>
            <a:ext cx="8858160" cy="485784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69D0-0B04-4AB9-8B58-E484D06657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9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Рисунок 8" descr="2057b30133f41ab.jpg"/>
          <p:cNvPicPr/>
          <p:nvPr/>
        </p:nvPicPr>
        <p:blipFill>
          <a:blip r:embed="rId4"/>
          <a:stretch/>
        </p:blipFill>
        <p:spPr>
          <a:xfrm>
            <a:off x="0" y="4572000"/>
            <a:ext cx="1484280" cy="577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2057b30133f41ab.jpg"/>
          <p:cNvPicPr/>
          <p:nvPr/>
        </p:nvPicPr>
        <p:blipFill>
          <a:blip r:embed="rId5"/>
          <a:stretch/>
        </p:blipFill>
        <p:spPr>
          <a:xfrm>
            <a:off x="4929120" y="4565520"/>
            <a:ext cx="1484280" cy="5781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2057b30133f41ab.jpg"/>
          <p:cNvPicPr/>
          <p:nvPr/>
        </p:nvPicPr>
        <p:blipFill>
          <a:blip r:embed="rId6"/>
          <a:stretch/>
        </p:blipFill>
        <p:spPr>
          <a:xfrm>
            <a:off x="6286680" y="4565520"/>
            <a:ext cx="1484280" cy="5781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1" descr="2057b30133f41ab.jpg"/>
          <p:cNvPicPr/>
          <p:nvPr/>
        </p:nvPicPr>
        <p:blipFill>
          <a:blip r:embed="rId7"/>
          <a:stretch/>
        </p:blipFill>
        <p:spPr>
          <a:xfrm>
            <a:off x="7659720" y="4565520"/>
            <a:ext cx="1484280" cy="5781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2057b30133f41ab.jpg"/>
          <p:cNvPicPr/>
          <p:nvPr/>
        </p:nvPicPr>
        <p:blipFill>
          <a:blip r:embed="rId8"/>
          <a:stretch/>
        </p:blipFill>
        <p:spPr>
          <a:xfrm>
            <a:off x="1143000" y="4565520"/>
            <a:ext cx="1484280" cy="5781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2057b30133f41ab.jpg"/>
          <p:cNvPicPr/>
          <p:nvPr/>
        </p:nvPicPr>
        <p:blipFill>
          <a:blip r:embed="rId9"/>
          <a:stretch/>
        </p:blipFill>
        <p:spPr>
          <a:xfrm>
            <a:off x="2286000" y="4565520"/>
            <a:ext cx="1484280" cy="5781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2057b30133f41ab.jpg"/>
          <p:cNvPicPr/>
          <p:nvPr/>
        </p:nvPicPr>
        <p:blipFill>
          <a:blip r:embed="rId10"/>
          <a:stretch/>
        </p:blipFill>
        <p:spPr>
          <a:xfrm>
            <a:off x="3571920" y="4565520"/>
            <a:ext cx="1484280" cy="578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04D0-2A67-4669-A6FB-2AE17C033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14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Рисунок 8" descr="f043f3eed00cca6233bd534a917bad08.jpg"/>
          <p:cNvPicPr/>
          <p:nvPr/>
        </p:nvPicPr>
        <p:blipFill>
          <a:blip r:embed="rId4"/>
          <a:stretch/>
        </p:blipFill>
        <p:spPr>
          <a:xfrm>
            <a:off x="0" y="4429080"/>
            <a:ext cx="3929040" cy="792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f043f3eed00cca6233bd534a917bad08.jpg"/>
          <p:cNvPicPr/>
          <p:nvPr/>
        </p:nvPicPr>
        <p:blipFill>
          <a:blip r:embed="rId5"/>
          <a:stretch/>
        </p:blipFill>
        <p:spPr>
          <a:xfrm>
            <a:off x="5214960" y="4422600"/>
            <a:ext cx="3929040" cy="7923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f043f3eed00cca6233bd534a917bad08.jpg"/>
          <p:cNvPicPr/>
          <p:nvPr/>
        </p:nvPicPr>
        <p:blipFill>
          <a:blip r:embed="rId6"/>
          <a:stretch/>
        </p:blipFill>
        <p:spPr>
          <a:xfrm>
            <a:off x="3571920" y="4422600"/>
            <a:ext cx="2214360" cy="792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88C6-0DA5-4B11-BB53-F7DB48CE5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18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Рисунок 8" descr="0_97e29_cd06a4e1_L.png"/>
          <p:cNvPicPr/>
          <p:nvPr/>
        </p:nvPicPr>
        <p:blipFill>
          <a:blip r:embed="rId4"/>
          <a:srcRect l="9449" t="0" r="0" b="0"/>
          <a:stretch/>
        </p:blipFill>
        <p:spPr>
          <a:xfrm>
            <a:off x="0" y="0"/>
            <a:ext cx="2738520" cy="4643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9" descr="667519_36cd9.png"/>
          <p:cNvPicPr/>
          <p:nvPr/>
        </p:nvPicPr>
        <p:blipFill>
          <a:blip r:embed="rId5"/>
          <a:stretch/>
        </p:blipFill>
        <p:spPr>
          <a:xfrm>
            <a:off x="0" y="4143240"/>
            <a:ext cx="1905120" cy="10004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0" descr="n8FxMdzJlzKam-Q3r5-a-9WwI30@320x330.png"/>
          <p:cNvPicPr/>
          <p:nvPr/>
        </p:nvPicPr>
        <p:blipFill>
          <a:blip r:embed="rId6"/>
          <a:stretch/>
        </p:blipFill>
        <p:spPr>
          <a:xfrm>
            <a:off x="7500960" y="3429000"/>
            <a:ext cx="1603440" cy="1658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92E8-8335-45B0-82FF-A48D3894E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23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Рисунок 8" descr="ef0a271864e5af07c35986ba40203812.gif"/>
          <p:cNvPicPr/>
          <p:nvPr/>
        </p:nvPicPr>
        <p:blipFill>
          <a:blip r:embed="rId4"/>
          <a:stretch/>
        </p:blipFill>
        <p:spPr>
          <a:xfrm>
            <a:off x="0" y="4572000"/>
            <a:ext cx="1428840" cy="5824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9" descr="ef0a271864e5af07c35986ba40203812.gif"/>
          <p:cNvPicPr/>
          <p:nvPr/>
        </p:nvPicPr>
        <p:blipFill>
          <a:blip r:embed="rId5"/>
          <a:stretch/>
        </p:blipFill>
        <p:spPr>
          <a:xfrm>
            <a:off x="1143000" y="4560840"/>
            <a:ext cx="1500120" cy="5828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ef0a271864e5af07c35986ba40203812.gif"/>
          <p:cNvPicPr/>
          <p:nvPr/>
        </p:nvPicPr>
        <p:blipFill>
          <a:blip r:embed="rId6"/>
          <a:stretch/>
        </p:blipFill>
        <p:spPr>
          <a:xfrm>
            <a:off x="2428920" y="4572000"/>
            <a:ext cx="1500120" cy="582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1" descr="ef0a271864e5af07c35986ba40203812.gif"/>
          <p:cNvPicPr/>
          <p:nvPr/>
        </p:nvPicPr>
        <p:blipFill>
          <a:blip r:embed="rId7"/>
          <a:stretch/>
        </p:blipFill>
        <p:spPr>
          <a:xfrm>
            <a:off x="3643200" y="4560840"/>
            <a:ext cx="1500480" cy="5828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2" descr="ef0a271864e5af07c35986ba40203812.gif"/>
          <p:cNvPicPr/>
          <p:nvPr/>
        </p:nvPicPr>
        <p:blipFill>
          <a:blip r:embed="rId8"/>
          <a:stretch/>
        </p:blipFill>
        <p:spPr>
          <a:xfrm>
            <a:off x="5072040" y="4560840"/>
            <a:ext cx="1500120" cy="5828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3" descr="ef0a271864e5af07c35986ba40203812.gif"/>
          <p:cNvPicPr/>
          <p:nvPr/>
        </p:nvPicPr>
        <p:blipFill>
          <a:blip r:embed="rId9"/>
          <a:stretch/>
        </p:blipFill>
        <p:spPr>
          <a:xfrm>
            <a:off x="6357960" y="4560840"/>
            <a:ext cx="1500120" cy="5828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4" descr="ef0a271864e5af07c35986ba40203812.gif"/>
          <p:cNvPicPr/>
          <p:nvPr/>
        </p:nvPicPr>
        <p:blipFill>
          <a:blip r:embed="rId10"/>
          <a:stretch/>
        </p:blipFill>
        <p:spPr>
          <a:xfrm>
            <a:off x="7643880" y="4560840"/>
            <a:ext cx="1500120" cy="5828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5" descr="2ced2374e1cf9ee67f3d7f9a3a1a2b26_t.jpeg"/>
          <p:cNvPicPr/>
          <p:nvPr/>
        </p:nvPicPr>
        <p:blipFill>
          <a:blip r:embed="rId11"/>
          <a:stretch/>
        </p:blipFill>
        <p:spPr>
          <a:xfrm>
            <a:off x="-17640" y="-15840"/>
            <a:ext cx="1946520" cy="22305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6" descr="2ced2374e1cf9ee67f3d7f9a3a1a2b26_t.jpeg"/>
          <p:cNvPicPr/>
          <p:nvPr/>
        </p:nvPicPr>
        <p:blipFill>
          <a:blip r:embed="rId12"/>
          <a:stretch/>
        </p:blipFill>
        <p:spPr>
          <a:xfrm>
            <a:off x="7304040" y="-71280"/>
            <a:ext cx="1839960" cy="22302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6BF8-B89F-4ED1-AFC5-2DF50CB397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3"/>
    <p:sldLayoutId id="2147483715" r:id="rId14"/>
    <p:sldLayoutId id="2147483716" r:id="rId15"/>
    <p:sldLayoutId id="2147483717" r:id="rId16"/>
    <p:sldLayoutId id="2147483718" r:id="rId17"/>
    <p:sldLayoutId id="2147483719" r:id="rId18"/>
    <p:sldLayoutId id="2147483720" r:id="rId19"/>
    <p:sldLayoutId id="2147483721" r:id="rId20"/>
    <p:sldLayoutId id="2147483722" r:id="rId21"/>
    <p:sldLayoutId id="2147483723" r:id="rId22"/>
    <p:sldLayoutId id="2147483724" r:id="rId23"/>
    <p:sldLayoutId id="2147483725" r:id="rId2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28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Рисунок 8" descr="Osen-Seminar.png"/>
          <p:cNvPicPr/>
          <p:nvPr/>
        </p:nvPicPr>
        <p:blipFill>
          <a:blip r:embed="rId4"/>
          <a:stretch/>
        </p:blipFill>
        <p:spPr>
          <a:xfrm>
            <a:off x="0" y="4286160"/>
            <a:ext cx="1265400" cy="85752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9" descr="sQfOlYFjXIQ00toojdgI-lHm7xQ@250x676.png"/>
          <p:cNvPicPr/>
          <p:nvPr/>
        </p:nvPicPr>
        <p:blipFill>
          <a:blip r:embed="rId5"/>
          <a:stretch/>
        </p:blipFill>
        <p:spPr>
          <a:xfrm>
            <a:off x="8325000" y="0"/>
            <a:ext cx="819000" cy="264312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10" descr="sQfOlYFjXIQ00toojdgI-lHm7xQ@250x676.png"/>
          <p:cNvPicPr/>
          <p:nvPr/>
        </p:nvPicPr>
        <p:blipFill>
          <a:blip r:embed="rId6"/>
          <a:stretch/>
        </p:blipFill>
        <p:spPr>
          <a:xfrm>
            <a:off x="8325000" y="2500200"/>
            <a:ext cx="819000" cy="26434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3761-FA61-4F7E-A2ED-C4D5998ECF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1"/>
          <p:cNvSpPr/>
          <p:nvPr/>
        </p:nvSpPr>
        <p:spPr>
          <a:xfrm>
            <a:off x="2500200" y="192888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енние посид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8" descr="http://poim-museum.ucoz.ru/_ph/6/730000593.jpg"/>
          <p:cNvPicPr/>
          <p:nvPr/>
        </p:nvPicPr>
        <p:blipFill>
          <a:blip r:embed="rId1"/>
          <a:stretch/>
        </p:blipFill>
        <p:spPr>
          <a:xfrm>
            <a:off x="428760" y="642960"/>
            <a:ext cx="4101840" cy="20001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http://mtdata.ru/u2/photoEE40/20654932776-0/original.jpg"/>
          <p:cNvPicPr/>
          <p:nvPr/>
        </p:nvPicPr>
        <p:blipFill>
          <a:blip r:embed="rId2"/>
          <a:stretch/>
        </p:blipFill>
        <p:spPr>
          <a:xfrm>
            <a:off x="4714920" y="928800"/>
            <a:ext cx="3143160" cy="1768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cvr.68edu.ru/wp-content/uploads/2014/10/%D0%BF%D0%BE%D0%BA%D1%80%D0%BE%D0%B2%D1%81%D0%BA%D0%B8%D0%B5-%D0%BF%D0%BE%D1%81%D0%B8%D0%B4%D0%B5%D0%BB%D0%BA%D0%B8-768x553.jpg"/>
          <p:cNvPicPr/>
          <p:nvPr/>
        </p:nvPicPr>
        <p:blipFill>
          <a:blip r:embed="rId3"/>
          <a:stretch/>
        </p:blipFill>
        <p:spPr>
          <a:xfrm>
            <a:off x="2571840" y="2786040"/>
            <a:ext cx="34290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http://itd0.mycdn.me/image?id=812427783462&amp;t=20&amp;plc=WEB&amp;tkn=*ZJkxZoQHimabkNDl-DzXaV-qUSQ"/>
          <p:cNvPicPr/>
          <p:nvPr/>
        </p:nvPicPr>
        <p:blipFill>
          <a:blip r:embed="rId1"/>
          <a:stretch/>
        </p:blipFill>
        <p:spPr>
          <a:xfrm>
            <a:off x="1889280" y="1000080"/>
            <a:ext cx="53258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s://opt-533611.ssl.1c-bitrix-cdn.ru/upload/medialibrary/aff/aff39a97f1475c9b22a2a22efc9d19bb.jpg?1482824259110046"/>
          <p:cNvPicPr/>
          <p:nvPr/>
        </p:nvPicPr>
        <p:blipFill>
          <a:blip r:embed="rId1"/>
          <a:stretch/>
        </p:blipFill>
        <p:spPr>
          <a:xfrm>
            <a:off x="1714680" y="714240"/>
            <a:ext cx="475596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857160" y="1743480"/>
            <a:ext cx="61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2T08:31:29Z</dcterms:created>
  <dc:creator>Lenovo</dc:creator>
  <dc:description/>
  <dc:language>en-US</dc:language>
  <cp:lastModifiedBy>baby</cp:lastModifiedBy>
  <dcterms:modified xsi:type="dcterms:W3CDTF">2019-06-12T18:36:16Z</dcterms:modified>
  <cp:revision>15</cp:revision>
  <dc:subject/>
  <dc:title>Слайд 1</dc:title>
</cp:coreProperties>
</file>