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74B-5BBA-4BE9-8721-D67B6CFE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9DD-C1A3-4243-8B1E-951DFD55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D3A-957C-4907-B510-72FD62CF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278-6AC6-4270-86C7-1B34F088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274B-4BA8-46F6-8614-12139D1A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A042-5C17-4E3A-B12E-ECF39AE0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B89F-7C09-45EA-B99C-5D47DC93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9C51-46A8-493C-95AA-B3EE415B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3214-7E3B-4AA3-83DC-75944949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5288-7973-446E-80BC-4B5E773E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48C4-D862-4A10-A9D0-1E71F001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A6F-0A3D-4DFD-874F-F5ACA749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DACA-7AEF-4712-BD12-26375748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11A0-A316-4548-A9EE-AE7E8650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B233-597B-4675-8B6B-92BD0639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D5F0-C3F8-484E-8AE5-0359B97D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8B47-CB1B-45B0-98DE-A19D2E3A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EF149-5EED-44AC-8F44-B27C9D69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00D4-E436-4063-9D16-4DD6053C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65CA9-7946-4458-81D9-A888670F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4E12-2B5B-4B03-A253-CD0DDB8B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6600-DE7A-40AD-95CF-E6A3D2C3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AE2-5B0F-4608-B017-BD8EAA2A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B9353-C937-4F91-8ED8-9A71B0FB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510D-DB77-4621-959A-4875DC96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1E6F2-74E1-4A03-853D-DB829B04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F274-E862-463E-B44A-C40DEECF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07CBE-45BC-4587-A39C-3848EB04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E01C-908B-44C4-918F-11BD7BBA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313B-264B-4527-96D4-A4EC7D9E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A04-673E-4CCD-A67A-6B746E6C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3C2-87FA-4345-AD64-768CBDD8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BCE-23EF-4776-9EF9-F08F03F0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464-BB06-491B-98DF-F310068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C57-156D-4E47-8450-D4D8B46C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393-4640-49A6-9049-3A932ED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A99C-E167-43CD-B620-49CF8AB4C9D3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CA56-055D-426A-95BC-1309AFD60F5C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A59E-AD30-4962-AF29-7D1F3E2386B9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1006560" y="1547640"/>
            <a:ext cx="8515440" cy="251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5" descr=""/>
          <p:cNvPicPr/>
          <p:nvPr/>
        </p:nvPicPr>
        <p:blipFill>
          <a:blip r:embed="rId1"/>
          <a:stretch/>
        </p:blipFill>
        <p:spPr>
          <a:xfrm>
            <a:off x="1096920" y="311040"/>
            <a:ext cx="7802640" cy="2041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702120" y="3076560"/>
            <a:ext cx="18414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║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B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║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1538280" y="2666880"/>
          <a:ext cx="3662280" cy="30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8280" y="2666880"/>
                    <a:ext cx="36622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7" descr=""/>
          <p:cNvPicPr/>
          <p:nvPr/>
        </p:nvPicPr>
        <p:blipFill>
          <a:blip r:embed="rId1"/>
          <a:stretch/>
        </p:blipFill>
        <p:spPr>
          <a:xfrm>
            <a:off x="1109520" y="963720"/>
            <a:ext cx="7815240" cy="1315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070240" y="3156120"/>
            <a:ext cx="35370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Times New Roman"/>
              </a:rPr>
              <a:t>Соответственны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2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6,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3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7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1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5,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4 и </a:t>
            </a:r>
            <a:r>
              <a:rPr b="0" lang="ru-RU" sz="2400" spc="-1" strike="noStrike">
                <a:solidFill>
                  <a:srgbClr val="c73737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c73737"/>
                </a:solidFill>
                <a:latin typeface="Times New Roman"/>
                <a:ea typeface="Times New Roman"/>
              </a:rPr>
              <a:t> 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70600" y="2041560"/>
            <a:ext cx="386712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</a:rPr>
              <a:t>Накрест лежащ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3 и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5,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4 и </a:t>
            </a:r>
            <a:r>
              <a:rPr b="0" lang="ru-RU" sz="2400" spc="-1" strike="noStrike">
                <a:solidFill>
                  <a:srgbClr val="003399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5076720" y="4797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7000"/>
                </a:solidFill>
                <a:latin typeface="Tahoma"/>
              </a:rPr>
              <a:t>Внутренние односторонние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4 и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5,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3 и </a:t>
            </a:r>
            <a:r>
              <a:rPr b="0" lang="ru-RU" sz="1800" spc="-1" strike="noStrike">
                <a:solidFill>
                  <a:srgbClr val="8a7000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8a7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a7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250920" y="2349360"/>
          <a:ext cx="410364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349360"/>
                    <a:ext cx="41036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1640" y="2204640"/>
            <a:ext cx="38163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Если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, то а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║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1640" y="3057120"/>
            <a:ext cx="3816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Если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=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, то 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║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572000" y="386064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Если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+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=180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то 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║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Object 9"/>
          <p:cNvGraphicFramePr/>
          <p:nvPr/>
        </p:nvGraphicFramePr>
        <p:xfrm>
          <a:off x="395280" y="1951200"/>
          <a:ext cx="3745080" cy="295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951200"/>
                    <a:ext cx="3745080" cy="29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9" descr=""/>
          <p:cNvPicPr/>
          <p:nvPr/>
        </p:nvPicPr>
        <p:blipFill>
          <a:blip r:embed="rId1"/>
          <a:stretch/>
        </p:blipFill>
        <p:spPr>
          <a:xfrm>
            <a:off x="1036800" y="1206360"/>
            <a:ext cx="7802280" cy="609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00000" y="2781360"/>
            <a:ext cx="33451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ая прямая на рисунке является секущей по отношению к двум другим прямы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5983200" y="3174840"/>
          <a:ext cx="213372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83200" y="3174840"/>
                    <a:ext cx="21337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7" descr=""/>
          <p:cNvPicPr/>
          <p:nvPr/>
        </p:nvPicPr>
        <p:blipFill>
          <a:blip r:embed="rId1"/>
          <a:stretch/>
        </p:blipFill>
        <p:spPr>
          <a:xfrm>
            <a:off x="1036800" y="1206360"/>
            <a:ext cx="6997680" cy="609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46051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ямые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ересечены секущей р. Назовите из восьми образовавшихся углов все пары угл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накрест лежащи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внутренних                       односторонни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соответствен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4857840" y="1989000"/>
          <a:ext cx="3935160" cy="351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7840" y="1989000"/>
                    <a:ext cx="3935160" cy="35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11" descr=""/>
          <p:cNvPicPr/>
          <p:nvPr/>
        </p:nvPicPr>
        <p:blipFill>
          <a:blip r:embed="rId1"/>
          <a:stretch/>
        </p:blipFill>
        <p:spPr>
          <a:xfrm>
            <a:off x="1036800" y="1206360"/>
            <a:ext cx="7143480" cy="6098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0" y="2420640"/>
            <a:ext cx="4176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о: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=36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= 144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жите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║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Object 5"/>
          <p:cNvGraphicFramePr/>
          <p:nvPr/>
        </p:nvGraphicFramePr>
        <p:xfrm>
          <a:off x="395280" y="2647800"/>
          <a:ext cx="4176720" cy="243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647800"/>
                    <a:ext cx="41767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7" descr=""/>
          <p:cNvPicPr/>
          <p:nvPr/>
        </p:nvPicPr>
        <p:blipFill>
          <a:blip r:embed="rId1"/>
          <a:stretch/>
        </p:blipFill>
        <p:spPr>
          <a:xfrm>
            <a:off x="1036800" y="1206360"/>
            <a:ext cx="7143480" cy="609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292720" y="2637000"/>
            <a:ext cx="367200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о: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=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жите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920" y="2370240"/>
          <a:ext cx="4967280" cy="32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370240"/>
                    <a:ext cx="4967280" cy="32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.24, п.25, №206, №2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08:47:22Z</dcterms:created>
  <dc:creator>Home</dc:creator>
  <dc:description/>
  <dc:language>en-US</dc:language>
  <cp:lastModifiedBy>Kitty</cp:lastModifiedBy>
  <dcterms:modified xsi:type="dcterms:W3CDTF">2019-06-12T09:15:35Z</dcterms:modified>
  <cp:revision>14</cp:revision>
  <dc:subject/>
  <dc:title>Параллельные прямые. Признаки параллельных прямых.</dc:title>
</cp:coreProperties>
</file>