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AB8-71B4-402C-9F45-2DC80E9A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B0D-4FB1-40D1-A757-2F8478B4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63D-0472-4BD4-AA56-C6170077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7D2-46D1-46DB-A1B9-FD07A120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30BF-0082-4424-843C-7D8638CF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8F62-5692-40BC-B30A-A03A6CD5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B175-1F8E-41B1-96B6-F6A72EDE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9505-5C7B-421B-9A7E-0E6C953F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BF90-54D1-450D-AFAB-F3919C46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9A9A-22DC-4D32-AC40-BFD7ABAF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E038-AF57-41FE-B815-1D3610F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F78-8ABF-4642-A107-DEDD5679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D3DD-1E5C-4CE9-A9D1-604F2F29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DE3E-0859-4CAF-B196-2DB75C4F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3A73-961D-4E93-A16E-DAAB5F28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A4FB-9874-4CC0-B687-F4740622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D510-D398-4063-BD67-F1C9BBC1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3F3E-CF32-4AE9-8A4B-E707B0F7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02BD-46D4-41F8-8002-011A07DD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3750-C2B6-4CB0-8248-276998A2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ABA0-BD2C-4B9E-8D90-9A26E46F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1754-9015-4827-9FA1-56D02FA6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289-E6C2-4669-A48B-8EF7B5C6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0674-A1A3-486E-AB01-AA60CB17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AB25-3AF7-4B9E-807F-273F40B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7DB3-5F9F-433E-8C65-4BCDEC29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4CAC-CBEA-478D-94C7-FCDB17B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8431-1E8D-46FA-A070-E9690D33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8028-6BBA-41AC-A733-BD78D232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F43C5-247B-4D24-BC5B-F5B643DE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836-86B8-4F65-B5DF-7BDA0D10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916-D33F-4BB1-9B88-A5E62C93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605-492C-4FDF-9633-033CF865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237-F682-420A-9D84-B0DF58C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61F-040B-4AB6-9358-F2089D2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4B0-6F6A-450D-8EFF-5972074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F707-8765-4C9C-9312-4E89A005196C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261-54F5-4506-BC78-DD40334B9FF2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FE65-8EA7-4798-8110-23FD7D055FD6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1006560" y="1547640"/>
            <a:ext cx="8515440" cy="25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5" descr=""/>
          <p:cNvPicPr/>
          <p:nvPr/>
        </p:nvPicPr>
        <p:blipFill>
          <a:blip r:embed="rId1"/>
          <a:stretch/>
        </p:blipFill>
        <p:spPr>
          <a:xfrm>
            <a:off x="1096920" y="311040"/>
            <a:ext cx="7802640" cy="2041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702120" y="3076560"/>
            <a:ext cx="18414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║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B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║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1538280" y="2666880"/>
          <a:ext cx="3662280" cy="30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8280" y="2666880"/>
                    <a:ext cx="36622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7" descr=""/>
          <p:cNvPicPr/>
          <p:nvPr/>
        </p:nvPicPr>
        <p:blipFill>
          <a:blip r:embed="rId1"/>
          <a:stretch/>
        </p:blipFill>
        <p:spPr>
          <a:xfrm>
            <a:off x="1109520" y="963720"/>
            <a:ext cx="7815240" cy="1315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070240" y="3156120"/>
            <a:ext cx="35370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Times New Roman"/>
              </a:rPr>
              <a:t>Соответствен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2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6,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3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7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1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5,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4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70600" y="2041560"/>
            <a:ext cx="386712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Накрест лежащ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 и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5,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4 и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5076720" y="4797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7000"/>
                </a:solidFill>
                <a:latin typeface="Tahoma"/>
              </a:rPr>
              <a:t>Внутренние односторонние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4 и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5,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3 и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250920" y="2349360"/>
          <a:ext cx="410364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349360"/>
                    <a:ext cx="41036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1640" y="2204640"/>
            <a:ext cx="38163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Если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, то а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1640" y="3057120"/>
            <a:ext cx="3816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Если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, то 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572000" y="3860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Если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+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=180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║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Object 9"/>
          <p:cNvGraphicFramePr/>
          <p:nvPr/>
        </p:nvGraphicFramePr>
        <p:xfrm>
          <a:off x="395280" y="1951200"/>
          <a:ext cx="3745080" cy="29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951200"/>
                    <a:ext cx="3745080" cy="29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9" descr=""/>
          <p:cNvPicPr/>
          <p:nvPr/>
        </p:nvPicPr>
        <p:blipFill>
          <a:blip r:embed="rId1"/>
          <a:stretch/>
        </p:blipFill>
        <p:spPr>
          <a:xfrm>
            <a:off x="1036800" y="1206360"/>
            <a:ext cx="7802280" cy="609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00000" y="2781360"/>
            <a:ext cx="33451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ая прямая на рисунке является секущей по отношению к двум другим прямы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5983200" y="3174840"/>
          <a:ext cx="213372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83200" y="3174840"/>
                    <a:ext cx="21337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7" descr=""/>
          <p:cNvPicPr/>
          <p:nvPr/>
        </p:nvPicPr>
        <p:blipFill>
          <a:blip r:embed="rId1"/>
          <a:stretch/>
        </p:blipFill>
        <p:spPr>
          <a:xfrm>
            <a:off x="1036800" y="1206360"/>
            <a:ext cx="6997680" cy="609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46051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ямые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ересечены секущей р. Назовите из восьми образовавшихся углов все пары угл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накрест лежащи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внутренних                       односторонни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соответствен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4857840" y="1989000"/>
          <a:ext cx="3935160" cy="351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7840" y="1989000"/>
                    <a:ext cx="3935160" cy="35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11" descr=""/>
          <p:cNvPicPr/>
          <p:nvPr/>
        </p:nvPicPr>
        <p:blipFill>
          <a:blip r:embed="rId1"/>
          <a:stretch/>
        </p:blipFill>
        <p:spPr>
          <a:xfrm>
            <a:off x="1036800" y="1206360"/>
            <a:ext cx="7143480" cy="609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0" y="2420640"/>
            <a:ext cx="41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о: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=36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 144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жите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395280" y="2647800"/>
          <a:ext cx="4176720" cy="243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647800"/>
                    <a:ext cx="41767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7" descr=""/>
          <p:cNvPicPr/>
          <p:nvPr/>
        </p:nvPicPr>
        <p:blipFill>
          <a:blip r:embed="rId1"/>
          <a:stretch/>
        </p:blipFill>
        <p:spPr>
          <a:xfrm>
            <a:off x="1036800" y="1206360"/>
            <a:ext cx="7143480" cy="609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292720" y="2637000"/>
            <a:ext cx="367200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о: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=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жите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2370240"/>
          <a:ext cx="4967280" cy="32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370240"/>
                    <a:ext cx="4967280" cy="32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.24, п.25, №206, №2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08:47:22Z</dcterms:created>
  <dc:creator>Home</dc:creator>
  <dc:description/>
  <dc:language>en-US</dc:language>
  <cp:lastModifiedBy>Kitty</cp:lastModifiedBy>
  <dcterms:modified xsi:type="dcterms:W3CDTF">2019-06-12T09:15:35Z</dcterms:modified>
  <cp:revision>14</cp:revision>
  <dc:subject/>
  <dc:title>Параллельные прямые. Признаки параллельных прямых.</dc:title>
</cp:coreProperties>
</file>