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6989-2C8A-44A6-B9C2-57519E664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171-7FD0-45C0-BA9E-B7284AF62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9D8-D815-4B15-8536-49DC38D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07D-F5E7-4A47-9D26-7169658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25E-CC15-4EB2-9232-141D6107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59C-766E-406F-90B4-DB11E9ED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ED4-D516-431B-88C2-F4C03EAA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37B-8986-483C-958D-E05F4895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90E4-5A73-4837-A5C7-E19AFAE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EAF0-940F-40E3-B074-88E896E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19E-8FE6-4FD8-A99F-818D63C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2C74-CA9A-4881-8E83-52489ED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56D6-C67A-4E8F-ACF5-66AF76D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0D2-DC66-484C-BBE4-31FFDE99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A25E-431D-4EF4-BF3D-0C9635E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E589-D0DF-42F0-9C13-2E78849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F09-DF73-49F4-9EF0-8FCEC5C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A3F8-7876-4C96-9389-6079ED31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B126-248B-4100-BCD8-EF5DE5AD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A458-0E55-4CFB-9298-E78E480C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6D85-C7B9-4F39-99E7-F9489777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EA9A4-D5B4-445F-A514-2854A2A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9BEB-132C-42FF-BC3A-CBE77FC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0298-4502-4680-A8C4-A5313C19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9C7-D32C-4B8D-8375-8B6EAC74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0393-3B10-4A04-A563-E18FED7A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01EF-4763-404A-8293-25761267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5DC3-B5A7-4A89-AFCD-D316CAC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1C6D-6B64-4857-9AA3-2130AF3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033B-8147-4D23-BC88-778BC9C3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29E8-D8A5-4EC0-9903-6053BC41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4C78-A75B-4D06-BE17-C7F7C97D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8F73-26E2-4184-B8A0-F710259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B6ED-ED16-4870-855A-D539D1D0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8B05-271B-484C-8FDA-B211D62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BDE-9BFE-4225-9104-E7FC80C6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5A06-9FE4-45F6-ABC0-17D34AC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0687-532D-4444-A635-FE66C8A2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4725-D6D4-42D3-B0C2-55915970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3964E-2CAC-4B2A-9331-262DD74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3605-51AE-4C3F-9AE8-5A63CEB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36C54-BC53-4A88-9014-3A0B780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8E73-A48B-4060-A46A-CA4851B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5808-C332-4AC7-AD4E-7B4A4696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94F3-0BDB-441A-91CB-7A401394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1F24-E3C8-4DA3-A903-C3B6F73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E23-79E7-4A46-8FFB-F461DB0A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13FE-A079-4B6F-8855-476A701A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0305-8222-45DF-B9A2-926E082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AF35E-0E78-4001-9C57-A9DA00C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51D1-95CA-4A0F-AE29-60B37FFC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F5DE-06A1-4325-AD95-65F79FFF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F21A-548B-4D60-9BA1-361160E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618D-D8BC-4A75-BD8D-84AC233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D96E5-3560-4864-A6C1-2EC0F55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3A34-0C0D-45B3-9F91-3628A717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D012-DB70-473C-9C97-9D39BD4A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7F8-75B3-4333-A132-67CB1844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996A-8ECC-4112-8187-1453286C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91D-C73C-450D-8951-3E0BE7F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581-B05D-4E81-AC0A-1223DB7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CE6-7F3C-4E6B-A081-DAA7E1A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84F-CFA7-4150-A2B9-45D0314041C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49F-F33B-461D-AB94-EAA0935AF5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223A-BC5F-4319-891F-49460ABDB52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707-3937-4F2E-A460-6FB1B07359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1ED0-75DF-4439-B45F-E2ECE72DB89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572000"/>
            <a:ext cx="8183520" cy="14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збука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Verdana"/>
              </a:rPr>
              <a:t>дорожн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безопасност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685800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8040" y="579240"/>
            <a:ext cx="3930480" cy="184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заранку за окош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ук и звон и кутерьм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По прямым стальны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дорож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Ходят красные до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7776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 летает, н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Жук по улиц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И горит в глазах жу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Два блестящих </a:t>
            </a: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огонь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транспорт\трамвай.jpg"/>
          <p:cNvPicPr/>
          <p:nvPr/>
        </p:nvPicPr>
        <p:blipFill>
          <a:blip r:embed="rId2"/>
          <a:stretch/>
        </p:blipFill>
        <p:spPr>
          <a:xfrm>
            <a:off x="785880" y="2643120"/>
            <a:ext cx="3714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6437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збука безопас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4200" y="357120"/>
            <a:ext cx="871560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– асфальтом улицы мостятся, автомобили быстро мчат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– бурлит в движенье мостовая, бегут авто. Спешат трамва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– все будьте правилам верны – держитесь правой сторо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 – груз громоздкий и большой неси у края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 – должен помнить пешеход: перекресток – перех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 – есть сигналы светофора – подчиняйся им без сп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 – желтый свет – предупрежденье – жди сигнала для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 – зеленый свет открыл дорогу, переходить ребята мог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– иди вперед, порядок знаешь на мостовой – не пострадаеш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– красный свет нам говорит: стой, опасно, путь закрыт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 – Леша с Любой ходят парой. Где идут по тротуар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 – марширует в садик строй, мы идем по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 – не смей на буфере кататься, не трудно с буфера сорвать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– опасность ротозеев ждет около любых воро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 – по асфальту точек стежка – пешеходная дор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 – риск ненужный, так и знай, на ходу скакать в трамв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– совет – не доверяй сноровке, в трамвай входи на останов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 – ты не мартышка и не кошка и не трапеция – подн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– ученик, садясь в трамвай, старшим место уступ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 – футбол – хорошая игра на стадионе, детв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 – хоккей – игра на льду зимой, не играй на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 – цеплять крючком машины борт – опасный и ненужный спор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 – чтобы тебя не задавили, не висни на автомоби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 – шагая осторожно, за улицей следи и только там, где можно, ее перехо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Щ – щади здоровье, жизнь щади, за движением сле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 – экзамен важного значенья держи по правилам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 – юные граждане, Тани и Пети, твердо запомните правила э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 – ясно, чтобы быть здоровым, чтобы быть к труду готовым, эту азбуку, друзья, нужно знать от А до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4200" y="4982760"/>
            <a:ext cx="871560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бята,соблюдайте правила дорожного движения!</a:t>
            </a:r>
            <a:br>
              <a:rPr sz="2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4" descr="Рисунок1"/>
          <p:cNvPicPr/>
          <p:nvPr/>
        </p:nvPicPr>
        <p:blipFill>
          <a:blip r:embed="rId1"/>
          <a:stretch/>
        </p:blipFill>
        <p:spPr>
          <a:xfrm>
            <a:off x="571680" y="357120"/>
            <a:ext cx="1928520" cy="450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анимашки\baby14_1.gif"/>
          <p:cNvPicPr/>
          <p:nvPr/>
        </p:nvPicPr>
        <p:blipFill>
          <a:blip r:embed="rId2"/>
          <a:stretch/>
        </p:blipFill>
        <p:spPr>
          <a:xfrm>
            <a:off x="4286160" y="428760"/>
            <a:ext cx="3357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18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У светофора окошечка три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При переходе на них посмотри,</a:t>
            </a:r>
            <a:br>
              <a:rPr sz="2200"/>
            </a:b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Если в окошечке красный горит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,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“Стой на панели!” - он говорит.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Рисунок1"/>
          <p:cNvPicPr/>
          <p:nvPr/>
        </p:nvPicPr>
        <p:blipFill>
          <a:blip r:embed="rId1"/>
          <a:stretch/>
        </p:blipFill>
        <p:spPr>
          <a:xfrm>
            <a:off x="5929200" y="785880"/>
            <a:ext cx="200052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 наверное видели треугольные,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руглые и квадратные знаки на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многих улицах и дорогах. По этим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кам водители узнают, где можно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ехать, а где нельзя, где можно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остановить машину и заправи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бензином. Знаки предупреждают об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пасности на дорогах, указывают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направление движения. Эти знак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лжны знать и пешеходы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1835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Быть серьезней на дороге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знать порядок вы должны 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Verdana"/>
              </a:rPr>
              <a:t>на проезжей части строго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игры все запрещены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35712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тветственная работа у водител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правляя своей машиной он все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ремя внимательно следит за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движущимся транспортом, за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игналами светофора,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пешеходами. Кроме того он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бязан строго выполнять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казания дорожных знаков. Эти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знаки важны не только для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одителей, но и для пешеходов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5-24T06:23:17Z</dcterms:modified>
  <cp:revision>16</cp:revision>
  <dc:subject/>
  <dc:title>Слайд 1</dc:title>
</cp:coreProperties>
</file>