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2.gif" ContentType="image/gif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14.jpeg" ContentType="image/jpeg"/>
  <Override PartName="/ppt/media/image5.gif" ContentType="image/gif"/>
  <Override PartName="/ppt/media/image6.jpeg" ContentType="image/jpeg"/>
  <Override PartName="/ppt/media/image9.jpeg" ContentType="image/jpeg"/>
  <Override PartName="/ppt/media/image11.jpeg" ContentType="image/jpeg"/>
  <Override PartName="/ppt/media/image15.gif" ContentType="image/gif"/>
  <Override PartName="/ppt/media/image7.jpeg" ContentType="image/jpeg"/>
  <Override PartName="/ppt/media/image13.jpeg" ContentType="image/jpeg"/>
  <Override PartName="/ppt/media/image10.jpeg" ContentType="image/jpeg"/>
  <Override PartName="/ppt/media/image8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0D961-7A8B-47F7-8210-C02A72BC141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B8D8B-A28C-4B8E-A35F-89CA990521C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FCB0-E486-4768-A62D-D1205C5A2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2798-8E5B-4BF8-89BE-EC42E0D1C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DF99-9D61-41F3-9C2D-557A41331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D3A6-52C7-4AFB-AB2A-301C91655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BC9CF-2ED5-4568-8117-6C8693313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3C81C-A466-4AB7-B439-2CC6977FD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FBA60-9206-497A-8FE3-ACE59CC76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BD20D-E9E2-4973-9210-02A61EA85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CF954-BA2C-4F5F-B8E3-BCE800ED0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C43A9-D3E3-4EFA-93BF-4CED92B95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BA056-A8E1-4AAD-B70B-575534AD8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322E-371F-4AD3-91C4-F2D292661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84D72-CA9F-4575-843B-9EBBACEC7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2034E-BB62-4290-85FE-327D1FAF8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5FBC4-7507-4E00-B548-9B3C6AB9D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2793E-9843-46CF-B3D6-BBB317973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79EB4-3662-4220-AB9E-D1BF73005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3C11E0-E9AA-4905-AD21-76A6EBF8D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EC92C7-444A-45F4-B008-B0E88B628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4FD4E3-56DC-4CF2-BE8F-A5C162652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F84F88-11A5-49BB-89AB-1576B155A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29F106-6F66-43DD-861F-6D00E39A9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718D-5544-46A0-9C88-7199E8339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0E9DE5-22B6-4A22-BB35-55083861B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89048E-5027-4E82-AAE6-3916FB79B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2756A7-D393-4C5B-AC50-43CDD9417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8AADE3-9CA8-44B5-90C9-FED4DC8F1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FB6CEC-B0D6-44D5-AC3A-975F8A743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6B4BE6-E716-411D-BCCC-2D42561EE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3158B5-15AB-4512-96B8-5D8A25BBD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5CF136-CA3F-46A7-A483-5F201FF1F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D73B80-6384-4A2C-848B-21A35BDD4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8E621C-424F-428C-8E13-9870934E8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42CC-B6D3-4734-B901-4B3C6A37D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3B84BB-DBAF-4B01-B5E3-4CDA75B84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F5F44C-B767-4D28-B84D-28DF4E07F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E4FB9D-AB63-4340-8179-BA262BF36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705B93-3C59-4AB1-902F-449050457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5D2EE7-9A42-4476-8F14-8B22A0F70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5EA456-9466-4102-94A1-4ADFF7933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479994-1E83-4762-88D7-0EC2A6569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AB7462-7C87-46F4-B5C6-1BF193D61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118732-8FAA-4235-BC88-8F6A950AB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D37340-5179-40A1-B3C8-71AF54FAD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9012-3966-4077-A906-6C655151E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14233F-06CA-4331-8CCE-2112151BC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DE9C69-9C1F-4B34-85AE-45923F12C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F43B9C-411D-411E-8C2D-51F95C9BB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2AE02D-23B1-4ED2-BD3E-15376D47A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AFC7D6-61E1-4317-B955-9A319A9D6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861B38-CC43-4536-9DDA-8861C38F9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9A6756-7656-48E2-A2F8-0D3CBF305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AB4DEB-05AE-4E66-B479-039431973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5C008F-55B0-4BDF-87AA-24119B1BF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362082-F238-4995-BEDA-830B9C166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A822-23DD-4A8F-BAAD-5C6063A75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A1BA20-0CC5-483F-8AA8-CCEEADEA7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FA72-940D-4982-9253-216A158E8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8D0D-E69F-44F7-9374-A32F4D447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65F7-A697-4DA2-86EF-516B44682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37FA1-315F-4A8E-AADD-DBDB1123B437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3BD78-54C9-4596-8E86-AEDC928BF631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01DEE-2B6C-41F7-A876-343C71792752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6FD23-DDA8-4A50-87B9-D7FB9C78406F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866BB-5529-4B61-81A7-D86739015D91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3280" y="4572000"/>
            <a:ext cx="8183520" cy="1463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Азбука</a:t>
            </a:r>
            <a:r>
              <a:rPr b="1" lang="ru-RU" sz="4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ru-RU" sz="4800" spc="-1" strike="noStrike">
                <a:solidFill>
                  <a:srgbClr val="ffff00"/>
                </a:solidFill>
                <a:latin typeface="Verdana"/>
              </a:rPr>
              <a:t>дорожно</a:t>
            </a: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й</a:t>
            </a:r>
            <a:r>
              <a:rPr b="1" lang="ru-RU" sz="4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ru-RU" sz="4800" spc="-1" strike="noStrike">
                <a:solidFill>
                  <a:srgbClr val="00b050"/>
                </a:solidFill>
                <a:latin typeface="Arial"/>
              </a:rPr>
              <a:t>безопасности</a:t>
            </a:r>
            <a:endParaRPr b="1" lang="en-US" sz="48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28" name="Picture 2" descr=""/>
          <p:cNvPicPr/>
          <p:nvPr/>
        </p:nvPicPr>
        <p:blipFill>
          <a:blip r:embed="rId1"/>
          <a:stretch/>
        </p:blipFill>
        <p:spPr>
          <a:xfrm>
            <a:off x="642960" y="428760"/>
            <a:ext cx="7715160" cy="40003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2" descr=""/>
          <p:cNvPicPr/>
          <p:nvPr/>
        </p:nvPicPr>
        <p:blipFill>
          <a:blip r:embed="rId1"/>
          <a:stretch/>
        </p:blipFill>
        <p:spPr>
          <a:xfrm>
            <a:off x="285840" y="285840"/>
            <a:ext cx="857232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6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55640" y="685800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08040" y="579240"/>
            <a:ext cx="3930480" cy="1849320"/>
          </a:xfrm>
          <a:prstGeom prst="rect">
            <a:avLst/>
          </a:prstGeom>
          <a:noFill/>
          <a:ln w="0">
            <a:noFill/>
          </a:ln>
        </p:spPr>
        <p:txBody>
          <a:bodyPr lIns="146160" tIns="91440" anchor="ctr">
            <a:normAutofit/>
          </a:bodyPr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Verdana"/>
              </a:rPr>
              <a:t>Спозаранку за окошком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Стук и звон и кутерьма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Verdana"/>
              </a:rPr>
              <a:t>По прямым стальным </a:t>
            </a:r>
            <a:r>
              <a:rPr b="1" lang="ru-RU" sz="2000" spc="-1" strike="noStrike">
                <a:solidFill>
                  <a:srgbClr val="ff0000"/>
                </a:solidFill>
                <a:latin typeface="Verdana"/>
              </a:rPr>
              <a:t>дорожкам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Ходят красные дома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53000" y="579600"/>
            <a:ext cx="3930480" cy="1777680"/>
          </a:xfrm>
          <a:prstGeom prst="rect">
            <a:avLst/>
          </a:prstGeom>
          <a:noFill/>
          <a:ln w="0">
            <a:noFill/>
          </a:ln>
        </p:spPr>
        <p:txBody>
          <a:bodyPr lIns="137160" tIns="91440" anchor="ctr">
            <a:norm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Verdana"/>
              </a:rPr>
              <a:t>Не летает, не бежит,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00"/>
                </a:solidFill>
                <a:latin typeface="Verdana"/>
              </a:rPr>
              <a:t>Жук по улице бежит,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b050"/>
                </a:solidFill>
                <a:latin typeface="Verdana"/>
              </a:rPr>
              <a:t>И горит в глазах жука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Verdana"/>
              </a:rPr>
              <a:t>Два блестящих </a:t>
            </a:r>
            <a:r>
              <a:rPr b="1" lang="ru-RU" sz="2200" spc="-1" strike="noStrike">
                <a:solidFill>
                  <a:srgbClr val="ffff00"/>
                </a:solidFill>
                <a:latin typeface="Verdana"/>
              </a:rPr>
              <a:t>огонька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3" name="Picture 2" descr=""/>
          <p:cNvPicPr/>
          <p:nvPr/>
        </p:nvPicPr>
        <p:blipFill>
          <a:blip r:embed="rId1"/>
          <a:stretch/>
        </p:blipFill>
        <p:spPr>
          <a:xfrm>
            <a:off x="5072040" y="2571840"/>
            <a:ext cx="3357720" cy="23572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2" descr="H:\транспорт\трамвай.jpg"/>
          <p:cNvPicPr/>
          <p:nvPr/>
        </p:nvPicPr>
        <p:blipFill>
          <a:blip r:embed="rId2"/>
          <a:stretch/>
        </p:blipFill>
        <p:spPr>
          <a:xfrm>
            <a:off x="785880" y="2643120"/>
            <a:ext cx="3714840" cy="22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2" descr=""/>
          <p:cNvPicPr/>
          <p:nvPr/>
        </p:nvPicPr>
        <p:blipFill>
          <a:blip r:embed="rId1"/>
          <a:stretch/>
        </p:blipFill>
        <p:spPr>
          <a:xfrm>
            <a:off x="285840" y="357120"/>
            <a:ext cx="857232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7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3280" y="5643720"/>
            <a:ext cx="81835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Verdana"/>
              </a:rPr>
              <a:t>Азбука безопасности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214200" y="357120"/>
            <a:ext cx="8715600" cy="47865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А – асфальтом улицы мостятся, автомобили быстро мчатся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Б – бурлит в движенье мостовая, бегут авто. Спешат трамваи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 – все будьте правилам верны – держитесь правой стороны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Г – груз громоздкий и большой неси у края мостовой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Д – должен помнить пешеход: перекресток – переход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Е – есть сигналы светофора – подчиняйся им без спора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Ж – желтый свет – предупрежденье – жди сигнала для движенья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З – зеленый свет открыл дорогу, переходить ребята могут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И – иди вперед, порядок знаешь на мостовой – не пострадаешь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К – красный свет нам говорит: стой, опасно, путь закрыт!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Л – Леша с Любой ходят парой. Где идут по тротуарам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М – марширует в садик строй, мы идем по мостовой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Н – не смей на буфере кататься, не трудно с буфера сорваться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14200" y="214200"/>
            <a:ext cx="8715600" cy="64296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 – опасность ротозеев ждет около любых ворот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 – по асфальту точек стежка – пешеходная дорожка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Р – риск ненужный, так и знай, на ходу скакать в трамвай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 – совет – не доверяй сноровке, в трамвай входи на остановке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Т – ты не мартышка и не кошка и не трапеция – подножка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У – ученик, садясь в трамвай, старшим место уступай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Ф – футбол – хорошая игра на стадионе, детвора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Х – хоккей – игра на льду зимой, не играй на мостовой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Ц – цеплять крючком машины борт – опасный и ненужный спорт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Ч – чтобы тебя не задавили, не висни на автомобиле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Ш – шагая осторожно, за улицей следи и только там, где можно, ее переходи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Щ – щади здоровье, жизнь щади, за движением следи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Э – экзамен важного значенья держи по правилам движенья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Ю – юные граждане, Тани и Пети, твердо запомните правила эти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Я – ясно, чтобы быть здоровым, чтобы быть к труду готовым, эту азбуку, друзья, нужно знать от А до 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14200" y="4982760"/>
            <a:ext cx="8715600" cy="166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Ребята,соблюдайте правила дорожного движения!</a:t>
            </a:r>
            <a:br>
              <a:rPr sz="2800"/>
            </a:b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50" name="Picture 4" descr="Рисунок1"/>
          <p:cNvPicPr/>
          <p:nvPr/>
        </p:nvPicPr>
        <p:blipFill>
          <a:blip r:embed="rId1"/>
          <a:stretch/>
        </p:blipFill>
        <p:spPr>
          <a:xfrm>
            <a:off x="571680" y="357120"/>
            <a:ext cx="1928520" cy="45007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2" descr="H:\анимашки\baby14_1.gif"/>
          <p:cNvPicPr/>
          <p:nvPr/>
        </p:nvPicPr>
        <p:blipFill>
          <a:blip r:embed="rId2"/>
          <a:stretch/>
        </p:blipFill>
        <p:spPr>
          <a:xfrm>
            <a:off x="4286160" y="428760"/>
            <a:ext cx="3357720" cy="43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9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0040" y="4285800"/>
            <a:ext cx="818352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8d3e"/>
                </a:solidFill>
                <a:latin typeface="Verdana"/>
              </a:rPr>
              <a:t>У светофора окошечка три</a:t>
            </a:r>
            <a:br>
              <a:rPr sz="2200"/>
            </a:br>
            <a:r>
              <a:rPr b="1" lang="ru-RU" sz="2200" spc="-1" strike="noStrike">
                <a:solidFill>
                  <a:srgbClr val="ffff00"/>
                </a:solidFill>
                <a:latin typeface="Verdana"/>
              </a:rPr>
              <a:t>При переходе на них посмотри,</a:t>
            </a:r>
            <a:br>
              <a:rPr sz="2200"/>
            </a:br>
            <a:r>
              <a:rPr b="1" lang="ru-RU" sz="2200" spc="-1" strike="noStrike">
                <a:solidFill>
                  <a:srgbClr val="00b050"/>
                </a:solidFill>
                <a:latin typeface="Verdana"/>
              </a:rPr>
              <a:t>Если в окошечке красный горит</a:t>
            </a:r>
            <a:r>
              <a:rPr b="1" lang="ru-RU" sz="2200" spc="-1" strike="noStrike">
                <a:solidFill>
                  <a:srgbClr val="ff8d3e"/>
                </a:solidFill>
                <a:latin typeface="Verdana"/>
              </a:rPr>
              <a:t>,</a:t>
            </a:r>
            <a:br>
              <a:rPr sz="2200"/>
            </a:br>
            <a:r>
              <a:rPr b="1" lang="ru-RU" sz="2200" spc="-1" strike="noStrike">
                <a:solidFill>
                  <a:srgbClr val="ff8d3e"/>
                </a:solidFill>
                <a:latin typeface="Verdana"/>
              </a:rPr>
              <a:t>“Стой на панели!” - он говорит.</a:t>
            </a:r>
            <a:br>
              <a:rPr sz="2200"/>
            </a:br>
            <a:endParaRPr b="1" lang="en-US" sz="2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30" name="Picture 4" descr="Рисунок1"/>
          <p:cNvPicPr/>
          <p:nvPr/>
        </p:nvPicPr>
        <p:blipFill>
          <a:blip r:embed="rId1"/>
          <a:stretch/>
        </p:blipFill>
        <p:spPr>
          <a:xfrm>
            <a:off x="5929200" y="785880"/>
            <a:ext cx="2000520" cy="4095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03280" y="529920"/>
            <a:ext cx="8183520" cy="5398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Вы наверное видели треугольные, </a:t>
            </a: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круглые и квадратные знаки на </a:t>
            </a:r>
            <a:r>
              <a:rPr b="1" lang="ru-RU" sz="2800" spc="-1" strike="noStrike">
                <a:solidFill>
                  <a:srgbClr val="00b050"/>
                </a:solidFill>
                <a:latin typeface="Verdana"/>
              </a:rPr>
              <a:t>многих улицах и дорогах. По этим </a:t>
            </a: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знакам водители узнают, где можно </a:t>
            </a: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ехать, а где нельзя, где можно </a:t>
            </a:r>
            <a:r>
              <a:rPr b="1" lang="ru-RU" sz="2800" spc="-1" strike="noStrike">
                <a:solidFill>
                  <a:srgbClr val="00b050"/>
                </a:solidFill>
                <a:latin typeface="Verdana"/>
              </a:rPr>
              <a:t>остановить машину и заправить </a:t>
            </a: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бензином. Знаки предупреждают об </a:t>
            </a: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опасности на дорогах, указывают </a:t>
            </a:r>
            <a:r>
              <a:rPr b="1" lang="ru-RU" sz="2800" spc="-1" strike="noStrike">
                <a:solidFill>
                  <a:srgbClr val="00b050"/>
                </a:solidFill>
                <a:latin typeface="Verdana"/>
              </a:rPr>
              <a:t>направление движения. Эти знаки </a:t>
            </a: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должны знать и пешеходы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2" descr=""/>
          <p:cNvPicPr/>
          <p:nvPr/>
        </p:nvPicPr>
        <p:blipFill>
          <a:blip r:embed="rId1"/>
          <a:stretch/>
        </p:blipFill>
        <p:spPr>
          <a:xfrm>
            <a:off x="357120" y="357120"/>
            <a:ext cx="8358120" cy="5572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1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0040" y="3714480"/>
            <a:ext cx="818352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Verdana"/>
              </a:rPr>
              <a:t>Быть серьезней на дороге,</a:t>
            </a:r>
            <a:br>
              <a:rPr sz="3000"/>
            </a:br>
            <a:r>
              <a:rPr b="1" lang="ru-RU" sz="3000" spc="-1" strike="noStrike">
                <a:solidFill>
                  <a:srgbClr val="ffff00"/>
                </a:solidFill>
                <a:latin typeface="Verdana"/>
              </a:rPr>
              <a:t>знать порядок вы должны </a:t>
            </a:r>
            <a:br>
              <a:rPr sz="3000"/>
            </a:br>
            <a:r>
              <a:rPr b="1" lang="ru-RU" sz="3000" spc="-1" strike="noStrike">
                <a:solidFill>
                  <a:srgbClr val="00b050"/>
                </a:solidFill>
                <a:latin typeface="Verdana"/>
              </a:rPr>
              <a:t>на проезжей части строго </a:t>
            </a:r>
            <a:br>
              <a:rPr sz="3000"/>
            </a:br>
            <a:r>
              <a:rPr b="1" lang="ru-RU" sz="3000" spc="-1" strike="noStrike">
                <a:solidFill>
                  <a:srgbClr val="ff0000"/>
                </a:solidFill>
                <a:latin typeface="Verdana"/>
              </a:rPr>
              <a:t>игры все запрещены.</a:t>
            </a:r>
            <a:br>
              <a:rPr sz="3200"/>
            </a:br>
            <a:endParaRPr b="1" lang="en-US" sz="30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34" name="Picture 3" descr=""/>
          <p:cNvPicPr/>
          <p:nvPr/>
        </p:nvPicPr>
        <p:blipFill>
          <a:blip r:embed="rId1"/>
          <a:stretch/>
        </p:blipFill>
        <p:spPr>
          <a:xfrm>
            <a:off x="1785960" y="642960"/>
            <a:ext cx="564372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2" descr=""/>
          <p:cNvPicPr/>
          <p:nvPr/>
        </p:nvPicPr>
        <p:blipFill>
          <a:blip r:embed="rId1"/>
          <a:stretch/>
        </p:blipFill>
        <p:spPr>
          <a:xfrm>
            <a:off x="357120" y="285840"/>
            <a:ext cx="8501040" cy="56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4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2" descr=""/>
          <p:cNvPicPr/>
          <p:nvPr/>
        </p:nvPicPr>
        <p:blipFill>
          <a:blip r:embed="rId1"/>
          <a:stretch/>
        </p:blipFill>
        <p:spPr>
          <a:xfrm>
            <a:off x="285840" y="357120"/>
            <a:ext cx="8643960" cy="628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1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214200" y="357120"/>
            <a:ext cx="8786880" cy="61437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Verdana"/>
              </a:rPr>
              <a:t>Ответственная работа у водителя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ru-RU" sz="3600" spc="-1" strike="noStrike">
                <a:solidFill>
                  <a:srgbClr val="ffff00"/>
                </a:solidFill>
                <a:latin typeface="Verdana"/>
              </a:rPr>
              <a:t>Управляя своей машиной он все </a:t>
            </a:r>
            <a:r>
              <a:rPr b="0" lang="ru-RU" sz="3600" spc="-1" strike="noStrike">
                <a:solidFill>
                  <a:srgbClr val="00b050"/>
                </a:solidFill>
                <a:latin typeface="Verdana"/>
              </a:rPr>
              <a:t>время внимательно следит за </a:t>
            </a:r>
            <a:r>
              <a:rPr b="0" lang="ru-RU" sz="3600" spc="-1" strike="noStrike">
                <a:solidFill>
                  <a:srgbClr val="ff0000"/>
                </a:solidFill>
                <a:latin typeface="Verdana"/>
              </a:rPr>
              <a:t>движущимся транспортом, за </a:t>
            </a:r>
            <a:r>
              <a:rPr b="0" lang="ru-RU" sz="3600" spc="-1" strike="noStrike">
                <a:solidFill>
                  <a:srgbClr val="ffff00"/>
                </a:solidFill>
                <a:latin typeface="Verdana"/>
              </a:rPr>
              <a:t>сигналами светофора, </a:t>
            </a:r>
            <a:r>
              <a:rPr b="0" lang="ru-RU" sz="3600" spc="-1" strike="noStrike">
                <a:solidFill>
                  <a:srgbClr val="00b050"/>
                </a:solidFill>
                <a:latin typeface="Verdana"/>
              </a:rPr>
              <a:t>пешеходами. Кроме того он </a:t>
            </a:r>
            <a:r>
              <a:rPr b="0" lang="ru-RU" sz="3600" spc="-1" strike="noStrike">
                <a:solidFill>
                  <a:srgbClr val="ff0000"/>
                </a:solidFill>
                <a:latin typeface="Verdana"/>
              </a:rPr>
              <a:t>обязан строго выполнять </a:t>
            </a:r>
            <a:r>
              <a:rPr b="0" lang="ru-RU" sz="3600" spc="-1" strike="noStrike">
                <a:solidFill>
                  <a:srgbClr val="ffff00"/>
                </a:solidFill>
                <a:latin typeface="Verdana"/>
              </a:rPr>
              <a:t>указания дорожных знаков. Эти </a:t>
            </a:r>
            <a:r>
              <a:rPr b="0" lang="ru-RU" sz="3600" spc="-1" strike="noStrike">
                <a:solidFill>
                  <a:srgbClr val="00b050"/>
                </a:solidFill>
                <a:latin typeface="Verdana"/>
              </a:rPr>
              <a:t>знаки важны не только для </a:t>
            </a:r>
            <a:r>
              <a:rPr b="0" lang="ru-RU" sz="3600" spc="-1" strike="noStrike">
                <a:solidFill>
                  <a:srgbClr val="ff0000"/>
                </a:solidFill>
                <a:latin typeface="Verdana"/>
              </a:rPr>
              <a:t>водителей, но и для пешеходов!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2" descr=""/>
          <p:cNvPicPr/>
          <p:nvPr/>
        </p:nvPicPr>
        <p:blipFill>
          <a:blip r:embed="rId1"/>
          <a:stretch/>
        </p:blipFill>
        <p:spPr>
          <a:xfrm>
            <a:off x="428760" y="285840"/>
            <a:ext cx="842940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9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9-05-24T06:23:17Z</dcterms:modified>
  <cp:revision>16</cp:revision>
  <dc:subject/>
  <dc:title>Слайд 1</dc:title>
</cp:coreProperties>
</file>