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0-10-17T15:37:51.187000000" idx="1">
    <p:pos x="10" y="10"/>
    <p:text>Примерная основная образовательная программа начального общего образования определяет содержание и организацию образовательного процесса на ступени начального общего образования и направлена на формирование общей культуры обучающихся, на их духовно-нравственное, социальное, личностное и интеллектуальное развитие, на создание основы для самостоятельной реализации учебной деятельности, обеспечивающей социальную успешность, развитие творческих способностей, саморазвитие и самосовершенствование, сохранение и укрепление здоровья обучающихся.</p:text>
  </p:cm>
</p:cmLst>
</file>

<file path=ppt/comments/comment4.xml><?xml version="1.0" encoding="utf-8"?>
<p:cmLst xmlns:p="http://schemas.openxmlformats.org/presentationml/2006/main">
  <p:cm authorId="0" dt="2010-10-17T15:26:19.671000000" idx="2">
    <p:pos x="10" y="10"/>
    <p:text>Основная образовательная программа формируется с учетом особенностей первой ступени общего образования как фундамента всего последующего обучения. Начальная школа - особый этап в жизни ребёнка, связанный:
- с изменеием ведущей деятельности ребенка - с переходом к учебной деятельности (при сохранении значимости игровой), имеющей общественный характер и являющейся социальной пл содержанию;
- с освоением новой социальной позиции, расширением сферы взаимодействия ребенка с окружающим миром, развити ем потребностей в общении, познании, соуиальном признании и самовыражении;
- с принятием  новой социальной роли, выражающейся в формировании внутренней позиции школьника, определяющей новую перспективу личностного и познавательного развития;
- с формированием основ умения учиться и способности к оргпанизации своей деятельности: принимать и сохранять цели и следовать им в учебной деятельности; планировать свою деятельность, осуществлять ее контроль и оценку; взаимодействовать с учителем и сверстниками в учебном процессе;
- с изменением при этом самооценки ребенка, которая приобретает черты адекватности и рефлексивности;
- с нравственным развитием, связанным с характером сотрудничества, общением и межличностными отношениями дружбы, становлением основ гражданской идентичности и мировоззрения.</p:text>
  </p:cm>
</p:cmLst>
</file>

<file path=ppt/comments/comment5.xml><?xml version="1.0" encoding="utf-8"?>
<p:cmLst xmlns:p="http://schemas.openxmlformats.org/presentationml/2006/main">
  <p:cm authorId="0" dt="2010-10-17T15:58:31.125000000" idx="3">
    <p:pos x="10" y="10"/>
    <p:text>Целью реализации основной образовательной программы начального общего образования является обеспечение планируемых результатов по достижению целевых установок, знаний, умений и компетенций, определяемых личностными, семейными, общественными, государственными потребностями и возможностями ребенка младшего школьного возраста. К числу планируемых результатов освоения основной образовательной программы отнесены следующие личночтные, метапредметные и предметные результаты (См. текст слайда)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3A6-5781-4BD3-BF90-6B3FEC3A6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765E-2A85-448E-BFDB-F95531AEF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A47-17D3-4601-87F6-B01227225A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31A-5460-4809-917C-512BF7A1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FD4-C949-46FE-B7DA-352F1FB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3CC-CE31-43EC-9CBA-AF23ED92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A50-4CCB-4135-9FDE-713D912C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4AE1-BBE8-4785-855D-DBC8F2DA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916F-9636-47EF-9ED9-8589445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26D9-AADD-409D-B8F9-51F5F04D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B963-DB79-45C2-BA30-9BA4BF42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859B-1B88-4597-852A-E717F3D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881E-03A8-41DA-B167-FAF44119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195-484D-461E-B036-E2260F4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6C0-24BC-4D05-9124-296F1FE3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15F8-F237-46D6-8805-5D7A23B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126E-5C5B-4F2C-8F48-806867B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899-1ED4-4688-BEAF-53F48A4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4920-063A-4047-BDF8-FE2D0E78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BB99-F60D-4D97-B81D-A985C0D5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9A9-EEFA-4B8F-9D88-BA1C8475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0C7-DF48-4440-A46D-C8F1C359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77E-999C-4DC4-B173-53BCA46C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FF4-4AED-4305-9FBA-7B23CBEE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049-8CAB-4589-9ADC-F0055A9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A48-EC83-4ACF-84F4-7FBFC98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D88-0A6D-4985-BF4B-E0B253E3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9258-EDC3-4874-9154-C3A3880AF2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85F-932E-407F-8B70-2758155902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алахова  Дарья Ириков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итель начальных классов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У «СОШ №32»,г.Магнитогорс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редства развития самооценки: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пражнения, задания, интерактивные методик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Упражнения и зада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: «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Волшебный стул», «Назови свои сильные стороны», «Зайки и слоники», «Подари камешек»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терактивные методики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Круг радости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Минутка тишины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Наедине с собой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Чтение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Рассказ учителя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Побеседуем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Цитата урок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Игр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«Творческая работ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ковы преимущества интерактивных методик обучени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буждают у обучающихся интерес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ощряют активное участие каждого в учебном процессе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ращаются к чувствам каждого обучающегос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пособствуют эффективному усвоению учебного материал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азывают многоплановое воздействие на обучающихс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уществляют обратную связь (ответная реакция аудитории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уют у обучающихся мнения и отнош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уют жизненные навык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пособствуют изменению повед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Свет мой, зеркальце, скажи…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«Кто я такой?» (мое рождение, дни моей жизни, дом в котором я живу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 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«Я — ученик» (распорядок дня, интересы, что я люблю, что не люблю, что я могу, что хочу узнать)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 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«Как я живу рядом с другими?» (мои питомцы, класс, друзь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 ча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«Мое будущее» (мои мечты, чувства, кем я хочу стать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Развитие и формирование самосознания младшего школьника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ФГО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Федеральный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Скругленный прямоугольник 2"/>
          <p:cNvSpPr/>
          <p:nvPr/>
        </p:nvSpPr>
        <p:spPr>
          <a:xfrm>
            <a:off x="380880" y="1752480"/>
            <a:ext cx="121932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общая куль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1752480" y="175248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духовно-нравствен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3657600" y="175248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социальное 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5410080" y="1752480"/>
            <a:ext cx="1676520" cy="114300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личност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Скругленный прямоугольник 6"/>
          <p:cNvSpPr/>
          <p:nvPr/>
        </p:nvSpPr>
        <p:spPr>
          <a:xfrm>
            <a:off x="7162920" y="1752480"/>
            <a:ext cx="1676160" cy="1143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</a:rPr>
              <a:t>интеллек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Verdana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Стрелка вниз 7"/>
          <p:cNvSpPr/>
          <p:nvPr/>
        </p:nvSpPr>
        <p:spPr>
          <a:xfrm>
            <a:off x="762120" y="1371600"/>
            <a:ext cx="53316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Стрелка вниз 8"/>
          <p:cNvSpPr/>
          <p:nvPr/>
        </p:nvSpPr>
        <p:spPr>
          <a:xfrm>
            <a:off x="2438280" y="1371600"/>
            <a:ext cx="5335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Стрелка вниз 9"/>
          <p:cNvSpPr/>
          <p:nvPr/>
        </p:nvSpPr>
        <p:spPr>
          <a:xfrm>
            <a:off x="4267080" y="1371600"/>
            <a:ext cx="5335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Стрелка вниз 10"/>
          <p:cNvSpPr/>
          <p:nvPr/>
        </p:nvSpPr>
        <p:spPr>
          <a:xfrm>
            <a:off x="6019920" y="1371600"/>
            <a:ext cx="53316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a4cd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трелка вниз 11"/>
          <p:cNvSpPr/>
          <p:nvPr/>
        </p:nvSpPr>
        <p:spPr>
          <a:xfrm>
            <a:off x="7696080" y="1371600"/>
            <a:ext cx="5335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495040" y="29718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самооценк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Левая фигурная скобка 15"/>
          <p:cNvSpPr/>
          <p:nvPr/>
        </p:nvSpPr>
        <p:spPr>
          <a:xfrm rot="16200000">
            <a:off x="4228920" y="-647280"/>
            <a:ext cx="609840" cy="8610480"/>
          </a:xfrm>
          <a:custGeom>
            <a:avLst/>
            <a:gdLst>
              <a:gd name="textAreaLeft" fmla="*/ 389520 w 609840"/>
              <a:gd name="textAreaRight" fmla="*/ 610200 w 609840"/>
              <a:gd name="textAreaTop" fmla="*/ 0 h 8610480"/>
              <a:gd name="textAreaBottom" fmla="*/ 8610480 h 861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8"/>
                </a:lnTo>
                <a:cubicBezTo>
                  <a:pt x="10800" y="10768"/>
                  <a:pt x="5400" y="10768"/>
                  <a:pt x="0" y="10768"/>
                </a:cubicBezTo>
                <a:cubicBezTo>
                  <a:pt x="5400" y="10768"/>
                  <a:pt x="10800" y="10768"/>
                  <a:pt x="10800" y="1076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3733920" y="3962520"/>
            <a:ext cx="152388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осн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18"/>
          <p:cNvSpPr/>
          <p:nvPr/>
        </p:nvSpPr>
        <p:spPr>
          <a:xfrm>
            <a:off x="380880" y="4495680"/>
            <a:ext cx="8077320" cy="533520"/>
          </a:xfrm>
          <a:prstGeom prst="rect">
            <a:avLst/>
          </a:prstGeom>
          <a:solidFill>
            <a:srgbClr val="000000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самостоятельная реализация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304920" y="5334120"/>
            <a:ext cx="1981080" cy="838080"/>
          </a:xfrm>
          <a:prstGeom prst="rect">
            <a:avLst/>
          </a:prstGeom>
          <a:solidFill>
            <a:srgbClr val="ffccff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оциальная успеш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2514600" y="5334120"/>
            <a:ext cx="1981080" cy="838080"/>
          </a:xfrm>
          <a:prstGeom prst="rect">
            <a:avLst/>
          </a:prstGeom>
          <a:solidFill>
            <a:srgbClr val="e4a4cd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развитие творческих способност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4648320" y="5334120"/>
            <a:ext cx="1904760" cy="838080"/>
          </a:xfrm>
          <a:prstGeom prst="rect">
            <a:avLst/>
          </a:prstGeom>
          <a:solidFill>
            <a:srgbClr val="ff99ff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амо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самосовершенств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6705720" y="5334120"/>
            <a:ext cx="1981080" cy="1218960"/>
          </a:xfrm>
          <a:prstGeom prst="rect">
            <a:avLst/>
          </a:prstGeom>
          <a:solidFill>
            <a:srgbClr val="000000"/>
          </a:soli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Verdana"/>
              </a:rPr>
              <a:t>укрепление здоровь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1219320" y="624852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формирование самооценк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Стрелка вниз 31"/>
          <p:cNvSpPr/>
          <p:nvPr/>
        </p:nvSpPr>
        <p:spPr>
          <a:xfrm>
            <a:off x="4191120" y="4343400"/>
            <a:ext cx="60948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Стрелка вниз 32"/>
          <p:cNvSpPr/>
          <p:nvPr/>
        </p:nvSpPr>
        <p:spPr>
          <a:xfrm>
            <a:off x="1066680" y="5105520"/>
            <a:ext cx="53352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Стрелка вниз 33"/>
          <p:cNvSpPr/>
          <p:nvPr/>
        </p:nvSpPr>
        <p:spPr>
          <a:xfrm>
            <a:off x="3276720" y="5105520"/>
            <a:ext cx="5331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Стрелка вниз 34"/>
          <p:cNvSpPr/>
          <p:nvPr/>
        </p:nvSpPr>
        <p:spPr>
          <a:xfrm>
            <a:off x="5334120" y="5105520"/>
            <a:ext cx="5601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Стрелка вниз 35"/>
          <p:cNvSpPr/>
          <p:nvPr/>
        </p:nvSpPr>
        <p:spPr>
          <a:xfrm>
            <a:off x="7391520" y="5105520"/>
            <a:ext cx="53316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04920" y="533520"/>
            <a:ext cx="6781680" cy="685800"/>
          </a:xfrm>
          <a:prstGeom prst="rect">
            <a:avLst/>
          </a:prstGeom>
          <a:solidFill>
            <a:srgbClr val="ffccff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Особенности первой ступени общего образ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7543800" y="228600"/>
            <a:ext cx="1371600" cy="990720"/>
          </a:xfrm>
          <a:prstGeom prst="rect">
            <a:avLst/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Verdana"/>
              </a:rPr>
              <a:t>ФГОС строится с учетом</a:t>
            </a:r>
            <a:r>
              <a:rPr b="0" lang="ru-RU" sz="18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Стрелка влево 3"/>
          <p:cNvSpPr/>
          <p:nvPr/>
        </p:nvSpPr>
        <p:spPr>
          <a:xfrm>
            <a:off x="7162920" y="457200"/>
            <a:ext cx="304560" cy="48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52280" y="1600200"/>
            <a:ext cx="1143000" cy="1523880"/>
          </a:xfrm>
          <a:prstGeom prst="rect">
            <a:avLst/>
          </a:prstGeom>
          <a:solidFill>
            <a:srgbClr val="006666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Verdana"/>
              </a:rPr>
              <a:t>смена вида деят-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1371600" y="1600200"/>
            <a:ext cx="1295280" cy="1523880"/>
          </a:xfrm>
          <a:prstGeom prst="rect">
            <a:avLst/>
          </a:prstGeom>
          <a:solidFill>
            <a:srgbClr val="005c5c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новая соц. пози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2743200" y="1600200"/>
            <a:ext cx="1371600" cy="1523880"/>
          </a:xfrm>
          <a:prstGeom prst="rect">
            <a:avLst/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новая соц. роль уче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4267080" y="1600200"/>
            <a:ext cx="1295640" cy="1523880"/>
          </a:xfrm>
          <a:prstGeom prst="rect">
            <a:avLst/>
          </a:prstGeom>
          <a:solidFill>
            <a:srgbClr val="cc66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форми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основ умения учи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5715000" y="1600200"/>
            <a:ext cx="1600200" cy="1523880"/>
          </a:xfrm>
          <a:prstGeom prst="rect">
            <a:avLst/>
          </a:prstGeom>
          <a:solidFill>
            <a:srgbClr val="ff99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изменение самооцен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ребенк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7467480" y="1600200"/>
            <a:ext cx="1447920" cy="1523880"/>
          </a:xfrm>
          <a:prstGeom prst="rect">
            <a:avLst/>
          </a:prstGeom>
          <a:solidFill>
            <a:srgbClr val="ff6699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равствен-ное развит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Стрелка вниз 10"/>
          <p:cNvSpPr/>
          <p:nvPr/>
        </p:nvSpPr>
        <p:spPr>
          <a:xfrm>
            <a:off x="457200" y="1295280"/>
            <a:ext cx="6094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6f5f5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Стрелка вниз 11"/>
          <p:cNvSpPr/>
          <p:nvPr/>
        </p:nvSpPr>
        <p:spPr>
          <a:xfrm>
            <a:off x="1752480" y="1295280"/>
            <a:ext cx="6098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6f5f5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Стрелка вниз 12"/>
          <p:cNvSpPr/>
          <p:nvPr/>
        </p:nvSpPr>
        <p:spPr>
          <a:xfrm>
            <a:off x="3048120" y="129528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Стрелка вниз 13"/>
          <p:cNvSpPr/>
          <p:nvPr/>
        </p:nvSpPr>
        <p:spPr>
          <a:xfrm>
            <a:off x="4495680" y="129528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Стрелка вниз 14"/>
          <p:cNvSpPr/>
          <p:nvPr/>
        </p:nvSpPr>
        <p:spPr>
          <a:xfrm>
            <a:off x="6095880" y="1295280"/>
            <a:ext cx="6098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Стрелка вниз 15"/>
          <p:cNvSpPr/>
          <p:nvPr/>
        </p:nvSpPr>
        <p:spPr>
          <a:xfrm>
            <a:off x="7162920" y="1295280"/>
            <a:ext cx="6094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1143000" y="365760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. 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соц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призн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самовыраж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2819520" y="3581280"/>
            <a:ext cx="1143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. позна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-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4038480" y="350532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. ц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ч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-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71500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-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7467480" y="373392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-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лич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озз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900000" y="189000"/>
            <a:ext cx="51055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574"/>
                </a:solidFill>
                <a:latin typeface="Times New Roman"/>
                <a:ea typeface="Times New Roman"/>
              </a:rPr>
              <a:t>Планируемые результаты ФГО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68360" y="1557360"/>
          <a:ext cx="2826000" cy="4797360"/>
        </p:xfrm>
        <a:graphic>
          <a:graphicData uri="http://schemas.openxmlformats.org/drawingml/2006/table">
            <a:tbl>
              <a:tblPr/>
              <a:tblGrid>
                <a:gridCol w="2826000"/>
              </a:tblGrid>
              <a:tr h="479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 u="sng">
                          <a:solidFill>
                            <a:srgbClr val="000066"/>
                          </a:solidFill>
                          <a:uFillTx/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8ae"/>
                          </a:solidFill>
                          <a:uFillTx/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развитие мотивац-ой сфер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индив.-личностная пози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оц. компетент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способность к  саморазвитию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00ff"/>
                        </a:buClr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700" spc="-1" strike="noStrike">
                          <a:solidFill>
                            <a:srgbClr val="6600ff"/>
                          </a:solidFill>
                          <a:latin typeface="Times New Roman"/>
                          <a:ea typeface="Times New Roman"/>
                        </a:rPr>
                        <a:t>формирование адекватной самооцен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 u="sng">
                          <a:solidFill>
                            <a:srgbClr val="0066cc"/>
                          </a:solidFill>
                          <a:uFillTx/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ce4ff"/>
                    </a:solidFill>
                  </a:tcPr>
                </a:tc>
              </a:tr>
            </a:tbl>
          </a:graphicData>
        </a:graphic>
      </p:graphicFrame>
      <p:sp>
        <p:nvSpPr>
          <p:cNvPr id="149" name="Стрелка вниз 4"/>
          <p:cNvSpPr/>
          <p:nvPr/>
        </p:nvSpPr>
        <p:spPr>
          <a:xfrm>
            <a:off x="3276720" y="981000"/>
            <a:ext cx="6094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Этапы становления самооценки </a:t>
            </a:r>
            <a:br>
              <a:rPr sz="2100"/>
            </a:b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по И. И. Чесноковой)</a:t>
            </a:r>
            <a:endParaRPr b="0" lang="en-US" sz="2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214200" y="5143680"/>
            <a:ext cx="1285920" cy="1000080"/>
          </a:xfrm>
          <a:prstGeom prst="rect">
            <a:avLst/>
          </a:prstGeom>
          <a:solidFill>
            <a:srgbClr val="ebf5f5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0 – 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родил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1500120" y="4357800"/>
            <a:ext cx="1285920" cy="1143000"/>
          </a:xfrm>
          <a:prstGeom prst="rect">
            <a:avLst/>
          </a:prstGeom>
          <a:solidFill>
            <a:srgbClr val="c2e0e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1 – 3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е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4143240" y="2928960"/>
            <a:ext cx="1357560" cy="1143000"/>
          </a:xfrm>
          <a:prstGeom prst="rect">
            <a:avLst/>
          </a:prstGeom>
          <a:solidFill>
            <a:srgbClr val="d0e3e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7 – 12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Какой я ес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7143840" y="1285920"/>
            <a:ext cx="1785960" cy="1071360"/>
          </a:xfrm>
          <a:prstGeom prst="rect">
            <a:avLst/>
          </a:prstGeom>
          <a:solidFill>
            <a:srgbClr val="d6f5f5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14 – 18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такой, какой я е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оугольник 19"/>
          <p:cNvSpPr/>
          <p:nvPr/>
        </p:nvSpPr>
        <p:spPr>
          <a:xfrm>
            <a:off x="2786040" y="3714840"/>
            <a:ext cx="1357200" cy="1071360"/>
          </a:xfrm>
          <a:prstGeom prst="rect">
            <a:avLst/>
          </a:prstGeom>
          <a:solidFill>
            <a:srgbClr val="b9d5d5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3 – 7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Я есть и они ес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5500800" y="2214720"/>
            <a:ext cx="1714320" cy="1071360"/>
          </a:xfrm>
          <a:prstGeom prst="rect">
            <a:avLst/>
          </a:prstGeom>
          <a:solidFill>
            <a:srgbClr val="def3f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12 – 14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daeae"/>
                </a:solidFill>
                <a:latin typeface="Verdana"/>
              </a:rPr>
              <a:t>Кто 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Стрелка вверх 21"/>
          <p:cNvSpPr/>
          <p:nvPr/>
        </p:nvSpPr>
        <p:spPr>
          <a:xfrm rot="4246800">
            <a:off x="2315880" y="206280"/>
            <a:ext cx="1078200" cy="388440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999ff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23"/>
          <p:cNvSpPr/>
          <p:nvPr/>
        </p:nvSpPr>
        <p:spPr>
          <a:xfrm rot="20433000">
            <a:off x="1204560" y="19839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-концепц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142920" y="6072120"/>
            <a:ext cx="15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дивид. существо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1500120" y="55008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ходьб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2714760" y="4786200"/>
            <a:ext cx="1500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мена соц. стату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вичные межличн. отнош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. внутр. позиции 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4071960" y="4071960"/>
            <a:ext cx="1714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ение внутр. позиции школьн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увство компет-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ормиров. абстрактного мыш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общение пережив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5500800" y="3286080"/>
            <a:ext cx="1785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ышение импульсив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моциональный пи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оритет общ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жличн. отнош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овое созре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7286760" y="2357280"/>
            <a:ext cx="1857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цесс самоопреде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формление внутренней позиц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в будуще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Улыбающееся лицо 30"/>
          <p:cNvSpPr/>
          <p:nvPr/>
        </p:nvSpPr>
        <p:spPr>
          <a:xfrm>
            <a:off x="642960" y="4357800"/>
            <a:ext cx="500040" cy="366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Улыбающееся лицо 33"/>
          <p:cNvSpPr/>
          <p:nvPr/>
        </p:nvSpPr>
        <p:spPr>
          <a:xfrm>
            <a:off x="7858080" y="78588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Улыбающееся лицо 34"/>
          <p:cNvSpPr/>
          <p:nvPr/>
        </p:nvSpPr>
        <p:spPr>
          <a:xfrm>
            <a:off x="1928880" y="371484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Улыбающееся лицо 35"/>
          <p:cNvSpPr/>
          <p:nvPr/>
        </p:nvSpPr>
        <p:spPr>
          <a:xfrm>
            <a:off x="3286080" y="307188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Улыбающееся лицо 36"/>
          <p:cNvSpPr/>
          <p:nvPr/>
        </p:nvSpPr>
        <p:spPr>
          <a:xfrm>
            <a:off x="4572000" y="242892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Улыбающееся лицо 37"/>
          <p:cNvSpPr/>
          <p:nvPr/>
        </p:nvSpPr>
        <p:spPr>
          <a:xfrm>
            <a:off x="5929200" y="1643040"/>
            <a:ext cx="500040" cy="357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c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298080"/>
            <a:ext cx="7313400" cy="5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формирования адекватной самооценки</a:t>
            </a:r>
            <a:endParaRPr b="0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2" name="Прямоугольник 2"/>
          <p:cNvGrpSpPr/>
          <p:nvPr/>
        </p:nvGrpSpPr>
        <p:grpSpPr>
          <a:xfrm>
            <a:off x="695160" y="2614680"/>
            <a:ext cx="2548080" cy="2682720"/>
            <a:chOff x="695160" y="2614680"/>
            <a:chExt cx="2548080" cy="2682720"/>
          </a:xfrm>
        </p:grpSpPr>
        <p:pic>
          <p:nvPicPr>
            <p:cNvPr id="17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695160" y="2614680"/>
              <a:ext cx="25480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55640" y="2643120"/>
              <a:ext cx="242892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b9898"/>
                  </a:solidFill>
                  <a:latin typeface="Times New Roman"/>
                </a:rPr>
                <a:t>формирования адекватной самооценк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" name="Прямоугольник 7"/>
          <p:cNvGrpSpPr/>
          <p:nvPr/>
        </p:nvGrpSpPr>
        <p:grpSpPr>
          <a:xfrm>
            <a:off x="4370400" y="3333600"/>
            <a:ext cx="3139920" cy="884520"/>
            <a:chOff x="4370400" y="3333600"/>
            <a:chExt cx="3139920" cy="884520"/>
          </a:xfrm>
        </p:grpSpPr>
        <p:pic>
          <p:nvPicPr>
            <p:cNvPr id="176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370400" y="3333600"/>
              <a:ext cx="313992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29080" y="3429000"/>
              <a:ext cx="302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d4d"/>
                  </a:solidFill>
                  <a:latin typeface="Verdana"/>
                </a:rPr>
                <a:t>создание ситуации выбор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" name="Прямоугольник 8"/>
          <p:cNvGrpSpPr/>
          <p:nvPr/>
        </p:nvGrpSpPr>
        <p:grpSpPr>
          <a:xfrm>
            <a:off x="4370400" y="4797360"/>
            <a:ext cx="3139920" cy="1262160"/>
            <a:chOff x="4370400" y="4797360"/>
            <a:chExt cx="3139920" cy="1262160"/>
          </a:xfrm>
        </p:grpSpPr>
        <p:pic>
          <p:nvPicPr>
            <p:cNvPr id="179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370400" y="4797360"/>
              <a:ext cx="3139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429080" y="4857840"/>
              <a:ext cx="3022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4a4a"/>
                  </a:solidFill>
                  <a:latin typeface="Verdana"/>
                </a:rPr>
                <a:t>организация продуктивной деятельности в самооценивани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" name="Прямоугольник 9"/>
          <p:cNvGrpSpPr/>
          <p:nvPr/>
        </p:nvGrpSpPr>
        <p:grpSpPr>
          <a:xfrm>
            <a:off x="4370400" y="4048200"/>
            <a:ext cx="3139920" cy="884160"/>
            <a:chOff x="4370400" y="4048200"/>
            <a:chExt cx="3139920" cy="884160"/>
          </a:xfrm>
        </p:grpSpPr>
        <p:pic>
          <p:nvPicPr>
            <p:cNvPr id="18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370400" y="4048200"/>
              <a:ext cx="31399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429080" y="4143240"/>
              <a:ext cx="30225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74747"/>
                  </a:solidFill>
                  <a:latin typeface="Verdana"/>
                </a:rPr>
                <a:t>создание ситуации успех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Прямоугольник 10"/>
          <p:cNvGrpSpPr/>
          <p:nvPr/>
        </p:nvGrpSpPr>
        <p:grpSpPr>
          <a:xfrm>
            <a:off x="4363920" y="6066000"/>
            <a:ext cx="3146400" cy="682560"/>
            <a:chOff x="4363920" y="6066000"/>
            <a:chExt cx="3146400" cy="682560"/>
          </a:xfrm>
        </p:grpSpPr>
        <p:pic>
          <p:nvPicPr>
            <p:cNvPr id="185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4363920" y="6066000"/>
              <a:ext cx="3146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427640" y="6093000"/>
              <a:ext cx="3024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69999"/>
                  </a:solidFill>
                  <a:latin typeface="Verdana"/>
                </a:rPr>
                <a:t>консультировани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" name="Прямая соединительная линия 12"/>
          <p:cNvSpPr/>
          <p:nvPr/>
        </p:nvSpPr>
        <p:spPr>
          <a:xfrm flipV="1">
            <a:off x="3214800" y="2071440"/>
            <a:ext cx="1143000" cy="92844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Прямая соединительная линия 16"/>
          <p:cNvSpPr/>
          <p:nvPr/>
        </p:nvSpPr>
        <p:spPr>
          <a:xfrm flipV="1">
            <a:off x="3286080" y="3136680"/>
            <a:ext cx="990720" cy="36324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ая соединительная линия 19"/>
          <p:cNvSpPr/>
          <p:nvPr/>
        </p:nvSpPr>
        <p:spPr>
          <a:xfrm flipV="1">
            <a:off x="3214800" y="3714840"/>
            <a:ext cx="1071360" cy="64296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Прямая соединительная линия 21"/>
          <p:cNvSpPr/>
          <p:nvPr/>
        </p:nvSpPr>
        <p:spPr>
          <a:xfrm>
            <a:off x="3214800" y="4572000"/>
            <a:ext cx="1071360" cy="144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Прямая соединительная линия 24"/>
          <p:cNvSpPr/>
          <p:nvPr/>
        </p:nvSpPr>
        <p:spPr>
          <a:xfrm>
            <a:off x="3214800" y="4786200"/>
            <a:ext cx="1071360" cy="57168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Прямая соединительная линия 27"/>
          <p:cNvSpPr/>
          <p:nvPr/>
        </p:nvSpPr>
        <p:spPr>
          <a:xfrm>
            <a:off x="3214800" y="5000760"/>
            <a:ext cx="1071360" cy="1214280"/>
          </a:xfrm>
          <a:prstGeom prst="line">
            <a:avLst/>
          </a:prstGeom>
          <a:ln w="9360">
            <a:solidFill>
              <a:srgbClr val="00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971640" y="2708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33"/>
                </a:solidFill>
                <a:latin typeface="Arial"/>
              </a:rPr>
              <a:t>Психолого-педагогическое на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Прямоугольник 20"/>
          <p:cNvGrpSpPr/>
          <p:nvPr/>
        </p:nvGrpSpPr>
        <p:grpSpPr>
          <a:xfrm>
            <a:off x="7583400" y="2614680"/>
            <a:ext cx="835200" cy="4041720"/>
            <a:chOff x="7583400" y="2614680"/>
            <a:chExt cx="835200" cy="4041720"/>
          </a:xfrm>
        </p:grpSpPr>
        <p:pic>
          <p:nvPicPr>
            <p:cNvPr id="195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7583400" y="2614680"/>
              <a:ext cx="83520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643880" y="2643120"/>
              <a:ext cx="7142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ф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Прямоугольник 18"/>
          <p:cNvGrpSpPr/>
          <p:nvPr/>
        </p:nvGrpSpPr>
        <p:grpSpPr>
          <a:xfrm>
            <a:off x="4363920" y="1066680"/>
            <a:ext cx="3164040" cy="1706760"/>
            <a:chOff x="4363920" y="1066680"/>
            <a:chExt cx="3164040" cy="1706760"/>
          </a:xfrm>
        </p:grpSpPr>
        <p:pic>
          <p:nvPicPr>
            <p:cNvPr id="198" name="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4363920" y="1066680"/>
              <a:ext cx="316404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27640" y="1295280"/>
              <a:ext cx="30398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b9898"/>
                  </a:solidFill>
                  <a:latin typeface="Verdana"/>
                </a:rPr>
                <a:t>работа в зоне ближайшего развития и построение перспективы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Прямоугольник 22"/>
          <p:cNvGrpSpPr/>
          <p:nvPr/>
        </p:nvGrpSpPr>
        <p:grpSpPr>
          <a:xfrm>
            <a:off x="4363920" y="2408400"/>
            <a:ext cx="3183120" cy="1157040"/>
            <a:chOff x="4363920" y="2408400"/>
            <a:chExt cx="3183120" cy="1157040"/>
          </a:xfrm>
        </p:grpSpPr>
        <p:pic>
          <p:nvPicPr>
            <p:cNvPr id="201" name="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4363920" y="2408400"/>
              <a:ext cx="318312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427640" y="2565360"/>
              <a:ext cx="3024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cccc"/>
                  </a:solidFill>
                  <a:latin typeface="Verdana"/>
                </a:rPr>
                <a:t>формирование адекватного уровня притязан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71524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ирование адекватной самооценк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57200" y="1447920"/>
            <a:ext cx="2940120" cy="10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работа в зоне ближайшего развития и построение перспектив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468360" y="2565360"/>
            <a:ext cx="295128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ab9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формирование адекватного уровня притяза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500040" y="3429000"/>
            <a:ext cx="2928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создание ситуации выб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500040" y="4857840"/>
            <a:ext cx="292896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организация продуктивной деятельности в самооценива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500040" y="4143240"/>
            <a:ext cx="2928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создание ситуации успех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500040" y="6072120"/>
            <a:ext cx="29289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рок-консульт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0" name="Прямоугольник 10"/>
          <p:cNvGrpSpPr/>
          <p:nvPr/>
        </p:nvGrpSpPr>
        <p:grpSpPr>
          <a:xfrm>
            <a:off x="4406760" y="1878120"/>
            <a:ext cx="4797720" cy="792000"/>
            <a:chOff x="4406760" y="1878120"/>
            <a:chExt cx="4797720" cy="792000"/>
          </a:xfrm>
        </p:grpSpPr>
        <p:pic>
          <p:nvPicPr>
            <p:cNvPr id="211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4406760" y="1878120"/>
              <a:ext cx="4797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500720" y="1930320"/>
              <a:ext cx="46432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Учет индивидуальных  особенностей личности  ребён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3" name="Прямоугольник 11"/>
          <p:cNvGrpSpPr/>
          <p:nvPr/>
        </p:nvGrpSpPr>
        <p:grpSpPr>
          <a:xfrm>
            <a:off x="4406760" y="2468520"/>
            <a:ext cx="4797720" cy="811080"/>
            <a:chOff x="4406760" y="2468520"/>
            <a:chExt cx="4797720" cy="811080"/>
          </a:xfrm>
        </p:grpSpPr>
        <p:pic>
          <p:nvPicPr>
            <p:cNvPr id="214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4406760" y="2468520"/>
              <a:ext cx="47977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00720" y="2502000"/>
              <a:ext cx="46432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определение критериев оценки будущей деятельности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6" name="Прямоугольник 12"/>
          <p:cNvGrpSpPr/>
          <p:nvPr/>
        </p:nvGrpSpPr>
        <p:grpSpPr>
          <a:xfrm>
            <a:off x="4419720" y="3114720"/>
            <a:ext cx="4803480" cy="615960"/>
            <a:chOff x="4419720" y="3114720"/>
            <a:chExt cx="4803480" cy="615960"/>
          </a:xfrm>
        </p:grpSpPr>
        <p:pic>
          <p:nvPicPr>
            <p:cNvPr id="2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419720" y="3114720"/>
              <a:ext cx="4803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500720" y="3144960"/>
              <a:ext cx="4643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дифференцированные задания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9" name="Прямоугольник 13"/>
          <p:cNvGrpSpPr/>
          <p:nvPr/>
        </p:nvGrpSpPr>
        <p:grpSpPr>
          <a:xfrm>
            <a:off x="4406760" y="4548240"/>
            <a:ext cx="4797720" cy="1523880"/>
            <a:chOff x="4406760" y="4548240"/>
            <a:chExt cx="4797720" cy="1523880"/>
          </a:xfrm>
        </p:grpSpPr>
        <p:pic>
          <p:nvPicPr>
            <p:cNvPr id="220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4406760" y="4548240"/>
              <a:ext cx="47977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00720" y="4643280"/>
              <a:ext cx="464328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«доска-выручалочка»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Взаимоопрос  «Знайчонок»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рефлексивные сочинения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взаимооценивание («линейка оценки»)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Прямоугольник 14"/>
          <p:cNvGrpSpPr/>
          <p:nvPr/>
        </p:nvGrpSpPr>
        <p:grpSpPr>
          <a:xfrm>
            <a:off x="4419720" y="3614760"/>
            <a:ext cx="4784760" cy="1116000"/>
            <a:chOff x="4419720" y="3614760"/>
            <a:chExt cx="4784760" cy="1116000"/>
          </a:xfrm>
        </p:grpSpPr>
        <p:pic>
          <p:nvPicPr>
            <p:cNvPr id="223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4419720" y="3614760"/>
              <a:ext cx="47847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00720" y="3645000"/>
              <a:ext cx="46432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«доска помощников»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«доска открытий» (РО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5" name="Прямоугольник 15"/>
          <p:cNvGrpSpPr/>
          <p:nvPr/>
        </p:nvGrpSpPr>
        <p:grpSpPr>
          <a:xfrm>
            <a:off x="4419720" y="5803920"/>
            <a:ext cx="4784760" cy="1035000"/>
            <a:chOff x="4419720" y="5803920"/>
            <a:chExt cx="4784760" cy="1035000"/>
          </a:xfrm>
        </p:grpSpPr>
        <p:pic>
          <p:nvPicPr>
            <p:cNvPr id="226" name="Прямоугольник 15" descr=""/>
            <p:cNvPicPr/>
            <p:nvPr/>
          </p:nvPicPr>
          <p:blipFill>
            <a:blip r:embed="rId6"/>
            <a:stretch/>
          </p:blipFill>
          <p:spPr>
            <a:xfrm>
              <a:off x="4419720" y="5803920"/>
              <a:ext cx="47847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00720" y="5857920"/>
              <a:ext cx="46432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учитель-консультант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ученик-консультант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buClr>
                  <a:srgbClr val="9933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33ff"/>
                  </a:solidFill>
                  <a:latin typeface="Verdana"/>
                </a:rPr>
                <a:t>взаимопомощ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Прямая соединительная линия 30"/>
          <p:cNvSpPr/>
          <p:nvPr/>
        </p:nvSpPr>
        <p:spPr>
          <a:xfrm>
            <a:off x="3571920" y="2143080"/>
            <a:ext cx="642960" cy="180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ая соединительная линия 38"/>
          <p:cNvSpPr/>
          <p:nvPr/>
        </p:nvSpPr>
        <p:spPr>
          <a:xfrm>
            <a:off x="3571920" y="2928960"/>
            <a:ext cx="642960" cy="144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ая соединительная линия 42"/>
          <p:cNvSpPr/>
          <p:nvPr/>
        </p:nvSpPr>
        <p:spPr>
          <a:xfrm flipV="1">
            <a:off x="3571920" y="3429000"/>
            <a:ext cx="642960" cy="28584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Прямая соединительная линия 45"/>
          <p:cNvSpPr/>
          <p:nvPr/>
        </p:nvSpPr>
        <p:spPr>
          <a:xfrm flipV="1">
            <a:off x="3571920" y="3929040"/>
            <a:ext cx="642960" cy="28584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ая соединительная линия 48"/>
          <p:cNvSpPr/>
          <p:nvPr/>
        </p:nvSpPr>
        <p:spPr>
          <a:xfrm>
            <a:off x="3571920" y="4357800"/>
            <a:ext cx="642960" cy="7128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ая соединительная линия 58"/>
          <p:cNvSpPr/>
          <p:nvPr/>
        </p:nvSpPr>
        <p:spPr>
          <a:xfrm flipV="1">
            <a:off x="3571920" y="5143680"/>
            <a:ext cx="642960" cy="14256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ая соединительная линия 60"/>
          <p:cNvSpPr/>
          <p:nvPr/>
        </p:nvSpPr>
        <p:spPr>
          <a:xfrm>
            <a:off x="3571920" y="5357880"/>
            <a:ext cx="642960" cy="7308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ая соединительная линия 62"/>
          <p:cNvSpPr/>
          <p:nvPr/>
        </p:nvSpPr>
        <p:spPr>
          <a:xfrm>
            <a:off x="3571920" y="5500800"/>
            <a:ext cx="642960" cy="142920"/>
          </a:xfrm>
          <a:prstGeom prst="line">
            <a:avLst/>
          </a:prstGeom>
          <a:ln w="9360">
            <a:solidFill>
              <a:srgbClr val="1a4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ая соединительная линия 75"/>
          <p:cNvSpPr/>
          <p:nvPr/>
        </p:nvSpPr>
        <p:spPr>
          <a:xfrm>
            <a:off x="3571920" y="628668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7" name="Прямоугольник 34"/>
          <p:cNvGrpSpPr/>
          <p:nvPr/>
        </p:nvGrpSpPr>
        <p:grpSpPr>
          <a:xfrm>
            <a:off x="3591000" y="2328840"/>
            <a:ext cx="847800" cy="4052880"/>
            <a:chOff x="3591000" y="2328840"/>
            <a:chExt cx="847800" cy="4052880"/>
          </a:xfrm>
        </p:grpSpPr>
        <p:pic>
          <p:nvPicPr>
            <p:cNvPr id="238" name="Прямоугольник 34" descr=""/>
            <p:cNvPicPr/>
            <p:nvPr/>
          </p:nvPicPr>
          <p:blipFill>
            <a:blip r:embed="rId7"/>
            <a:stretch/>
          </p:blipFill>
          <p:spPr>
            <a:xfrm>
              <a:off x="3591000" y="2328840"/>
              <a:ext cx="84780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57600" y="2362320"/>
              <a:ext cx="7142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ф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Verdana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0" name="Заголовок 1" descr=""/>
          <p:cNvPicPr/>
          <p:nvPr/>
        </p:nvPicPr>
        <p:blipFill>
          <a:blip r:embed="rId8"/>
          <a:stretch/>
        </p:blipFill>
        <p:spPr>
          <a:xfrm>
            <a:off x="426960" y="285840"/>
            <a:ext cx="771696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Диагностический инструментарий 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Дембо – Рубинштей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Захаровой А. 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Кун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одика «Лесен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5:47:47Z</dcterms:created>
  <dc:creator>liaba</dc:creator>
  <dc:description/>
  <dc:language>en-US</dc:language>
  <cp:lastModifiedBy>Евгений</cp:lastModifiedBy>
  <dcterms:modified xsi:type="dcterms:W3CDTF">2019-06-12T06:03:20Z</dcterms:modified>
  <cp:revision>7</cp:revision>
  <dc:subject/>
  <dc:title>Юрьева Дарья.</dc:title>
</cp:coreProperties>
</file>