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3.jpeg" ContentType="image/jpeg"/>
  <Override PartName="/ppt/media/image18.gif" ContentType="image/gif"/>
  <Override PartName="/ppt/media/image20.gif" ContentType="image/gif"/>
  <Override PartName="/ppt/media/image23.jpeg" ContentType="image/jpeg"/>
  <Override PartName="/ppt/media/image22.png" ContentType="image/png"/>
  <Override PartName="/ppt/media/image1.jpeg" ContentType="image/jpeg"/>
  <Override PartName="/ppt/media/image19.gif" ContentType="image/gif"/>
  <Override PartName="/ppt/media/image21.gif" ContentType="image/gif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24.gif" ContentType="image/gif"/>
  <Override PartName="/ppt/media/image4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90A4B-E804-4887-99E4-97A96FEC467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73610-15CD-4DDB-BC63-8AC07235513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53B36-6405-49BB-A3AC-8BEB8058407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D1D78-1CDE-4104-ADAF-C9B242638F3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F6746-0231-4CB2-9122-5D7C2D02064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B22D7-B61D-4F77-92C1-DA2B7843664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A1E82-BB5F-4F51-A023-49760FB6E7E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5944B-A5E4-4D8C-A15C-BE4D59F2DD4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5F0BD-4CBA-4080-8BF8-93FFD9EA059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B1FE9-EAE0-49DB-ABE2-27228FCF963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C1C83-BDDA-41E5-B752-0F1AE402A42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143FB-F4CB-4CFD-904B-05D20041E28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E2485-94F3-49B0-94A7-CC12329A900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63C07-2D80-4B27-8EFF-D52A20D896B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78371-4278-4A42-8939-0423A09619D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36844-B00A-4CA6-A95A-8733FFCA8DA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E5C55-E842-4187-81D7-E230087308C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DEB56-7B85-4584-8EC0-CC7BFBC34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1CFFD-DE78-4F12-B07B-25C6B5417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C239C5-EE85-42E8-904D-220F841B4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7FCA9F-894B-423C-A71E-292D06101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A3FEC9-1684-44DF-8569-54576AE2D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97D00B-8400-4185-A7C0-692E4DC59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8E1BDE-5E08-4A3F-AA53-0BA22BCA3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45DDFA-80C4-4CE8-9F0A-60E9F263B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334746-E30C-402B-B5D7-9DC658E9E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272F4B-E553-4AC3-ADF9-4230DD49B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4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5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72BEC5-6EFD-4CA6-9BCC-2DEF1EDA6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F2F200-EFFF-40AD-9A28-430D31108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0A0A8-2838-4ECE-9F53-7C792CBD0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A44765-5D9A-4BBD-9E9C-DF977436A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AAB924-9106-4C0E-81C3-C27825ADE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A61766-6E83-41F4-A1A7-D02D182EC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05A497-FF3F-4039-90FA-586FE69C7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0A7CCF-F7BB-49A0-AAD5-8C12A4EEF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AE080F-B156-43D9-B00F-73E49CD73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88E643-05C9-436B-A52E-20509DB22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DFC0E9-34F2-4D27-964F-0B27DAE18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A3A5C2-0C7A-4552-A39D-B33DF71E6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9A5290-85BA-437F-A682-DD1AEFC08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9C9C7-2813-4135-A92E-470815BED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FC09B2-E015-49B2-B4BD-B1C8DB2C1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2E4C03-F119-4CE3-9B9F-F7D81687A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5050F6-5F34-4BCE-A565-B9E06497F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394D65-3A4D-49AC-B8E4-25DA8A9F5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A485D6-04B9-41CF-9D93-9A63B90BD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740A58-6974-45CF-A2B9-DB9B2E5A3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89B7BC-62B4-4D69-9041-E23D384C1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040E9D-A805-4CE3-BBEF-1DA3BE7E1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D3902E-226E-4618-9D38-E03791838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B25B21-6694-4B83-85C9-6DD9512CE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67E71-7E5F-40BE-8D8F-D50557BC8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320B91-5BFB-4075-88C0-61953CE7E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1A300B-7F82-4C7C-990B-64B1FB2C8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CB870A-B896-45AE-8E3E-FACEE6C36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CFCF84-8843-41B3-87C1-F8AC5CECF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281D47-813C-4734-9FFA-9D9AD10C2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FD5472-6AFA-437D-B0DA-C26D50D9D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D9F887-C4B6-49F3-93A4-515CFAD2F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DB41A6-582D-46A1-87F4-661C60458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9C5102-492C-4048-8584-A66DFE89D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A99D9C-041E-42B3-92CE-D1261F7B2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3CC7F-3C32-40E5-BB1E-537C1CEE1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2AB185-3ACC-48E2-9C4C-2A547392D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4762A3-6EAA-4AD0-B484-1F8B72C25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BE9E39-EDDF-466F-A252-A5BA299AA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1B0CFC-3F9F-489F-8E29-8D15ADEB9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B64FED-4A18-42F0-9834-171DA8EA8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2E625-F002-40BA-A8C1-6CCD0AF2F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821D7-4142-4C73-9E3D-4568B91D9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E1916-FC56-4869-AFBC-45FD8782E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EDB00-C7F4-47B7-A7C1-8A25C1E73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E9CD8-3E32-4003-9E05-D5106FB5A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922AF-3885-4961-9F81-ADCCA2D87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94BA1-909D-4CBF-A832-C2D3B9639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D94BC-DF6B-4966-BAA4-346385B12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2C7A2-8AE0-4802-BAC7-2E21362C5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18C14-60E7-4896-9D02-C4AC0844D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357EE-6563-49B9-90B1-D7E75E284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7E726B-C074-4CA0-AC1D-4BE0D2A6E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1EEC05-3314-426C-BB4D-E35D066AB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F0D730-C2D3-458F-A84A-D9DD65384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5607EB-5286-4A8F-A883-73A89F1FE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55A60F-BA0B-428C-A6C6-9B27C08A1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34123-5909-4AB7-B1AE-07B48D54B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8D1B9F-53F7-4356-BB8B-163A2E443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4D9037-5D8C-4AB7-B197-C0CB90DBD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0DFBB2-1A2F-4BD2-8085-662193573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E6A2F3-6A7F-4385-94F9-B5E652970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4D9276-773E-48E0-BE46-9E4458C86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14F1F7-E9D9-442B-A72A-E5A5DAB9E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365554-F2CE-4A01-B68A-441323E9E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B7361D-05D0-4D15-A769-0D8242BF4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57EDA1-5DDA-4443-B3E0-1123C312C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616A15-67B0-448B-ABCD-D2F944A8D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0FFD5-782F-4BAA-8922-0CC1C8BD1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093908-A171-45E6-8748-26E5A178E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308149-84D2-4A12-B271-A1F7364FA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1CB62F-CFA5-4EA9-A249-2A1F27B5C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8C8BE2-73D2-4400-9FA5-9E198857F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808271-74E1-46CB-A58E-71FAEF917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5DBC21-6674-4111-87CF-F570E096E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BAA8A8-367C-47D0-87CD-7FAF1B0DD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445FDA-6D35-4AC8-BD8F-1CEC6D62B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1A770B-ECB8-4BBE-AC0D-442693AAC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2A7CA8-1B3A-408F-A8A7-D54E68D06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4C8BE-6B55-462C-914D-67DA39E93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C06294-9210-454F-9D49-13CD3D7B4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8E1F4E-A7E0-4DD8-9B5B-10DED7262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4C02C1-C4D5-448E-8C28-D735B905F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0FA8D3-8453-4735-9B8B-F2B34867A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ED54DB-A375-4E5C-AE96-2E020C94F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3C2DCC-B68B-4BEA-92D2-AE1DDE206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746A53-41E1-4DD7-A94E-7EB63347D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FE7399-4E95-4CF6-8F24-789126788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E58C50-47EA-402B-B2B1-C5591AD51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9D4A14-EFFD-4D19-8A7C-20169636A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F756D-F695-426F-A2D0-68186AD67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588D0E-106F-4D90-BEAB-008B8EFBB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C3B74C-DEA4-482B-A509-FAD8A026C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928714-73D5-4496-8A53-B81A44025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5F5C3C-533F-497E-9243-3B2A44BCD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392068-CD60-4FD4-A41F-DBF97CF3A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8F3B8E-819F-4642-8ED5-2914091C1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3874EF-C203-4A6A-8F8D-688E63DEC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DCA13D-5FBC-48BB-AEB0-17FA4AB34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08B262-F89F-4582-8474-E563C4442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FE0E46-CAA6-445A-8510-DE7C74C72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16048-02AB-41B6-9960-5291470D5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10FEC4-378F-4929-9381-055C6B602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FE48A0-D6EF-4B65-B84E-3B076F0D3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2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A20407-C46C-4938-9457-95816076F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E4CA94-8821-45BC-A918-1BAA870DE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B91195-32D7-4301-A6A5-4C4FEF52A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FC0C0D-A8E7-484F-83E5-EBCB02BD3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FDA539-BD54-4A1C-A18C-10DC61B87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8E0E30-24E7-4E71-94F7-033E97944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FF9322-135D-4C14-A968-14E7EBBA4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46F3A9-A596-4244-99B5-85825BB74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34FE8-BC20-4871-BD3F-840B92C65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D19A82-8BB6-4F68-B974-CD2D09470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70F52F-B683-47C2-902F-F2E665C16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73A876-ACBD-46B5-BB13-66A32AC21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0F9F70-4138-4E22-8B77-1777922A7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6DB89F-D04E-4439-A953-DCB604920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F9B68F-4A43-43D2-AACF-BCAE74CDF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09AFF7-4A16-4440-B748-145174E42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7D5920-9496-4E64-84A2-5B001CC57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2E717F-8ABA-450F-9434-8675E45BB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B16004-DFCD-4E85-BA36-270608CD3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AC0F3-04D3-4AB3-A569-A54D34F15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8FE898-CA82-40B8-824A-382BA8322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191AC2-063B-4C14-8C43-21AC5528F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E12939-FCDA-4036-AFD6-348687E22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C52D69-EBFD-403B-A258-8F3A1DB8B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F33ED0-E66B-4896-AFBE-FCDC84E99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7CC495-18C2-4BD6-B2F1-69EC094FF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597603-C7DE-4862-B074-1B532466B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97EF9D-8F31-4F52-8DB5-FCA0A4CF7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C29EFE-2CF2-471A-9FDA-AABE9C8E6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79ABA6-674E-45E4-A02F-931C50D26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447F5-CC94-47C0-B849-9F2CB3502691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6" name="Прямоугольник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417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8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419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0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dt" idx="28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 type="ftr" idx="29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 type="sldNum" idx="30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7D2FC-662C-45ED-885B-ED79CB41A2CE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3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464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465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467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8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 type="dt" idx="3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 type="ftr" idx="3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 type="sldNum" idx="3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1F4EC-9FEE-4083-8003-3F7B42B1E749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12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1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6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 type="dt" idx="3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 type="ftr" idx="3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 type="sldNum" idx="3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88F15-BAA1-4E19-9B5B-D0233D8565B2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87D64-54A2-4287-9AA7-14D93DB01557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02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10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10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6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47AB1-3420-4F46-AE58-7A1EDE767B09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50" name="Овал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51" name="Овал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153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0A551-9C16-4370-8556-C1E9B7A2ABF9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6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97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198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200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B1C92-0DA0-48E4-8ACD-EDE8F8840634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96ADF-4B20-4F90-ADC5-C7F1C1634E48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5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286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287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8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289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0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B6116-697B-48BD-B3E7-75D18C2FE8DB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3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dt" idx="22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 type="ftr" idx="23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 type="sldNum" idx="24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3ECBC-B5AC-45CA-A338-85C06D58EA27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dt" idx="25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ftr" idx="26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 type="sldNum" idx="27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56412-7FF2-4219-A0B3-5DC7B24CE51F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19.gif"/><Relationship Id="rId3" Type="http://schemas.openxmlformats.org/officeDocument/2006/relationships/image" Target="../media/image20.gif"/><Relationship Id="rId4" Type="http://schemas.openxmlformats.org/officeDocument/2006/relationships/image" Target="../media/image21.gif"/><Relationship Id="rId5" Type="http://schemas.openxmlformats.org/officeDocument/2006/relationships/image" Target="../media/image22.png"/><Relationship Id="rId6" Type="http://schemas.openxmlformats.org/officeDocument/2006/relationships/image" Target="../media/image21.gif"/><Relationship Id="rId7" Type="http://schemas.openxmlformats.org/officeDocument/2006/relationships/slideLayout" Target="../slideLayouts/slideLayout85.xml"/><Relationship Id="rId8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gif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1332000" y="1267920"/>
            <a:ext cx="7488000" cy="22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572314"/>
                </a:solidFill>
                <a:latin typeface="Arial"/>
                <a:ea typeface="Arial"/>
              </a:rPr>
              <a:t>Здоровьесберегающие образовательные технологии в начальной школе</a:t>
            </a: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subTitle"/>
          </p:nvPr>
        </p:nvSpPr>
        <p:spPr>
          <a:xfrm>
            <a:off x="1403280" y="4581000"/>
            <a:ext cx="7407360" cy="17528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20e04"/>
                </a:solidFill>
                <a:latin typeface="Arial"/>
                <a:ea typeface="Arial"/>
              </a:rPr>
              <a:t>Воспитатель ГПД: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20e04"/>
                </a:solidFill>
                <a:latin typeface="Arial"/>
                <a:ea typeface="Arial"/>
              </a:rPr>
              <a:t>ГБОУ гимназии №205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20e04"/>
                </a:solidFill>
                <a:latin typeface="Arial"/>
                <a:ea typeface="Arial"/>
              </a:rPr>
              <a:t>Федорова Ирина Аркадьевна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1403280" y="189000"/>
            <a:ext cx="7407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572314"/>
                </a:solidFill>
                <a:latin typeface="Arial"/>
                <a:ea typeface="Arial"/>
              </a:rPr>
              <a:t>Фото</a:t>
            </a: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 type="subTitle"/>
          </p:nvPr>
        </p:nvSpPr>
        <p:spPr>
          <a:xfrm>
            <a:off x="1468080" y="2203200"/>
            <a:ext cx="7405560" cy="439236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89" name="Picture 3" descr="D:\A\Иришка\Все по работе (Ира)\Доклады для школы\Здоровьесберегающая технология образовательного процесса\К презентации\IMG_1473_новый размер_новый размер.JPG"/>
          <p:cNvPicPr/>
          <p:nvPr/>
        </p:nvPicPr>
        <p:blipFill>
          <a:blip r:embed="rId1"/>
          <a:stretch/>
        </p:blipFill>
        <p:spPr>
          <a:xfrm>
            <a:off x="5219640" y="3116160"/>
            <a:ext cx="3483000" cy="3481560"/>
          </a:xfrm>
          <a:prstGeom prst="rect">
            <a:avLst/>
          </a:prstGeom>
          <a:ln w="0">
            <a:noFill/>
          </a:ln>
        </p:spPr>
      </p:pic>
      <p:pic>
        <p:nvPicPr>
          <p:cNvPr id="590" name="Picture 4" descr="D:\A\Иришка\Все по работе (Ира)\Доклады для школы\Здоровьесберегающая технология образовательного процесса\К презентации\IMG_1488_новый размер_новый размер.JPG"/>
          <p:cNvPicPr/>
          <p:nvPr/>
        </p:nvPicPr>
        <p:blipFill>
          <a:blip r:embed="rId2"/>
          <a:stretch/>
        </p:blipFill>
        <p:spPr>
          <a:xfrm>
            <a:off x="1476360" y="3381480"/>
            <a:ext cx="3240000" cy="324000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5" descr="D:\A\Иришка\Все по работе (Ира)\Доклады для школы\Здоровьесберегающая технология образовательного процесса\К презентации\IMG_1494_новый размер_новый размер.JPG"/>
          <p:cNvPicPr/>
          <p:nvPr/>
        </p:nvPicPr>
        <p:blipFill>
          <a:blip r:embed="rId3"/>
          <a:stretch/>
        </p:blipFill>
        <p:spPr>
          <a:xfrm>
            <a:off x="4427640" y="836640"/>
            <a:ext cx="3333600" cy="3333600"/>
          </a:xfrm>
          <a:prstGeom prst="rect">
            <a:avLst/>
          </a:prstGeom>
          <a:ln w="0">
            <a:noFill/>
          </a:ln>
        </p:spPr>
      </p:pic>
      <p:pic>
        <p:nvPicPr>
          <p:cNvPr id="592" name="Picture 6" descr="D:\A\Иришка\Все по работе (Ира)\Доклады для школы\Здоровьесберегающая технология образовательного процесса\К презентации\IMG_1497_новый размер_новый размер.JPG"/>
          <p:cNvPicPr/>
          <p:nvPr/>
        </p:nvPicPr>
        <p:blipFill>
          <a:blip r:embed="rId4"/>
          <a:stretch/>
        </p:blipFill>
        <p:spPr>
          <a:xfrm>
            <a:off x="1258920" y="836640"/>
            <a:ext cx="2846520" cy="284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403280" y="189000"/>
            <a:ext cx="7407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572314"/>
                </a:solidFill>
                <a:latin typeface="Arial"/>
                <a:ea typeface="Arial"/>
              </a:rPr>
              <a:t>Фото</a:t>
            </a: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 type="subTitle"/>
          </p:nvPr>
        </p:nvSpPr>
        <p:spPr>
          <a:xfrm>
            <a:off x="1468080" y="2203200"/>
            <a:ext cx="7405560" cy="439236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95" name="Picture 2" descr="D:\A\Иришка\Все по работе (Ира)\Доклады для школы\Здоровьесберегающая технология образовательного процесса\К презентации\IMG_1500_новый размер_новый размер.JPG"/>
          <p:cNvPicPr/>
          <p:nvPr/>
        </p:nvPicPr>
        <p:blipFill>
          <a:blip r:embed="rId1"/>
          <a:stretch/>
        </p:blipFill>
        <p:spPr>
          <a:xfrm>
            <a:off x="1495440" y="981000"/>
            <a:ext cx="3454560" cy="3454560"/>
          </a:xfrm>
          <a:prstGeom prst="rect">
            <a:avLst/>
          </a:prstGeom>
          <a:ln w="0">
            <a:noFill/>
          </a:ln>
        </p:spPr>
      </p:pic>
      <p:pic>
        <p:nvPicPr>
          <p:cNvPr id="596" name="Picture 3" descr="D:\A\Иришка\Все по работе (Ира)\Доклады для школы\Здоровьесберегающая технология образовательного процесса\К презентации\IMG_1503_новый размер_новый размер.JPG"/>
          <p:cNvPicPr/>
          <p:nvPr/>
        </p:nvPicPr>
        <p:blipFill>
          <a:blip r:embed="rId2"/>
          <a:stretch/>
        </p:blipFill>
        <p:spPr>
          <a:xfrm>
            <a:off x="1258920" y="3338640"/>
            <a:ext cx="3241800" cy="3240000"/>
          </a:xfrm>
          <a:prstGeom prst="rect">
            <a:avLst/>
          </a:prstGeom>
          <a:ln w="0">
            <a:noFill/>
          </a:ln>
        </p:spPr>
      </p:pic>
      <p:pic>
        <p:nvPicPr>
          <p:cNvPr id="597" name="Picture 4" descr="D:\A\Иришка\Все по работе (Ира)\Доклады для школы\Здоровьесберегающая технология образовательного процесса\К презентации\Рыцарский турнир 8_новый размер_новый размер.JPG"/>
          <p:cNvPicPr/>
          <p:nvPr/>
        </p:nvPicPr>
        <p:blipFill>
          <a:blip r:embed="rId3"/>
          <a:srcRect l="0" t="0" r="0" b="32399"/>
          <a:stretch/>
        </p:blipFill>
        <p:spPr>
          <a:xfrm>
            <a:off x="4788000" y="3701880"/>
            <a:ext cx="3886200" cy="2627640"/>
          </a:xfrm>
          <a:prstGeom prst="rect">
            <a:avLst/>
          </a:prstGeom>
          <a:ln w="0">
            <a:noFill/>
          </a:ln>
        </p:spPr>
      </p:pic>
      <p:pic>
        <p:nvPicPr>
          <p:cNvPr id="598" name="Picture 5" descr="D:\A\Иришка\Все по работе (Ира)\Доклады для школы\Здоровьесберегающая технология образовательного процесса\К презентации\Рыцарский турнир 18_новый размер_новый размер.JPG"/>
          <p:cNvPicPr/>
          <p:nvPr/>
        </p:nvPicPr>
        <p:blipFill>
          <a:blip r:embed="rId4"/>
          <a:srcRect l="0" t="17675" r="0" b="19182"/>
          <a:stretch/>
        </p:blipFill>
        <p:spPr>
          <a:xfrm>
            <a:off x="5148360" y="909720"/>
            <a:ext cx="3886200" cy="245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9" name="Picture 4" descr="d9b21043f2fe"/>
          <p:cNvPicPr/>
          <p:nvPr/>
        </p:nvPicPr>
        <p:blipFill>
          <a:blip r:embed="rId1"/>
          <a:stretch/>
        </p:blipFill>
        <p:spPr>
          <a:xfrm>
            <a:off x="0" y="0"/>
            <a:ext cx="4776840" cy="6858000"/>
          </a:xfrm>
          <a:prstGeom prst="rect">
            <a:avLst/>
          </a:prstGeom>
          <a:ln w="0">
            <a:noFill/>
          </a:ln>
        </p:spPr>
      </p:pic>
      <p:pic>
        <p:nvPicPr>
          <p:cNvPr id="600" name="Picture 6" descr="aimi_ru_5"/>
          <p:cNvPicPr/>
          <p:nvPr/>
        </p:nvPicPr>
        <p:blipFill>
          <a:blip r:embed="rId2"/>
          <a:stretch/>
        </p:blipFill>
        <p:spPr>
          <a:xfrm rot="8323800">
            <a:off x="5105520" y="2133360"/>
            <a:ext cx="1676160" cy="1311120"/>
          </a:xfrm>
          <a:prstGeom prst="rect">
            <a:avLst/>
          </a:prstGeom>
          <a:ln w="0">
            <a:noFill/>
          </a:ln>
        </p:spPr>
      </p:pic>
      <p:pic>
        <p:nvPicPr>
          <p:cNvPr id="601" name="Picture 7" descr="87"/>
          <p:cNvPicPr/>
          <p:nvPr/>
        </p:nvPicPr>
        <p:blipFill>
          <a:blip r:embed="rId3"/>
          <a:stretch/>
        </p:blipFill>
        <p:spPr>
          <a:xfrm>
            <a:off x="3886200" y="304920"/>
            <a:ext cx="1447920" cy="1277640"/>
          </a:xfrm>
          <a:prstGeom prst="rect">
            <a:avLst/>
          </a:prstGeom>
          <a:ln w="0">
            <a:noFill/>
          </a:ln>
        </p:spPr>
      </p:pic>
      <p:pic>
        <p:nvPicPr>
          <p:cNvPr id="602" name="Picture 8" descr="0009c"/>
          <p:cNvPicPr/>
          <p:nvPr/>
        </p:nvPicPr>
        <p:blipFill>
          <a:blip r:embed="rId4"/>
          <a:stretch/>
        </p:blipFill>
        <p:spPr>
          <a:xfrm>
            <a:off x="4495680" y="5029200"/>
            <a:ext cx="1698840" cy="1828800"/>
          </a:xfrm>
          <a:prstGeom prst="rect">
            <a:avLst/>
          </a:prstGeom>
          <a:ln w="0">
            <a:noFill/>
          </a:ln>
        </p:spPr>
      </p:pic>
      <p:pic>
        <p:nvPicPr>
          <p:cNvPr id="603" name="Picture 9" descr="3165d8963c63"/>
          <p:cNvPicPr/>
          <p:nvPr/>
        </p:nvPicPr>
        <p:blipFill>
          <a:blip r:embed="rId5"/>
          <a:stretch/>
        </p:blipFill>
        <p:spPr>
          <a:xfrm>
            <a:off x="6019920" y="4734000"/>
            <a:ext cx="1609560" cy="2124000"/>
          </a:xfrm>
          <a:prstGeom prst="rect">
            <a:avLst/>
          </a:prstGeom>
          <a:ln w="0">
            <a:noFill/>
          </a:ln>
        </p:spPr>
      </p:pic>
      <p:pic>
        <p:nvPicPr>
          <p:cNvPr id="604" name="Picture 10" descr="0009c"/>
          <p:cNvPicPr/>
          <p:nvPr/>
        </p:nvPicPr>
        <p:blipFill>
          <a:blip r:embed="rId6"/>
          <a:stretch/>
        </p:blipFill>
        <p:spPr>
          <a:xfrm>
            <a:off x="7445520" y="5029200"/>
            <a:ext cx="169848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path" presetID="22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2.22222E-006 0 C 0.04288 -0.0412 0.10052 -0.03356 0.1283 0.01782 C 0.16077 0.07801 0.13351 0.13681 0.11511 0.16875 L 0.08854 0.20787 C 0.07031 0.23981 0.04445 0.30023 0.08091 0.36875 C 0.10417 0.41227 0.16632 0.42778 0.20938 0.38657 C 0.25209 0.34514 0.26059 0.26227 0.23698 0.21852 C 0.2 0.15093 0.14861 0.16505 0.12014 0.1787 L 0.0842 0.19861 C 0.05538 0.21204 0.00504 0.22731 -0.02778 0.16782 C -0.05521 0.11574 -0.04253 0.04097 -2.22222E-006 0 Z">
                                      <p:cBhvr>
                                        <p:cTn id="6" dur="5000" fill="hold"/>
                                        <p:tgtEl>
                                          <p:spTgt spid="6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path" presetID="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3.33333E-006 C 0.23282 -3.33333E-006 0.42292 0.16505 0.42292 0.36875 C 0.42292 0.57199 0.23282 0.7375 -3.33333E-006 0.7375 C -0.23333 0.7375 -0.42291 0.57199 -0.42291 0.36875 C -0.42291 0.16505 -0.23333 -3.33333E-006 -3.33333E-006 -3.33333E-006 Z">
                                      <p:cBhvr>
                                        <p:cTn id="10" dur="5000" fill="hold"/>
                                        <p:tgtEl>
                                          <p:spTgt spid="6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5" name="Picture 5" descr="38130-web"/>
          <p:cNvPicPr/>
          <p:nvPr/>
        </p:nvPicPr>
        <p:blipFill>
          <a:blip r:embed="rId1"/>
          <a:stretch/>
        </p:blipFill>
        <p:spPr>
          <a:xfrm>
            <a:off x="0" y="-15840"/>
            <a:ext cx="9144000" cy="6873840"/>
          </a:xfrm>
          <a:prstGeom prst="rect">
            <a:avLst/>
          </a:prstGeom>
          <a:ln w="0">
            <a:noFill/>
          </a:ln>
        </p:spPr>
      </p:pic>
      <p:pic>
        <p:nvPicPr>
          <p:cNvPr id="606" name="Picture 7" descr="a34"/>
          <p:cNvPicPr/>
          <p:nvPr/>
        </p:nvPicPr>
        <p:blipFill>
          <a:blip r:embed="rId2"/>
          <a:stretch/>
        </p:blipFill>
        <p:spPr>
          <a:xfrm rot="19225800">
            <a:off x="228240" y="151920"/>
            <a:ext cx="12002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path" presetID="5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0.00069 C 0.01441 -0.02477 0.06962 -0.04768 0.08872 -0.04768 C 0.21025 -0.04768 0.3349 0.33148 0.3349 0.71111 C 0.3349 0.51875 0.39775 0.33148 0.45678 0.33148 C 0.51945 0.33148 0.57796 0.52176 0.57796 0.71111 C 0.57796 0.61621 0.60938 0.51875 0.64063 0.51875 C 0.67171 0.51875 0.70296 0.61366 0.70296 0.71111 C 0.70296 0.66181 0.71823 0.61621 0.73403 0.61621 C 0.74948 0.61621 0.7658 0.66412 0.7658 0.71111 C 0.7658 0.68588 0.77379 0.66181 0.78091 0.66181 C 0.78542 0.66181 0.79705 0.68588 0.79705 0.71111 C 0.79705 0.69792 0.80053 0.68588 0.80435 0.68588 C 0.80435 0.68866 0.81303 0.69792 0.81303 0.71111 C 0.81303 0.70394 0.81303 0.69792 0.81719 0.69792 C 0.81719 0.70093 0.82136 0.7044 0.82136 0.71111 C 0.82136 0.70625 0.82136 0.70394 0.82136 0.70093 C 0.82535 0.70093 0.82535 0.7044 0.82535 0.70718 C 0.829 0.70718 0.829 0.7044 0.829 0.70093 C 0.83438 0.70093 0.83438 0.7044 0.83438 0.70718 C 0.83438 0.70741 5E-006 -0.00069 5E-006 -0.00046 Z">
                                      <p:cBhvr>
                                        <p:cTn id="16" dur="5000" fill="hold"/>
                                        <p:tgtEl>
                                          <p:spTgt spid="6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72314"/>
                </a:solidFill>
                <a:latin typeface="Corbel"/>
              </a:rPr>
              <a:t>Литература</a:t>
            </a:r>
            <a:endParaRPr b="0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subTitle"/>
          </p:nvPr>
        </p:nvSpPr>
        <p:spPr>
          <a:xfrm>
            <a:off x="1431720" y="1125360"/>
            <a:ext cx="7407000" cy="539928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369720" indent="-342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Arial"/>
              </a:rPr>
              <a:t>Карасева Т.В. Современные аспекты реализации здоровьесберегающих технологий // «Начальная школа», 2005. - № 11. С. 75.</a:t>
            </a:r>
            <a:endParaRPr b="0" lang="en-US" sz="1300" spc="-1" strike="noStrike">
              <a:solidFill>
                <a:srgbClr val="000000"/>
              </a:solidFill>
              <a:latin typeface="Gill Sans MT"/>
            </a:endParaRPr>
          </a:p>
          <a:p>
            <a:pPr marL="369720" indent="-342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Arial"/>
              </a:rPr>
              <a:t>Львова ИМ. Физкультминутки // «Начальная школа», 2005. - № 10. С. 86.</a:t>
            </a:r>
            <a:endParaRPr b="0" lang="en-US" sz="1300" spc="-1" strike="noStrike">
              <a:solidFill>
                <a:srgbClr val="000000"/>
              </a:solidFill>
              <a:latin typeface="Gill Sans MT"/>
            </a:endParaRPr>
          </a:p>
          <a:p>
            <a:pPr marL="369720" indent="-342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Arial"/>
              </a:rPr>
              <a:t>Дронов А.А. Профилактика нарушения осанки и укрепление мышечного корсета // «Начальная школа», 2006, № 3. С. 53.</a:t>
            </a:r>
            <a:endParaRPr b="0" lang="en-US" sz="1300" spc="-1" strike="noStrike">
              <a:solidFill>
                <a:srgbClr val="000000"/>
              </a:solidFill>
              <a:latin typeface="Gill Sans MT"/>
            </a:endParaRPr>
          </a:p>
          <a:p>
            <a:pPr marL="369720" indent="-342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Arial"/>
              </a:rPr>
              <a:t>Вайнер Э.Н. Формирование здоровьесберегающей среды в системе общего образования// Валеология.-2004.-№1.-С.21-26.</a:t>
            </a:r>
            <a:endParaRPr b="0" lang="en-US" sz="1300" spc="-1" strike="noStrike">
              <a:solidFill>
                <a:srgbClr val="000000"/>
              </a:solidFill>
              <a:latin typeface="Gill Sans MT"/>
            </a:endParaRPr>
          </a:p>
          <a:p>
            <a:pPr marL="369720" indent="-342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Arial"/>
              </a:rPr>
              <a:t>Здоровьесберегающая деятельность школы в учебно-воспитательном процессе: проблемы и пути их решения//Школа.-2005.-№3.-С.52-87.</a:t>
            </a:r>
            <a:endParaRPr b="0" lang="en-US" sz="1300" spc="-1" strike="noStrike">
              <a:solidFill>
                <a:srgbClr val="000000"/>
              </a:solidFill>
              <a:latin typeface="Gill Sans MT"/>
            </a:endParaRPr>
          </a:p>
          <a:p>
            <a:pPr marL="369720" indent="-342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Arial"/>
              </a:rPr>
              <a:t>Лобанова Е.А. Здоровьесберегающие технологии на уроке музыки//Образование в современной школе.-2005.-№9.-С.44-57.</a:t>
            </a:r>
            <a:endParaRPr b="0" lang="en-US" sz="1300" spc="-1" strike="noStrike">
              <a:solidFill>
                <a:srgbClr val="000000"/>
              </a:solidFill>
              <a:latin typeface="Gill Sans MT"/>
            </a:endParaRPr>
          </a:p>
          <a:p>
            <a:pPr marL="369720" indent="-342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Arial"/>
              </a:rPr>
              <a:t>Лысых О.Б. Комплексная оценка результатов здоровьесберегающей деятельности в образовательных учреждениях сельского района// Валеология.-2004.-№4.-С.11-116.</a:t>
            </a:r>
            <a:endParaRPr b="0" lang="en-US" sz="1300" spc="-1" strike="noStrike">
              <a:solidFill>
                <a:srgbClr val="000000"/>
              </a:solidFill>
              <a:latin typeface="Gill Sans MT"/>
            </a:endParaRPr>
          </a:p>
          <a:p>
            <a:pPr marL="369720" indent="-342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Arial"/>
              </a:rPr>
              <a:t>Петров К. Здоровьесберегающая деятельность в школе//Воспитание школьников.-2005.-№2.-С.19-22.</a:t>
            </a:r>
            <a:endParaRPr b="0" lang="en-US" sz="1300" spc="-1" strike="noStrike">
              <a:solidFill>
                <a:srgbClr val="000000"/>
              </a:solidFill>
              <a:latin typeface="Gill Sans MT"/>
            </a:endParaRPr>
          </a:p>
          <a:p>
            <a:pPr marL="369720" indent="-342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Arial"/>
              </a:rPr>
              <a:t>Поляков С. Не ходите, дети, в школу…: Портит ли система образования здоровье учащихся и если да, то, как этого избежать?// Школьное обозрение.-2004.-№1.-С.2-7.</a:t>
            </a:r>
            <a:endParaRPr b="0" lang="en-US" sz="1300" spc="-1" strike="noStrike">
              <a:solidFill>
                <a:srgbClr val="000000"/>
              </a:solidFill>
              <a:latin typeface="Gill Sans MT"/>
            </a:endParaRPr>
          </a:p>
          <a:p>
            <a:pPr marL="369720" indent="-342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Arial"/>
              </a:rPr>
              <a:t>Степанова М., Александрова И., Седова А. С позиций сбережения детского здоровья: новые шкалы трудности учебных предметов//Директор школы.-2004.-№4.-С.87-91.</a:t>
            </a:r>
            <a:endParaRPr b="0" lang="en-US" sz="1300" spc="-1" strike="noStrike">
              <a:solidFill>
                <a:srgbClr val="000000"/>
              </a:solidFill>
              <a:latin typeface="Gill Sans MT"/>
            </a:endParaRPr>
          </a:p>
          <a:p>
            <a:pPr marL="369720" indent="-342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Arial"/>
              </a:rPr>
              <a:t>Чупаха И.В. Здоровьесберегающие технологии в образовательно-воспитательном процессе: научно-практический сб. инновац. опыта/ И.В. Чупаха, Е.З. Пужаева, И.Ю. Соколова. - М.: Илекса; Ставрополь: Сервисшкола,2001.-400с.</a:t>
            </a:r>
            <a:endParaRPr b="0" lang="en-US" sz="1300" spc="-1" strike="noStrike">
              <a:solidFill>
                <a:srgbClr val="000000"/>
              </a:solidFill>
              <a:latin typeface="Gill Sans MT"/>
            </a:endParaRPr>
          </a:p>
          <a:p>
            <a:pPr marL="369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72314"/>
                </a:solidFill>
                <a:latin typeface="Corbel"/>
              </a:rPr>
              <a:t>Электронные ресурсы</a:t>
            </a:r>
            <a:endParaRPr b="0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 type="subTitle"/>
          </p:nvPr>
        </p:nvSpPr>
        <p:spPr>
          <a:xfrm>
            <a:off x="1431720" y="1125360"/>
            <a:ext cx="7407000" cy="539928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369720" indent="-342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Здоровье и образование </a:t>
            </a:r>
            <a:r>
              <a:rPr b="0" lang="ru-RU" sz="1400" spc="-1" strike="noStrike">
                <a:solidFill>
                  <a:srgbClr val="0070c0"/>
                </a:solidFill>
                <a:latin typeface="Arial"/>
                <a:ea typeface="Arial"/>
              </a:rPr>
              <a:t>www.valeo.edu.ru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69720" indent="-342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Здоровьесберегающие технологии в начальной школе (2007 / 2008 учебный год) </a:t>
            </a:r>
            <a:r>
              <a:rPr b="0" lang="ru-RU" sz="1400" spc="-1" strike="noStrike">
                <a:solidFill>
                  <a:srgbClr val="0070c0"/>
                </a:solidFill>
                <a:latin typeface="Arial"/>
                <a:ea typeface="Arial"/>
              </a:rPr>
              <a:t>http://www.festival.1september.ru/articles/508516/ 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69720" indent="-342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Каталог образовательных интернет-ресурсов. Распорядительные и нормативные документы системы российского образования: </a:t>
            </a:r>
            <a:r>
              <a:rPr b="0" lang="ru-RU" sz="1400" spc="-1" strike="noStrike">
                <a:solidFill>
                  <a:srgbClr val="0070c0"/>
                </a:solidFill>
                <a:latin typeface="Arial"/>
                <a:ea typeface="Arial"/>
              </a:rPr>
              <a:t>http://www.orto.ru/ru/education.shtml 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69720" indent="-342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Применение здоровьесберегающих технологий в школе №1317 г.Москвы: </a:t>
            </a:r>
            <a:r>
              <a:rPr b="0" lang="ru-RU" sz="1400" spc="-1" strike="noStrike">
                <a:solidFill>
                  <a:srgbClr val="0070c0"/>
                </a:solidFill>
                <a:latin typeface="Arial"/>
                <a:ea typeface="Arial"/>
              </a:rPr>
              <a:t>http://www.specialschool.ru/health/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1402920" y="213336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70c0"/>
                </a:solidFill>
                <a:latin typeface="Corbel"/>
              </a:rPr>
              <a:t>Спасибо за внимание !</a:t>
            </a:r>
            <a:endParaRPr b="0" lang="en-US" sz="54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1331640" y="620280"/>
            <a:ext cx="7405560" cy="331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72314"/>
                </a:solidFill>
                <a:latin typeface="Arial"/>
                <a:ea typeface="Arial"/>
              </a:rPr>
              <a:t>Актуальность исследований в области здоровьесберегающих технологий обусловлена потребностью человека, общества и государства в здоровьесберегающем образовании.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8" name="Диаграмма 2" descr=""/>
          <p:cNvPicPr/>
          <p:nvPr/>
        </p:nvPicPr>
        <p:blipFill>
          <a:blip r:embed="rId1"/>
          <a:stretch/>
        </p:blipFill>
        <p:spPr>
          <a:xfrm>
            <a:off x="1496880" y="1362240"/>
            <a:ext cx="7398000" cy="5013000"/>
          </a:xfrm>
          <a:prstGeom prst="rect">
            <a:avLst/>
          </a:prstGeom>
          <a:ln w="0">
            <a:noFill/>
          </a:ln>
        </p:spPr>
      </p:pic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1431720" y="189000"/>
            <a:ext cx="74070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72314"/>
                </a:solidFill>
                <a:latin typeface="Arial"/>
                <a:ea typeface="Arial"/>
              </a:rPr>
              <a:t>Проблемы со здоровьем</a:t>
            </a:r>
            <a:br>
              <a:rPr sz="4000"/>
            </a:br>
            <a:r>
              <a:rPr b="1" lang="ru-RU" sz="4000" spc="-1" strike="noStrike">
                <a:solidFill>
                  <a:srgbClr val="572314"/>
                </a:solidFill>
                <a:latin typeface="Arial"/>
                <a:ea typeface="Arial"/>
              </a:rPr>
              <a:t>в процессе обучения</a:t>
            </a:r>
            <a:endParaRPr b="0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796000" y="4508640"/>
            <a:ext cx="3240000" cy="218592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320e04"/>
                </a:solidFill>
                <a:latin typeface="Arial"/>
                <a:ea typeface="Arial"/>
              </a:rPr>
              <a:t>     </a:t>
            </a:r>
            <a:r>
              <a:rPr b="0" lang="ru-RU" sz="1000" spc="-1" strike="noStrike">
                <a:solidFill>
                  <a:srgbClr val="320e04"/>
                </a:solidFill>
                <a:latin typeface="Arial"/>
                <a:ea typeface="Arial"/>
              </a:rPr>
              <a:t>Наиболее распространённая проблема – нарушения зрения. Статистика показывает, что количество детей, имеющих близорукость, возрастает от первоклассников до выпускников с 3,9% до 12,3%. </a:t>
            </a:r>
            <a:endParaRPr b="0" lang="en-US" sz="10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320e04"/>
                </a:solidFill>
                <a:latin typeface="Arial"/>
                <a:ea typeface="Arial"/>
              </a:rPr>
              <a:t>     </a:t>
            </a:r>
            <a:r>
              <a:rPr b="0" lang="ru-RU" sz="1000" spc="-1" strike="noStrike">
                <a:solidFill>
                  <a:srgbClr val="320e04"/>
                </a:solidFill>
                <a:latin typeface="Arial"/>
                <a:ea typeface="Arial"/>
              </a:rPr>
              <a:t>Второй проблемой, отмечаемой в данных диспансеризации детей, названы нарушения осанки. Их число увеличивается к концу обучения в школе с 1,9% до 16,8%. </a:t>
            </a:r>
            <a:endParaRPr b="0" lang="en-US" sz="10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320e04"/>
                </a:solidFill>
                <a:latin typeface="Arial"/>
                <a:ea typeface="Arial"/>
              </a:rPr>
              <a:t>      </a:t>
            </a:r>
            <a:r>
              <a:rPr b="0" lang="ru-RU" sz="1000" spc="-1" strike="noStrike">
                <a:solidFill>
                  <a:srgbClr val="320e04"/>
                </a:solidFill>
                <a:latin typeface="Arial"/>
                <a:ea typeface="Arial"/>
              </a:rPr>
              <a:t>Ещё одним тревожным показателем является рост нервно-психических расстройств. Они отмечаются у 5,6% первоклассников и возрастают до 16,4% у выпускников. </a:t>
            </a:r>
            <a:endParaRPr b="0" lang="en-US" sz="10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72314"/>
                </a:solidFill>
                <a:latin typeface="Arial"/>
                <a:ea typeface="Arial"/>
              </a:rPr>
              <a:t>Здоровье</a:t>
            </a:r>
            <a:endParaRPr b="0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 type="subTitle"/>
          </p:nvPr>
        </p:nvSpPr>
        <p:spPr>
          <a:xfrm>
            <a:off x="1431720" y="1052640"/>
            <a:ext cx="7407000" cy="54720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ru-RU" sz="1900" spc="-1" strike="noStrike">
                <a:solidFill>
                  <a:srgbClr val="000000"/>
                </a:solidFill>
                <a:latin typeface="Arial"/>
                <a:ea typeface="Arial"/>
              </a:rPr>
              <a:t>Физическое здоровье: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  <a:ea typeface="Arial"/>
              </a:rPr>
              <a:t>- это совершенство саморегуляции в организме, гармония физиологических процессов, максимальная адаптация к окружающей среде (педагогическое определение);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ru-RU" sz="1900" spc="-1" strike="noStrike">
                <a:solidFill>
                  <a:srgbClr val="000000"/>
                </a:solidFill>
                <a:latin typeface="Arial"/>
                <a:ea typeface="Arial"/>
              </a:rPr>
              <a:t>Психическое здоровье: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  <a:ea typeface="Arial"/>
              </a:rPr>
              <a:t>- это высокое сознание, развитое мышление, большая внутренняя и моральная сила, побуждающая к созидательной деятельности (педагогическое определение);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ru-RU" sz="1900" spc="-1" strike="noStrike">
                <a:solidFill>
                  <a:srgbClr val="000000"/>
                </a:solidFill>
                <a:latin typeface="Arial"/>
                <a:ea typeface="Arial"/>
              </a:rPr>
              <a:t>Нравственное здоровье: 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  <a:ea typeface="Arial"/>
              </a:rPr>
              <a:t>- это комплекс характеристик мотивационной и потребностно-информативной сферы в жизнедеятельности, основу которого определяет система ценностей, установок и мотивов поведения индивида в обществе.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ru-RU" sz="1900" spc="-1" strike="noStrike">
                <a:solidFill>
                  <a:srgbClr val="000000"/>
                </a:solidFill>
                <a:latin typeface="Arial"/>
                <a:ea typeface="Arial"/>
              </a:rPr>
              <a:t>Духовное здоровье: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  <a:ea typeface="Arial"/>
              </a:rPr>
              <a:t>- система ценностей и убеждений.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1403280" y="259920"/>
            <a:ext cx="740736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72314"/>
                </a:solidFill>
                <a:latin typeface="Arial"/>
                <a:ea typeface="Arial"/>
              </a:rPr>
              <a:t> </a:t>
            </a:r>
            <a:r>
              <a:rPr b="1" lang="ru-RU" sz="4000" spc="-1" strike="noStrike">
                <a:solidFill>
                  <a:srgbClr val="572314"/>
                </a:solidFill>
                <a:latin typeface="Arial"/>
                <a:ea typeface="Arial"/>
              </a:rPr>
              <a:t>Составляющие здорового образа жизни:</a:t>
            </a:r>
            <a:endParaRPr b="0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subTitle"/>
          </p:nvPr>
        </p:nvSpPr>
        <p:spPr>
          <a:xfrm>
            <a:off x="1403280" y="1628280"/>
            <a:ext cx="7407360" cy="453708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- благоприятное социальное окружение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- духовно-нравственное благополучие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- оптимальный двигательный режим (культура движений)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- закаливание организма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- рациональное питание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- личная гигиена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- положительные эмоции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72314"/>
                </a:solidFill>
                <a:latin typeface="Arial"/>
                <a:ea typeface="Arial"/>
              </a:rPr>
              <a:t>Здоровьесберегающая технология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subTitle"/>
          </p:nvPr>
        </p:nvSpPr>
        <p:spPr>
          <a:xfrm>
            <a:off x="1431720" y="1267920"/>
            <a:ext cx="7407000" cy="525636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Здоровьесберегающая технология, по мнению В.Д. Сонькина, - это: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  •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условия обучения ребенка в школе (отсутствие стресса, адекватность требований, адекватность методик обучения и воспитания);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  •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рациональная организация   учебного процесса (в соответствии с возрастными, половыми, индивидуальными особенностями и гигиеническими требованиями);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  •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соответствие учебной и физической нагрузки возрастным возможностям ребенка;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  •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необходимый, достаточный и рационально организованный двигательный режим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1431720" y="115560"/>
            <a:ext cx="74070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72314"/>
                </a:solidFill>
                <a:latin typeface="Arial"/>
                <a:ea typeface="Arial"/>
              </a:rPr>
              <a:t>Анализ проведения урока с позиций здоровьесбережения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subTitle"/>
          </p:nvPr>
        </p:nvSpPr>
        <p:spPr>
          <a:xfrm>
            <a:off x="1431720" y="1267920"/>
            <a:ext cx="7407000" cy="525636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  <a:ea typeface="Arial"/>
              </a:rPr>
              <a:t>Педагогу в организации и проведении  урока необходимо учитывать: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  <a:ea typeface="Arial"/>
              </a:rPr>
              <a:t>1) обстановку и гигиенические условия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  <a:ea typeface="Arial"/>
              </a:rPr>
              <a:t>2) число видов учебной деятельности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  <a:ea typeface="Arial"/>
              </a:rPr>
              <a:t>3) среднюю продолжительность и частоту чередования различных видов учебной деятельности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  <a:ea typeface="Arial"/>
              </a:rPr>
              <a:t>5) чередование видов преподавания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  <a:ea typeface="Arial"/>
              </a:rPr>
              <a:t>6) активизации инициативы и творческого самовыражения учащихся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  <a:ea typeface="Arial"/>
              </a:rPr>
              <a:t>7) применения ТСО в соответствии с гигиеническими нормами 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  <a:ea typeface="Arial"/>
              </a:rPr>
              <a:t>8) позы учащихся, чередование поз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  <a:ea typeface="Arial"/>
              </a:rPr>
              <a:t>9) физкультминутки на уроке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  <a:ea typeface="Arial"/>
              </a:rPr>
              <a:t>10) наличие у учащихся мотивации к учебной деятельности на уроке 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  <a:ea typeface="Arial"/>
              </a:rPr>
              <a:t>11) наличие в содержательной части урока вопросов, связанных со здоровьем и здоровым образом жизни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  <a:ea typeface="Arial"/>
              </a:rPr>
              <a:t>12) психологический климат на уроке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  <a:ea typeface="Arial"/>
              </a:rPr>
              <a:t>13) наличие на уроке эмоциональных разрядок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  <a:ea typeface="Arial"/>
              </a:rPr>
              <a:t>14) темп и особенности окончания урока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431720" y="115920"/>
            <a:ext cx="74070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72314"/>
                </a:solidFill>
                <a:latin typeface="Arial"/>
                <a:ea typeface="Arial"/>
              </a:rPr>
              <a:t>Главная цель работы педагога в системе здоровьесберегающих технологий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1431720" y="2133360"/>
            <a:ext cx="7407000" cy="439092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369720" indent="-34272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Сохранить потенциал ребенка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9720" indent="-34272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Сохранить физическое и психическое здоровье обучающегося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9720" indent="-34272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Создать условия для гармоничного развития ребенка в условиях современного обучающего процесса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1403280" y="189000"/>
            <a:ext cx="740736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572314"/>
                </a:solidFill>
                <a:latin typeface="Arial"/>
                <a:ea typeface="Arial"/>
              </a:rPr>
              <a:t>Фото</a:t>
            </a: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subTitle"/>
          </p:nvPr>
        </p:nvSpPr>
        <p:spPr>
          <a:xfrm>
            <a:off x="1431720" y="2133360"/>
            <a:ext cx="7407000" cy="439092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83" name="Picture 14" descr="D:\A\Иришка\Все по работе (Ира)\Доклады для школы\Здоровьесберегающая технология образовательного процесса\К презентации\IMG_1411_новый размер_новый размер.JPG"/>
          <p:cNvPicPr/>
          <p:nvPr/>
        </p:nvPicPr>
        <p:blipFill>
          <a:blip r:embed="rId1"/>
          <a:stretch/>
        </p:blipFill>
        <p:spPr>
          <a:xfrm>
            <a:off x="1257480" y="907920"/>
            <a:ext cx="3827160" cy="2872080"/>
          </a:xfrm>
          <a:prstGeom prst="rect">
            <a:avLst/>
          </a:prstGeom>
          <a:ln w="0">
            <a:noFill/>
          </a:ln>
        </p:spPr>
      </p:pic>
      <p:pic>
        <p:nvPicPr>
          <p:cNvPr id="584" name="Picture 15" descr="D:\A\Иришка\Все по работе (Ира)\Доклады для школы\Здоровьесберегающая технология образовательного процесса\К презентации\IMG_1433_новый размер_новый размер.JPG"/>
          <p:cNvPicPr/>
          <p:nvPr/>
        </p:nvPicPr>
        <p:blipFill>
          <a:blip r:embed="rId2"/>
          <a:stretch/>
        </p:blipFill>
        <p:spPr>
          <a:xfrm>
            <a:off x="5084640" y="907920"/>
            <a:ext cx="3829320" cy="2872080"/>
          </a:xfrm>
          <a:prstGeom prst="rect">
            <a:avLst/>
          </a:prstGeom>
          <a:ln w="0">
            <a:noFill/>
          </a:ln>
        </p:spPr>
      </p:pic>
      <p:pic>
        <p:nvPicPr>
          <p:cNvPr id="585" name="Picture 16" descr="D:\A\Иришка\Все по работе (Ира)\Доклады для школы\Здоровьесберегающая технология образовательного процесса\К презентации\IMG_1436_новый размер_новый размер.JPG"/>
          <p:cNvPicPr/>
          <p:nvPr/>
        </p:nvPicPr>
        <p:blipFill>
          <a:blip r:embed="rId3"/>
          <a:stretch/>
        </p:blipFill>
        <p:spPr>
          <a:xfrm>
            <a:off x="1257480" y="3860640"/>
            <a:ext cx="3827160" cy="2872080"/>
          </a:xfrm>
          <a:prstGeom prst="rect">
            <a:avLst/>
          </a:prstGeom>
          <a:ln w="0">
            <a:noFill/>
          </a:ln>
        </p:spPr>
      </p:pic>
      <p:pic>
        <p:nvPicPr>
          <p:cNvPr id="586" name="Picture 17" descr="D:\A\Иришка\Все по работе (Ира)\Доклады для школы\Здоровьесберегающая технология образовательного процесса\К презентации\IMG_1449_новый размер_новый размер.JPG"/>
          <p:cNvPicPr/>
          <p:nvPr/>
        </p:nvPicPr>
        <p:blipFill>
          <a:blip r:embed="rId4"/>
          <a:stretch/>
        </p:blipFill>
        <p:spPr>
          <a:xfrm>
            <a:off x="5084640" y="3860640"/>
            <a:ext cx="3829320" cy="28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0:12:34Z</dcterms:created>
  <dc:creator>Алексей</dc:creator>
  <dc:description/>
  <dc:language>en-US</dc:language>
  <cp:lastModifiedBy>Алексей</cp:lastModifiedBy>
  <cp:lastPrinted>2017-01-07T11:27:30Z</cp:lastPrinted>
  <dcterms:modified xsi:type="dcterms:W3CDTF">2019-06-23T13:33:41Z</dcterms:modified>
  <cp:revision>19</cp:revision>
  <dc:subject/>
  <dc:title>Здоровьесберегающие образовательные технологии в начальной школе</dc:title>
</cp:coreProperties>
</file>