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23.jpeg" ContentType="image/jpeg"/>
  <Override PartName="/ppt/media/image22.png" ContentType="image/png"/>
  <Override PartName="/ppt/media/image1.jpeg" ContentType="image/jpeg"/>
  <Override PartName="/ppt/media/image19.gif" ContentType="image/gif"/>
  <Override PartName="/ppt/media/image21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4.gif" ContentType="image/gif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7762-D26D-4CC1-939E-F7802AEA8A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9D0B-D541-4036-8967-F65DD7A74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5E0D-5C19-479B-B41E-7D9BEDD34E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F9F7-0AC3-417F-B6F1-B78DAC96C2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05C8-C697-4393-BFA3-C3701C9FB3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5610-CED6-4303-9B2C-04D92DC1AC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88A4-9277-4004-A995-61A24674C2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48FE-2DDE-42F3-AAFD-5C84E6A30F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61A0-5399-49E0-A55E-777A61AED0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F782-99CA-4BB4-BCDB-98F68BBBA4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6D8B-AB90-479B-A5B3-45185CDFC0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130A-2C21-4459-9354-737E59353C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BB6A-0B77-428E-82BD-174C99D722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6051-E1E1-4198-862D-FB24F3C67B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6BC2-6DD1-4F54-931B-9DA823890C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9F4C-CDB9-4B95-8A97-0F08F79676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599E-6DC1-494D-832B-05A12C2C41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534-4258-4592-96F3-AF11E81D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848-882C-4F88-BC27-4167AE61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FE579-C444-4032-90DA-F37F0A21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2881D-EE2B-42D6-B37E-C4051AEB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DBE13-7A45-480A-8F4E-94B9A85D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37038-2413-4E1D-8292-035314F5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64B38-7748-4FA9-8C5B-0896ACDB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E3B9D-5027-41E0-9C61-FAD868EE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36E33-6697-4B3F-84B0-36A86889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F81FF-A70F-44D2-8335-6DC3C816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E5303-166C-4D83-8054-D6943F19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CC458-87E6-4F17-B82C-5A08CA19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83E-12A3-4116-A275-017E9C6B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94384-083B-4429-A0C6-ED106566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F7E9B-D353-492C-AE29-E3D2AEDE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54CA3-B8EB-4C8E-9D72-93E64CD8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4593E-AB97-47D9-AA3A-D9AAD9F4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50A10-5299-4188-836E-F36C3B92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73E97-1ADC-4A31-9C32-234BD19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5CFCB-72DC-4E99-9628-87019F2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14363-4905-465D-9169-CDCC530F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357FA-15D5-4735-BACB-5A8A678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B88BF-9F9A-4350-AADC-FC42CFE7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E75-D9AA-4B9C-AD2C-FE9B1139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E6B8A-6EA5-4B89-99BE-8DE6A77E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02675-A8F2-4BA0-AC62-6388DD0E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C1E21-80C3-485C-83BF-CB3474E4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2EA7F-1376-4195-B423-DF1B7AED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07998-0CA4-452F-A5B1-06920038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F731F-C9C1-4A7E-B3B1-FC5851AC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00928-E671-4544-913B-6B1B30DB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40D0F-3357-435F-AA0B-37B89D6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8509F-63F1-409B-9DF7-6B85D316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FAE3C-28AF-4EBB-AAC8-C3C0EDA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7A7B-DFF3-40DC-B5FB-66E96D4E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2192E-0EB9-49CE-A73C-AB22CF3B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AFB42-5CC5-4E14-A860-B9D56691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34BA0-16B6-4210-91B5-6850F89A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E0D1F-6DBB-460A-8C96-317261CC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A9BA5-5913-4826-B9D4-3C533DE4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69EA0-D051-4633-89C8-F53FE0D2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EE06A-08D4-4076-9FA0-E884371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F32E8-E0AA-434E-9C60-F775A61F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A788A-49CF-4334-A58F-0E10AB76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0EBCC-A2F9-402A-9C34-3E5C5E2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AAE4-7D91-4A7C-AD62-7984C540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17F00-1196-4FBC-AD1C-49827322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6C3A7-D64A-4B48-947A-4A95D74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23C58-F624-4613-ADD0-515CFA66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AF0AF-03AF-4776-8863-B8CD7BE2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6342A-7432-46BD-B872-866D7179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9596-F6B6-4F06-A2D2-62B24359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498B-4483-4FDD-8B5A-9FF83E15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33A1-DAE2-435D-BD1D-1080E8BC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97BF-4DE5-42C0-A580-8997BE10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1AC3-E2EF-4206-9575-CCD7B035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1ED-48CE-479F-AEDF-6A394CE3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90A3-7999-4B27-BFA1-045C463D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7D7D-98AD-447D-B514-07520B1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D7C7-E7A9-4F78-BE9B-74890DBC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9A21-1C26-4BD8-A39D-110E1095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9404-1DF5-4C56-8353-37C75DB7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04C4-4372-4A29-AAF3-8CD80BEF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3D4E-B088-491E-B0DB-4B480C8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3EF35-F30A-4E1E-B08C-A9A44DEC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D036-AA3D-4B66-9565-F51E5AF5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3325-6EA2-4DFC-B6B4-AB23CC23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B21-E296-4A24-849A-A64F1829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5609-20AD-4746-9A53-979515F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3641-A948-4654-9727-A87ACB1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0D38-E618-4FEC-8D8E-DECEE6A2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CF0E-2B6A-44F3-9EE4-177D9FD3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847C7-B6A2-4A34-AA88-DBCDF093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EF28-B0F7-4C99-BF38-B5AE82D4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63F6-BABB-4F41-A6E8-CDB3DC5F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3125-8098-411C-A037-01F64000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768E-49D8-4EFB-9D0B-5D975987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C02B6-C675-4385-9AEB-66FD652F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D0F-BF61-4D2B-BDB8-EB8687FF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E1888-CA17-40B5-B46E-88D5FD10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E241-5FE3-47E4-9ED3-B2B40A72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DE43A-B2EE-41DC-9FB2-9E2D486C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8E7E0-0868-4F84-9C62-2B6DE4DD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5274-158C-4651-A95D-2430F458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0B20-648B-43BF-A8FF-7D71472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B4DC-DFE7-479D-836A-301F2AD1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56E77-7CCE-488E-94C1-83CFD589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4C89-6AD0-43FB-B2DA-A5CB6D36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8BBF-C2F7-469B-9451-45726698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FEB-B4BD-4526-9FFF-4CAFA85F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32FDE-9184-4DED-842E-C889A0C7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633B-BCEA-44E4-A62C-E85852A0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EB7B-8367-47DB-8DC6-78549205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2B1EB-DA20-4F25-83A8-60E42F7D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838C6-EDB4-4D17-BBC0-E34819F7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4E0A7-7A76-4749-926B-295F3354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D411-73B0-46CB-A15A-E63D75C1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D65EE-E752-4B53-B915-1B9181F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FA3E-870F-48CA-AA55-5AE542C8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C423D-4DB6-4961-908B-16763160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FAC-188B-48A3-8EC4-A3BD8D23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C598-C9BA-428D-8534-C2FE113C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C62DF-73AF-4097-864F-3A4369DB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9D96A-38A2-43F4-8B18-85BDA2A2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63DB6-BDBE-4C2B-9C93-2DD4AE3A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7C92B-5729-4C85-BFB0-DCFD07D4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4ACD9-F9F2-4099-ACED-DCA4C327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7CD15-570D-4821-9F83-72581029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DEA9-D254-4F86-A221-015927C6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3A222-D982-4A30-AA5F-504C4AD4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808AF-1124-4228-9275-6E3A438A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52C-2F9B-4190-ABCF-0682B696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CC85-85E5-40A7-A3F3-3B4B7BF3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98A75-11DA-4A67-9A5D-32323162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D3838-055F-4241-A859-9F720A60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79389-A287-4B3A-A06D-F3B0D3E5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23514-6AEC-4340-8855-9C5A0382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A0155-E36C-448E-9691-009B8BCB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BEBCB-7AFD-4D79-8C8D-36C4DF98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A3616-D1AE-4E82-8D9A-64D66FD1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7FE4F-794E-473B-9DDC-08C5E0A3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35EB6-B31E-4B03-A319-8BF53089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E84-309C-4CB9-BB89-14990F2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29D78-1886-4778-A35A-7A82E567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8D52E-5C02-45D5-88D8-7290D2F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E9B0-70D4-4AE5-91CB-6D6015D0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EA96-C974-45AF-9A43-AB35F1C4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58A6-EEEF-459C-B7DC-4A921C9B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50E03-11DB-47DF-AC89-182C28F2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32EA9-ABAC-45DD-9803-328499D6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143EC-2686-4FBB-9834-43F215E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EF2CF-B30B-454A-B341-889F2098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C4958-59EF-4AF1-9E7D-750C8846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F9D-28FE-46BD-AE11-FE4DDB0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82D6E-0C71-4939-93B3-DF29F815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5037-5B2A-485C-9866-C39FE21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804A4-7293-4D89-9088-74CA3E85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7A07C-489A-4408-83D4-D179346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01AB1-EAD7-4478-B193-7235A5E7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65185-C004-47ED-940D-EF1D8075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D3B5A-398C-42AC-8495-8EC162BB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C334A-FC91-4C79-9EB6-7F89448B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AAA7A-6F06-4424-9687-1F0DB73E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91205-25C7-416A-A09D-234522C5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5670-8A20-40DF-9877-C86D86A3F9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C745-7DF4-428F-99B6-88A9C5B89C2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09BA-620D-42C4-9D66-959689FE43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B8EC-2DDB-4C9E-AAD7-A622E755339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E39D-471B-446E-AFAA-63B6F009A89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DE50-2306-4A56-8A72-F34CD3B13B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4C4B-DA20-4270-9D6A-DBCF349FCA0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08CA-69AB-43EF-9BBE-2536798E55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EC40-1323-4B1A-8B4F-D81DDC79DD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3A3F-11E7-4DA9-B4C5-CC384A1F7F1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C3C8-AECF-4D8C-8E89-177EBF452A0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2178-0012-4B96-ACA6-700558814B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74880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Arial"/>
                <a:ea typeface="Arial"/>
              </a:rPr>
              <a:t>Здоровьесберегающие образовательные технологии в начальной школ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Воспитатель ГПД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ГБОУ гимназии №20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Федорова Ирина Аркадьевн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07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Arial"/>
                <a:ea typeface="Arial"/>
              </a:rPr>
              <a:t>Фото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468080" y="2203200"/>
            <a:ext cx="7405560" cy="4392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9" name="Picture 3" descr="D:\A\Иришка\Все по работе (Ира)\Доклады для школы\Здоровьесберегающая технология образовательного процесса\К презентации\IMG_1473_новый размер_новый размер.JPG"/>
          <p:cNvPicPr/>
          <p:nvPr/>
        </p:nvPicPr>
        <p:blipFill>
          <a:blip r:embed="rId1"/>
          <a:stretch/>
        </p:blipFill>
        <p:spPr>
          <a:xfrm>
            <a:off x="5219640" y="3116160"/>
            <a:ext cx="3483000" cy="34815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D:\A\Иришка\Все по работе (Ира)\Доклады для школы\Здоровьесберегающая технология образовательного процесса\К презентации\IMG_1488_новый размер_новый размер.JPG"/>
          <p:cNvPicPr/>
          <p:nvPr/>
        </p:nvPicPr>
        <p:blipFill>
          <a:blip r:embed="rId2"/>
          <a:stretch/>
        </p:blipFill>
        <p:spPr>
          <a:xfrm>
            <a:off x="1476360" y="338148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D:\A\Иришка\Все по работе (Ира)\Доклады для школы\Здоровьесберегающая технология образовательного процесса\К презентации\IMG_1494_новый размер_новый размер.JPG"/>
          <p:cNvPicPr/>
          <p:nvPr/>
        </p:nvPicPr>
        <p:blipFill>
          <a:blip r:embed="rId3"/>
          <a:stretch/>
        </p:blipFill>
        <p:spPr>
          <a:xfrm>
            <a:off x="4427640" y="83664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D:\A\Иришка\Все по работе (Ира)\Доклады для школы\Здоровьесберегающая технология образовательного процесса\К презентации\IMG_1497_новый размер_новый размер.JPG"/>
          <p:cNvPicPr/>
          <p:nvPr/>
        </p:nvPicPr>
        <p:blipFill>
          <a:blip r:embed="rId4"/>
          <a:stretch/>
        </p:blipFill>
        <p:spPr>
          <a:xfrm>
            <a:off x="1258920" y="836640"/>
            <a:ext cx="2846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07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Arial"/>
                <a:ea typeface="Arial"/>
              </a:rPr>
              <a:t>Фото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468080" y="2203200"/>
            <a:ext cx="7405560" cy="4392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5" name="Picture 2" descr="D:\A\Иришка\Все по работе (Ира)\Доклады для школы\Здоровьесберегающая технология образовательного процесса\К презентации\IMG_1500_новый размер_новый размер.JPG"/>
          <p:cNvPicPr/>
          <p:nvPr/>
        </p:nvPicPr>
        <p:blipFill>
          <a:blip r:embed="rId1"/>
          <a:stretch/>
        </p:blipFill>
        <p:spPr>
          <a:xfrm>
            <a:off x="1495440" y="981000"/>
            <a:ext cx="3454560" cy="34545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D:\A\Иришка\Все по работе (Ира)\Доклады для школы\Здоровьесберегающая технология образовательного процесса\К презентации\IMG_1503_новый размер_новый размер.JPG"/>
          <p:cNvPicPr/>
          <p:nvPr/>
        </p:nvPicPr>
        <p:blipFill>
          <a:blip r:embed="rId2"/>
          <a:stretch/>
        </p:blipFill>
        <p:spPr>
          <a:xfrm>
            <a:off x="1258920" y="3338640"/>
            <a:ext cx="3241800" cy="3240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D:\A\Иришка\Все по работе (Ира)\Доклады для школы\Здоровьесберегающая технология образовательного процесса\К презентации\Рыцарский турнир 8_новый размер_новый размер.JPG"/>
          <p:cNvPicPr/>
          <p:nvPr/>
        </p:nvPicPr>
        <p:blipFill>
          <a:blip r:embed="rId3"/>
          <a:srcRect l="0" t="0" r="0" b="32399"/>
          <a:stretch/>
        </p:blipFill>
        <p:spPr>
          <a:xfrm>
            <a:off x="4788000" y="3701880"/>
            <a:ext cx="3886200" cy="2627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D:\A\Иришка\Все по работе (Ира)\Доклады для школы\Здоровьесберегающая технология образовательного процесса\К презентации\Рыцарский турнир 18_новый размер_новый размер.JPG"/>
          <p:cNvPicPr/>
          <p:nvPr/>
        </p:nvPicPr>
        <p:blipFill>
          <a:blip r:embed="rId4"/>
          <a:srcRect l="0" t="17675" r="0" b="19182"/>
          <a:stretch/>
        </p:blipFill>
        <p:spPr>
          <a:xfrm>
            <a:off x="5148360" y="909720"/>
            <a:ext cx="38862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d9b21043f2fe"/>
          <p:cNvPicPr/>
          <p:nvPr/>
        </p:nvPicPr>
        <p:blipFill>
          <a:blip r:embed="rId1"/>
          <a:stretch/>
        </p:blipFill>
        <p:spPr>
          <a:xfrm>
            <a:off x="0" y="0"/>
            <a:ext cx="477684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aimi_ru_5"/>
          <p:cNvPicPr/>
          <p:nvPr/>
        </p:nvPicPr>
        <p:blipFill>
          <a:blip r:embed="rId2"/>
          <a:stretch/>
        </p:blipFill>
        <p:spPr>
          <a:xfrm rot="8323800">
            <a:off x="5105520" y="213336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87"/>
          <p:cNvPicPr/>
          <p:nvPr/>
        </p:nvPicPr>
        <p:blipFill>
          <a:blip r:embed="rId3"/>
          <a:stretch/>
        </p:blipFill>
        <p:spPr>
          <a:xfrm>
            <a:off x="3886200" y="304920"/>
            <a:ext cx="1447920" cy="1277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0009c"/>
          <p:cNvPicPr/>
          <p:nvPr/>
        </p:nvPicPr>
        <p:blipFill>
          <a:blip r:embed="rId4"/>
          <a:stretch/>
        </p:blipFill>
        <p:spPr>
          <a:xfrm>
            <a:off x="4495680" y="5029200"/>
            <a:ext cx="1698840" cy="18288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3165d8963c63"/>
          <p:cNvPicPr/>
          <p:nvPr/>
        </p:nvPicPr>
        <p:blipFill>
          <a:blip r:embed="rId5"/>
          <a:stretch/>
        </p:blipFill>
        <p:spPr>
          <a:xfrm>
            <a:off x="6019920" y="4734000"/>
            <a:ext cx="1609560" cy="2124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0009c"/>
          <p:cNvPicPr/>
          <p:nvPr/>
        </p:nvPicPr>
        <p:blipFill>
          <a:blip r:embed="rId6"/>
          <a:stretch/>
        </p:blipFill>
        <p:spPr>
          <a:xfrm>
            <a:off x="7445520" y="5029200"/>
            <a:ext cx="1698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0 C 0.04288 -0.0412 0.10052 -0.03356 0.1283 0.01782 C 0.16077 0.07801 0.13351 0.13681 0.11511 0.16875 L 0.08854 0.20787 C 0.07031 0.23981 0.04445 0.30023 0.08091 0.36875 C 0.10417 0.41227 0.16632 0.42778 0.20938 0.38657 C 0.25209 0.34514 0.26059 0.26227 0.23698 0.21852 C 0.2 0.15093 0.14861 0.16505 0.12014 0.1787 L 0.0842 0.19861 C 0.05538 0.21204 0.00504 0.22731 -0.02778 0.16782 C -0.05521 0.11574 -0.04253 0.04097 -2.22222E-006 0 Z">
                                      <p:cBhvr>
                                        <p:cTn id="6" dur="5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C 0.23282 -3.33333E-006 0.42292 0.16505 0.42292 0.36875 C 0.42292 0.57199 0.23282 0.7375 -3.33333E-006 0.7375 C -0.23333 0.7375 -0.42291 0.57199 -0.42291 0.36875 C -0.42291 0.16505 -0.23333 -3.33333E-006 -3.33333E-006 -3.33333E-006 Z">
                                      <p:cBhvr>
                                        <p:cTn id="10" dur="5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38130-web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a34"/>
          <p:cNvPicPr/>
          <p:nvPr/>
        </p:nvPicPr>
        <p:blipFill>
          <a:blip r:embed="rId2"/>
          <a:stretch/>
        </p:blipFill>
        <p:spPr>
          <a:xfrm rot="19225800">
            <a:off x="228240" y="151920"/>
            <a:ext cx="1200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5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069 C 0.01441 -0.02477 0.06962 -0.04768 0.08872 -0.04768 C 0.21025 -0.04768 0.3349 0.33148 0.3349 0.71111 C 0.3349 0.51875 0.39775 0.33148 0.45678 0.33148 C 0.51945 0.33148 0.57796 0.52176 0.57796 0.71111 C 0.57796 0.61621 0.60938 0.51875 0.64063 0.51875 C 0.67171 0.51875 0.70296 0.61366 0.70296 0.71111 C 0.70296 0.66181 0.71823 0.61621 0.73403 0.61621 C 0.74948 0.61621 0.7658 0.66412 0.7658 0.71111 C 0.7658 0.68588 0.77379 0.66181 0.78091 0.66181 C 0.78542 0.66181 0.79705 0.68588 0.79705 0.71111 C 0.79705 0.69792 0.80053 0.68588 0.80435 0.68588 C 0.80435 0.68866 0.81303 0.69792 0.81303 0.71111 C 0.81303 0.70394 0.81303 0.69792 0.81719 0.69792 C 0.81719 0.70093 0.82136 0.7044 0.82136 0.71111 C 0.82136 0.70625 0.82136 0.70394 0.82136 0.70093 C 0.82535 0.70093 0.82535 0.7044 0.82535 0.70718 C 0.829 0.70718 0.829 0.7044 0.829 0.70093 C 0.83438 0.70093 0.83438 0.7044 0.83438 0.70718 C 0.83438 0.70741 5E-006 -0.00069 5E-006 -0.00046 Z">
                                      <p:cBhvr>
                                        <p:cTn id="16" dur="5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431720" y="1125360"/>
            <a:ext cx="7407000" cy="5399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арасева Т.В. Современные аспекты реализации здоровьесберегающих технологий // «Начальная школа», 2005. - № 11. С. 75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Львова ИМ. Физкультминутки // «Начальная школа», 2005. - № 10. С. 86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ронов А.А. Профилактика нарушения осанки и укрепление мышечного корсета // «Начальная школа», 2006, № 3. С. 53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айнер Э.Н. Формирование здоровьесберегающей среды в системе общего образования// Валеология.-2004.-№1.-С.21-26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доровьесберегающая деятельность школы в учебно-воспитательном процессе: проблемы и пути их решения//Школа.-2005.-№3.-С.52-87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Лобанова Е.А. Здоровьесберегающие технологии на уроке музыки//Образование в современной школе.-2005.-№9.-С.44-57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Лысых О.Б. Комплексная оценка результатов здоровьесберегающей деятельности в образовательных учреждениях сельского района// Валеология.-2004.-№4.-С.11-116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етров К. Здоровьесберегающая деятельность в школе//Воспитание школьников.-2005.-№2.-С.19-22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яков С. Не ходите, дети, в школу…: Портит ли система образования здоровье учащихся и если да, то, как этого избежать?// Школьное обозрение.-2004.-№1.-С.2-7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епанова М., Александрова И., Седова А. С позиций сбережения детского здоровья: новые шкалы трудности учебных предметов//Директор школы.-2004.-№4.-С.87-91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Чупаха И.В. Здоровьесберегающие технологии в образовательно-воспитательном процессе: научно-практический сб. инновац. опыта/ И.В. Чупаха, Е.З. Пужаева, И.Ю. Соколова. - М.: Илекса; Ставрополь: Сервисшкола,2001.-400с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Электронные ресурсы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431720" y="1125360"/>
            <a:ext cx="7407000" cy="5399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доровье и образовани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www.valeo.edu.r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доровьесберегающие технологии в начальной школе (2007 / 2008 учебный год)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http://www.festival.1september.ru/articles/508516/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талог образовательных интернет-ресурсов. Распорядительные и нормативные документы системы российского образования: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http://www.orto.ru/ru/education.shtml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здоровьесберегающих технологий в школе №1317 г.Москвы: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http://www.specialschool.ru/health/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02920" y="2133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rbel"/>
              </a:rPr>
              <a:t>Спасибо за внимание !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40556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Актуальность исследований в области здоровьесберегающих технологий обусловлена потребностью человека, общества и государства в здоровьесберегающем образовании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Диаграмма 2" descr=""/>
          <p:cNvPicPr/>
          <p:nvPr/>
        </p:nvPicPr>
        <p:blipFill>
          <a:blip r:embed="rId1"/>
          <a:stretch/>
        </p:blipFill>
        <p:spPr>
          <a:xfrm>
            <a:off x="1496880" y="1362240"/>
            <a:ext cx="7398000" cy="5013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1720" y="189000"/>
            <a:ext cx="7407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Проблемы со здоровьем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в процессе обучения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796000" y="4508640"/>
            <a:ext cx="3240000" cy="2185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     </a:t>
            </a: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Наиболее распространённая проблема – нарушения зрения. Статистика показывает, что количество детей, имеющих близорукость, возрастает от первоклассников до выпускников с 3,9% до 12,3%. 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     </a:t>
            </a: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Второй проблемой, отмечаемой в данных диспансеризации детей, названы нарушения осанки. Их число увеличивается к концу обучения в школе с 1,9% до 16,8%. 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      </a:t>
            </a: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Ещё одним тревожным показателем является рост нервно-психических расстройств. Они отмечаются у 5,6% первоклассников и возрастают до 16,4% у выпускников. 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Здоровье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431720" y="1052640"/>
            <a:ext cx="7407000" cy="54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здоровье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- это совершенство саморегуляции в организме, гармония физиологических процессов, максимальная адаптация к окружающей среде (педагогическое определение)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сихическое здоровье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- это высокое сознание, развитое мышление, большая внутренняя и моральная сила, побуждающая к созидательной деятельности (педагогическое определение)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Нравственное здоровье: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- это комплекс характеристик мотивационной и потребностно-информативной сферы в жизнедеятельности, основу которого определяет система ценностей, установок и мотивов поведения индивида в обществе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Духовное здоровье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- система ценностей и убеждений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07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Составляющие здорового образа жизни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7407360" cy="4537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благоприятное социальное окружение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духовно-нравственное благополучие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птимальный двигательный режим (культура движений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закаливание организм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рациональное питание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личная гигиен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Здоровьесберегающая технолог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431720" y="1267920"/>
            <a:ext cx="7407000" cy="525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доровьесберегающая технология, по мнению В.Д. Сонькина, - это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ловия обучения ребенка в школе (отсутствие стресса, адекватность требований, адекватность методик обучения и воспитания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ая организация   учебного процесса (в соответствии с возрастными, половыми, индивидуальными особенностями и гигиеническими требованиями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ие учебной и физической нагрузки возрастным возможностям ребенка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ый, достаточный и рационально организованный двигательный режи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07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Анализ проведения урока с позиций здоровьесбереж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431720" y="1267920"/>
            <a:ext cx="7407000" cy="525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дагогу в организации и проведении  урока необходимо учитывать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) обстановку и гигиенические условия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2) число видов учебной деятельности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3) среднюю продолжительность и частоту чередования различных видов учебной деятельности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5) чередование видов преподавания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6) активизации инициативы и творческого самовыражения учащихся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7) применения ТСО в соответствии с гигиеническими нормами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8) позы учащихся, чередование поз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9) физкультминутки на уроке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0) наличие у учащихся мотивации к учебной деятельности на уроке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1) наличие в содержательной части урока вопросов, связанных со здоровьем и здоровым образом жизни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2) психологический климат на уроке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3) наличие на уроке эмоциональных разрядок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4) темп и особенности окончания урока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1720" y="115920"/>
            <a:ext cx="7407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Главная цель работы педагога в системе здоровьесберегающих технологий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431720" y="2133360"/>
            <a:ext cx="7407000" cy="439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36972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хранить потенциал ребен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хранить физическое и психическое здоровье обучающегося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ть условия для гармоничного развития ребенка в условиях современного обучающего процесс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07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Arial"/>
                <a:ea typeface="Arial"/>
              </a:rPr>
              <a:t>Фото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431720" y="2133360"/>
            <a:ext cx="7407000" cy="439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3" name="Picture 14" descr="D:\A\Иришка\Все по работе (Ира)\Доклады для школы\Здоровьесберегающая технология образовательного процесса\К презентации\IMG_1411_новый размер_новый размер.JPG"/>
          <p:cNvPicPr/>
          <p:nvPr/>
        </p:nvPicPr>
        <p:blipFill>
          <a:blip r:embed="rId1"/>
          <a:stretch/>
        </p:blipFill>
        <p:spPr>
          <a:xfrm>
            <a:off x="1257480" y="907920"/>
            <a:ext cx="3827160" cy="28720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5" descr="D:\A\Иришка\Все по работе (Ира)\Доклады для школы\Здоровьесберегающая технология образовательного процесса\К презентации\IMG_1433_новый размер_новый размер.JPG"/>
          <p:cNvPicPr/>
          <p:nvPr/>
        </p:nvPicPr>
        <p:blipFill>
          <a:blip r:embed="rId2"/>
          <a:stretch/>
        </p:blipFill>
        <p:spPr>
          <a:xfrm>
            <a:off x="5084640" y="907920"/>
            <a:ext cx="3829320" cy="28720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6" descr="D:\A\Иришка\Все по работе (Ира)\Доклады для школы\Здоровьесберегающая технология образовательного процесса\К презентации\IMG_1436_новый размер_новый размер.JPG"/>
          <p:cNvPicPr/>
          <p:nvPr/>
        </p:nvPicPr>
        <p:blipFill>
          <a:blip r:embed="rId3"/>
          <a:stretch/>
        </p:blipFill>
        <p:spPr>
          <a:xfrm>
            <a:off x="1257480" y="3860640"/>
            <a:ext cx="3827160" cy="2872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7" descr="D:\A\Иришка\Все по работе (Ира)\Доклады для школы\Здоровьесберегающая технология образовательного процесса\К презентации\IMG_1449_новый размер_новый размер.JPG"/>
          <p:cNvPicPr/>
          <p:nvPr/>
        </p:nvPicPr>
        <p:blipFill>
          <a:blip r:embed="rId4"/>
          <a:stretch/>
        </p:blipFill>
        <p:spPr>
          <a:xfrm>
            <a:off x="5084640" y="3860640"/>
            <a:ext cx="38293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0:12:34Z</dcterms:created>
  <dc:creator>Алексей</dc:creator>
  <dc:description/>
  <dc:language>en-US</dc:language>
  <cp:lastModifiedBy>Алексей</cp:lastModifiedBy>
  <cp:lastPrinted>2017-01-07T11:27:30Z</cp:lastPrinted>
  <dcterms:modified xsi:type="dcterms:W3CDTF">2019-06-23T13:33:41Z</dcterms:modified>
  <cp:revision>19</cp:revision>
  <dc:subject/>
  <dc:title>Здоровьесберегающие образовательные технологии в начальной школе</dc:title>
</cp:coreProperties>
</file>