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73BB-50A7-4040-A84E-303BED650B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50F3D-1738-4338-B99C-502C12B813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CEB-8075-4E8D-8080-04DAC73D4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A069-94A3-49A9-8286-C77154FAB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B17F-A599-462E-873F-94C03937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FA90-126E-4125-866F-F1086DFE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D2B0-6566-4E04-8087-A8535596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1FE5-352D-4801-8035-E8160470A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522A-A484-4A37-87FC-B01E5E51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4E5-3F7D-45E6-9870-22DA59F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6E9C-093E-40F8-866B-85F422278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33E61-F314-41DE-8AE6-2C9257DE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F627-46A3-4053-8718-6374B560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FB3-5A7A-4EE5-889F-1AB62C63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FFD76-228C-48FF-852A-8250C723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6F53-B937-4A3A-BFFE-C5F9846F1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9A6-57F2-4F36-8547-3E8476176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99F2-811F-4597-B91B-3303055D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F0FF-2AA2-445F-ABDA-57BE10162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A50C5-7C67-46ED-9974-25CA2E21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111B6-78C6-468A-BEC6-135685B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3CAB2-3A5F-4958-B056-27AF8DF8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690E6-BFCB-4900-93EC-2D9A6951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5FF50-2D9A-4726-84EB-72FF98FD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773-DB91-4C48-97D0-87F8C1987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0CA59-AAF7-4F14-B9F8-E89E652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A9D6C-0143-41F4-8D78-66B61A1F1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5E8C0-4DF7-4152-B74C-C4C861C9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C0D5C-BAB3-48C0-B49C-773DE01D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BBF6-85D8-4566-BE2F-A10877FC8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90672-2A89-4342-8EC2-0A479D75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45EC-292C-4EA9-9CCF-EE36BA98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F86885-F4B3-4765-9776-2998EA889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A127-09E4-41E7-B4FC-03BB0676D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3CCA8-E166-41BE-AB05-CFB75E29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DF76-2B72-4291-8B92-7EF331242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B4E56-946B-4643-800C-87875816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B87F9-64AC-4801-9977-AB55DCAC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F552B-AB0D-4E30-90C1-3EB99A1C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4110-5234-4033-B31D-D306E412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E72E-CB03-4461-BD08-D4437FAA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3CEBEF-1387-4FF7-A117-9D75F7E6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981C2-F349-47BD-9E34-DD32AAA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7DF7B-B85E-49B5-899F-C9FD75B89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B02D8-A053-4727-868D-7A56A954B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EDD36E-A4BF-4B3F-8B65-DD124988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EA2E-3F40-423D-896A-A8E0E51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BFDD-94A2-4822-BA87-71E61BE0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13F00-8330-4FF5-8B99-DDBBD86AF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ED247-4B09-4411-BE28-66A3363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E7E22-C8D8-47FC-B5F2-0387BF4E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26F5-E005-45FB-AFFA-25DA3E59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A4A63-6815-4937-9748-3247DD7D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08C5F-6B2B-450E-AA4E-44EFC385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8A49D-5867-485C-BEE2-8FFCA99D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727B7-264F-4945-95E6-0F1730FB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EAABA-A837-4716-933A-5F4248FE8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1144-DED2-4DE1-ACB6-860D9FE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6A595-F73F-41FE-BC4B-FBFA439E6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D945A9-E3A9-4211-9E00-F4DE74B31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D231D-9CAE-463B-BF90-23B3CF01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EFF56-0B35-4358-9822-359C85911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E76A4-8CA4-410F-88B5-2A4A48B2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3A3D2-4924-48B2-A129-136F434B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9803E-67EC-4321-A1CA-39173372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A6AF-5987-458F-AEF0-952C54E5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193DB-70B4-4F95-8272-81080FB8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5013E-7A12-49E7-B421-2021F785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EA27-72F0-44E1-ACBE-E3D486AD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88E72-B755-4974-A557-1557BE5C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F1B3F-6C7B-4B0D-AA11-6B6BF5661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53E49-82B7-4583-A21B-B25CD9B9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B8DE1-7D7E-444A-8E8B-DA441944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B9B44D-C41E-4AA3-B8C3-6439DB34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4FE005-D556-4602-8AF0-BA42C2B5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0306E-FC9C-4974-9077-E62C06EA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0B4931-E9AC-4562-BE23-7AB63E70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78D11-1C92-4C16-BBB9-DED0C6B3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A22BF-8053-431E-ADEE-D27EF768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92F8-5380-4631-9EC9-8D8B34FE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49E44-9A4E-4629-BFA5-FF2C0272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C743B-761F-4F55-8C2D-05BB8D91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56921C-7869-460E-8980-6C05FBF4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8D327-62AB-4500-B4C9-FC8DF4C5B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1E34-DECC-42DC-B174-08EEB797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EAF8-352A-4428-BC41-3C9DDA8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ACD-0C40-4924-9808-6708F21D266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859F-D613-4881-B707-7064A9996115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2AE4-72E3-4F8E-9ABA-1BF98601267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CBDFD-D043-45DA-B423-A4D5D4FEF54E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F8FB-0194-490C-905D-605D8B7900C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65355-CF83-4358-B9D7-D60BFF217F9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E629-41CC-4BDB-AD6B-64993B20DE1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23880" y="3512880"/>
            <a:ext cx="7886880" cy="25765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ы проекта: учащиеся 2 класса для детей с ОВЗ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уководитель проекта: учитель начальных классов для детей с ОВЗ Теплова Н. 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23880" y="1184040"/>
            <a:ext cx="7886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r>
              <a:rPr b="1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3400" spc="-1" strike="noStrike">
                <a:solidFill>
                  <a:srgbClr val="c1eeff"/>
                </a:solidFill>
                <a:latin typeface="Consolas"/>
              </a:rPr>
              <a:t>Проект «Здоровый взгляд на окружающий мир»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58388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анкетирования групп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28200" y="1825200"/>
            <a:ext cx="5838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7 ребят проводят больше двух часов за компьютером или телевизор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 ребят при просмотре телевизора находятся слишком близк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 ребят читают лёж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8 ребят не используют в быту гимнастику для глаз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Рисунок 3" descr=""/>
          <p:cNvPicPr/>
          <p:nvPr/>
        </p:nvPicPr>
        <p:blipFill>
          <a:blip r:embed="rId1"/>
          <a:srcRect l="11311" t="0" r="18026" b="0"/>
          <a:stretch/>
        </p:blipFill>
        <p:spPr>
          <a:xfrm>
            <a:off x="5540400" y="3665520"/>
            <a:ext cx="2824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 чему приводит плохое зр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здражительность, быстрая утомляемост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ые головные бо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нижение успеваем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C:\Users\Роман Михайлович\Desktop\двойка.jpeg"/>
          <p:cNvPicPr/>
          <p:nvPr/>
        </p:nvPicPr>
        <p:blipFill>
          <a:blip r:embed="rId1"/>
          <a:stretch/>
        </p:blipFill>
        <p:spPr>
          <a:xfrm>
            <a:off x="5043600" y="263844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ры по предупреждению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Гимнастика для глаз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нятия спорт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 близорукости – ношение очк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C:\Users\Роман Михайлович\Desktop\ГИМНАСТИКА.jpeg"/>
          <p:cNvPicPr/>
          <p:nvPr/>
        </p:nvPicPr>
        <p:blipFill>
          <a:blip r:embed="rId1"/>
          <a:stretch/>
        </p:blipFill>
        <p:spPr>
          <a:xfrm>
            <a:off x="4700520" y="1703520"/>
            <a:ext cx="1946520" cy="1287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Роман Михайлович\Desktop\ОЧКИ.jpeg"/>
          <p:cNvPicPr/>
          <p:nvPr/>
        </p:nvPicPr>
        <p:blipFill>
          <a:blip r:embed="rId2"/>
          <a:stretch/>
        </p:blipFill>
        <p:spPr>
          <a:xfrm>
            <a:off x="6610320" y="51595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Роман Михайлович\Desktop\ТЕННИС.jpeg"/>
          <p:cNvPicPr/>
          <p:nvPr/>
        </p:nvPicPr>
        <p:blipFill>
          <a:blip r:embed="rId3"/>
          <a:stretch/>
        </p:blipFill>
        <p:spPr>
          <a:xfrm>
            <a:off x="752400" y="3444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C:\Users\Роман Михайлович\Desktop\ПЛАВАНИЕ.jpeg"/>
          <p:cNvPicPr/>
          <p:nvPr/>
        </p:nvPicPr>
        <p:blipFill>
          <a:blip r:embed="rId4"/>
          <a:stretch/>
        </p:blipFill>
        <p:spPr>
          <a:xfrm>
            <a:off x="2882880" y="3444840"/>
            <a:ext cx="2251080" cy="1500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Users\Роман Михайлович\Desktop\ВОЛЕЙБОЛ.jpeg"/>
          <p:cNvPicPr/>
          <p:nvPr/>
        </p:nvPicPr>
        <p:blipFill>
          <a:blip r:embed="rId5"/>
          <a:stretch/>
        </p:blipFill>
        <p:spPr>
          <a:xfrm>
            <a:off x="5264280" y="3467160"/>
            <a:ext cx="24652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ры по предупреждению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е питани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9" descr="C:\Users\Роман Михайлович\Desktop\морковь.jpeg"/>
          <p:cNvPicPr/>
          <p:nvPr/>
        </p:nvPicPr>
        <p:blipFill>
          <a:blip r:embed="rId1"/>
          <a:stretch/>
        </p:blipFill>
        <p:spPr>
          <a:xfrm>
            <a:off x="3789360" y="3057480"/>
            <a:ext cx="1754280" cy="1319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E:\fruit_HA093_350A.jpg"/>
          <p:cNvPicPr/>
          <p:nvPr/>
        </p:nvPicPr>
        <p:blipFill>
          <a:blip r:embed="rId2"/>
          <a:stretch/>
        </p:blipFill>
        <p:spPr>
          <a:xfrm>
            <a:off x="3814920" y="4678200"/>
            <a:ext cx="1665000" cy="1249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C:\Users\Роман Михайлович\Desktop\шиповник.jpeg"/>
          <p:cNvPicPr/>
          <p:nvPr/>
        </p:nvPicPr>
        <p:blipFill>
          <a:blip r:embed="rId3"/>
          <a:stretch/>
        </p:blipFill>
        <p:spPr>
          <a:xfrm>
            <a:off x="5640480" y="4668840"/>
            <a:ext cx="1674720" cy="1255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C:\Users\Роман Михайлович\Desktop\шпинат.jpeg"/>
          <p:cNvPicPr/>
          <p:nvPr/>
        </p:nvPicPr>
        <p:blipFill>
          <a:blip r:embed="rId4"/>
          <a:stretch/>
        </p:blipFill>
        <p:spPr>
          <a:xfrm>
            <a:off x="193680" y="4716360"/>
            <a:ext cx="1792440" cy="1189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C:\Users\Роман Михайлович\Desktop\абрикос2.jpeg"/>
          <p:cNvPicPr/>
          <p:nvPr/>
        </p:nvPicPr>
        <p:blipFill>
          <a:blip r:embed="rId5"/>
          <a:stretch/>
        </p:blipFill>
        <p:spPr>
          <a:xfrm>
            <a:off x="7016760" y="3057480"/>
            <a:ext cx="1933560" cy="1293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C:\Users\Роман Михайлович\Desktop\рыба1.jpeg"/>
          <p:cNvPicPr/>
          <p:nvPr/>
        </p:nvPicPr>
        <p:blipFill>
          <a:blip r:embed="rId6"/>
          <a:stretch/>
        </p:blipFill>
        <p:spPr>
          <a:xfrm>
            <a:off x="1582560" y="3032280"/>
            <a:ext cx="2051280" cy="1368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C:\Users\Роман Михайлович\Desktop\кукуруза.jpeg"/>
          <p:cNvPicPr/>
          <p:nvPr/>
        </p:nvPicPr>
        <p:blipFill>
          <a:blip r:embed="rId7"/>
          <a:stretch/>
        </p:blipFill>
        <p:spPr>
          <a:xfrm>
            <a:off x="2222640" y="4675320"/>
            <a:ext cx="1501560" cy="1252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G:\КЕФИР.jpg"/>
          <p:cNvPicPr/>
          <p:nvPr/>
        </p:nvPicPr>
        <p:blipFill>
          <a:blip r:embed="rId8"/>
          <a:stretch/>
        </p:blipFill>
        <p:spPr>
          <a:xfrm>
            <a:off x="392040" y="3032280"/>
            <a:ext cx="1030320" cy="1368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E:\i.jpg"/>
          <p:cNvPicPr/>
          <p:nvPr/>
        </p:nvPicPr>
        <p:blipFill>
          <a:blip r:embed="rId9"/>
          <a:stretch/>
        </p:blipFill>
        <p:spPr>
          <a:xfrm>
            <a:off x="7416720" y="4675320"/>
            <a:ext cx="1579680" cy="1295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C:\Users\Роман Михайлович\Desktop\свекла.jpeg"/>
          <p:cNvPicPr/>
          <p:nvPr/>
        </p:nvPicPr>
        <p:blipFill>
          <a:blip r:embed="rId10"/>
          <a:stretch/>
        </p:blipFill>
        <p:spPr>
          <a:xfrm>
            <a:off x="5640480" y="3032280"/>
            <a:ext cx="13888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ывод: Зрение можно сохранить. Нужно только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 распределять время между учёбой и отдых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ниматься физкультуро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ньше смотреть телевизор и пользоваться компьютер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 лениться делать гимнастику для глаз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 питатьс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ы решил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28560" y="1825200"/>
            <a:ext cx="78868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бы уберечь зрение школьников, необходимо познакомить их с правилами по профилактике нарушений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Рисунок 3" descr=""/>
          <p:cNvPicPr/>
          <p:nvPr/>
        </p:nvPicPr>
        <p:blipFill>
          <a:blip r:embed="rId1"/>
          <a:srcRect l="7087" t="4443" r="5627" b="10370"/>
          <a:stretch/>
        </p:blipFill>
        <p:spPr>
          <a:xfrm>
            <a:off x="1577880" y="3343320"/>
            <a:ext cx="598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ктуальность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 нашем классе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 1год ухудшилось зрение у 3 дете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Есть проблемы со зрением у 6 дете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28560" y="1690200"/>
            <a:ext cx="78868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 надо знать и уметь, чтобы не лишать себя возможности полноценно воспринимать окружающий мир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C:\Users\Роман Михайлович\Desktop\ГЛАЗ.jpeg"/>
          <p:cNvPicPr/>
          <p:nvPr/>
        </p:nvPicPr>
        <p:blipFill>
          <a:blip r:embed="rId1"/>
          <a:stretch/>
        </p:blipFill>
        <p:spPr>
          <a:xfrm>
            <a:off x="2171880" y="3063960"/>
            <a:ext cx="4800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290160"/>
            <a:ext cx="78868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Цель проекта: изучить информацию  по сбережению зр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Задачи проекта: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28560" y="3106800"/>
            <a:ext cx="788688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учить и проанализировать информацию по тем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явить факторы, влияющие на снижение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учить способы сохранения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готовить буклет-памятку с правилами по сбережению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Гипотез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Зная причины нарушения зрения, можно сохранить своё зрение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Рисунок 3" descr=""/>
          <p:cNvPicPr/>
          <p:nvPr/>
        </p:nvPicPr>
        <p:blipFill>
          <a:blip r:embed="rId1"/>
          <a:stretch/>
        </p:blipFill>
        <p:spPr>
          <a:xfrm>
            <a:off x="3343320" y="3654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лан поисковой рабо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28200" y="1825560"/>
            <a:ext cx="4930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еседа с врачом школы-интерна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нсультации с библиотекарем, учителем физкультуры, воспитател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иск информации в интернет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ведение анкетирования в групп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амые распространённые нарушения зрения у школьников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лизорукость                                  Дальнозоркость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стигматизм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3" descr="G:\близорукость 2.jpg"/>
          <p:cNvPicPr/>
          <p:nvPr/>
        </p:nvPicPr>
        <p:blipFill>
          <a:blip r:embed="rId1"/>
          <a:stretch/>
        </p:blipFill>
        <p:spPr>
          <a:xfrm>
            <a:off x="628560" y="2346480"/>
            <a:ext cx="2409840" cy="1807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G:\дальнозоркость.jpg"/>
          <p:cNvPicPr/>
          <p:nvPr/>
        </p:nvPicPr>
        <p:blipFill>
          <a:blip r:embed="rId2"/>
          <a:stretch/>
        </p:blipFill>
        <p:spPr>
          <a:xfrm>
            <a:off x="5319720" y="2346480"/>
            <a:ext cx="2867040" cy="1807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3"/>
          <a:stretch/>
        </p:blipFill>
        <p:spPr>
          <a:xfrm>
            <a:off x="3038400" y="4643280"/>
            <a:ext cx="2479680" cy="1668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сновные причины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28560" y="1825200"/>
            <a:ext cx="4146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аследственный фактор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Частые простудные заболевания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Длительная работа с предметами на близком расстояни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равмы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9" descr="C:\Users\Роман Михайлович\Desktop\грипп.jpeg"/>
          <p:cNvPicPr/>
          <p:nvPr/>
        </p:nvPicPr>
        <p:blipFill>
          <a:blip r:embed="rId1"/>
          <a:srcRect l="0" t="0" r="0" b="11640"/>
          <a:stretch/>
        </p:blipFill>
        <p:spPr>
          <a:xfrm>
            <a:off x="4821120" y="2776680"/>
            <a:ext cx="1619280" cy="100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:\Users\Роман Михайлович\Desktop\школьник чит.jpeg"/>
          <p:cNvPicPr/>
          <p:nvPr/>
        </p:nvPicPr>
        <p:blipFill>
          <a:blip r:embed="rId2"/>
          <a:stretch/>
        </p:blipFill>
        <p:spPr>
          <a:xfrm>
            <a:off x="6875640" y="4214880"/>
            <a:ext cx="1639800" cy="1171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Users\Родственники.Samsung-ПК\ТРАВМА.jpg"/>
          <p:cNvPicPr/>
          <p:nvPr/>
        </p:nvPicPr>
        <p:blipFill>
          <a:blip r:embed="rId3"/>
          <a:srcRect l="0" t="0" r="0" b="14779"/>
          <a:stretch/>
        </p:blipFill>
        <p:spPr>
          <a:xfrm>
            <a:off x="3473280" y="5391000"/>
            <a:ext cx="13478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акторы, влияющие на зр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28560" y="1720800"/>
            <a:ext cx="4400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достаточное освеще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силенная зрительная нагрузка на глаз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равильная посадка за рабочим стол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C:\Users\Роман Михайлович\Desktop\чтение.jpeg"/>
          <p:cNvPicPr/>
          <p:nvPr/>
        </p:nvPicPr>
        <p:blipFill>
          <a:blip r:embed="rId1"/>
          <a:srcRect l="0" t="17737" r="0" b="0"/>
          <a:stretch/>
        </p:blipFill>
        <p:spPr>
          <a:xfrm>
            <a:off x="3363840" y="1720800"/>
            <a:ext cx="1625760" cy="1001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Users\Роман Михайлович\Desktop\i.jpeg"/>
          <p:cNvPicPr/>
          <p:nvPr/>
        </p:nvPicPr>
        <p:blipFill>
          <a:blip r:embed="rId2"/>
          <a:stretch/>
        </p:blipFill>
        <p:spPr>
          <a:xfrm>
            <a:off x="6243480" y="4794120"/>
            <a:ext cx="211464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:\Users\Роман Михайлович\Desktop\школьник.jpeg"/>
          <p:cNvPicPr/>
          <p:nvPr/>
        </p:nvPicPr>
        <p:blipFill>
          <a:blip r:embed="rId3"/>
          <a:stretch/>
        </p:blipFill>
        <p:spPr>
          <a:xfrm>
            <a:off x="5384880" y="2886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8:31:48Z</dcterms:created>
  <dc:creator>Windows User</dc:creator>
  <dc:description/>
  <dc:language>en-US</dc:language>
  <cp:lastModifiedBy>1</cp:lastModifiedBy>
  <dcterms:modified xsi:type="dcterms:W3CDTF">2017-07-01T10:55:17Z</dcterms:modified>
  <cp:revision>48</cp:revision>
  <dc:subject/>
  <dc:title>Проект «Сохраним своё зрение»</dc:title>
</cp:coreProperties>
</file>