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545C-ABDA-410D-B474-A86DAA5D85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CF6FC-A171-4FDC-8585-DE62C90D93D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149-FECD-4699-9EA0-2465C27A9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FA36-C93F-4F59-A74F-85E4D731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579-7821-4969-8765-B13D61117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566E-4BBB-4613-9628-C82E4AC2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D021-40B8-493D-8CDB-B01C34D43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0AC9-E90A-4513-9EBB-74B6DB2B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90C5F-24C5-4D17-BD6E-27198420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4B03B-0FB3-4466-A4CE-1D99B6B9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877AB-FAFB-4BBF-8A20-0A9F4D5B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1E41C-504B-4D4A-A96B-3C82F6FD0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D0C2-B499-474A-8CDE-FDF74451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D21-A52F-42E2-B30D-6CDADE81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45826-6BBB-40A9-8865-5D0E4F4B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176F5-B1AC-4069-AFC1-1160DC45C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11BF-6013-4C64-863C-0427FF231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7E222-D21A-40FD-8A90-DFFB90385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C963B-1071-4913-AB11-F61C74DC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0440B-D77E-4B5A-BDA4-51C39C97E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B3AB9-C80D-41C2-946F-E6533057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28B40-BCD6-4DBA-85F8-B4BBF0B1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779EA-BFFD-4EA9-AB50-F2EEB76F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D31B-4E94-4865-8C60-3E999B23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7B4-4804-44A2-AC5B-7202957A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A4F2E-361E-4B26-8272-D32B3977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A6797-649C-4A90-8FD0-98EA2F20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9042E-FDF0-49D1-BCE4-EC0BAC2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E8CBC-36C6-4647-BCFD-3201CAA0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8D1D8-8CB7-4DE5-989E-FF5BD0C1A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B3E6-7A34-4020-BDF4-67251814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FA262-DF37-4ADA-9E8C-FB1D8BC82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1F4C9-B495-4207-81D3-82611545D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EEBBE6-B47B-4C94-B23C-D022DB7D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AC5FE-E696-4847-A829-9CA138A0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8F17-0D7E-43CA-BED9-1C3AADE2B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043D8-2856-4A6C-8D75-81B748921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372D-B446-42AC-9ABA-565F5BB4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E1447-B7EF-438B-A42F-35FE3A1F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690E9D-44A0-49D7-A9ED-56FF19A6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FC50-B709-4E92-9A02-937E2F7B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8BEE-E14C-4D4B-86F8-CB8C4F7F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DA812F-CAEE-40DB-8AD8-DDDF2F8D3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F02AC-58E4-4592-8084-B8B731EF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A129C9-082B-4C9C-9459-24ED0726E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2DC6BE-04CF-4935-94E7-63CBE8C12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08E-1603-4ECE-BA38-0B98228E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C0B38-8D29-4C83-981D-F6E8D1B8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4D368-5031-4803-B549-D8611F19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4DA2B-7542-4120-AE78-1E5BD2C9F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841CC-2D73-4CB6-936E-7C0CF09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9D2A3-A152-45FA-9E71-7B938A32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5D586-DAB6-4FCC-B2A2-2530FBAC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43B41-7613-42CD-9C63-810F1271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99F78-AAC5-4C2C-9982-0A98AEFD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4B2FBF-3B77-401B-8875-E8F8ACC8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03E40A-6C90-415C-B1A9-9F235DCDB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F9FE-ED8B-48BD-950B-00C65B977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DC29F-D878-4092-AB2C-221E794D6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28789-9879-4733-A4B7-7696A9AE9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6E007-EA16-420A-B623-9C2A0D28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2788C-E3A4-4C96-ABB4-40E32AA0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02AAE-FD80-4656-BF17-474B07A15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98F67-E8E0-4D9E-9F80-EECE500AB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2EAB2-D4DC-4F92-980F-529DE625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030151-A116-4BB4-B810-0ECE0D858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B10AB-3244-49A8-8FC8-603CAF2A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9F546-B524-4E4F-B782-A71E4043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844C-858B-406D-8D53-54708524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F06A4-EDB2-4346-AAAA-6C654A92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4B7A4-4FAD-4A79-A36E-6D99619F8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F7034-4FFB-425D-A223-8DC4A252E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0D3BDC-B6D7-439E-8673-83AA3FD4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5461F-1A9C-4DA7-852E-3F4D3458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6BAFA3-E1D4-49D6-B500-B5619D983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74EE9F-E7F0-4A38-B3F1-6ECD6991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9DFFB-48D0-43BF-AAE1-F6B679EB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19DF4-13FB-49EB-AC15-51DDEDA8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CEB1D-8E2D-4DE2-8F36-3E75E9D4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9B55-8919-46F7-8799-7005F8B0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A63E0-4825-4082-9138-878622EC9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55981-72C3-4B08-8812-21D63B31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0F0DE-8A93-47C8-82CE-B047B44E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229697-A2F8-4E2E-ABAE-C074CE09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536ACF-F75A-4550-9B2B-49F8F4E6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1C02-2329-4281-9634-F9C98F5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27545-697F-4736-99B7-4AC51FDF024B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5D3BD-FCCE-47C3-A34D-074B450D967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05CD1-DC9C-4D14-816A-796EA0908F8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DA73-1E8E-4EBC-A274-0E2E12C7919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F935-EE8D-4D68-ABE6-29A398A90FA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91B1-033F-4F63-A6BB-3713E8047E51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7933-24A8-43AF-819F-D35FAD34309A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23880" y="3512880"/>
            <a:ext cx="7886880" cy="2576520"/>
          </a:xfrm>
          <a:prstGeom prst="rect">
            <a:avLst/>
          </a:prstGeom>
          <a:noFill/>
          <a:ln w="0">
            <a:noFill/>
          </a:ln>
        </p:spPr>
        <p:txBody>
          <a:bodyPr lIns="82440" rIns="90000" bIns="0" anchor="t">
            <a:normAutofit/>
          </a:bodyPr>
          <a:p>
            <a:pPr marL="54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Авторы проекта: учащиеся 2 класса для детей с ОВЗ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Руководитель проекта: учитель начальных классов для детей с ОВЗ Теплова Н. А.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 marL="5400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623880" y="1184040"/>
            <a:ext cx="788688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6408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br>
              <a:rPr sz="2100"/>
            </a:br>
            <a:br>
              <a:rPr sz="2100"/>
            </a:br>
            <a:r>
              <a:rPr b="1" lang="ru-RU" sz="3400" spc="-1" strike="noStrike">
                <a:solidFill>
                  <a:srgbClr val="c1eeff"/>
                </a:solidFill>
                <a:latin typeface="Consolas"/>
              </a:rPr>
              <a:t> </a:t>
            </a:r>
            <a:r>
              <a:rPr b="1" lang="ru-RU" sz="3400" spc="-1" strike="noStrike">
                <a:solidFill>
                  <a:srgbClr val="c1eeff"/>
                </a:solidFill>
                <a:latin typeface="Consolas"/>
              </a:rPr>
              <a:t>Проект «Здоровый взгляд на окружающий мир»</a:t>
            </a:r>
            <a:endParaRPr b="0" lang="en-US" sz="3400" spc="-1" strike="noStrike">
              <a:solidFill>
                <a:srgbClr val="c1eeff"/>
              </a:solidFill>
              <a:latin typeface="Consola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200" y="365040"/>
            <a:ext cx="583884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езультаты анкетирования групп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628200" y="1825200"/>
            <a:ext cx="58388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7 ребят проводят больше двух часов за компьютером или телевизоро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6 ребят при просмотре телевизора находятся слишком близко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5 ребят читают лёж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8 ребят не используют в быту гимнастику для глаз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6" name="Рисунок 3" descr=""/>
          <p:cNvPicPr/>
          <p:nvPr/>
        </p:nvPicPr>
        <p:blipFill>
          <a:blip r:embed="rId1"/>
          <a:srcRect l="11311" t="0" r="18026" b="0"/>
          <a:stretch/>
        </p:blipFill>
        <p:spPr>
          <a:xfrm>
            <a:off x="5540400" y="3665520"/>
            <a:ext cx="28242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 чему приводит плохое зр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аздражительность, быстрая утомляемость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ые головные бол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нижение успеваемости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9" name="Picture 2" descr="C:\Users\Роман Михайлович\Desktop\двойка.jpeg"/>
          <p:cNvPicPr/>
          <p:nvPr/>
        </p:nvPicPr>
        <p:blipFill>
          <a:blip r:embed="rId1"/>
          <a:stretch/>
        </p:blipFill>
        <p:spPr>
          <a:xfrm>
            <a:off x="5043600" y="2638440"/>
            <a:ext cx="3571920" cy="23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еры по предупреждению нарушения зр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Гимнастика для глаз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нятия спорто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 близорукости – ношение очков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2" name="Picture 3" descr="C:\Users\Роман Михайлович\Desktop\ГИМНАСТИКА.jpeg"/>
          <p:cNvPicPr/>
          <p:nvPr/>
        </p:nvPicPr>
        <p:blipFill>
          <a:blip r:embed="rId1"/>
          <a:stretch/>
        </p:blipFill>
        <p:spPr>
          <a:xfrm>
            <a:off x="4700520" y="1703520"/>
            <a:ext cx="1946520" cy="1287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" descr="C:\Users\Роман Михайлович\Desktop\ОЧКИ.jpeg"/>
          <p:cNvPicPr/>
          <p:nvPr/>
        </p:nvPicPr>
        <p:blipFill>
          <a:blip r:embed="rId2"/>
          <a:stretch/>
        </p:blipFill>
        <p:spPr>
          <a:xfrm>
            <a:off x="6610320" y="5159520"/>
            <a:ext cx="1905120" cy="14284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C:\Users\Роман Михайлович\Desktop\ТЕННИС.jpeg"/>
          <p:cNvPicPr/>
          <p:nvPr/>
        </p:nvPicPr>
        <p:blipFill>
          <a:blip r:embed="rId3"/>
          <a:stretch/>
        </p:blipFill>
        <p:spPr>
          <a:xfrm>
            <a:off x="752400" y="3444840"/>
            <a:ext cx="2000160" cy="15001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5" descr="C:\Users\Роман Михайлович\Desktop\ПЛАВАНИЕ.jpeg"/>
          <p:cNvPicPr/>
          <p:nvPr/>
        </p:nvPicPr>
        <p:blipFill>
          <a:blip r:embed="rId4"/>
          <a:stretch/>
        </p:blipFill>
        <p:spPr>
          <a:xfrm>
            <a:off x="2882880" y="3444840"/>
            <a:ext cx="2251080" cy="1500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6" descr="C:\Users\Роман Михайлович\Desktop\ВОЛЕЙБОЛ.jpeg"/>
          <p:cNvPicPr/>
          <p:nvPr/>
        </p:nvPicPr>
        <p:blipFill>
          <a:blip r:embed="rId5"/>
          <a:stretch/>
        </p:blipFill>
        <p:spPr>
          <a:xfrm>
            <a:off x="5264280" y="3467160"/>
            <a:ext cx="246528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еры по предупреждению нарушения зр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авильное питание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19" name="Picture 9" descr="C:\Users\Роман Михайлович\Desktop\морковь.jpeg"/>
          <p:cNvPicPr/>
          <p:nvPr/>
        </p:nvPicPr>
        <p:blipFill>
          <a:blip r:embed="rId1"/>
          <a:stretch/>
        </p:blipFill>
        <p:spPr>
          <a:xfrm>
            <a:off x="3789360" y="3057480"/>
            <a:ext cx="1754280" cy="13194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3" descr="E:\fruit_HA093_350A.jpg"/>
          <p:cNvPicPr/>
          <p:nvPr/>
        </p:nvPicPr>
        <p:blipFill>
          <a:blip r:embed="rId2"/>
          <a:stretch/>
        </p:blipFill>
        <p:spPr>
          <a:xfrm>
            <a:off x="3814920" y="4678200"/>
            <a:ext cx="1665000" cy="124956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0" descr="C:\Users\Роман Михайлович\Desktop\шиповник.jpeg"/>
          <p:cNvPicPr/>
          <p:nvPr/>
        </p:nvPicPr>
        <p:blipFill>
          <a:blip r:embed="rId3"/>
          <a:stretch/>
        </p:blipFill>
        <p:spPr>
          <a:xfrm>
            <a:off x="5640480" y="4668840"/>
            <a:ext cx="1674720" cy="12556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C:\Users\Роман Михайлович\Desktop\шпинат.jpeg"/>
          <p:cNvPicPr/>
          <p:nvPr/>
        </p:nvPicPr>
        <p:blipFill>
          <a:blip r:embed="rId4"/>
          <a:stretch/>
        </p:blipFill>
        <p:spPr>
          <a:xfrm>
            <a:off x="193680" y="4716360"/>
            <a:ext cx="1792440" cy="11890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2" descr="C:\Users\Роман Михайлович\Desktop\абрикос2.jpeg"/>
          <p:cNvPicPr/>
          <p:nvPr/>
        </p:nvPicPr>
        <p:blipFill>
          <a:blip r:embed="rId5"/>
          <a:stretch/>
        </p:blipFill>
        <p:spPr>
          <a:xfrm>
            <a:off x="7016760" y="3057480"/>
            <a:ext cx="1933560" cy="12938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1" descr="C:\Users\Роман Михайлович\Desktop\рыба1.jpeg"/>
          <p:cNvPicPr/>
          <p:nvPr/>
        </p:nvPicPr>
        <p:blipFill>
          <a:blip r:embed="rId6"/>
          <a:stretch/>
        </p:blipFill>
        <p:spPr>
          <a:xfrm>
            <a:off x="1582560" y="3032280"/>
            <a:ext cx="2051280" cy="1368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5" descr="C:\Users\Роман Михайлович\Desktop\кукуруза.jpeg"/>
          <p:cNvPicPr/>
          <p:nvPr/>
        </p:nvPicPr>
        <p:blipFill>
          <a:blip r:embed="rId7"/>
          <a:stretch/>
        </p:blipFill>
        <p:spPr>
          <a:xfrm>
            <a:off x="2222640" y="4675320"/>
            <a:ext cx="1501560" cy="12524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G:\КЕФИР.jpg"/>
          <p:cNvPicPr/>
          <p:nvPr/>
        </p:nvPicPr>
        <p:blipFill>
          <a:blip r:embed="rId8"/>
          <a:stretch/>
        </p:blipFill>
        <p:spPr>
          <a:xfrm>
            <a:off x="392040" y="3032280"/>
            <a:ext cx="1030320" cy="1368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E:\i.jpg"/>
          <p:cNvPicPr/>
          <p:nvPr/>
        </p:nvPicPr>
        <p:blipFill>
          <a:blip r:embed="rId9"/>
          <a:stretch/>
        </p:blipFill>
        <p:spPr>
          <a:xfrm>
            <a:off x="7416720" y="4675320"/>
            <a:ext cx="1579680" cy="1295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3" descr="C:\Users\Роман Михайлович\Desktop\свекла.jpeg"/>
          <p:cNvPicPr/>
          <p:nvPr/>
        </p:nvPicPr>
        <p:blipFill>
          <a:blip r:embed="rId10"/>
          <a:stretch/>
        </p:blipFill>
        <p:spPr>
          <a:xfrm>
            <a:off x="5640480" y="3032280"/>
            <a:ext cx="138888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ывод: Зрение можно сохранить. Нужно только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авильно распределять время между учёбой и отдыхо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ниматься физкультурой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ньше смотреть телевизор и пользоваться компьютером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е лениться делать гимнастику для глаз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авильно питаться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ы решил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28560" y="1825200"/>
            <a:ext cx="7886880" cy="13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Чтобы уберечь зрение школьников, необходимо познакомить их с правилами по профилактике нарушений з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33" name="Рисунок 3" descr=""/>
          <p:cNvPicPr/>
          <p:nvPr/>
        </p:nvPicPr>
        <p:blipFill>
          <a:blip r:embed="rId1"/>
          <a:srcRect l="7087" t="4443" r="5627" b="10370"/>
          <a:stretch/>
        </p:blipFill>
        <p:spPr>
          <a:xfrm>
            <a:off x="1577880" y="3343320"/>
            <a:ext cx="59864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ктуальность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В нашем классе: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За 1год ухудшилось зрение у 3 детей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rbel"/>
              </a:rPr>
              <a:t>Есть проблемы со зрением у 6 детей</a:t>
            </a:r>
            <a:endParaRPr b="0" lang="en-US" sz="36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блем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28560" y="1690200"/>
            <a:ext cx="788688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98520" indent="-33228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то надо знать и уметь, чтобы не лишать себя возможности полноценно воспринимать окружающий мир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1" name="Picture 2" descr="C:\Users\Роман Михайлович\Desktop\ГЛАЗ.jpeg"/>
          <p:cNvPicPr/>
          <p:nvPr/>
        </p:nvPicPr>
        <p:blipFill>
          <a:blip r:embed="rId1"/>
          <a:stretch/>
        </p:blipFill>
        <p:spPr>
          <a:xfrm>
            <a:off x="2171880" y="3063960"/>
            <a:ext cx="480060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290160"/>
            <a:ext cx="788688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Цель проекта: изучить информацию  по сбережению зрения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c1eeff"/>
                </a:solidFill>
                <a:latin typeface="Consolas"/>
              </a:rPr>
              <a:t>Задачи проекта:</a:t>
            </a:r>
            <a:endParaRPr b="0" lang="en-US" sz="28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28560" y="3106800"/>
            <a:ext cx="7886880" cy="30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зучить и проанализировать информацию по теме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ыявить факторы, влияющие на снижение з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зучить способы сохранения з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Изготовить буклет-памятку с правилами по сбережению зрения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1eeff"/>
                </a:solidFill>
                <a:latin typeface="Consolas"/>
              </a:rPr>
              <a:t>Гипотеза 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rbel"/>
              </a:rPr>
              <a:t>Зная причины нарушения зрения, можно сохранить своё зрение 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86" name="Рисунок 3" descr=""/>
          <p:cNvPicPr/>
          <p:nvPr/>
        </p:nvPicPr>
        <p:blipFill>
          <a:blip r:embed="rId1"/>
          <a:stretch/>
        </p:blipFill>
        <p:spPr>
          <a:xfrm>
            <a:off x="3343320" y="3654360"/>
            <a:ext cx="285732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лан поисковой рабо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28200" y="1825560"/>
            <a:ext cx="4930920" cy="47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еседа с врачом школы-интернат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Консультации с библиотекарем, учителем физкультуры, воспитателе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иск информации в интернет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роведение анкетирования в групп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just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Самые распространённые нарушения зрения у школьников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Близорукость                                  Дальнозоркость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                             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Астигматизм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1" name="Picture 3" descr="G:\близорукость 2.jpg"/>
          <p:cNvPicPr/>
          <p:nvPr/>
        </p:nvPicPr>
        <p:blipFill>
          <a:blip r:embed="rId1"/>
          <a:stretch/>
        </p:blipFill>
        <p:spPr>
          <a:xfrm>
            <a:off x="628560" y="2346480"/>
            <a:ext cx="2409840" cy="180792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2" descr="G:\дальнозоркость.jpg"/>
          <p:cNvPicPr/>
          <p:nvPr/>
        </p:nvPicPr>
        <p:blipFill>
          <a:blip r:embed="rId2"/>
          <a:stretch/>
        </p:blipFill>
        <p:spPr>
          <a:xfrm>
            <a:off x="5319720" y="2346480"/>
            <a:ext cx="2867040" cy="180792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7" descr=""/>
          <p:cNvPicPr/>
          <p:nvPr/>
        </p:nvPicPr>
        <p:blipFill>
          <a:blip r:embed="rId3"/>
          <a:stretch/>
        </p:blipFill>
        <p:spPr>
          <a:xfrm>
            <a:off x="3038400" y="4643280"/>
            <a:ext cx="2479680" cy="16686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сновные причины нарушения зре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28560" y="1825200"/>
            <a:ext cx="41464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Наследственный фактор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Частые простудные заболевания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Длительная работа с предметами на близком расстоянии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Травмы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96" name="Picture 9" descr="C:\Users\Роман Михайлович\Desktop\грипп.jpeg"/>
          <p:cNvPicPr/>
          <p:nvPr/>
        </p:nvPicPr>
        <p:blipFill>
          <a:blip r:embed="rId1"/>
          <a:srcRect l="0" t="0" r="0" b="11640"/>
          <a:stretch/>
        </p:blipFill>
        <p:spPr>
          <a:xfrm>
            <a:off x="4821120" y="2776680"/>
            <a:ext cx="1619280" cy="1008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C:\Users\Роман Михайлович\Desktop\школьник чит.jpeg"/>
          <p:cNvPicPr/>
          <p:nvPr/>
        </p:nvPicPr>
        <p:blipFill>
          <a:blip r:embed="rId2"/>
          <a:stretch/>
        </p:blipFill>
        <p:spPr>
          <a:xfrm>
            <a:off x="6875640" y="4214880"/>
            <a:ext cx="1639800" cy="11714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2" descr="C:\Users\Родственники.Samsung-ПК\ТРАВМА.jpg"/>
          <p:cNvPicPr/>
          <p:nvPr/>
        </p:nvPicPr>
        <p:blipFill>
          <a:blip r:embed="rId3"/>
          <a:srcRect l="0" t="0" r="0" b="14779"/>
          <a:stretch/>
        </p:blipFill>
        <p:spPr>
          <a:xfrm>
            <a:off x="3473280" y="5391000"/>
            <a:ext cx="1347840" cy="12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акторы, влияющие на зре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628560" y="1720800"/>
            <a:ext cx="440064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достаточное освещение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Усиленная зрительная нагрузка на глаза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еправильная посадка за рабочим столом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4560" indent="-3286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01" name="Picture 2" descr="C:\Users\Роман Михайлович\Desktop\чтение.jpeg"/>
          <p:cNvPicPr/>
          <p:nvPr/>
        </p:nvPicPr>
        <p:blipFill>
          <a:blip r:embed="rId1"/>
          <a:srcRect l="0" t="17737" r="0" b="0"/>
          <a:stretch/>
        </p:blipFill>
        <p:spPr>
          <a:xfrm>
            <a:off x="3363840" y="1720800"/>
            <a:ext cx="1625760" cy="100188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C:\Users\Роман Михайлович\Desktop\i.jpeg"/>
          <p:cNvPicPr/>
          <p:nvPr/>
        </p:nvPicPr>
        <p:blipFill>
          <a:blip r:embed="rId2"/>
          <a:stretch/>
        </p:blipFill>
        <p:spPr>
          <a:xfrm>
            <a:off x="6243480" y="4794120"/>
            <a:ext cx="2114640" cy="14288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C:\Users\Роман Михайлович\Desktop\школьник.jpeg"/>
          <p:cNvPicPr/>
          <p:nvPr/>
        </p:nvPicPr>
        <p:blipFill>
          <a:blip r:embed="rId3"/>
          <a:stretch/>
        </p:blipFill>
        <p:spPr>
          <a:xfrm>
            <a:off x="5384880" y="288612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3T18:31:48Z</dcterms:created>
  <dc:creator>Windows User</dc:creator>
  <dc:description/>
  <dc:language>en-US</dc:language>
  <cp:lastModifiedBy>1</cp:lastModifiedBy>
  <dcterms:modified xsi:type="dcterms:W3CDTF">2017-07-01T10:55:17Z</dcterms:modified>
  <cp:revision>48</cp:revision>
  <dc:subject/>
  <dc:title>Проект «Сохраним своё зрение»</dc:title>
</cp:coreProperties>
</file>