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8345-9AEF-4261-9BA5-71FECD8E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8CE0-E130-4205-A460-F24000F6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4BE6-C8A6-4679-8D6C-D56FD2BC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D398-7CA7-423D-B4B1-F4E06096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69DB-7C34-48E1-B7C2-384AB2FB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1BC5-7AE7-479E-8133-75CB36C6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A05A-9AC7-4371-A5FB-E4A322E1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4F20-70C8-4B69-AE22-A23DF0F9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6F8B-7A37-4703-A5EC-FCBDB244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21AD-1637-4029-8349-A01A82E4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3FDE-8BEA-44A4-9670-997CFC55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EB5-9DBE-4F85-9501-35E02425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02CA-7F7A-4F2A-827B-D09D40396E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char.ru/books/p1672395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char.ru/books/p1472460.jpg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hyperlink" Target="http://zavoo.narod.ru/fgos.png" TargetMode="External"/><Relationship Id="rId10" Type="http://schemas.openxmlformats.org/officeDocument/2006/relationships/image" Target="../media/image8.pn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40306s016.edusite.ru/images/p17_book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4000"/>
            </a:b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Педсовет-практикум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image006"/>
          <p:cNvPicPr/>
          <p:nvPr/>
        </p:nvPicPr>
        <p:blipFill>
          <a:blip r:embed="rId1"/>
          <a:stretch/>
        </p:blipFill>
        <p:spPr>
          <a:xfrm>
            <a:off x="250920" y="189000"/>
            <a:ext cx="27367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ыть и осмыслить понятие «универсальные учебные действия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еть виды УУД, их содержание, требования к результатам сформирова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комиться с приемами, помогающими формировать УУ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обрести практический опыт выполнения УУД в процессе работы с информа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24000" y="499680"/>
            <a:ext cx="859464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7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озникновение понятия </a:t>
            </a:r>
            <a:r>
              <a:rPr b="1" i="1" lang="ru-RU" sz="2400" spc="-1" strike="noStrike">
                <a:solidFill>
                  <a:srgbClr val="ff0000"/>
                </a:solidFill>
                <a:latin typeface="Arial Black"/>
              </a:rPr>
              <a:t>«универсальные учебные действия»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вязано с изменением парадигмы образовани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т цели усвоения знаний, умений и навыко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 цели развития личности учащего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ниверсальные учебные действия (УУД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684360" y="1989000"/>
            <a:ext cx="77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общенные способы действ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зволяющие ориентиров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учебной деятельности, включая осознание е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нност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мысловых  и  операциональны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ис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684360" y="3429000"/>
            <a:ext cx="77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вокупность способов действ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чащегося, обеспечивающих его способность к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остоятельному усвоен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овых знаний и умений, включая организацию эт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755640" y="479736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мение учи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особность к саморазвитию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осовершенствова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506160" y="2674440"/>
            <a:ext cx="3678120" cy="338004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широком значении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мение учиться, т.е. пособность субъекта к саморазвитию и самосовершенствованию путем сознательного и активного присвоения нового социального опы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6"/>
          <p:cNvSpPr/>
          <p:nvPr/>
        </p:nvSpPr>
        <p:spPr>
          <a:xfrm>
            <a:off x="4643280" y="2492280"/>
            <a:ext cx="4105440" cy="374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узком знач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вокупность способов действия учащегося (а также связанных с ними навыков учебной работы), обеспечивающих его способность к самостоятельному усвоению новых знаний и умений, включая организацию эт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684360" y="404640"/>
            <a:ext cx="8001000" cy="1368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684360" y="40464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ниверсальные учебные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 flipH="1">
            <a:off x="3058920" y="1773360"/>
            <a:ext cx="93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2"/>
          <p:cNvSpPr/>
          <p:nvPr/>
        </p:nvSpPr>
        <p:spPr>
          <a:xfrm>
            <a:off x="5003640" y="1773360"/>
            <a:ext cx="8636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универсальных учебных действ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5"/>
          <p:cNvSpPr/>
          <p:nvPr/>
        </p:nvSpPr>
        <p:spPr>
          <a:xfrm>
            <a:off x="179280" y="1989000"/>
            <a:ext cx="2928960" cy="14288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61"/>
          <p:cNvSpPr/>
          <p:nvPr/>
        </p:nvSpPr>
        <p:spPr>
          <a:xfrm>
            <a:off x="468360" y="2565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ЛИЧНОС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7"/>
          <p:cNvSpPr/>
          <p:nvPr/>
        </p:nvSpPr>
        <p:spPr>
          <a:xfrm>
            <a:off x="2050920" y="2924280"/>
            <a:ext cx="2857680" cy="1428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60"/>
          <p:cNvSpPr/>
          <p:nvPr/>
        </p:nvSpPr>
        <p:spPr>
          <a:xfrm>
            <a:off x="2340000" y="335772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РЕГУЛЯ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8"/>
          <p:cNvSpPr/>
          <p:nvPr/>
        </p:nvSpPr>
        <p:spPr>
          <a:xfrm>
            <a:off x="4788000" y="2852640"/>
            <a:ext cx="2857320" cy="1428840"/>
          </a:xfrm>
          <a:prstGeom prst="ellipse">
            <a:avLst/>
          </a:prstGeom>
          <a:solidFill>
            <a:srgbClr val="6666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9"/>
          <p:cNvSpPr/>
          <p:nvPr/>
        </p:nvSpPr>
        <p:spPr>
          <a:xfrm>
            <a:off x="4889880" y="3429000"/>
            <a:ext cx="26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ОЗНАВ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6"/>
          <p:cNvSpPr/>
          <p:nvPr/>
        </p:nvSpPr>
        <p:spPr>
          <a:xfrm>
            <a:off x="6084720" y="1700280"/>
            <a:ext cx="2857680" cy="1428840"/>
          </a:xfrm>
          <a:prstGeom prst="ellipse">
            <a:avLst/>
          </a:prstGeom>
          <a:solidFill>
            <a:srgbClr val="7575d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8"/>
          <p:cNvSpPr/>
          <p:nvPr/>
        </p:nvSpPr>
        <p:spPr>
          <a:xfrm>
            <a:off x="5924880" y="2276640"/>
            <a:ext cx="30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КОММУНИК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 flipH="1">
            <a:off x="2556000" y="1557360"/>
            <a:ext cx="1079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9"/>
          <p:cNvSpPr/>
          <p:nvPr/>
        </p:nvSpPr>
        <p:spPr>
          <a:xfrm flipH="1">
            <a:off x="3708360" y="1557360"/>
            <a:ext cx="5032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1"/>
          <p:cNvSpPr/>
          <p:nvPr/>
        </p:nvSpPr>
        <p:spPr>
          <a:xfrm>
            <a:off x="5292720" y="1557360"/>
            <a:ext cx="9367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2"/>
          <p:cNvSpPr/>
          <p:nvPr/>
        </p:nvSpPr>
        <p:spPr>
          <a:xfrm>
            <a:off x="4500720" y="1557360"/>
            <a:ext cx="576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Diagram 5"/>
          <p:cNvGrpSpPr/>
          <p:nvPr/>
        </p:nvGrpSpPr>
        <p:grpSpPr>
          <a:xfrm>
            <a:off x="666360" y="765360"/>
            <a:ext cx="7810200" cy="4822560"/>
            <a:chOff x="666360" y="765360"/>
            <a:chExt cx="7810200" cy="4822560"/>
          </a:xfrm>
        </p:grpSpPr>
        <p:sp>
          <p:nvSpPr>
            <p:cNvPr id="97" name="_s1028"/>
            <p:cNvSpPr/>
            <p:nvPr/>
          </p:nvSpPr>
          <p:spPr>
            <a:xfrm flipH="1">
              <a:off x="2688480" y="4101840"/>
              <a:ext cx="939240" cy="37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29"/>
            <p:cNvSpPr/>
            <p:nvPr/>
          </p:nvSpPr>
          <p:spPr>
            <a:xfrm>
              <a:off x="666360" y="4104360"/>
              <a:ext cx="2171160" cy="1483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Осозн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0"/>
            <p:cNvSpPr/>
            <p:nvPr/>
          </p:nvSpPr>
          <p:spPr>
            <a:xfrm>
              <a:off x="5511240" y="4104360"/>
              <a:ext cx="939240" cy="37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1"/>
            <p:cNvSpPr/>
            <p:nvPr/>
          </p:nvSpPr>
          <p:spPr>
            <a:xfrm>
              <a:off x="6304680" y="4101840"/>
              <a:ext cx="2171880" cy="1484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Принят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жизненны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ценносте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2"/>
            <p:cNvSpPr/>
            <p:nvPr/>
          </p:nvSpPr>
          <p:spPr>
            <a:xfrm flipV="1">
              <a:off x="4571640" y="2249640"/>
              <a:ext cx="0" cy="74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3"/>
            <p:cNvSpPr/>
            <p:nvPr/>
          </p:nvSpPr>
          <p:spPr>
            <a:xfrm>
              <a:off x="3485880" y="765360"/>
              <a:ext cx="2171160" cy="1484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Осмыс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4"/>
            <p:cNvSpPr/>
            <p:nvPr/>
          </p:nvSpPr>
          <p:spPr>
            <a:xfrm>
              <a:off x="3485880" y="2991600"/>
              <a:ext cx="2171160" cy="14835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Личност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Diagram 5"/>
          <p:cNvGrpSpPr/>
          <p:nvPr/>
        </p:nvGrpSpPr>
        <p:grpSpPr>
          <a:xfrm>
            <a:off x="310680" y="765360"/>
            <a:ext cx="8520840" cy="5715000"/>
            <a:chOff x="310680" y="765360"/>
            <a:chExt cx="8520840" cy="5715000"/>
          </a:xfrm>
        </p:grpSpPr>
        <p:sp>
          <p:nvSpPr>
            <p:cNvPr id="105" name="_s2052"/>
            <p:cNvSpPr/>
            <p:nvPr/>
          </p:nvSpPr>
          <p:spPr>
            <a:xfrm flipH="1" flipV="1">
              <a:off x="2875680" y="2808720"/>
              <a:ext cx="847080" cy="45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053"/>
            <p:cNvSpPr/>
            <p:nvPr/>
          </p:nvSpPr>
          <p:spPr>
            <a:xfrm>
              <a:off x="939240" y="1602720"/>
              <a:ext cx="2171160" cy="1484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Само-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регуляци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2054"/>
            <p:cNvSpPr/>
            <p:nvPr/>
          </p:nvSpPr>
          <p:spPr>
            <a:xfrm flipH="1">
              <a:off x="2459520" y="3896280"/>
              <a:ext cx="105372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2055"/>
            <p:cNvSpPr/>
            <p:nvPr/>
          </p:nvSpPr>
          <p:spPr>
            <a:xfrm>
              <a:off x="310680" y="3485880"/>
              <a:ext cx="2171160" cy="1483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Оценк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2056"/>
            <p:cNvSpPr/>
            <p:nvPr/>
          </p:nvSpPr>
          <p:spPr>
            <a:xfrm flipH="1">
              <a:off x="3634560" y="4399560"/>
              <a:ext cx="466200" cy="66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2057"/>
            <p:cNvSpPr/>
            <p:nvPr/>
          </p:nvSpPr>
          <p:spPr>
            <a:xfrm>
              <a:off x="2076120" y="4996080"/>
              <a:ext cx="2171160" cy="1484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Коррекци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058"/>
            <p:cNvSpPr/>
            <p:nvPr/>
          </p:nvSpPr>
          <p:spPr>
            <a:xfrm>
              <a:off x="5041080" y="4399560"/>
              <a:ext cx="472680" cy="66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059"/>
            <p:cNvSpPr/>
            <p:nvPr/>
          </p:nvSpPr>
          <p:spPr>
            <a:xfrm>
              <a:off x="4901400" y="4993920"/>
              <a:ext cx="2171880" cy="1483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Контроль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2060"/>
            <p:cNvSpPr/>
            <p:nvPr/>
          </p:nvSpPr>
          <p:spPr>
            <a:xfrm>
              <a:off x="5628600" y="3896280"/>
              <a:ext cx="1057320" cy="16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061"/>
            <p:cNvSpPr/>
            <p:nvPr/>
          </p:nvSpPr>
          <p:spPr>
            <a:xfrm>
              <a:off x="6660360" y="3484080"/>
              <a:ext cx="2171160" cy="1483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Прогнози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р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062"/>
            <p:cNvSpPr/>
            <p:nvPr/>
          </p:nvSpPr>
          <p:spPr>
            <a:xfrm flipV="1">
              <a:off x="5419080" y="2806560"/>
              <a:ext cx="847080" cy="46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2063"/>
            <p:cNvSpPr/>
            <p:nvPr/>
          </p:nvSpPr>
          <p:spPr>
            <a:xfrm>
              <a:off x="6031800" y="1602720"/>
              <a:ext cx="2171160" cy="1484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500" spc="-1" strike="noStrike">
                  <a:solidFill>
                    <a:srgbClr val="000000"/>
                  </a:solidFill>
                  <a:latin typeface="Arial"/>
                </a:rPr>
                <a:t>Плани-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500" spc="-1" strike="noStrike">
                  <a:solidFill>
                    <a:srgbClr val="000000"/>
                  </a:solidFill>
                  <a:latin typeface="Arial"/>
                </a:rPr>
                <a:t>ровани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2064"/>
            <p:cNvSpPr/>
            <p:nvPr/>
          </p:nvSpPr>
          <p:spPr>
            <a:xfrm flipV="1">
              <a:off x="4571640" y="2249640"/>
              <a:ext cx="0" cy="74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065"/>
            <p:cNvSpPr/>
            <p:nvPr/>
          </p:nvSpPr>
          <p:spPr>
            <a:xfrm>
              <a:off x="3485880" y="765360"/>
              <a:ext cx="2171160" cy="1484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500" spc="-1" strike="noStrike">
                  <a:solidFill>
                    <a:srgbClr val="000000"/>
                  </a:solidFill>
                  <a:latin typeface="Arial"/>
                </a:rPr>
                <a:t>Целе-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500" spc="-1" strike="noStrike">
                  <a:solidFill>
                    <a:srgbClr val="000000"/>
                  </a:solidFill>
                  <a:latin typeface="Arial"/>
                </a:rPr>
                <a:t>полагани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2066"/>
            <p:cNvSpPr/>
            <p:nvPr/>
          </p:nvSpPr>
          <p:spPr>
            <a:xfrm>
              <a:off x="3485880" y="2991600"/>
              <a:ext cx="2171160" cy="14835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Регулятив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Diagram 5"/>
          <p:cNvGrpSpPr/>
          <p:nvPr/>
        </p:nvGrpSpPr>
        <p:grpSpPr>
          <a:xfrm>
            <a:off x="227880" y="424800"/>
            <a:ext cx="8686440" cy="6267600"/>
            <a:chOff x="227880" y="424800"/>
            <a:chExt cx="8686440" cy="6267600"/>
          </a:xfrm>
        </p:grpSpPr>
        <p:sp>
          <p:nvSpPr>
            <p:cNvPr id="121" name="_s3076"/>
            <p:cNvSpPr/>
            <p:nvPr/>
          </p:nvSpPr>
          <p:spPr>
            <a:xfrm flipH="1">
              <a:off x="2399040" y="35589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3077"/>
            <p:cNvSpPr/>
            <p:nvPr/>
          </p:nvSpPr>
          <p:spPr>
            <a:xfrm>
              <a:off x="227880" y="2775600"/>
              <a:ext cx="2171160" cy="156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Способ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решен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зада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3078"/>
            <p:cNvSpPr/>
            <p:nvPr/>
          </p:nvSpPr>
          <p:spPr>
            <a:xfrm>
              <a:off x="4571640" y="4342320"/>
              <a:ext cx="0" cy="78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3079"/>
            <p:cNvSpPr/>
            <p:nvPr/>
          </p:nvSpPr>
          <p:spPr>
            <a:xfrm>
              <a:off x="3485880" y="5125680"/>
              <a:ext cx="2171160" cy="156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Логическ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действия 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опер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3080"/>
            <p:cNvSpPr/>
            <p:nvPr/>
          </p:nvSpPr>
          <p:spPr>
            <a:xfrm>
              <a:off x="5657400" y="3558960"/>
              <a:ext cx="108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3081"/>
            <p:cNvSpPr/>
            <p:nvPr/>
          </p:nvSpPr>
          <p:spPr>
            <a:xfrm>
              <a:off x="6743160" y="2775600"/>
              <a:ext cx="2171160" cy="156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Модел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3082"/>
            <p:cNvSpPr/>
            <p:nvPr/>
          </p:nvSpPr>
          <p:spPr>
            <a:xfrm flipV="1">
              <a:off x="4571640" y="1992240"/>
              <a:ext cx="0" cy="78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3083"/>
            <p:cNvSpPr/>
            <p:nvPr/>
          </p:nvSpPr>
          <p:spPr>
            <a:xfrm>
              <a:off x="3485880" y="424800"/>
              <a:ext cx="2171160" cy="1567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Поиск, отбор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структурирова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информ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3084"/>
            <p:cNvSpPr/>
            <p:nvPr/>
          </p:nvSpPr>
          <p:spPr>
            <a:xfrm>
              <a:off x="3485880" y="2775600"/>
              <a:ext cx="2171160" cy="1566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ознаватель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Diagram 5"/>
          <p:cNvGrpSpPr/>
          <p:nvPr/>
        </p:nvGrpSpPr>
        <p:grpSpPr>
          <a:xfrm>
            <a:off x="666360" y="765360"/>
            <a:ext cx="7810200" cy="5933520"/>
            <a:chOff x="666360" y="765360"/>
            <a:chExt cx="7810200" cy="5933520"/>
          </a:xfrm>
        </p:grpSpPr>
        <p:sp>
          <p:nvSpPr>
            <p:cNvPr id="131" name="_s4100"/>
            <p:cNvSpPr/>
            <p:nvPr/>
          </p:nvSpPr>
          <p:spPr>
            <a:xfrm flipH="1" flipV="1">
              <a:off x="2691360" y="2989080"/>
              <a:ext cx="939240" cy="37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4101"/>
            <p:cNvSpPr/>
            <p:nvPr/>
          </p:nvSpPr>
          <p:spPr>
            <a:xfrm>
              <a:off x="666360" y="1876320"/>
              <a:ext cx="2171160" cy="1483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Владе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монологическ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и диалогическ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формами реч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4102"/>
            <p:cNvSpPr/>
            <p:nvPr/>
          </p:nvSpPr>
          <p:spPr>
            <a:xfrm flipH="1">
              <a:off x="2691360" y="4101840"/>
              <a:ext cx="939240" cy="37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4103"/>
            <p:cNvSpPr/>
            <p:nvPr/>
          </p:nvSpPr>
          <p:spPr>
            <a:xfrm>
              <a:off x="666360" y="4101840"/>
              <a:ext cx="2171160" cy="1484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Ум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полно и яс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выража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свои мыс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4104"/>
            <p:cNvSpPr/>
            <p:nvPr/>
          </p:nvSpPr>
          <p:spPr>
            <a:xfrm>
              <a:off x="4571640" y="4473360"/>
              <a:ext cx="0" cy="74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4105"/>
            <p:cNvSpPr/>
            <p:nvPr/>
          </p:nvSpPr>
          <p:spPr>
            <a:xfrm>
              <a:off x="3485880" y="5215320"/>
              <a:ext cx="2171160" cy="1483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Контроль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коррекция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оценка действи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партнера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4106"/>
            <p:cNvSpPr/>
            <p:nvPr/>
          </p:nvSpPr>
          <p:spPr>
            <a:xfrm>
              <a:off x="5511240" y="4101840"/>
              <a:ext cx="939240" cy="37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4107"/>
            <p:cNvSpPr/>
            <p:nvPr/>
          </p:nvSpPr>
          <p:spPr>
            <a:xfrm>
              <a:off x="6304680" y="4101840"/>
              <a:ext cx="2171880" cy="1484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Разреше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конфлик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4108"/>
            <p:cNvSpPr/>
            <p:nvPr/>
          </p:nvSpPr>
          <p:spPr>
            <a:xfrm flipV="1">
              <a:off x="5511240" y="2991600"/>
              <a:ext cx="939240" cy="37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4109"/>
            <p:cNvSpPr/>
            <p:nvPr/>
          </p:nvSpPr>
          <p:spPr>
            <a:xfrm>
              <a:off x="6304680" y="1878480"/>
              <a:ext cx="2171880" cy="1483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Постанов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вопрос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4110"/>
            <p:cNvSpPr/>
            <p:nvPr/>
          </p:nvSpPr>
          <p:spPr>
            <a:xfrm flipV="1">
              <a:off x="4571640" y="2249640"/>
              <a:ext cx="0" cy="74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4111"/>
            <p:cNvSpPr/>
            <p:nvPr/>
          </p:nvSpPr>
          <p:spPr>
            <a:xfrm>
              <a:off x="3485880" y="765360"/>
              <a:ext cx="2171160" cy="1484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Планирова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учеб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сотруднич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4112"/>
            <p:cNvSpPr/>
            <p:nvPr/>
          </p:nvSpPr>
          <p:spPr>
            <a:xfrm>
              <a:off x="3485880" y="2991600"/>
              <a:ext cx="2171160" cy="14835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Коммуникатив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дачей современной системы образования становится освоение   учащимися не только конкретных предметных знаний и навыков в рамках отдельных дисциплин, но и совокупност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ниверсальных учебных действи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УД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должны быть положены в основу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ора и структурирования содержа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образования, приемов, методов, форм обучения, а также построения целостного учебно-воспитатель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владен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УД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происходит в контексте разных учебных предметов и в конечном счете ведет к формированию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особности самостоятельно успешно усваивать новые знания, умения и компетентност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включая самостоятельную организацию процесса усвоения, т. е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мение учитьс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этом смысл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УД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ставляют собой 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результа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разовательного процесса, 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услови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своения знаний, умений и компетентност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3" descr="22"/>
          <p:cNvPicPr/>
          <p:nvPr/>
        </p:nvPicPr>
        <p:blipFill>
          <a:blip r:embed="rId1"/>
          <a:stretch/>
        </p:blipFill>
        <p:spPr>
          <a:xfrm>
            <a:off x="7500960" y="4786200"/>
            <a:ext cx="1400040" cy="180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4" name="Picture 2" descr="Картинка 3 из 268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00960" y="2714760"/>
            <a:ext cx="1322280" cy="180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" name="Picture 6" descr="Картинка 12 из 268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71960" y="2714760"/>
            <a:ext cx="1355760" cy="187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6" name="Picture 7" descr="пл"/>
          <p:cNvPicPr/>
          <p:nvPr/>
        </p:nvPicPr>
        <p:blipFill>
          <a:blip r:embed="rId6"/>
          <a:stretch/>
        </p:blipFill>
        <p:spPr>
          <a:xfrm>
            <a:off x="5786280" y="4786200"/>
            <a:ext cx="1368720" cy="180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" name="Picture 8" descr="vneuroch_deyat"/>
          <p:cNvPicPr/>
          <p:nvPr/>
        </p:nvPicPr>
        <p:blipFill>
          <a:blip r:embed="rId7"/>
          <a:stretch/>
        </p:blipFill>
        <p:spPr>
          <a:xfrm>
            <a:off x="5857920" y="2643120"/>
            <a:ext cx="1295280" cy="188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Picture 14" descr="23"/>
          <p:cNvPicPr/>
          <p:nvPr/>
        </p:nvPicPr>
        <p:blipFill>
          <a:blip r:embed="rId8"/>
          <a:stretch/>
        </p:blipFill>
        <p:spPr>
          <a:xfrm>
            <a:off x="4071960" y="4786200"/>
            <a:ext cx="137808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Picture 10" descr="Картинка 175 из 378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571760" y="214200"/>
            <a:ext cx="7345080" cy="2224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0" name="Picture 10" descr="moi dostiz_3"/>
          <p:cNvPicPr/>
          <p:nvPr/>
        </p:nvPicPr>
        <p:blipFill>
          <a:blip r:embed="rId11"/>
          <a:stretch/>
        </p:blipFill>
        <p:spPr>
          <a:xfrm>
            <a:off x="2232000" y="4214880"/>
            <a:ext cx="1411200" cy="1865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" name="Picture 11" descr="moi dostiz_2"/>
          <p:cNvPicPr/>
          <p:nvPr/>
        </p:nvPicPr>
        <p:blipFill>
          <a:blip r:embed="rId12"/>
          <a:stretch/>
        </p:blipFill>
        <p:spPr>
          <a:xfrm>
            <a:off x="1081080" y="2776680"/>
            <a:ext cx="1468440" cy="2226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Picture 12" descr="moi dostiz"/>
          <p:cNvPicPr/>
          <p:nvPr/>
        </p:nvPicPr>
        <p:blipFill>
          <a:blip r:embed="rId13"/>
          <a:stretch/>
        </p:blipFill>
        <p:spPr>
          <a:xfrm>
            <a:off x="0" y="1930320"/>
            <a:ext cx="1382760" cy="2138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3183480" y="764280"/>
            <a:ext cx="293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79280" y="1844640"/>
          <a:ext cx="8785440" cy="3556080"/>
        </p:xfrm>
        <a:graphic>
          <a:graphicData uri="http://schemas.openxmlformats.org/drawingml/2006/table">
            <a:tbl>
              <a:tblPr/>
              <a:tblGrid>
                <a:gridCol w="2016360"/>
                <a:gridCol w="1930320"/>
                <a:gridCol w="2390760"/>
                <a:gridCol w="244800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тив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ша выделила в словах одни окончания, Алёша – другие. А как ты считаешь? С чьим мнением согласен ты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есите предметы и звуковые модели сл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усском языке существует два слова – омонима ЛИСТ.  Подумайте, какой справочной литературой нужно воспользоваться  для выяснения значения слов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бы ты объяснил своему однокласснику, что такое родственные слов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Rectangle 56"/>
          <p:cNvSpPr/>
          <p:nvPr/>
        </p:nvSpPr>
        <p:spPr>
          <a:xfrm>
            <a:off x="0" y="466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2413080" y="322920"/>
            <a:ext cx="40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1844640"/>
          <a:ext cx="8640720" cy="3780000"/>
        </p:xfrm>
        <a:graphic>
          <a:graphicData uri="http://schemas.openxmlformats.org/drawingml/2006/table">
            <a:tbl>
              <a:tblPr/>
              <a:tblGrid>
                <a:gridCol w="2085840"/>
                <a:gridCol w="1787400"/>
                <a:gridCol w="2384640"/>
                <a:gridCol w="2382840"/>
              </a:tblGrid>
              <a:tr h="94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тивные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ые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ив природные зоны России, подумай и ответь, где бы ты хотел жить и почему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упомянутых в статье растений выбери группу травянистых растений,  которые никогда не цветут и не имеют семя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акой природной зоне обитают белки? Подготовьте устный рассказ об  этой природной зон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удите в паре пути решения экологических проблем природной зоны степ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2668320" y="226080"/>
            <a:ext cx="450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Литературное чт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50920" y="1773360"/>
          <a:ext cx="8642160" cy="3216240"/>
        </p:xfrm>
        <a:graphic>
          <a:graphicData uri="http://schemas.openxmlformats.org/drawingml/2006/table">
            <a:tbl>
              <a:tblPr/>
              <a:tblGrid>
                <a:gridCol w="2098440"/>
                <a:gridCol w="1800360"/>
                <a:gridCol w="2222640"/>
                <a:gridCol w="2520720"/>
              </a:tblGrid>
              <a:tr h="129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ти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бы ты позвал Мышку, если бы ты  был Жучкой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нужно было ухаживать за репкой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ему репка выросла большая – пребольшая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ни продолжение сказки с друзьями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1879560" y="764280"/>
            <a:ext cx="592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образительное искус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95280" y="2133720"/>
          <a:ext cx="8497800" cy="3071520"/>
        </p:xfrm>
        <a:graphic>
          <a:graphicData uri="http://schemas.openxmlformats.org/drawingml/2006/table">
            <a:tbl>
              <a:tblPr/>
              <a:tblGrid>
                <a:gridCol w="1873080"/>
                <a:gridCol w="1963800"/>
                <a:gridCol w="2140200"/>
                <a:gridCol w="2520720"/>
              </a:tblGrid>
              <a:tr h="114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тив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й цвет является твоим любимым и поче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акой последовательности будет выполнен портр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омощью каких цветов получится наиболее выразительный зимний пейзаж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те критерии оценивания работы, обсудив их в групп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1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дагогические приё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ыть и осмыслить понятие «универсальные учебные действия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еть виды УУД, их содержание, требования к результатам сформирова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комиться с приемами, помогающими формировать УУ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обрести практический опыт выполнения УУД в процессе работы с информа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ышение компетентности педагогов в освоении приемов формирования У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2340000" y="0"/>
            <a:ext cx="49039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1187280" y="83664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</a:rPr>
              <a:t>Спасибо за работу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p17_boo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2205000"/>
            <a:ext cx="4267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"/>
          <p:cNvPicPr/>
          <p:nvPr/>
        </p:nvPicPr>
        <p:blipFill>
          <a:blip r:embed="rId1"/>
          <a:stretch/>
        </p:blipFill>
        <p:spPr>
          <a:xfrm>
            <a:off x="171360" y="692280"/>
            <a:ext cx="8217000" cy="57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6439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Портрет выпускника начальной школ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i029.radikal.ru/0811/a8/0f32bd9346b0.png"/>
          <p:cNvPicPr/>
          <p:nvPr/>
        </p:nvPicPr>
        <p:blipFill>
          <a:blip r:embed="rId1"/>
          <a:stretch/>
        </p:blipFill>
        <p:spPr>
          <a:xfrm>
            <a:off x="3276720" y="2276640"/>
            <a:ext cx="2158920" cy="2458800"/>
          </a:xfrm>
          <a:prstGeom prst="rect">
            <a:avLst/>
          </a:prstGeom>
          <a:ln w="0">
            <a:noFill/>
          </a:ln>
        </p:spPr>
      </p:pic>
      <p:pic>
        <p:nvPicPr>
          <p:cNvPr id="56" name="Схема 25" descr=""/>
          <p:cNvPicPr/>
          <p:nvPr/>
        </p:nvPicPr>
        <p:blipFill>
          <a:blip r:embed="rId2"/>
          <a:stretch/>
        </p:blipFill>
        <p:spPr>
          <a:xfrm>
            <a:off x="171360" y="731880"/>
            <a:ext cx="8728200" cy="57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194480" y="260280"/>
            <a:ext cx="7194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ируемые результа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стижений обучающих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108000" y="2637000"/>
            <a:ext cx="2736720" cy="100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ЛИЧНОС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3059280" y="2637000"/>
            <a:ext cx="2665080" cy="100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освоенные УУ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6012000" y="2637000"/>
            <a:ext cx="2663640" cy="100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 flipH="1">
            <a:off x="1835280" y="1557360"/>
            <a:ext cx="1296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0"/>
          <p:cNvSpPr/>
          <p:nvPr/>
        </p:nvSpPr>
        <p:spPr>
          <a:xfrm>
            <a:off x="4427640" y="1628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1"/>
          <p:cNvSpPr/>
          <p:nvPr/>
        </p:nvSpPr>
        <p:spPr>
          <a:xfrm>
            <a:off x="5724360" y="1557360"/>
            <a:ext cx="1368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611280" y="765000"/>
            <a:ext cx="806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снове стандарта лежит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333399"/>
                </a:solidFill>
                <a:latin typeface="Times New Roman"/>
              </a:rPr>
              <a:t>системно-деятельностный подх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03280" y="357336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универсальных учебных действ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бщенных способов действия, обеспечивающих высокую эффективность решения жизненных задач и возможность саморазвития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340000" y="0"/>
            <a:ext cx="49039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632720" cy="568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ма педсовета: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«Педагогические приёмы  формирования универсальных учебных действи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ышение компетентности педагогов в освоении приемов формирования У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3:32:57Z</dcterms:created>
  <dc:creator>Marie</dc:creator>
  <dc:description/>
  <dc:language>en-US</dc:language>
  <cp:lastModifiedBy>пк</cp:lastModifiedBy>
  <dcterms:modified xsi:type="dcterms:W3CDTF">2018-01-04T01:57:31Z</dcterms:modified>
  <cp:revision>33</cp:revision>
  <dc:subject/>
  <dc:title>Методическое совещание  «Приёмы педагогической техники для формирования универсальных учебных действий»</dc:title>
</cp:coreProperties>
</file>