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6.png" ContentType="image/png"/>
  <Override PartName="/ppt/media/image11.png" ContentType="image/png"/>
  <Override PartName="/ppt/media/image30.gif" ContentType="image/gif"/>
  <Override PartName="/ppt/media/image14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AB8-25F8-4BCF-AF4B-04E37E84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3EA-F134-4B61-932B-6DFA8096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971-0364-4E22-AEE0-579D0EFC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B4A-4E30-4872-9755-FCC90A27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5245-4BB6-4AD7-8B33-CA74C031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20C6-290B-45DD-8504-89B29571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D936-02C3-4356-B6FB-569733EB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11BB-9072-49E8-AE39-8013002B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9BAB-D148-4455-A3B2-6927A1D4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7525-AFF2-45E4-B686-7D420581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4B07-7A5A-40E0-A790-E32ABDB4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07B-38A2-40FA-8E70-D182AA0A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0EC7-3947-4AE7-8F49-FFB12103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06FB-1D4D-4869-A5AC-5F088737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3AD8-E5F8-4E63-8444-4FDE4127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800D-DB7E-42EA-948A-0CB7C372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2A07-7F56-4003-AA83-2A80FAB0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EC39-9279-462A-85C7-F7F4BE31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FA09-5590-4AFF-A8D1-D57F502E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08C4-3AE0-4F9C-A2A6-455117C8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2C86-D160-45AD-A2E6-3B1A90B2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E6D9-ED6D-4BBD-B871-DCD725AB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98B-37C5-47A3-8C46-4CF1B7F7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1866-FF2A-4100-BCCE-C8837FDE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392E-550F-49B3-A2E0-6B3D321E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B145-B0F0-467F-8083-E8B2DF87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7D14-748D-41F4-832C-2714189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CCDC-A7A8-4F8E-B5A1-9E76DAA1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45D8-6C44-4CAD-9129-1A8FA89B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F5A0-D10E-495B-ABFE-B9DCEAC1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0572D-0E97-4B27-8B89-3B7CAB19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2F762-EFA6-494C-90ED-93BDBCF2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05E1-6D53-4D0E-A29E-7D372FF9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81E-8BC6-4FFC-B428-42F55A86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F7F27-1EE7-4CE8-B161-F18E7BCA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27873-9031-4C18-BB72-B201264C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49E51-C6E7-4A7C-A8F1-EB71B584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0102-2682-4799-AF38-C33D50B5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9EC5-E0D2-4297-91AF-C4593F2A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6263-1DFD-4482-B1CB-82AA067D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342F7-263B-4213-91E1-06396E4D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61FFC-0BAC-4C06-85FA-C8044AF7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00537-4C0D-48CC-A920-15EA9006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4ECC-1CC7-4681-AB16-AB713AAE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8B9-CE00-4438-803E-C7EA9EE1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140-0E52-4C8B-9A7D-FD9761D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BA4-5302-4B61-9F70-6F6943EF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B18-CE95-4094-9265-7F4B2267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65A-2DE6-4E62-9369-52F34E662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9157-BBB5-41FD-8330-961B274DB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C2B5-B4F1-45E8-A1CF-3FF017DBD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67BA-0125-4359-AB13-CC708E715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Прямоугольник 3" descr=""/>
          <p:cNvPicPr/>
          <p:nvPr/>
        </p:nvPicPr>
        <p:blipFill>
          <a:blip r:embed="rId1"/>
          <a:stretch/>
        </p:blipFill>
        <p:spPr>
          <a:xfrm>
            <a:off x="1006560" y="762120"/>
            <a:ext cx="6937200" cy="255420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4" descr=""/>
          <p:cNvPicPr/>
          <p:nvPr/>
        </p:nvPicPr>
        <p:blipFill>
          <a:blip r:embed="rId2"/>
          <a:stretch/>
        </p:blipFill>
        <p:spPr>
          <a:xfrm>
            <a:off x="2206800" y="4937040"/>
            <a:ext cx="5688000" cy="16588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8" descr="http://nsc.1september.ru/2005/05/4.jpg"/>
          <p:cNvPicPr/>
          <p:nvPr/>
        </p:nvPicPr>
        <p:blipFill>
          <a:blip r:embed="rId3"/>
          <a:stretch/>
        </p:blipFill>
        <p:spPr>
          <a:xfrm>
            <a:off x="755640" y="620640"/>
            <a:ext cx="895320" cy="45738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7" descr="http://nsc.1september.ru/2005/05/3.jpg"/>
          <p:cNvPicPr/>
          <p:nvPr/>
        </p:nvPicPr>
        <p:blipFill>
          <a:blip r:embed="rId4"/>
          <a:stretch/>
        </p:blipFill>
        <p:spPr>
          <a:xfrm>
            <a:off x="7451640" y="436680"/>
            <a:ext cx="865440" cy="46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-360" y="1557000"/>
            <a:ext cx="392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ндитер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профессиональный повар, создающий кондитерские изделия, десерты  и другую запечённую еду. Представителей этой профессии можно встретить в крупных отелях, ресторанах и пекарнях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Рисунок 3" descr=""/>
          <p:cNvPicPr/>
          <p:nvPr/>
        </p:nvPicPr>
        <p:blipFill>
          <a:blip r:embed="rId1"/>
          <a:stretch/>
        </p:blipFill>
        <p:spPr>
          <a:xfrm>
            <a:off x="4284720" y="1130400"/>
            <a:ext cx="44625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539640" y="4581360"/>
            <a:ext cx="7993080" cy="2087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79930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стория профе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, что слово «кондитер» произошло от итальянского глагола «кандиере», который дословно переводится, как «варить в сахаре». Итальянские кондитеры славятся своими изысканными сладостями еще с XV-XVI веков. Но первооткрывателями кондитерского ремесла принято считать арабов, которым сахар известен еще с 850 года. Бытует миф о том, что традиционные сладости относились к секретам арабских государств, ведь Европе пахлава, халва и рахат-лукум появились только в XVII веке. С другой стороны, за первенство в кондитерстве с арабами могут соперничать и древние индусы, издавна открывшие чудесные свойства сахарного тростника и изготавливавшие из него сахарные палочки. Удивительные свойства шоколада были известны еще индейцам майя, но, если учитывать, что натуральный шоколад является горьким, нельзя с уверенностью назвать их первыми поварами-кондитер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79930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писание  профе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-кондитер – специалист, умеющий искусно приготавливать сладкие лакомства, десерты, торты, пирожные и т.д. Кондитер может готовить по рецепту и без, экспериментируя, изобретая новые блюда, оригинальные сочетания вкусов и запахов. Повар-кондитер замешивает, взбивает, раскатывает тесто, готовит наполнители, крема, муссы и джемы, проверяет вес готового изделия, определяет его калорийность. Кондитер должен уметь определять качество продуктов по их виду, запаху и вкусу, должен знать все об их свойствах, чтобы гармонично сочетать компоненты изделия, а также знать, чем заменить недостающий ингредиент. Кроме того, повар-кондитер должен досконально изучить оборудование и инструменты для готовки. Неотъемлемая часть работы кондитера – художественная составляющая. Для того, чтобы десерт был красивым, повар должен обладать не только ярким воображением, но и хорошим глазоме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де 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65040" y="1487160"/>
            <a:ext cx="420696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е образование для повара-кондитера не является обязательны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 хорошим «спецом» в этой сфере можно отучившись в лицее, техникуме, колледже. Специальность так и называется – «Повар-кондитер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можно продолжить в ВУЗ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5" descr=":::Downloads:1396112402_979.jpg.png"/>
          <p:cNvPicPr/>
          <p:nvPr/>
        </p:nvPicPr>
        <p:blipFill>
          <a:blip r:embed="rId1"/>
          <a:stretch/>
        </p:blipFill>
        <p:spPr>
          <a:xfrm>
            <a:off x="4716360" y="1916280"/>
            <a:ext cx="36608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начение  профе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0920" y="1268280"/>
            <a:ext cx="7993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 кондитер была и будет востребована во все времена, так как любовь людей к сладкому вовсе не зависит от экономического состояния в стране или конкретном регион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 дни кондитерская отрасль переживает период подъёма, активно осваивает новые технологии и наработки из смежных областей кулинарии. Российские специалисты, базируясь на достижениях советского периода, возрождают национальные традиции.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Рисунок 3" descr=""/>
          <p:cNvPicPr/>
          <p:nvPr/>
        </p:nvPicPr>
        <p:blipFill>
          <a:blip r:embed="rId1"/>
          <a:stretch/>
        </p:blipFill>
        <p:spPr>
          <a:xfrm>
            <a:off x="2050920" y="3284640"/>
            <a:ext cx="5257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ыв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041720" y="1612440"/>
            <a:ext cx="4471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-кондитер – интересная и востребованная професс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кондитерских изделий – творческая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5" descr=":::Downloads:pastel_pearls_wedding_cake.jpg"/>
          <p:cNvPicPr/>
          <p:nvPr/>
        </p:nvPicPr>
        <p:blipFill>
          <a:blip r:embed="rId1"/>
          <a:stretch/>
        </p:blipFill>
        <p:spPr>
          <a:xfrm>
            <a:off x="611280" y="1484280"/>
            <a:ext cx="29829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7"/>
          <p:cNvSpPr/>
          <p:nvPr/>
        </p:nvSpPr>
        <p:spPr>
          <a:xfrm>
            <a:off x="4932360" y="2205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Вертикальный свиток 6"/>
          <p:cNvSpPr/>
          <p:nvPr/>
        </p:nvSpPr>
        <p:spPr>
          <a:xfrm>
            <a:off x="4284720" y="722160"/>
            <a:ext cx="4500360" cy="564372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01760" y="1557000"/>
            <a:ext cx="30243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моя бабушка на заслуженном отдыхе, на пенсии. Летом она любит выращивать цветы, а зимой  вяжет нам тёплые носки и вареж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Рисунок 5" descr="Раскраски профессии. Садовники. Скачать бесплатно"/>
          <p:cNvPicPr/>
          <p:nvPr/>
        </p:nvPicPr>
        <p:blipFill>
          <a:blip r:embed="rId1"/>
          <a:stretch/>
        </p:blipFill>
        <p:spPr>
          <a:xfrm>
            <a:off x="1727280" y="480528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https://img.myloview.ru/posters/gardener-girl-160-236254.jpg"/>
          <p:cNvPicPr/>
          <p:nvPr/>
        </p:nvPicPr>
        <p:blipFill>
          <a:blip r:embed="rId2"/>
          <a:stretch/>
        </p:blipFill>
        <p:spPr>
          <a:xfrm>
            <a:off x="1071720" y="928800"/>
            <a:ext cx="31431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284720" y="620640"/>
            <a:ext cx="4859280" cy="5641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"/>
          <p:cNvSpPr/>
          <p:nvPr/>
        </p:nvSpPr>
        <p:spPr>
          <a:xfrm>
            <a:off x="5148360" y="177336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 моя бабушка говорит, что её профессия -  просто быть бабушкой, и я её за это очень люб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Содержимое 7" descr="http://cdn01.ru/files/users/images/e9/6f/e96fa854801721e939475dd8f62926f2.jpg"/>
          <p:cNvPicPr/>
          <p:nvPr/>
        </p:nvPicPr>
        <p:blipFill>
          <a:blip r:embed="rId2"/>
          <a:stretch/>
        </p:blipFill>
        <p:spPr>
          <a:xfrm>
            <a:off x="826920" y="1268280"/>
            <a:ext cx="38102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8" descr="http://funforkids.ru/paint/chef/chef25.gif"/>
          <p:cNvPicPr/>
          <p:nvPr/>
        </p:nvPicPr>
        <p:blipFill>
          <a:blip r:embed="rId1"/>
          <a:stretch/>
        </p:blipFill>
        <p:spPr>
          <a:xfrm>
            <a:off x="1258920" y="3933720"/>
            <a:ext cx="1944720" cy="2232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7" descr="C:\Users\toshiba\Desktop\семейное фото\Мы в отпуске. 2014 225.JPG"/>
          <p:cNvPicPr/>
          <p:nvPr/>
        </p:nvPicPr>
        <p:blipFill>
          <a:blip r:embed="rId2"/>
          <a:stretch/>
        </p:blipFill>
        <p:spPr>
          <a:xfrm>
            <a:off x="500040" y="357120"/>
            <a:ext cx="80010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70c0"/>
                </a:solidFill>
                <a:latin typeface="Calibri"/>
              </a:rPr>
              <a:t>ИСТОЧНИ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28200" y="1825200"/>
            <a:ext cx="61801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 материалам из Интернет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ttp://artisancakecompany.com/wp-content/uploads/2009/02/pastel_pearls_wedding_cake.jp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ttp://hovrashok.com.ua/images/Nov/05/4e53b765b901085d2b46365405bdcc1a/mini_2.jp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ttp://video-recepty.narod.ru/images/kak-gotovit-rolly.jp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duNews.ru/.../obzor/s-lyudmi/povar-konditer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orktips.ru/professiya-povar-kondi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ulledu.ru/.../article/689_povar-konditer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Рисунок 22" descr="http://gorniypu68.ucoz.ru/povar.gif"/>
          <p:cNvPicPr/>
          <p:nvPr/>
        </p:nvPicPr>
        <p:blipFill>
          <a:blip r:embed="rId1"/>
          <a:stretch/>
        </p:blipFill>
        <p:spPr>
          <a:xfrm>
            <a:off x="6781680" y="1959120"/>
            <a:ext cx="204804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Вертикальный свиток 5"/>
          <p:cNvSpPr/>
          <p:nvPr/>
        </p:nvSpPr>
        <p:spPr>
          <a:xfrm>
            <a:off x="4000680" y="642960"/>
            <a:ext cx="4572000" cy="564372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4643280" y="1357200"/>
            <a:ext cx="314352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ня зовут Казакова Лилия.  Я учусь во втором классе. Пока я только ученица. Но совсем скоро мне придется выбирать – кем ста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я решила    расспросить у своей бабушки   об её проф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500040" y="723960"/>
            <a:ext cx="322596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9"/>
          <p:cNvSpPr/>
          <p:nvPr/>
        </p:nvSpPr>
        <p:spPr>
          <a:xfrm>
            <a:off x="1071720" y="1785960"/>
            <a:ext cx="69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СПАСИБО ЗА ВНИМ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Вертикальный свиток 5"/>
          <p:cNvSpPr/>
          <p:nvPr/>
        </p:nvSpPr>
        <p:spPr>
          <a:xfrm>
            <a:off x="4357800" y="714240"/>
            <a:ext cx="4572000" cy="509112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 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1.   Узнать, что такое «професс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2.   Собрать информацию о профессии моей баб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3.   Узнать, чем занимается бабушка, выйдя на пенс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42960" y="4000680"/>
            <a:ext cx="29145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Вертикальный свиток 6"/>
          <p:cNvSpPr/>
          <p:nvPr/>
        </p:nvSpPr>
        <p:spPr>
          <a:xfrm>
            <a:off x="285840" y="714240"/>
            <a:ext cx="4572000" cy="509112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71640" y="1571760"/>
          <a:ext cx="3313080" cy="314316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ЦЕЛЬ ИССЛЕДОВА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узнать о профессии моей бабуш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Вертикальный свиток 5"/>
          <p:cNvSpPr/>
          <p:nvPr/>
        </p:nvSpPr>
        <p:spPr>
          <a:xfrm>
            <a:off x="4357800" y="714240"/>
            <a:ext cx="4572000" cy="509112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642960" y="4000680"/>
            <a:ext cx="29145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5000760" y="2637000"/>
            <a:ext cx="32144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 профессии важны и почё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Вертикальный свиток 6"/>
          <p:cNvSpPr/>
          <p:nvPr/>
        </p:nvSpPr>
        <p:spPr>
          <a:xfrm>
            <a:off x="285840" y="714240"/>
            <a:ext cx="4572000" cy="509112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71640" y="1571760"/>
          <a:ext cx="3313080" cy="396216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39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ТОДЫ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учение биограф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отограф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ЪЕКТ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я бабушка -  Казакова  Анна Василь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фессия моей бабу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АСТНИКИ 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лены моей семь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Вертикальный свиток 4"/>
          <p:cNvSpPr/>
          <p:nvPr/>
        </p:nvSpPr>
        <p:spPr>
          <a:xfrm>
            <a:off x="3844800" y="476280"/>
            <a:ext cx="5299200" cy="568944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В мире много есть люд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И красивей и прекрасн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Только с бабушкой мо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не всегда тепло и яс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И обнимет, и прижм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И поможет, и пойм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И подскажет, как мне бы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Как же здорово с ней жить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одержимое 5" descr="C:\Users\toshiba\Desktop\семейное фото\фото мама\SDC10099.JPG"/>
          <p:cNvPicPr/>
          <p:nvPr/>
        </p:nvPicPr>
        <p:blipFill>
          <a:blip r:embed="rId1"/>
          <a:stretch/>
        </p:blipFill>
        <p:spPr>
          <a:xfrm>
            <a:off x="857160" y="857160"/>
            <a:ext cx="331632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Вертикальный свиток 6"/>
          <p:cNvSpPr/>
          <p:nvPr/>
        </p:nvSpPr>
        <p:spPr>
          <a:xfrm>
            <a:off x="3714840" y="476280"/>
            <a:ext cx="4857840" cy="573876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4572000" y="119700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й бабушке почти 70 лет. Её трудовой стаж составляет  38 лет. За это время бабушка освоила очень много нужных професс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або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ом  общепи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фетчи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ом-кондите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си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я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кмахе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ей комбинатом бытового обслуживания (КБ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ндантом курорта «Баунт», пос. Горячий Клю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Содержимое 7" descr="C:\Users\toshiba\Desktop\моя бабушка\20171118_203654.jpg"/>
          <p:cNvPicPr/>
          <p:nvPr/>
        </p:nvPicPr>
        <p:blipFill>
          <a:blip r:embed="rId1"/>
          <a:stretch/>
        </p:blipFill>
        <p:spPr>
          <a:xfrm>
            <a:off x="1071720" y="1357200"/>
            <a:ext cx="27860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Вертикальный свиток 3"/>
          <p:cNvSpPr/>
          <p:nvPr/>
        </p:nvSpPr>
        <p:spPr>
          <a:xfrm>
            <a:off x="4284720" y="765000"/>
            <a:ext cx="4282920" cy="509112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есс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од трудовой деятельности,   требующий специальной подготовк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1042920" y="2349360"/>
            <a:ext cx="2737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профессия?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0" descr="MCj04348740000[1]"/>
          <p:cNvPicPr/>
          <p:nvPr/>
        </p:nvPicPr>
        <p:blipFill>
          <a:blip r:embed="rId1"/>
          <a:stretch/>
        </p:blipFill>
        <p:spPr>
          <a:xfrm>
            <a:off x="611280" y="620640"/>
            <a:ext cx="1512720" cy="159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4" descr="MCj04348800000[1]"/>
          <p:cNvPicPr/>
          <p:nvPr/>
        </p:nvPicPr>
        <p:blipFill>
          <a:blip r:embed="rId2"/>
          <a:stretch/>
        </p:blipFill>
        <p:spPr>
          <a:xfrm>
            <a:off x="2771640" y="9810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MCj04348830000[1]"/>
          <p:cNvPicPr/>
          <p:nvPr/>
        </p:nvPicPr>
        <p:blipFill>
          <a:blip r:embed="rId3"/>
          <a:stretch/>
        </p:blipFill>
        <p:spPr>
          <a:xfrm>
            <a:off x="2987640" y="3284640"/>
            <a:ext cx="1636920" cy="163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MCj04348890000[1]"/>
          <p:cNvPicPr/>
          <p:nvPr/>
        </p:nvPicPr>
        <p:blipFill>
          <a:blip r:embed="rId4"/>
          <a:stretch/>
        </p:blipFill>
        <p:spPr>
          <a:xfrm>
            <a:off x="468360" y="3068640"/>
            <a:ext cx="1582560" cy="1584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j0344939"/>
          <p:cNvPicPr/>
          <p:nvPr/>
        </p:nvPicPr>
        <p:blipFill>
          <a:blip r:embed="rId5"/>
          <a:stretch/>
        </p:blipFill>
        <p:spPr>
          <a:xfrm>
            <a:off x="1547640" y="4149720"/>
            <a:ext cx="1422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Вертикальный свиток 6"/>
          <p:cNvSpPr/>
          <p:nvPr/>
        </p:nvSpPr>
        <p:spPr>
          <a:xfrm>
            <a:off x="4716360" y="476280"/>
            <a:ext cx="3957840" cy="357660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5219640" y="1357200"/>
            <a:ext cx="295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школы  бабушка закончила техникум  по специальности повар -кондитер  и технолог общеп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ьным профессиям она обучалась на кур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Содержимое 8" descr="http://static.zvpu.zp.ua/2017/05/i-1.jpg"/>
          <p:cNvPicPr/>
          <p:nvPr/>
        </p:nvPicPr>
        <p:blipFill>
          <a:blip r:embed="rId1"/>
          <a:stretch/>
        </p:blipFill>
        <p:spPr>
          <a:xfrm>
            <a:off x="2700360" y="1557360"/>
            <a:ext cx="1876320" cy="3294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2322720" cy="2205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677880" y="404640"/>
            <a:ext cx="2200320" cy="3024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4"/>
          <a:stretch/>
        </p:blipFill>
        <p:spPr>
          <a:xfrm>
            <a:off x="1403280" y="3573360"/>
            <a:ext cx="22528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692280"/>
            <a:ext cx="4681440" cy="31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́вар</a:t>
            </a:r>
            <a:r>
              <a:rPr b="0" i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 професси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го является приготовление пищи; в настоящее время, как правило, на предприятиях общественного 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Рисунок 3" descr=""/>
          <p:cNvPicPr/>
          <p:nvPr/>
        </p:nvPicPr>
        <p:blipFill>
          <a:blip r:embed="rId1"/>
          <a:stretch/>
        </p:blipFill>
        <p:spPr>
          <a:xfrm>
            <a:off x="4859280" y="620640"/>
            <a:ext cx="379584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6:16:33Z</dcterms:created>
  <dc:creator>User</dc:creator>
  <dc:description/>
  <dc:language>en-US</dc:language>
  <cp:lastModifiedBy>пк</cp:lastModifiedBy>
  <cp:lastPrinted>2012-05-10T06:19:26Z</cp:lastPrinted>
  <dcterms:modified xsi:type="dcterms:W3CDTF">2018-01-04T04:43:05Z</dcterms:modified>
  <cp:revision>75</cp:revision>
  <dc:subject/>
  <dc:title>Профессия моей бабушки</dc:title>
</cp:coreProperties>
</file>