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7D3-109C-4E2E-B6BD-32E6F02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604-5776-4AE3-8B54-BCB9274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44E-7E98-4A2F-A0FE-69C1E991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CC9-BDAF-4ADB-B7D9-552A4440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F385-465A-4112-BD84-13C13F0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B9C-3286-4593-8303-E72F248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883-7256-4C75-991D-1F811523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F45-B4AA-4693-A80F-E2CDC58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26F-024E-4591-ADB6-12AEC929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3A4-3BC7-4AA6-9D2E-8B5D089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A30D-1A61-4596-B046-1723D99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F80-923D-45CD-82EE-8652E30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A7B9-8C64-46FA-B2C7-5CBB62F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1D3B-5939-4484-BA39-8819566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FC1-83AB-4CA6-9EC0-05D4D4A5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C35-108C-4ABD-843F-26A9A127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2403-0F13-4B48-B0EB-9DAA2C39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5EE-D13F-4393-8909-EA0CABE0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E97-C4DB-4B45-8FF9-3620CB2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E6F-FCBE-489F-8AC5-D7AFBD12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DE6-0CC6-40D4-B138-7D6CB95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468-89E4-4BB3-A115-4BA50ED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1B7-1A93-4149-BC94-1D3A1AD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122-AAF7-478C-851E-B69D65D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FFB5-2A82-428D-BE65-2EF049C6B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CB73-500B-45F8-A850-9CA576762A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ЭТНО - ЭКОЛОГИЧЕСКАЯ УЧЕБНАЯ ТРОПА</a:t>
            </a:r>
            <a:br>
              <a:rPr sz="2500"/>
            </a:br>
            <a:r>
              <a:rPr b="1" lang="ru-RU" sz="2500" spc="-1" strike="noStrike">
                <a:solidFill>
                  <a:srgbClr val="ffffb7"/>
                </a:solidFill>
                <a:latin typeface="Arial Black"/>
              </a:rPr>
              <a:t>ОБУХОВСКОЙ СРЕДНЕЙ ШКОЛЫ №24</a:t>
            </a:r>
            <a:br>
              <a:rPr sz="25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28"/>
          <p:cNvPicPr/>
          <p:nvPr/>
        </p:nvPicPr>
        <p:blipFill>
          <a:blip r:embed="rId1"/>
          <a:stretch/>
        </p:blipFill>
        <p:spPr>
          <a:xfrm>
            <a:off x="1763640" y="1125360"/>
            <a:ext cx="5435640" cy="3881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1187280" y="494172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учитель биологии Мецих О.И.- руководитель про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Былинова В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экологии Жаренкова А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4-201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3.  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Искусственная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экологическая система.  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56000" y="4437000"/>
            <a:ext cx="64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ентябре  1986 года в посёлке Обухово  бы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ведена в эксплуатацию новая  школа № 2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круг школы высадили молодые деревца и кустарник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.к. во время строительства была произведена вырубка лес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00000" y="22784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дать характеристику искусств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ой системе; показать антропогенное влияние человека – источники загрязнения, небольшое биоразнообразие вокруг школы, участие человека в поддержании равновесия экосис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4. Клязьма.  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Улица Набережная. 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50920" y="1627560"/>
            <a:ext cx="597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еть старое русло реки Клязьмы и валуны, принесённые  древним лед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Содержимое 2" descr="Без названия1.jpg"/>
          <p:cNvPicPr/>
          <p:nvPr/>
        </p:nvPicPr>
        <p:blipFill>
          <a:blip r:embed="rId1"/>
          <a:srcRect l="0" t="9108" r="0" b="9108"/>
          <a:stretch/>
        </p:blipFill>
        <p:spPr>
          <a:xfrm>
            <a:off x="1258920" y="2708280"/>
            <a:ext cx="707076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5. Площадь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Победы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502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что не забыто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то не забыт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32360" y="2708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нтре посёлка Обух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овлен обелиск в пам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х земляков, не вернувшихс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чий дом и отдавших свою жизнь за свободу  и независимость нашей страны. На мемориальных плитах, окружающих обелиск, высечены имена обуховчан, погибших в годы Великой Отечественной войны.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алеко от обели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лощади Победы бы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едена Часовенка в ч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погибших воин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>
            <a:grayscl/>
            <a:lum bright="-16000"/>
          </a:blip>
          <a:stretch/>
        </p:blipFill>
        <p:spPr>
          <a:xfrm>
            <a:off x="395280" y="2637000"/>
            <a:ext cx="4248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6.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Историческая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28240" y="2331720"/>
            <a:ext cx="3821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ать о русской избе – восьмом чуде Све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«глазах» дом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ть наличники, украшающие окна деревянных  домов в посе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5508720" y="206064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857240" y="47422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но, украшен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пильной   резьбо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7.  Парк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« Роща»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30243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ь на пример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экологическ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08360" y="2233440"/>
            <a:ext cx="51847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овательная смена одних сообществ организ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угими на определенном участке сред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ологической сукцессие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 от. латин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cessio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- преемственн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 выделяют 2 типа сукцессий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вичные и вторичны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928800" y="557208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ее здесь была площадка для игры в «Город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Изображение 1" descr="Без названия5.jpg"/>
          <p:cNvPicPr/>
          <p:nvPr/>
        </p:nvPicPr>
        <p:blipFill>
          <a:blip r:embed="rId1"/>
          <a:stretch/>
        </p:blipFill>
        <p:spPr>
          <a:xfrm>
            <a:off x="826920" y="333360"/>
            <a:ext cx="7417080" cy="49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экол_тропа 002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143080" y="5500800"/>
            <a:ext cx="61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ывшая площадка для игры                                                                       в баскетбол и волейбо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8.  Родник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34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нформация о родниках, о значении воды, необходимости сохранения  природных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4500720" y="1557360"/>
            <a:ext cx="4248000" cy="5054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547640" y="566100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личие родника с питьевой водой в посё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284720" y="61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9. Озёра-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стариц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105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старые русла реки Клязьмы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зёра-стариц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3"/>
          <p:cNvPicPr/>
          <p:nvPr/>
        </p:nvPicPr>
        <p:blipFill>
          <a:blip r:embed="rId1"/>
          <a:stretch/>
        </p:blipFill>
        <p:spPr>
          <a:xfrm>
            <a:off x="4643280" y="1714680"/>
            <a:ext cx="3959280" cy="48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4" descr="2"/>
          <p:cNvPicPr/>
          <p:nvPr/>
        </p:nvPicPr>
        <p:blipFill>
          <a:blip r:embed="rId1"/>
          <a:stretch/>
        </p:blipFill>
        <p:spPr>
          <a:xfrm>
            <a:off x="4284720" y="350028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5"/>
          <p:cNvPicPr/>
          <p:nvPr/>
        </p:nvPicPr>
        <p:blipFill>
          <a:blip r:embed="rId2"/>
          <a:stretch/>
        </p:blipFill>
        <p:spPr>
          <a:xfrm>
            <a:off x="142920" y="142920"/>
            <a:ext cx="5408640" cy="3286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6"/>
          <p:cNvSpPr/>
          <p:nvPr/>
        </p:nvSpPr>
        <p:spPr>
          <a:xfrm>
            <a:off x="5867280" y="333360"/>
            <a:ext cx="30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есохшее озеро-старица, напоминающее конфигурацию русла реки, заросшее тра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сколько лет назад озеро было заполнено водой, по берегам простирались заросли незабудки и калуж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1042920" y="465192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еро-старица в период дождей и таяния снега заполняется водо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Описание этно- экологической тропы</a:t>
            </a:r>
            <a:br>
              <a:rPr sz="2600"/>
            </a:br>
            <a:r>
              <a:rPr b="1" i="1" lang="ru-RU" sz="2600" spc="-1" strike="noStrike">
                <a:solidFill>
                  <a:srgbClr val="ffffb7"/>
                </a:solidFill>
                <a:latin typeface="Arial Black"/>
              </a:rPr>
              <a:t>             «Обуховская земля»</a:t>
            </a:r>
            <a:br>
              <a:rPr sz="26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ние природоохранных знаний и культуры поведения учащихся в природ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ответственности за сохранение окружающей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олнение этно-экологической культуры школьников, кото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ет воспитанию чувства любви к природе и своей Родин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ая этно-экологическая троп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ет собой маршрут, объединяющ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но-экологических остановок - станций, рассказывающих  о традиционной экологиче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котропа является учебно-познавательной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032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тановка №10. Луга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360" y="1915920"/>
            <a:ext cx="376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еть в природе такие явления, как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вторичн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ть антропогенное влияние на прир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экол_тропа 013"/>
          <p:cNvPicPr/>
          <p:nvPr/>
        </p:nvPicPr>
        <p:blipFill>
          <a:blip r:embed="rId1"/>
          <a:stretch/>
        </p:blipFill>
        <p:spPr>
          <a:xfrm>
            <a:off x="179280" y="1989000"/>
            <a:ext cx="4753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6" descr="экол_тропа 014"/>
          <p:cNvPicPr/>
          <p:nvPr/>
        </p:nvPicPr>
        <p:blipFill>
          <a:blip r:embed="rId1"/>
          <a:stretch/>
        </p:blipFill>
        <p:spPr>
          <a:xfrm>
            <a:off x="684360" y="214200"/>
            <a:ext cx="7848360" cy="4500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7"/>
          <p:cNvSpPr/>
          <p:nvPr/>
        </p:nvSpPr>
        <p:spPr>
          <a:xfrm>
            <a:off x="571680" y="47862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севере от посёлка Обухово располагаются луга вдоль правого берега Клязь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60-е годы луга использовались под сенокос; в 90-е годы луг поделили на участки – огороды, которые были  розданы насел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2000г. все участки  были заброше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-435132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24000" y="1065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С северо-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запада через весь луг проходит ЛЭП. Под ней формируется мощное электромагнитное поле, влияние которого на живые организмы полностью не изучено. В результате многолетних наблюдений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можем сказать, что в зоне действия электромагнитного поля хуже растительность, не вьют гнезда птицы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Изображение 1" descr="9.jpg"/>
          <p:cNvPicPr/>
          <p:nvPr/>
        </p:nvPicPr>
        <p:blipFill>
          <a:blip r:embed="rId1"/>
          <a:stretch/>
        </p:blipFill>
        <p:spPr>
          <a:xfrm>
            <a:off x="826920" y="1989000"/>
            <a:ext cx="7429680" cy="44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1. Мир леса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87640" y="155736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Боготворю деревья.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х доверием детским  дорожу,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Я в лес вхожу, как будто к  другу в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дверь,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И как по царству, по лесу брож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. Гамза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78920" y="4365360"/>
            <a:ext cx="558180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кур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инственный мир леса, познакомить учащихся с некоторыми народными легендами, связанными с дерев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экол_тропа 010"/>
          <p:cNvPicPr/>
          <p:nvPr/>
        </p:nvPicPr>
        <p:blipFill>
          <a:blip r:embed="rId1"/>
          <a:stretch/>
        </p:blipFill>
        <p:spPr>
          <a:xfrm>
            <a:off x="250920" y="260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516720" y="134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кудли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879480" y="4960800"/>
            <a:ext cx="740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Прокудить»  – шалить, дури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казничать; творить пак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едокурить, творить кому – либо из шал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бавляться дурачествами, вредя друг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словарь В. Дал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экол_тропа 009"/>
          <p:cNvPicPr/>
          <p:nvPr/>
        </p:nvPicPr>
        <p:blipFill>
          <a:blip r:embed="rId1"/>
          <a:stretch/>
        </p:blipFill>
        <p:spPr>
          <a:xfrm>
            <a:off x="142920" y="142920"/>
            <a:ext cx="4968720" cy="362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экол_тропа 003"/>
          <p:cNvPicPr/>
          <p:nvPr/>
        </p:nvPicPr>
        <p:blipFill>
          <a:blip r:embed="rId2"/>
          <a:stretch/>
        </p:blipFill>
        <p:spPr>
          <a:xfrm>
            <a:off x="3780000" y="2708280"/>
            <a:ext cx="516888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ка №12. Река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                  Шаловка.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60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казать на проблемы малых р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начение родников в питании малых рек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накомить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м «подземные  воды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624560" y="2008080"/>
            <a:ext cx="434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шалить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 В. Далю) в русском языке означает не только «грабить на дорогах», но и «играть, резвиться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бавляться»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3. Древнее         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         море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388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идеть в природе такое явление, как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ервич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кцесс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окаменелые останки древних морских организмов;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аться произвести раскопки и обнаружить свои нахо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3"/>
          <p:cNvPicPr/>
          <p:nvPr/>
        </p:nvPicPr>
        <p:blipFill>
          <a:blip r:embed="rId1"/>
          <a:stretch/>
        </p:blipFill>
        <p:spPr>
          <a:xfrm>
            <a:off x="4140360" y="1916280"/>
            <a:ext cx="48243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2103480" y="29988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печаток моллюс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известняк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Изображение 2" descr="8.jpg"/>
          <p:cNvPicPr/>
          <p:nvPr/>
        </p:nvPicPr>
        <p:blipFill>
          <a:blip r:embed="rId1"/>
          <a:stretch/>
        </p:blipFill>
        <p:spPr>
          <a:xfrm>
            <a:off x="1332000" y="1341360"/>
            <a:ext cx="6959520" cy="52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0"/>
          <p:cNvPicPr/>
          <p:nvPr/>
        </p:nvPicPr>
        <p:blipFill>
          <a:blip r:embed="rId1"/>
          <a:stretch/>
        </p:blipFill>
        <p:spPr>
          <a:xfrm>
            <a:off x="179280" y="214200"/>
            <a:ext cx="4248360" cy="39387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87640" y="333360"/>
            <a:ext cx="63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менелый мор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люс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9"/>
          <p:cNvPicPr/>
          <p:nvPr/>
        </p:nvPicPr>
        <p:blipFill>
          <a:blip r:embed="rId2"/>
          <a:stretch/>
        </p:blipFill>
        <p:spPr>
          <a:xfrm>
            <a:off x="4500720" y="2857680"/>
            <a:ext cx="4500360" cy="379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1619280" y="486900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алун - результа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ревнего оледенения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. Вводная.  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   Начало троп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332000" y="162864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история создания экологической тропы в мире, ее роль и функция, знакомство с правилами поведения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BD21339_"/>
          <p:cNvPicPr/>
          <p:nvPr/>
        </p:nvPicPr>
        <p:blipFill>
          <a:blip r:embed="rId1"/>
          <a:stretch/>
        </p:blipFill>
        <p:spPr>
          <a:xfrm>
            <a:off x="6838920" y="50436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1" descr="Без заголовка.jpg"/>
          <p:cNvPicPr/>
          <p:nvPr/>
        </p:nvPicPr>
        <p:blipFill>
          <a:blip r:embed="rId2"/>
          <a:stretch/>
        </p:blipFill>
        <p:spPr>
          <a:xfrm>
            <a:off x="6012000" y="2708280"/>
            <a:ext cx="266040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Изображение 3" descr="1.jpg"/>
          <p:cNvPicPr/>
          <p:nvPr/>
        </p:nvPicPr>
        <p:blipFill>
          <a:blip r:embed="rId3"/>
          <a:stretch/>
        </p:blipFill>
        <p:spPr>
          <a:xfrm>
            <a:off x="1476360" y="3860640"/>
            <a:ext cx="352728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50"/>
          <p:cNvPicPr/>
          <p:nvPr/>
        </p:nvPicPr>
        <p:blipFill>
          <a:blip r:embed="rId1"/>
          <a:stretch/>
        </p:blipFill>
        <p:spPr>
          <a:xfrm>
            <a:off x="214200" y="2857680"/>
            <a:ext cx="5591160" cy="37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18"/>
          <p:cNvPicPr/>
          <p:nvPr/>
        </p:nvPicPr>
        <p:blipFill>
          <a:blip r:embed="rId2"/>
          <a:stretch/>
        </p:blipFill>
        <p:spPr>
          <a:xfrm>
            <a:off x="3643200" y="214200"/>
            <a:ext cx="5329440" cy="3429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375560" y="32457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800" y="40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1420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астывш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nastasiaScript"/>
              </a:rPr>
              <a:t>Земли</a:t>
            </a:r>
            <a:r>
              <a:rPr b="0" lang="ru-RU" sz="3200" spc="-1" strike="noStrike">
                <a:solidFill>
                  <a:srgbClr val="ffffff"/>
                </a:solidFill>
                <a:latin typeface="FangSong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14. Итогов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86200" y="2857680"/>
            <a:ext cx="3600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зыв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чащимся беречь и  охранять прир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2960" y="1571760"/>
            <a:ext cx="39276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ведение итогов и обсуждение результатов экскур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85880" y="4499640"/>
            <a:ext cx="80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роду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чит охраня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ою Родин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тановка №2. Историко- 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этнографическая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о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экскурсия по музею нашей школ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Изображение 2" descr="2.jpg"/>
          <p:cNvPicPr/>
          <p:nvPr/>
        </p:nvPicPr>
        <p:blipFill>
          <a:blip r:embed="rId1"/>
          <a:stretch/>
        </p:blipFill>
        <p:spPr>
          <a:xfrm>
            <a:off x="1116000" y="3429000"/>
            <a:ext cx="331488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3.jpg"/>
          <p:cNvPicPr/>
          <p:nvPr/>
        </p:nvPicPr>
        <p:blipFill>
          <a:blip r:embed="rId2"/>
          <a:stretch/>
        </p:blipFill>
        <p:spPr>
          <a:xfrm>
            <a:off x="5219640" y="2133720"/>
            <a:ext cx="3403800" cy="42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26420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Изображение 1" descr="4.jpg"/>
          <p:cNvPicPr/>
          <p:nvPr/>
        </p:nvPicPr>
        <p:blipFill>
          <a:blip r:embed="rId1"/>
          <a:stretch/>
        </p:blipFill>
        <p:spPr>
          <a:xfrm>
            <a:off x="468360" y="1413000"/>
            <a:ext cx="3009960" cy="4000320"/>
          </a:xfrm>
          <a:prstGeom prst="rect">
            <a:avLst/>
          </a:prstGeom>
          <a:ln w="0">
            <a:noFill/>
          </a:ln>
        </p:spPr>
      </p:pic>
      <p:pic>
        <p:nvPicPr>
          <p:cNvPr id="117" name="Изображение 2" descr="12.jpg"/>
          <p:cNvPicPr/>
          <p:nvPr/>
        </p:nvPicPr>
        <p:blipFill>
          <a:blip r:embed="rId2"/>
          <a:stretch/>
        </p:blipFill>
        <p:spPr>
          <a:xfrm>
            <a:off x="3635280" y="404640"/>
            <a:ext cx="510552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68"/>
          <p:cNvPicPr/>
          <p:nvPr/>
        </p:nvPicPr>
        <p:blipFill>
          <a:blip r:embed="rId1"/>
          <a:stretch/>
        </p:blipFill>
        <p:spPr>
          <a:xfrm>
            <a:off x="826920" y="620640"/>
            <a:ext cx="757584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54"/>
          <p:cNvPicPr/>
          <p:nvPr/>
        </p:nvPicPr>
        <p:blipFill>
          <a:blip r:embed="rId1"/>
          <a:stretch/>
        </p:blipFill>
        <p:spPr>
          <a:xfrm>
            <a:off x="468360" y="333360"/>
            <a:ext cx="381636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55"/>
          <p:cNvPicPr/>
          <p:nvPr/>
        </p:nvPicPr>
        <p:blipFill>
          <a:blip r:embed="rId2"/>
          <a:stretch/>
        </p:blipFill>
        <p:spPr>
          <a:xfrm>
            <a:off x="4932360" y="1557360"/>
            <a:ext cx="3743280" cy="4695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076720" y="47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онаты муз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39"/>
          <p:cNvPicPr/>
          <p:nvPr/>
        </p:nvPicPr>
        <p:blipFill>
          <a:blip r:embed="rId1"/>
          <a:stretch/>
        </p:blipFill>
        <p:spPr>
          <a:xfrm>
            <a:off x="2071800" y="28584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8"/>
          <p:cNvSpPr/>
          <p:nvPr/>
        </p:nvSpPr>
        <p:spPr>
          <a:xfrm>
            <a:off x="303120" y="4311720"/>
            <a:ext cx="3621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ем в музее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нтерес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Изображение 2" descr="10.jpg"/>
          <p:cNvPicPr/>
          <p:nvPr/>
        </p:nvPicPr>
        <p:blipFill>
          <a:blip r:embed="rId1"/>
          <a:stretch/>
        </p:blipFill>
        <p:spPr>
          <a:xfrm>
            <a:off x="250920" y="26028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126" name="Изображение 1" descr="6.jpg"/>
          <p:cNvPicPr/>
          <p:nvPr/>
        </p:nvPicPr>
        <p:blipFill>
          <a:blip r:embed="rId2"/>
          <a:stretch/>
        </p:blipFill>
        <p:spPr>
          <a:xfrm>
            <a:off x="3851280" y="2637000"/>
            <a:ext cx="509256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8:25:13Z</dcterms:created>
  <dc:creator>Вика</dc:creator>
  <dc:description/>
  <dc:language>en-US</dc:language>
  <cp:lastModifiedBy>Mac</cp:lastModifiedBy>
  <dcterms:modified xsi:type="dcterms:W3CDTF">2019-08-13T15:06:35Z</dcterms:modified>
  <cp:revision>111</cp:revision>
  <dc:subject/>
  <dc:title>ЭТНО - ЭКОЛОГИЧЕСКАЯ УЧЕБНАЯ ТРОПА ОБУХОВСКОЙ СРЕДНЕЙ ШКОЛЫ №24</dc:title>
</cp:coreProperties>
</file>