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BAF-BC56-45DD-A3D2-412B0D9A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E92-1D06-4DAF-A333-3625A2C4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1DA-F011-4F6F-8C06-805BADF5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8928-4074-42BD-9906-57F036A3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74AD-D871-4F68-AB2D-5C5DD014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DB0D-E317-4FBD-8547-ECCDEE85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8745-3B5D-4620-9E0A-A081EB60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5D80-7E87-4482-AA9E-6DAF433D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A0A1-7E1E-44D8-846D-24A5862A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3C6E-E7A0-42E1-B55B-FE196069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7DDE-8196-4DB8-8AAF-01965B2A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0B0-E75D-4225-91B5-0EAFD8AA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A4A5-EE91-4A7D-8AD2-270710F3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0D3D-E236-4F0D-B594-4C4E9D9B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189F-1264-413B-9DA2-1727CDDC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C0D3-7D96-492D-8798-9EF23E6D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2AD0-FDD8-4C7D-904A-AED23324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DE6-A777-4616-88E8-50B986C7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FB4-2444-43C1-8CDB-1EEE001A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20C-88F3-4238-9EC7-BC8D84B2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130-0D02-4351-88C4-4FEEE951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91F-A497-4BCE-8C0F-18297D9B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806-F47B-447D-8333-6A93CD05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968-E11B-410C-8C6D-169E76F4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CEAB-ABBF-441E-A500-B47E0D4ADA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65E1-BCAB-43C6-A0AB-B8A8055A6C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b7"/>
                </a:solidFill>
                <a:latin typeface="Arial Black"/>
              </a:rPr>
              <a:t>ЭТНО - ЭКОЛОГИЧЕСКАЯ УЧЕБНАЯ ТРОПА</a:t>
            </a:r>
            <a:br>
              <a:rPr sz="2500"/>
            </a:br>
            <a:r>
              <a:rPr b="1" lang="ru-RU" sz="2500" spc="-1" strike="noStrike">
                <a:solidFill>
                  <a:srgbClr val="ffffb7"/>
                </a:solidFill>
                <a:latin typeface="Arial Black"/>
              </a:rPr>
              <a:t>ОБУХОВСКОЙ СРЕДНЕЙ ШКОЛЫ №24</a:t>
            </a:r>
            <a:br>
              <a:rPr sz="25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6" descr="28"/>
          <p:cNvPicPr/>
          <p:nvPr/>
        </p:nvPicPr>
        <p:blipFill>
          <a:blip r:embed="rId1"/>
          <a:stretch/>
        </p:blipFill>
        <p:spPr>
          <a:xfrm>
            <a:off x="1763640" y="1125360"/>
            <a:ext cx="5435640" cy="38815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1187280" y="4941720"/>
            <a:ext cx="67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 учитель биологии Мецих О.И.- руководитель 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географии Былинова В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экологии Жаренкова А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4-201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становка №3.      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Искусственная  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экологическая система.  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556000" y="4437000"/>
            <a:ext cx="64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сентябре  1986 года в посёлке Обухово  бы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ведена в эксплуатацию новая  школа № 24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круг школы высадили молодые деревца и кустарник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.к. во время строительства была произведена вырубка лес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900000" y="22784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дать характеристику искусстве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ческой системе; показать антропогенное влияние человека – источники загрязнения, небольшое биоразнообразие вокруг школы, участие человека в поддержании равновесия экосисте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становка №4. Клязьма.    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     Улица Набережная. 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50920" y="1627560"/>
            <a:ext cx="597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смотреть старое русло реки Клязьмы и валуны, принесённые  древним ледни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Содержимое 2" descr="Без названия1.jpg"/>
          <p:cNvPicPr/>
          <p:nvPr/>
        </p:nvPicPr>
        <p:blipFill>
          <a:blip r:embed="rId1"/>
          <a:srcRect l="0" t="9108" r="0" b="9108"/>
          <a:stretch/>
        </p:blipFill>
        <p:spPr>
          <a:xfrm>
            <a:off x="1258920" y="2708280"/>
            <a:ext cx="7070760" cy="37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5. Площадь  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  Победы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5021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что не забыто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кто не забыт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932360" y="2708280"/>
            <a:ext cx="40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центре посёлка Обухо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новлен обелиск в памя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ших земляков, не вернувшихс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тчий дом и отдавших свою жизнь за свободу  и независимость нашей страны. На мемориальных плитах, окружающих обелиск, высечены имена обуховчан, погибших в годы Великой Отечественной войны.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далеко от обели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лощади Победы бы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едена Часовенка в че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и погибших воин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2" descr=""/>
          <p:cNvPicPr/>
          <p:nvPr/>
        </p:nvPicPr>
        <p:blipFill>
          <a:blip r:embed="rId1">
            <a:grayscl/>
            <a:lum bright="-16000"/>
          </a:blip>
          <a:stretch/>
        </p:blipFill>
        <p:spPr>
          <a:xfrm>
            <a:off x="395280" y="2637000"/>
            <a:ext cx="4248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6.     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Историческая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28240" y="2331720"/>
            <a:ext cx="382140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казать о русской избе – восьмом чуде Свет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«глазах» дом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отреть наличники, украшающие окна деревянных  домов в посел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>
            <a:grayscl/>
            <a:lum contrast="48000"/>
          </a:blip>
          <a:stretch/>
        </p:blipFill>
        <p:spPr>
          <a:xfrm>
            <a:off x="5508720" y="2060640"/>
            <a:ext cx="3240000" cy="4176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857240" y="474228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кно, украшен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пильной   резьбой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7.  Парк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      « Роща»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302436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зать на примере такое явление, как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экологическ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укцессия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708360" y="2233440"/>
            <a:ext cx="518472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следовательная смена одних сообществ организм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ругими на определенном участке среды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кологической сукцессией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 от. латин.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uccessio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- преемственност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 выделяют 2 типа сукцессий: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рвичные и вторичны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928800" y="5572080"/>
            <a:ext cx="69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нее здесь была площадка для игры в «Городк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Изображение 1" descr="Без названия5.jpg"/>
          <p:cNvPicPr/>
          <p:nvPr/>
        </p:nvPicPr>
        <p:blipFill>
          <a:blip r:embed="rId1"/>
          <a:stretch/>
        </p:blipFill>
        <p:spPr>
          <a:xfrm>
            <a:off x="826920" y="333360"/>
            <a:ext cx="7417080" cy="490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экол_тропа 002"/>
          <p:cNvPicPr/>
          <p:nvPr/>
        </p:nvPicPr>
        <p:blipFill>
          <a:blip r:embed="rId1"/>
          <a:stretch/>
        </p:blipFill>
        <p:spPr>
          <a:xfrm>
            <a:off x="684360" y="404640"/>
            <a:ext cx="7848360" cy="4896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143080" y="5500800"/>
            <a:ext cx="61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ывшая площадка для игры                                                                       в баскетбол и волейбо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тановка №8.  Родник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3456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нформация о родниках, о значении воды, необходимости сохранения  природных источ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1"/>
          <p:cNvPicPr/>
          <p:nvPr/>
        </p:nvPicPr>
        <p:blipFill>
          <a:blip r:embed="rId1"/>
          <a:stretch/>
        </p:blipFill>
        <p:spPr>
          <a:xfrm>
            <a:off x="4500720" y="1557360"/>
            <a:ext cx="4248000" cy="5054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547640" y="5661000"/>
            <a:ext cx="266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личие родника с питьевой водой в посёл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4284720" y="6165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9. Озёра- 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       стариц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41054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идеть старые русла реки Клязьмы,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зёра-стариц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3"/>
          <p:cNvPicPr/>
          <p:nvPr/>
        </p:nvPicPr>
        <p:blipFill>
          <a:blip r:embed="rId1"/>
          <a:stretch/>
        </p:blipFill>
        <p:spPr>
          <a:xfrm>
            <a:off x="4643280" y="1714680"/>
            <a:ext cx="3959280" cy="48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4" descr="2"/>
          <p:cNvPicPr/>
          <p:nvPr/>
        </p:nvPicPr>
        <p:blipFill>
          <a:blip r:embed="rId1"/>
          <a:stretch/>
        </p:blipFill>
        <p:spPr>
          <a:xfrm>
            <a:off x="4284720" y="3500280"/>
            <a:ext cx="4681440" cy="3168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5" descr="5"/>
          <p:cNvPicPr/>
          <p:nvPr/>
        </p:nvPicPr>
        <p:blipFill>
          <a:blip r:embed="rId2"/>
          <a:stretch/>
        </p:blipFill>
        <p:spPr>
          <a:xfrm>
            <a:off x="142920" y="142920"/>
            <a:ext cx="5408640" cy="32860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6"/>
          <p:cNvSpPr/>
          <p:nvPr/>
        </p:nvSpPr>
        <p:spPr>
          <a:xfrm>
            <a:off x="5867280" y="333360"/>
            <a:ext cx="30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ресохшее озеро-старица, напоминающее конфигурацию русла реки, заросшее трав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сколько лет назад озеро было заполнено водой, по берегам простирались заросли незабудки и калуж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8"/>
          <p:cNvSpPr/>
          <p:nvPr/>
        </p:nvSpPr>
        <p:spPr>
          <a:xfrm>
            <a:off x="1042920" y="465192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зеро-старица в период дождей и таяния снега заполняется водо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b7"/>
                </a:solidFill>
                <a:latin typeface="Arial Black"/>
              </a:rPr>
              <a:t>Описание этно- экологической тропы</a:t>
            </a:r>
            <a:br>
              <a:rPr sz="2600"/>
            </a:br>
            <a:r>
              <a:rPr b="1" i="1" lang="ru-RU" sz="2600" spc="-1" strike="noStrike">
                <a:solidFill>
                  <a:srgbClr val="ffffb7"/>
                </a:solidFill>
                <a:latin typeface="Arial Black"/>
              </a:rPr>
              <a:t>             «Обуховская земля»</a:t>
            </a:r>
            <a:br>
              <a:rPr sz="2600"/>
            </a:b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ние природоохранных знаний и культуры поведения учащихся в природ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ответственности за сохранение окружающей сред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олнение этно-экологической культуры школьников, котор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ствует воспитанию чувства любви к природе и своей Родин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нная этно-экологическая троп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тавляет собой маршрут, объединяющи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тно-экологических остановок - станций, рассказывающих  о традиционной экологической культу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котропа является учебно-познавательной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3032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тановка №10. Луга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8360" y="1915920"/>
            <a:ext cx="3768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идеть в природе такие явления, как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вторична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укцессия»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ить антропогенное влияние на прир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7" descr="экол_тропа 013"/>
          <p:cNvPicPr/>
          <p:nvPr/>
        </p:nvPicPr>
        <p:blipFill>
          <a:blip r:embed="rId1"/>
          <a:stretch/>
        </p:blipFill>
        <p:spPr>
          <a:xfrm>
            <a:off x="179280" y="1989000"/>
            <a:ext cx="47530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6" descr="экол_тропа 014"/>
          <p:cNvPicPr/>
          <p:nvPr/>
        </p:nvPicPr>
        <p:blipFill>
          <a:blip r:embed="rId1"/>
          <a:stretch/>
        </p:blipFill>
        <p:spPr>
          <a:xfrm>
            <a:off x="684360" y="214200"/>
            <a:ext cx="7848360" cy="4500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7"/>
          <p:cNvSpPr/>
          <p:nvPr/>
        </p:nvSpPr>
        <p:spPr>
          <a:xfrm>
            <a:off x="571680" y="4786200"/>
            <a:ext cx="820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севере от посёлка Обухово располагаются луга вдоль правого берега Клязь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60-е годы луга использовались под сенокос; в 90-е годы луг поделили на участки – огороды, которые были  розданы насел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 2000г. все участки  были заброше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-435132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24000" y="106560"/>
            <a:ext cx="849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С северо-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запада через весь луг проходит ЛЭП. Под ней формируется мощное электромагнитное поле, влияние которого на живые организмы полностью не изучено. В результате многолетних наблюдений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 можем сказать, что в зоне действия электромагнитного поля хуже растительность, не вьют гнезда птицы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Изображение 1" descr="9.jpg"/>
          <p:cNvPicPr/>
          <p:nvPr/>
        </p:nvPicPr>
        <p:blipFill>
          <a:blip r:embed="rId1"/>
          <a:stretch/>
        </p:blipFill>
        <p:spPr>
          <a:xfrm>
            <a:off x="826920" y="1989000"/>
            <a:ext cx="7429680" cy="44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11. Мир леса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987640" y="1557360"/>
            <a:ext cx="5905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Боготворю деревья.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Их доверием детским  дорожу,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Я в лес вхожу, как будто к  другу в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дверь,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И как по царству, по лесу брож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. Гамза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78920" y="4365360"/>
            <a:ext cx="5581800" cy="23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тановк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кур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аинственный мир леса, познакомить учащихся с некоторыми народными легендами, связанными с деревь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экол_тропа 010"/>
          <p:cNvPicPr/>
          <p:nvPr/>
        </p:nvPicPr>
        <p:blipFill>
          <a:blip r:embed="rId1"/>
          <a:stretch/>
        </p:blipFill>
        <p:spPr>
          <a:xfrm>
            <a:off x="250920" y="260280"/>
            <a:ext cx="6121440" cy="4464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6516720" y="13413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кудлив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879480" y="4960800"/>
            <a:ext cx="7407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Прокудить»  – шалить, дури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казничать; творить пак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едокурить, творить кому – либо из шал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бавляться дурачествами, вредя други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словарь В. Даля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экол_тропа 009"/>
          <p:cNvPicPr/>
          <p:nvPr/>
        </p:nvPicPr>
        <p:blipFill>
          <a:blip r:embed="rId1"/>
          <a:stretch/>
        </p:blipFill>
        <p:spPr>
          <a:xfrm>
            <a:off x="142920" y="142920"/>
            <a:ext cx="4968720" cy="3629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экол_тропа 003"/>
          <p:cNvPicPr/>
          <p:nvPr/>
        </p:nvPicPr>
        <p:blipFill>
          <a:blip r:embed="rId2"/>
          <a:stretch/>
        </p:blipFill>
        <p:spPr>
          <a:xfrm>
            <a:off x="3780000" y="2708280"/>
            <a:ext cx="516888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становка №12. Река  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                       Шаловка.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60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казать на проблемы малых ре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начение родников в питании малых рек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знакомить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ятием «подземные  воды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4624560" y="2008080"/>
            <a:ext cx="434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лово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шалить»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по В. Далю) в русском языке означает не только «грабить на дорогах», но и «играть, резвиться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бавляться»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13. Древнее           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       море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388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идеть в природе такое явление, как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первич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укцессия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отреть окаменелые останки древних морских организмов;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ытаться произвести раскопки и обнаружить свои наход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3"/>
          <p:cNvPicPr/>
          <p:nvPr/>
        </p:nvPicPr>
        <p:blipFill>
          <a:blip r:embed="rId1"/>
          <a:stretch/>
        </p:blipFill>
        <p:spPr>
          <a:xfrm>
            <a:off x="4140360" y="1916280"/>
            <a:ext cx="482436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2103480" y="29988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печаток моллюс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известняке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Изображение 2" descr="8.jpg"/>
          <p:cNvPicPr/>
          <p:nvPr/>
        </p:nvPicPr>
        <p:blipFill>
          <a:blip r:embed="rId1"/>
          <a:stretch/>
        </p:blipFill>
        <p:spPr>
          <a:xfrm>
            <a:off x="1332000" y="1341360"/>
            <a:ext cx="6959520" cy="527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10"/>
          <p:cNvPicPr/>
          <p:nvPr/>
        </p:nvPicPr>
        <p:blipFill>
          <a:blip r:embed="rId1"/>
          <a:stretch/>
        </p:blipFill>
        <p:spPr>
          <a:xfrm>
            <a:off x="179280" y="214200"/>
            <a:ext cx="4248360" cy="39387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2987640" y="333360"/>
            <a:ext cx="635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аменелый морск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ллюс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9"/>
          <p:cNvPicPr/>
          <p:nvPr/>
        </p:nvPicPr>
        <p:blipFill>
          <a:blip r:embed="rId2"/>
          <a:stretch/>
        </p:blipFill>
        <p:spPr>
          <a:xfrm>
            <a:off x="4500720" y="2857680"/>
            <a:ext cx="4500360" cy="379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1619280" y="4869000"/>
            <a:ext cx="38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алун - результат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ревнего оледенения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1. Вводная.  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Начало троп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332000" y="1628640"/>
            <a:ext cx="4572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история создания экологической тропы в мире, ее роль и функция, знакомство с правилами поведения в прир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BD21339_"/>
          <p:cNvPicPr/>
          <p:nvPr/>
        </p:nvPicPr>
        <p:blipFill>
          <a:blip r:embed="rId1"/>
          <a:stretch/>
        </p:blipFill>
        <p:spPr>
          <a:xfrm>
            <a:off x="6838920" y="504360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09" name="Изображение 1" descr="Без заголовка.jpg"/>
          <p:cNvPicPr/>
          <p:nvPr/>
        </p:nvPicPr>
        <p:blipFill>
          <a:blip r:embed="rId2"/>
          <a:stretch/>
        </p:blipFill>
        <p:spPr>
          <a:xfrm>
            <a:off x="6012000" y="2708280"/>
            <a:ext cx="2660400" cy="3168720"/>
          </a:xfrm>
          <a:prstGeom prst="rect">
            <a:avLst/>
          </a:prstGeom>
          <a:ln w="0">
            <a:noFill/>
          </a:ln>
        </p:spPr>
      </p:pic>
      <p:pic>
        <p:nvPicPr>
          <p:cNvPr id="110" name="Изображение 3" descr="1.jpg"/>
          <p:cNvPicPr/>
          <p:nvPr/>
        </p:nvPicPr>
        <p:blipFill>
          <a:blip r:embed="rId3"/>
          <a:stretch/>
        </p:blipFill>
        <p:spPr>
          <a:xfrm>
            <a:off x="1476360" y="3860640"/>
            <a:ext cx="3527280" cy="28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50"/>
          <p:cNvPicPr/>
          <p:nvPr/>
        </p:nvPicPr>
        <p:blipFill>
          <a:blip r:embed="rId1"/>
          <a:stretch/>
        </p:blipFill>
        <p:spPr>
          <a:xfrm>
            <a:off x="214200" y="2857680"/>
            <a:ext cx="5591160" cy="3771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18"/>
          <p:cNvPicPr/>
          <p:nvPr/>
        </p:nvPicPr>
        <p:blipFill>
          <a:blip r:embed="rId2"/>
          <a:stretch/>
        </p:blipFill>
        <p:spPr>
          <a:xfrm>
            <a:off x="3643200" y="214200"/>
            <a:ext cx="5329440" cy="3429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1375560" y="32457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800" y="404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214200" y="285840"/>
            <a:ext cx="314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nastasiaScript"/>
              </a:rPr>
              <a:t>Застывш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nastasiaScript"/>
              </a:rPr>
              <a:t>         </a:t>
            </a:r>
            <a:r>
              <a:rPr b="0" i="1" lang="ru-RU" sz="3200" spc="-1" strike="noStrike">
                <a:solidFill>
                  <a:srgbClr val="ffffff"/>
                </a:solidFill>
                <a:latin typeface="AnastasiaScript"/>
              </a:rPr>
              <a:t>исто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nastasiaScript"/>
              </a:rPr>
              <a:t>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nastasiaScript"/>
              </a:rPr>
              <a:t>Земли</a:t>
            </a:r>
            <a:r>
              <a:rPr b="0" lang="ru-RU" sz="3200" spc="-1" strike="noStrike">
                <a:solidFill>
                  <a:srgbClr val="ffffff"/>
                </a:solidFill>
                <a:latin typeface="FangSong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14. Итоговая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786200" y="2857680"/>
            <a:ext cx="36007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зыв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чащимся беречь и  охранять прир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42960" y="1571760"/>
            <a:ext cx="392760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дведение итогов и обсуждение результатов экскур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785880" y="4499640"/>
            <a:ext cx="80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храня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ироду –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начит охраня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вою Родину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2. Историко-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этнографическая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экскурсия по музею нашей школ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Изображение 2" descr="2.jpg"/>
          <p:cNvPicPr/>
          <p:nvPr/>
        </p:nvPicPr>
        <p:blipFill>
          <a:blip r:embed="rId1"/>
          <a:stretch/>
        </p:blipFill>
        <p:spPr>
          <a:xfrm>
            <a:off x="1116000" y="3429000"/>
            <a:ext cx="331488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Изображение 4" descr="3.jpg"/>
          <p:cNvPicPr/>
          <p:nvPr/>
        </p:nvPicPr>
        <p:blipFill>
          <a:blip r:embed="rId2"/>
          <a:stretch/>
        </p:blipFill>
        <p:spPr>
          <a:xfrm>
            <a:off x="5219640" y="2133720"/>
            <a:ext cx="3403800" cy="425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8"/>
          <p:cNvSpPr/>
          <p:nvPr/>
        </p:nvSpPr>
        <p:spPr>
          <a:xfrm>
            <a:off x="426420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Изображение 1" descr="4.jpg"/>
          <p:cNvPicPr/>
          <p:nvPr/>
        </p:nvPicPr>
        <p:blipFill>
          <a:blip r:embed="rId1"/>
          <a:stretch/>
        </p:blipFill>
        <p:spPr>
          <a:xfrm>
            <a:off x="468360" y="1413000"/>
            <a:ext cx="3009960" cy="4000320"/>
          </a:xfrm>
          <a:prstGeom prst="rect">
            <a:avLst/>
          </a:prstGeom>
          <a:ln w="0">
            <a:noFill/>
          </a:ln>
        </p:spPr>
      </p:pic>
      <p:pic>
        <p:nvPicPr>
          <p:cNvPr id="117" name="Изображение 2" descr="12.jpg"/>
          <p:cNvPicPr/>
          <p:nvPr/>
        </p:nvPicPr>
        <p:blipFill>
          <a:blip r:embed="rId2"/>
          <a:stretch/>
        </p:blipFill>
        <p:spPr>
          <a:xfrm>
            <a:off x="3635280" y="404640"/>
            <a:ext cx="5105520" cy="38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68"/>
          <p:cNvPicPr/>
          <p:nvPr/>
        </p:nvPicPr>
        <p:blipFill>
          <a:blip r:embed="rId1"/>
          <a:stretch/>
        </p:blipFill>
        <p:spPr>
          <a:xfrm>
            <a:off x="826920" y="620640"/>
            <a:ext cx="7575840" cy="56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4" descr="54"/>
          <p:cNvPicPr/>
          <p:nvPr/>
        </p:nvPicPr>
        <p:blipFill>
          <a:blip r:embed="rId1"/>
          <a:stretch/>
        </p:blipFill>
        <p:spPr>
          <a:xfrm>
            <a:off x="468360" y="333360"/>
            <a:ext cx="3816360" cy="475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55"/>
          <p:cNvPicPr/>
          <p:nvPr/>
        </p:nvPicPr>
        <p:blipFill>
          <a:blip r:embed="rId2"/>
          <a:stretch/>
        </p:blipFill>
        <p:spPr>
          <a:xfrm>
            <a:off x="4932360" y="1557360"/>
            <a:ext cx="3743280" cy="4695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5076720" y="4762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онаты музе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39"/>
          <p:cNvPicPr/>
          <p:nvPr/>
        </p:nvPicPr>
        <p:blipFill>
          <a:blip r:embed="rId1"/>
          <a:stretch/>
        </p:blipFill>
        <p:spPr>
          <a:xfrm>
            <a:off x="2071800" y="285840"/>
            <a:ext cx="496872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8"/>
          <p:cNvSpPr/>
          <p:nvPr/>
        </p:nvSpPr>
        <p:spPr>
          <a:xfrm>
            <a:off x="303120" y="4311720"/>
            <a:ext cx="36212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ем в музее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нтересн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Изображение 2" descr="10.jpg"/>
          <p:cNvPicPr/>
          <p:nvPr/>
        </p:nvPicPr>
        <p:blipFill>
          <a:blip r:embed="rId1"/>
          <a:stretch/>
        </p:blipFill>
        <p:spPr>
          <a:xfrm>
            <a:off x="250920" y="260280"/>
            <a:ext cx="4800600" cy="3467160"/>
          </a:xfrm>
          <a:prstGeom prst="rect">
            <a:avLst/>
          </a:prstGeom>
          <a:ln w="0">
            <a:noFill/>
          </a:ln>
        </p:spPr>
      </p:pic>
      <p:pic>
        <p:nvPicPr>
          <p:cNvPr id="126" name="Изображение 1" descr="6.jpg"/>
          <p:cNvPicPr/>
          <p:nvPr/>
        </p:nvPicPr>
        <p:blipFill>
          <a:blip r:embed="rId2"/>
          <a:stretch/>
        </p:blipFill>
        <p:spPr>
          <a:xfrm>
            <a:off x="3851280" y="2637000"/>
            <a:ext cx="5092560" cy="39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8:25:13Z</dcterms:created>
  <dc:creator>Вика</dc:creator>
  <dc:description/>
  <dc:language>en-US</dc:language>
  <cp:lastModifiedBy>Mac</cp:lastModifiedBy>
  <dcterms:modified xsi:type="dcterms:W3CDTF">2019-08-13T15:06:35Z</dcterms:modified>
  <cp:revision>111</cp:revision>
  <dc:subject/>
  <dc:title>ЭТНО - ЭКОЛОГИЧЕСКАЯ УЧЕБНАЯ ТРОПА ОБУХОВСКОЙ СРЕДНЕЙ ШКОЛЫ №24</dc:title>
</cp:coreProperties>
</file>