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3855-B763-4932-89D3-7DF11BB09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9FF87-5869-420B-B094-A0A39D91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41E0-6046-44D9-AE0E-6F8D8E8F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7119-810D-4A62-93E8-4AFCEC7E99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EA35-5428-4254-9AF1-5AD014B7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061D-244F-46B9-B8B6-DA6E132E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F4FD-1FFA-484B-B6C8-52845398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934B-4630-4FE8-B6B9-D0BADAB9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486B-58CA-4824-90AE-3C5D7672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C15C8-F2DF-47E0-A2E1-770C2A47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9E9E-9520-4A1A-BA08-1D2E2C24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0044-F3B6-43D8-A242-C3EC60A0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0040"/>
            <a:ext cx="21286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0040"/>
            <a:ext cx="21290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79FBA-CFC4-4943-A6A7-1E3F97E4D11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1160" y="-5400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1052640"/>
            <a:ext cx="7775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ТАДЖ-МАХАЛ — символ веч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люб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окружающий ми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3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944720" y="3860640"/>
            <a:ext cx="65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ворцова Ольга Викторо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учитель начальных классов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МБОУ ШИ «Кадетский корпус им. А. Невског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476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адж-Мах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06200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Мавзолей Тадж Махал</a:t>
            </a: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, расположенный в Агре - одна из самых узнаваемых достопримечательностей не только в Индии, но и во всём мире. Сооружение было построено императором Шах-Джаханом в память о его третьей жене, Мумтаз-Махал, погибшей во время родов. Тадж Махал считается одним из самых красивых зданий в мире, а также символом вечной любв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 1983  году Тадж-Махал был включен в список объектов Всемирного наследия ЮНЕСК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75200" y="3822840"/>
            <a:ext cx="3629160" cy="271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3213000"/>
            <a:ext cx="446868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адж-Мах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0526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нутри мавзолея находятся две гробницы — шаха и его любимой жены. Мусульманская традиция запрещает  художественное оформление могил. Следовательно, тела Мумтаз и Шах-Джахана были помещены в простой скле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843200" y="2492280"/>
            <a:ext cx="5681520" cy="39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08000" y="-25560"/>
            <a:ext cx="9144000" cy="688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19680" y="1187280"/>
            <a:ext cx="3708360" cy="2779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404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Экстерьер и интерьер Тадж-Маха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5280" y="429732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556000" y="1204920"/>
            <a:ext cx="184284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30200" y="1187280"/>
            <a:ext cx="1873440" cy="281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549600" y="4297320"/>
            <a:ext cx="2184480" cy="218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867280" y="4303800"/>
            <a:ext cx="257832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232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1280" y="333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ады Тадж-Мах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052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04a7b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ад</a:t>
            </a: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распростерся на 300 метров в длину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908000" y="1892160"/>
            <a:ext cx="5716800" cy="44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71640" y="1125360"/>
            <a:ext cx="698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остамент и усыпальница </a:t>
            </a:r>
            <a:r>
              <a:rPr b="1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адж-Махала </a:t>
            </a: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были построены за 12 лет, а остальные части комплекса потребовали еще 10 лет для завершения. Для строительства комплекса использовались материалы со всех уголков Азии. Было задействовано более тысячи слонов для транспортировки. В общем, двадцать восемь типов драгоценных и полудрагоценных камней были инкрустированы в белый мрамор. Вскоре после завершения Тадж-Махала Шах-Джахан был свергнут собственным сыном Аурангзебом и подвергнут аресту в Форте Дели. После сметри его похоронили в мавзолее рядом с любимой женой. К концу 19-ого столетия части сооружения пришли в упадок. Тадж-Махал был разграблен британскими солдатами и чиновниками, которые высекали драгоценные материалы из стен здания. В 1942 правительство установило леса в попытке замаскировать Тадж-Махал перед нападением летчиков Люфтваффе и японских воздушных сил. Это же действие было предпринято во время Индийско-Пакистанских войн 1965 и 1971 годов. Это произвело эффект, и сооружение осталось целым и невредим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046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История строительства Тадж-Мах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15:02:29Z</dcterms:created>
  <dc:creator>Алекс</dc:creator>
  <dc:description/>
  <dc:language>en-US</dc:language>
  <cp:lastModifiedBy/>
  <dcterms:modified xsi:type="dcterms:W3CDTF">2019-04-11T07:46:42Z</dcterms:modified>
  <cp:revision>18</cp:revision>
  <dc:subject/>
  <dc:title>Презентация PowerPoint</dc:title>
</cp:coreProperties>
</file>