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305B5-454E-4E35-9062-84D02E253F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A37B6-AF15-45BB-96C2-5B72FEC9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B7FFF-CC09-45BF-BA05-A9344C09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69C96-6632-4967-B363-D7BAEED203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E8F82-0C56-488A-833E-AEB2A88E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5A7E1-CB63-4F3E-ADE5-E56512DF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18AD3-3063-4E61-824D-55FF210A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53DB2-4DFE-4442-A743-DD11F032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498A5-1C21-4025-9633-C489782D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B2006-10EC-46F9-9396-D65B2B38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87E0A-AB77-42A1-B7AC-AC510EBD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A5E52-255E-4752-B8B5-F7CAB9B1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0040"/>
            <a:ext cx="21286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0040"/>
            <a:ext cx="212904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AD12F-0950-4DE4-A866-EAB2127F02E3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1160" y="-5400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1052640"/>
            <a:ext cx="7775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ТАДЖ-МАХАЛ — символ вечн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люб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окружающий ми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3 кла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1944720" y="3860640"/>
            <a:ext cx="65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Дворцова Ольга Викторовн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учитель начальных классов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МБОУ ШИ «Кадетский корпус им. А. Невског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8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47628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Тадж-Мах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1062000"/>
            <a:ext cx="799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Мавзолей Тадж Махал</a:t>
            </a:r>
            <a:r>
              <a:rPr b="0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, расположенный в Агре - одна из самых узнаваемых достопримечательностей не только в Индии, но и во всём мире. Сооружение было построено императором Шах-Джаханом в память о его третьей жене, Мумтаз-Махал, погибшей во время родов. Тадж Махал считается одним из самых красивых зданий в мире, а также символом вечной любв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В 1983  году Тадж-Махал был включен в список объектов Всемирного наследия ЮНЕСК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975200" y="3822840"/>
            <a:ext cx="3629160" cy="2719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68360" y="3213000"/>
            <a:ext cx="4468680" cy="33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333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Тадж-Мах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05264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Внутри мавзолея находятся две гробницы — шаха и его любимой жены. Мусульманская традиция запрещает  художественное оформление могил. Следовательно, тела Мумтаз и Шах-Джахана были помещены в простой скле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843200" y="2492280"/>
            <a:ext cx="5681520" cy="39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108000" y="-25560"/>
            <a:ext cx="9144000" cy="6883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19680" y="1187280"/>
            <a:ext cx="3708360" cy="2779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1280" y="404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Экстерьер и интерьер Тадж-Махал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95280" y="4297320"/>
            <a:ext cx="2952720" cy="2212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556000" y="1204920"/>
            <a:ext cx="1842840" cy="2781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430200" y="1187280"/>
            <a:ext cx="1873440" cy="2818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549600" y="4297320"/>
            <a:ext cx="2184480" cy="2184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5867280" y="4303800"/>
            <a:ext cx="2578320" cy="16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2232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1280" y="3333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Сады Тадж-Мах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1052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04a7b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Сад</a:t>
            </a:r>
            <a:r>
              <a:rPr b="0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 распростерся на 300 метров в длину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908000" y="1892160"/>
            <a:ext cx="5716800" cy="44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83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71640" y="1125360"/>
            <a:ext cx="6985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Постамент и усыпальница </a:t>
            </a:r>
            <a:r>
              <a:rPr b="1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Тадж-Махала </a:t>
            </a:r>
            <a:r>
              <a:rPr b="0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были построены за 12 лет, а остальные части комплекса потребовали еще 10 лет для завершения. Для строительства комплекса использовались материалы со всех уголков Азии. Было задействовано более тысячи слонов для транспортировки. В общем, двадцать восемь типов драгоценных и полудрагоценных камней были инкрустированы в белый мрамор. Вскоре после завершения Тадж-Махала Шах-Джахан был свергнут собственным сыном Аурангзебом и подвергнут аресту в Форте Дели. После сметри его похоронили в мавзолее рядом с любимой женой. К концу 19-ого столетия части сооружения пришли в упадок. Тадж-Махал был разграблен британскими солдатами и чиновниками, которые высекали драгоценные материалы из стен здания. В 1942 правительство установило леса в попытке замаскировать Тадж-Махал перед нападением летчиков Люфтваффе и японских воздушных сил. Это же действие было предпринято во время Индийско-Пакистанских войн 1965 и 1971 годов. Это произвело эффект, и сооружение осталось целым и невредим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40464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История строительства Тадж-Мах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4T15:02:29Z</dcterms:created>
  <dc:creator>Алекс</dc:creator>
  <dc:description/>
  <dc:language>en-US</dc:language>
  <cp:lastModifiedBy/>
  <dcterms:modified xsi:type="dcterms:W3CDTF">2019-04-11T07:46:42Z</dcterms:modified>
  <cp:revision>18</cp:revision>
  <dc:subject/>
  <dc:title>Презентация PowerPoint</dc:title>
</cp:coreProperties>
</file>