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DD8-E50F-463F-B5EA-127D9D47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E95-9800-4851-A19D-5F289181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1F2-1447-4C2A-A75B-8F5BC204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336-2D00-4E20-889C-9AB1C13D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AEFD-6959-4F81-B697-6F90BBB4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D410-8614-46F0-8D07-4AFB1F3A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207-B86C-47F6-BA89-731A9D26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AD59-893D-4A7E-9A14-3AEEACB3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F9F-27F3-499B-B9AC-8790C4A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3D26-24A6-416F-BC8A-D64BA32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D36-D9D9-4A17-A88F-989D674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62F-0B6B-49F1-B6A0-F7DB45EB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D36C-8669-447C-9321-C78FCFC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89E1-75F3-42F4-B86C-27BE622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0B5F-E202-4DEB-9820-B21383B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3DA9-8FF9-4C9A-9494-665A957D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B6A-604C-41D1-8717-2CEDC523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B0D5D-0416-40EE-9B92-5AF58A4C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51457-3837-43F5-AC48-3683C1B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D52B4-0082-4304-B147-F2A23F1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029BD-1A34-4BA1-BE6B-01FF99F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6783D-6B6B-418D-868D-22A743E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FE5-832A-4FE9-B456-0ABCBE40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2F2D7-C4D3-4015-8118-872581DD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A2457-48AA-4CC6-816F-C9CBAC08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216B3-49F2-438B-B546-DED18CD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AE360-683C-4EA4-8836-EA260ED8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D4F97-6DCE-4B6E-B2E1-B15E25CD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A8B09-5B86-4B23-A879-5616D74A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D4FF6-9428-4BE6-92CE-4D6F386B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A579-A872-4A82-8C76-99431A5F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14FD-9B5F-4E81-BDAA-6A8FB5C7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995C-80F2-4851-AD89-BA211C68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ABD-B060-41F4-86CD-A47BA5CF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65DD-2872-4D58-A479-20960A39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40A2-A6B1-411C-A784-9DF3E5D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31C8-81AF-4344-AA36-55CF8694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A740-AA17-4479-9A68-1DA7A5A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4AA1-E929-41A8-8CE1-72D3424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CEC9-2165-430E-91C5-770D0DBB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2D54-38EE-4F9B-B0C3-AD32543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F60E-C101-4D3A-8444-6B1F9445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7549-DBD4-4795-BF93-55DEA38E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72661-4C17-4907-98B8-ECA423EC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ED2-DAE8-4515-9008-AFA5472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A083A-9EED-4D22-B491-BF44A14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DD65F-E72E-4050-982E-7499116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F63ED-78B4-47E7-BA7E-3238EC9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4E3A6-9E76-4084-8785-FEC5F79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950F9-2DC7-4669-BE17-D5B850E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027F1-3ADD-4F57-A68C-6C803F7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C864C-3072-45E0-A01C-588AE7D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2BF2C-266A-4A89-8037-A276A07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58966-AED7-46E3-9E2F-B75C4C16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4310E-0BDC-43B4-9C37-A3189272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CFF-9033-4B25-9AB4-01F34FEB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96716-7B58-4DFE-92C2-E3E2B320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B5E78-18BC-45B6-A3F2-4A437823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6C7C0-664D-4925-89D5-FFBC198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E833E-AF2B-46AF-888B-EA2C98DE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F98D0-52A7-4FAE-A651-19045E6C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D1BC7-6DE5-49FE-AB58-B216BF15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6E354-B9EB-444A-87B7-95610A42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F798E-1F4B-44C4-B3A7-2D83648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F8911-79F3-44A8-9989-D5900D5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DA568-8068-473B-AC44-AC5C94A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7C3-0959-4645-95E7-4184729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E2F36-CF3A-43FF-9F45-27593B7B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16FBA-B1A5-4B6A-8FE7-F2070933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1F659-98EE-48CE-932C-841BDED7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5626A-4F96-4089-80B8-2EE55926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2611E-5717-413B-8D7A-A56022F1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9D5D1-0CD4-423D-94F2-E572F94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3064B-5588-4C38-AC34-0A57944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D02D5-F9BD-4015-A1F6-9153189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8CBCE-D62D-4A3D-83FF-8911A0D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06307-880A-436D-9CB9-F2E3ABB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D05-4167-41A2-8EED-80AD610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E4325-5431-4002-9B52-6849E47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812C6-0EB8-43D2-9590-992F361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D85C3-DC46-4516-B286-41530F8F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6BEE7-5EC1-497B-85F3-73E6369F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6294C-D567-4CC9-912F-B6993B90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59A-91A0-40D7-B354-081CA63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D133-4A51-41B0-9FE0-8C8EA71D35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91E9-F073-42F7-820E-D0DF575920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30A-2B05-4A7B-9A64-B88DF8EEE9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0AE0-0AA3-4081-B228-F69637DF7B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B0B-7539-4EE8-9631-A3D092F7A5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544-C1F0-47DD-8B73-6CF1673DA1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44B-D982-4FA8-A818-81A0384107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800" y="1857240"/>
            <a:ext cx="69292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ИССЛЕДОВАНИЕ ВИДОВОГО СОСТАВА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ДНЕВНЫХ БАБОЧЕК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(НАДСЕМЕЙСТВА БУЛАВОУСЫХ),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ИХ ЧИСЛЕННОСТИ  И МЕСТ ОБИТАНИЯ НА ТЕРРИТОРИИ ГОРОДСКОГО ПОСЕЛЕНИЯ ОБУХОВО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99880" y="4357440"/>
            <a:ext cx="5929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Авт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лодин Арсен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ник 7а класса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1643040" y="1476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редняя  образовательная  школа  №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сковская область,  Ногинский район,  г. п. Обух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1"/>
          <p:cNvSpPr/>
          <p:nvPr/>
        </p:nvSpPr>
        <p:spPr>
          <a:xfrm>
            <a:off x="1928880" y="741240"/>
            <a:ext cx="6858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457200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ухово  20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одзаголовок 2"/>
          <p:cNvSpPr/>
          <p:nvPr/>
        </p:nvSpPr>
        <p:spPr>
          <a:xfrm>
            <a:off x="2928960" y="4929120"/>
            <a:ext cx="5929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  Мецих Ольг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1" descr=""/>
          <p:cNvPicPr/>
          <p:nvPr/>
        </p:nvPicPr>
        <p:blipFill>
          <a:blip r:embed="rId1"/>
          <a:stretch/>
        </p:blipFill>
        <p:spPr>
          <a:xfrm>
            <a:off x="214200" y="568440"/>
            <a:ext cx="16891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3"/>
          <p:cNvSpPr/>
          <p:nvPr/>
        </p:nvSpPr>
        <p:spPr>
          <a:xfrm>
            <a:off x="3286080" y="428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285840" y="1226880"/>
            <a:ext cx="7929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.  Метод определения и подсчёта количества особей разных видов бабочек на заранее намеченном маршруте путём визуального обследования территории с помощью бинокля и фиксация их фотокамерой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ONY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с использованием длиннофокусного объ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. Метод определения видов бабочек с использованием  определителей насекомых непосредственно в полевых условиях и по фотографиям в камеральных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. Метод детального изучения с помощью микроскопа особенностей окраски и формы крыльев, строения тела у бабочек разных типов, для выявления характерных признаков важных при определении и исследовании (пользовались только бабочки, погибшие при столкновении с автомобилями и найденные на их лобовых стёклах или в придорожной полос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. Метод определения частоты встречаемости бабочек (или подсчёта плотности популяции их вид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18396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3"/>
          <p:cNvSpPr/>
          <p:nvPr/>
        </p:nvSpPr>
        <p:spPr>
          <a:xfrm>
            <a:off x="1214280" y="18108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подсчета плотности популяции бабоч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57120" y="523728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ина маршрута, Е-ширина полосы маршрута (50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2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Е=50м, то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в.м = 0,1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стретились 5 особей капустницы, 2 особи павлиньего гла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особь репейницы, тог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тность популя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 кв.к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капустниц, 20 особей павлиньего глаза, 10 репей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14200" y="8892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Мет_подсчета_баб.jpg"/>
          <p:cNvPicPr/>
          <p:nvPr/>
        </p:nvPicPr>
        <p:blipFill>
          <a:blip r:embed="rId2"/>
          <a:stretch/>
        </p:blipFill>
        <p:spPr>
          <a:xfrm>
            <a:off x="214200" y="928800"/>
            <a:ext cx="8526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4"/>
          <p:cNvSpPr/>
          <p:nvPr/>
        </p:nvSpPr>
        <p:spPr>
          <a:xfrm>
            <a:off x="1928880" y="54756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новные результаты 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357120" y="1643040"/>
            <a:ext cx="82868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Выявлен видовой состав дневных бабочек надсемейства  Булавоусых, обитающих на территории окрестностей посёлка Обухово и села Балобаново, составлен  перечень и выполнено описание дневных бабочек, встретившихся при обследовании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пределена плотность  популяции всех встретившихся видов дневных бабочек на каждом из тестовых  участков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Составлен каталог бабочек,   распространённых на территории городского поселения Обухово, Ногинского района,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Начата работа по  составлению своего электронного справочника (определителя) дневных бабочек, обитающих в северо-восточной части Подмоск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15717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4"/>
          <p:cNvSpPr/>
          <p:nvPr/>
        </p:nvSpPr>
        <p:spPr>
          <a:xfrm>
            <a:off x="2071800" y="28584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новные результаты 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1500120" cy="12002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7"/>
          <p:cNvSpPr/>
          <p:nvPr/>
        </p:nvSpPr>
        <p:spPr>
          <a:xfrm>
            <a:off x="357120" y="1357200"/>
            <a:ext cx="821556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работана методика проведения полевых и камер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 На основе анализа биолого-экологического каркаса городского поселения Обухово  и его окрестностей выявлена прямая зависимость плотности популяции  дневных бабочек от экологической обстановки в эт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 Получены новые данные, позволяющие, после их тщательной проверки в дальнейшем исследовании,  внести некоторые коррективы в Красную книгу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Пока не удалось обнаружить следующих бабочек, обитающих по данным Красной книги в восточной и северо-восточной части Московской обла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хародус пушистый (Carcharodus flossifer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поллон обыкновенный ( Parnassius  apo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ашечница феба (Melitaea Phoeb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следний раз бы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ена в Ногинском районе в 197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4"/>
          <p:cNvSpPr/>
          <p:nvPr/>
        </p:nvSpPr>
        <p:spPr>
          <a:xfrm>
            <a:off x="0" y="214200"/>
            <a:ext cx="8929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ды дневных Булавоусых бабоче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несённые в Красную книгу Московской области (всего 17 видов), встречающиеся в окрестностях г. п. Обухово, Ног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819520" cy="2071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rcRect l="0" t="0" r="9135" b="0"/>
          <a:stretch/>
        </p:blipFill>
        <p:spPr>
          <a:xfrm>
            <a:off x="3143160" y="1357200"/>
            <a:ext cx="285768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8"/>
          <p:cNvSpPr/>
          <p:nvPr/>
        </p:nvSpPr>
        <p:spPr>
          <a:xfrm>
            <a:off x="214200" y="3500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ргус белопятнис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4"/>
          <p:cNvSpPr/>
          <p:nvPr/>
        </p:nvSpPr>
        <p:spPr>
          <a:xfrm>
            <a:off x="3251160" y="35002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стоголовка мор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5"/>
          <p:cNvSpPr/>
          <p:nvPr/>
        </p:nvSpPr>
        <p:spPr>
          <a:xfrm>
            <a:off x="6097680" y="350028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стоголовка 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6"/>
          <p:cNvSpPr/>
          <p:nvPr/>
        </p:nvSpPr>
        <p:spPr>
          <a:xfrm>
            <a:off x="1428840" y="6286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ха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3"/>
          <a:stretch/>
        </p:blipFill>
        <p:spPr>
          <a:xfrm>
            <a:off x="6143760" y="1357200"/>
            <a:ext cx="2714400" cy="2116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286080" cy="2219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5"/>
          <a:stretch/>
        </p:blipFill>
        <p:spPr>
          <a:xfrm>
            <a:off x="4643280" y="4000680"/>
            <a:ext cx="3286440" cy="22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3"/>
          <p:cNvSpPr/>
          <p:nvPr/>
        </p:nvSpPr>
        <p:spPr>
          <a:xfrm>
            <a:off x="4714920" y="63356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алирий (фото ав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6143760" y="1357200"/>
            <a:ext cx="2714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786200" y="344520"/>
            <a:ext cx="3643560" cy="265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500040" y="3559320"/>
            <a:ext cx="3841920" cy="27860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5000760" y="29876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лтушка торфян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928800" y="641664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лтушк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китн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5072040" y="63453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ливница ив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3"/>
          <a:stretch/>
        </p:blipFill>
        <p:spPr>
          <a:xfrm>
            <a:off x="4643280" y="35593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4"/>
          <a:stretch/>
        </p:blipFill>
        <p:spPr>
          <a:xfrm>
            <a:off x="500040" y="344520"/>
            <a:ext cx="3929040" cy="25858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7"/>
          <p:cNvSpPr/>
          <p:nvPr/>
        </p:nvSpPr>
        <p:spPr>
          <a:xfrm>
            <a:off x="571680" y="2987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емозина (фото из Красной Кни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643280" y="3630600"/>
            <a:ext cx="3548160" cy="26431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4"/>
          <p:cNvSpPr/>
          <p:nvPr/>
        </p:nvSpPr>
        <p:spPr>
          <a:xfrm>
            <a:off x="5143680" y="634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ашечница ма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"/>
          <p:cNvPicPr/>
          <p:nvPr/>
        </p:nvPicPr>
        <p:blipFill>
          <a:blip r:embed="rId2"/>
          <a:srcRect l="0" t="9614" r="0" b="0"/>
          <a:stretch/>
        </p:blipFill>
        <p:spPr>
          <a:xfrm>
            <a:off x="571680" y="3630600"/>
            <a:ext cx="3786120" cy="2685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1071720" y="641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ашечница авр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3"/>
          <a:stretch/>
        </p:blipFill>
        <p:spPr>
          <a:xfrm>
            <a:off x="4643280" y="344520"/>
            <a:ext cx="3500640" cy="2689200"/>
          </a:xfrm>
          <a:prstGeom prst="rect">
            <a:avLst/>
          </a:prstGeom>
          <a:ln w="0">
            <a:noFill/>
          </a:ln>
        </p:spPr>
      </p:pic>
      <p:sp>
        <p:nvSpPr>
          <p:cNvPr id="417" name="TextBox 8"/>
          <p:cNvSpPr/>
          <p:nvPr/>
        </p:nvSpPr>
        <p:spPr>
          <a:xfrm>
            <a:off x="4724280" y="314316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огоцветница чёрно-ры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4"/>
          <a:srcRect l="22139" t="29902" r="32013" b="27382"/>
          <a:stretch/>
        </p:blipFill>
        <p:spPr>
          <a:xfrm>
            <a:off x="525600" y="415800"/>
            <a:ext cx="3832200" cy="26434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0"/>
          <p:cNvSpPr/>
          <p:nvPr/>
        </p:nvSpPr>
        <p:spPr>
          <a:xfrm>
            <a:off x="857160" y="3143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огоцветница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б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2428920" y="3445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Schoolbook"/>
              </a:rPr>
              <a:t>Выводы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428760" y="1214280"/>
            <a:ext cx="8429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Обследование показал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 неожиданно много «краснокнижных» дневных бабочек надсемейства Булавоусых  удалось обнаружить, но не всех, занесенных в Красную книгу Московской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в связи с этим исследования надо продолжить и расширить территорию обследования за Горьковскую автомобильную трассу, где могут быть обнаруже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снокнижные» дневные бабочки надсемейства Булавоусых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удя по характерным местам и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для получения  более достоверной информации следует исследовать не только бабочек, но и их гусен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необходимо привлечь к исследованиям друзей , одноклассников, юннатов г. Ногинска, что позволит в более короткие сроки охватить большую территорию и собрать много информации, ценной для составителей Красной книги, которую периодически обновляют, а информации достоверной мало - территория Московской области  больш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714240" y="227160"/>
            <a:ext cx="1500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3714840" y="14292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Реализация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3143160" y="1249200"/>
            <a:ext cx="542952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териалы исследований представле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сотруднику лаборатории экологии и охраны окружающей среды Г.С. Ерёмкину  Биофака МГУ, разработчику раздела о бабочках в Красной книг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заместителю министра Министерства экологии и природопользования Москов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 результатах исследования сделаны сообщения в школе (МБОУ СОШ №24  п. Обухо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бота передана на Станцию Юных натуралистов  г.  Ногинска   с   целью определения перспектив продолжения совместных исследований 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>
            <a:lum bright="10000"/>
          </a:blip>
          <a:srcRect l="7944" t="0" r="12605" b="0"/>
          <a:stretch/>
        </p:blipFill>
        <p:spPr>
          <a:xfrm>
            <a:off x="255600" y="285840"/>
            <a:ext cx="3030480" cy="28573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7"/>
          <p:cNvSpPr/>
          <p:nvPr/>
        </p:nvSpPr>
        <p:spPr>
          <a:xfrm>
            <a:off x="928800" y="3214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rcRect l="0" t="0" r="10004" b="0"/>
          <a:stretch/>
        </p:blipFill>
        <p:spPr>
          <a:xfrm>
            <a:off x="214200" y="3643200"/>
            <a:ext cx="3086280" cy="25718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9"/>
          <p:cNvSpPr/>
          <p:nvPr/>
        </p:nvSpPr>
        <p:spPr>
          <a:xfrm>
            <a:off x="857160" y="6357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3"/>
          <p:cNvSpPr/>
          <p:nvPr/>
        </p:nvSpPr>
        <p:spPr>
          <a:xfrm>
            <a:off x="2928960" y="35712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ЕРСПЕКТИВЫ   ДАЛЬНЕЙШИХ ИССЛЕДО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rcRect l="6252" t="17760" r="4685" b="14101"/>
          <a:stretch/>
        </p:blipFill>
        <p:spPr>
          <a:xfrm>
            <a:off x="357120" y="230040"/>
            <a:ext cx="2357640" cy="11988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428760" y="1500120"/>
            <a:ext cx="8143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должить исследования на уже выбранных тестовых участках и на прилегающей к ним территории  для проверки и уточнения результатов, полученных  в данной работе, сравнительного анализа  информации об ареалах распространения «краснокнижных» видов бабочек в пределах обследованной территории, пополнения моего электронного справо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явить дополнительные причины неравномерного распределения разных видов бабочек на исследуемой территории, включая экологические факторы, влияющие на их развитие и распространение по изучаемой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сотрудничестве со специалистами попытаться выявить виды бабочек наиболее чувствительные к изменению показателей качества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14520" y="1274760"/>
            <a:ext cx="44290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428760" y="336060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темы обусловлена необходимостью выявить ареалы распространения разных видов дневных бабочек, надсемейства  Булавоусых, включая занесенных в Красную книгу Подмосковья, встречающихся на территории городского поселения Обухово и прилегающих учас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57120" y="353880"/>
            <a:ext cx="36194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rcRect l="6252" t="17760" r="4685" b="14101"/>
          <a:stretch/>
        </p:blipFill>
        <p:spPr>
          <a:xfrm>
            <a:off x="357120" y="230040"/>
            <a:ext cx="2357640" cy="11988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85840" y="1643040"/>
            <a:ext cx="83581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ределение возможности рассмотрения бабочек, как биоиндикатора экологической ситуации на изучаемых участках территории и использования данных о бабочках для проведения экологического зондирования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ля проверки эффективности  методики исследования, использованной в данном проекте, и достоверности получаемых результатов выполнить аналогичные исследования  на других территориях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2928960" y="35712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ЕРСПЕКТИВЫ   ДАЛЬНЕЙШИХ ИССЛЕДО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1">
            <a:lum contrast="30000"/>
          </a:blip>
          <a:srcRect l="0" t="0" r="0" b="6519"/>
          <a:stretch/>
        </p:blipFill>
        <p:spPr>
          <a:xfrm>
            <a:off x="214200" y="214200"/>
            <a:ext cx="8691840" cy="6429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143280" y="499680"/>
            <a:ext cx="4714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rcRect l="0" t="6976" r="0" b="4654"/>
          <a:stretch/>
        </p:blipFill>
        <p:spPr>
          <a:xfrm>
            <a:off x="422280" y="285840"/>
            <a:ext cx="3506760" cy="27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00720" y="1213920"/>
            <a:ext cx="36813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Ы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571680" y="3178080"/>
            <a:ext cx="77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следование  видового состава дневных бабочек надсемейства  Булавоусых, включая виды, внесенные в Красную книгу, выявление мест их распространения на территории городского поселения Обухово и расчёт плотности популяции каждого вида на обследованных (тестовых) учас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467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00040" y="1171440"/>
            <a:ext cx="84297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Изучить по литературным данным видовой состав, характерные особенности и условия существования дневных бабочек надсемейства Булавоус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Выделить и исследовать виды, характерные для Подмосковья, изучить особенности их распределения по территории региона, определить широко распространённые и редкие виды, уже занесенные в Красную книгу Московской област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Провести анализ элементов экологического каркаса исследуемой территории и определить тестовые участки для проведения регулярных наблю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44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0040" y="1193400"/>
            <a:ext cx="77868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Выявить на территории городского поселения Обухово и окрестностей места фактического распространения редких и «краснокнижных» видов дневных бабочек надсемейства  Булавоусых  и  передать эти данные в Министерство экологии и природопользования Московской об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5. Составить электронный каталог бабочек надсемейства  Булавоусых, распространённых на территории городского поселения Обухо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 Рассчитать плотность популяции каждого вида бабочек на тестовых участках исследуемой территории городского поселения Обухо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 Наметить перспективы и сформулировать основные направления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4643280" y="1428840"/>
            <a:ext cx="39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00040" y="3703680"/>
            <a:ext cx="807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едпосылкой к реализации этого исследовательского проекта является предположение о том,  что обследование территории городского поселения Обухово позволит выявить видовой состав дневных бабочек надсемейства Булавоусых, включая «краснокнижные» виды, рассчитать плотность их популяции на тестовых участках и наметить перспективы продолжения эт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3857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4" descr="Ног_район_новый.JPG"/>
          <p:cNvPicPr/>
          <p:nvPr/>
        </p:nvPicPr>
        <p:blipFill>
          <a:blip r:embed="rId1"/>
          <a:srcRect l="0" t="-184" r="0" b="0"/>
          <a:stretch/>
        </p:blipFill>
        <p:spPr>
          <a:xfrm>
            <a:off x="285840" y="571680"/>
            <a:ext cx="4224240" cy="40003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7"/>
          <p:cNvSpPr/>
          <p:nvPr/>
        </p:nvSpPr>
        <p:spPr>
          <a:xfrm>
            <a:off x="4572000" y="5349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йон проведения натурны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3" descr=""/>
          <p:cNvPicPr/>
          <p:nvPr/>
        </p:nvPicPr>
        <p:blipFill>
          <a:blip r:embed="rId2"/>
          <a:srcRect l="0" t="3887" r="0" b="0"/>
          <a:stretch/>
        </p:blipFill>
        <p:spPr>
          <a:xfrm>
            <a:off x="4572000" y="1989000"/>
            <a:ext cx="41590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44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естовые участки территории натурных исследований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Рисунок 2" descr=""/>
          <p:cNvPicPr/>
          <p:nvPr/>
        </p:nvPicPr>
        <p:blipFill>
          <a:blip r:embed="rId1"/>
          <a:stretch/>
        </p:blipFill>
        <p:spPr>
          <a:xfrm>
            <a:off x="357120" y="1380960"/>
            <a:ext cx="778680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4" descr="Экологический каркас"/>
          <p:cNvPicPr/>
          <p:nvPr/>
        </p:nvPicPr>
        <p:blipFill>
          <a:blip r:embed="rId1">
            <a:lum contrast="30000"/>
          </a:blip>
          <a:srcRect l="0" t="0" r="7562" b="0"/>
          <a:stretch/>
        </p:blipFill>
        <p:spPr>
          <a:xfrm>
            <a:off x="285840" y="1428840"/>
            <a:ext cx="8358120" cy="5000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2286000" y="2142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лементы экологического карк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следованн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rcRect l="0" t="9274" r="0" b="9711"/>
          <a:stretch/>
        </p:blipFill>
        <p:spPr>
          <a:xfrm>
            <a:off x="291960" y="214200"/>
            <a:ext cx="1851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0:25:02Z</dcterms:created>
  <dc:creator>Колодин_Арсений</dc:creator>
  <dc:description/>
  <dc:language>en-US</dc:language>
  <cp:lastModifiedBy>Mac</cp:lastModifiedBy>
  <dcterms:modified xsi:type="dcterms:W3CDTF">2014-12-15T12:49:49Z</dcterms:modified>
  <cp:revision>119</cp:revision>
  <dc:subject/>
  <dc:title>Слайд 1</dc:title>
</cp:coreProperties>
</file>