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3CE-BF75-46E4-BEE5-467DD031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09F-E920-4937-89AC-6458F341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2CB-5F96-40EC-B2EE-121C15E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A35-D430-415C-A808-19C97654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98B3-97D6-4D39-A870-1DAF2C66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B862-A597-4635-ADF8-6CD18CBF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9EFF-38B2-46E6-94C7-EBA28A5B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7096-9A9E-401F-86BA-69B61EC6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A198-A5B8-436D-905D-1A10E7F1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C6C-2F20-4665-8E16-79DC994F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30A4-8F84-473F-9ABE-6FB39A2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EE0-D724-4BF7-83D3-0DE0F2FB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2AA0-C234-4268-8A69-360A670A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CDE8-3849-425D-9117-9851E1C7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0A5C-BEBD-46E6-9F21-7E123654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2D78-57A4-4D6B-B6C7-6A2121FD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2CAD-3F6B-43BC-95F8-E6A2E036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554D7-CA69-4165-99E5-098C0A37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4A804-E20B-4C33-BAD1-E137DC78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FBA19-1CD8-484D-BAF2-50351907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4C7E1-1E2A-4A28-A237-4E007438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07977-9AB1-4A45-96F5-BBE6AC23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479-0406-4ED7-B86A-2E667F14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75A16-DE3C-48D1-9BD5-A387F88E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40426-C314-44A0-A459-12483F6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3A1DC-21B8-49E6-A492-033792C4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E1945-A26A-42D6-AE38-1817DC23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4DF53-3C0B-48D3-9F04-5C05ADF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3F4F5-92CF-407E-BBD8-9FBBA90F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6BC4F-D0D2-46CF-91D6-5F01F76D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2502-0A3E-4E8D-BFEA-73E7B2AD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F503-4D84-4398-B067-395CD859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0F2A-0610-47BA-A5BB-CEE5D3BA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05A-1BE2-49D6-AB6A-30772CE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B513-3267-44CB-826C-1DD6B16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FECD-E2F6-4180-AA82-1535F70B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D5118-D2FF-4412-8484-7CBA83D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BE37-98E1-47E4-B961-2BAEB997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A62B-75FA-4927-84A1-922FD57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AA75-21D3-4563-A8B5-6F33BEBF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7A32-E4D2-4891-AAF5-8187DA9E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98D4-D590-49D3-83C5-175615C1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1755-C857-442B-ADF2-0AAE6416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43FCB-6226-47CB-9219-B543AE20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F09-AD91-437C-802E-415C9F8E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0DC14-768C-4FA4-9CA3-B14E999E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C4AA4-DB4A-44F2-A4C7-D5806A54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1D353-EECF-46F6-8AC7-50EADC8A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5EB98-032E-4D08-A6C4-DCF0A022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89688-F921-4858-85D4-7EFE8D00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F05EF-9DD2-4ED3-AB5A-BA9E3B1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62789-EAB2-464D-8825-E8049FC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E03C8-90DF-41C0-BC21-8096A8D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A9ACB-625B-42DA-8D14-06932C28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BE5A5-7361-4412-8890-A643A6B4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515-E9D6-4C13-AA64-2855E492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CA9B3-F374-491B-957B-9BD57FC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2E2DB-A837-48FE-B9C3-FCF46A61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AC562-25AF-4543-8EDE-8F33190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29690-DE5B-422A-87E5-27FC78A2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F660B-EDDB-4CD5-8518-28C1E877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6DCAB-7E66-4652-8E82-62D9634E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84BD1-C7E6-4A0A-9208-071690E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84C2A-1991-4332-8496-04B8C0A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D91CD-6532-4F0D-9A67-1954D72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02F17-C627-46A8-9B36-9DC01AA0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D65-1390-40F9-BC1A-D516117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C0B4F-2D9D-4171-94C3-846CDE21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57EDD-711F-48D5-9B98-FB549C69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6C2E2-3566-4A9B-A09F-8092049B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F5155-2DB9-48BB-86BC-B2DEBBE2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6E569-49EF-44AD-A2DB-8D4BA21D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06E00-6D18-4CDE-8717-CC13E2E5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0F63B-DF47-4372-826F-D2603F0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6D939-9C95-438B-9369-8B7A865F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692F2-8093-415F-A277-A7316B4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4D4BB-3D99-469C-B6EC-BB30660D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9F8-C540-431A-BD4D-0EB351F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67DCA-7891-4480-960C-36F4063E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75B9B-D0B3-4371-BAB8-D315A981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F3AC7-1B4C-4250-91C0-D7907390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096AA-74FC-44B0-A724-6769E7BD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7BB21-964E-4F8C-B06D-8B615EFA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CD2-67B1-4E81-8FD4-7CBB855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0D03-B5A4-4855-B8C2-F53F3BC46F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C91-E768-4E39-8784-E832E0F563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A11D-306B-4361-A0B3-B0092E9603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21C0-7FDD-49D7-BDF0-7D44FF1767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A224-6877-4F95-8554-D610D222AF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864C-003B-4047-826C-3DD5E2D3BD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891-A77A-480B-99D0-0E340BCDE49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800" y="1857240"/>
            <a:ext cx="69292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ИССЛЕДОВАНИЕ ВИДОВОГО СОСТАВА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ДНЕВНЫХ БАБОЧЕК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(НАДСЕМЕЙСТВА БУЛАВОУСЫХ),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ИХ ЧИСЛЕННОСТИ  И МЕСТ ОБИТАНИЯ НА ТЕРРИТОРИИ ГОРОДСКОГО ПОСЕЛЕНИЯ ОБУХОВО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999880" y="4357440"/>
            <a:ext cx="59295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Авт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лодин Арсен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ник 7а класса   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1643040" y="1476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редняя  образовательная  школа  №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сковская область,  Ногинский район,  г. п. Обух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1"/>
          <p:cNvSpPr/>
          <p:nvPr/>
        </p:nvSpPr>
        <p:spPr>
          <a:xfrm>
            <a:off x="1928880" y="741240"/>
            <a:ext cx="6858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457200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ухово  20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одзаголовок 2"/>
          <p:cNvSpPr/>
          <p:nvPr/>
        </p:nvSpPr>
        <p:spPr>
          <a:xfrm>
            <a:off x="2928960" y="4929120"/>
            <a:ext cx="5929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  Мецих Ольг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1" descr=""/>
          <p:cNvPicPr/>
          <p:nvPr/>
        </p:nvPicPr>
        <p:blipFill>
          <a:blip r:embed="rId1"/>
          <a:stretch/>
        </p:blipFill>
        <p:spPr>
          <a:xfrm>
            <a:off x="214200" y="568440"/>
            <a:ext cx="16891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3"/>
          <p:cNvSpPr/>
          <p:nvPr/>
        </p:nvSpPr>
        <p:spPr>
          <a:xfrm>
            <a:off x="3286080" y="4287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285840" y="1226880"/>
            <a:ext cx="7929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.  Метод определения и подсчёта количества особей разных видов бабочек на заранее намеченном маршруте путём визуального обследования территории с помощью бинокля и фиксация их фотокамерой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ONY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с использованием длиннофокусного объ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. Метод определения видов бабочек с использованием  определителей насекомых непосредственно в полевых условиях и по фотографиям в камеральных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. Метод детального изучения с помощью микроскопа особенностей окраски и формы крыльев, строения тела у бабочек разных типов, для выявления характерных признаков важных при определении и исследовании (пользовались только бабочки, погибшие при столкновении с автомобилями и найденные на их лобовых стёклах или в придорожной полос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. Метод определения частоты встречаемости бабочек (или подсчёта плотности популяции их вид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18396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3"/>
          <p:cNvSpPr/>
          <p:nvPr/>
        </p:nvSpPr>
        <p:spPr>
          <a:xfrm>
            <a:off x="1214280" y="18108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подсчета плотности популяции бабоч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357120" y="523728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ина маршрута, Е-ширина полосы маршрута (50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2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Е=50м, то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в.м = 0,1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стретились 5 особей капустницы, 2 особи павлиньего гла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особь репейницы, тогд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тность популя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 кв.к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капустниц, 20 особей павлиньего глаза, 10 репей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214200" y="88920"/>
            <a:ext cx="928800" cy="696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Мет_подсчета_баб.jpg"/>
          <p:cNvPicPr/>
          <p:nvPr/>
        </p:nvPicPr>
        <p:blipFill>
          <a:blip r:embed="rId2"/>
          <a:stretch/>
        </p:blipFill>
        <p:spPr>
          <a:xfrm>
            <a:off x="214200" y="928800"/>
            <a:ext cx="8526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4"/>
          <p:cNvSpPr/>
          <p:nvPr/>
        </p:nvSpPr>
        <p:spPr>
          <a:xfrm>
            <a:off x="1928880" y="54756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новные результаты 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357120" y="1643040"/>
            <a:ext cx="82868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Выявлен видовой состав дневных бабочек надсемейства  Булавоусых, обитающих на территории окрестностей посёлка Обухово и села Балобаново, составлен  перечень и выполнено описание дневных бабочек, встретившихся при обследовании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Определена плотность  популяции всех встретившихся видов дневных бабочек на каждом из тестовых  участков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Составлен каталог бабочек,   распространённых на территории городского поселения Обухово, Ногинского района,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Начата работа по  составлению своего электронного справочника (определителя) дневных бабочек, обитающих в северо-восточной части Подмоск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15717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4"/>
          <p:cNvSpPr/>
          <p:nvPr/>
        </p:nvSpPr>
        <p:spPr>
          <a:xfrm>
            <a:off x="2071800" y="285840"/>
            <a:ext cx="65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новные результаты 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1500120" cy="12002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7"/>
          <p:cNvSpPr/>
          <p:nvPr/>
        </p:nvSpPr>
        <p:spPr>
          <a:xfrm>
            <a:off x="357120" y="1357200"/>
            <a:ext cx="821556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тработана методика проведения полевых и камер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 На основе анализа биолого-экологического каркаса городского поселения Обухово  и его окрестностей выявлена прямая зависимость плотности популяции  дневных бабочек от экологической обстановки в это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 Получены новые данные, позволяющие, после их тщательной проверки в дальнейшем исследовании,  внести некоторые коррективы в Красную книгу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Пока не удалось обнаружить следующих бабочек, обитающих по данным Красной книги в восточной и северо-восточной части Московской обла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хародус пушистый (Carcharodus flossifer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поллон обыкновенный ( Parnassius  apo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Шашечница феба (Melitaea Phoeb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следний раз бы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ена в Ногинском районе в 197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4"/>
          <p:cNvSpPr/>
          <p:nvPr/>
        </p:nvSpPr>
        <p:spPr>
          <a:xfrm>
            <a:off x="0" y="214200"/>
            <a:ext cx="8929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ды дневных Булавоусых бабоче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несённые в Красную книгу Московской области (всего 17 видов), встречающиеся в окрестностях г. п. Обухово, Ног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819520" cy="2071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rcRect l="0" t="0" r="9135" b="0"/>
          <a:stretch/>
        </p:blipFill>
        <p:spPr>
          <a:xfrm>
            <a:off x="3143160" y="1357200"/>
            <a:ext cx="285768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8"/>
          <p:cNvSpPr/>
          <p:nvPr/>
        </p:nvSpPr>
        <p:spPr>
          <a:xfrm>
            <a:off x="214200" y="3500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иргус белопятнис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4"/>
          <p:cNvSpPr/>
          <p:nvPr/>
        </p:nvSpPr>
        <p:spPr>
          <a:xfrm>
            <a:off x="3251160" y="35002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стоголовка мор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5"/>
          <p:cNvSpPr/>
          <p:nvPr/>
        </p:nvSpPr>
        <p:spPr>
          <a:xfrm>
            <a:off x="6097680" y="350028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стоголовка зап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6"/>
          <p:cNvSpPr/>
          <p:nvPr/>
        </p:nvSpPr>
        <p:spPr>
          <a:xfrm>
            <a:off x="1428840" y="6286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ха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3"/>
          <a:stretch/>
        </p:blipFill>
        <p:spPr>
          <a:xfrm>
            <a:off x="6143760" y="1357200"/>
            <a:ext cx="2714400" cy="2116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4"/>
          <a:stretch/>
        </p:blipFill>
        <p:spPr>
          <a:xfrm>
            <a:off x="500040" y="4000680"/>
            <a:ext cx="3286080" cy="2219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5"/>
          <a:stretch/>
        </p:blipFill>
        <p:spPr>
          <a:xfrm>
            <a:off x="4643280" y="4000680"/>
            <a:ext cx="3286440" cy="22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3"/>
          <p:cNvSpPr/>
          <p:nvPr/>
        </p:nvSpPr>
        <p:spPr>
          <a:xfrm>
            <a:off x="4714920" y="63356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далирий (фото ав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6"/>
          <a:stretch/>
        </p:blipFill>
        <p:spPr>
          <a:xfrm>
            <a:off x="6143760" y="1357200"/>
            <a:ext cx="2714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786200" y="344520"/>
            <a:ext cx="3643560" cy="265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500040" y="3559320"/>
            <a:ext cx="3841920" cy="27860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6"/>
          <p:cNvSpPr/>
          <p:nvPr/>
        </p:nvSpPr>
        <p:spPr>
          <a:xfrm>
            <a:off x="5000760" y="29876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лтушка торфян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"/>
          <p:cNvSpPr/>
          <p:nvPr/>
        </p:nvSpPr>
        <p:spPr>
          <a:xfrm>
            <a:off x="928800" y="641664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лтушк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китн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5072040" y="63453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ливница ив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3"/>
          <a:stretch/>
        </p:blipFill>
        <p:spPr>
          <a:xfrm>
            <a:off x="4643280" y="35593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4"/>
          <a:stretch/>
        </p:blipFill>
        <p:spPr>
          <a:xfrm>
            <a:off x="500040" y="344520"/>
            <a:ext cx="3929040" cy="25858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7"/>
          <p:cNvSpPr/>
          <p:nvPr/>
        </p:nvSpPr>
        <p:spPr>
          <a:xfrm>
            <a:off x="571680" y="2987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емозина (фото из Красной Кни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643280" y="3630600"/>
            <a:ext cx="3548160" cy="26431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4"/>
          <p:cNvSpPr/>
          <p:nvPr/>
        </p:nvSpPr>
        <p:spPr>
          <a:xfrm>
            <a:off x="5143680" y="634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ашечница ма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" descr=""/>
          <p:cNvPicPr/>
          <p:nvPr/>
        </p:nvPicPr>
        <p:blipFill>
          <a:blip r:embed="rId2"/>
          <a:srcRect l="0" t="9614" r="0" b="0"/>
          <a:stretch/>
        </p:blipFill>
        <p:spPr>
          <a:xfrm>
            <a:off x="571680" y="3630600"/>
            <a:ext cx="3786120" cy="26859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1071720" y="641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ашечница авр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"/>
          <p:cNvPicPr/>
          <p:nvPr/>
        </p:nvPicPr>
        <p:blipFill>
          <a:blip r:embed="rId3"/>
          <a:stretch/>
        </p:blipFill>
        <p:spPr>
          <a:xfrm>
            <a:off x="4643280" y="344520"/>
            <a:ext cx="3500640" cy="2689200"/>
          </a:xfrm>
          <a:prstGeom prst="rect">
            <a:avLst/>
          </a:prstGeom>
          <a:ln w="0">
            <a:noFill/>
          </a:ln>
        </p:spPr>
      </p:pic>
      <p:sp>
        <p:nvSpPr>
          <p:cNvPr id="417" name="TextBox 8"/>
          <p:cNvSpPr/>
          <p:nvPr/>
        </p:nvSpPr>
        <p:spPr>
          <a:xfrm>
            <a:off x="4724280" y="3143160"/>
            <a:ext cx="34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огоцветница чёрно-ры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4"/>
          <a:srcRect l="22139" t="29902" r="32013" b="27382"/>
          <a:stretch/>
        </p:blipFill>
        <p:spPr>
          <a:xfrm>
            <a:off x="525600" y="415800"/>
            <a:ext cx="3832200" cy="26434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0"/>
          <p:cNvSpPr/>
          <p:nvPr/>
        </p:nvSpPr>
        <p:spPr>
          <a:xfrm>
            <a:off x="857160" y="31431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огоцветница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б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2428920" y="3445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Schoolbook"/>
              </a:rPr>
              <a:t>Выводы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428760" y="1214280"/>
            <a:ext cx="8429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Обследование показал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 неожиданно много «краснокнижных» дневных бабочек надсемейства Булавоусых  удалось обнаружить, но не всех, занесенных в Красную книгу Московской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в связи с этим исследования надо продолжить и расширить территорию обследования за Горьковскую автомобильную трассу, где могут быть обнаруже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снокнижные» дневные бабочки надсемейства Булавоусых,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судя по характерным местам и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 для получения  более достоверной информации следует исследовать не только бабочек, но и их гусен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необходимо привлечь к исследованиям друзей , одноклассников, юннатов г. Ногинска, что позволит в более короткие сроки охватить большую территорию и собрать много информации, ценной для составителей Красной книги, которую периодически обновляют, а информации достоверной мало - территория Московской области  больш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714240" y="227160"/>
            <a:ext cx="1500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3714840" y="14292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Реализация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3143160" y="1249200"/>
            <a:ext cx="542952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териалы исследований представле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сотруднику лаборатории экологии и охраны окружающей среды Г.С. Ерёмкину  Биофака МГУ, разработчику раздела о бабочках в Красной книг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заместителю министра Министерства экологии и природопользования Москов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 результатах исследования сделаны сообщения в школе (МБОУ СОШ №24  п. Обухов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бота передана на Станцию Юных натуралистов  г.  Ногинска   с   целью определения перспектив продолжения совместных исследований 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>
            <a:lum bright="10000"/>
          </a:blip>
          <a:srcRect l="7944" t="0" r="12605" b="0"/>
          <a:stretch/>
        </p:blipFill>
        <p:spPr>
          <a:xfrm>
            <a:off x="255600" y="285840"/>
            <a:ext cx="3030480" cy="28573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7"/>
          <p:cNvSpPr/>
          <p:nvPr/>
        </p:nvSpPr>
        <p:spPr>
          <a:xfrm>
            <a:off x="928800" y="3214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rcRect l="0" t="0" r="10004" b="0"/>
          <a:stretch/>
        </p:blipFill>
        <p:spPr>
          <a:xfrm>
            <a:off x="214200" y="3643200"/>
            <a:ext cx="3086280" cy="25718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9"/>
          <p:cNvSpPr/>
          <p:nvPr/>
        </p:nvSpPr>
        <p:spPr>
          <a:xfrm>
            <a:off x="857160" y="6357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3"/>
          <p:cNvSpPr/>
          <p:nvPr/>
        </p:nvSpPr>
        <p:spPr>
          <a:xfrm>
            <a:off x="2928960" y="357120"/>
            <a:ext cx="5715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ПЕРСПЕКТИВЫ   ДАЛЬНЕЙШИХ ИССЛЕДО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rcRect l="6252" t="17760" r="4685" b="14101"/>
          <a:stretch/>
        </p:blipFill>
        <p:spPr>
          <a:xfrm>
            <a:off x="357120" y="230040"/>
            <a:ext cx="2357640" cy="11988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6"/>
          <p:cNvSpPr/>
          <p:nvPr/>
        </p:nvSpPr>
        <p:spPr>
          <a:xfrm>
            <a:off x="428760" y="1500120"/>
            <a:ext cx="8143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должить исследования на уже выбранных тестовых участках и на прилегающей к ним территории  для проверки и уточнения результатов, полученных  в данной работе, сравнительного анализа  информации об ареалах распространения «краснокнижных» видов бабочек в пределах обследованной территории, пополнения моего электронного справо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явить дополнительные причины неравномерного распределения разных видов бабочек на исследуемой территории, включая экологические факторы, влияющие на их развитие и распространение по изучаемой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сотрудничестве со специалистами попытаться выявить виды бабочек наиболее чувствительные к изменению показателей качества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14520" y="1274760"/>
            <a:ext cx="44290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428760" y="336060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уальность темы обусловлена необходимостью выявить ареалы распространения разных видов дневных бабочек, надсемейства  Булавоусых, включая занесенных в Красную книгу Подмосковья, встречающихся на территории городского поселения Обухово и прилегающих учас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57120" y="353880"/>
            <a:ext cx="36194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rcRect l="6252" t="17760" r="4685" b="14101"/>
          <a:stretch/>
        </p:blipFill>
        <p:spPr>
          <a:xfrm>
            <a:off x="357120" y="230040"/>
            <a:ext cx="2357640" cy="11988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85840" y="1643040"/>
            <a:ext cx="83581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пределение возможности рассмотрения бабочек, как биоиндикатора экологической ситуации на изучаемых участках территории и использования данных о бабочках для проведения экологического зондирования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ля проверки эффективности  методики исследования, использованной в данном проекте, и достоверности получаемых результатов выполнить аналогичные исследования  на других территориях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2928960" y="357120"/>
            <a:ext cx="5715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ПЕРСПЕКТИВЫ   ДАЛЬНЕЙШИХ ИССЛЕДО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"/>
          <p:cNvPicPr/>
          <p:nvPr/>
        </p:nvPicPr>
        <p:blipFill>
          <a:blip r:embed="rId1">
            <a:lum contrast="30000"/>
          </a:blip>
          <a:srcRect l="0" t="0" r="0" b="6519"/>
          <a:stretch/>
        </p:blipFill>
        <p:spPr>
          <a:xfrm>
            <a:off x="214200" y="214200"/>
            <a:ext cx="8691840" cy="6429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143280" y="499680"/>
            <a:ext cx="4714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rcRect l="0" t="6976" r="0" b="4654"/>
          <a:stretch/>
        </p:blipFill>
        <p:spPr>
          <a:xfrm>
            <a:off x="422280" y="285840"/>
            <a:ext cx="3506760" cy="2714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00720" y="1213920"/>
            <a:ext cx="36813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Ы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571680" y="3178080"/>
            <a:ext cx="778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следование  видового состава дневных бабочек надсемейства  Булавоусых, включая виды, внесенные в Красную книгу, выявление мест их распространения на территории городского поселения Обухово и расчёт плотности популяции каждого вида на обследованных (тестовых) учас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467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500040" y="1171440"/>
            <a:ext cx="84297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Изучить по литературным данным видовой состав, характерные особенности и условия существования дневных бабочек надсемейства Булавоус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Выделить и исследовать виды, характерные для Подмосковья, изучить особенности их распределения по территории региона, определить широко распространённые и редкие виды, уже занесенные в Красную книгу Московской област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Провести анализ элементов экологического каркаса исследуемой территории и определить тестовые участки для проведения регулярных наблю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44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0040" y="1193400"/>
            <a:ext cx="77868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Выявить на территории городского поселения Обухово и окрестностей места фактического распространения редких и «краснокнижных» видов дневных бабочек надсемейства  Булавоусых  и  передать эти данные в Министерство экологии и природопользования Московской об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5. Составить электронный каталог бабочек надсемейства  Булавоусых, распространённых на территории городского поселения Обухо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 Рассчитать плотность популяции каждого вида бабочек на тестовых участках исследуемой территории городского поселения Обухо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 Наметить перспективы и сформулировать основные направления дальнейших исследован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4643280" y="1428840"/>
            <a:ext cx="39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500040" y="3703680"/>
            <a:ext cx="807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едпосылкой к реализации этого исследовательского проекта является предположение о том,  что обследование территории городского поселения Обухово позволит выявить видовой состав дневных бабочек надсемейства Булавоусых, включая «краснокнижные» виды, рассчитать плотность их популяции на тестовых участках и наметить перспективы продолжения эт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3857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4" descr="Ног_район_новый.JPG"/>
          <p:cNvPicPr/>
          <p:nvPr/>
        </p:nvPicPr>
        <p:blipFill>
          <a:blip r:embed="rId1"/>
          <a:srcRect l="0" t="-184" r="0" b="0"/>
          <a:stretch/>
        </p:blipFill>
        <p:spPr>
          <a:xfrm>
            <a:off x="285840" y="571680"/>
            <a:ext cx="4224240" cy="40003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7"/>
          <p:cNvSpPr/>
          <p:nvPr/>
        </p:nvSpPr>
        <p:spPr>
          <a:xfrm>
            <a:off x="4572000" y="5349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йон проведения натурных исслед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3" descr=""/>
          <p:cNvPicPr/>
          <p:nvPr/>
        </p:nvPicPr>
        <p:blipFill>
          <a:blip r:embed="rId2"/>
          <a:srcRect l="0" t="3887" r="0" b="0"/>
          <a:stretch/>
        </p:blipFill>
        <p:spPr>
          <a:xfrm>
            <a:off x="4572000" y="1989000"/>
            <a:ext cx="41590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44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естовые участки территории натурных исследований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Рисунок 2" descr=""/>
          <p:cNvPicPr/>
          <p:nvPr/>
        </p:nvPicPr>
        <p:blipFill>
          <a:blip r:embed="rId1"/>
          <a:stretch/>
        </p:blipFill>
        <p:spPr>
          <a:xfrm>
            <a:off x="357120" y="1380960"/>
            <a:ext cx="778680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4" descr="Экологический каркас"/>
          <p:cNvPicPr/>
          <p:nvPr/>
        </p:nvPicPr>
        <p:blipFill>
          <a:blip r:embed="rId1">
            <a:lum contrast="30000"/>
          </a:blip>
          <a:srcRect l="0" t="0" r="7562" b="0"/>
          <a:stretch/>
        </p:blipFill>
        <p:spPr>
          <a:xfrm>
            <a:off x="285840" y="1428840"/>
            <a:ext cx="8358120" cy="5000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2286000" y="21420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лементы экологического карк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следованн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rcRect l="0" t="9274" r="0" b="9711"/>
          <a:stretch/>
        </p:blipFill>
        <p:spPr>
          <a:xfrm>
            <a:off x="291960" y="214200"/>
            <a:ext cx="18511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0:25:02Z</dcterms:created>
  <dc:creator>Колодин_Арсений</dc:creator>
  <dc:description/>
  <dc:language>en-US</dc:language>
  <cp:lastModifiedBy>Mac</cp:lastModifiedBy>
  <dcterms:modified xsi:type="dcterms:W3CDTF">2014-12-15T12:49:49Z</dcterms:modified>
  <cp:revision>119</cp:revision>
  <dc:subject/>
  <dc:title>Слайд 1</dc:title>
</cp:coreProperties>
</file>