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8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10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893-4BBA-4866-B8BD-32391747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894-13B4-4889-872A-2CA15631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469A-19A2-4E93-BAB3-972707DF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B710-40DD-4AF6-AE90-9A1059FF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1724-841F-4553-AB6A-1FA19266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FB64-49F3-4095-98B2-1A211359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9A13-EA99-4753-8CDE-6D3A9573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827F-A64E-42AA-8780-331A901A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7272-878D-42CF-8A28-6516C6E6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2C05-8A60-4B1D-B295-36C10C35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1C9D-2E29-4E96-BAA0-227ED0A4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F510-E125-49ED-A8D6-4A00FE58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7B9D-3357-44B3-B437-B6095660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972B-DBC4-41FA-962D-01ADD607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95B6-0907-451C-BEC1-46ED47CD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F4AC-3101-42D0-99B8-12822413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6E5C-05B9-4453-8334-CFFDCA39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5BF73-7696-4C02-A941-F29C14AC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A11B9-575D-4AD0-9C6B-3F3014F2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C6536-404C-4114-B8B2-23FE90AA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ECA96-AFA4-492F-8316-8DC2A5DD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EEE15-CC49-4A89-9D83-54B29364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B37-D653-445F-9926-45911282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FC4D0-FAA6-469E-93D7-57A2F6D1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FA056-3790-4145-8D0D-84B29E04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81D55-5900-4650-9BA4-891BD9E5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4BFA0-FB8F-4C9C-971D-4046A8F7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1A907-4F82-4456-A962-C3A6E366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AEBEA-E73B-421A-995D-C7D67816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E3FDD-91EA-4C5A-B564-270DF8D1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28BD2-3507-445E-A7ED-ACD53FD1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AD7E4-E82F-4374-94EF-58812384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91E8D-911D-43B9-9376-854C0FF2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D72-C37B-4254-8BC0-8589E4B1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04DA4-2F89-4FD1-80AD-931BBAC1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B0739-4155-44FB-9727-D70A4976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F92D1-47CF-4665-8A16-4FF0979D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E9437-3062-46FD-A4CC-9F7231D6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AF073-85BA-4F9F-B5EB-74B8025D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8048C-2D50-48CC-9C1D-1A7F8722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18714-B8D2-4249-8CB2-F5095963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545E4-9158-498F-91D7-37705301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184B6-9957-4376-A9C7-295A191A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4239E2-742E-417C-9C34-8CDB636B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E4D7-9B84-4D7E-987B-E43433F7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B4FE8C-4EA0-4285-A750-0766AC68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94EB94-0B02-4993-8E1E-9981FDD5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6F871-9A82-43D5-8D3E-6FBD1243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338C42-FCCD-422A-94CF-E69AF053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48EF6A-0D25-44E7-801A-B8CF7243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FADEB-76FE-4705-8BDF-DEE7535C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C7A480-451B-4C92-9C97-E9E98EA6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2BB56-37F3-478A-9CC7-E26699BC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18C4D6-DCBF-4EEA-A520-F4423771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3D128-E4A3-4A3E-918B-E2BA2B9F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87D-986E-489F-8564-2F031782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8B288C-3C5C-462E-AF3B-4F42E6E8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F5E25E-ADC0-4CFF-BDCC-54CCC3FF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5F4B8-0118-47FC-B642-B4C3B32D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60A1B-3D5B-410F-BC1C-7AD92D08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84924A-1210-4826-A597-2E0AF8CD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01A5C1-B3E5-4319-BBF2-AADBB6E1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4FA77-D708-4C25-81E6-2238A991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5271B8-5EBC-47EE-A7D6-92B96962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F801C4-4218-47D2-A491-2240AD84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3ECC0-0A09-48F9-8AC4-A9EE61D9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A83-73E1-432B-A5C2-AB60D765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74683F-0217-4911-9C60-15EB42A9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E0596-BD0D-49A2-97C1-538618BF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3CAEB-9DBF-4D44-9154-7F55E5E4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1880F1-60CE-49FC-9CB2-AE6703D7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5B8C30-9D72-4B89-A9B0-913E795A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1F1E7B-376A-455A-8D5B-160496B3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506262-ACB5-4D37-AABF-94AF6D77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29A22C-0BCD-4C65-AE5B-1AC83768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4837B7-DF95-4758-907C-7DF53C9B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5F86C6-6C95-4C02-97AC-9E571BEE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C29-877B-4254-8E7E-D7F0B28E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0B349E-D5FB-4E44-8030-218A33FE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A68ED1-BFB2-4267-8D65-D2C8BAE6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58614B-8EF3-46D4-BDDC-501E9CC7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C202A4-5C65-419E-A83D-922E70F5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02766-FC70-4C19-A213-55E7C6A4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408-122E-4D2E-9B3E-A9B2424E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C554-5EB6-4822-82F6-C7F3C73AF0E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AE1F-217C-4FC2-B1F9-200FC9BF1F4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A1E0-8801-4C73-BA57-D9FBAC1B59F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F760-BF56-47E8-8E0A-D37FE13C549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60C0-8FD0-43B0-9651-BCA839256A4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3A11-A057-4D53-80B0-1CBDECC8594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6C24-0BC3-4642-B610-8D7A3C3DD02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3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71800" y="1857240"/>
            <a:ext cx="692928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a160b"/>
                </a:solidFill>
                <a:latin typeface="Century Schoolbook"/>
                <a:ea typeface="Verdana"/>
              </a:rPr>
              <a:t>ИССЛЕДОВАНИЕ ВИДОВОГО СОСТАВА </a:t>
            </a:r>
            <a:br>
              <a:rPr sz="1600"/>
            </a:br>
            <a:r>
              <a:rPr b="1" lang="en-US" sz="1600" spc="-1" strike="noStrike">
                <a:solidFill>
                  <a:srgbClr val="5a160b"/>
                </a:solidFill>
                <a:latin typeface="Century Schoolbook"/>
                <a:ea typeface="Verdana"/>
              </a:rPr>
              <a:t>ДНЕВНЫХ БАБОЧЕК </a:t>
            </a:r>
            <a:br>
              <a:rPr sz="1600"/>
            </a:br>
            <a:r>
              <a:rPr b="1" lang="en-US" sz="1600" spc="-1" strike="noStrike">
                <a:solidFill>
                  <a:srgbClr val="5a160b"/>
                </a:solidFill>
                <a:latin typeface="Century Schoolbook"/>
                <a:ea typeface="Verdana"/>
              </a:rPr>
              <a:t>(НАДСЕМЕЙСТВА БУЛАВОУСЫХ), </a:t>
            </a:r>
            <a:br>
              <a:rPr sz="1600"/>
            </a:br>
            <a:r>
              <a:rPr b="1" lang="en-US" sz="1600" spc="-1" strike="noStrike">
                <a:solidFill>
                  <a:srgbClr val="5a160b"/>
                </a:solidFill>
                <a:latin typeface="Century Schoolbook"/>
                <a:ea typeface="Verdana"/>
              </a:rPr>
              <a:t>ИХ ЧИСЛЕННОСТИ  И МЕСТ ОБИТАНИЯ НА ТЕРРИТОРИИ ГОРОДСКОГО ПОСЕЛЕНИЯ ОБУХОВО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999880" y="4357440"/>
            <a:ext cx="59295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Автор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олодин Арсени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ник 7а класса             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1643040" y="14760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униципальное бюджет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редняя  образовательная  школа  №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осковская область,  Ногинский район,  г. п. Обух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11"/>
          <p:cNvSpPr/>
          <p:nvPr/>
        </p:nvSpPr>
        <p:spPr>
          <a:xfrm>
            <a:off x="1928880" y="741240"/>
            <a:ext cx="6858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3"/>
          <p:cNvSpPr/>
          <p:nvPr/>
        </p:nvSpPr>
        <p:spPr>
          <a:xfrm>
            <a:off x="4572000" y="62150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бухово  201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одзаголовок 2"/>
          <p:cNvSpPr/>
          <p:nvPr/>
        </p:nvSpPr>
        <p:spPr>
          <a:xfrm>
            <a:off x="2928960" y="4929120"/>
            <a:ext cx="59292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Руководитель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   Мецих Ольга Иван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1" descr=""/>
          <p:cNvPicPr/>
          <p:nvPr/>
        </p:nvPicPr>
        <p:blipFill>
          <a:blip r:embed="rId1"/>
          <a:stretch/>
        </p:blipFill>
        <p:spPr>
          <a:xfrm>
            <a:off x="214200" y="568440"/>
            <a:ext cx="168912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3"/>
          <p:cNvSpPr/>
          <p:nvPr/>
        </p:nvSpPr>
        <p:spPr>
          <a:xfrm>
            <a:off x="3286080" y="42876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Методы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285840" y="1226880"/>
            <a:ext cx="7929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.  Метод определения и подсчёта количества особей разных видов бабочек на заранее намеченном маршруте путём визуального обследования территории с помощью бинокля и фиксация их фотокамерой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SONY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с использованием длиннофокусного объ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. Метод определения видов бабочек с использованием  определителей насекомых непосредственно в полевых условиях и по фотографиям в камеральных усло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3. Метод детального изучения с помощью микроскопа особенностей окраски и формы крыльев, строения тела у бабочек разных типов, для выявления характерных признаков важных при определении и исследовании (пользовались только бабочки, погибшие при столкновении с автомобилями и найденные на их лобовых стёклах или в придорожной полос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. Метод определения частоты встречаемости бабочек (или подсчёта плотности популяции их вид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18396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3"/>
          <p:cNvSpPr/>
          <p:nvPr/>
        </p:nvSpPr>
        <p:spPr>
          <a:xfrm>
            <a:off x="1214280" y="181080"/>
            <a:ext cx="75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ика подсчета плотности популяции бабоч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357120" y="5237280"/>
            <a:ext cx="807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длина маршрута, Е-ширина полосы маршрута (50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2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, Е=50м, тог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в.м = 0,1 кв.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стретились 5 особей капустницы, 2 особи павлиньего глаз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особь репейницы, тогд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лотность популяц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1 кв.к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 капустниц, 20 особей павлиньего глаза, 10 репейн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214200" y="88920"/>
            <a:ext cx="928800" cy="6969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4" descr="Мет_подсчета_баб.jpg"/>
          <p:cNvPicPr/>
          <p:nvPr/>
        </p:nvPicPr>
        <p:blipFill>
          <a:blip r:embed="rId2"/>
          <a:stretch/>
        </p:blipFill>
        <p:spPr>
          <a:xfrm>
            <a:off x="214200" y="928800"/>
            <a:ext cx="85266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4"/>
          <p:cNvSpPr/>
          <p:nvPr/>
        </p:nvSpPr>
        <p:spPr>
          <a:xfrm>
            <a:off x="1928880" y="54756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сновные результаты 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357120" y="1643040"/>
            <a:ext cx="82868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. Выявлен видовой состав дневных бабочек надсемейства  Булавоусых, обитающих на территории окрестностей посёлка Обухово и села Балобаново, составлен  перечень и выполнено описание дневных бабочек, встретившихся при обследовании терр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. Определена плотность  популяции всех встретившихся видов дневных бабочек на каждом из тестовых  участков терр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3. Составлен каталог бабочек,   распространённых на территории городского поселения Обухово, Ногинского района, Москов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4. Начата работа по  составлению своего электронного справочника (определителя) дневных бабочек, обитающих в северо-восточной части Подмоск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15717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Box 4"/>
          <p:cNvSpPr/>
          <p:nvPr/>
        </p:nvSpPr>
        <p:spPr>
          <a:xfrm>
            <a:off x="2071800" y="285840"/>
            <a:ext cx="657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сновные результаты 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" descr=""/>
          <p:cNvPicPr/>
          <p:nvPr/>
        </p:nvPicPr>
        <p:blipFill>
          <a:blip r:embed="rId1"/>
          <a:stretch/>
        </p:blipFill>
        <p:spPr>
          <a:xfrm>
            <a:off x="357120" y="142920"/>
            <a:ext cx="1500120" cy="12002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7"/>
          <p:cNvSpPr/>
          <p:nvPr/>
        </p:nvSpPr>
        <p:spPr>
          <a:xfrm>
            <a:off x="357120" y="1357200"/>
            <a:ext cx="821556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5.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тработана методика проведения полевых и камеральных исслед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6. На основе анализа биолого-экологического каркаса городского поселения Обухово  и его окрестностей выявлена прямая зависимость плотности популяции  дневных бабочек от экологической обстановки в этой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7. Получены новые данные, позволяющие, после их тщательной проверки в дальнейшем исследовании,  внести некоторые коррективы в Красную книгу Москов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Пока не удалось обнаружить следующих бабочек, обитающих по данным Красной книги в восточной и северо-восточной части Московской обла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архародус пушистый (Carcharodus flossifer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Аполлон обыкновенный ( Parnassius  apo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Шашечница феба (Melitaea Phoeb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оследний раз бы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чена в Ногинском районе в 197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4"/>
          <p:cNvSpPr/>
          <p:nvPr/>
        </p:nvSpPr>
        <p:spPr>
          <a:xfrm>
            <a:off x="0" y="214200"/>
            <a:ext cx="8929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иды дневных Булавоусых бабоче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несённые в Красную книгу Московской области (всего 17 видов), встречающиеся в окрестностях г. п. Обухово, Ногин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2819520" cy="20718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rcRect l="0" t="0" r="9135" b="0"/>
          <a:stretch/>
        </p:blipFill>
        <p:spPr>
          <a:xfrm>
            <a:off x="3143160" y="1357200"/>
            <a:ext cx="2857680" cy="20718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8"/>
          <p:cNvSpPr/>
          <p:nvPr/>
        </p:nvSpPr>
        <p:spPr>
          <a:xfrm>
            <a:off x="214200" y="3500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иргус белопятнист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4"/>
          <p:cNvSpPr/>
          <p:nvPr/>
        </p:nvSpPr>
        <p:spPr>
          <a:xfrm>
            <a:off x="3251160" y="35002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олстоголовка морф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5"/>
          <p:cNvSpPr/>
          <p:nvPr/>
        </p:nvSpPr>
        <p:spPr>
          <a:xfrm>
            <a:off x="6097680" y="3500280"/>
            <a:ext cx="29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олстоголовка запя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6"/>
          <p:cNvSpPr/>
          <p:nvPr/>
        </p:nvSpPr>
        <p:spPr>
          <a:xfrm>
            <a:off x="1428840" y="6286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ха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3"/>
          <a:stretch/>
        </p:blipFill>
        <p:spPr>
          <a:xfrm>
            <a:off x="6143760" y="1357200"/>
            <a:ext cx="2714400" cy="2116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"/>
          <p:cNvPicPr/>
          <p:nvPr/>
        </p:nvPicPr>
        <p:blipFill>
          <a:blip r:embed="rId4"/>
          <a:stretch/>
        </p:blipFill>
        <p:spPr>
          <a:xfrm>
            <a:off x="500040" y="4000680"/>
            <a:ext cx="3286080" cy="2219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"/>
          <p:cNvPicPr/>
          <p:nvPr/>
        </p:nvPicPr>
        <p:blipFill>
          <a:blip r:embed="rId5"/>
          <a:stretch/>
        </p:blipFill>
        <p:spPr>
          <a:xfrm>
            <a:off x="4643280" y="4000680"/>
            <a:ext cx="3286440" cy="22478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23"/>
          <p:cNvSpPr/>
          <p:nvPr/>
        </p:nvSpPr>
        <p:spPr>
          <a:xfrm>
            <a:off x="4714920" y="633564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далирий (фото авт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6"/>
          <a:stretch/>
        </p:blipFill>
        <p:spPr>
          <a:xfrm>
            <a:off x="6143760" y="1357200"/>
            <a:ext cx="27144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4786200" y="344520"/>
            <a:ext cx="3643560" cy="26510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500040" y="3559320"/>
            <a:ext cx="3841920" cy="2786040"/>
          </a:xfrm>
          <a:prstGeom prst="rect">
            <a:avLst/>
          </a:prstGeom>
          <a:ln w="0">
            <a:noFill/>
          </a:ln>
        </p:spPr>
      </p:pic>
      <p:sp>
        <p:nvSpPr>
          <p:cNvPr id="406" name="TextBox 6"/>
          <p:cNvSpPr/>
          <p:nvPr/>
        </p:nvSpPr>
        <p:spPr>
          <a:xfrm>
            <a:off x="5000760" y="298764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елтушка торфян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7"/>
          <p:cNvSpPr/>
          <p:nvPr/>
        </p:nvSpPr>
        <p:spPr>
          <a:xfrm>
            <a:off x="928800" y="6416640"/>
            <a:ext cx="28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елтушк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китн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8"/>
          <p:cNvSpPr/>
          <p:nvPr/>
        </p:nvSpPr>
        <p:spPr>
          <a:xfrm>
            <a:off x="5072040" y="63453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еливница ив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"/>
          <p:cNvPicPr/>
          <p:nvPr/>
        </p:nvPicPr>
        <p:blipFill>
          <a:blip r:embed="rId3"/>
          <a:stretch/>
        </p:blipFill>
        <p:spPr>
          <a:xfrm>
            <a:off x="4643280" y="35593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4"/>
          <a:stretch/>
        </p:blipFill>
        <p:spPr>
          <a:xfrm>
            <a:off x="500040" y="344520"/>
            <a:ext cx="3929040" cy="2585880"/>
          </a:xfrm>
          <a:prstGeom prst="rect">
            <a:avLst/>
          </a:prstGeom>
          <a:ln w="0">
            <a:noFill/>
          </a:ln>
        </p:spPr>
      </p:pic>
      <p:sp>
        <p:nvSpPr>
          <p:cNvPr id="411" name="TextBox 17"/>
          <p:cNvSpPr/>
          <p:nvPr/>
        </p:nvSpPr>
        <p:spPr>
          <a:xfrm>
            <a:off x="571680" y="29876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немозина (фото из Красной Книг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643280" y="3630600"/>
            <a:ext cx="3548160" cy="2643120"/>
          </a:xfrm>
          <a:prstGeom prst="rect">
            <a:avLst/>
          </a:prstGeom>
          <a:ln w="0">
            <a:noFill/>
          </a:ln>
        </p:spPr>
      </p:pic>
      <p:sp>
        <p:nvSpPr>
          <p:cNvPr id="413" name="TextBox 4"/>
          <p:cNvSpPr/>
          <p:nvPr/>
        </p:nvSpPr>
        <p:spPr>
          <a:xfrm>
            <a:off x="5143680" y="6345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Шашечница мату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8" descr=""/>
          <p:cNvPicPr/>
          <p:nvPr/>
        </p:nvPicPr>
        <p:blipFill>
          <a:blip r:embed="rId2"/>
          <a:srcRect l="0" t="9614" r="0" b="0"/>
          <a:stretch/>
        </p:blipFill>
        <p:spPr>
          <a:xfrm>
            <a:off x="571680" y="3630600"/>
            <a:ext cx="3786120" cy="26859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6"/>
          <p:cNvSpPr/>
          <p:nvPr/>
        </p:nvSpPr>
        <p:spPr>
          <a:xfrm>
            <a:off x="1071720" y="6416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Шашечница авр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7" descr=""/>
          <p:cNvPicPr/>
          <p:nvPr/>
        </p:nvPicPr>
        <p:blipFill>
          <a:blip r:embed="rId3"/>
          <a:stretch/>
        </p:blipFill>
        <p:spPr>
          <a:xfrm>
            <a:off x="4643280" y="344520"/>
            <a:ext cx="3500640" cy="2689200"/>
          </a:xfrm>
          <a:prstGeom prst="rect">
            <a:avLst/>
          </a:prstGeom>
          <a:ln w="0">
            <a:noFill/>
          </a:ln>
        </p:spPr>
      </p:pic>
      <p:sp>
        <p:nvSpPr>
          <p:cNvPr id="417" name="TextBox 8"/>
          <p:cNvSpPr/>
          <p:nvPr/>
        </p:nvSpPr>
        <p:spPr>
          <a:xfrm>
            <a:off x="4724280" y="3143160"/>
            <a:ext cx="34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ногоцветница чёрно-рыж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6" descr=""/>
          <p:cNvPicPr/>
          <p:nvPr/>
        </p:nvPicPr>
        <p:blipFill>
          <a:blip r:embed="rId4"/>
          <a:srcRect l="22139" t="29902" r="32013" b="27382"/>
          <a:stretch/>
        </p:blipFill>
        <p:spPr>
          <a:xfrm>
            <a:off x="525600" y="415800"/>
            <a:ext cx="3832200" cy="264348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0"/>
          <p:cNvSpPr/>
          <p:nvPr/>
        </p:nvSpPr>
        <p:spPr>
          <a:xfrm>
            <a:off x="857160" y="314316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ногоцветница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- б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3"/>
          <p:cNvSpPr/>
          <p:nvPr/>
        </p:nvSpPr>
        <p:spPr>
          <a:xfrm>
            <a:off x="2428920" y="3445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entury Schoolbook"/>
              </a:rPr>
              <a:t>Выводы и 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"/>
          <p:cNvSpPr/>
          <p:nvPr/>
        </p:nvSpPr>
        <p:spPr>
          <a:xfrm>
            <a:off x="428760" y="1214280"/>
            <a:ext cx="8429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Обследование показало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)  неожиданно много «краснокнижных» дневных бабочек надсемейства Булавоусых  удалось обнаружить, но не всех, занесенных в Красную книгу Московской об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) в связи с этим исследования надо продолжить и расширить территорию обследования за Горьковскую автомобильную трассу, где могут быть обнаруже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раснокнижные» дневные бабочки надсемейства Булавоусых,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судя по характерным местам их об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) для получения  более достоверной информации следует исследовать не только бабочек, но и их гусени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) необходимо привлечь к исследованиям друзей , одноклассников, юннатов г. Ногинска, что позволит в более короткие сроки охватить большую территорию и собрать много информации, ценной для составителей Красной книги, которую периодически обновляют, а информации достоверной мало - территория Московской области  больш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714240" y="227160"/>
            <a:ext cx="15004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3"/>
          <p:cNvSpPr/>
          <p:nvPr/>
        </p:nvSpPr>
        <p:spPr>
          <a:xfrm>
            <a:off x="3714840" y="142920"/>
            <a:ext cx="48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entury Schoolbook"/>
              </a:rPr>
              <a:t>Реализация результа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entury Schoolbook"/>
              </a:rPr>
              <a:t>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4"/>
          <p:cNvSpPr/>
          <p:nvPr/>
        </p:nvSpPr>
        <p:spPr>
          <a:xfrm>
            <a:off x="3143160" y="1249200"/>
            <a:ext cx="5429520" cy="53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атериалы исследований представлен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- сотруднику лаборатории экологии и охраны окружающей среды Г.С. Ерёмкину  Биофака МГУ, разработчику раздела о бабочках в Красной книг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- заместителю министра Министерства экологии и природопользования Московской о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 результатах исследования сделаны сообщения в школе (МБОУ СОШ №24  п. Обухов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абота передана на Станцию Юных натуралистов  г.  Ногинска   с   целью определения перспектив продолжения совместных исследований 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>
            <a:lum bright="10000"/>
          </a:blip>
          <a:srcRect l="7944" t="0" r="12605" b="0"/>
          <a:stretch/>
        </p:blipFill>
        <p:spPr>
          <a:xfrm>
            <a:off x="255600" y="285840"/>
            <a:ext cx="3030480" cy="28573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7"/>
          <p:cNvSpPr/>
          <p:nvPr/>
        </p:nvSpPr>
        <p:spPr>
          <a:xfrm>
            <a:off x="928800" y="32148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ото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rcRect l="0" t="0" r="10004" b="0"/>
          <a:stretch/>
        </p:blipFill>
        <p:spPr>
          <a:xfrm>
            <a:off x="214200" y="3643200"/>
            <a:ext cx="3086280" cy="25718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9"/>
          <p:cNvSpPr/>
          <p:nvPr/>
        </p:nvSpPr>
        <p:spPr>
          <a:xfrm>
            <a:off x="857160" y="6357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ото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3"/>
          <p:cNvSpPr/>
          <p:nvPr/>
        </p:nvSpPr>
        <p:spPr>
          <a:xfrm>
            <a:off x="2928960" y="357120"/>
            <a:ext cx="5715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ПЕРСПЕКТИВЫ   ДАЛЬНЕЙШИХ ИССЛЕДОВА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rcRect l="6252" t="17760" r="4685" b="14101"/>
          <a:stretch/>
        </p:blipFill>
        <p:spPr>
          <a:xfrm>
            <a:off x="357120" y="230040"/>
            <a:ext cx="2357640" cy="1198800"/>
          </a:xfrm>
          <a:prstGeom prst="rect">
            <a:avLst/>
          </a:prstGeom>
          <a:ln w="0">
            <a:noFill/>
          </a:ln>
        </p:spPr>
      </p:pic>
      <p:sp>
        <p:nvSpPr>
          <p:cNvPr id="431" name="TextBox 6"/>
          <p:cNvSpPr/>
          <p:nvPr/>
        </p:nvSpPr>
        <p:spPr>
          <a:xfrm>
            <a:off x="428760" y="1500120"/>
            <a:ext cx="8143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одолжить исследования на уже выбранных тестовых участках и на прилегающей к ним территории  для проверки и уточнения результатов, полученных  в данной работе, сравнительного анализа  информации об ареалах распространения «краснокнижных» видов бабочек в пределах обследованной территории, пополнения моего электронного справоч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ыявить дополнительные причины неравномерного распределения разных видов бабочек на исследуемой территории, включая экологические факторы, влияющие на их развитие и распространение по изучаемой терр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 сотрудничестве со специалистами попытаться выявить виды бабочек наиболее чувствительные к изменению показателей качества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14520" y="1274760"/>
            <a:ext cx="442908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 ТЕМ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428760" y="336060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ктуальность темы обусловлена необходимостью выявить ареалы распространения разных видов дневных бабочек, надсемейства  Булавоусых, включая занесенных в Красную книгу Подмосковья, встречающихся на территории городского поселения Обухово и прилегающих участ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357120" y="353880"/>
            <a:ext cx="361944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/>
          <a:srcRect l="6252" t="17760" r="4685" b="14101"/>
          <a:stretch/>
        </p:blipFill>
        <p:spPr>
          <a:xfrm>
            <a:off x="357120" y="230040"/>
            <a:ext cx="2357640" cy="119880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285840" y="1643040"/>
            <a:ext cx="83581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пределение возможности рассмотрения бабочек, как биоиндикатора экологической ситуации на изучаемых участках территории и использования данных о бабочках для проведения экологического зондирования терр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Для проверки эффективности  методики исследования, использованной в данном проекте, и достоверности получаемых результатов выполнить аналогичные исследования  на других территориях Москов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5"/>
          <p:cNvSpPr/>
          <p:nvPr/>
        </p:nvSpPr>
        <p:spPr>
          <a:xfrm>
            <a:off x="2928960" y="357120"/>
            <a:ext cx="5715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ПЕРСПЕКТИВЫ   ДАЛЬНЕЙШИХ ИССЛЕДОВА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4" descr=""/>
          <p:cNvPicPr/>
          <p:nvPr/>
        </p:nvPicPr>
        <p:blipFill>
          <a:blip r:embed="rId1">
            <a:lum contrast="30000"/>
          </a:blip>
          <a:srcRect l="0" t="0" r="0" b="6519"/>
          <a:stretch/>
        </p:blipFill>
        <p:spPr>
          <a:xfrm>
            <a:off x="214200" y="214200"/>
            <a:ext cx="8691840" cy="6429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-143280" y="499680"/>
            <a:ext cx="47149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Благодарю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за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"/>
          <p:cNvPicPr/>
          <p:nvPr/>
        </p:nvPicPr>
        <p:blipFill>
          <a:blip r:embed="rId1"/>
          <a:srcRect l="0" t="6976" r="0" b="4654"/>
          <a:stretch/>
        </p:blipFill>
        <p:spPr>
          <a:xfrm>
            <a:off x="422280" y="285840"/>
            <a:ext cx="3506760" cy="2714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00720" y="1213920"/>
            <a:ext cx="368136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Ы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TextBox 9"/>
          <p:cNvSpPr/>
          <p:nvPr/>
        </p:nvSpPr>
        <p:spPr>
          <a:xfrm>
            <a:off x="571680" y="3178080"/>
            <a:ext cx="7786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сследование  видового состава дневных бабочек надсемейства  Булавоусых, включая виды, внесенные в Красную книгу, выявление мест их распространения на территории городского поселения Обухово и расчёт плотности популяции каждого вида на обследованных (тестовых) участ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746784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500040" y="1171440"/>
            <a:ext cx="842976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. Изучить по литературным данным видовой состав, характерные особенности и условия существования дневных бабочек надсемейства Булавоус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. Выделить и исследовать виды, характерные для Подмосковья, изучить особенности их распределения по территории региона, определить широко распространённые и редкие виды, уже занесенные в Красную книгу Московской област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3. Провести анализ элементов экологического каркаса исследуемой территории и определить тестовые участки для проведения регулярных наблюд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44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0040" y="1193400"/>
            <a:ext cx="77868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4. Выявить на территории городского поселения Обухово и окрестностей места фактического распространения редких и «краснокнижных» видов дневных бабочек надсемейства  Булавоусых  и  передать эти данные в Министерство экологии и природопользования Московской обла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5. Составить электронный каталог бабочек надсемейства  Булавоусых, распространённых на территории городского поселения Обухов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6. Рассчитать плотность популяции каждого вида бабочек на тестовых участках исследуемой территории городского поселения Обухов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7. Наметить перспективы и сформулировать основные направления дальнейших исследовани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3"/>
          <p:cNvSpPr/>
          <p:nvPr/>
        </p:nvSpPr>
        <p:spPr>
          <a:xfrm>
            <a:off x="4643280" y="1428840"/>
            <a:ext cx="39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пот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500040" y="3703680"/>
            <a:ext cx="8072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едпосылкой к реализации этого исследовательского проекта является предположение о том,  что обследование территории городского поселения Обухово позволит выявить видовой состав дневных бабочек надсемейства Булавоусых, включая «краснокнижные» виды, рассчитать плотность их популяции на тестовых участках и наметить перспективы продолжения эти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714240" y="214200"/>
            <a:ext cx="38577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4" descr="Ног_район_новый.JPG"/>
          <p:cNvPicPr/>
          <p:nvPr/>
        </p:nvPicPr>
        <p:blipFill>
          <a:blip r:embed="rId1"/>
          <a:srcRect l="0" t="-184" r="0" b="0"/>
          <a:stretch/>
        </p:blipFill>
        <p:spPr>
          <a:xfrm>
            <a:off x="285840" y="571680"/>
            <a:ext cx="4224240" cy="40003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7"/>
          <p:cNvSpPr/>
          <p:nvPr/>
        </p:nvSpPr>
        <p:spPr>
          <a:xfrm>
            <a:off x="4572000" y="5349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айон проведения натурных исслед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Рисунок 3" descr=""/>
          <p:cNvPicPr/>
          <p:nvPr/>
        </p:nvPicPr>
        <p:blipFill>
          <a:blip r:embed="rId2"/>
          <a:srcRect l="0" t="3887" r="0" b="0"/>
          <a:stretch/>
        </p:blipFill>
        <p:spPr>
          <a:xfrm>
            <a:off x="4572000" y="1989000"/>
            <a:ext cx="415908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44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Тестовые участки территории натурных исследований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Рисунок 2" descr=""/>
          <p:cNvPicPr/>
          <p:nvPr/>
        </p:nvPicPr>
        <p:blipFill>
          <a:blip r:embed="rId1"/>
          <a:stretch/>
        </p:blipFill>
        <p:spPr>
          <a:xfrm>
            <a:off x="357120" y="1380960"/>
            <a:ext cx="7786800" cy="49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4" descr="Экологический каркас"/>
          <p:cNvPicPr/>
          <p:nvPr/>
        </p:nvPicPr>
        <p:blipFill>
          <a:blip r:embed="rId1">
            <a:lum contrast="30000"/>
          </a:blip>
          <a:srcRect l="0" t="0" r="7562" b="0"/>
          <a:stretch/>
        </p:blipFill>
        <p:spPr>
          <a:xfrm>
            <a:off x="285840" y="1428840"/>
            <a:ext cx="8358120" cy="5000400"/>
          </a:xfrm>
          <a:prstGeom prst="rect">
            <a:avLst/>
          </a:prstGeom>
          <a:ln w="0">
            <a:noFill/>
          </a:ln>
        </p:spPr>
      </p:pic>
      <p:sp>
        <p:nvSpPr>
          <p:cNvPr id="377" name="TextBox 5"/>
          <p:cNvSpPr/>
          <p:nvPr/>
        </p:nvSpPr>
        <p:spPr>
          <a:xfrm>
            <a:off x="2286000" y="21420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Элементы экологического карка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следованной терр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2"/>
          <a:srcRect l="0" t="9274" r="0" b="9711"/>
          <a:stretch/>
        </p:blipFill>
        <p:spPr>
          <a:xfrm>
            <a:off x="291960" y="214200"/>
            <a:ext cx="18511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0:25:02Z</dcterms:created>
  <dc:creator>Колодин_Арсений</dc:creator>
  <dc:description/>
  <dc:language>en-US</dc:language>
  <cp:lastModifiedBy>Mac</cp:lastModifiedBy>
  <dcterms:modified xsi:type="dcterms:W3CDTF">2014-12-15T12:49:49Z</dcterms:modified>
  <cp:revision>119</cp:revision>
  <dc:subject/>
  <dc:title>Слайд 1</dc:title>
</cp:coreProperties>
</file>