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9.png" ContentType="image/png"/>
  <Override PartName="/ppt/media/image13.gif" ContentType="image/gif"/>
  <Override PartName="/ppt/media/image8.gif" ContentType="image/gif"/>
  <Override PartName="/ppt/media/image17.gif" ContentType="image/gif"/>
  <Override PartName="/ppt/media/image16.gif" ContentType="image/gif"/>
  <Override PartName="/ppt/media/image14.gif" ContentType="image/gif"/>
  <Override PartName="/ppt/media/image1.png" ContentType="image/png"/>
  <Override PartName="/ppt/media/image2.gif" ContentType="image/gif"/>
  <Override PartName="/ppt/media/image3.gif" ContentType="image/gif"/>
  <Override PartName="/ppt/media/image12.gif" ContentType="image/gif"/>
  <Override PartName="/ppt/media/image15.wmf" ContentType="image/x-wmf"/>
  <Override PartName="/ppt/media/image4.gif" ContentType="image/gif"/>
  <Override PartName="/ppt/media/image6.jpeg" ContentType="image/jpeg"/>
  <Override PartName="/ppt/media/image11.gif" ContentType="image/gif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2F8-4A3F-4EE2-B99E-6A43A684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D22-9393-4C11-8557-79C5EBCF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38C-8ABA-424E-97BC-F92BCCDD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79F-4048-411E-ADD5-A370AAC4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C0E-C22E-4F59-83DB-0566829A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A4A-6A0D-4BB1-A629-40FAEBC6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F14-2E13-47A4-B21F-8119D35F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BAC-41D9-4ADC-9613-B00B4292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CB4-E203-4DBC-8209-A3129E92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8C7-8A11-4C58-BADA-1638A55D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FF2-0F86-4D9D-9ABA-84BE045E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6EF-A658-4DF1-BB14-F697AEBA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3D4D-B0D2-4E95-9F04-768B04B84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60;&#1080;&#1075;&#1099;&#1083;&#1100;.ppt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35880" cy="128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Фигыльнең хәзерге </a:t>
            </a:r>
            <a:br>
              <a:rPr sz="4800"/>
            </a:b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заман форм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9790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 основой на согласны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т спрягаемую основу настоящего време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начит: спрягаются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мощи аффиксов –а / -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3231360" y="3231360"/>
            <a:ext cx="6858000" cy="3952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настоящее время глагола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5687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Например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Бар. Ул бара. (Иди. Он идет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Кил. Ул килә. (Приходи. Он приходит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рягайте глаголы в настоящем времени</a:t>
            </a: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Уйна, тыңла, ела, чык, кие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яр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840" y="6094800"/>
            <a:ext cx="723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Кара, бас, йөз, эшлә, с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36572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рягайте глаг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рицательно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е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2124000" y="0"/>
            <a:ext cx="288144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3960720" cy="364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052640"/>
            <a:ext cx="806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ама не с</a:t>
            </a:r>
            <a:r>
              <a:rPr b="1" i="1" lang="ru-RU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ит, она варит суп. Папа не читает, он смотрит телевизор. Брат не делает зарядку, он спит. Сестренка не спрашивает, она рассказыва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2276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flipH="1">
            <a:off x="5651280" y="4803840"/>
            <a:ext cx="3492360" cy="2054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flipH="1">
            <a:off x="0" y="552600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2276640"/>
            <a:ext cx="99216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5400000">
            <a:off x="-3087000" y="3086640"/>
            <a:ext cx="6858000" cy="68436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настоящее время глагола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197000"/>
            <a:ext cx="889308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лаг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 основой на глас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разуют 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прягаемую основу настоящего време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значит: спрягаются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и помощи аффиксов -ый / -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297320"/>
            <a:ext cx="813744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Georgia"/>
              </a:rPr>
              <a:t>Например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Тыңла. Ул тыңлы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(Слушай. Он слушает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Сөйлә. Ул сөйли. (Рассказывай. Он рассказывает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8435880" cy="128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Фигыльнең хәзерге </a:t>
            </a:r>
            <a:br>
              <a:rPr sz="4800"/>
            </a:b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заман форм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-3123360" y="3123360"/>
            <a:ext cx="6858000" cy="6112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настоящее время глагола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197000"/>
            <a:ext cx="845964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 u="sng">
                <a:solidFill>
                  <a:srgbClr val="cc3300"/>
                </a:solidFill>
                <a:uFillTx/>
                <a:latin typeface="Georgia"/>
                <a:ea typeface="Times New Roman"/>
              </a:rPr>
              <a:t>Запомните!</a:t>
            </a:r>
            <a:r>
              <a:rPr b="1" i="1" lang="tt-RU" sz="4400" spc="-1" strike="noStrike">
                <a:solidFill>
                  <a:srgbClr val="cc3300"/>
                </a:solidFill>
                <a:latin typeface="Georgi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с основой на  -у / -ю образуют спрягаемую основу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-а / -</a:t>
            </a:r>
            <a:r>
              <a:rPr b="1" i="1" lang="tt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</a:t>
            </a:r>
            <a:r>
              <a:rPr b="1" i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пример: Ю. Ул юа. (Он моет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у. Ул туа.(Он рождаетс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Глаголы на  -й, -и образуют спрягаемую основу при помощи -я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пример: Җый. </a:t>
            </a:r>
            <a:r>
              <a:rPr b="1" i="1" lang="tt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җы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Он собирает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и. Ул кия (Он надевает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8435880" cy="10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Фигыльнең хәзерге </a:t>
            </a:r>
            <a:br>
              <a:rPr sz="4800"/>
            </a:b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заман форм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7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bdf53"/>
                </a:solidFill>
                <a:latin typeface="Georgia"/>
              </a:rPr>
              <a:t>Образуйте спрягаемую основу данных глаголов. Переведи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Үрнәк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Яз. Ул яза. </a:t>
            </a:r>
            <a:r>
              <a:rPr b="1" lang="tt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Пиши. Он пишет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ша. Ул ашый. </a:t>
            </a:r>
            <a:r>
              <a:rPr b="1" lang="tt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</a:t>
            </a:r>
            <a:r>
              <a:rPr b="1" lang="ru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Ешь. Он ест</a:t>
            </a:r>
            <a:r>
              <a:rPr b="1" lang="tt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Җый. Ул җыя. </a:t>
            </a:r>
            <a:r>
              <a:rPr b="1" lang="tt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Собирай. Он собира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л, өйрән, сөйләш, эч, бас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тыңла, кабатла, сөйлә, яшә, ю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ки, 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16000" y="1373040"/>
            <a:ext cx="712944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кучы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яза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Әни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пешерә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Әти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эшли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алай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уйный,</a:t>
            </a:r>
            <a:r>
              <a:rPr b="1" i="1" lang="tt-RU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..</a:t>
            </a:r>
            <a:r>
              <a:rPr b="1" lang="tt-RU" sz="4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еси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йоклый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Әби нишли? 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утыра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765000"/>
            <a:ext cx="6797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полните отве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flipH="1">
            <a:off x="6804000" y="4830840"/>
            <a:ext cx="234000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Спряжение глагола в настоящем врем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0"/>
            <a:ext cx="615636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гыльнең хәзерг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манда төрләнеш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700280"/>
            <a:ext cx="820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м времени глаголы спрягаются путем присоединения к спрягаемой основе личных окончаний настоящего времен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51280" y="5489640"/>
            <a:ext cx="13683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755640" y="5661000"/>
            <a:ext cx="5616720" cy="936720"/>
            <a:chOff x="755640" y="5661000"/>
            <a:chExt cx="5616720" cy="936720"/>
          </a:xfrm>
        </p:grpSpPr>
        <p:sp>
          <p:nvSpPr>
            <p:cNvPr id="62" name=""/>
            <p:cNvSpPr/>
            <p:nvPr/>
          </p:nvSpPr>
          <p:spPr>
            <a:xfrm>
              <a:off x="5364000" y="5661000"/>
              <a:ext cx="1008360" cy="93672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755640" y="5877000"/>
              <a:ext cx="2952720" cy="67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окончания глаголов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пряжении в настоящем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52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5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 нишлим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 нишлисең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 нишли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нишлибез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з нишлисез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ар нишлиләр?</a:t>
            </a:r>
            <a:r>
              <a:rPr b="1" lang="tt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46760" y="1341360"/>
            <a:ext cx="4197240" cy="431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Мин -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ин -сың/-се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Ул  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Без -быз/-бе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ез -сыз/-се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Алар -лар/-ләр</a:t>
            </a:r>
            <a:r>
              <a:rPr b="0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3708360" y="5497560"/>
            <a:ext cx="1619280" cy="1360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 спряжение </a:t>
            </a:r>
            <a:br>
              <a:rPr sz="4000"/>
            </a:b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ов в настоящем време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197000"/>
          <a:ext cx="9144000" cy="5653080"/>
        </p:xfrm>
        <a:graphic>
          <a:graphicData uri="http://schemas.openxmlformats.org/drawingml/2006/table">
            <a:tbl>
              <a:tblPr/>
              <a:tblGrid>
                <a:gridCol w="4643280"/>
                <a:gridCol w="4500720"/>
              </a:tblGrid>
              <a:tr h="70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 утырам, йөгерәм.                                        Мин җырлыйм, сөйлим.       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 утырасың, йөгерәсең.                                 Син җырлыйсың, сөйлисең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 утыра, йөгерә                                                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 җырлый, сөйли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утырабыз,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өгерәбез.                                 Без җырлыйбыз, сөйлибез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з утырасыз, йөгерәсез.                                  Сез җырлыйсыз, сөйлисез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р утыралар, йөгерәләр.                                Алар җырлыйлар, сөйлиләр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ая фор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120" y="1268280"/>
            <a:ext cx="86425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ая форма спрягаемой основы глагола настоящего вре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л. ед.ч.) образуется от основы глагола через аффиксы -мый /-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Ал. Ул алмый. (Бери. Он не берет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Эч. Ул эчми. (Пей. Он не пьет.)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рицательной форме глагол спрягается от отрицательной  спрягаемой основы через те же личные окончания, как и в утвердительной фор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95280" cy="38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395280" cy="382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13:40:28Z</dcterms:created>
  <dc:creator>Тюлеманова</dc:creator>
  <dc:description/>
  <dc:language>en-US</dc:language>
  <cp:lastModifiedBy>Тюлеманова</cp:lastModifiedBy>
  <dcterms:modified xsi:type="dcterms:W3CDTF">2009-08-25T14:49:23Z</dcterms:modified>
  <cp:revision>64</cp:revision>
  <dc:subject/>
  <dc:title> Фигыль.</dc:title>
</cp:coreProperties>
</file>