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13.gif" ContentType="image/gif"/>
  <Override PartName="/ppt/media/image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6.jpeg" ContentType="image/jpeg"/>
  <Override PartName="/ppt/media/image11.gif" ContentType="image/gif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0C6-B6B2-414F-A5F7-994DFE58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682-FAD0-43A5-9477-5A53E9C0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B44-FBAA-4704-96E3-90A17967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288-6991-46BF-A019-B3F8F629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747-B56F-4146-A9CD-F80686F1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48D-8700-419C-9D62-9E1DA802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CD9-A052-4966-A359-CEB97ACB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5A6-0C3C-42FB-8E7B-A255D4AC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F05-5EFF-455B-AAB8-8E1C323D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BAC-484F-414A-9B15-60A9332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FB4-3704-4684-9217-07066F7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703-8D41-4F6D-A35E-A0B9C73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031F-A550-4A72-BB95-A6166721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60;&#1080;&#1075;&#1099;&#1083;&#1100;.ppt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790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согласны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аффиксов –а / -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3231360" y="3231360"/>
            <a:ext cx="6858000" cy="395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5687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Бар. Ул бара. (Иди. Он иде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Кил. Ул килә. (Приходи. Он приходи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в настоящем времени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Уйна, тыңла, ела, чык, ки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яр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40" y="6094800"/>
            <a:ext cx="723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Кара, бас, йөз, эшлә, с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3657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124000" y="0"/>
            <a:ext cx="28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96072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052640"/>
            <a:ext cx="806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ма не с</a:t>
            </a:r>
            <a:r>
              <a:rPr b="1" i="1" lang="ru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, она варит суп. Папа не читает, он смотрит телевизор. Брат не делает зарядку, он спит. Сестренка не спрашивает, она расска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22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flipH="1">
            <a:off x="5651280" y="4803840"/>
            <a:ext cx="3492360" cy="2054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0" y="5526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276640"/>
            <a:ext cx="99216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3087000" y="3086640"/>
            <a:ext cx="6858000" cy="6843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97000"/>
            <a:ext cx="8893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глас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разуют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 помощи аффиксов -ый / -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297320"/>
            <a:ext cx="81374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Тыңла. Ул тыңл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(Слушай. Он слуш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Сөйлә. Ул сөйли. (Рассказывай. Он рассказыв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3123360" y="3123360"/>
            <a:ext cx="6858000" cy="611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845964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 u="sng">
                <a:solidFill>
                  <a:srgbClr val="cc3300"/>
                </a:solidFill>
                <a:uFillTx/>
                <a:latin typeface="Georgia"/>
                <a:ea typeface="Times New Roman"/>
              </a:rPr>
              <a:t>Запомните!</a:t>
            </a:r>
            <a:r>
              <a:rPr b="1" i="1" lang="tt-RU" sz="4400" spc="-1" strike="noStrike">
                <a:solidFill>
                  <a:srgbClr val="cc33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 основой на  -у / -ю образуют спрягаемую основу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-а / -</a:t>
            </a:r>
            <a:r>
              <a:rPr b="1" i="1" lang="tt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Ю. Ул юа. (Он моет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. Ул туа.(Он рождает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Глаголы на  -й, -и образуют спрягаемую основу при помощи -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Җый. </a:t>
            </a: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җы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Он собирае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и. Ул кия (Он надева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43588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bdf53"/>
                </a:solidFill>
                <a:latin typeface="Georgia"/>
              </a:rPr>
              <a:t>Образуйте спрягаемую основу данных глаголов. Перевед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Үрнәк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Яз. Ул яза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Пиши. Он пиш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ша. Ул ашый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</a:t>
            </a:r>
            <a:r>
              <a:rPr b="1" lang="ru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Ешь. Он ест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Җый. Ул җыя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Собирай. Он собира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л, өйрән, сөйләш, эч, бас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тыңла, кабатла, сөйлә, яшә, 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ки, 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1373040"/>
            <a:ext cx="712944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кучы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яз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н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пешерә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т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эшли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лай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йный,</a:t>
            </a:r>
            <a:r>
              <a:rPr b="1" i="1" lang="tt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..</a:t>
            </a:r>
            <a:r>
              <a:rPr b="1" lang="tt-RU" sz="4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с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йоклый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би нишли? 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тыр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765000"/>
            <a:ext cx="6797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 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>
            <a:off x="6804000" y="4830840"/>
            <a:ext cx="234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Спряжение глагола в настоящем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0"/>
            <a:ext cx="615636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гыльнең хәзерг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манда төрләнеш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700280"/>
            <a:ext cx="820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времени глаголы спрягаются путем присоединения к спрягаемой основе личных окончаний настоящего време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5489640"/>
            <a:ext cx="1368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755640" y="5661000"/>
            <a:ext cx="5616720" cy="936720"/>
            <a:chOff x="755640" y="5661000"/>
            <a:chExt cx="5616720" cy="936720"/>
          </a:xfrm>
        </p:grpSpPr>
        <p:sp>
          <p:nvSpPr>
            <p:cNvPr id="62" name=""/>
            <p:cNvSpPr/>
            <p:nvPr/>
          </p:nvSpPr>
          <p:spPr>
            <a:xfrm>
              <a:off x="5364000" y="5661000"/>
              <a:ext cx="1008360" cy="93672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5640" y="5877000"/>
              <a:ext cx="295272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окончания глаголов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пряжении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нишли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 нишлисең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 нишл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ишлиб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 нишлис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р нишлиләр?</a:t>
            </a: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1341360"/>
            <a:ext cx="4197240" cy="431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ин -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ин -сың/-се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л  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Без -быз/-б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з -сыз/-с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лар -лар/-ләр</a:t>
            </a: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708360" y="5497560"/>
            <a:ext cx="161928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спряжение 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ов в настоящем време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97000"/>
          <a:ext cx="9144000" cy="565308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70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 утырам, йөгерәм.                                        Мин җырлыйм, сөйлим.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 утырасың, йөгерәсең.                                 Син җырлыйсың, сөйлисең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утыра, йөгерә                                         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җырлый, сөйли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тырабыз,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өгерәбез.                                 Без җырлыйбыз, сөйлиб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 утырасыз, йөгерәсез.                                  Сез җырлыйсыз, сөйлис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р утыралар, йөгерәләр.                                Алар җырлыйлар, сөйлиләр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120" y="1268280"/>
            <a:ext cx="8642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 спрягаемой основы глагола настоящег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л. ед.ч.) образуется от основы глагола через аффиксы -мый /-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л. Ул алмый. (Бери. Он не бер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Эч. Ул эчми. (Пей. Он не пьет.)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 форме глагол спрягается от отрицательной  спрягаемой основы через те же личные окончания, как и в утвердительн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95280" cy="38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395280" cy="38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08-25T14:49:23Z</dcterms:modified>
  <cp:revision>64</cp:revision>
  <dc:subject/>
  <dc:title> Фигыль.</dc:title>
</cp:coreProperties>
</file>