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28C-EEA1-44A0-914C-D7F41791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BC3-5EE7-4B72-B6F0-BAFC02F2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7C0-F19F-42ED-B436-A463FA41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9DC-F3C5-4719-8DB8-5418C34E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7D7D-418D-48C2-8FBE-2E2EC365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5760-E39B-4DED-BDC4-8CE2F736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51E2-2B1E-4103-9489-5268274E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F077-AA07-4F78-A8EA-9F96808C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C28E-6422-4A48-AFB0-E9CAEDC2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E859-CE12-414B-B3E1-DFB73AAA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8E48-7C12-4B8F-9249-70B4E717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F24-284E-41BE-BED6-16B4A8D5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BB8E-5D8B-4904-A2C0-649C243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D26C-6BCA-4310-B785-A4B7C84A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4B62-F3C3-489D-9B4C-6F16526F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9577-57B7-4AAC-B157-67660D3F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B630-796F-4903-96E6-24521E7C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BC8-730D-4B37-A3C0-F58B7F1A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D04-B5A0-4F6D-B04A-011AEF00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CBC-02C4-4067-A7A5-A598FF70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B68-57B2-4E9C-8492-ECCCC7F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80C-E004-48FD-943D-BF4242C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DA7-8A7B-4B42-95D4-77E52CAE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7A9-ED75-4125-977C-C15274E3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e8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a6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64F1-ACC1-4BC4-9C4D-B0069612CC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e8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a6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e8a6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9A6D-F6E7-4AA9-9F6D-CB56667EC5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60;&#1080;&#1075;&#1099;&#1083;&#1100;.ppt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87280" y="3715920"/>
            <a:ext cx="7561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990033"/>
                </a:solidFill>
                <a:latin typeface="Arial"/>
              </a:rPr>
              <a:t>прошедшее определенно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1692360" y="907920"/>
            <a:ext cx="7200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ahom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ahoma"/>
              </a:rPr>
              <a:t>Билгеле үткән заман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ahoma"/>
              <a:ea typeface="Tahoma"/>
            </a:endParaRPr>
          </a:p>
        </p:txBody>
      </p:sp>
      <p:pic>
        <p:nvPicPr>
          <p:cNvPr id="99" name="Picture 8" descr="antn071"/>
          <p:cNvPicPr/>
          <p:nvPr/>
        </p:nvPicPr>
        <p:blipFill>
          <a:blip r:embed="rId4"/>
          <a:stretch/>
        </p:blipFill>
        <p:spPr>
          <a:xfrm>
            <a:off x="0" y="5411880"/>
            <a:ext cx="1908000" cy="1446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885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Напишите глаголы в отрицательной форме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8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684360" y="1500120"/>
            <a:ext cx="84596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Без алар белән телефоннан сөйләштек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Марат елганың икенче ярына кадәр йөзеп җитт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Балалар тиз йоклап киттеләр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Мин контроль эшне       легә эшләдем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00"/>
                </a:solidFill>
                <a:latin typeface="Arial"/>
              </a:rPr>
              <a:t>Абыем быел Сабантуйда көрәшт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3" name="Picture 10" descr="телеф"/>
          <p:cNvPicPr/>
          <p:nvPr/>
        </p:nvPicPr>
        <p:blipFill>
          <a:blip r:embed="rId2"/>
          <a:stretch/>
        </p:blipFill>
        <p:spPr>
          <a:xfrm>
            <a:off x="7943760" y="214308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Рисунок152"/>
          <p:cNvPicPr/>
          <p:nvPr/>
        </p:nvPicPr>
        <p:blipFill>
          <a:blip r:embed="rId3"/>
          <a:stretch/>
        </p:blipFill>
        <p:spPr>
          <a:xfrm>
            <a:off x="6643800" y="4286160"/>
            <a:ext cx="877680" cy="878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tt-RU" sz="3800" spc="-1" strike="noStrike">
                <a:solidFill>
                  <a:srgbClr val="330033"/>
                </a:solidFill>
                <a:latin typeface="Times New Roman"/>
              </a:rPr>
              <a:t>прошедшее  неопределенное врем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31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требляется, когда речь идет о прошедших событиях и действиях, которых говорящий сам не видел, а сообщает о них со слов других лиц или источников. Прошедшее неопределенное время отвечает на вопрос </a:t>
            </a:r>
            <a:r>
              <a:rPr b="1" lang="tt-RU" sz="2800" spc="-1" strike="noStrike">
                <a:solidFill>
                  <a:srgbClr val="cc0000"/>
                </a:solidFill>
                <a:latin typeface="Arial"/>
              </a:rPr>
              <a:t>нишләгән?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И образуется от основы глагола присоединением аффикс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cc0000"/>
                </a:solidFill>
                <a:latin typeface="Arial"/>
              </a:rPr>
              <a:t>ган / -гә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 глаголам, основа которых оканчивается на гласный или звонкий согласн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пример: Уйла. Ул уйлаган. (Он думал). Бел. Ул бел</a:t>
            </a:r>
            <a:r>
              <a:rPr b="1" i="1" lang="tt-RU" sz="2400" spc="-1" strike="noStrike">
                <a:solidFill>
                  <a:srgbClr val="cc0000"/>
                </a:solidFill>
                <a:latin typeface="Arial"/>
              </a:rPr>
              <a:t>гә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. (Он зна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cc0000"/>
                </a:solidFill>
                <a:latin typeface="Arial"/>
              </a:rPr>
              <a:t>кан / -кә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к глаголам, основа которых оканчивается на глухой согласный)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пример: Ул кайткан (он приехал). Ул әйткән (она сказ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89320" y="0"/>
            <a:ext cx="7241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330033"/>
                </a:solidFill>
                <a:latin typeface="Georgia"/>
              </a:rPr>
              <a:t>Билгесез үткән заман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5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148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Личные окончания глаголов прошедшего неопределенного времени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74560" y="1500120"/>
          <a:ext cx="8569440" cy="43862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3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ин нишләгәнмен?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Мин  -мын/-м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ин нишләгәнсең?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Син  -сың/-се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л нишләгән?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Ул         ---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Без нишләгәнбез?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Без  -быз/-бе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з нишләгәнсез?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Сез   -сыз /-се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лар нишләгәннәр?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Алар  -нар/-нә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26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2960" y="259920"/>
            <a:ext cx="84106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Запомните спряжение глаголов  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шедше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определенно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м времени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5834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Мин кайтканмын, киткән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Мин ашаганмын, көлгәнмен.</a:t>
            </a:r>
            <a:r>
              <a:rPr b="0" i="1" lang="tt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ин кайткансың киткәнсең.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Син ашагансың, көлгәнсе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Ул кайткан, киткән.                 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Ул ашаган, көлгә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Без кайтканбыз, киткәнбез.  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Без ашаганбыз, көлгәнб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Сез кайткансыз, киткәнсез.  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Сез ашагансыз, көлгәнс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Алар кайтканнар, киткәннәр.                                        </a:t>
            </a:r>
            <a:r>
              <a:rPr b="0" i="1" lang="tt-RU" sz="2800" spc="-1" strike="noStrike">
                <a:solidFill>
                  <a:srgbClr val="990033"/>
                </a:solidFill>
                <a:latin typeface="Arial"/>
              </a:rPr>
              <a:t>Алар ашаганнар, көлгәннәр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Рисунок151"/>
          <p:cNvPicPr/>
          <p:nvPr/>
        </p:nvPicPr>
        <p:blipFill>
          <a:blip r:embed="rId2"/>
          <a:stretch/>
        </p:blipFill>
        <p:spPr>
          <a:xfrm>
            <a:off x="6256440" y="2708280"/>
            <a:ext cx="2887560" cy="2887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Проспрягайт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гол в прошедшем неопределенном врем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Ярат, киен, күр, кө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глаголы в отр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ательной форме</a:t>
            </a: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90033"/>
                </a:solidFill>
                <a:latin typeface="Arial"/>
              </a:rPr>
              <a:t>Кара, бас, йөз, сал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Рисунок34"/>
          <p:cNvPicPr/>
          <p:nvPr/>
        </p:nvPicPr>
        <p:blipFill>
          <a:blip r:embed="rId2"/>
          <a:stretch/>
        </p:blipFill>
        <p:spPr>
          <a:xfrm>
            <a:off x="6443640" y="4781520"/>
            <a:ext cx="270036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j0408000[1]"/>
          <p:cNvPicPr/>
          <p:nvPr/>
        </p:nvPicPr>
        <p:blipFill>
          <a:blip r:embed="rId2"/>
          <a:stretch/>
        </p:blipFill>
        <p:spPr>
          <a:xfrm>
            <a:off x="1692360" y="1341360"/>
            <a:ext cx="568800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j04326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700280"/>
            <a:ext cx="3378240" cy="337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4000" y="1628640"/>
            <a:ext cx="8820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Arial"/>
              </a:rPr>
              <a:t>когда говорящий наблюдал передаваемый факт как очевидец или сам участвовал, или это такой факт, реальность которого не подлежит сомнению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чает на вопрос нишләде?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зуется присоединение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000000"/>
                </a:solidFill>
                <a:uFillTx/>
                <a:latin typeface="Arial"/>
              </a:rPr>
              <a:t>к основе глагола аффиксов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990033"/>
                </a:solidFill>
                <a:uFillTx/>
                <a:latin typeface="Arial"/>
              </a:rPr>
              <a:t>-ды / -де: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если глаголы имеют основу на гласный или звонкий согласны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cc0000"/>
                </a:solidFill>
                <a:latin typeface="Arial"/>
              </a:rPr>
              <a:t>Например: Аша. Ул ашады (он поел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cc0000"/>
                </a:solidFill>
                <a:latin typeface="Arial"/>
              </a:rPr>
              <a:t>Кил. Ул килде (он пришел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990033"/>
                </a:solidFill>
                <a:latin typeface="Arial"/>
              </a:rPr>
              <a:t>-ты / -те: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если глаголы имеют основу на глухой согласны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cc0000"/>
                </a:solidFill>
                <a:latin typeface="Arial"/>
              </a:rPr>
              <a:t>Например: Кайт. Ул кайтты (он вернулся). Көт. Ул көтте (он ждал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104840" y="162000"/>
            <a:ext cx="768024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Прошедшее</a:t>
            </a: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 определенное время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употребляетс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Picture 7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84360" y="1404000"/>
            <a:ext cx="8459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Җәй көне Резидә авылда яхшы ял итә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Әтием зур заводта эшли. Әбием тәмле бәлеш пешерә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Әни миңа велосипед сатып ала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Минем бүген башым авырта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Быел җәй салкын бул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61600" cy="142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</a:rPr>
              <a:t>Напишите предложения в прошедшем времени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6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628640"/>
            <a:ext cx="81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тенок прыгнул с дивана. Мальчик поймал 2 рыбки. Мама показала новое плать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итель поставил пятерку. Папа покрасил пол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ник повторил правило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700360" y="333360"/>
            <a:ext cx="4032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Переведите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8" name="Picture 6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Личные окончания глаголов прошедшего определенного времен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00040" y="1312920"/>
          <a:ext cx="8532720" cy="484668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56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ин нишләдем?     Мин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ин нишләдең?      Син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ң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л нишләде?          Ул  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--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Без нишләдек?       Без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з нишләдегез?    Сез 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-гыз/-ге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лар нишләделәр?  Алар </a:t>
                      </a:r>
                      <a:r>
                        <a:rPr b="1" lang="tt-RU" sz="4000" spc="-1" strike="noStrike">
                          <a:solidFill>
                            <a:srgbClr val="cc0000"/>
                          </a:solidFill>
                          <a:latin typeface="Tahoma"/>
                          <a:ea typeface="Times New Roman"/>
                        </a:rPr>
                        <a:t>лар/лә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969840" y="188640"/>
            <a:ext cx="816948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Запомните спряжение глаголов в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шедшем определенно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м времени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3" name="Picture 5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611280" y="1557360"/>
          <a:ext cx="8532720" cy="477360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75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Мин кайттым, киттем.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Мин ашадым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м.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Син кайттың, киттең.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Син ашадың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ң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Ул кайтты, китте.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Ул ашады, көлд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Без кайттык, киттек.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Без ашадык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к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Сез кайттыгыз, киттегез.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Сез ашадыгыз,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гез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Алар кайттылар, киттеләр.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Алар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ашадылар,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                                                           </a:t>
                      </a:r>
                      <a:r>
                        <a:rPr b="1" lang="tt-RU" sz="3200" spc="-1" strike="noStrike">
                          <a:solidFill>
                            <a:srgbClr val="cc0000"/>
                          </a:solidFill>
                          <a:latin typeface="Microsoft Sans Serif"/>
                          <a:ea typeface="Times New Roman"/>
                        </a:rPr>
                        <a:t>көлделә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33"/>
                </a:solidFill>
                <a:latin typeface="Times New Roman"/>
              </a:rPr>
              <a:t>Отрицательная форма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4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рицательной форме глаголы спрягаются от отрицательной основы присоединением тех же личных окончаний. Поскольку в отрицательных основах глаголов на конце всегда будет отрицательный аффикс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ма/-м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все глаголы будут спрягаться только при помощ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ды/-д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Например: Килмә. Ул килмә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(Не приходи. Он не прише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Барма. Ул бармады. (Не ходи. Он не ходил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цветы"/>
          <p:cNvPicPr/>
          <p:nvPr/>
        </p:nvPicPr>
        <p:blipFill>
          <a:blip r:embed="rId1"/>
          <a:stretch/>
        </p:blipFill>
        <p:spPr>
          <a:xfrm>
            <a:off x="6124680" y="2975040"/>
            <a:ext cx="3019320" cy="3882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11280" y="155736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глаголы в прошедшем определенном времени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Georgia"/>
              </a:rPr>
              <a:t>Ярат, киен, күр, көт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84360" y="39337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глаголы в отри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цательной форме</a:t>
            </a: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cc0000"/>
                </a:solidFill>
                <a:latin typeface="Georgia"/>
              </a:rPr>
              <a:t>Кара, бас, йөз, сал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908000" y="404640"/>
            <a:ext cx="6480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роспрягайт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" name="Picture 10" descr="antn071"/>
          <p:cNvPicPr/>
          <p:nvPr/>
        </p:nvPicPr>
        <p:blipFill>
          <a:blip r:embed="rId2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177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В воскресенье мы ходили в гости, а вы сидели дома.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Мы накрывали на стол,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а вы нам помогали?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Мы зонтики забыли дома,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а вы их взяли? </a:t>
            </a:r>
            <a:br>
              <a:rPr sz="4400"/>
            </a:br>
            <a:r>
              <a:rPr b="1" i="1" lang="tt-RU" sz="4400" spc="-1" strike="noStrike">
                <a:solidFill>
                  <a:srgbClr val="990033"/>
                </a:solidFill>
                <a:latin typeface="Times New Roman"/>
              </a:rPr>
              <a:t>Вы потеряли ключи, а мы их нашли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Picture 4" descr="antn071"/>
          <p:cNvPicPr/>
          <p:nvPr/>
        </p:nvPicPr>
        <p:blipFill>
          <a:blip r:embed="rId1"/>
          <a:stretch/>
        </p:blipFill>
        <p:spPr>
          <a:xfrm>
            <a:off x="0" y="0"/>
            <a:ext cx="1258920" cy="954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196720" y="260280"/>
            <a:ext cx="393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</a:rPr>
              <a:t>Переведите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6" descr="с"/>
          <p:cNvPicPr/>
          <p:nvPr/>
        </p:nvPicPr>
        <p:blipFill>
          <a:blip r:embed="rId2"/>
          <a:stretch/>
        </p:blipFill>
        <p:spPr>
          <a:xfrm>
            <a:off x="7740720" y="4221000"/>
            <a:ext cx="1403280" cy="140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j028372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8142120" y="5516640"/>
            <a:ext cx="100188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ile081"/>
          <p:cNvPicPr/>
          <p:nvPr/>
        </p:nvPicPr>
        <p:blipFill>
          <a:blip r:embed="rId4"/>
          <a:stretch/>
        </p:blipFill>
        <p:spPr>
          <a:xfrm>
            <a:off x="7648560" y="2852640"/>
            <a:ext cx="1495440" cy="1236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3:40:28Z</dcterms:created>
  <dc:creator>Тюлеманова</dc:creator>
  <dc:description/>
  <dc:language>en-US</dc:language>
  <cp:lastModifiedBy>Тюлеманова</cp:lastModifiedBy>
  <dcterms:modified xsi:type="dcterms:W3CDTF">2009-10-26T15:37:54Z</dcterms:modified>
  <cp:revision>66</cp:revision>
  <dc:subject/>
  <dc:title> Фигыль.</dc:title>
</cp:coreProperties>
</file>