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11.wmf" ContentType="image/x-wmf"/>
  <Override PartName="/ppt/media/image12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DB3-ADC6-4270-8167-54F2F7B6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F57-F45C-43A3-896D-7AA31FC1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3B2-535B-45A1-AA5A-431CACB6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71C-FAAC-4470-A1D8-C662EAC2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01B8-AFD6-48F7-B3F2-5AF84DDC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0960-6BFD-41F4-A1C6-7074C1B6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816F-64FC-4B5D-A614-506CC12F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FE39-6E18-4965-9D89-BA0EEAFC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6FDB-4AD3-4AF5-817E-17C9AD31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B980-0BFC-47F9-9497-A60F3C78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A1AB-EAEC-4BA6-AEA2-FCEFB650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66A-21B8-4915-ABB5-90270D8B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2017-C035-4703-8C6B-F1962416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CEB8-E72F-4B5D-BF1F-919D0C6F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D5E7-A26B-442F-8D57-FC5B86B8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C830-5F88-4FB8-AECE-BDEE5F47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778A-CA67-4753-A5BE-35704BFB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EFA-FE28-4C20-BBCB-A73DEC2A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60A-6256-4C77-9FCE-09032B05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A36-76AC-47AA-981F-7EE1F554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897-4E96-4192-959B-E461851C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168-E34B-4FE6-8455-6107A605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32F-B5E9-4F6A-9151-A100A93A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DE1-CEEC-4395-AF2B-F292726E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e8a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a6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8a6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8a6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C86F-9F3F-4F11-9F50-2DB66B0CD3D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e8a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a6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8a6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8a6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2E5C-CF07-4A6A-838F-664FD1B535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60;&#1080;&#1075;&#1099;&#1083;&#1100;.ppt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87280" y="3715920"/>
            <a:ext cx="75614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990033"/>
                </a:solidFill>
                <a:latin typeface="Arial"/>
              </a:rPr>
              <a:t>прошедшее определенное 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1692360" y="907920"/>
            <a:ext cx="7200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ahom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ahoma"/>
              </a:rPr>
              <a:t>Билгеле үткән заман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ahoma"/>
              <a:ea typeface="Tahoma"/>
            </a:endParaRPr>
          </a:p>
        </p:txBody>
      </p:sp>
      <p:pic>
        <p:nvPicPr>
          <p:cNvPr id="99" name="Picture 8" descr="antn071"/>
          <p:cNvPicPr/>
          <p:nvPr/>
        </p:nvPicPr>
        <p:blipFill>
          <a:blip r:embed="rId4"/>
          <a:stretch/>
        </p:blipFill>
        <p:spPr>
          <a:xfrm>
            <a:off x="0" y="5411880"/>
            <a:ext cx="1908000" cy="1446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885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</a:rPr>
              <a:t>Напишите глаголы в отрицательной форме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Picture 8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684360" y="1500120"/>
            <a:ext cx="845964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00"/>
                </a:solidFill>
                <a:latin typeface="Arial"/>
              </a:rPr>
              <a:t>Без алар белән телефоннан сөйләштек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00"/>
                </a:solidFill>
                <a:latin typeface="Arial"/>
              </a:rPr>
              <a:t>Марат елганың икенче ярына кадәр йөзеп җитте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00"/>
                </a:solidFill>
                <a:latin typeface="Arial"/>
              </a:rPr>
              <a:t>Балалар тиз йоклап киттеләр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00"/>
                </a:solidFill>
                <a:latin typeface="Arial"/>
              </a:rPr>
              <a:t>Мин контроль эшне       легә эшләдем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00"/>
                </a:solidFill>
                <a:latin typeface="Arial"/>
              </a:rPr>
              <a:t>Абыем быел Сабантуйда көрәште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3" name="Picture 10" descr="телеф"/>
          <p:cNvPicPr/>
          <p:nvPr/>
        </p:nvPicPr>
        <p:blipFill>
          <a:blip r:embed="rId2"/>
          <a:stretch/>
        </p:blipFill>
        <p:spPr>
          <a:xfrm>
            <a:off x="7943760" y="2143080"/>
            <a:ext cx="1200240" cy="800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Рисунок152"/>
          <p:cNvPicPr/>
          <p:nvPr/>
        </p:nvPicPr>
        <p:blipFill>
          <a:blip r:embed="rId3"/>
          <a:stretch/>
        </p:blipFill>
        <p:spPr>
          <a:xfrm>
            <a:off x="6643800" y="4286160"/>
            <a:ext cx="877680" cy="878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tt-RU" sz="3800" spc="-1" strike="noStrike">
                <a:solidFill>
                  <a:srgbClr val="330033"/>
                </a:solidFill>
                <a:latin typeface="Times New Roman"/>
              </a:rPr>
              <a:t>прошедшее  неопределенное врем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31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отребляется, когда речь идет о прошедших событиях и действиях, которых говорящий сам не видел, а сообщает о них со слов других лиц или источников. Прошедшее неопределенное время отвечает на вопрос </a:t>
            </a:r>
            <a:r>
              <a:rPr b="1" lang="tt-RU" sz="2800" spc="-1" strike="noStrike">
                <a:solidFill>
                  <a:srgbClr val="cc0000"/>
                </a:solidFill>
                <a:latin typeface="Arial"/>
              </a:rPr>
              <a:t>нишләгән?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 И образуется от основы глагола присоединением аффикс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cc0000"/>
                </a:solidFill>
                <a:latin typeface="Arial"/>
              </a:rPr>
              <a:t>ган / -гә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 глаголам, основа которых оканчивается на гласный или звонкий согласны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апример: Уйла. Ул уйлаган. (Он думал). Бел. Ул бел</a:t>
            </a:r>
            <a:r>
              <a:rPr b="1" i="1" lang="tt-RU" sz="2400" spc="-1" strike="noStrike">
                <a:solidFill>
                  <a:srgbClr val="cc0000"/>
                </a:solidFill>
                <a:latin typeface="Arial"/>
              </a:rPr>
              <a:t>гә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. (Он зна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cc0000"/>
                </a:solidFill>
                <a:latin typeface="Arial"/>
              </a:rPr>
              <a:t>кан / -кә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к глаголам, основа которых оканчивается на глухой согласный)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апример: Ул кайткан (он приехал). Ул әйткән (она сказа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489320" y="0"/>
            <a:ext cx="7241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330033"/>
                </a:solidFill>
                <a:latin typeface="Georgia"/>
              </a:rPr>
              <a:t>Билгесез үткән заман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8" name="Picture 5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459640" cy="148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Личные окончания глаголов прошедшего неопределенного времени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74560" y="1500120"/>
          <a:ext cx="8569440" cy="43862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Мин нишләгәнмен?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Мин  -мын/-ме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ин нишләгәнсең?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Син  -сың/-се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л нишләгән?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Ул         ---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Без нишләгәнбез?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Без  -быз/-бе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ез нишләгәнсез?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Сез   -сыз /-се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Алар нишләгәннәр?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Алар  -нар/-нә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Picture 26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2960" y="259920"/>
            <a:ext cx="84106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Запомните спряжение глаголов  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шедше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определенно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м времени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5834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Мин кайтканмын, киткәнм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Мин ашаганмын, көлгәнмен.</a:t>
            </a:r>
            <a:r>
              <a:rPr b="0" i="1" lang="tt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Син кайткансың киткәнсең.                                       </a:t>
            </a: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Син ашагансың, көлгәнсең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Ул кайткан, киткән.                                                         </a:t>
            </a: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Ул ашаган, көлгә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Без кайтканбыз, киткәнбез.                                          </a:t>
            </a: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Без ашаганбыз, көлгәнб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Сез кайткансыз, киткәнсез.                                          </a:t>
            </a: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Сез ашагансыз, көлгәнс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Алар кайтканнар, киткәннәр.                                        </a:t>
            </a: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Алар ашаганнар, көлгәннәр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Рисунок151"/>
          <p:cNvPicPr/>
          <p:nvPr/>
        </p:nvPicPr>
        <p:blipFill>
          <a:blip r:embed="rId2"/>
          <a:stretch/>
        </p:blipFill>
        <p:spPr>
          <a:xfrm>
            <a:off x="6256440" y="2708280"/>
            <a:ext cx="2887560" cy="2887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33"/>
                </a:solidFill>
                <a:latin typeface="Times New Roman"/>
              </a:rPr>
              <a:t>Проспрягайт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лагол в прошедшем неопределенном време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Ярат, киен, күр, кө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глаголы в отр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ательной форме</a:t>
            </a: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90033"/>
                </a:solidFill>
                <a:latin typeface="Arial"/>
              </a:rPr>
              <a:t>Кара, бас, йөз, сал.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Рисунок34"/>
          <p:cNvPicPr/>
          <p:nvPr/>
        </p:nvPicPr>
        <p:blipFill>
          <a:blip r:embed="rId2"/>
          <a:stretch/>
        </p:blipFill>
        <p:spPr>
          <a:xfrm>
            <a:off x="6443640" y="4781520"/>
            <a:ext cx="270036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j0408000[1]"/>
          <p:cNvPicPr/>
          <p:nvPr/>
        </p:nvPicPr>
        <p:blipFill>
          <a:blip r:embed="rId2"/>
          <a:stretch/>
        </p:blipFill>
        <p:spPr>
          <a:xfrm>
            <a:off x="1692360" y="1341360"/>
            <a:ext cx="5688000" cy="527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j04326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700280"/>
            <a:ext cx="3378240" cy="3378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324000" y="1628640"/>
            <a:ext cx="8820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Arial"/>
              </a:rPr>
              <a:t>когда говорящий наблюдал передаваемый факт как очевидец или сам участвовал, или это такой факт, реальность которого не подлежит сомнению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чает на вопрос нишләде?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000000"/>
                </a:solidFill>
                <a:uFillTx/>
                <a:latin typeface="Arial"/>
              </a:rPr>
              <a:t>Образуется присоединением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000000"/>
                </a:solidFill>
                <a:uFillTx/>
                <a:latin typeface="Arial"/>
              </a:rPr>
              <a:t>к основе глагола аффиксов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990033"/>
                </a:solidFill>
                <a:uFillTx/>
                <a:latin typeface="Arial"/>
              </a:rPr>
              <a:t>-ды / -де: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 если глаголы имеют основу на гласный или звонкий согласный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cc0000"/>
                </a:solidFill>
                <a:latin typeface="Arial"/>
              </a:rPr>
              <a:t>Например: Аша. Ул ашады (он поел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cc0000"/>
                </a:solidFill>
                <a:latin typeface="Arial"/>
              </a:rPr>
              <a:t>Кил. Ул килде (он пришел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990033"/>
                </a:solidFill>
                <a:latin typeface="Arial"/>
              </a:rPr>
              <a:t>-ты / -те: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 если глаголы имеют основу на глухой согласный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cc0000"/>
                </a:solidFill>
                <a:latin typeface="Arial"/>
              </a:rPr>
              <a:t>Например: Кайт. Ул кайтты (он вернулся). Көт. Ул көтте (он ждал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104840" y="162000"/>
            <a:ext cx="768024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Прошедшее</a:t>
            </a: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 определенное время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употребляетс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2" name="Picture 7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84360" y="1404000"/>
            <a:ext cx="8459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Җәй көне Резидә авылда яхшы ял итә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Әтием зур заводта эшли. Әбием тәмле бәлеш пешерә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Әни миңа велосипед сатып ала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Минем бүген башым авырта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Быел җәй салкын була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61600" cy="142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</a:rPr>
              <a:t>Напишите предложения в прошедшем времени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Picture 6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755640" y="1628640"/>
            <a:ext cx="8101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тенок прыгнул с дивана. Мальчик поймал 2 рыбки. Мама показала новое платье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итель поставил пятерку. Папа покрасил пол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еник повторил правило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700360" y="333360"/>
            <a:ext cx="40323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</a:rPr>
              <a:t>Переведите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8" name="Picture 6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Личные окончания глаголов прошедшего определенного времен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0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500040" y="1312920"/>
          <a:ext cx="8532720" cy="4846680"/>
        </p:xfrm>
        <a:graphic>
          <a:graphicData uri="http://schemas.openxmlformats.org/drawingml/2006/table">
            <a:tbl>
              <a:tblPr/>
              <a:tblGrid>
                <a:gridCol w="8532720"/>
              </a:tblGrid>
              <a:tr h="56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Мин нишләдем?     Мин 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-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ин нишләдең?      Син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-ң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л нишләде?          Ул   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---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Без нишләдек?       Без 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-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ез нишләдегез?    Сез 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-гыз/-ге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Алар нишләделәр?  Алар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лар/лә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969840" y="188640"/>
            <a:ext cx="816948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Запомните спряжение глаголов в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шедшем определенно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м времени: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3" name="Picture 5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611280" y="1557360"/>
          <a:ext cx="8532720" cy="4773600"/>
        </p:xfrm>
        <a:graphic>
          <a:graphicData uri="http://schemas.openxmlformats.org/drawingml/2006/table">
            <a:tbl>
              <a:tblPr/>
              <a:tblGrid>
                <a:gridCol w="8532720"/>
              </a:tblGrid>
              <a:tr h="75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Мин кайттым, киттем.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Мин ашадым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көлдем.</a:t>
                      </a: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Син кайттың, киттең.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Син ашадың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көлдең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Ул кайтты, китте.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Ул ашады, көлде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Без кайттык, киттек.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Без ашадык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көлдек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Сез кайттыгыз, киттегез.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Сез ашадыгыз,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көлдегез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Алар кайттылар, киттеләр.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Алар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ашадылар,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көлделә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33"/>
                </a:solidFill>
                <a:latin typeface="Times New Roman"/>
              </a:rPr>
              <a:t>Отрицательная форма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459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рицательной форме глаголы спрягаются от отрицательной основы присоединением тех же личных окончаний. Поскольку в отрицательных основах глаголов на конце всегда будет отрицательный аффикс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ма/-м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все глаголы будут спрягаться только при помощ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ды/-д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Например: Килмә. Ул килмә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(Не приходи. Он не пришел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Барма. Ул бармады. (Не ходи. Он не ходил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цветы"/>
          <p:cNvPicPr/>
          <p:nvPr/>
        </p:nvPicPr>
        <p:blipFill>
          <a:blip r:embed="rId1"/>
          <a:stretch/>
        </p:blipFill>
        <p:spPr>
          <a:xfrm>
            <a:off x="6124680" y="2975040"/>
            <a:ext cx="3019320" cy="38829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11280" y="155736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глаголы в прошедшем определенном времени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Georgia"/>
              </a:rPr>
              <a:t>Ярат, киен, күр, көт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84360" y="393372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глаголы в отри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цательной форме</a:t>
            </a: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cc0000"/>
                </a:solidFill>
                <a:latin typeface="Georgia"/>
              </a:rPr>
              <a:t>Кара, бас, йөз, сал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1908000" y="404640"/>
            <a:ext cx="64803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Проспрягайте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3" name="Picture 10" descr="antn071"/>
          <p:cNvPicPr/>
          <p:nvPr/>
        </p:nvPicPr>
        <p:blipFill>
          <a:blip r:embed="rId2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920" y="1773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В воскресенье мы ходили в гости, а вы сидели дома. </a:t>
            </a:r>
            <a:br>
              <a:rPr sz="4400"/>
            </a:b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Мы накрывали на стол, </a:t>
            </a:r>
            <a:br>
              <a:rPr sz="4400"/>
            </a:b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а вы нам помогали? </a:t>
            </a:r>
            <a:br>
              <a:rPr sz="4400"/>
            </a:b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Мы зонтики забыли дома, </a:t>
            </a:r>
            <a:br>
              <a:rPr sz="4400"/>
            </a:b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а вы их взяли? </a:t>
            </a:r>
            <a:br>
              <a:rPr sz="4400"/>
            </a:b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Вы потеряли ключи, а мы их нашли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196720" y="260280"/>
            <a:ext cx="3935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</a:rPr>
              <a:t>Переведите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7" name="Picture 6" descr="с"/>
          <p:cNvPicPr/>
          <p:nvPr/>
        </p:nvPicPr>
        <p:blipFill>
          <a:blip r:embed="rId2"/>
          <a:stretch/>
        </p:blipFill>
        <p:spPr>
          <a:xfrm>
            <a:off x="7740720" y="4221000"/>
            <a:ext cx="1403280" cy="1403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j028372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8142120" y="5516640"/>
            <a:ext cx="100188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ile081"/>
          <p:cNvPicPr/>
          <p:nvPr/>
        </p:nvPicPr>
        <p:blipFill>
          <a:blip r:embed="rId4"/>
          <a:stretch/>
        </p:blipFill>
        <p:spPr>
          <a:xfrm>
            <a:off x="7648560" y="2852640"/>
            <a:ext cx="1495440" cy="1236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13:40:28Z</dcterms:created>
  <dc:creator>Тюлеманова</dc:creator>
  <dc:description/>
  <dc:language>en-US</dc:language>
  <cp:lastModifiedBy>Тюлеманова</cp:lastModifiedBy>
  <dcterms:modified xsi:type="dcterms:W3CDTF">2009-10-26T15:37:54Z</dcterms:modified>
  <cp:revision>66</cp:revision>
  <dc:subject/>
  <dc:title> Фигыль.</dc:title>
</cp:coreProperties>
</file>