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11.wmf" ContentType="image/x-wmf"/>
  <Override PartName="/ppt/media/image12.png" ContentType="image/pn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2723-9F7B-4C4F-A20C-269FDA44D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EF10-5032-4FD0-BECF-0D62B8BF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5B58-40F6-4859-969C-21B032EA8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22E6-E9E3-48B1-A844-D5F64D585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20B0-3136-44DF-AF52-6F1157462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B0F4-97B8-4637-B5AE-DC0FD647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7AF7-3728-4808-9DB4-84F97928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3F05-8259-49CE-9B57-DC89ECB0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F4F5-DC81-436F-BB9C-72E86277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7E6F-83F0-4FAF-A3DB-4F3737A5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DD8B-7039-4CE3-8D0D-EB79C453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2F44-630C-4BD1-B850-151472A0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05DE-5F67-44DC-A122-4933D94D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0CD8-832C-419D-A969-09D2FBF4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633B-CD6D-4C59-94CF-E527E86C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2D21-8586-469F-859D-A50CAF75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AC4F-750A-4278-A077-D24572E49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8C40-8F77-4682-AF7D-7F6E67B3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6E28-A7B2-493A-A306-3157FEF8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548C-1ED3-4303-9292-485614CB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43AB-98DB-4ED8-8D4A-DAD8B6BD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8856-737A-43DC-A3E8-2A489F02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D8C9-BFD5-4297-A943-24529278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0F7E-90C0-4312-9E0A-54211CBF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e8a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8a6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8a6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e8a6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5A4C-EC4A-4BC5-80C3-E7014D3783E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e8a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8a6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8a6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e8a6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1770-C7D1-43E1-9BA9-ACF4B511354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60;&#1080;&#1075;&#1099;&#1083;&#1100;.ppt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87280" y="3715920"/>
            <a:ext cx="756144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990033"/>
                </a:solidFill>
                <a:latin typeface="Arial"/>
              </a:rPr>
              <a:t>прошедшее определенное врем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6"/>
          <p:cNvSpPr txBox="1"/>
          <p:nvPr/>
        </p:nvSpPr>
        <p:spPr>
          <a:xfrm>
            <a:off x="1692360" y="907920"/>
            <a:ext cx="720072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ahoma"/>
              </a:rPr>
              <a:t> 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ahoma"/>
              </a:rPr>
              <a:t>Билгеле үткән заман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ahoma"/>
              <a:ea typeface="Tahoma"/>
            </a:endParaRPr>
          </a:p>
        </p:txBody>
      </p:sp>
      <p:pic>
        <p:nvPicPr>
          <p:cNvPr id="99" name="Picture 8" descr="antn071"/>
          <p:cNvPicPr/>
          <p:nvPr/>
        </p:nvPicPr>
        <p:blipFill>
          <a:blip r:embed="rId4"/>
          <a:stretch/>
        </p:blipFill>
        <p:spPr>
          <a:xfrm>
            <a:off x="0" y="5411880"/>
            <a:ext cx="1908000" cy="1446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8850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</a:rPr>
              <a:t>Напишите глаголы в отрицательной форме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1" name="Picture 8" descr="antn071"/>
          <p:cNvPicPr/>
          <p:nvPr/>
        </p:nvPicPr>
        <p:blipFill>
          <a:blip r:embed="rId1"/>
          <a:stretch/>
        </p:blipFill>
        <p:spPr>
          <a:xfrm>
            <a:off x="0" y="0"/>
            <a:ext cx="1258920" cy="954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9"/>
          <p:cNvSpPr/>
          <p:nvPr/>
        </p:nvSpPr>
        <p:spPr>
          <a:xfrm>
            <a:off x="684360" y="1500120"/>
            <a:ext cx="845964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>
                <a:solidFill>
                  <a:srgbClr val="cc0000"/>
                </a:solidFill>
                <a:latin typeface="Arial"/>
              </a:rPr>
              <a:t>Без алар белән телефоннан сөйләштек.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>
                <a:solidFill>
                  <a:srgbClr val="cc0000"/>
                </a:solidFill>
                <a:latin typeface="Arial"/>
              </a:rPr>
              <a:t>Марат елганың икенче ярына кадәр йөзеп җитте.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>
                <a:solidFill>
                  <a:srgbClr val="cc0000"/>
                </a:solidFill>
                <a:latin typeface="Arial"/>
              </a:rPr>
              <a:t>Балалар тиз йоклап киттеләр.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>
                <a:solidFill>
                  <a:srgbClr val="cc0000"/>
                </a:solidFill>
                <a:latin typeface="Arial"/>
              </a:rPr>
              <a:t>Мин контроль эшне       легә эшләдем.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>
                <a:solidFill>
                  <a:srgbClr val="cc0000"/>
                </a:solidFill>
                <a:latin typeface="Arial"/>
              </a:rPr>
              <a:t>Абыем быел Сабантуйда көрәште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3" name="Picture 10" descr="телеф"/>
          <p:cNvPicPr/>
          <p:nvPr/>
        </p:nvPicPr>
        <p:blipFill>
          <a:blip r:embed="rId2"/>
          <a:stretch/>
        </p:blipFill>
        <p:spPr>
          <a:xfrm>
            <a:off x="7943760" y="2143080"/>
            <a:ext cx="1200240" cy="800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Рисунок152"/>
          <p:cNvPicPr/>
          <p:nvPr/>
        </p:nvPicPr>
        <p:blipFill>
          <a:blip r:embed="rId3"/>
          <a:stretch/>
        </p:blipFill>
        <p:spPr>
          <a:xfrm>
            <a:off x="6643800" y="4286160"/>
            <a:ext cx="877680" cy="878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tt-RU" sz="3800" spc="-1" strike="noStrike">
                <a:solidFill>
                  <a:srgbClr val="330033"/>
                </a:solidFill>
                <a:latin typeface="Times New Roman"/>
              </a:rPr>
              <a:t>прошедшее  неопределенное врем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316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отребляется, когда речь идет о прошедших событиях и действиях, которых говорящий сам не видел, а сообщает о них со слов других лиц или источников. Прошедшее неопределенное время отвечает на вопрос </a:t>
            </a:r>
            <a:r>
              <a:rPr b="1" lang="tt-RU" sz="2800" spc="-1" strike="noStrike">
                <a:solidFill>
                  <a:srgbClr val="cc0000"/>
                </a:solidFill>
                <a:latin typeface="Arial"/>
              </a:rPr>
              <a:t>нишләгән?</a:t>
            </a:r>
            <a:r>
              <a:rPr b="1" lang="tt-RU" sz="2800" spc="-1" strike="noStrike">
                <a:solidFill>
                  <a:srgbClr val="000000"/>
                </a:solidFill>
                <a:latin typeface="Arial"/>
              </a:rPr>
              <a:t> И образуется от основы глагола присоединением аффикс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cc0000"/>
                </a:solidFill>
                <a:latin typeface="Arial"/>
              </a:rPr>
              <a:t>ган / -гә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н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к глаголам, основа которых оканчивается на гласный или звонкий согласный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Например: Уйла. Ул уйлаган. (Он думал). Бел. Ул бел</a:t>
            </a:r>
            <a:r>
              <a:rPr b="1" i="1" lang="tt-RU" sz="2400" spc="-1" strike="noStrike">
                <a:solidFill>
                  <a:srgbClr val="cc0000"/>
                </a:solidFill>
                <a:latin typeface="Arial"/>
              </a:rPr>
              <a:t>гә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н. (Он зна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cc0000"/>
                </a:solidFill>
                <a:latin typeface="Arial"/>
              </a:rPr>
              <a:t>кан / -кә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к глаголам, основа которых оканчивается на глухой согласный).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Например: Ул кайткан (он приехал). Ул әйткән (она сказал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489320" y="0"/>
            <a:ext cx="72414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330033"/>
                </a:solidFill>
                <a:latin typeface="Georgia"/>
              </a:rPr>
              <a:t>Билгесез үткән заман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8" name="Picture 5" descr="antn071"/>
          <p:cNvPicPr/>
          <p:nvPr/>
        </p:nvPicPr>
        <p:blipFill>
          <a:blip r:embed="rId1"/>
          <a:stretch/>
        </p:blipFill>
        <p:spPr>
          <a:xfrm>
            <a:off x="0" y="0"/>
            <a:ext cx="1258920" cy="95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459640" cy="1484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Личные окончания глаголов прошедшего неопределенного времени.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74560" y="1500120"/>
          <a:ext cx="8569440" cy="438624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3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Мин нишләгәнмен?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Мин  -мын/-ме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ин нишләгәнсең? 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Син  -сың/-се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Ул нишләгән?        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Ул         ---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Без нишләгәнбез?   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Без  -быз/-бе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ез нишләгәнсез?   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Сез   -сыз /-се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Алар нишләгәннәр?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Алар  -нар/-нә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1" name="Picture 26" descr="antn071"/>
          <p:cNvPicPr/>
          <p:nvPr/>
        </p:nvPicPr>
        <p:blipFill>
          <a:blip r:embed="rId1"/>
          <a:stretch/>
        </p:blipFill>
        <p:spPr>
          <a:xfrm>
            <a:off x="0" y="0"/>
            <a:ext cx="1258920" cy="95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32960" y="259920"/>
            <a:ext cx="84106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Times New Roman"/>
              </a:rPr>
              <a:t>Запомните спряжение глаголов  в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шедше</a:t>
            </a:r>
            <a:r>
              <a:rPr b="1" lang="tt-RU" sz="3600" spc="-1" strike="noStrike">
                <a:solidFill>
                  <a:srgbClr val="000000"/>
                </a:solidFill>
                <a:latin typeface="Times New Roman"/>
              </a:rPr>
              <a:t>м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определенно</a:t>
            </a:r>
            <a:r>
              <a:rPr b="1" lang="tt-RU" sz="3600" spc="-1" strike="noStrike">
                <a:solidFill>
                  <a:srgbClr val="000000"/>
                </a:solidFill>
                <a:latin typeface="Times New Roman"/>
              </a:rPr>
              <a:t>м времени: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5834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Мин кайтканмын, киткәнме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800" spc="-1" strike="noStrike">
                <a:solidFill>
                  <a:srgbClr val="990033"/>
                </a:solidFill>
                <a:latin typeface="Arial"/>
              </a:rPr>
              <a:t>Мин ашаганмын, көлгәнмен.</a:t>
            </a:r>
            <a:r>
              <a:rPr b="0" i="1" lang="tt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Син кайткансың киткәнсең.                                       </a:t>
            </a:r>
            <a:r>
              <a:rPr b="0" i="1" lang="tt-RU" sz="2800" spc="-1" strike="noStrike">
                <a:solidFill>
                  <a:srgbClr val="990033"/>
                </a:solidFill>
                <a:latin typeface="Arial"/>
              </a:rPr>
              <a:t>Син ашагансың, көлгәнсең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Ул кайткан, киткән.                                                         </a:t>
            </a:r>
            <a:r>
              <a:rPr b="0" i="1" lang="tt-RU" sz="2800" spc="-1" strike="noStrike">
                <a:solidFill>
                  <a:srgbClr val="990033"/>
                </a:solidFill>
                <a:latin typeface="Arial"/>
              </a:rPr>
              <a:t>Ул ашаган, көлгә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Без кайтканбыз, киткәнбез.                                          </a:t>
            </a:r>
            <a:r>
              <a:rPr b="0" i="1" lang="tt-RU" sz="2800" spc="-1" strike="noStrike">
                <a:solidFill>
                  <a:srgbClr val="990033"/>
                </a:solidFill>
                <a:latin typeface="Arial"/>
              </a:rPr>
              <a:t>Без ашаганбыз, көлгәнбе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Сез кайткансыз, киткәнсез.                                          </a:t>
            </a:r>
            <a:r>
              <a:rPr b="0" i="1" lang="tt-RU" sz="2800" spc="-1" strike="noStrike">
                <a:solidFill>
                  <a:srgbClr val="990033"/>
                </a:solidFill>
                <a:latin typeface="Arial"/>
              </a:rPr>
              <a:t>Сез ашагансыз, көлгәнсе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Алар кайтканнар, киткәннәр.                                        </a:t>
            </a:r>
            <a:r>
              <a:rPr b="0" i="1" lang="tt-RU" sz="2800" spc="-1" strike="noStrike">
                <a:solidFill>
                  <a:srgbClr val="990033"/>
                </a:solidFill>
                <a:latin typeface="Arial"/>
              </a:rPr>
              <a:t>Алар ашаганнар, көлгәннәр</a:t>
            </a: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antn071"/>
          <p:cNvPicPr/>
          <p:nvPr/>
        </p:nvPicPr>
        <p:blipFill>
          <a:blip r:embed="rId1"/>
          <a:stretch/>
        </p:blipFill>
        <p:spPr>
          <a:xfrm>
            <a:off x="0" y="0"/>
            <a:ext cx="1258920" cy="954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Рисунок151"/>
          <p:cNvPicPr/>
          <p:nvPr/>
        </p:nvPicPr>
        <p:blipFill>
          <a:blip r:embed="rId2"/>
          <a:stretch/>
        </p:blipFill>
        <p:spPr>
          <a:xfrm>
            <a:off x="6256440" y="2708280"/>
            <a:ext cx="2887560" cy="2887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33"/>
                </a:solidFill>
                <a:latin typeface="Times New Roman"/>
              </a:rPr>
              <a:t>Проспрягайте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лагол в прошедшем неопределенном времен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33"/>
                </a:solidFill>
                <a:latin typeface="Arial"/>
              </a:rPr>
              <a:t>Ярат, киен, күр, кө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Arial"/>
              </a:rPr>
              <a:t>глаголы в отр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ательной форме</a:t>
            </a:r>
            <a:r>
              <a:rPr b="1" lang="tt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990033"/>
                </a:solidFill>
                <a:latin typeface="Arial"/>
              </a:rPr>
              <a:t>Кара, бас, йөз, сал.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antn071"/>
          <p:cNvPicPr/>
          <p:nvPr/>
        </p:nvPicPr>
        <p:blipFill>
          <a:blip r:embed="rId1"/>
          <a:stretch/>
        </p:blipFill>
        <p:spPr>
          <a:xfrm>
            <a:off x="0" y="0"/>
            <a:ext cx="1258920" cy="954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Рисунок34"/>
          <p:cNvPicPr/>
          <p:nvPr/>
        </p:nvPicPr>
        <p:blipFill>
          <a:blip r:embed="rId2"/>
          <a:stretch/>
        </p:blipFill>
        <p:spPr>
          <a:xfrm>
            <a:off x="6443640" y="4781520"/>
            <a:ext cx="2700360" cy="2076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antn071"/>
          <p:cNvPicPr/>
          <p:nvPr/>
        </p:nvPicPr>
        <p:blipFill>
          <a:blip r:embed="rId1"/>
          <a:stretch/>
        </p:blipFill>
        <p:spPr>
          <a:xfrm>
            <a:off x="0" y="0"/>
            <a:ext cx="1258920" cy="954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j0408000[1]"/>
          <p:cNvPicPr/>
          <p:nvPr/>
        </p:nvPicPr>
        <p:blipFill>
          <a:blip r:embed="rId2"/>
          <a:stretch/>
        </p:blipFill>
        <p:spPr>
          <a:xfrm>
            <a:off x="1692360" y="1341360"/>
            <a:ext cx="5688000" cy="5276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j043264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1700280"/>
            <a:ext cx="3378240" cy="3378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324000" y="1628640"/>
            <a:ext cx="882000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Arial"/>
              </a:rPr>
              <a:t>когда говорящий наблюдал передаваемый факт как очевидец или сам участвовал, или это такой факт, реальность которого не подлежит сомнению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чает на вопрос нишләде?</a:t>
            </a:r>
            <a:r>
              <a:rPr b="1" lang="tt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 u="sng">
                <a:solidFill>
                  <a:srgbClr val="000000"/>
                </a:solidFill>
                <a:uFillTx/>
                <a:latin typeface="Arial"/>
              </a:rPr>
              <a:t>Образуется присоединением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 u="sng">
                <a:solidFill>
                  <a:srgbClr val="000000"/>
                </a:solidFill>
                <a:uFillTx/>
                <a:latin typeface="Arial"/>
              </a:rPr>
              <a:t>к основе глагола аффиксов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 u="sng">
                <a:solidFill>
                  <a:srgbClr val="990033"/>
                </a:solidFill>
                <a:uFillTx/>
                <a:latin typeface="Arial"/>
              </a:rPr>
              <a:t>-ды / -де:</a:t>
            </a:r>
            <a:r>
              <a:rPr b="1" lang="tt-RU" sz="2800" spc="-1" strike="noStrike">
                <a:solidFill>
                  <a:srgbClr val="000000"/>
                </a:solidFill>
                <a:latin typeface="Arial"/>
              </a:rPr>
              <a:t> если глаголы имеют основу на гласный или звонкий согласный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cc0000"/>
                </a:solidFill>
                <a:latin typeface="Arial"/>
              </a:rPr>
              <a:t>Например: Аша. Ул ашады (он поел)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cc0000"/>
                </a:solidFill>
                <a:latin typeface="Arial"/>
              </a:rPr>
              <a:t>Кил. Ул килде (он пришел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990033"/>
                </a:solidFill>
                <a:latin typeface="Arial"/>
              </a:rPr>
              <a:t>-ты / -те:</a:t>
            </a:r>
            <a:r>
              <a:rPr b="1" lang="tt-RU" sz="2800" spc="-1" strike="noStrike">
                <a:solidFill>
                  <a:srgbClr val="000000"/>
                </a:solidFill>
                <a:latin typeface="Arial"/>
              </a:rPr>
              <a:t> если глаголы имеют основу на глухой согласный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cc0000"/>
                </a:solidFill>
                <a:latin typeface="Arial"/>
              </a:rPr>
              <a:t>Например: Кайт. Ул кайтты (он вернулся). Көт. Ул көтте (он ждал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104840" y="162000"/>
            <a:ext cx="768024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Arial"/>
              </a:rPr>
              <a:t>Прошедшее</a:t>
            </a: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 определенное время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употребляетс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2" name="Picture 7" descr="antn071"/>
          <p:cNvPicPr/>
          <p:nvPr/>
        </p:nvPicPr>
        <p:blipFill>
          <a:blip r:embed="rId1"/>
          <a:stretch/>
        </p:blipFill>
        <p:spPr>
          <a:xfrm>
            <a:off x="0" y="0"/>
            <a:ext cx="1258920" cy="95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684360" y="1404000"/>
            <a:ext cx="84596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Җәй көне Резидә авылда яхшы ял итә.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Әтием зур заводта эшли. Әбием тәмле бәлеш пешерә.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Әни миңа велосипед сатып ала.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Минем бүген башым авырта.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Быел җәй салкын була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61600" cy="1422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Times New Roman"/>
              </a:rPr>
              <a:t>Напишите предложения в прошедшем времени.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5" name="Picture 6" descr="antn071"/>
          <p:cNvPicPr/>
          <p:nvPr/>
        </p:nvPicPr>
        <p:blipFill>
          <a:blip r:embed="rId1"/>
          <a:stretch/>
        </p:blipFill>
        <p:spPr>
          <a:xfrm>
            <a:off x="0" y="0"/>
            <a:ext cx="1258920" cy="95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755640" y="1628640"/>
            <a:ext cx="8101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тенок прыгнул с дивана. Мальчик поймал 2 рыбки. Мама показала новое платье.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читель поставил пятерку. Папа покрасил пол.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ченик повторил правило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700360" y="333360"/>
            <a:ext cx="403236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000000"/>
                </a:solidFill>
                <a:latin typeface="Times New Roman"/>
              </a:rPr>
              <a:t>Переведите.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8" name="Picture 6" descr="antn071"/>
          <p:cNvPicPr/>
          <p:nvPr/>
        </p:nvPicPr>
        <p:blipFill>
          <a:blip r:embed="rId1"/>
          <a:stretch/>
        </p:blipFill>
        <p:spPr>
          <a:xfrm>
            <a:off x="0" y="0"/>
            <a:ext cx="1258920" cy="95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Личные окончания глаголов прошедшего определенного времени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0" name="Picture 4" descr="antn071"/>
          <p:cNvPicPr/>
          <p:nvPr/>
        </p:nvPicPr>
        <p:blipFill>
          <a:blip r:embed="rId1"/>
          <a:stretch/>
        </p:blipFill>
        <p:spPr>
          <a:xfrm>
            <a:off x="0" y="0"/>
            <a:ext cx="1258920" cy="95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500040" y="1312920"/>
          <a:ext cx="8532720" cy="4846680"/>
        </p:xfrm>
        <a:graphic>
          <a:graphicData uri="http://schemas.openxmlformats.org/drawingml/2006/table">
            <a:tbl>
              <a:tblPr/>
              <a:tblGrid>
                <a:gridCol w="8532720"/>
              </a:tblGrid>
              <a:tr h="56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4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Мин нишләдем?     Мин  </a:t>
                      </a:r>
                      <a:r>
                        <a:rPr b="1" lang="tt-RU" sz="40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-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4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ин нишләдең?      Син </a:t>
                      </a:r>
                      <a:r>
                        <a:rPr b="1" lang="tt-RU" sz="40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-ң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4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Ул нишләде?          Ул    </a:t>
                      </a:r>
                      <a:r>
                        <a:rPr b="1" lang="tt-RU" sz="40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---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4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Без нишләдек?       Без  </a:t>
                      </a:r>
                      <a:r>
                        <a:rPr b="1" lang="tt-RU" sz="40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-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4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ез нишләдегез?    Сез  </a:t>
                      </a:r>
                      <a:r>
                        <a:rPr b="1" lang="tt-RU" sz="40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-гыз/-гез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4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Алар нишләделәр?  Алар </a:t>
                      </a:r>
                      <a:r>
                        <a:rPr b="1" lang="tt-RU" sz="40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лар/лә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969840" y="188640"/>
            <a:ext cx="816948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Times New Roman"/>
              </a:rPr>
              <a:t>Запомните спряжение глаголов в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шедшем определенно</a:t>
            </a:r>
            <a:r>
              <a:rPr b="1" lang="tt-RU" sz="3600" spc="-1" strike="noStrike">
                <a:solidFill>
                  <a:srgbClr val="000000"/>
                </a:solidFill>
                <a:latin typeface="Times New Roman"/>
              </a:rPr>
              <a:t>м времени: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3" name="Picture 5" descr="antn071"/>
          <p:cNvPicPr/>
          <p:nvPr/>
        </p:nvPicPr>
        <p:blipFill>
          <a:blip r:embed="rId1"/>
          <a:stretch/>
        </p:blipFill>
        <p:spPr>
          <a:xfrm>
            <a:off x="0" y="0"/>
            <a:ext cx="1258920" cy="95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611280" y="1557360"/>
          <a:ext cx="8532720" cy="4773600"/>
        </p:xfrm>
        <a:graphic>
          <a:graphicData uri="http://schemas.openxmlformats.org/drawingml/2006/table">
            <a:tbl>
              <a:tblPr/>
              <a:tblGrid>
                <a:gridCol w="8532720"/>
              </a:tblGrid>
              <a:tr h="75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Мин кайттым, киттем.   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Мин ашадым,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                                                            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көлдем.</a:t>
                      </a: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Син кайттың, киттең.    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Син ашадың,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                                                            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көлдең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Ул кайтты, китте.            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Ул ашады, көлде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Без кайттык, киттек.      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Без ашадык,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                                                            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көлдек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Сез кайттыгыз, киттегез.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Сез ашадыгыз,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                                                         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көлдегез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Алар кайттылар, киттеләр.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Алар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                                               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ашадылар,    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                                                        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көлделәр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0033"/>
                </a:solidFill>
                <a:latin typeface="Times New Roman"/>
              </a:rPr>
              <a:t>Отрицательная форма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8459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трицательной форме глаголы спрягаются от отрицательной основы присоединением тех же личных окончаний. Поскольку в отрицательных основах глаголов на конце всегда будет отрицательный аффикс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ма/-мә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о все глаголы будут спрягаться только при помощ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ды/-д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00"/>
                </a:solidFill>
                <a:latin typeface="Arial"/>
              </a:rPr>
              <a:t>Например: Килмә. Ул килмәд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00"/>
                </a:solidFill>
                <a:latin typeface="Arial"/>
              </a:rPr>
              <a:t>(Не приходи. Он не пришел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00"/>
                </a:solidFill>
                <a:latin typeface="Arial"/>
              </a:rPr>
              <a:t>Барма. Ул бармады. (Не ходи. Он не ходил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antn071"/>
          <p:cNvPicPr/>
          <p:nvPr/>
        </p:nvPicPr>
        <p:blipFill>
          <a:blip r:embed="rId1"/>
          <a:stretch/>
        </p:blipFill>
        <p:spPr>
          <a:xfrm>
            <a:off x="0" y="0"/>
            <a:ext cx="1258920" cy="95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цветы"/>
          <p:cNvPicPr/>
          <p:nvPr/>
        </p:nvPicPr>
        <p:blipFill>
          <a:blip r:embed="rId1"/>
          <a:stretch/>
        </p:blipFill>
        <p:spPr>
          <a:xfrm>
            <a:off x="6124680" y="2975040"/>
            <a:ext cx="3019320" cy="38829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611280" y="1557360"/>
            <a:ext cx="853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глаголы в прошедшем определенном времени.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Georgia"/>
              </a:rPr>
              <a:t>Ярат, киен, күр, көт.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684360" y="3933720"/>
            <a:ext cx="76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0000"/>
                </a:solidFill>
                <a:latin typeface="Georgia"/>
              </a:rPr>
              <a:t>глаголы в отри</a:t>
            </a: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цательной форме</a:t>
            </a:r>
            <a:r>
              <a:rPr b="1" lang="tt-RU" sz="4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cc0000"/>
                </a:solidFill>
                <a:latin typeface="Georgia"/>
              </a:rPr>
              <a:t>Кара, бас, йөз, сал.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1908000" y="404640"/>
            <a:ext cx="648036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Проспрягайте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3" name="Picture 10" descr="antn071"/>
          <p:cNvPicPr/>
          <p:nvPr/>
        </p:nvPicPr>
        <p:blipFill>
          <a:blip r:embed="rId2"/>
          <a:stretch/>
        </p:blipFill>
        <p:spPr>
          <a:xfrm>
            <a:off x="0" y="0"/>
            <a:ext cx="1258920" cy="95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920" y="1773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>
                <a:solidFill>
                  <a:srgbClr val="990033"/>
                </a:solidFill>
                <a:latin typeface="Times New Roman"/>
              </a:rPr>
              <a:t>В воскресенье мы ходили в гости, а вы сидели дома. </a:t>
            </a:r>
            <a:br>
              <a:rPr sz="4400"/>
            </a:br>
            <a:r>
              <a:rPr b="1" i="1" lang="tt-RU" sz="4400" spc="-1" strike="noStrike">
                <a:solidFill>
                  <a:srgbClr val="990033"/>
                </a:solidFill>
                <a:latin typeface="Times New Roman"/>
              </a:rPr>
              <a:t>Мы накрывали на стол, </a:t>
            </a:r>
            <a:br>
              <a:rPr sz="4400"/>
            </a:br>
            <a:r>
              <a:rPr b="1" i="1" lang="tt-RU" sz="4400" spc="-1" strike="noStrike">
                <a:solidFill>
                  <a:srgbClr val="990033"/>
                </a:solidFill>
                <a:latin typeface="Times New Roman"/>
              </a:rPr>
              <a:t>а вы нам помогали? </a:t>
            </a:r>
            <a:br>
              <a:rPr sz="4400"/>
            </a:br>
            <a:r>
              <a:rPr b="1" i="1" lang="tt-RU" sz="4400" spc="-1" strike="noStrike">
                <a:solidFill>
                  <a:srgbClr val="990033"/>
                </a:solidFill>
                <a:latin typeface="Times New Roman"/>
              </a:rPr>
              <a:t>Мы зонтики забыли дома, </a:t>
            </a:r>
            <a:br>
              <a:rPr sz="4400"/>
            </a:br>
            <a:r>
              <a:rPr b="1" i="1" lang="tt-RU" sz="4400" spc="-1" strike="noStrike">
                <a:solidFill>
                  <a:srgbClr val="990033"/>
                </a:solidFill>
                <a:latin typeface="Times New Roman"/>
              </a:rPr>
              <a:t>а вы их взяли? </a:t>
            </a:r>
            <a:br>
              <a:rPr sz="4400"/>
            </a:br>
            <a:r>
              <a:rPr b="1" i="1" lang="tt-RU" sz="4400" spc="-1" strike="noStrike">
                <a:solidFill>
                  <a:srgbClr val="990033"/>
                </a:solidFill>
                <a:latin typeface="Times New Roman"/>
              </a:rPr>
              <a:t>Вы потеряли ключи, а мы их нашли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5" name="Picture 4" descr="antn071"/>
          <p:cNvPicPr/>
          <p:nvPr/>
        </p:nvPicPr>
        <p:blipFill>
          <a:blip r:embed="rId1"/>
          <a:stretch/>
        </p:blipFill>
        <p:spPr>
          <a:xfrm>
            <a:off x="0" y="0"/>
            <a:ext cx="1258920" cy="954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2196720" y="260280"/>
            <a:ext cx="39358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000000"/>
                </a:solidFill>
                <a:latin typeface="Times New Roman"/>
              </a:rPr>
              <a:t>Переведите.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7" name="Picture 6" descr="с"/>
          <p:cNvPicPr/>
          <p:nvPr/>
        </p:nvPicPr>
        <p:blipFill>
          <a:blip r:embed="rId2"/>
          <a:stretch/>
        </p:blipFill>
        <p:spPr>
          <a:xfrm>
            <a:off x="7740720" y="4221000"/>
            <a:ext cx="1403280" cy="1403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j0283722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8142120" y="5516640"/>
            <a:ext cx="1001880" cy="1341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File081"/>
          <p:cNvPicPr/>
          <p:nvPr/>
        </p:nvPicPr>
        <p:blipFill>
          <a:blip r:embed="rId4"/>
          <a:stretch/>
        </p:blipFill>
        <p:spPr>
          <a:xfrm>
            <a:off x="7648560" y="2852640"/>
            <a:ext cx="1495440" cy="1236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3T13:40:28Z</dcterms:created>
  <dc:creator>Тюлеманова</dc:creator>
  <dc:description/>
  <dc:language>en-US</dc:language>
  <cp:lastModifiedBy>Тюлеманова</cp:lastModifiedBy>
  <dcterms:modified xsi:type="dcterms:W3CDTF">2009-10-26T15:37:54Z</dcterms:modified>
  <cp:revision>66</cp:revision>
  <dc:subject/>
  <dc:title> Фигыль.</dc:title>
</cp:coreProperties>
</file>