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6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4.gif" ContentType="image/gif"/>
  <Override PartName="/ppt/media/image26.wmf" ContentType="image/x-wmf"/>
  <Override PartName="/ppt/media/image22.gif" ContentType="image/gif"/>
  <Override PartName="/ppt/media/image14.png" ContentType="image/png"/>
  <Override PartName="/ppt/media/image19.wmf" ContentType="image/x-wmf"/>
  <Override PartName="/ppt/media/image16.gif" ContentType="image/gif"/>
  <Override PartName="/ppt/media/image21.jpeg" ContentType="image/jpeg"/>
  <Override PartName="/ppt/media/image17.gif" ContentType="image/gif"/>
  <Override PartName="/ppt/media/image25.wmf" ContentType="image/x-wmf"/>
  <Override PartName="/ppt/media/image2.wmf" ContentType="image/x-wmf"/>
  <Override PartName="/ppt/media/image3.png" ContentType="image/png"/>
  <Override PartName="/ppt/media/image15.gif" ContentType="image/gif"/>
  <Override PartName="/ppt/media/image27.gif" ContentType="image/gif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378-30EC-4E10-A5FE-129BC9E1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D04-B61A-4F0E-958E-6BB63551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E3EA8-39F3-478B-8830-B07C133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4E7D1-4484-4DD6-853D-D33C2462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BC23-4539-4509-BBAA-DA8E3D72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8D6E5-21D5-4A52-9182-7484B900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8898-B003-45D3-910C-5E381F5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99694-4895-4B8D-B303-B73A7D8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247C2-5390-4239-983C-57986FE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11620-47D7-4AB6-A532-9E7659D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49707-3519-4C20-97E6-69A90817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7B5D0-65F5-4DE0-85A0-AFCF9379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2E5-FC80-41EA-BD45-77878CEE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E5C8-135B-4250-98FE-CC208E3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938D4-EA78-4038-BEDF-E538FF4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3F3E2-3E1C-4677-98A1-4529BEE6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33E6C-788D-4BC6-8370-3D2F47B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4F18B-E869-4E71-A609-88978FCE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5D413-9EF8-42FC-A6E1-22037B26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D1EB2-128E-4A8E-8774-921198B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B81DF-62D7-410D-A049-96138D9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09403-564F-45AB-8355-1D9F32E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D797E-2EFD-4DAB-B68D-B97AD641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B23-72A1-4116-B849-ADA3D6F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53637-4B12-4927-8F38-A9595BCE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9BD5F-FC91-4520-B65C-89D26033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1DACD-FE56-49A8-8E15-35B9FD6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F464-637C-452A-BFC9-0BA82B07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91597-EAD5-4557-A9B9-1EA8A6ED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9C189-EF2B-438F-86CB-8F96DE8B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257E8-DC52-4FCC-B7F5-89D14663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C1693-E70E-4F3F-8AEB-461C8D6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C50C3-3A98-4053-A7AD-B559941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0B740-1845-48B9-91A5-16C3053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D8E-2A03-4311-885D-F04A8150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D5D6-035E-4CF5-BE05-0FAC85E0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238DF-7398-4C37-9A98-5C5FA7FB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00A4-EDDB-4911-AE76-9072D708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26F1-6A3C-4FAD-9009-1164DE96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3AAB8-807B-4B57-9751-80C45B6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34CB8-B508-47A8-AA7A-5E219258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C039F-26FB-4585-A1E9-BE858E3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7E1AD-8DB0-49FE-B3E4-B73C27BE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FD600-0A90-48FE-AD2F-4B7088B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80A21-DFB8-40E6-9B50-67CDD84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B35-E95F-4E0F-98E8-05D1BC4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5213A-C225-4F41-897A-2299F77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CF860-816F-4C38-8A29-4DDEC20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71A1C-32C0-4812-AC47-7748B6A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8C502-C51F-483F-ADD0-37B9183D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E22FC-4DFE-4D4C-9AAD-A5051B6C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CDD-91DD-415A-8E1A-A386E94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6CF-9BF2-4EB1-B19D-2AE47104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EB6A-54B7-4E7D-9B8B-E57029A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B23-0D0E-472F-A035-4A27744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83E-1333-4D3B-9B00-EDA6BD9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90B-6175-4AC6-8F29-64219C0A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4598-12F4-42D5-BFC9-52C8E86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3F41-284A-49E8-A76C-4233D65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978-0853-4487-A434-8E02D165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2B2-CC0E-4249-9A42-C2A17F79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F6DD-3431-4EB3-8A9E-1EA864B8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EC4D-DB8D-4EBE-90A5-42242636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04CA-01ED-4C1B-8F23-9D2531D1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7F8E-DBA6-488A-898E-5F4C558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80E9-3EF1-458B-BF83-6E6AC7E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6A4A-E2A7-4191-82B0-179110B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32F-389F-429F-95CF-EBDB36A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B366-D0BA-4BBE-96D1-3508CD9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E98F-F193-45B1-AC34-7429922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5F02-A8D0-453C-AD8B-2A0D96D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FA47-ED0D-4129-A4AC-B6BF466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16D2-A6E1-4C5B-AB31-8379DE91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F3BB-E023-41EA-81E7-7E8225FB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195D-82EB-4DE1-96E3-760392ED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9727-27F9-47A7-B222-0498BBBB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FBBA-8315-4408-9A86-D613C83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1EA4-B154-4910-9BC2-F49E372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674-709C-4806-BF3B-FDE1DC22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4ADF-0C36-4D2C-A7E9-78E9CF0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2AFE-38A3-45EF-BA08-BF8049C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D63D-ACB9-4057-B884-0A301E7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C48D-5289-4334-A933-2F6F189A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E6A3-787B-4C4E-9965-39503C5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5C35-03D1-4CBF-BEAA-498D39E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7EC6-A8F3-480E-B49E-161EF1F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B1FD-26D0-4C3C-A412-5D6B7D29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FF1E-E3A3-4F9C-8495-81A6EF52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4087-860B-4F27-A764-9438CED1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6AF-B17C-42F9-869F-E376F9C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41CC-67A6-4974-AC16-67915A3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147-4109-4C57-9014-24C0CB2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5DCA-6CD2-4884-B724-700CF3AD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7FB2-6391-4F02-8E7D-F8EFD43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878B-9F60-469F-9610-7225C81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7F6E-63B8-4C66-B456-26D8C96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0756-57CE-402C-A88C-00572D1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82F6-6BF9-481E-BD62-4584F16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6A447-A72C-42D9-8D94-82CCE8D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AB77-03A0-4731-9888-3A77EFE8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3FA-5851-4056-9B85-FD1D0A6F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F43F-B4C3-480C-867E-D8279382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24D3D-20B6-4F46-9FFB-2E9D986F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8650-4B3A-4FFA-958C-88D4CF9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2DA1-2E23-4A4C-9540-2B418F3B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4203-61F8-47F3-B08E-ADB26AAE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5FB2E-F5C5-4634-8169-B1B5C22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B16E-729A-4136-B6AC-D490E9B3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4BC6-B8D3-4408-8A3E-A9A72B3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19CC5-B857-4465-BCDA-E2468D7C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591E-BB0F-4980-BE19-73CBC823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105-DC22-46FA-BD9F-F34B51F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0309-8195-4F3A-9C53-D60DEADE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3DC1-7397-45A6-BEE3-601C611C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04A3D-531A-420D-9075-B078B36E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0547-F554-4037-95F8-F74C680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D467-961E-4093-B5AB-5866D453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12C2-91E7-4228-9E16-8EFCE60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8091-354C-4500-8291-8E6C123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D1130-976B-4CC0-9261-14CAF38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5E25-456C-4F4D-88EA-5D9D6121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397C-FCA2-4EDA-AAA4-05FC809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E0F-B163-4586-98D1-4FB75845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B2A8-66BB-4567-8DEE-48B2B53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057F0-D721-4E98-B44B-BC61424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6CF3-3BA8-49CE-A251-D95FC61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B049-71B5-451A-971D-C038C791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5F51-AAA6-4FFE-A94A-1BFD398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DFD6A-BA47-453F-8EF9-0C2A36D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87D5-745D-44C5-8B5C-C3882ACA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6829-75C9-4DED-B24D-D1A459BD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EE0E-2C91-40D2-8905-3843B2D3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BDCF-8FCD-4F52-A5D2-30AEAAB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ADD-F935-4EE3-BE7F-CE3FBB1C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F71CC-980D-48B8-B387-42BB386D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4A2D-8E79-4E66-A46B-8657581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0886E-0A85-40FD-885B-CC1DE65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57F4-190D-4D45-A242-18D222B8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77A42-C8F6-4668-82DC-7D12BD5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8493-DD7F-43EE-9916-18D39B59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2643-3CCF-4DE3-A24A-FFD39E97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E76A-FB5F-4A90-886D-7EA74FF4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D42F2-24DD-4601-A571-5DEB93F8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CF0F5-7337-4D11-BA02-74917ED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3B3-11CC-42DB-8845-EC619020E4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AD3-FFF7-4856-9F82-5A9454325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6904-0EE7-4F93-871E-5CACADA237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04D-A627-43E9-A81A-52979D2AF5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0d5ea8"/>
                </a:gs>
                <a:gs pos="50000">
                  <a:srgbClr val="0f6fc6"/>
                </a:gs>
                <a:gs pos="100000">
                  <a:srgbClr val="0d5e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004964"/>
                </a:gs>
                <a:gs pos="50000">
                  <a:srgbClr val="009dd9"/>
                </a:gs>
                <a:gs pos="100000">
                  <a:srgbClr val="0049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85dfd0"/>
                </a:gs>
                <a:gs pos="50000">
                  <a:srgbClr val="e2d700"/>
                </a:gs>
                <a:gs pos="100000">
                  <a:srgbClr val="85df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dfd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1179-6868-4F5E-9B5F-05A6810A5A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23AE-BA92-4D10-843A-3EC61C173F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7E0-624D-4BFA-9F7B-88874913BB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6C62-ACD7-42BD-B68E-CED39DFC6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ACF-53FB-4B1D-AA3D-FD7A53E207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A5B-120A-4B9A-8F70-F59CC354AE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7153-5047-486F-8ED7-539ED6569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D8B1-5277-4383-AD91-77B05DAAA6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Рисунок 15" descr="Рисунок9.jpg"/>
          <p:cNvPicPr/>
          <p:nvPr/>
        </p:nvPicPr>
        <p:blipFill>
          <a:blip r:embed="rId2"/>
          <a:stretch/>
        </p:blipFill>
        <p:spPr>
          <a:xfrm>
            <a:off x="142920" y="142920"/>
            <a:ext cx="2257560" cy="169056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16" descr="0_1b404_a470b9ef_L.jpg"/>
          <p:cNvPicPr/>
          <p:nvPr/>
        </p:nvPicPr>
        <p:blipFill>
          <a:blip r:embed="rId3"/>
          <a:srcRect l="0" t="7133" r="0" b="0"/>
          <a:stretch/>
        </p:blipFill>
        <p:spPr>
          <a:xfrm>
            <a:off x="5148360" y="4653000"/>
            <a:ext cx="2357280" cy="18050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18" descr="НЕКУ.bmp"/>
          <p:cNvPicPr/>
          <p:nvPr/>
        </p:nvPicPr>
        <p:blipFill>
          <a:blip r:embed="rId4"/>
          <a:stretch/>
        </p:blipFill>
        <p:spPr>
          <a:xfrm>
            <a:off x="6715080" y="142920"/>
            <a:ext cx="2282760" cy="162252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19" descr="бь.jpg"/>
          <p:cNvPicPr/>
          <p:nvPr/>
        </p:nvPicPr>
        <p:blipFill>
          <a:blip r:embed="rId5"/>
          <a:stretch/>
        </p:blipFill>
        <p:spPr>
          <a:xfrm>
            <a:off x="1619280" y="4653000"/>
            <a:ext cx="2405160" cy="1795320"/>
          </a:xfrm>
          <a:prstGeom prst="rect">
            <a:avLst/>
          </a:prstGeom>
          <a:ln w="0">
            <a:noFill/>
          </a:ln>
        </p:spPr>
      </p:pic>
      <p:sp>
        <p:nvSpPr>
          <p:cNvPr id="606" name="WordArt 6"/>
          <p:cNvSpPr txBox="1"/>
          <p:nvPr/>
        </p:nvSpPr>
        <p:spPr>
          <a:xfrm>
            <a:off x="324000" y="184464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713"/>
            </a:avLst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924760" cy="1041120"/>
          </a:xfrm>
          <a:prstGeom prst="rect">
            <a:avLst/>
          </a:prstGeom>
          <a:noFill/>
          <a:ln w="0">
            <a:noFill/>
          </a:ln>
          <a:effectLst>
            <a:outerShdw dist="81185" dir="19278031" blurRad="0" rotWithShape="0">
              <a:srgbClr val="ff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990033"/>
                </a:solidFill>
                <a:latin typeface="Georgia"/>
              </a:rPr>
              <a:t>Көз.</a:t>
            </a:r>
            <a:endParaRPr b="0" lang="en-US" sz="8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4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узьма көне. Кышны каршылыйла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19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ечкенә елгалар бозлан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5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Кар яки яңгыр булса, 4 декабрьгә кадәр җылы бул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buSzPct val="10285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 u="sng">
                <a:solidFill>
                  <a:srgbClr val="cc0000"/>
                </a:solidFill>
                <a:uFillTx/>
                <a:latin typeface="Georgia"/>
              </a:rPr>
              <a:t>28 ноябрь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– Гурьян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өнне кар ятса, язг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  </a:t>
            </a:r>
            <a:r>
              <a:rPr b="1" lang="tt-RU" sz="4200" spc="-1" strike="noStrike">
                <a:solidFill>
                  <a:srgbClr val="52221e"/>
                </a:solidFill>
                <a:latin typeface="Georgia"/>
              </a:rPr>
              <a:t>кадәр ятачак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8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9" descr="j0219110"/>
          <p:cNvPicPr/>
          <p:nvPr/>
        </p:nvPicPr>
        <p:blipFill>
          <a:blip r:embed="rId6"/>
          <a:stretch/>
        </p:blipFill>
        <p:spPr>
          <a:xfrm>
            <a:off x="6588000" y="4437000"/>
            <a:ext cx="2160720" cy="2103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3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8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5"/>
          <p:cNvSpPr txBox="1"/>
          <p:nvPr/>
        </p:nvSpPr>
        <p:spPr>
          <a:xfrm>
            <a:off x="468360" y="4292640"/>
            <a:ext cx="608472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07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effectLst>
                  <a:outerShdw dist="117181" dir="18638369" blurRad="0" rotWithShape="0">
                    <a:srgbClr val="9900ff"/>
                  </a:outerShdw>
                </a:effectLst>
                <a:latin typeface="Georgia"/>
              </a:rPr>
              <a:t>Кыш.</a:t>
            </a:r>
            <a:endParaRPr b="1" lang="en-US" sz="1800" spc="1" strike="noStrike">
              <a:ln w="50760">
                <a:solidFill>
                  <a:srgbClr val="0000ff"/>
                </a:solidFill>
                <a:miter/>
              </a:ln>
              <a:solidFill>
                <a:srgbClr val="ccffff"/>
              </a:solidFill>
              <a:effectLst>
                <a:outerShdw dist="117181" dir="18638369" blurRad="0" rotWithShape="0">
                  <a:srgbClr val="9900f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13" name="Picture 14" descr="j0219109"/>
          <p:cNvPicPr/>
          <p:nvPr/>
        </p:nvPicPr>
        <p:blipFill>
          <a:blip r:embed="rId2"/>
          <a:stretch/>
        </p:blipFill>
        <p:spPr>
          <a:xfrm>
            <a:off x="7380360" y="5246640"/>
            <a:ext cx="1763640" cy="1611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8" descr="Рисунок1"/>
          <p:cNvPicPr/>
          <p:nvPr/>
        </p:nvPicPr>
        <p:blipFill>
          <a:blip r:embed="rId2"/>
          <a:srcRect l="399" t="28821" r="375" b="31454"/>
          <a:stretch/>
        </p:blipFill>
        <p:spPr>
          <a:xfrm>
            <a:off x="3238560" y="0"/>
            <a:ext cx="5905440" cy="4149720"/>
          </a:xfrm>
          <a:prstGeom prst="rect">
            <a:avLst/>
          </a:prstGeom>
          <a:ln w="0">
            <a:noFill/>
          </a:ln>
        </p:spPr>
      </p:pic>
      <p:sp>
        <p:nvSpPr>
          <p:cNvPr id="615" name="WordArt 6"/>
          <p:cNvSpPr txBox="1"/>
          <p:nvPr/>
        </p:nvSpPr>
        <p:spPr>
          <a:xfrm>
            <a:off x="4140360" y="1197000"/>
            <a:ext cx="410508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752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Яз.</a:t>
            </a:r>
            <a:endParaRPr b="1" lang="en-US" sz="9600" spc="1" strike="noStrike">
              <a:ln w="47520">
                <a:solidFill>
                  <a:srgbClr val="ff66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211640" y="4869000"/>
            <a:ext cx="3960720" cy="1152360"/>
          </a:xfrm>
          <a:prstGeom prst="rect">
            <a:avLst/>
          </a:prstGeom>
          <a:gradFill rotWithShape="0">
            <a:gsLst>
              <a:gs pos="0">
                <a:srgbClr val="ccbe9e"/>
              </a:gs>
              <a:gs pos="50000">
                <a:srgbClr val="cabc9a"/>
              </a:gs>
              <a:gs pos="100000">
                <a:srgbClr val="ccb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3" descr="к"/>
          <p:cNvPicPr/>
          <p:nvPr/>
        </p:nvPicPr>
        <p:blipFill>
          <a:blip r:embed="rId3"/>
          <a:stretch/>
        </p:blipFill>
        <p:spPr>
          <a:xfrm>
            <a:off x="3203640" y="4548240"/>
            <a:ext cx="5940360" cy="2309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WordArt 7"/>
          <p:cNvSpPr txBox="1"/>
          <p:nvPr/>
        </p:nvSpPr>
        <p:spPr>
          <a:xfrm>
            <a:off x="5076720" y="260280"/>
            <a:ext cx="3780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808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Җәй.</a:t>
            </a:r>
            <a:endParaRPr b="1" lang="en-US" sz="1800" spc="1" strike="noStrike">
              <a:ln w="44280">
                <a:solidFill>
                  <a:srgbClr val="808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j0404701"/>
          <p:cNvPicPr/>
          <p:nvPr/>
        </p:nvPicPr>
        <p:blipFill>
          <a:blip r:embed="rId2"/>
          <a:stretch/>
        </p:blipFill>
        <p:spPr>
          <a:xfrm>
            <a:off x="6802560" y="0"/>
            <a:ext cx="2341440" cy="2492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10"/>
          <p:cNvPicPr/>
          <p:nvPr/>
        </p:nvPicPr>
        <p:blipFill>
          <a:blip r:embed="rId3"/>
          <a:stretch/>
        </p:blipFill>
        <p:spPr>
          <a:xfrm>
            <a:off x="0" y="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8" descr="Дождь"/>
          <p:cNvPicPr/>
          <p:nvPr/>
        </p:nvPicPr>
        <p:blipFill>
          <a:blip r:embed="rId4"/>
          <a:stretch/>
        </p:blipFill>
        <p:spPr>
          <a:xfrm>
            <a:off x="2627280" y="1916280"/>
            <a:ext cx="1949400" cy="2052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0" descr="Снежинки"/>
          <p:cNvPicPr/>
          <p:nvPr/>
        </p:nvPicPr>
        <p:blipFill>
          <a:blip r:embed="rId5"/>
          <a:stretch/>
        </p:blipFill>
        <p:spPr>
          <a:xfrm>
            <a:off x="3995640" y="404640"/>
            <a:ext cx="1741680" cy="1778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Рисунок90"/>
          <p:cNvPicPr/>
          <p:nvPr/>
        </p:nvPicPr>
        <p:blipFill>
          <a:blip r:embed="rId6"/>
          <a:stretch/>
        </p:blipFill>
        <p:spPr>
          <a:xfrm>
            <a:off x="4716360" y="1989000"/>
            <a:ext cx="2448000" cy="2176560"/>
          </a:xfrm>
          <a:prstGeom prst="rect">
            <a:avLst/>
          </a:prstGeom>
          <a:ln w="0">
            <a:noFill/>
          </a:ln>
        </p:spPr>
      </p:pic>
      <p:sp>
        <p:nvSpPr>
          <p:cNvPr id="624" name="WordArt 6"/>
          <p:cNvSpPr txBox="1"/>
          <p:nvPr/>
        </p:nvSpPr>
        <p:spPr>
          <a:xfrm>
            <a:off x="324000" y="3041640"/>
            <a:ext cx="849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8efcc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ынамышлар</a:t>
            </a:r>
            <a:endParaRPr b="1" lang="en-US" sz="8000" spc="1" strike="noStrike">
              <a:ln w="414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8efcc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57:40Z</dcterms:created>
  <dc:creator>Тюлеманова</dc:creator>
  <dc:description/>
  <dc:language>en-US</dc:language>
  <cp:lastModifiedBy>User</cp:lastModifiedBy>
  <dcterms:modified xsi:type="dcterms:W3CDTF">2004-12-31T21:08:13Z</dcterms:modified>
  <cp:revision>22</cp:revision>
  <dc:subject/>
  <dc:title>Сынамышлар</dc:title>
</cp:coreProperties>
</file>