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6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4.gif" ContentType="image/gif"/>
  <Override PartName="/ppt/media/image26.wmf" ContentType="image/x-wmf"/>
  <Override PartName="/ppt/media/image22.gif" ContentType="image/gif"/>
  <Override PartName="/ppt/media/image14.png" ContentType="image/png"/>
  <Override PartName="/ppt/media/image19.wmf" ContentType="image/x-wmf"/>
  <Override PartName="/ppt/media/image16.gif" ContentType="image/gif"/>
  <Override PartName="/ppt/media/image21.jpeg" ContentType="image/jpeg"/>
  <Override PartName="/ppt/media/image17.gif" ContentType="image/gif"/>
  <Override PartName="/ppt/media/image25.wmf" ContentType="image/x-wmf"/>
  <Override PartName="/ppt/media/image2.wmf" ContentType="image/x-wmf"/>
  <Override PartName="/ppt/media/image3.png" ContentType="image/png"/>
  <Override PartName="/ppt/media/image15.gif" ContentType="image/gif"/>
  <Override PartName="/ppt/media/image27.gif" ContentType="image/gif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524-F3AF-49C7-86B0-5ED220DD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255-211F-46B0-8377-B31CAE7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D5B6F-FB59-4095-A9E9-689CDB5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3A091-66D0-4E78-9682-BB40063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84DBE-0BA3-4826-9E65-45EEE86C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8795A-937F-4295-ABD2-3C3E617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F39C2-BE1F-4998-8032-C44E9F4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3C519-0CEE-462E-B026-4FABC05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9F3B4-25A6-4C6B-B246-C7E44AA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4A7A1-7259-46E9-AC93-1926A400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ABEBD-D65A-4B63-A93A-A5B7BD92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22770-D9C4-4F6C-A73C-1BFD332D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C05-FE27-4046-B986-25398067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7F731-379A-4BB8-BD2F-B292F34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8DE01-4494-4107-AC55-66A80A2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32AF-E0D8-43A7-B6AB-40D56CB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D8E84-4AD5-4A9F-89FC-17B5C839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B6A29-E441-41D9-9F1E-416221E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92F0B-9B2B-4948-A75A-04F943E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D4A75-DF20-4596-AA87-1770F2F2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3422E-0D86-4CC4-9D5D-FBC8E44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28D71-1048-4379-8535-D2BBFBA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28FDA-56B1-4BAE-8A80-A75B7A0B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ACE-8D49-46A8-9D4F-A08E1316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A341D-07DD-4A23-AD57-F1AFDFA2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AF919-360E-459F-B448-75348A30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F2AF-8584-4D53-83D6-FF62144E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43B1D-FFC0-434D-A05A-FE35B472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3352-944D-41DF-A6DB-113247B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F94C-D9A7-4455-8C46-389FE42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78238-906D-45A3-AA82-F24CD26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E9A59-F7BF-4A78-9576-3840B5F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EDB0F-9A21-4715-8568-4D71A7B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79F29-6AE4-4683-848C-FAB87EF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1B0-44FF-4BF4-8EFB-314203D3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DC7C7-27DE-477F-A389-98AA992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84DCA-A49F-4CFE-968D-9F78E90F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8482-9270-4862-882C-F2AAD04E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4C047-B5F3-4566-8F3D-3C229E63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539DA-84B1-4B94-B0D1-9168F88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E55F1-02DC-4AB5-9C60-A3C2C8B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FF65D-119B-4D7C-801F-49A1068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C1BDE-8F18-43A7-A15C-ADEB8DB8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0AB13-B82D-42F6-869A-705C089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35520-9C61-48F2-97D2-7D48237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0EBB-03E6-4F16-888E-48D0D33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852E2-8358-47D8-9EA4-F1BB5C3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AD90-DCDE-482C-A88F-741B33D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D7FC-C524-4976-87EF-74B9FC15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6004D-EC20-427B-8FF1-E389EA82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10485-8310-443E-89BF-249EC312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1BAB-9AC5-4F86-B1FF-B3809F4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0BE-8E9B-4BBE-883A-16E23331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A05F-674A-4D18-904D-64285DC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F7F-C375-4EDD-A9BD-331DEA8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DD2-D673-4DB1-80B2-9DC796D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8BF-094E-4D8D-B721-20271967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4E4-797F-40F2-B19F-0A70D56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9C7F-2A5F-44E5-9E58-1169585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B37-79F9-4A4F-A479-5F6DEFE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F876-4C1D-4DCD-977D-5BA397B2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3ED-D6A6-435D-83FF-A9DC3EA0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3A32-F53E-463C-964B-007E339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9AB1-B2E1-4B04-9808-93AE6359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43F6-6552-420D-A570-110BE83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E192-5C75-4840-B5AB-C8E4601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4C65-85A9-4A15-BD20-02CED3A4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5F8-082A-4C2F-8236-6FE8DFC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8158-9DF8-4DB9-BA8D-8D744645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E760-B776-4FEC-BFC2-6E5E27A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5281-6E2A-4AA3-991C-0218C25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CF69-1130-4C06-8DD7-A77C66E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CE46-0CF6-44DD-B64C-5F56368D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04A6-1622-4ADA-A9CC-C51CA016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F176-3BA2-437D-B954-62E2168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C8BF-547D-4320-8685-E6D5258B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2A0D-8159-4725-8AC8-111209A9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45A4-918E-43A7-974E-F4CC2A17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C07-83F4-41D4-9635-848E4E6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8FE3-1109-48A9-9A4C-3A21CE2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DBC4-A0EE-4223-A3EC-1C59A1C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B720-D908-4243-B837-20252A0B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58C4-2D74-4E94-BA7A-EC8F597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458E-3727-47DC-BAC8-ED840A6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CDCE-B58C-43CD-8212-11F9AF8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5028-2F82-410F-9CC1-4857D1C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884C-661F-4445-A449-4141C388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40CB-177A-488E-8185-FC811074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83E7-3EC4-4892-BC3D-94CE0B59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9DB-BCB5-4B26-9708-9ADC314D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2A04-1855-4F7F-A44D-9F5DE5EE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8FA5-F441-47B7-93EB-F346CD3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BA3A-B0A9-40BA-9A56-1CC8E4E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9C28-3A76-4CB1-9259-01E59E8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81AC-DA8F-4520-96E0-D68FF4B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2B96-26D4-4476-8978-12FE5FF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FCD8-0EEA-4283-A866-DE7DF65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22D7-0F01-4A93-94FA-F8F56C8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2D3F2-E6D6-40CB-80A3-5C91A708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63F7-3751-4359-84AE-BB76A6EA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266-9555-4A96-BA15-7DD33827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0E96-FF94-4A53-9F4D-A8541FE6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B000-8471-49F2-9BFC-0AB38C6A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9DDD0-C574-4DA9-935F-8D0956FC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4D35-BE90-47A5-9EA6-F1133E2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D72D-1D16-4C36-8288-1CDD3BE4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7BBBF-454E-4078-8E1A-1AAADF59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E077-4FD8-4BB9-884A-DE477E2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4701-9B9E-44A9-A259-B803551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581E-1435-4925-A07A-6F04BDB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4BFD-0094-430E-B479-281418D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516-9D94-4497-9E5B-8E2E193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4D08-ECEC-4C91-8D6A-92B85B6A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37A0-27D3-4DAF-8379-5240065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C11E-E840-4CA2-B002-B365A03C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B839-34BB-463E-BBCB-EACFA347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F639-9196-4F76-AD3F-FC743CE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66FC-5056-4C35-B06D-87D0E942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254D-2A22-41D9-A6E4-1AF1FAC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FD6C-EC47-4A59-BF9C-DEAA9DA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D9A3-606D-4A35-AE26-90810A0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1B4D-3D91-432B-A8C0-CCCB291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993-2FB1-45F2-A210-0B67855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27D0-68C3-4835-80CB-ED362CF9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E8ABD-0E47-4C71-BD7F-6E083DE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9830-8496-4182-A18B-502DB412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90B2D-E8B5-4C60-B476-3A0984FA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304B-4D69-4031-86E0-271B9AF8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0E6A-803A-4F8E-99FA-DDA5175C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2479D-9FEC-4449-94DB-5D3124E7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B473E-2878-443B-AF49-659AA0D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2A1F-5504-4CAC-918F-6EC7AC64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C0F3-4FA5-48E2-B663-6417C4A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A50-7CFC-48C6-90E0-E3FC553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CBE08-BFC1-44F0-A3A0-669496A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546B-7A3B-4F3B-8E87-F48C37E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4583A-0CEB-44EE-9B13-43C10FD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4E52-88FC-4B3E-9476-A8841E0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7D40-C1C5-4DB6-87C9-C1565E7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752D4-71ED-4F5A-955A-39AB5F52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96D6-E49B-49F0-A713-FBAC34DA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5690-7D4C-40F3-B2B5-B8DFCAF1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C8B8-554A-4729-BF0D-B0BE2CB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B52C8-A07A-4709-9946-0451F4E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FCD-D661-47EC-99CC-0A40E6E442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70D-9CA8-4FA5-BFF2-253DBEC582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C16-1032-42EB-8C88-76FD6038E4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B7DD-0A08-434B-8FD8-F88E3A8C9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888-BDAF-4F61-BA5B-713BAB9C6D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913-685A-49E3-AA3E-C4581FD47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C8F-DAA7-4C35-A0E4-71391FC26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D0C-EF9E-4ED3-A91D-D278698DAD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008-F27D-4278-B685-36385452FB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31A-58B0-4826-B109-3900C41FBD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FF4-A2F6-4244-855B-778BD5ED5F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5C0C-5CB6-452F-86C8-3A252368A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Рисунок 15" descr="Рисунок9.jpg"/>
          <p:cNvPicPr/>
          <p:nvPr/>
        </p:nvPicPr>
        <p:blipFill>
          <a:blip r:embed="rId2"/>
          <a:stretch/>
        </p:blipFill>
        <p:spPr>
          <a:xfrm>
            <a:off x="142920" y="142920"/>
            <a:ext cx="2257560" cy="169056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16" descr="0_1b404_a470b9ef_L.jpg"/>
          <p:cNvPicPr/>
          <p:nvPr/>
        </p:nvPicPr>
        <p:blipFill>
          <a:blip r:embed="rId3"/>
          <a:srcRect l="0" t="7133" r="0" b="0"/>
          <a:stretch/>
        </p:blipFill>
        <p:spPr>
          <a:xfrm>
            <a:off x="5148360" y="4653000"/>
            <a:ext cx="2357280" cy="18050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18" descr="НЕКУ.bmp"/>
          <p:cNvPicPr/>
          <p:nvPr/>
        </p:nvPicPr>
        <p:blipFill>
          <a:blip r:embed="rId4"/>
          <a:stretch/>
        </p:blipFill>
        <p:spPr>
          <a:xfrm>
            <a:off x="6715080" y="142920"/>
            <a:ext cx="2282760" cy="162252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19" descr="бь.jpg"/>
          <p:cNvPicPr/>
          <p:nvPr/>
        </p:nvPicPr>
        <p:blipFill>
          <a:blip r:embed="rId5"/>
          <a:stretch/>
        </p:blipFill>
        <p:spPr>
          <a:xfrm>
            <a:off x="1619280" y="4653000"/>
            <a:ext cx="2405160" cy="1795320"/>
          </a:xfrm>
          <a:prstGeom prst="rect">
            <a:avLst/>
          </a:prstGeom>
          <a:ln w="0">
            <a:noFill/>
          </a:ln>
        </p:spPr>
      </p:pic>
      <p:sp>
        <p:nvSpPr>
          <p:cNvPr id="606" name="WordArt 6"/>
          <p:cNvSpPr txBox="1"/>
          <p:nvPr/>
        </p:nvSpPr>
        <p:spPr>
          <a:xfrm>
            <a:off x="324000" y="184464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713"/>
            </a:avLst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924760" cy="1041120"/>
          </a:xfrm>
          <a:prstGeom prst="rect">
            <a:avLst/>
          </a:prstGeom>
          <a:noFill/>
          <a:ln w="0">
            <a:noFill/>
          </a:ln>
          <a:effectLst>
            <a:outerShdw dist="81185" dir="19278031" blurRad="0" rotWithShape="0">
              <a:srgbClr val="ff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990033"/>
                </a:solidFill>
                <a:latin typeface="Georgia"/>
              </a:rPr>
              <a:t>Көз.</a:t>
            </a:r>
            <a:endParaRPr b="0" lang="en-US" sz="8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4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узьма көне. Кышны каршылыйла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9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ечкенә елгалар бозлан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5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ар яки яңгыр булса, 4 декабрьгә кадәр җылы бул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8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Гурьян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өнне кар ятса, язг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адәр ят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8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9" descr="j0219110"/>
          <p:cNvPicPr/>
          <p:nvPr/>
        </p:nvPicPr>
        <p:blipFill>
          <a:blip r:embed="rId6"/>
          <a:stretch/>
        </p:blipFill>
        <p:spPr>
          <a:xfrm>
            <a:off x="6588000" y="4437000"/>
            <a:ext cx="2160720" cy="2103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3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8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5"/>
          <p:cNvSpPr txBox="1"/>
          <p:nvPr/>
        </p:nvSpPr>
        <p:spPr>
          <a:xfrm>
            <a:off x="468360" y="4292640"/>
            <a:ext cx="608472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117181" dir="18638369" blurRad="0" rotWithShape="0">
                    <a:srgbClr val="9900ff"/>
                  </a:outerShdw>
                </a:effectLst>
                <a:latin typeface="Georgia"/>
              </a:rPr>
              <a:t>Кыш.</a:t>
            </a:r>
            <a:endParaRPr b="1" lang="en-US" sz="1800" spc="1" strike="noStrike">
              <a:ln w="5076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117181" dir="18638369" blurRad="0" rotWithShape="0">
                  <a:srgbClr val="9900f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13" name="Picture 14" descr="j0219109"/>
          <p:cNvPicPr/>
          <p:nvPr/>
        </p:nvPicPr>
        <p:blipFill>
          <a:blip r:embed="rId2"/>
          <a:stretch/>
        </p:blipFill>
        <p:spPr>
          <a:xfrm>
            <a:off x="7380360" y="5246640"/>
            <a:ext cx="1763640" cy="1611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8" descr="Рисунок1"/>
          <p:cNvPicPr/>
          <p:nvPr/>
        </p:nvPicPr>
        <p:blipFill>
          <a:blip r:embed="rId2"/>
          <a:srcRect l="399" t="28821" r="375" b="31454"/>
          <a:stretch/>
        </p:blipFill>
        <p:spPr>
          <a:xfrm>
            <a:off x="3238560" y="0"/>
            <a:ext cx="5905440" cy="4149720"/>
          </a:xfrm>
          <a:prstGeom prst="rect">
            <a:avLst/>
          </a:prstGeom>
          <a:ln w="0">
            <a:noFill/>
          </a:ln>
        </p:spPr>
      </p:pic>
      <p:sp>
        <p:nvSpPr>
          <p:cNvPr id="615" name="WordArt 6"/>
          <p:cNvSpPr txBox="1"/>
          <p:nvPr/>
        </p:nvSpPr>
        <p:spPr>
          <a:xfrm>
            <a:off x="4140360" y="1197000"/>
            <a:ext cx="410508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752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Яз.</a:t>
            </a:r>
            <a:endParaRPr b="1" lang="en-US" sz="9600" spc="1" strike="noStrike">
              <a:ln w="47520">
                <a:solidFill>
                  <a:srgbClr val="ff66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211640" y="4869000"/>
            <a:ext cx="3960720" cy="1152360"/>
          </a:xfrm>
          <a:prstGeom prst="rect">
            <a:avLst/>
          </a:prstGeom>
          <a:gradFill rotWithShape="0">
            <a:gsLst>
              <a:gs pos="0">
                <a:srgbClr val="ccbe9e"/>
              </a:gs>
              <a:gs pos="50000">
                <a:srgbClr val="cabc9a"/>
              </a:gs>
              <a:gs pos="100000">
                <a:srgbClr val="ccb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3" descr="к"/>
          <p:cNvPicPr/>
          <p:nvPr/>
        </p:nvPicPr>
        <p:blipFill>
          <a:blip r:embed="rId3"/>
          <a:stretch/>
        </p:blipFill>
        <p:spPr>
          <a:xfrm>
            <a:off x="3203640" y="4548240"/>
            <a:ext cx="5940360" cy="2309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7"/>
          <p:cNvSpPr txBox="1"/>
          <p:nvPr/>
        </p:nvSpPr>
        <p:spPr>
          <a:xfrm>
            <a:off x="5076720" y="260280"/>
            <a:ext cx="3780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808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Җәй.</a:t>
            </a:r>
            <a:endParaRPr b="1" lang="en-US" sz="1800" spc="1" strike="noStrike">
              <a:ln w="44280">
                <a:solidFill>
                  <a:srgbClr val="808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j0404701"/>
          <p:cNvPicPr/>
          <p:nvPr/>
        </p:nvPicPr>
        <p:blipFill>
          <a:blip r:embed="rId2"/>
          <a:stretch/>
        </p:blipFill>
        <p:spPr>
          <a:xfrm>
            <a:off x="6802560" y="0"/>
            <a:ext cx="2341440" cy="2492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10"/>
          <p:cNvPicPr/>
          <p:nvPr/>
        </p:nvPicPr>
        <p:blipFill>
          <a:blip r:embed="rId3"/>
          <a:stretch/>
        </p:blipFill>
        <p:spPr>
          <a:xfrm>
            <a:off x="0" y="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8" descr="Дождь"/>
          <p:cNvPicPr/>
          <p:nvPr/>
        </p:nvPicPr>
        <p:blipFill>
          <a:blip r:embed="rId4"/>
          <a:stretch/>
        </p:blipFill>
        <p:spPr>
          <a:xfrm>
            <a:off x="2627280" y="1916280"/>
            <a:ext cx="1949400" cy="2052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0" descr="Снежинки"/>
          <p:cNvPicPr/>
          <p:nvPr/>
        </p:nvPicPr>
        <p:blipFill>
          <a:blip r:embed="rId5"/>
          <a:stretch/>
        </p:blipFill>
        <p:spPr>
          <a:xfrm>
            <a:off x="3995640" y="404640"/>
            <a:ext cx="1741680" cy="1778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Рисунок90"/>
          <p:cNvPicPr/>
          <p:nvPr/>
        </p:nvPicPr>
        <p:blipFill>
          <a:blip r:embed="rId6"/>
          <a:stretch/>
        </p:blipFill>
        <p:spPr>
          <a:xfrm>
            <a:off x="4716360" y="1989000"/>
            <a:ext cx="2448000" cy="2176560"/>
          </a:xfrm>
          <a:prstGeom prst="rect">
            <a:avLst/>
          </a:prstGeom>
          <a:ln w="0">
            <a:noFill/>
          </a:ln>
        </p:spPr>
      </p:pic>
      <p:sp>
        <p:nvSpPr>
          <p:cNvPr id="624" name="WordArt 6"/>
          <p:cNvSpPr txBox="1"/>
          <p:nvPr/>
        </p:nvSpPr>
        <p:spPr>
          <a:xfrm>
            <a:off x="324000" y="3041640"/>
            <a:ext cx="849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8efcc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8efcc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57:40Z</dcterms:created>
  <dc:creator>Тюлеманова</dc:creator>
  <dc:description/>
  <dc:language>en-US</dc:language>
  <cp:lastModifiedBy>User</cp:lastModifiedBy>
  <dcterms:modified xsi:type="dcterms:W3CDTF">2004-12-31T21:08:13Z</dcterms:modified>
  <cp:revision>22</cp:revision>
  <dc:subject/>
  <dc:title>Сынамышлар</dc:title>
</cp:coreProperties>
</file>