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6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4.gif" ContentType="image/gif"/>
  <Override PartName="/ppt/media/image26.wmf" ContentType="image/x-wmf"/>
  <Override PartName="/ppt/media/image22.gif" ContentType="image/gif"/>
  <Override PartName="/ppt/media/image14.png" ContentType="image/png"/>
  <Override PartName="/ppt/media/image19.wmf" ContentType="image/x-wmf"/>
  <Override PartName="/ppt/media/image16.gif" ContentType="image/gif"/>
  <Override PartName="/ppt/media/image21.jpeg" ContentType="image/jpeg"/>
  <Override PartName="/ppt/media/image17.gif" ContentType="image/gif"/>
  <Override PartName="/ppt/media/image25.wmf" ContentType="image/x-wmf"/>
  <Override PartName="/ppt/media/image2.wmf" ContentType="image/x-wmf"/>
  <Override PartName="/ppt/media/image3.png" ContentType="image/png"/>
  <Override PartName="/ppt/media/image15.gif" ContentType="image/gif"/>
  <Override PartName="/ppt/media/image27.gif" ContentType="image/gif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CC2-553D-4231-91FB-B711D012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22A-3697-4EC1-A21E-4553ADC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6D7C0-31B2-4C9D-A9EB-947ED318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B5414-563B-4AB1-AF31-A5849D49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E352B-CF14-4305-88A6-56F4D29D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DC755-BBE5-4C91-90E1-E6D7202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A3C54-4406-4F0F-99E8-A92E19A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250FA-E6AD-47FA-A6D3-FD90023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9DDFB-5428-4418-9F6C-1B686E0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2D41-8863-40B0-A857-1D37FD97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8B06-9ED5-463E-8BFC-3A32861F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91AA8-81AC-4932-912C-61F475EE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ACA-206C-48FE-BB1E-069AD8F2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7A1E6-05CC-4B29-A231-0645829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647A-18C9-402E-AB58-8C867EB6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9A939-B377-44A9-B9E3-B6BB58FC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B134-FDF4-477B-AFCF-2C54A98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58BCD-2618-4B81-A6A7-C07C438F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0E9D4-CF24-457F-9F5B-9DCFDD8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9A8E4-7A01-4A4A-8EB5-58906FD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42962-F682-44AA-8FC0-AF4A668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E886B-CD1B-4C19-A8BF-A69A0CEE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D8A80-2D00-42E3-8032-3CC83861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05A-30E6-4004-8F04-C2400D1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87248-5AA0-4209-B811-BB01C10B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D7E40-ABF5-459C-9A63-31D18E43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458A4-B7B7-4172-94A4-DE770B7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A7099-5F29-4251-BBB4-0D213E3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9AB90-152B-45D8-8F45-9121C72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85C5-1317-48F0-BD51-3457D64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134A-1084-4F0A-8DD3-24F757A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0850-97AF-4E6F-86F0-6524F9C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D9F44-195D-4609-AEA7-A6F2E39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BD3F1-FA74-45B3-A5DE-8C05822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BC4F-9F05-446B-8565-1843E5A2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2346-08E3-420C-99B4-E18371B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6F81D-48D0-4495-AD05-9AA295B5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AB77E-427E-46C4-86E4-3499B1E9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F1C47-A90F-43C3-8DD2-FAA25ECC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C653D-DD9C-4E31-9750-07BE16BD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63A34-B360-4B53-84ED-2E2B2734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5EE3-4E71-40C1-953C-B29E325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CEBBF-346C-4826-8D45-2CF4612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0B881-87F5-4560-9147-487C3BE8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FD56A-FAC3-4D32-97EB-DA07A26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736E-C001-42B1-9F93-051A9556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07E2B-45C4-4834-84BB-8ECB38B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44636-010A-4F6D-8067-213771BE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6F32D-33A1-4693-9F5D-A6687027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8F06-4F73-424A-9DFA-0887A217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17CF6-6CCF-46FE-99F1-2DB06F66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2F7-75C7-4A54-8A06-7F27348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6901-B462-45C7-8128-00304C8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C766-4F7C-4D67-A59F-D73454A5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6862-6896-4497-8ADA-D2035528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869A-1F11-41E9-9B61-EF8F307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CBD-F8CE-4164-A1B4-760933D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2DC7-DC25-4CC3-B304-F37CEA80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18FD-C71F-4791-B777-3CB8BAD4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0F4F-5844-4859-9860-1BD925AB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4E9-548C-4B99-B7D1-A050A346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F312-E782-4E07-8772-CE53F1D3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2DD6-DF13-47EA-BB5F-303E17C4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35C2-39AD-4410-82C1-0755192F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A95E-AE42-4EA5-B805-1F82585A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9193-B829-4ECE-9B94-8882CE4B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25D7-99B8-4776-B19C-7D65C67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364-0996-48F2-89C4-9618C0B8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ED50-A7A4-48FA-A4C0-A6A329A6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A121-5FB9-4105-A950-5FE984C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27AC-FEB6-49FD-B156-71D7129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463B-6560-42BE-9CB0-DAFAD911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C824-B368-4EA9-B1F8-FD0F4B2E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F52A-1C1A-438D-9D07-904D7600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E120-26C2-4B00-98FF-18B190C9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4CED-CDD8-4BF5-B501-F793822A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B8E2-F675-4C03-91EC-CD087B9D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B9EC-7C21-4AAF-A448-8EA97E85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1FB-C43B-4128-B920-ED5C9E2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85A6-3B6A-490C-BAC1-7D769823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376A-06B8-433E-8911-94FAFDC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E9CD-928F-4637-82EC-6A630767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37B6-7185-435D-AEB2-5C454D26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958B-D53C-4516-9811-F48D2EF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F2B4-BC5B-4B65-B708-D9B93DB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D9F2-6470-47A9-BDE9-14E333F7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7828-E4E7-473A-9220-E7A847AC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8905-C5FE-44E4-9D87-CC6E9924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6BFB-38B0-480F-A28C-FFDB650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429-EB3C-4B8E-9B8F-96C1E2A7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5AF3-E73B-4C0C-8D67-8C4BE9C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37F1-37E0-4BE5-8B2B-166BE90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97E4B-8282-4E66-B086-DE8A4B1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F1DF-02B5-48F5-BD84-3BF1AE28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D373-7C56-4008-845D-08F27DB6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509C-119C-43AC-9FC0-6CC8F66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6AF5-B885-4E57-9254-901BF58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3307-F653-4EAA-9DB7-846F18D6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08B7-6895-402C-B8ED-09BFA7AF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46E6-E86C-47AF-8E1C-4ED14731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77E-4AEE-46A5-8DD8-F69CA3AC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A936-65F9-41A9-87F2-9FE5FA1B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853C-1021-4C4F-9CAE-FF86C69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0EBC-BBEE-4875-A7CD-FA09CCA6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2B29B-6E1D-41E1-8F29-458F076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FD97-4672-48CD-B854-19B8FA72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211E-AC82-4F47-A20D-128C37BE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A000-EE89-4BFA-A9F8-4B1905BD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3552-E8F5-47E8-85C3-C6CEE1A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74BB-C804-47EF-9FBA-FA0B1BD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ECCB6-C98D-417E-A4CB-B6DED94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725-7366-4918-8C98-0ED2005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5039-A5C6-4C4C-B353-27285EB0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BCDA-4147-449E-9D71-B954A28D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11D3-2912-4525-8054-ED3BE047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9CD0-FC10-4A1A-9342-A1E0983A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5F352-184A-4541-A6F6-F819A4BC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32EA-1998-42E3-B44F-FD105A7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6603-72B2-44F5-9E6A-CF8ADEB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93DC5-8D7B-427A-B15B-061D778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EFFAB-52D8-4263-AFE9-4419C4B9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64C72-9F62-47C8-BFCA-81CE4BA1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C73-A2BF-4C4E-8D4F-48572CF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64C9-D65C-480F-B3AC-B2A64EA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0A64C-95E9-422E-BEAF-48E8720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677D-FCEB-42A8-82BB-72BB41F5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2B42-B823-42FA-A89D-4322392E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BA06-2253-449C-89DD-03D127D1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43893-DB5E-476A-9F20-3E12E3AD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E6C83-2AFC-4068-B136-C106FCFF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FEFF-C7F6-461E-AC30-97DD7A7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4C394-DFB0-4606-8442-68EBD4F3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4C4FC-F2EC-4A1D-9481-8D1830CD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FF4-9273-4F30-B69E-1ECEC79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919F-8FD2-4454-843D-1EF9BE0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BF16B-CD66-40C3-B371-E811825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6B188-12B0-4409-9885-8396B22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41766-491F-4B9C-AD46-7CCF9838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851EA-5A15-45C4-A265-70F1369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2874-86DD-452D-8A77-B4B858EC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2D358-D0C2-4B2C-88DD-C453C6F7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FAE4D-A4B3-42C5-AA84-DA3FE60E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594BA-C08A-4E6C-9CDD-A810A62A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922DF-E996-4470-8E0A-8C1DB3E9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0d5ea8"/>
                </a:gs>
                <a:gs pos="50000">
                  <a:srgbClr val="0f6fc6"/>
                </a:gs>
                <a:gs pos="100000">
                  <a:srgbClr val="0d5e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004964"/>
                </a:gs>
                <a:gs pos="50000">
                  <a:srgbClr val="009dd9"/>
                </a:gs>
                <a:gs pos="100000">
                  <a:srgbClr val="0049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9D0E-C02A-45BC-B8A8-0EC98AF019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602-E64D-444B-BAD4-E25EAE63A9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F31-B723-43D2-9B03-C577B4E96C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5E30-4889-460A-9473-4D5511BD30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0d5ea8"/>
                </a:gs>
                <a:gs pos="50000">
                  <a:srgbClr val="0f6fc6"/>
                </a:gs>
                <a:gs pos="100000">
                  <a:srgbClr val="0d5e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004964"/>
                </a:gs>
                <a:gs pos="50000">
                  <a:srgbClr val="009dd9"/>
                </a:gs>
                <a:gs pos="100000">
                  <a:srgbClr val="0049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36F2-4440-4A30-8185-F065932C87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216-53DD-462B-BF38-4649EE1B6B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C9B-D822-4630-840C-FB3D39021C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8B36-0272-4A30-9D51-B10630A5F2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91E-22A1-461A-9484-FEA6912A62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B51B-E9ED-4CB7-B688-A9E70125AB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FC3A-C9BB-4447-B61C-4C6D4B3A59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EE6-FF94-4594-9248-949E857DFD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Рисунок 15" descr="Рисунок9.jpg"/>
          <p:cNvPicPr/>
          <p:nvPr/>
        </p:nvPicPr>
        <p:blipFill>
          <a:blip r:embed="rId2"/>
          <a:stretch/>
        </p:blipFill>
        <p:spPr>
          <a:xfrm>
            <a:off x="142920" y="142920"/>
            <a:ext cx="2257560" cy="169056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16" descr="0_1b404_a470b9ef_L.jpg"/>
          <p:cNvPicPr/>
          <p:nvPr/>
        </p:nvPicPr>
        <p:blipFill>
          <a:blip r:embed="rId3"/>
          <a:srcRect l="0" t="7133" r="0" b="0"/>
          <a:stretch/>
        </p:blipFill>
        <p:spPr>
          <a:xfrm>
            <a:off x="5148360" y="4653000"/>
            <a:ext cx="2357280" cy="18050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18" descr="НЕКУ.bmp"/>
          <p:cNvPicPr/>
          <p:nvPr/>
        </p:nvPicPr>
        <p:blipFill>
          <a:blip r:embed="rId4"/>
          <a:stretch/>
        </p:blipFill>
        <p:spPr>
          <a:xfrm>
            <a:off x="6715080" y="142920"/>
            <a:ext cx="2282760" cy="162252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19" descr="бь.jpg"/>
          <p:cNvPicPr/>
          <p:nvPr/>
        </p:nvPicPr>
        <p:blipFill>
          <a:blip r:embed="rId5"/>
          <a:stretch/>
        </p:blipFill>
        <p:spPr>
          <a:xfrm>
            <a:off x="1619280" y="4653000"/>
            <a:ext cx="2405160" cy="1795320"/>
          </a:xfrm>
          <a:prstGeom prst="rect">
            <a:avLst/>
          </a:prstGeom>
          <a:ln w="0">
            <a:noFill/>
          </a:ln>
        </p:spPr>
      </p:pic>
      <p:sp>
        <p:nvSpPr>
          <p:cNvPr id="606" name="WordArt 6"/>
          <p:cNvSpPr txBox="1"/>
          <p:nvPr/>
        </p:nvSpPr>
        <p:spPr>
          <a:xfrm>
            <a:off x="324000" y="184464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9933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сынамышлар</a:t>
            </a:r>
            <a:endParaRPr b="1" lang="en-US" sz="8000" spc="1" strike="noStrike">
              <a:ln w="41400">
                <a:solidFill>
                  <a:srgbClr val="993366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713"/>
            </a:avLst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924760" cy="1041120"/>
          </a:xfrm>
          <a:prstGeom prst="rect">
            <a:avLst/>
          </a:prstGeom>
          <a:noFill/>
          <a:ln w="0">
            <a:noFill/>
          </a:ln>
          <a:effectLst>
            <a:outerShdw dist="81185" dir="19278031" blurRad="0" rotWithShape="0">
              <a:srgbClr val="ff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990033"/>
                </a:solidFill>
                <a:latin typeface="Georgia"/>
              </a:rPr>
              <a:t>Көз.</a:t>
            </a:r>
            <a:endParaRPr b="0" lang="en-US" sz="8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14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узьма көне. Кышны каршылыйла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19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ечкенә елгалар бозлана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25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ар яки яңгыр булса, 4 декабрьгә кадәр җылы булачак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28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Гурьян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 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көнне кар ятса, язг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 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кадәр ятачак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8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9" descr="j0219110"/>
          <p:cNvPicPr/>
          <p:nvPr/>
        </p:nvPicPr>
        <p:blipFill>
          <a:blip r:embed="rId6"/>
          <a:stretch/>
        </p:blipFill>
        <p:spPr>
          <a:xfrm>
            <a:off x="6588000" y="4437000"/>
            <a:ext cx="2160720" cy="2103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3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8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5"/>
          <p:cNvSpPr txBox="1"/>
          <p:nvPr/>
        </p:nvSpPr>
        <p:spPr>
          <a:xfrm>
            <a:off x="468360" y="4292640"/>
            <a:ext cx="608472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117181" dir="18638369" blurRad="0" rotWithShape="0">
                    <a:srgbClr val="9900ff"/>
                  </a:outerShdw>
                </a:effectLst>
                <a:latin typeface="Georgia"/>
              </a:rPr>
              <a:t>Кыш.</a:t>
            </a:r>
            <a:endParaRPr b="1" lang="en-US" sz="1800" spc="1" strike="noStrike">
              <a:ln w="5076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117181" dir="18638369" blurRad="0" rotWithShape="0">
                  <a:srgbClr val="9900ff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13" name="Picture 14" descr="j0219109"/>
          <p:cNvPicPr/>
          <p:nvPr/>
        </p:nvPicPr>
        <p:blipFill>
          <a:blip r:embed="rId2"/>
          <a:stretch/>
        </p:blipFill>
        <p:spPr>
          <a:xfrm>
            <a:off x="7380360" y="5246640"/>
            <a:ext cx="1763640" cy="1611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8" descr="Рисунок1"/>
          <p:cNvPicPr/>
          <p:nvPr/>
        </p:nvPicPr>
        <p:blipFill>
          <a:blip r:embed="rId2"/>
          <a:srcRect l="399" t="28821" r="375" b="31454"/>
          <a:stretch/>
        </p:blipFill>
        <p:spPr>
          <a:xfrm>
            <a:off x="3238560" y="0"/>
            <a:ext cx="5905440" cy="4149720"/>
          </a:xfrm>
          <a:prstGeom prst="rect">
            <a:avLst/>
          </a:prstGeom>
          <a:ln w="0">
            <a:noFill/>
          </a:ln>
        </p:spPr>
      </p:pic>
      <p:sp>
        <p:nvSpPr>
          <p:cNvPr id="615" name="WordArt 6"/>
          <p:cNvSpPr txBox="1"/>
          <p:nvPr/>
        </p:nvSpPr>
        <p:spPr>
          <a:xfrm>
            <a:off x="4140360" y="1197000"/>
            <a:ext cx="410508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752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Яз.</a:t>
            </a:r>
            <a:endParaRPr b="1" lang="en-US" sz="9600" spc="1" strike="noStrike">
              <a:ln w="47520">
                <a:solidFill>
                  <a:srgbClr val="ff66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211640" y="4869000"/>
            <a:ext cx="3960720" cy="1152360"/>
          </a:xfrm>
          <a:prstGeom prst="rect">
            <a:avLst/>
          </a:prstGeom>
          <a:gradFill rotWithShape="0">
            <a:gsLst>
              <a:gs pos="0">
                <a:srgbClr val="ccbe9e"/>
              </a:gs>
              <a:gs pos="50000">
                <a:srgbClr val="cabc9a"/>
              </a:gs>
              <a:gs pos="100000">
                <a:srgbClr val="ccb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3" descr="к"/>
          <p:cNvPicPr/>
          <p:nvPr/>
        </p:nvPicPr>
        <p:blipFill>
          <a:blip r:embed="rId3"/>
          <a:stretch/>
        </p:blipFill>
        <p:spPr>
          <a:xfrm>
            <a:off x="3203640" y="4548240"/>
            <a:ext cx="5940360" cy="2309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7"/>
          <p:cNvSpPr txBox="1"/>
          <p:nvPr/>
        </p:nvSpPr>
        <p:spPr>
          <a:xfrm>
            <a:off x="5076720" y="260280"/>
            <a:ext cx="37800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808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Җәй.</a:t>
            </a:r>
            <a:endParaRPr b="1" lang="en-US" sz="1800" spc="1" strike="noStrike">
              <a:ln w="44280">
                <a:solidFill>
                  <a:srgbClr val="808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j0404701"/>
          <p:cNvPicPr/>
          <p:nvPr/>
        </p:nvPicPr>
        <p:blipFill>
          <a:blip r:embed="rId2"/>
          <a:stretch/>
        </p:blipFill>
        <p:spPr>
          <a:xfrm>
            <a:off x="6802560" y="0"/>
            <a:ext cx="2341440" cy="2492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10"/>
          <p:cNvPicPr/>
          <p:nvPr/>
        </p:nvPicPr>
        <p:blipFill>
          <a:blip r:embed="rId3"/>
          <a:stretch/>
        </p:blipFill>
        <p:spPr>
          <a:xfrm>
            <a:off x="0" y="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8" descr="Дождь"/>
          <p:cNvPicPr/>
          <p:nvPr/>
        </p:nvPicPr>
        <p:blipFill>
          <a:blip r:embed="rId4"/>
          <a:stretch/>
        </p:blipFill>
        <p:spPr>
          <a:xfrm>
            <a:off x="2627280" y="1916280"/>
            <a:ext cx="1949400" cy="2052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0" descr="Снежинки"/>
          <p:cNvPicPr/>
          <p:nvPr/>
        </p:nvPicPr>
        <p:blipFill>
          <a:blip r:embed="rId5"/>
          <a:stretch/>
        </p:blipFill>
        <p:spPr>
          <a:xfrm>
            <a:off x="3995640" y="404640"/>
            <a:ext cx="1741680" cy="1778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2" descr="Рисунок90"/>
          <p:cNvPicPr/>
          <p:nvPr/>
        </p:nvPicPr>
        <p:blipFill>
          <a:blip r:embed="rId6"/>
          <a:stretch/>
        </p:blipFill>
        <p:spPr>
          <a:xfrm>
            <a:off x="4716360" y="1989000"/>
            <a:ext cx="2448000" cy="2176560"/>
          </a:xfrm>
          <a:prstGeom prst="rect">
            <a:avLst/>
          </a:prstGeom>
          <a:ln w="0">
            <a:noFill/>
          </a:ln>
        </p:spPr>
      </p:pic>
      <p:sp>
        <p:nvSpPr>
          <p:cNvPr id="624" name="WordArt 6"/>
          <p:cNvSpPr txBox="1"/>
          <p:nvPr/>
        </p:nvSpPr>
        <p:spPr>
          <a:xfrm>
            <a:off x="324000" y="3041640"/>
            <a:ext cx="849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8efcc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ынамышлар</a:t>
            </a:r>
            <a:endParaRPr b="1" lang="en-US" sz="8000" spc="1" strike="noStrike">
              <a:ln w="414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8efcc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57:40Z</dcterms:created>
  <dc:creator>Тюлеманова</dc:creator>
  <dc:description/>
  <dc:language>en-US</dc:language>
  <cp:lastModifiedBy>User</cp:lastModifiedBy>
  <dcterms:modified xsi:type="dcterms:W3CDTF">2004-12-31T21:08:13Z</dcterms:modified>
  <cp:revision>22</cp:revision>
  <dc:subject/>
  <dc:title>Сынамышлар</dc:title>
</cp:coreProperties>
</file>