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95B-97F2-493C-B8CE-F02BA032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9FC-D858-4F41-AEF2-BFFDB2EF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5CE-A006-4BB7-8EE9-7A488EFC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DC1-8EA5-47DC-8E8E-F504514B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EE6-7AD3-49D1-B83D-EE10929E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8C20-90F0-483C-AADB-079A364F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FCFD-5DB4-4C1D-8179-F37BA653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4070-9A3E-4017-A0A5-245CC38A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E640-D2A3-46DA-98CB-781CDB4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C405-3D93-40B8-80DD-E23695EE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ADD6-AA7E-4190-BDE5-01444CD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984-B188-4D6A-813F-B887673B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EC20-E350-44F9-B77C-5C42A3AD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99B4-DA4D-4238-9398-AF79507F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D6E-0ACA-4F53-BB70-AE40671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9CD5-1CDD-4288-BDD1-14370873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4D46-7F2D-413C-BCCB-345EAD59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218-3EB7-426B-970D-41A2D1F1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5CD-8DFF-4DF8-B47A-3ADB0B38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AC4-01D0-4155-8944-CA336401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88A-0716-4248-8F29-21E05DB0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969-B777-4BF7-A517-C3FB13D2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163-CDDD-4379-9C19-190971FC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BEF-0D58-426F-ADAE-DA49B53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659A-33F3-4DDA-AD81-DACF2C231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2D9A-E709-4DB8-9511-55DAA2D19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071720" y="1071720"/>
            <a:ext cx="75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17b5"/>
                </a:solidFill>
                <a:latin typeface="Arial"/>
              </a:rPr>
              <a:t>к мероприятию по правилам дорожного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для детей подготовительно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6357960" y="5072040"/>
            <a:ext cx="26431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полнила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ехова Н.А. МКДОУ д/с №2 «Ласточка» г. Семил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2"/>
          <p:cNvSpPr txBox="1"/>
          <p:nvPr/>
        </p:nvSpPr>
        <p:spPr>
          <a:xfrm>
            <a:off x="2500200" y="3286080"/>
            <a:ext cx="46389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гра -  развлечени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Что? Где? Когда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3357720" y="4500720"/>
            <a:ext cx="266364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ли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Умные стрелки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Рисунок 5" descr="G:\Орехова Дид игра ЧТО,ГДЕ, КОГДА\IMG_6297 - копия.JPG"/>
          <p:cNvPicPr/>
          <p:nvPr/>
        </p:nvPicPr>
        <p:blipFill>
          <a:blip r:embed="rId1"/>
          <a:stretch/>
        </p:blipFill>
        <p:spPr>
          <a:xfrm>
            <a:off x="171360" y="4400640"/>
            <a:ext cx="2389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1116000" y="1676520"/>
            <a:ext cx="7210440" cy="1218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F:\r3.jpg"/>
          <p:cNvPicPr/>
          <p:nvPr/>
        </p:nvPicPr>
        <p:blipFill>
          <a:blip r:embed="rId2"/>
          <a:stretch/>
        </p:blipFill>
        <p:spPr>
          <a:xfrm>
            <a:off x="2639880" y="3492360"/>
            <a:ext cx="3718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кресло.png"/>
          <p:cNvPicPr/>
          <p:nvPr/>
        </p:nvPicPr>
        <p:blipFill>
          <a:blip r:embed="rId1"/>
          <a:stretch/>
        </p:blipFill>
        <p:spPr>
          <a:xfrm>
            <a:off x="4853160" y="1420920"/>
            <a:ext cx="3657600" cy="3730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кресло1.png"/>
          <p:cNvPicPr/>
          <p:nvPr/>
        </p:nvPicPr>
        <p:blipFill>
          <a:blip r:embed="rId2"/>
          <a:stretch/>
        </p:blipFill>
        <p:spPr>
          <a:xfrm>
            <a:off x="1066680" y="993600"/>
            <a:ext cx="3224160" cy="3724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1428840" y="542916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аемые знатоки! Объясните, как называется это приспособление и для чего оно необходим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. Определи, кто из детей здесь пешеход, водитель и пассаж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мальчик"/>
          <p:cNvPicPr/>
          <p:nvPr/>
        </p:nvPicPr>
        <p:blipFill>
          <a:blip r:embed="rId1"/>
          <a:stretch/>
        </p:blipFill>
        <p:spPr>
          <a:xfrm>
            <a:off x="3924360" y="1557360"/>
            <a:ext cx="1536480" cy="26748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94" name="Picture 6" descr="велосипедист"/>
          <p:cNvPicPr/>
          <p:nvPr/>
        </p:nvPicPr>
        <p:blipFill>
          <a:blip r:embed="rId2"/>
          <a:stretch/>
        </p:blipFill>
        <p:spPr>
          <a:xfrm>
            <a:off x="395280" y="2781360"/>
            <a:ext cx="3168720" cy="15112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95" name="Picture 7" descr="1"/>
          <p:cNvPicPr/>
          <p:nvPr/>
        </p:nvPicPr>
        <p:blipFill>
          <a:blip r:embed="rId3"/>
          <a:stretch/>
        </p:blipFill>
        <p:spPr>
          <a:xfrm>
            <a:off x="5742000" y="2708280"/>
            <a:ext cx="3078000" cy="15318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96" name="Text Box 8"/>
          <p:cNvSpPr/>
          <p:nvPr/>
        </p:nvSpPr>
        <p:spPr>
          <a:xfrm>
            <a:off x="829440" y="5589720"/>
            <a:ext cx="2049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шех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713760" y="5589720"/>
            <a:ext cx="219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ссажи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598440" y="5516640"/>
            <a:ext cx="2126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дит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V="1">
            <a:off x="1835280" y="4365720"/>
            <a:ext cx="259236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 flipV="1">
            <a:off x="4716360" y="3357360"/>
            <a:ext cx="1656000" cy="21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 flipH="1" flipV="1">
            <a:off x="2339640" y="4365360"/>
            <a:ext cx="514836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H="1" flipV="1">
            <a:off x="7093080" y="3429000"/>
            <a:ext cx="358560" cy="20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0"/>
          <p:cNvSpPr/>
          <p:nvPr/>
        </p:nvSpPr>
        <p:spPr>
          <a:xfrm>
            <a:off x="714240" y="357120"/>
            <a:ext cx="7572600" cy="60721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1" descr=""/>
          <p:cNvPicPr/>
          <p:nvPr/>
        </p:nvPicPr>
        <p:blipFill>
          <a:blip r:embed="rId1"/>
          <a:stretch/>
        </p:blipFill>
        <p:spPr>
          <a:xfrm>
            <a:off x="920880" y="530280"/>
            <a:ext cx="7441920" cy="82872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3"/>
          <p:cNvSpPr/>
          <p:nvPr/>
        </p:nvSpPr>
        <p:spPr>
          <a:xfrm>
            <a:off x="1071720" y="1500120"/>
            <a:ext cx="1714320" cy="157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1071720" y="3143160"/>
            <a:ext cx="1643040" cy="1643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1143000" y="4857840"/>
            <a:ext cx="1643040" cy="1571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TextBox 7" descr=""/>
          <p:cNvPicPr/>
          <p:nvPr/>
        </p:nvPicPr>
        <p:blipFill>
          <a:blip r:embed="rId2"/>
          <a:stretch/>
        </p:blipFill>
        <p:spPr>
          <a:xfrm>
            <a:off x="2517840" y="1695600"/>
            <a:ext cx="5346720" cy="87624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8" descr=""/>
          <p:cNvPicPr/>
          <p:nvPr/>
        </p:nvPicPr>
        <p:blipFill>
          <a:blip r:embed="rId3"/>
          <a:stretch/>
        </p:blipFill>
        <p:spPr>
          <a:xfrm>
            <a:off x="2517840" y="3408480"/>
            <a:ext cx="5492520" cy="87768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9" descr=""/>
          <p:cNvPicPr/>
          <p:nvPr/>
        </p:nvPicPr>
        <p:blipFill>
          <a:blip r:embed="rId4"/>
          <a:stretch/>
        </p:blipFill>
        <p:spPr>
          <a:xfrm>
            <a:off x="3067200" y="5126040"/>
            <a:ext cx="4278240" cy="87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5"/>
          <a:stretch/>
        </p:blipFill>
        <p:spPr>
          <a:xfrm>
            <a:off x="7164360" y="857160"/>
            <a:ext cx="197964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45:16Z</dcterms:created>
  <dc:creator>Федотова Виктория Александровна</dc:creator>
  <dc:description/>
  <dc:language>en-US</dc:language>
  <cp:lastModifiedBy>User</cp:lastModifiedBy>
  <dcterms:modified xsi:type="dcterms:W3CDTF">2019-09-29T08:57:32Z</dcterms:modified>
  <cp:revision>9</cp:revision>
  <dc:subject/>
  <dc:title>Слайд 1</dc:title>
</cp:coreProperties>
</file>