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38E-B930-4ABE-8727-877827D4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33C-2CF7-4DFD-8EB8-ED3B7E8B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B9E-6738-49E6-A6DA-A12A394F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2A6-0ED7-427A-A55F-7ECDC060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128D-023C-4E4A-B00E-0E0FE2E8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C98F-2545-427F-80A6-C50341AC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58FA-2DC1-4566-82FF-03466A6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AEC2-9B94-4E5B-9DDF-141D8697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B586-5D52-4EFE-A4B7-D1A3E02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6ED1-7052-4CD1-A040-6ABE255B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672-25D0-4474-8642-36046286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03B-0A9D-4706-8BD0-78C3C68B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3CA-FB17-4E85-8246-217AB0F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48D-8574-4F23-B830-52CF00E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9C4F-4C41-4F96-8460-E002B598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EE62-28C4-4926-B86C-7E8E42FD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EC36-117F-4A97-9917-28BAD4AA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74F-FFD2-40F9-84B7-3EEA2BCA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C98-86C2-4E51-8A74-DAEB112F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C6B-26EA-40A7-B304-289C62A5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DF8-8DBB-4C5B-A5CD-60959657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0EB-86E7-4503-8BB7-21C841C1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07B-4F31-4647-A819-B2D0A438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3DE-A0E2-4749-8058-7F698B2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4BDB-CF6B-4D0C-8859-E828E6312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EB9A-31F7-4821-A103-D6A25863E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071720" y="107172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17b5"/>
                </a:solidFill>
                <a:latin typeface="Arial"/>
              </a:rPr>
              <a:t>к мероприятию по правилам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для детей подготовительно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6357960" y="5072040"/>
            <a:ext cx="264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полнила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ехова Н.А. МКДОУ д/с №2 «Ласточка» г. Семил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2"/>
          <p:cNvSpPr txBox="1"/>
          <p:nvPr/>
        </p:nvSpPr>
        <p:spPr>
          <a:xfrm>
            <a:off x="2500200" y="3286080"/>
            <a:ext cx="46389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 -  развлечени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Что? Где? Когда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3357720" y="4500720"/>
            <a:ext cx="26636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ли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Умные стрелки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Рисунок 5" descr="G:\Орехова Дид игра ЧТО,ГДЕ, КОГДА\IMG_6297 - копия.JPG"/>
          <p:cNvPicPr/>
          <p:nvPr/>
        </p:nvPicPr>
        <p:blipFill>
          <a:blip r:embed="rId1"/>
          <a:stretch/>
        </p:blipFill>
        <p:spPr>
          <a:xfrm>
            <a:off x="171360" y="4400640"/>
            <a:ext cx="2389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1116000" y="1676520"/>
            <a:ext cx="7210440" cy="1218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F:\r3.jpg"/>
          <p:cNvPicPr/>
          <p:nvPr/>
        </p:nvPicPr>
        <p:blipFill>
          <a:blip r:embed="rId2"/>
          <a:stretch/>
        </p:blipFill>
        <p:spPr>
          <a:xfrm>
            <a:off x="2639880" y="3492360"/>
            <a:ext cx="3718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кресло.png"/>
          <p:cNvPicPr/>
          <p:nvPr/>
        </p:nvPicPr>
        <p:blipFill>
          <a:blip r:embed="rId1"/>
          <a:stretch/>
        </p:blipFill>
        <p:spPr>
          <a:xfrm>
            <a:off x="4853160" y="1420920"/>
            <a:ext cx="3657600" cy="3730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кресло1.png"/>
          <p:cNvPicPr/>
          <p:nvPr/>
        </p:nvPicPr>
        <p:blipFill>
          <a:blip r:embed="rId2"/>
          <a:stretch/>
        </p:blipFill>
        <p:spPr>
          <a:xfrm>
            <a:off x="1066680" y="993600"/>
            <a:ext cx="3224160" cy="3724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1428840" y="542916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аемые знатоки! Объясните, как называется это приспособление и для чего оно необходим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. Определи, кто из детей здесь пешеход, водитель и пассаж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мальчик"/>
          <p:cNvPicPr/>
          <p:nvPr/>
        </p:nvPicPr>
        <p:blipFill>
          <a:blip r:embed="rId1"/>
          <a:stretch/>
        </p:blipFill>
        <p:spPr>
          <a:xfrm>
            <a:off x="3924360" y="1557360"/>
            <a:ext cx="1536480" cy="26748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94" name="Picture 6" descr="велосипедист"/>
          <p:cNvPicPr/>
          <p:nvPr/>
        </p:nvPicPr>
        <p:blipFill>
          <a:blip r:embed="rId2"/>
          <a:stretch/>
        </p:blipFill>
        <p:spPr>
          <a:xfrm>
            <a:off x="395280" y="2781360"/>
            <a:ext cx="3168720" cy="15112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95" name="Picture 7" descr="1"/>
          <p:cNvPicPr/>
          <p:nvPr/>
        </p:nvPicPr>
        <p:blipFill>
          <a:blip r:embed="rId3"/>
          <a:stretch/>
        </p:blipFill>
        <p:spPr>
          <a:xfrm>
            <a:off x="5742000" y="2708280"/>
            <a:ext cx="3078000" cy="15318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96" name="Text Box 8"/>
          <p:cNvSpPr/>
          <p:nvPr/>
        </p:nvSpPr>
        <p:spPr>
          <a:xfrm>
            <a:off x="829440" y="5589720"/>
            <a:ext cx="2049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шех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713760" y="5589720"/>
            <a:ext cx="219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ссажи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598440" y="5516640"/>
            <a:ext cx="2126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ди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V="1">
            <a:off x="1835280" y="4365720"/>
            <a:ext cx="259236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V="1">
            <a:off x="4716360" y="3357360"/>
            <a:ext cx="1656000" cy="21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 flipH="1" flipV="1">
            <a:off x="2339640" y="4365360"/>
            <a:ext cx="514836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 flipV="1">
            <a:off x="7093080" y="3429000"/>
            <a:ext cx="35856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0"/>
          <p:cNvSpPr/>
          <p:nvPr/>
        </p:nvSpPr>
        <p:spPr>
          <a:xfrm>
            <a:off x="714240" y="357120"/>
            <a:ext cx="7572600" cy="6072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530280"/>
            <a:ext cx="7441920" cy="8287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3"/>
          <p:cNvSpPr/>
          <p:nvPr/>
        </p:nvSpPr>
        <p:spPr>
          <a:xfrm>
            <a:off x="1071720" y="1500120"/>
            <a:ext cx="1714320" cy="157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1071720" y="3143160"/>
            <a:ext cx="1643040" cy="1643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1143000" y="4857840"/>
            <a:ext cx="1643040" cy="1571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extBox 7" descr=""/>
          <p:cNvPicPr/>
          <p:nvPr/>
        </p:nvPicPr>
        <p:blipFill>
          <a:blip r:embed="rId2"/>
          <a:stretch/>
        </p:blipFill>
        <p:spPr>
          <a:xfrm>
            <a:off x="2517840" y="1695600"/>
            <a:ext cx="5346720" cy="87624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8" descr=""/>
          <p:cNvPicPr/>
          <p:nvPr/>
        </p:nvPicPr>
        <p:blipFill>
          <a:blip r:embed="rId3"/>
          <a:stretch/>
        </p:blipFill>
        <p:spPr>
          <a:xfrm>
            <a:off x="2517840" y="3408480"/>
            <a:ext cx="5492520" cy="87768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9" descr=""/>
          <p:cNvPicPr/>
          <p:nvPr/>
        </p:nvPicPr>
        <p:blipFill>
          <a:blip r:embed="rId4"/>
          <a:stretch/>
        </p:blipFill>
        <p:spPr>
          <a:xfrm>
            <a:off x="3067200" y="5126040"/>
            <a:ext cx="4278240" cy="87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5"/>
          <a:stretch/>
        </p:blipFill>
        <p:spPr>
          <a:xfrm>
            <a:off x="7164360" y="857160"/>
            <a:ext cx="197964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45:16Z</dcterms:created>
  <dc:creator>Федотова Виктория Александровна</dc:creator>
  <dc:description/>
  <dc:language>en-US</dc:language>
  <cp:lastModifiedBy>User</cp:lastModifiedBy>
  <dcterms:modified xsi:type="dcterms:W3CDTF">2019-09-29T08:57:32Z</dcterms:modified>
  <cp:revision>9</cp:revision>
  <dc:subject/>
  <dc:title>Слайд 1</dc:title>
</cp:coreProperties>
</file>