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FBC-C08D-4D44-A504-5F65204D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4C4-22FA-4537-9C60-DB22B97C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2F6-1AE0-4B99-A0E3-AAA2EF26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4E8-1310-477D-B940-9E8A4CE2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887F-52F3-446F-A495-1058A6BE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0C70-B8DA-497A-A0E9-BD88DFDC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1AC9-4FB9-459B-B8DF-BD426AF3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9D26-5058-46B6-B132-C2344252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EEEF-1C5D-4939-89E8-E9076D87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858B-57AB-43E9-833E-157A85CA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EF2A-5A91-4C76-9CFD-618BA7D8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4C40-A159-49C1-9DE5-043A25EA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D7B3-285A-49B6-B41F-4D6A93A1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43B7-2056-4CDA-A680-5876AC62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BEF7-0FFF-408D-8557-6497B3B8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E057-71BA-49CA-A2A7-8BFD34FC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6AEB-A3FE-4228-A5F5-5C8EF422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998-32F7-43D8-8165-4E6562BE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23E-3A64-4A19-B22E-719E6812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F83-699A-497D-84F2-A70173DB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B607-7B6F-4CD2-A5F6-C77A43F9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38E-668A-4FE4-9A91-E1D07D3E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069-D0BA-4BA2-8C2E-5FC58B41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949-786F-4FD4-8177-E593EF4D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7715-06A5-45EF-84BF-7F8B6C27C21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8410-D23D-459F-9FE0-FC17E68C0CC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755640" y="404640"/>
            <a:ext cx="619272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5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словиц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75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2781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40a"/>
                </a:solidFill>
                <a:latin typeface="Arial"/>
              </a:rPr>
              <a:t>Это народная мудрость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37162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40a"/>
                </a:solidFill>
                <a:latin typeface="Arial"/>
              </a:rPr>
              <a:t>Передаются из уст в уст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4581360"/>
            <a:ext cx="65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f40a"/>
                </a:solidFill>
                <a:latin typeface="Arial"/>
              </a:rPr>
              <a:t>Учат, наставляют, предуп-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f40a"/>
                </a:solidFill>
                <a:latin typeface="Arial"/>
              </a:rPr>
              <a:t>реждают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ословицы о труде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268280"/>
            <a:ext cx="6840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f2fb"/>
                </a:solidFill>
                <a:latin typeface="Arial"/>
              </a:rPr>
              <a:t>Дерево сильно корнями, а человек трудом.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242100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f2fb"/>
                </a:solidFill>
                <a:latin typeface="Arial"/>
              </a:rPr>
              <a:t>Человек живёт век, а доброе дело – д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378936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f2fb"/>
                </a:solidFill>
                <a:latin typeface="Arial"/>
              </a:rPr>
              <a:t>Деревья смотри в плодах, а человека – в дела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522936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f2fb"/>
                </a:solidFill>
                <a:latin typeface="Arial"/>
              </a:rPr>
              <a:t>Птица красна пером, а человек трудо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8360" y="170028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fa94"/>
                </a:solidFill>
                <a:latin typeface="Arial"/>
              </a:rPr>
              <a:t>Чело что без век дру, во га зем без ля д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299736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f2fb"/>
                </a:solidFill>
                <a:latin typeface="Arial"/>
              </a:rPr>
              <a:t>Человек без друга, что земля без вод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4292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f2fb"/>
                </a:solidFill>
                <a:latin typeface="Arial"/>
              </a:rPr>
              <a:t>Нет друга – ищи, а нашёл – берег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5084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f2fb"/>
                </a:solidFill>
                <a:latin typeface="Arial"/>
              </a:rPr>
              <a:t>Друг познаётся в бед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57340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f2fb"/>
                </a:solidFill>
                <a:latin typeface="Arial"/>
              </a:rPr>
              <a:t>Старый друг лучше новых дву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9640" y="333360"/>
            <a:ext cx="640728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словицы о дружб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160" y="1916280"/>
            <a:ext cx="36162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a"/>
                </a:solidFill>
                <a:latin typeface="Arial"/>
              </a:rPr>
              <a:t>Книга – зеркало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a"/>
                </a:solidFill>
                <a:latin typeface="Arial"/>
              </a:rPr>
              <a:t>Книга для ума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a"/>
                </a:solidFill>
                <a:latin typeface="Arial"/>
              </a:rPr>
              <a:t>Прочёл новую книгу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a"/>
                </a:solidFill>
                <a:latin typeface="Arial"/>
              </a:rPr>
              <a:t>Хорошая книга –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51280" y="184428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26e6dd"/>
                </a:solidFill>
                <a:latin typeface="Arial"/>
              </a:rPr>
              <a:t>лучший дру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11280" y="333360"/>
            <a:ext cx="640692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словицы о книг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2924280"/>
            <a:ext cx="363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9ff2fb"/>
                </a:solidFill>
                <a:latin typeface="Arial"/>
              </a:rPr>
              <a:t>душ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0" y="3933720"/>
            <a:ext cx="3851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9ff2fb"/>
                </a:solidFill>
                <a:latin typeface="Arial"/>
              </a:rPr>
              <a:t>что тёплый дождик                 для всход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5373720"/>
            <a:ext cx="41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ff2fb"/>
                </a:solidFill>
                <a:latin typeface="Arial"/>
              </a:rPr>
              <a:t>встретился с другом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Владимир Иванович Даль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1989000"/>
            <a:ext cx="63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0ea6"/>
                </a:solidFill>
                <a:latin typeface="Arial"/>
              </a:rPr>
              <a:t>«Словарь живого великорусского языка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450864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4800" spc="-1" strike="noStrike">
                <a:solidFill>
                  <a:srgbClr val="26e6dd"/>
                </a:solidFill>
                <a:latin typeface="Arial"/>
              </a:rPr>
              <a:t>200 000 слов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1916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0ea6"/>
                </a:solidFill>
                <a:latin typeface="Arial"/>
              </a:rPr>
              <a:t>Пословица не даром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ff2fb"/>
                </a:solidFill>
                <a:latin typeface="Arial"/>
              </a:rPr>
              <a:t>молвитьс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2852640"/>
            <a:ext cx="69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f2fb"/>
                </a:solidFill>
                <a:latin typeface="Arial"/>
              </a:rPr>
              <a:t>Счастье без ума, что дырявая </a:t>
            </a:r>
            <a:r>
              <a:rPr b="0" lang="en-US" sz="3200" spc="-1" strike="noStrike">
                <a:solidFill>
                  <a:srgbClr val="2b0ea6"/>
                </a:solidFill>
                <a:latin typeface="Arial"/>
              </a:rPr>
              <a:t>сума</a:t>
            </a:r>
            <a:r>
              <a:rPr b="0" lang="en-US" sz="3200" spc="-1" strike="noStrike">
                <a:solidFill>
                  <a:srgbClr val="9ff2fb"/>
                </a:solidFill>
                <a:latin typeface="Arial"/>
              </a:rPr>
              <a:t>: где найдёшь, там и сгубиш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436572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f2fb"/>
                </a:solidFill>
                <a:latin typeface="Arial"/>
              </a:rPr>
              <a:t>Своя земля и в </a:t>
            </a:r>
            <a:r>
              <a:rPr b="0" lang="en-US" sz="3200" spc="-1" strike="noStrike">
                <a:solidFill>
                  <a:srgbClr val="2b0ea6"/>
                </a:solidFill>
                <a:latin typeface="Arial"/>
              </a:rPr>
              <a:t>горсти</a:t>
            </a:r>
            <a:r>
              <a:rPr b="0" lang="en-US" sz="3200" spc="-1" strike="noStrike">
                <a:solidFill>
                  <a:srgbClr val="9ff2fb"/>
                </a:solidFill>
                <a:latin typeface="Arial"/>
              </a:rPr>
              <a:t> мил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5300640"/>
            <a:ext cx="69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f2fb"/>
                </a:solidFill>
                <a:latin typeface="Arial"/>
              </a:rPr>
              <a:t>Не красна </a:t>
            </a:r>
            <a:r>
              <a:rPr b="0" lang="en-US" sz="3200" spc="-1" strike="noStrike">
                <a:solidFill>
                  <a:srgbClr val="2b0ea6"/>
                </a:solidFill>
                <a:latin typeface="Arial"/>
              </a:rPr>
              <a:t>изба</a:t>
            </a:r>
            <a:r>
              <a:rPr b="0" lang="en-US" sz="3200" spc="-1" strike="noStrike">
                <a:solidFill>
                  <a:srgbClr val="9ff2fb"/>
                </a:solidFill>
                <a:latin typeface="Arial"/>
              </a:rPr>
              <a:t> углами, а </a:t>
            </a:r>
            <a:r>
              <a:rPr b="0" lang="en-US" sz="3200" spc="-1" strike="noStrike">
                <a:solidFill>
                  <a:srgbClr val="2b0ea6"/>
                </a:solidFill>
                <a:latin typeface="Arial"/>
              </a:rPr>
              <a:t>красна </a:t>
            </a:r>
            <a:r>
              <a:rPr b="0" lang="en-US" sz="3200" spc="-1" strike="noStrike">
                <a:solidFill>
                  <a:srgbClr val="9ff2fb"/>
                </a:solidFill>
                <a:latin typeface="Arial"/>
              </a:rPr>
              <a:t>пирогам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333360"/>
            <a:ext cx="766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аринные пословиц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4000" y="476280"/>
            <a:ext cx="69832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ословицы с числам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907920"/>
            <a:ext cx="7200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дного не жду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раз отмерь, … раз отреж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бед, один отв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 ложкой, … с сошк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 поле не во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3789360"/>
            <a:ext cx="7200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емеро дного не жду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емь раз отмерь, один раз отреж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емь бед, один отв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емеро с  ложкой,один с сошк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дин в  поле не воин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34:05Z</dcterms:created>
  <dc:creator>Сергей</dc:creator>
  <dc:description/>
  <dc:language>en-US</dc:language>
  <cp:lastModifiedBy>Сергей</cp:lastModifiedBy>
  <dcterms:modified xsi:type="dcterms:W3CDTF">2002-12-31T23:01:57Z</dcterms:modified>
  <cp:revision>3</cp:revision>
  <dc:subject/>
  <dc:title>Слайд 1</dc:title>
</cp:coreProperties>
</file>