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CC45-0C57-46CC-87A2-0CB9D56FB1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7073-CB04-4173-93E8-632AEF89ACD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DC5-1BB4-44B5-A2F7-82CC027B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1AD-D31F-48D7-B572-9D0D853C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E31-E848-4ADD-AD8C-32F6FC17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9FA-02E8-42AE-9421-39EDFC02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10F3-6796-4875-9EFE-68ED432C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2507-000C-48EF-9325-2336600C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D321-AC47-44C1-9891-306CE5CF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A65A-E175-4049-A303-CB0A37BD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4189-00E4-4772-84BD-5D71EAE4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8BA2-7B6C-43CF-A40F-2D757B26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3BB8-1944-4F74-B29A-AB42F550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811-064B-400A-A8E3-0291E805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3635-5F93-4ED3-A665-8638A78D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64D5-12D6-49F1-BE65-CE75A8B1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2077-864D-45B2-BB3E-434D0400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60F8-A614-471A-B1CB-BE003F37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9BD4-B2CD-498C-B093-405766BA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3F9C-D21F-4026-8E6B-2F1C4E44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180C8-436F-4C3F-8E1D-D39D132C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C058-048D-4061-BB84-EFDE6464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5CB9F-B6B3-4CE5-84F3-7FF57FAC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5AC8C-B3FF-4CE7-832E-9A86B55E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A7A-B1BC-41EA-94BA-0F45D78F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8E967-078B-4053-9412-8ABCD188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8CE77-87EE-46AB-8F85-AA421EF3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74EC4-85D6-43C4-B6A8-3735D6B4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8A84-9C0A-4711-B564-F6763FB9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CCC3-CFE2-43F1-8F8B-D968D432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BF917-0287-478C-86E6-337666D7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7F6D6-0430-4C35-9EF2-E48BF88E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96D97-48EB-4BCF-BE76-F08312CD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AC898-90B9-4D14-9660-8075E626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7937-4CDD-4A10-A34B-F79D237F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5DA-3F9B-423E-A46F-B0905412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EE1F0-2590-42F0-A399-159A11EE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B1557-99D9-4421-8E7D-BB373365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1FE7A-A451-4FE8-8E74-E725F54F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DFDB8-A187-42E9-81DD-43084835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D3D02-EBE1-4360-9E14-F3E7AAC7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043A-8177-4F27-90AD-94EBC46C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1F11C-6ADA-4EAA-B8E4-8B400E9A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DDF9-DF41-419D-8AEF-EE81EAD8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BBEB3-2519-486C-A797-67D75A14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74207-57ED-43EE-BA90-D02651BD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BD2-290B-4EE6-86C6-D90BB591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3D9FF-CC3B-49DF-85CC-813B874B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5B0E-9DBF-4BD6-9AEC-9FF03D5A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A0BC1-FA3E-4590-8C7F-BC605A14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903C6-FF4A-4B28-9B5E-9DC18936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EF53F-E465-4ECD-8B0B-C75C3AC1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7690-0F1A-4750-98F4-5F1E4626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D3539-6C6F-4AA8-99A6-BEC75957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B6B97-15D2-4C13-9D68-BA5137D7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83EA5-F1D7-431D-9DA7-3488ED7D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14AA5-6B32-40BA-927C-E76CA056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EB9-C54D-4DD3-BCBF-61457297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ABC77-8AD0-4E61-A2CE-35C3206A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C0338-292A-4F9B-B958-A8414A14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09351-1AC5-4FE4-B2E4-E6BFDADF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7C0E5-D07A-49AB-AB70-A3F7B697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C0460-1065-405B-9FF4-A8672A91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88FF0-958A-4FAE-8E31-7BA8C0B6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621E9-0F70-423D-98A0-B339ECC9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9CB2E-B994-4967-9FB2-B319E7EA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4983-09AA-4040-8265-3E675A23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A2ED2-5A29-4951-8F58-FBF03971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47D-8224-49DF-90A3-2D9FB895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86EB2-6DCE-4856-AF9B-40EED9E9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25F52-A82B-4344-AD78-A765E359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F4B3C-6860-4A9C-95B1-57C77C34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39B4C-1D49-40FC-84FC-031B17E8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50868-0A0D-49E7-AAB0-817DB3E7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EA34-5E73-4065-8D79-CFAAF916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1762E-FF53-4746-8C4E-68A77470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FE7DA-B5C3-4D4B-8DCF-EBE02174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BEF6E-24F2-4D82-B39D-AA77FBEB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80754-66D6-4C8D-AED4-E755C379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682-BDE9-46CD-8F22-DB5C083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03DFE-4B5D-4DBD-8615-220A7B6A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6BF3F-D2C2-4AA3-83AB-30083F6E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7FE5C-F7F0-424D-8796-C76C4F1A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CC705-BD68-43A5-A1F2-610724C5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27E15-5C07-4790-A959-DB43A066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F89-75D8-4DD2-9E52-31A7C188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2C2A-97FF-46CD-8363-D156908D4AA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6427-42EF-4EED-85E0-FD6D0835014D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D410-F5DB-4163-9D93-F8644029450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0D10-10B8-42AA-8AE2-60F2115DB0F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9485-493D-48C3-BCEE-9CB59BF3DDF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8E67-4EFB-4D16-A7E4-774264901B2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454E-213F-40E7-94FB-BAD9119F20B7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Happy hearts and gossamer wings."/>
          <p:cNvPicPr/>
          <p:nvPr/>
        </p:nvPicPr>
        <p:blipFill>
          <a:blip r:embed="rId1"/>
          <a:srcRect l="3522" t="2350" r="8667" b="5081"/>
          <a:stretch/>
        </p:blipFill>
        <p:spPr>
          <a:xfrm>
            <a:off x="228600" y="304920"/>
            <a:ext cx="2438280" cy="350496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6" descr=""/>
          <p:cNvPicPr/>
          <p:nvPr/>
        </p:nvPicPr>
        <p:blipFill>
          <a:blip r:embed="rId2"/>
          <a:stretch/>
        </p:blipFill>
        <p:spPr>
          <a:xfrm>
            <a:off x="2816280" y="133200"/>
            <a:ext cx="2828880" cy="9036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7"/>
          <p:cNvSpPr/>
          <p:nvPr/>
        </p:nvSpPr>
        <p:spPr>
          <a:xfrm>
            <a:off x="3214800" y="1071720"/>
            <a:ext cx="59292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8"/>
          <p:cNvSpPr/>
          <p:nvPr/>
        </p:nvSpPr>
        <p:spPr>
          <a:xfrm>
            <a:off x="5715000" y="214200"/>
            <a:ext cx="3214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s an aquatic creature with the tail of a fish. They attract men with their beauty. They have been a popular subject of art and literature in recent centur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0"/>
          <p:cNvSpPr/>
          <p:nvPr/>
        </p:nvSpPr>
        <p:spPr>
          <a:xfrm>
            <a:off x="428760" y="48578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" descr="C:\Users\Аэро\Desktop\1123670__zeemeermin_p.jpg"/>
          <p:cNvPicPr/>
          <p:nvPr/>
        </p:nvPicPr>
        <p:blipFill>
          <a:blip r:embed="rId3"/>
          <a:stretch/>
        </p:blipFill>
        <p:spPr>
          <a:xfrm>
            <a:off x="838080" y="4038480"/>
            <a:ext cx="4648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have learnt different mysterious creatures of Great Britain and Russia and made the conclusio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ussian fairytales mysterious creatures are fantastic creatures. All of them have evil and bad characters. They have supernatural abiliti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British fairytales mysterious creatures are merry and joyful, such as elves and fairi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rytales in Britain and Russia have a lot in common, folklore of various nations has many similarities that allows us to speak about the integration of culture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8"/>
          <p:cNvSpPr txBox="1"/>
          <p:nvPr/>
        </p:nvSpPr>
        <p:spPr>
          <a:xfrm>
            <a:off x="1187280" y="765000"/>
            <a:ext cx="6480360" cy="508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e careful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ysterious creatures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re around you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511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ANd9GcS2dmZnY7rGNDJjrSCdHjS3cIper4L-Xs6XWvRZ1L01--t082fR"/>
          <p:cNvPicPr/>
          <p:nvPr/>
        </p:nvPicPr>
        <p:blipFill>
          <a:blip r:embed="rId2"/>
          <a:stretch/>
        </p:blipFill>
        <p:spPr>
          <a:xfrm>
            <a:off x="1476360" y="2060640"/>
            <a:ext cx="6048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4"/>
          <p:cNvSpPr/>
          <p:nvPr/>
        </p:nvSpPr>
        <p:spPr>
          <a:xfrm>
            <a:off x="3886200" y="357120"/>
            <a:ext cx="46483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is an evil monster. They are very greedy and love gold. They posses various magic 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Прямоугольник 5" descr=""/>
          <p:cNvPicPr/>
          <p:nvPr/>
        </p:nvPicPr>
        <p:blipFill>
          <a:blip r:embed="rId1"/>
          <a:stretch/>
        </p:blipFill>
        <p:spPr>
          <a:xfrm>
            <a:off x="682560" y="146160"/>
            <a:ext cx="2676600" cy="97632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6"/>
          <p:cNvSpPr/>
          <p:nvPr/>
        </p:nvSpPr>
        <p:spPr>
          <a:xfrm>
            <a:off x="2590920" y="2438280"/>
            <a:ext cx="63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500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642960" y="4929120"/>
            <a:ext cx="8286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Farbenfreudig Стоковые фото, иллюстрации и векторные изображения - Страница 15543 Depositphotos"/>
          <p:cNvPicPr/>
          <p:nvPr/>
        </p:nvPicPr>
        <p:blipFill>
          <a:blip r:embed="rId2"/>
          <a:srcRect l="7496" t="7496" r="7496" b="5001"/>
          <a:stretch/>
        </p:blipFill>
        <p:spPr>
          <a:xfrm>
            <a:off x="214200" y="1214280"/>
            <a:ext cx="2428920" cy="250056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12"/>
          <p:cNvSpPr/>
          <p:nvPr/>
        </p:nvSpPr>
        <p:spPr>
          <a:xfrm>
            <a:off x="642960" y="407196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3" descr="C:\Users\Аэро\Desktop\y_c561b750.jpg"/>
          <p:cNvPicPr/>
          <p:nvPr/>
        </p:nvPicPr>
        <p:blipFill>
          <a:blip r:embed="rId3"/>
          <a:stretch/>
        </p:blipFill>
        <p:spPr>
          <a:xfrm>
            <a:off x="3581280" y="2895480"/>
            <a:ext cx="4496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Tooth Fairy Clip Art Free"/>
          <p:cNvPicPr/>
          <p:nvPr/>
        </p:nvPicPr>
        <p:blipFill>
          <a:blip r:embed="rId1"/>
          <a:stretch/>
        </p:blipFill>
        <p:spPr>
          <a:xfrm>
            <a:off x="1600200" y="4267080"/>
            <a:ext cx="3784680" cy="235764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7" descr=""/>
          <p:cNvPicPr/>
          <p:nvPr/>
        </p:nvPicPr>
        <p:blipFill>
          <a:blip r:embed="rId2"/>
          <a:stretch/>
        </p:blipFill>
        <p:spPr>
          <a:xfrm>
            <a:off x="0" y="19080"/>
            <a:ext cx="2554200" cy="11509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0"/>
          <p:cNvSpPr/>
          <p:nvPr/>
        </p:nvSpPr>
        <p:spPr>
          <a:xfrm>
            <a:off x="2357280" y="285840"/>
            <a:ext cx="657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 a  mythical creature. Fairies do kind actions and help people. Fairies have magical sticks. They like music and danc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11"/>
          <p:cNvSpPr/>
          <p:nvPr/>
        </p:nvSpPr>
        <p:spPr>
          <a:xfrm>
            <a:off x="431280" y="1143000"/>
            <a:ext cx="2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3" descr="C:\Users\Аэро\Desktop\0_6b607_f7305285_orig.jpg"/>
          <p:cNvPicPr/>
          <p:nvPr/>
        </p:nvPicPr>
        <p:blipFill>
          <a:blip r:embed="rId3"/>
          <a:stretch/>
        </p:blipFill>
        <p:spPr>
          <a:xfrm>
            <a:off x="5638680" y="2209680"/>
            <a:ext cx="3200400" cy="3733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C:\Users\Аэро\Desktop\radioupravlyaemaya-letayuschaya-feya-volshebnitsa-pink-3000-large.jpg"/>
          <p:cNvPicPr/>
          <p:nvPr/>
        </p:nvPicPr>
        <p:blipFill>
          <a:blip r:embed="rId4"/>
          <a:stretch/>
        </p:blipFill>
        <p:spPr>
          <a:xfrm>
            <a:off x="228600" y="228600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Фоторамки, виньетки, рамки, клипарт для видео и фотомонтажа - Скачать бесплатно клипарт"/>
          <p:cNvPicPr/>
          <p:nvPr/>
        </p:nvPicPr>
        <p:blipFill>
          <a:blip r:embed="rId1"/>
          <a:stretch/>
        </p:blipFill>
        <p:spPr>
          <a:xfrm>
            <a:off x="6477120" y="2286000"/>
            <a:ext cx="2381040" cy="371484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6"/>
          <p:cNvSpPr/>
          <p:nvPr/>
        </p:nvSpPr>
        <p:spPr>
          <a:xfrm>
            <a:off x="1643040" y="28584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s a very small creature with wings, living on the flowers. They play musical instruments and dance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ves are immortal. They live in a magic 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10"/>
          <p:cNvSpPr/>
          <p:nvPr/>
        </p:nvSpPr>
        <p:spPr>
          <a:xfrm>
            <a:off x="304920" y="285840"/>
            <a:ext cx="138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8"/>
          <p:cNvSpPr/>
          <p:nvPr/>
        </p:nvSpPr>
        <p:spPr>
          <a:xfrm>
            <a:off x="571680" y="579132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6" descr="C:\Users\Аэро\Desktop\1402836860_00000391.jpg"/>
          <p:cNvPicPr/>
          <p:nvPr/>
        </p:nvPicPr>
        <p:blipFill>
          <a:blip r:embed="rId2"/>
          <a:stretch/>
        </p:blipFill>
        <p:spPr>
          <a:xfrm>
            <a:off x="762120" y="320040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Прямоугольник 2" descr=""/>
          <p:cNvPicPr/>
          <p:nvPr/>
        </p:nvPicPr>
        <p:blipFill>
          <a:blip r:embed="rId1"/>
          <a:stretch/>
        </p:blipFill>
        <p:spPr>
          <a:xfrm>
            <a:off x="1139760" y="115920"/>
            <a:ext cx="2981520" cy="1116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4572000" y="228600"/>
            <a:ext cx="435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3f"/>
                </a:solidFill>
                <a:latin typeface="Times New Roman"/>
                <a:ea typeface="Times New Roman"/>
              </a:rPr>
              <a:t>is an imaginary man. Giants in tales are very stupid. Some of giants eat people, especially children. But some giants are frien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Free Fantasy and Mythology Clipart. Free Clipart Images, Gra…"/>
          <p:cNvPicPr/>
          <p:nvPr/>
        </p:nvPicPr>
        <p:blipFill>
          <a:blip r:embed="rId2"/>
          <a:srcRect l="2227" t="1638" r="1789" b="0"/>
          <a:stretch/>
        </p:blipFill>
        <p:spPr>
          <a:xfrm>
            <a:off x="533520" y="1600200"/>
            <a:ext cx="2408040" cy="3357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C:\Users\Аэро\Desktop\img155.jpg"/>
          <p:cNvPicPr/>
          <p:nvPr/>
        </p:nvPicPr>
        <p:blipFill>
          <a:blip r:embed="rId3"/>
          <a:stretch/>
        </p:blipFill>
        <p:spPr>
          <a:xfrm>
            <a:off x="4419720" y="3352680"/>
            <a:ext cx="41907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8"/>
          <p:cNvSpPr/>
          <p:nvPr/>
        </p:nvSpPr>
        <p:spPr>
          <a:xfrm>
            <a:off x="3024360" y="304920"/>
            <a:ext cx="611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003f"/>
                </a:solidFill>
                <a:latin typeface="Times New Roman"/>
                <a:ea typeface="Times New Roman"/>
              </a:rPr>
              <a:t>is a legendary creature popular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003f"/>
                </a:solidFill>
                <a:latin typeface="Times New Roman"/>
                <a:ea typeface="Times New Roman"/>
              </a:rPr>
              <a:t>folklore around Scotland and England.</a:t>
            </a:r>
            <a:r>
              <a:rPr b="1" lang="ru-RU" sz="3200" spc="-1" strike="noStrike">
                <a:solidFill>
                  <a:srgbClr val="34003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34003f"/>
                </a:solidFill>
                <a:latin typeface="Times New Roman"/>
                <a:ea typeface="Times New Roman"/>
              </a:rPr>
              <a:t>They enjoy porridge and honey. Brownies help people about the house. They only work at night.</a:t>
            </a:r>
            <a:r>
              <a:rPr b="1" lang="ru-RU" sz="3200" spc="-1" strike="noStrike">
                <a:solidFill>
                  <a:srgbClr val="34003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4003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11"/>
          <p:cNvSpPr/>
          <p:nvPr/>
        </p:nvSpPr>
        <p:spPr>
          <a:xfrm>
            <a:off x="250920" y="28584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003f"/>
                </a:solidFill>
                <a:latin typeface="Times New Roman"/>
                <a:ea typeface="Times New Roman"/>
              </a:rPr>
              <a:t>Browni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Documents and Settings\Alfa\Рабочий стол\домовой.jpg"/>
          <p:cNvPicPr/>
          <p:nvPr/>
        </p:nvPicPr>
        <p:blipFill>
          <a:blip r:embed="rId1"/>
          <a:stretch/>
        </p:blipFill>
        <p:spPr>
          <a:xfrm>
            <a:off x="228600" y="335268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Picture 3" descr="C:\Users\Аэро\Desktop\skazkinasenovale.jpg"/>
          <p:cNvPicPr/>
          <p:nvPr/>
        </p:nvPicPr>
        <p:blipFill>
          <a:blip r:embed="rId2"/>
          <a:stretch/>
        </p:blipFill>
        <p:spPr>
          <a:xfrm>
            <a:off x="4876920" y="335268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Клипарт &quot;Troll with Cane&quot; / Категория &quot;Фэнтези&quot;"/>
          <p:cNvPicPr/>
          <p:nvPr/>
        </p:nvPicPr>
        <p:blipFill>
          <a:blip r:embed="rId1"/>
          <a:stretch/>
        </p:blipFill>
        <p:spPr>
          <a:xfrm>
            <a:off x="811080" y="1879560"/>
            <a:ext cx="2678400" cy="33577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6"/>
          <p:cNvSpPr/>
          <p:nvPr/>
        </p:nvSpPr>
        <p:spPr>
          <a:xfrm>
            <a:off x="2590920" y="14292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rol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4429080" y="357120"/>
            <a:ext cx="4095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 a supernatural being. Trolls live in rocks, mountains or caves. Trolls may be ugly. They are considered dangerous to people. The sunlight is dangerous for them, they can change into st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оугольник 9"/>
          <p:cNvSpPr/>
          <p:nvPr/>
        </p:nvSpPr>
        <p:spPr>
          <a:xfrm>
            <a:off x="482760" y="4724280"/>
            <a:ext cx="88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3498840" y="-96840"/>
            <a:ext cx="5791320" cy="4370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C:\Users\Аэро\Desktop\x_35ae02a7.jpg"/>
          <p:cNvPicPr/>
          <p:nvPr/>
        </p:nvPicPr>
        <p:blipFill>
          <a:blip r:embed="rId2"/>
          <a:stretch/>
        </p:blipFill>
        <p:spPr>
          <a:xfrm>
            <a:off x="380880" y="304920"/>
            <a:ext cx="3353040" cy="3733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C:\Users\Аэро\Desktop\240990.jpg"/>
          <p:cNvPicPr/>
          <p:nvPr/>
        </p:nvPicPr>
        <p:blipFill>
          <a:blip r:embed="rId3"/>
          <a:stretch/>
        </p:blipFill>
        <p:spPr>
          <a:xfrm>
            <a:off x="3733920" y="4343400"/>
            <a:ext cx="464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9" name="Диаграмма 3" descr=""/>
          <p:cNvPicPr/>
          <p:nvPr/>
        </p:nvPicPr>
        <p:blipFill>
          <a:blip r:embed="rId1"/>
          <a:stretch/>
        </p:blipFill>
        <p:spPr>
          <a:xfrm>
            <a:off x="482760" y="177840"/>
            <a:ext cx="817848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6:55:13Z</dcterms:created>
  <dc:creator>Аэро</dc:creator>
  <dc:description/>
  <dc:language>en-US</dc:language>
  <cp:lastModifiedBy>Alfa</cp:lastModifiedBy>
  <dcterms:modified xsi:type="dcterms:W3CDTF">2019-10-06T10:46:41Z</dcterms:modified>
  <cp:revision>113</cp:revision>
  <dc:subject/>
  <dc:title>Mysterious Creatures of Great Britain</dc:title>
</cp:coreProperties>
</file>