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3E5-AD74-4462-B92E-48303D09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955-2A6A-4B37-983F-8D35B691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567-F0A8-4C7B-A347-ED552BC6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B30-2537-4EBF-AC51-EED0F6EF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7174-8099-487E-8AB5-C748DE02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BB54-8E95-4635-9331-2CD609A5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F856-0C63-49DF-87EB-070E88CD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4185-CA2C-4EF7-8DDC-5EA15023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4F82-AD9B-4977-A75D-1A99612B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3F16-E55A-4835-97DD-86F11275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A9E7-0DC5-41A6-AA78-DF735333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9B9-FF5F-4FFA-BCB6-1DC613A1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1C3D-EC56-4E95-9307-F2653E76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3A10-95C3-4D79-9290-10E4DB4D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9222-C1F7-40C6-BAF5-292C2107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4965-B022-48B9-95C3-8FB2DFE3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C603-9AA2-42F8-88B1-79BCE84D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E219-864F-4696-AFE5-35E1FE7D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FA0BC-C91A-4735-B832-09A49172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985B0-7192-48C8-8556-2558A8D2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08A0D-329A-4D3D-B5E7-76BAB7BD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04A6-25AF-4D49-BDE5-D8463E59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8E8-3060-4054-8C91-D82B8FB0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4BDE-32E9-4C02-8D33-1CA5A7C6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03A47-2F2B-4859-AD3F-A67DB64A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7A5DE-1940-4C53-A5B3-AD7379F1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8845C-DD11-4A09-BAC2-ECD2BCCE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A3760-F358-44B5-9845-0FB25DDA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67253-D019-44AE-A4C0-82150D4C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39EAF-11DC-4F87-BA83-90ACE8B8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A4659-F61C-460E-92DD-D27C415C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92F04-FA43-439C-A3F9-FCFFAB8F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61D7A-938F-4115-92AC-10030199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AD2-4615-4970-9B7E-3E16129F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9853F-9EAC-4E68-9A60-E90B571E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F0CA0-9476-462B-A3C0-0A35E976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ABE78-6BE9-449A-B349-13F966D6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1DB1-50F2-4B72-A7E2-E0146CD1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22886-C5FE-4B6C-A448-31DF2B98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3C846-AE13-4ED6-8B8E-404A5F24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64B0D-E27A-467E-ADFD-705FD305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1C642-24F3-4312-870D-52C3DEA7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94368-1087-45E7-A699-A664D9BA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5075C-C92C-4BBC-9D7F-865D032F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F69-DAD5-42F8-986D-C420771F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4212F-86F6-434E-8EEC-E38AC85F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EEF2C-5EEB-44A7-A018-846D650A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B0F65-0000-43DF-BBB4-63506001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B7A8C-6A10-4EE9-BAEB-EDBA84B5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7784B-E925-4B93-8C79-51C04B9C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23FCE-3B25-4882-9CAC-A7080239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177D1-7F7B-465D-B704-31BF16EE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D4ADE-2409-4EBE-A6A5-4C9964D4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61550-1B73-4C2A-86D0-DFA2FD0C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321B7-8AA5-481E-8A6C-2BA2B276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B2F-A6E0-43DD-AA2D-63CB3E56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D81FC-317A-4A21-9204-8D6A0757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E0A1A-AF75-4F71-9C4A-80DA4B2D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3B7B9-AB57-416B-8312-66D42AAD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88AA7-E671-424D-9A29-94A89829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C15B3-7FCE-44E5-8051-A2036465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A9099-214E-414C-9FCB-C901B56F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628BC-A155-47D9-B739-88660786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6AA17-CBD4-4A2E-B133-5149B56F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C7BED-0C1A-45BC-A9AE-4243FD0C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54043-1047-422B-8B28-184969A0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236-2097-40DD-B1EE-3D1F06BE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CF54C-800D-441B-B3C3-3C3DBAAD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1058B-D850-466D-8ED3-2C2973F7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D45CA-0AC3-4D91-9B1D-60771759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BE124-43D9-4B7D-8E20-3A164AF0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CC53C-37CF-4894-B2DC-DC6B60B2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56CC4-CD8A-4054-A820-89AB4E08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BF5A5-AECB-4250-9671-794C4C10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473EE-9D2C-49FD-8CCC-94E2C930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D7B45-8372-4BC1-9170-CA3F2E33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92F2E-12E2-411F-9D91-0FDC9907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61E-33AC-4EBF-9BDF-50DB0D0A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82DE9-6735-47FD-9E01-228F1BAF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6FEFD-E750-40A7-AAFB-8041E267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4ED43-7016-495C-B90C-69ABD7D7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3A1ED-74A4-4718-8FCB-592C17DD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60154-5188-4226-AAE3-B4A4E306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743-B8F7-4801-8724-B66FA7C4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D51E-A8B6-4AB6-B309-5143C2B4328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FBE8-2302-4F20-BA2A-2D96BDF7FF8E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C163-667B-4105-A179-FA920D078CE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63A5-6CE5-4E79-B7D8-19B0661F6F33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7849-0F6D-4162-8DD7-D285353AAB5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3C54-B998-44ED-BAFF-37C5ED8B19CB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6CF8-D296-4737-AA04-E04F6E53BB9F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781200" y="73080"/>
            <a:ext cx="7862760" cy="229860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8137440" y="2139840"/>
            <a:ext cx="579600" cy="358452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4" descr="англия.jpg"/>
          <p:cNvPicPr/>
          <p:nvPr/>
        </p:nvPicPr>
        <p:blipFill>
          <a:blip r:embed="rId3"/>
          <a:stretch/>
        </p:blipFill>
        <p:spPr>
          <a:xfrm>
            <a:off x="1285920" y="2286000"/>
            <a:ext cx="3166920" cy="221472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6" descr="Уэльс.jpg"/>
          <p:cNvPicPr/>
          <p:nvPr/>
        </p:nvPicPr>
        <p:blipFill>
          <a:blip r:embed="rId4"/>
          <a:stretch/>
        </p:blipFill>
        <p:spPr>
          <a:xfrm>
            <a:off x="1285920" y="4464000"/>
            <a:ext cx="3190680" cy="225108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7" descr="Шотландия.jpg"/>
          <p:cNvPicPr/>
          <p:nvPr/>
        </p:nvPicPr>
        <p:blipFill>
          <a:blip r:embed="rId5"/>
          <a:stretch/>
        </p:blipFill>
        <p:spPr>
          <a:xfrm>
            <a:off x="4500720" y="2286000"/>
            <a:ext cx="3429000" cy="219708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8" descr="сев ирландия.jpg"/>
          <p:cNvPicPr/>
          <p:nvPr/>
        </p:nvPicPr>
        <p:blipFill>
          <a:blip r:embed="rId6"/>
          <a:stretch/>
        </p:blipFill>
        <p:spPr>
          <a:xfrm>
            <a:off x="4500720" y="4500720"/>
            <a:ext cx="34290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20840" y="158760"/>
            <a:ext cx="8246880" cy="1908000"/>
          </a:xfrm>
          <a:prstGeom prst="rect">
            <a:avLst/>
          </a:prstGeom>
          <a:ln w="0">
            <a:noFill/>
          </a:ln>
        </p:spPr>
      </p:pic>
      <p:pic>
        <p:nvPicPr>
          <p:cNvPr id="308" name="Подзаголовок 2" descr=""/>
          <p:cNvPicPr/>
          <p:nvPr/>
        </p:nvPicPr>
        <p:blipFill>
          <a:blip r:embed="rId2"/>
          <a:stretch/>
        </p:blipFill>
        <p:spPr>
          <a:xfrm>
            <a:off x="8137440" y="2139840"/>
            <a:ext cx="579600" cy="358452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7" descr="highlands.gif"/>
          <p:cNvPicPr/>
          <p:nvPr/>
        </p:nvPicPr>
        <p:blipFill>
          <a:blip r:embed="rId3"/>
          <a:stretch/>
        </p:blipFill>
        <p:spPr>
          <a:xfrm>
            <a:off x="500040" y="2214720"/>
            <a:ext cx="3975120" cy="263340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8" descr="highlands2.jpg"/>
          <p:cNvPicPr/>
          <p:nvPr/>
        </p:nvPicPr>
        <p:blipFill>
          <a:blip r:embed="rId4"/>
          <a:stretch/>
        </p:blipFill>
        <p:spPr>
          <a:xfrm>
            <a:off x="857160" y="42148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13" descr="lowlands2.jpg"/>
          <p:cNvPicPr/>
          <p:nvPr/>
        </p:nvPicPr>
        <p:blipFill>
          <a:blip r:embed="rId5"/>
          <a:stretch/>
        </p:blipFill>
        <p:spPr>
          <a:xfrm>
            <a:off x="5500800" y="2214720"/>
            <a:ext cx="2238120" cy="328608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4" descr="owlands.jpg"/>
          <p:cNvPicPr/>
          <p:nvPr/>
        </p:nvPicPr>
        <p:blipFill>
          <a:blip r:embed="rId6"/>
          <a:stretch/>
        </p:blipFill>
        <p:spPr>
          <a:xfrm>
            <a:off x="4286160" y="5000760"/>
            <a:ext cx="45720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208080" y="133200"/>
            <a:ext cx="8582040" cy="73188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429760" y="-240120"/>
            <a:ext cx="1396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Рисунок 6" descr="озеро2.jpg"/>
          <p:cNvPicPr/>
          <p:nvPr/>
        </p:nvPicPr>
        <p:blipFill>
          <a:blip r:embed="rId2"/>
          <a:stretch/>
        </p:blipFill>
        <p:spPr>
          <a:xfrm>
            <a:off x="5357880" y="4000680"/>
            <a:ext cx="3417840" cy="22860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7" descr="озеро3.jpg"/>
          <p:cNvPicPr/>
          <p:nvPr/>
        </p:nvPicPr>
        <p:blipFill>
          <a:blip r:embed="rId3"/>
          <a:stretch/>
        </p:blipFill>
        <p:spPr>
          <a:xfrm>
            <a:off x="357120" y="4000680"/>
            <a:ext cx="3905280" cy="243828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8" descr="озеро5.jpg"/>
          <p:cNvPicPr/>
          <p:nvPr/>
        </p:nvPicPr>
        <p:blipFill>
          <a:blip r:embed="rId4"/>
          <a:stretch/>
        </p:blipFill>
        <p:spPr>
          <a:xfrm>
            <a:off x="4500720" y="928800"/>
            <a:ext cx="4440240" cy="235728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12" descr="озеро4.jpg"/>
          <p:cNvPicPr/>
          <p:nvPr/>
        </p:nvPicPr>
        <p:blipFill>
          <a:blip r:embed="rId5"/>
          <a:stretch/>
        </p:blipFill>
        <p:spPr>
          <a:xfrm>
            <a:off x="357120" y="928800"/>
            <a:ext cx="3595680" cy="269532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5" descr="озеро1.jpg"/>
          <p:cNvPicPr/>
          <p:nvPr/>
        </p:nvPicPr>
        <p:blipFill>
          <a:blip r:embed="rId6"/>
          <a:stretch/>
        </p:blipFill>
        <p:spPr>
          <a:xfrm>
            <a:off x="3286080" y="3286080"/>
            <a:ext cx="30672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7" descr=""/>
          <p:cNvPicPr/>
          <p:nvPr/>
        </p:nvPicPr>
        <p:blipFill>
          <a:blip r:embed="rId1"/>
          <a:stretch/>
        </p:blipFill>
        <p:spPr>
          <a:xfrm>
            <a:off x="822240" y="146160"/>
            <a:ext cx="7718400" cy="1639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Creatures"/>
          <p:cNvPicPr/>
          <p:nvPr/>
        </p:nvPicPr>
        <p:blipFill>
          <a:blip r:embed="rId2"/>
          <a:stretch/>
        </p:blipFill>
        <p:spPr>
          <a:xfrm>
            <a:off x="1676520" y="182880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2"/>
          <p:cNvSpPr/>
          <p:nvPr/>
        </p:nvSpPr>
        <p:spPr>
          <a:xfrm>
            <a:off x="3124080" y="6172200"/>
            <a:ext cx="24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The Fairyl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69760" y="1255680"/>
            <a:ext cx="7508520" cy="3497040"/>
          </a:xfrm>
          <a:prstGeom prst="rect">
            <a:avLst/>
          </a:prstGeom>
          <a:gradFill rotWithShape="0">
            <a:gsLst>
              <a:gs pos="0">
                <a:srgbClr val="f1b2ff"/>
              </a:gs>
              <a:gs pos="100000">
                <a:srgbClr val="66ff99"/>
              </a:gs>
            </a:gsLst>
            <a:lin ang="6000000"/>
          </a:gradFill>
          <a:ln w="76320">
            <a:solidFill>
              <a:srgbClr val="66ff99"/>
            </a:solidFill>
            <a:miter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12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Century Gothic"/>
              </a:rPr>
              <a:t>We’d like to tell you about some kinds of  Mysterious Creatures of Great Britain.</a:t>
            </a:r>
            <a:endParaRPr b="0" lang="en-US" sz="5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Прямоугольник 4" descr=""/>
          <p:cNvPicPr/>
          <p:nvPr/>
        </p:nvPicPr>
        <p:blipFill>
          <a:blip r:embed="rId1"/>
          <a:stretch/>
        </p:blipFill>
        <p:spPr>
          <a:xfrm>
            <a:off x="165240" y="225360"/>
            <a:ext cx="3589200" cy="9144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Leprechaun Pictures Free"/>
          <p:cNvPicPr/>
          <p:nvPr/>
        </p:nvPicPr>
        <p:blipFill>
          <a:blip r:embed="rId2"/>
          <a:srcRect l="2929" t="4396" r="1855" b="6251"/>
          <a:stretch/>
        </p:blipFill>
        <p:spPr>
          <a:xfrm>
            <a:off x="228600" y="2362320"/>
            <a:ext cx="3505320" cy="415764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7" descr=""/>
          <p:cNvPicPr/>
          <p:nvPr/>
        </p:nvPicPr>
        <p:blipFill>
          <a:blip r:embed="rId3"/>
          <a:stretch/>
        </p:blipFill>
        <p:spPr>
          <a:xfrm>
            <a:off x="3833640" y="244440"/>
            <a:ext cx="5261040" cy="3449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" descr="C:\Users\Аэро\Desktop\64918473.jpg"/>
          <p:cNvPicPr/>
          <p:nvPr/>
        </p:nvPicPr>
        <p:blipFill>
          <a:blip r:embed="rId4"/>
          <a:stretch/>
        </p:blipFill>
        <p:spPr>
          <a:xfrm>
            <a:off x="4800600" y="3505320"/>
            <a:ext cx="3352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&quot;Гномы -Гномики&quot;"/>
          <p:cNvPicPr/>
          <p:nvPr/>
        </p:nvPicPr>
        <p:blipFill>
          <a:blip r:embed="rId1"/>
          <a:stretch/>
        </p:blipFill>
        <p:spPr>
          <a:xfrm>
            <a:off x="380880" y="609480"/>
            <a:ext cx="3657600" cy="289584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оугольник 4" descr=""/>
          <p:cNvPicPr/>
          <p:nvPr/>
        </p:nvPicPr>
        <p:blipFill>
          <a:blip r:embed="rId2"/>
          <a:stretch/>
        </p:blipFill>
        <p:spPr>
          <a:xfrm>
            <a:off x="2676600" y="55440"/>
            <a:ext cx="2663640" cy="992160"/>
          </a:xfrm>
          <a:prstGeom prst="rect">
            <a:avLst/>
          </a:prstGeom>
          <a:ln w="0">
            <a:noFill/>
          </a:ln>
        </p:spPr>
      </p:pic>
      <p:sp>
        <p:nvSpPr>
          <p:cNvPr id="330" name="TextBox 7"/>
          <p:cNvSpPr/>
          <p:nvPr/>
        </p:nvSpPr>
        <p:spPr>
          <a:xfrm>
            <a:off x="4876920" y="428760"/>
            <a:ext cx="405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little man with a beard. Dwarfs  are very strong. They don’t like people because of their gre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8"/>
          <p:cNvSpPr/>
          <p:nvPr/>
        </p:nvSpPr>
        <p:spPr>
          <a:xfrm>
            <a:off x="3929040" y="85716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6"/>
          <p:cNvSpPr/>
          <p:nvPr/>
        </p:nvSpPr>
        <p:spPr>
          <a:xfrm>
            <a:off x="285840" y="471492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1" descr="C:\Users\Аэро\Desktop\5619e7c7c4867.jpg"/>
          <p:cNvPicPr/>
          <p:nvPr/>
        </p:nvPicPr>
        <p:blipFill>
          <a:blip r:embed="rId3"/>
          <a:stretch/>
        </p:blipFill>
        <p:spPr>
          <a:xfrm>
            <a:off x="1143000" y="4038480"/>
            <a:ext cx="7238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6:55:13Z</dcterms:created>
  <dc:creator>Аэро</dc:creator>
  <dc:description/>
  <dc:language>en-US</dc:language>
  <cp:lastModifiedBy>Alfa</cp:lastModifiedBy>
  <dcterms:modified xsi:type="dcterms:W3CDTF">2019-10-06T10:45:00Z</dcterms:modified>
  <cp:revision>114</cp:revision>
  <dc:subject/>
  <dc:title>Mysterious Creatures of Great Britain</dc:title>
</cp:coreProperties>
</file>