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33C-58BD-43C5-9F24-AD299CB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015-A0E4-4838-B635-3F035974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456E3-341D-4C03-8604-5227FFD3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9F68-F06B-4D64-AAFF-D8964C6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BDF1D-9A5F-4B16-8EFB-87DD00D2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42260-5725-415E-977F-8CD34B0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7A4F9-01A5-4F4D-A334-03163C2E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48D83-E4E3-4FD9-8C94-28FFC2C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30B0-6280-4C2F-907C-54742AA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E04A-74A9-470B-A7D7-AAB7ACD0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F717-5BC8-4FE9-A27A-7510BB6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ABE0-72F1-4C16-8B29-47FEA414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96D-10C6-46D5-9DD1-7708D190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8D6B-D1D8-40BA-97EC-1696B07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69AE-7961-4CA1-9423-7991BF72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BBBD7-322C-4D0B-8710-40E6036F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AC161-66FD-4D3F-80E8-9FC9083C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1DE63-96D3-4330-A48F-8957AB07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77096-9479-4704-B98C-8D988A0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21C7E-0F9B-4ABD-8ED4-0FEF59A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C0125-D754-4F70-B130-78022D9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7250C-8D9A-4F50-8EDF-53F1680C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75CA7-1ED4-49FF-9EE2-C74D4E3F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980-14CB-486E-B0FA-B1F89843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F2BE6-53F7-4543-9831-8391FBF5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587D0-C414-47AA-AC04-B7BA9BA6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2A6AF-9A66-4D5A-A64A-2C5AF25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3F74D-40F2-45B2-BFE3-E2F3045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D2F2-B605-435C-B702-C20C4C1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478D3-32EC-4792-A5C1-B64CE7C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F880-E367-4F36-AC37-72A171E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AE5CE-5113-48B2-A82C-13A5B5D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F8F47-641E-478F-A186-8A80C76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26B4-4A27-40D3-8844-4A3E47A2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3918-EA7E-4C19-8132-3F8AC97C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B5DFD-EAF3-495C-9923-903EC1F1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B98F-3C2F-4566-91A6-327FD794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0628-1C14-4B3E-A7D8-90FCBE94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C43F5-78C0-41A6-B448-837119AA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8CC37-E2B6-4537-BC94-52C65CE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41596-54BF-456F-B98D-FFA7982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5860-5F81-4A17-9D69-F985F14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C2F88-106F-482D-B995-3FEE4CE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51972-AEF3-4D4F-B743-8E606D0D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2E19F-C677-490E-B166-2D87898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317-7A6E-4774-A6D7-6EAD802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EE9EE-B2C9-45E4-A48E-F97488B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99175-6973-419A-A045-FD0CAFB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ED8A0-873E-4348-B73C-99CC20F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B3137-03DF-4BA6-AB21-F9054B5B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D941A-1D58-47AB-B4AE-F3AA919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28EFF-098F-4DCF-83B1-57023198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70021-50BB-4C92-9D8F-4DDD972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0D120-321A-4302-9F15-52B402D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D40A9-AA37-4853-860E-25AA111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F3B77-2A48-4298-8DFF-1AF3CB7E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539-E4A4-4FF4-84A9-038E144C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22CB9-3096-47A2-84AF-373BC074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873D5-B09A-4E90-80BC-3363FE7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F1832-972F-465F-94D5-A9D3847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916DA-41EA-4BB2-B3D7-7D18A8A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58D95-6F13-45D9-B999-29125629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E5CFF-3573-41A6-924A-A4109964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3CC81-5F43-4B40-AED0-FAC907F5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BEB80-5AD3-4415-9DD7-354CC320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32EDC-00D6-476F-A133-AE9D5B35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87C65-30D1-49F7-9ABC-BFC97870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D83-39AB-4F6D-B045-FB876D12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F3CBF-A5FB-4501-A3F8-CB80C34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A3739-4FE7-4B1D-9E7F-5237AFF7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D87BA-7E1D-48D0-9814-B3CDA14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F4647-253C-406A-9CC8-607D97B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26AAA-2636-42C9-A1E2-B14617F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7C428-6810-4F53-9438-30FA413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4CE82-805D-4265-94D3-793F0EC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4E5F1-5C85-4CE6-8F39-436DB108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B9906-23EA-4B96-AD29-705FCD7D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E64CE-B1CB-44FD-95B6-17228010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F79-2646-4562-B196-60FBD14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97567-2264-44B2-9CE7-A0E4A9F2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2C513-FEB9-40CC-AA90-31750326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7261C-70C4-4DE9-8717-8BD4DFD9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3EB89-C726-47EF-8AB7-C2BEAB8A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46178-74F4-4508-93FD-29B2EAD1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93E83-E6AD-439C-879F-7311B83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5C62A-3F6E-4B59-AC2A-F545A2A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C75EE-A76C-40CA-A98C-83B2915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A3464-653C-405B-89AE-4B83546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9ECFB-549A-44C5-827B-C43D3854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5B11-AB1A-48C4-9739-C699FE7C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F68B1-7728-4E6E-9324-1577602C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0347E-7A88-4554-8CF5-BFB283E8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0C631-97B7-4425-980E-7B765A78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D6A0C-58FE-4EE8-9CBB-676545C0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9405B-101A-4A6B-A91C-7B6B517C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45435-31B7-45D3-BBC6-0D46727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0B78F-0491-4011-A957-0B74F71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8CCE7-C88D-41B2-8446-FFB96B5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AB3C0-F031-4E7F-9E51-71E88D5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308F8-21A3-4672-A264-5AA2813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FA2E-8876-4891-BE44-08252D94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9D0DF-7F96-4F9B-A5EA-511FB88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4AD1A-8624-4D5D-A787-BFC8D7D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3720F-550F-4FB6-8633-8C45D0FF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C727B-C276-4600-97F4-2E6C9175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C39E9-31BC-47D1-AA28-80C6B1B1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6A570-B8C0-49F5-854B-83806AA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B427C-7F4E-427E-BA45-D4C1386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A1B76-2DB8-4055-915E-768621FC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D699C-DEEB-461D-8A13-D889530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4C329-933E-4A06-9DB3-36E1A6E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C21-57F3-4356-89C0-57E755B5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8403-EBB7-47B9-AF09-93EC570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5D4F3-D916-4F6D-8E1F-13A894D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B50DA-AC3E-4239-9695-657F608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3A684-32D2-4EB2-8EFB-748956F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E2601-F651-41CB-B82B-B3FAEF36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2720E-627B-45DF-8455-4573A00E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0B8B2-736A-44CA-8FAE-D0B62920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6E3A2-3AF1-4210-B40F-DABEA57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E5D40-8879-4C1A-9EAC-BCC214C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3C730-F180-4491-A9A5-579FDF4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B31DB-F616-431D-A2C9-79CAEF62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B613-97DE-4BC2-921D-5B962FC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900BB-F691-4D21-B236-1500D173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069CD-62B8-4717-8DE3-84AD500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F48D3-5A12-4DC0-AF2F-10D36C7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9A2262-E2A4-448F-81CC-48F36D2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22D41-23CD-434D-94BF-00DFD0D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783C1-58AA-4C21-A8BA-090AF389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E71B7-572E-4896-B6B2-6A1098F2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AC0-9B92-45C0-B24F-A8CD818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6F62-7EA5-4613-978E-83C84BC7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5C79-9296-4015-BDC6-E342B8B4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7F3F-5B0D-47DC-B629-D721CED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D398-C726-4B9B-8518-09817BB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EDEB-4222-46AC-A4E5-6903B1C0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D55A-B15B-4B23-9A03-8234986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99CA-5EC2-417A-89AE-281FCB1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398-8651-4DE7-A17B-C6072E3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5602-D6E7-47E9-AD6F-2E9E61E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F04D-DAD0-4935-8CEB-9690919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DA9D-6D9A-41BF-8B10-782EB30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DA79-EC5A-46E7-AE35-C5F9ADF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15E0-0854-4EC1-9FF1-B2BC102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5E54-946E-4E57-808F-790BE61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4169-7BD9-4F6E-A89A-068CBEBC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DA8B-3E2A-4163-BBD5-09FE4D1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E0E4-461F-4366-88EB-D2A289F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0146-798E-4417-908F-C17CEDAE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417-C97D-4ED0-85ED-0DFEACF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E247-B621-4B59-B917-59A5FE30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E845-E644-4A1C-8DB8-1DAB0F6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790E-404E-4120-B29B-7FB711B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E9BF-00C7-4E9C-A2B3-F429BAD3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D04A-3EBB-4E3A-936D-20F461A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C6E4-2F3B-4CEF-91B3-1945AC8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9D9F-52EF-4349-A408-F487F656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6929-A22E-4D81-A569-F2A6CFD1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40F9-FA8F-4CB1-ABDF-411B8630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26436-2971-4F79-948E-60939F3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E3F-EC87-415C-82A8-D572FB20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32BF-369E-4AF5-A71E-EEF131A5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4494-F3D1-48C3-BDC6-B29A63A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2E0D-7286-444A-8504-02F712D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564A-F48A-4956-8DB3-9B0D3B8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71B27-0F7C-48CC-B44C-4C6AB368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B752-9C93-4070-8DCF-ADE42DB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91F1-9C53-444E-9278-4A97C01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2F6E-EEA4-4821-9C30-EFC96DF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443F-334E-43C1-8ED0-292B1A86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6602-EBF7-4E16-9D4B-E5CB603D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889-2E8D-4024-BE03-46116DE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98CF-42C4-462E-B549-84D5451B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770B-76DE-4F7E-BAE6-8CA4107F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C372-344B-45A4-93A7-B90D550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822AA-61E5-44AD-8646-62A8F74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7F05-B0C0-4A74-9AFB-72F1EB8A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044F-1A8C-4E1A-A7CB-524B7C6C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83274-4F6C-44F2-BED6-C0C6880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8A31-FDC2-4773-83A9-D8E9AD5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6D32-2AC1-4CC0-8ADB-67A4D11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999B2-8C76-4701-862E-A880B05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50B-AF31-42A9-B505-0881467E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5ADF-F131-4BB4-B81E-60DCF5D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F3F5-AF86-4B20-8E77-7D326C71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EE23-CD5D-448F-A581-8E209A69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1127-0729-427D-8AEE-58EDFBCA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005D-A560-44DF-9B90-2300A34E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7384-9AEC-4A6C-AA01-93D44DFF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C3BE-9363-4C30-8E58-589DF0E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470C-DC5D-4FC4-94BB-C4449F7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62509-8E12-439B-B25F-BA9FC20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CF69-6C6C-43BB-8B8B-6D159F9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8B6-2D0C-4C39-B140-501F8B4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D196-0728-4F2A-9EEF-92BDA73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3885-668C-49F3-8046-F6647FB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0228-B87E-4675-A166-7360182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8494-F890-417C-96CE-3D060F8A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6437-0277-4376-8165-21470019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553CF-A7BE-4DB5-B083-186936A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15EB-030C-4131-9B09-346C1EF4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571F-94C9-4772-9015-16F4E98A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7CA5-747F-4751-BAF1-A3FF2855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303DD-EE9B-4113-AADB-985D3E3C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B4A-0505-4DA3-9739-939E1C0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1776-E23A-49DB-94A6-4836106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4907-41C7-482D-898A-27C2AB0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BC63-6CC3-47F6-9277-408C3E3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729F9-33D0-4085-8068-199AA0B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ED44-4341-4B11-B0A8-B9D4A67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B860-9230-4789-B7B8-B0E1CE38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2492-AC2F-4288-8F29-7CD2A2B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7441-B06B-4BE6-895A-005831D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378C-903F-482A-AE10-9F89303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E8FD-93DB-44E0-A7EF-4B3D2476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14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D157-C090-42A6-9F2E-CAAFF61463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14480"/>
            <a:ext cx="792000" cy="971280"/>
            <a:chOff x="8153280" y="114480"/>
            <a:chExt cx="792000" cy="971280"/>
          </a:xfrm>
        </p:grpSpPr>
        <p:sp>
          <p:nvSpPr>
            <p:cNvPr id="7" name="Oval 9"/>
            <p:cNvSpPr/>
            <p:nvPr/>
          </p:nvSpPr>
          <p:spPr>
            <a:xfrm>
              <a:off x="8153280" y="11448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14480"/>
              <a:ext cx="11844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14480"/>
              <a:ext cx="11376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240120"/>
              <a:ext cx="119880" cy="86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240120"/>
              <a:ext cx="118440" cy="86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240120"/>
              <a:ext cx="113760" cy="86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240120"/>
              <a:ext cx="109440" cy="86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366120"/>
              <a:ext cx="119880" cy="82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366120"/>
              <a:ext cx="118440" cy="82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366120"/>
              <a:ext cx="113760" cy="82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366120"/>
              <a:ext cx="109440" cy="82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366120"/>
              <a:ext cx="119880" cy="82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49212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492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492120"/>
              <a:ext cx="11376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492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618120"/>
              <a:ext cx="11988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618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618120"/>
              <a:ext cx="11376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618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618120"/>
              <a:ext cx="11988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744120"/>
              <a:ext cx="119880" cy="8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744120"/>
              <a:ext cx="11844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744120"/>
              <a:ext cx="11376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744120"/>
              <a:ext cx="109440" cy="8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870120"/>
              <a:ext cx="11988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870120"/>
              <a:ext cx="11844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870120"/>
              <a:ext cx="11376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870120"/>
              <a:ext cx="10944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996120"/>
              <a:ext cx="118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996120"/>
              <a:ext cx="109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ED20-C967-47A0-9D9B-D5AC4F09C9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938-7C12-4DB3-84CE-B061FB4187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1819-79B2-4D73-B277-33CACA34A1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8B22-AB32-41CE-982A-EE365F166D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2EE-6EEF-45C6-8DDE-FF3F7CB160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825-DE36-41ED-9850-BEAA130CCF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DCC-1F99-4DCE-895B-7B1F09DBB5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9549-84C6-4204-8119-1015BAF7E4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34C9-4504-43CB-9062-1125F019F2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800280"/>
            <a:ext cx="0" cy="33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244600"/>
            <a:ext cx="1337760" cy="1641240"/>
            <a:chOff x="7493040" y="2244600"/>
            <a:chExt cx="1337760" cy="1641240"/>
          </a:xfrm>
        </p:grpSpPr>
        <p:sp>
          <p:nvSpPr>
            <p:cNvPr id="76" name="Oval 9"/>
            <p:cNvSpPr/>
            <p:nvPr/>
          </p:nvSpPr>
          <p:spPr>
            <a:xfrm>
              <a:off x="749304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245772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267084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267084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267084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267084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2670840"/>
              <a:ext cx="201240" cy="150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288252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288252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309564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330876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3308760"/>
              <a:ext cx="201240" cy="150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3308760"/>
              <a:ext cx="201240" cy="150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330876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3521880"/>
              <a:ext cx="201240" cy="150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3521880"/>
              <a:ext cx="201240" cy="150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352188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352188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11464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80F-944D-4297-B56A-00A73FCFA3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8E31-5F88-4D91-90C3-3954FA0FAD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7E29-07FE-49A9-A98C-7AD17C1DC2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D015-EE03-4112-93C9-02AC6F4524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856-9997-4D0C-9AE7-71898E7A7E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E096-5657-4900-9DA3-FDC1C347FD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99F-A736-4C09-813F-96764E47E2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3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160" indent="-24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24840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58640" indent="-2685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3B11-247A-4961-AF5A-E9997314BA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groteka-rebus.r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24000" y="555120"/>
            <a:ext cx="855504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матизация поставленных звуков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 старших дошкольни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3181680" y="3067200"/>
            <a:ext cx="581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 учитель-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ДОУ д/с «Сказ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о. Котельники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акаренко Елен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250920" y="2260440"/>
            <a:ext cx="2808360" cy="2617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26560" y="87480"/>
            <a:ext cx="75438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азвитие самоконтрол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95280" y="681120"/>
            <a:ext cx="82296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ет помнить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вь вы­работанные уклады очень слабы, ребенок пользует­ся приобретенным звуком крайне нерегулярно, зачастую только на занятиях с логопе­дом. Поэтому необходим навык самоконтроля за соб­ственной речью - возможность ребенка осознавать и контролировать ситуацию,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навыков самоконтроля и скорейшему исправлению речевого дефекта способству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­ние игровой мотив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­цессе авто­матизаци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4000" y="14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азвитие самоконтрол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9280" y="572760"/>
            <a:ext cx="8498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 самоконтроля следует соблюдать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яд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правильным звукопроизношением в повседневной жизнедеятельности (на прогулке, в игре, в быт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дома один из уголков, в котором все звуки должны произноситься прави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ить ребенка перед ответом на правильное произношение с помощью инструкции: «Следи за звукам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ться предупредить ошибку в произнесении взглядом, жестом (палец вверх, показ пальцем на губы, зубы и т.д.), артикуляционной или жестовой подсказ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«в улыбке» или кисть руки внизу (звуки «С, З, Ц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«рупором» или кисть руки поднята вверх (звуки «Ш, Ж») и т.п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ь контроль на неживой объект как раздражитель нужного рефлекса: предложить повторно поделиться своими впечатлениями с любимой игрушкой, постоянно играющей роль 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раться отсрочить контроль за звуками, если ребёнок что-то эмоционально рассказывает, хочет поделиться с Вами нов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26920" y="771480"/>
            <a:ext cx="74772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спользование игровых упражнений в работе по автоматизации звуков у детей дошкольного возраст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132000" y="3219480"/>
            <a:ext cx="2664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4000" y="14112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овые упражнен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50560" y="788760"/>
            <a:ext cx="84978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ческие игровые упра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ое и отраженное название слов (предметов) по картин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ние и воспроизведение групп слов с опорой на картинки («Запомни и повтори!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слов на слоги («Телеграф», «Прошагаем слоги», «Прохлопаем слог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ударного слога «Эх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еста изучаемого звука в словах и отбор слов на звук в начале, середине, конце слова «Где спрятался звук…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 употребление родительного падежа множественного числа существительных («Один – мног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ый и прямой счет с предметами: («Весёлый счет» - 1-5, 1-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4000" y="2052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овые упражнен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50560" y="680760"/>
            <a:ext cx="84978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ческие игровые упра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едметов к притяжательным местоимениям мой, моя, моё, мои и проговаривание полученных словосочетаний («Жадина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изнаков к предметам, проговаривание полученных словосочетаний («Какой? Какая? Какое? Какие?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ействий к предметам, проговаривание полученных словосочетаний. («Что делает? Что делают?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существительных с уменьшительно-ласкательным значением («Назови ласково», «Большой-маленький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от существительных относительных прилага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едложений  по предметным картинкам с помощью вопросов, по образцу,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26560" y="87480"/>
            <a:ext cx="7543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ы для детей с СДВГ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50560" y="483840"/>
            <a:ext cx="8653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меньшее время нахождения ребёнка в статичной позе, которая способствует нараста­нию гиперактивности, призваны давать двигательную «раз­рядку» с целью улучшения у детей концентрации и устойчивости внимания, повы­шения интереса к занятия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заданий при ра­боте над звукопроизношени­ем на этапе отработки изо­лированных звуков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39480" algn="just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авив руки-«крылья», «летать на самолете» по комнате — р-р-р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39480" algn="just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здить» на маленькой иг­рушечной машине по лома­ным, спиралевидным или извилистым дорожкам раз­ной длины, нарисованным на листе бумаги, имитируя звук мотора: р-р-р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заданий при ав­томатизации звуков на уров­не слог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39480" algn="just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ние и повторение слоговых рядов в сочетании с движениями рук, тулови­ща: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перед) —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верх) —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опустить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39480" algn="just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 на пианино» (исполь­зуется картонный муляж клавиатуры). «Нажимать на клавиши» поочередно всеми пальцами правой (левой) руки и петь: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-сы-са-со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ложить сделать «песенку» грустной или ве­селой, громкой или тихо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26560" y="87480"/>
            <a:ext cx="7543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ы для детей с СДВГ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4920" y="68076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заданий при ав­томатизации звуков в слов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еребрасыванием (перекатыванием) друг дру­гу мяча («Скажи наоборот», «Сложи слово», «Вставь про­пущенный звук», «Назови детеныша»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ги»: сделать шаг вперед только при успешном выпол­нении задания (правильно повторить слово вслед за ло­гопедом, назвать лишнее сло­во и т.д.). При ошибочном ответе — шаг назад. Игра за­канчивается, когда ребенок сможет дойти до заранее ого­воренного предм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заданий при ра­боте на уровне предло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ые слова»: каждый ребенок выполняет роль оп­ределенного слова, его за­дача — занять свое место в предло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жи и покажи»: соста­вить предложение по сю­жетной картинке, а затем продемонстрировать его с по­мощью пантомимы («Сова летает по лесу. Соня пьет ананасовый сок»). Возможен вариант, когда сначала со­ставляются все предложе­ния, затем один из детей де­монстрирует пантомиму, а другой угадывает ее содер­ж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шагай предложение»: ребенок идет и произносит предложение. Каждому шагу должно соответствовать одно сл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ы для автоматизации звуков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50560" y="680760"/>
            <a:ext cx="87008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 подготовки к школе следует уделять большое внимание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ю взаимосвязей «глаз-рука-речь»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новременное движение руки, глаз и проговаривание) – ведь во время письма мы одновременно пишем, проговаривая вслух или про «себя», то, что пишем и следим за тем, что мы пишем, глаз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плане очень полезна известная игра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Я знаю пять имён…»,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ебёнок стучит мячом об пол и на каждый удар говорит по слову из стишка: «Я знаю пять имён мальчиков: Коля – раз, Петя – два, Серёжа – три, Вова – четыре, Миша – пять. Я знаю пять названий деревьев…»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гра сложная, поскольку нужно выполнять точные движения, думать и говорить одновременно, но она развивает не только межсистемные связи «глаз-рука-речь», но и обогащает словарь, учит систематизировать понят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ё можно играть одному, вдвоём, втроём и даже в значительно большем количеств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280" y="87120"/>
            <a:ext cx="80470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ы для автоматизации звуков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9280" y="555120"/>
            <a:ext cx="878544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интереса можно использовать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образные печатные и словесные дидактические игры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рчан Татьяна Александров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одаватель школы раннего развития, главный редактор УМЦ "Ребус", автор и разработчик настольных развивающих игр для дошкольников и младших школьников, направленных на развитие речи и логического мышления, изучение грамматики русского языка и матема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пособия Татьяны Барчан – многоплановые, нестандартные, интересные. Игры обладают высоким развивающим потенциалом: они активизируют логическое мышление, воображение, все виды памяти, расширяют кругозор и развивают любознатель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дошкольников служат дополнительным материалом для работы логопедов, психологов, родителей, для занятий по базовым программам в детском са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и игры способны качественно пополнить арсенал родител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нодушных к вопросам образования своих дет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0560" y="249120"/>
            <a:ext cx="85690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гры для автоматизации звуков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547640" y="789120"/>
            <a:ext cx="604872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50560" y="3785760"/>
            <a:ext cx="87138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Times New Roman"/>
                <a:ea typeface="Times New Roman"/>
                <a:hlinkClick r:id="rId1"/>
              </a:rPr>
              <a:t>http://igroteka-rebus.ru/</a:t>
            </a: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ольные игры в современном красочном исполнении для развития речи, мышления, памяти и много друг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4465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99640" y="250560"/>
            <a:ext cx="720108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50560" y="898200"/>
            <a:ext cx="8682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ая работа над звукопроизношением дели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ри этап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орики речево­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правильного про­изношения зву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и дифферен­циация звуков речи до сте­пени автоматизма в спон­танном речевом по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автоматиза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­стижение правильного произ­ношения поставленных звуков во фразов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539640" y="1168200"/>
            <a:ext cx="813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тическ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альных речевых игр и упражнений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успешному закреплению правильного звукопроизношения, что является основой для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льнейшего успешного обучения в школ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826920" y="2271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матизация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03280" y="2066760"/>
            <a:ext cx="63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55640" y="249120"/>
            <a:ext cx="7477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7640" y="788760"/>
            <a:ext cx="8713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 автоматизации зву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наиболее важным в коррекции звукопроизношения и зависит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ряда причин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речевого нарушения – сложнее звуки автоматизируются у детей–дизартриков, у детей с СДВГ (синдромом дефицита внимания и гиперактивность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стояния фонематического слуха – у детей с недостаточно сформированным фонематическим слухом и фонематическим восприятием звук дольше не вводится в самостоятельн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стояния психических процессов у ребенка – мышления, памяти, произвольного внимания, процессов произвольности – и т.о. сформированной на данный момент способности к самоконтролю и сознательному управлению своими действ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26560" y="87120"/>
            <a:ext cx="7543800" cy="69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23640" y="78876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оставленного звука должна проводиться в строгой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Автоматизация звука в слогах (прямых – са, со, су; обратных – ас, ос, ус; со стечением согласных - ста, сто, с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ение ребенком слогов и слоговых сочета­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переключаемость артикуляци­онного аппар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выработке правильных артику­ляционных уклад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фонематиче­ский слух, чувство ритма, внимание и слуховую память, умение выражать эмоции мимик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е­ние слоговых сочетаний с од­новременным движением паль­цев способствует развитию мел­кой мо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26560" y="87120"/>
            <a:ext cx="7543800" cy="69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23640" y="78876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Автоматизация звука в словах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начале слова-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та, середине - па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, конце - дят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сочетат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м сло­варя существительными, прилагательными, глаголами и нареч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м граммати­ческих категорий языка – словообразования и словоиз­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55280" y="87120"/>
            <a:ext cx="7543800" cy="69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23640" y="78876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Автоматизация звука в словосочетаниях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базой для составления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отрабатываются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едметов к действия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ействий к предмет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су­ществительного с прилага­тельным и числительным или местоиме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местоимений с существи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92160"/>
            <a:ext cx="754380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23640" y="78876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Автоматизация звука в предложениях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­рует речевую активность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коммуника­тивную функцию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­та сочетается с вве­дением в речь разных типов предложений и постепенно ус­ложняется для овладения детьми предложно-падежным управ­лением, навыками употребле­ния в речи простых и слож­ных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92160"/>
            <a:ext cx="754380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23640" y="69984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Автоматизация звука в чистоговорках, загадках и стихотворени­я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­лению звука в рифмованной ре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навыка правильного употребления па­дежных оконч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воображения, просодических компонентов речи, правильного дыхания, чувство 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овмещать эту рабо­ту с заданиям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слоговой анализ и синтез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­ние слов с заданным зву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рифм, самостоятельное придумывание стихов, инсценировкой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­вание ребусов и кроссворд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92160"/>
            <a:ext cx="754380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Автоматизация зву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23640" y="78876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Автоматизация звука в самостоятельной реч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обучение пересказу и рассказы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­ет развитию воображения и творческих способностей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43:13Z</dcterms:created>
  <dc:creator>user</dc:creator>
  <dc:description/>
  <dc:language>en-US</dc:language>
  <cp:lastModifiedBy>Виктор и Елена</cp:lastModifiedBy>
  <dcterms:modified xsi:type="dcterms:W3CDTF">2017-04-19T18:57:24Z</dcterms:modified>
  <cp:revision>395</cp:revision>
  <dc:subject/>
  <dc:title>Методика формирования</dc:title>
</cp:coreProperties>
</file>