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4909-3494-4F10-904D-3186F36A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EF1C-32D3-4E47-A8E0-4A5B8008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8771-C18E-4DFA-AE3E-EF2ACDE4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14C4-D404-40E0-9A07-827D6F50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D521-C2EC-4218-8B07-D95C3030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CFD6-640C-4475-AF7D-8F1ED7FD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3F1F-6A90-4A5A-822A-2C2536BA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D306-7C7C-4CE2-9BCE-DC22E207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CD54-6915-420B-8CC7-8A017872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7D4E-FA04-4B84-8FC6-444E0DCD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53D5-D6BD-4CB9-8167-CB931337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B353-6E45-412E-BA1D-EAE0A981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8661-2669-4ED7-AE88-4AB0D22D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1DF5-1C8F-47A1-9162-CCE8E797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E950-B6F7-4902-B562-E25BF9AC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719D-B265-47A8-BACE-06EACDD1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D2EE-D860-434B-82F7-6F1B17FC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E3DF8-9B5D-4F8F-9F16-8F8F1848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775A3-DD87-44ED-8111-5B40CFAB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17A1F-9085-4F63-8DC0-A51C0290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F8780-F090-4F93-B307-D4D6D80B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EBEF8-3D20-4445-A9B4-485A9D33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6782-1B7A-4339-9522-CB7FBBD6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0462B-1FFC-4744-A517-86D52A3F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5F1CD-9BEE-4AE9-A1B0-334A744F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2A441-0F93-4BCE-9970-8E8B2E43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6E824-3183-45A3-9F87-D1CFA835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2E8A2-6479-4DA8-BF11-D493094D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050FD-8478-4BCD-823B-B00469A6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EB5C7-F191-4058-AF9C-6E4472C4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3091-7416-432D-92A0-F8C72BF9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B7D8-4819-478E-A2EB-52A71D5F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AED1-A024-427F-BA19-B4C9C33A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5A1F-F1C0-4FA0-B2DA-26F8F8C3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0044-2536-47C0-991F-95EBCF06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3EA-A01A-496E-92ED-132C6D24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FB5C-E441-42AF-B347-6CAD452920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F322-F368-4FC3-A8F9-499B1F867F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7CCF-E1F2-4EE6-BB88-16D131C3392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1116000" y="393372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826920" y="836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3b07"/>
                </a:solidFill>
                <a:latin typeface="Arial"/>
              </a:rPr>
              <a:t>ФРАГМЕНТ   УРОКА   ГЕО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3132000" y="19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3b07"/>
                </a:solidFill>
                <a:latin typeface="Arial"/>
              </a:rPr>
              <a:t>8 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1187280" y="4292640"/>
            <a:ext cx="6985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a00"/>
                </a:solidFill>
                <a:latin typeface="Arial"/>
              </a:rPr>
              <a:t>СОСТАВИЛА    УЧИТЕЛЬ   МАТЕМАТИКИ   ПАРТИЗАНСКОЙ    СРЕДНЕЙ   ШКОЛЫ   ИМЕНИ  П. П. ПЕТРОВА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a00"/>
                </a:solidFill>
                <a:latin typeface="Arial"/>
              </a:rPr>
              <a:t>РЫЖОВА   НАТАЛЬЯ   ПЕТ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395280" y="3938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УЧАЩИЕСЯ СРЕДНИХ ВЕКОВ СЧИТАЛИ ДОКАЗАТЕЛЬСТВО  ТЕОРЕМЫ ОЧЕНЬ ТРУДНЫМ И ПРОЗВАЛИ ЕГО «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ОСЛИНЫМ МОСТОМ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» ИЛИ «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БЕГСТВОМ УБОГИХ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» ,ТАК КАК СЛАБЫЕ УЧЕНИКИ БЕЖАЛИ ОТ ГЕОМЕТРИИ. УЧАЩИЕСЯ РИСОВАЛИ ЗАБАВНЫЕ КАРИК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7" descr=""/>
          <p:cNvPicPr/>
          <p:nvPr/>
        </p:nvPicPr>
        <p:blipFill>
          <a:blip r:embed="rId1"/>
          <a:stretch/>
        </p:blipFill>
        <p:spPr>
          <a:xfrm>
            <a:off x="2556000" y="2060640"/>
            <a:ext cx="36734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468360" y="3222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ТЕОРЕМА ЗАНИМАЕТ В ГЕОМЕТРИИ ОСОБОЕ МЕСТО. НА ЕЕ ОСНОВЕ МОЖНО ВЫВЕСТИ И ДОКАЗАТЬ БОЛЬШИНСТВО ТЕОР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tretch/>
        </p:blipFill>
        <p:spPr>
          <a:xfrm>
            <a:off x="541440" y="1484280"/>
            <a:ext cx="3454200" cy="4392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572000" y="2349360"/>
            <a:ext cx="3962520" cy="35290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7"/>
          <p:cNvSpPr/>
          <p:nvPr/>
        </p:nvSpPr>
        <p:spPr>
          <a:xfrm>
            <a:off x="4572000" y="1617840"/>
            <a:ext cx="39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00"/>
                </a:solidFill>
                <a:latin typeface="Arial"/>
              </a:rPr>
              <a:t>ДРУГИЕ СПОСОБЫ         ДОКАЗАТЕЛ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395280" y="25092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А КАК В ЖИЗНИ  ПОМОГАЕТ ТЕОРЕМА ПИФАГОРА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39640" y="68256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ЗАДАЧА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ИНДИЙСКОГО МАТЕМАТИКА 12 ВЕКА  БХАСКА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0" y="1844640"/>
            <a:ext cx="611964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ад озером тих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 полфута размером  высился лотоса ц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н рос одиноко. И ветер поры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тнес его в сторо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т более цветка над в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ашел же рыбак его ранней ве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 двух футах от места, где р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так, предложу я вопр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ак озера вода здесь глубока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9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867280" y="1484280"/>
            <a:ext cx="2745000" cy="2016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1"/>
          <p:cNvSpPr/>
          <p:nvPr/>
        </p:nvSpPr>
        <p:spPr>
          <a:xfrm>
            <a:off x="5219640" y="371628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Решение.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4643280" y="4292640"/>
            <a:ext cx="450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7"/>
          <p:cNvSpPr/>
          <p:nvPr/>
        </p:nvSpPr>
        <p:spPr>
          <a:xfrm>
            <a:off x="4211640" y="4221000"/>
            <a:ext cx="4932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2"/>
          <p:cNvSpPr/>
          <p:nvPr/>
        </p:nvSpPr>
        <p:spPr>
          <a:xfrm>
            <a:off x="4500720" y="414972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Треугольник АВС - прямоуго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3"/>
          <p:cNvSpPr/>
          <p:nvPr/>
        </p:nvSpPr>
        <p:spPr>
          <a:xfrm>
            <a:off x="4643280" y="4581360"/>
            <a:ext cx="42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АВ=АС+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5"/>
          <p:cNvSpPr/>
          <p:nvPr/>
        </p:nvSpPr>
        <p:spPr>
          <a:xfrm>
            <a:off x="4500720" y="4941720"/>
            <a:ext cx="439236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о теореме Пифаг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АВ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 =АС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+ СВ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,(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АС+1/2)=АС+2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6"/>
          <p:cNvSpPr/>
          <p:nvPr/>
        </p:nvSpPr>
        <p:spPr>
          <a:xfrm>
            <a:off x="5183280" y="5877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АС=3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¾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фу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7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4"/>
          <p:cNvSpPr/>
          <p:nvPr/>
        </p:nvSpPr>
        <p:spPr>
          <a:xfrm>
            <a:off x="324000" y="1890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Задача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24000" y="549360"/>
            <a:ext cx="849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Этот эпизод из реальной следственной практики. Получив сообщение о краже, следователь выехал на  место происшествия. Потерпевший заявил, что грабитель проник в дом через ок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9"/>
          <p:cNvSpPr/>
          <p:nvPr/>
        </p:nvSpPr>
        <p:spPr>
          <a:xfrm>
            <a:off x="468360" y="4005360"/>
            <a:ext cx="0" cy="158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0"/>
          <p:cNvSpPr/>
          <p:nvPr/>
        </p:nvSpPr>
        <p:spPr>
          <a:xfrm>
            <a:off x="1476360" y="2781360"/>
            <a:ext cx="0" cy="1655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2"/>
          <p:cNvSpPr/>
          <p:nvPr/>
        </p:nvSpPr>
        <p:spPr>
          <a:xfrm flipV="1">
            <a:off x="468360" y="2781360"/>
            <a:ext cx="1008000" cy="122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3"/>
          <p:cNvSpPr/>
          <p:nvPr/>
        </p:nvSpPr>
        <p:spPr>
          <a:xfrm flipV="1">
            <a:off x="468360" y="4437000"/>
            <a:ext cx="1008000" cy="1152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6"/>
          <p:cNvSpPr/>
          <p:nvPr/>
        </p:nvSpPr>
        <p:spPr>
          <a:xfrm flipH="1">
            <a:off x="178920" y="5589720"/>
            <a:ext cx="289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0"/>
          <p:cNvSpPr/>
          <p:nvPr/>
        </p:nvSpPr>
        <p:spPr>
          <a:xfrm flipH="1" flipV="1">
            <a:off x="755640" y="2204640"/>
            <a:ext cx="720720" cy="57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3"/>
          <p:cNvSpPr/>
          <p:nvPr/>
        </p:nvSpPr>
        <p:spPr>
          <a:xfrm flipH="1" flipV="1">
            <a:off x="178920" y="3789360"/>
            <a:ext cx="289080" cy="216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4"/>
          <p:cNvSpPr/>
          <p:nvPr/>
        </p:nvSpPr>
        <p:spPr>
          <a:xfrm flipH="1">
            <a:off x="178920" y="4005360"/>
            <a:ext cx="289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5"/>
          <p:cNvSpPr/>
          <p:nvPr/>
        </p:nvSpPr>
        <p:spPr>
          <a:xfrm>
            <a:off x="1476360" y="4437000"/>
            <a:ext cx="1150920" cy="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6"/>
          <p:cNvSpPr/>
          <p:nvPr/>
        </p:nvSpPr>
        <p:spPr>
          <a:xfrm>
            <a:off x="468360" y="5589720"/>
            <a:ext cx="1224000" cy="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7"/>
          <p:cNvSpPr/>
          <p:nvPr/>
        </p:nvSpPr>
        <p:spPr>
          <a:xfrm flipV="1">
            <a:off x="1692360" y="4437000"/>
            <a:ext cx="934920" cy="115272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8"/>
          <p:cNvSpPr/>
          <p:nvPr/>
        </p:nvSpPr>
        <p:spPr>
          <a:xfrm flipV="1">
            <a:off x="2627280" y="4221000"/>
            <a:ext cx="0" cy="21600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0"/>
          <p:cNvSpPr/>
          <p:nvPr/>
        </p:nvSpPr>
        <p:spPr>
          <a:xfrm flipV="1">
            <a:off x="1692360" y="5300280"/>
            <a:ext cx="0" cy="28908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3"/>
          <p:cNvSpPr/>
          <p:nvPr/>
        </p:nvSpPr>
        <p:spPr>
          <a:xfrm flipV="1">
            <a:off x="1692360" y="4220640"/>
            <a:ext cx="934920" cy="107964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4"/>
          <p:cNvSpPr/>
          <p:nvPr/>
        </p:nvSpPr>
        <p:spPr>
          <a:xfrm flipH="1">
            <a:off x="1476000" y="4221000"/>
            <a:ext cx="1150920" cy="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7"/>
          <p:cNvSpPr/>
          <p:nvPr/>
        </p:nvSpPr>
        <p:spPr>
          <a:xfrm flipH="1">
            <a:off x="468360" y="5300640"/>
            <a:ext cx="1224000" cy="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8"/>
          <p:cNvSpPr/>
          <p:nvPr/>
        </p:nvSpPr>
        <p:spPr>
          <a:xfrm flipH="1" flipV="1">
            <a:off x="250920" y="1773000"/>
            <a:ext cx="504720" cy="431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5"/>
          <p:cNvSpPr/>
          <p:nvPr/>
        </p:nvSpPr>
        <p:spPr>
          <a:xfrm flipH="1">
            <a:off x="755280" y="3357720"/>
            <a:ext cx="431640" cy="5029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6"/>
          <p:cNvSpPr/>
          <p:nvPr/>
        </p:nvSpPr>
        <p:spPr>
          <a:xfrm>
            <a:off x="755640" y="3860640"/>
            <a:ext cx="0" cy="5050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58"/>
          <p:cNvSpPr/>
          <p:nvPr/>
        </p:nvSpPr>
        <p:spPr>
          <a:xfrm>
            <a:off x="1187280" y="3357720"/>
            <a:ext cx="0" cy="5029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9"/>
          <p:cNvSpPr/>
          <p:nvPr/>
        </p:nvSpPr>
        <p:spPr>
          <a:xfrm flipH="1">
            <a:off x="755280" y="3860640"/>
            <a:ext cx="431640" cy="5050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62"/>
          <p:cNvSpPr/>
          <p:nvPr/>
        </p:nvSpPr>
        <p:spPr>
          <a:xfrm>
            <a:off x="971640" y="3645000"/>
            <a:ext cx="0" cy="4316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64"/>
          <p:cNvSpPr/>
          <p:nvPr/>
        </p:nvSpPr>
        <p:spPr>
          <a:xfrm flipV="1">
            <a:off x="755640" y="3645000"/>
            <a:ext cx="431640" cy="5047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65"/>
          <p:cNvSpPr/>
          <p:nvPr/>
        </p:nvSpPr>
        <p:spPr>
          <a:xfrm>
            <a:off x="971640" y="4076640"/>
            <a:ext cx="0" cy="9367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66"/>
          <p:cNvSpPr/>
          <p:nvPr/>
        </p:nvSpPr>
        <p:spPr>
          <a:xfrm>
            <a:off x="971640" y="5013360"/>
            <a:ext cx="115236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67"/>
          <p:cNvSpPr/>
          <p:nvPr/>
        </p:nvSpPr>
        <p:spPr>
          <a:xfrm>
            <a:off x="971640" y="4076640"/>
            <a:ext cx="1152360" cy="9367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9"/>
          <p:cNvSpPr/>
          <p:nvPr/>
        </p:nvSpPr>
        <p:spPr>
          <a:xfrm>
            <a:off x="468360" y="4508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,2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0"/>
          <p:cNvSpPr/>
          <p:nvPr/>
        </p:nvSpPr>
        <p:spPr>
          <a:xfrm>
            <a:off x="1116000" y="501336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,8 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1"/>
          <p:cNvSpPr/>
          <p:nvPr/>
        </p:nvSpPr>
        <p:spPr>
          <a:xfrm>
            <a:off x="169236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2"/>
          <p:cNvSpPr/>
          <p:nvPr/>
        </p:nvSpPr>
        <p:spPr>
          <a:xfrm>
            <a:off x="3419640" y="213372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0066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= 1,2</a:t>
            </a:r>
            <a:r>
              <a:rPr b="1" lang="ru-RU" sz="2400" spc="-1" strike="noStrike" baseline="30000">
                <a:solidFill>
                  <a:srgbClr val="0066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+ 1,8</a:t>
            </a:r>
            <a:r>
              <a:rPr b="1" lang="ru-RU" sz="24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4"/>
          <p:cNvSpPr/>
          <p:nvPr/>
        </p:nvSpPr>
        <p:spPr>
          <a:xfrm>
            <a:off x="6227640" y="220500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= 1,44 + 3,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8"/>
          <p:cNvSpPr/>
          <p:nvPr/>
        </p:nvSpPr>
        <p:spPr>
          <a:xfrm>
            <a:off x="3492360" y="2852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= 4, 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89"/>
          <p:cNvSpPr/>
          <p:nvPr/>
        </p:nvSpPr>
        <p:spPr>
          <a:xfrm>
            <a:off x="5435640" y="285264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93"/>
          <p:cNvSpPr/>
          <p:nvPr/>
        </p:nvSpPr>
        <p:spPr>
          <a:xfrm>
            <a:off x="3276720" y="3645000"/>
            <a:ext cx="5543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опрос 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ак можно преодолеть это расстояние без какого-либо средства, например лестницы. Поиски этих средств не увенчались успехом. И тогда следователь выдвинул версию «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Может это инсценировка ограбления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».В ходе дальнейшего расследования эта версия подтвердилась. Так школьная геометрия помогла следств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94"/>
              <p:cNvSpPr txBox="1"/>
              <p:nvPr/>
            </p:nvSpPr>
            <p:spPr>
              <a:xfrm>
                <a:off x="5796000" y="2924280"/>
                <a:ext cx="2887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3" name="Text Box 95"/>
          <p:cNvSpPr/>
          <p:nvPr/>
        </p:nvSpPr>
        <p:spPr>
          <a:xfrm>
            <a:off x="6156360" y="285264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2,1 (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395280" y="1474920"/>
            <a:ext cx="7848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1  Когда жил греческий ученый Пифагор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Около 2,5 тысяч лет назад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Около 550 лет наза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Около 2,5 миллионов лет назад             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ТВЕТ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539640" y="2565360"/>
            <a:ext cx="5759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539640" y="3994200"/>
            <a:ext cx="77043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2 Что принес в жертву Пифагор в честь своего открытия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100 к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100 баранов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100 быков                                                 ОТВЕТ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4"/>
          <p:cNvSpPr/>
          <p:nvPr/>
        </p:nvSpPr>
        <p:spPr>
          <a:xfrm>
            <a:off x="611280" y="1268280"/>
            <a:ext cx="7705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3 Как звучала теорема во времена Пифагора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В прямоугольном треугольнике квадрат гипотенузы равен сумме квадратов кат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лощадь квадрата построенного на гипотенузе прямоугольного треугольника, равна сумме площадей квадратов, построенных на его кате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ифагоровы штаны во все стороны равн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4788000" y="4508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4"/>
          <p:cNvSpPr/>
          <p:nvPr/>
        </p:nvSpPr>
        <p:spPr>
          <a:xfrm>
            <a:off x="826920" y="476280"/>
            <a:ext cx="7632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4 Сколько новых доказательств теоремы вы узнали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2                                                         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ТВЕТ1  ОТВЕТ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900000" y="3429000"/>
            <a:ext cx="7201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5 Сколько всего доказательств теоремы Пифагора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Около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Около 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Около 9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4"/>
          <p:cNvSpPr/>
          <p:nvPr/>
        </p:nvSpPr>
        <p:spPr>
          <a:xfrm>
            <a:off x="539640" y="476280"/>
            <a:ext cx="792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Мы должны быть благодарны Истории человечества, которая не только подарила миру таких людей как Пифагор, Евклид, Архимед, но и сохранила память о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971640" y="6093000"/>
            <a:ext cx="75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Рафаэ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Афинская шко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7" descr="img395"/>
          <p:cNvPicPr/>
          <p:nvPr/>
        </p:nvPicPr>
        <p:blipFill>
          <a:blip r:embed="rId1"/>
          <a:stretch/>
        </p:blipFill>
        <p:spPr>
          <a:xfrm>
            <a:off x="1476360" y="1773360"/>
            <a:ext cx="627552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640" y="191592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13b07"/>
                </a:solidFill>
                <a:latin typeface="Arial Black"/>
              </a:rPr>
              <a:t>ТЕОРЕМА  ПИФАГОРА</a:t>
            </a:r>
            <a:br>
              <a:rPr sz="4000"/>
            </a:b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2987640" y="3716280"/>
            <a:ext cx="3240000" cy="28814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1116000" y="393372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ЦЕЛИ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971640" y="2349360"/>
            <a:ext cx="67672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ОЗНАКОМИТЬСЯ  С  НОВЫМИ  СПОСОБАМИ  ДОКАЗ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УВИДЕТЬ  ВОЗМОЖНОСТЬ  ПРИМЕНЕНИЯ  ТЕОРЕМЫ  НА  ПРАКТ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РАСШИРИТЬ  СВОЙ  КРУГОЗ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13b07"/>
                </a:solidFill>
                <a:latin typeface="Arial"/>
              </a:rPr>
              <a:t>ПИФАГ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ЗНАМЕНИТЫЙ  ГРЕЧЕСКИЙ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 ФИЛОСОФ  И  МАТЕМАТИК  ПИФАГОР  РОДОМ  ИЗ  САМОСА  ЖИЛ ОКОЛО  2,5 ТЫСЯЧ  ЛЕТ  ТОМУ  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МНОГО  ПУТЕШЕСТВОВАЛ,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 БЫЛ  В  ИНДИИ , ЕГИПТЕ,  ВАВИЛОНЕ,  ИЗУЧАЯ  КУЛЬТУРУ  И  ДОСТИЖЕНИЯ  НАУКИ  РАЗНЫХ  СТ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С  ЕГО  ИМЕНЕМ  СВЯЗАНО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 МНОГО  ЛЕГЕНД.  В  ЧЕСТЬ  СВОЕГО  ОТКРЫТИЯ  ОН  ПРИНЕС  В  ЖЕРТВУ  СТО  БЫКО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"/>
          <p:cNvPicPr/>
          <p:nvPr/>
        </p:nvPicPr>
        <p:blipFill>
          <a:blip r:embed="rId1"/>
          <a:srcRect l="2401" t="1865" r="10089" b="3789"/>
          <a:stretch/>
        </p:blipFill>
        <p:spPr>
          <a:xfrm>
            <a:off x="755640" y="1628640"/>
            <a:ext cx="2951280" cy="41054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0"/>
          <p:cNvSpPr/>
          <p:nvPr/>
        </p:nvSpPr>
        <p:spPr>
          <a:xfrm>
            <a:off x="900000" y="623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"/>
                <a:hlinkClick r:id="rId2" action="ppaction://hlinksldjump"/>
              </a:rPr>
              <a:t>ДО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13b07"/>
                </a:solidFill>
                <a:latin typeface="Arial"/>
              </a:rPr>
              <a:t>ЛЕГЕН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7280" y="148428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663300"/>
                </a:solidFill>
                <a:latin typeface="Arial"/>
              </a:rPr>
              <a:t>Пребудет  вечной истина , как скоро.                                             Все познает слабый человек 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Arial"/>
              </a:rPr>
              <a:t>И ныне теорема Пифагор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Arial"/>
              </a:rPr>
              <a:t>Верна , как и в его далекий век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Arial"/>
              </a:rPr>
              <a:t>Обильно было жертвоприношень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Arial"/>
              </a:rPr>
              <a:t>Богам от Пифагора. Сто  бык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Arial"/>
              </a:rPr>
              <a:t>Он отдал на закланье и сожжень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Arial"/>
              </a:rPr>
              <a:t>За свет луча, пришедший с облак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Arial"/>
              </a:rPr>
              <a:t>Поэтому всегда с тех самых пор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Arial"/>
              </a:rPr>
              <a:t>Чуть истина рождается на све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Arial"/>
              </a:rPr>
              <a:t>Быки ревут , ее почуя , вслед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Arial"/>
              </a:rPr>
              <a:t>От страха , что вселил в них Пифагор 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3300"/>
                </a:solidFill>
                <a:uFillTx/>
                <a:latin typeface="Arial"/>
                <a:hlinkClick r:id="rId1" action="ppaction://hlinksldjump"/>
              </a:rPr>
              <a:t>ДОМОЙ</a:t>
            </a:r>
            <a:r>
              <a:rPr b="1" lang="ru-RU" sz="16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3" descr="Рисунок4"/>
          <p:cNvPicPr/>
          <p:nvPr/>
        </p:nvPicPr>
        <p:blipFill>
          <a:blip r:embed="rId2"/>
          <a:stretch/>
        </p:blipFill>
        <p:spPr>
          <a:xfrm>
            <a:off x="5796000" y="1628640"/>
            <a:ext cx="2808360" cy="1952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Рисунок1"/>
          <p:cNvPicPr/>
          <p:nvPr/>
        </p:nvPicPr>
        <p:blipFill>
          <a:blip r:embed="rId3"/>
          <a:stretch/>
        </p:blipFill>
        <p:spPr>
          <a:xfrm>
            <a:off x="5867280" y="3789360"/>
            <a:ext cx="2808360" cy="18781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5"/>
          <p:cNvSpPr/>
          <p:nvPr/>
        </p:nvSpPr>
        <p:spPr>
          <a:xfrm>
            <a:off x="900000" y="537372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А.Шамис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0" descr=""/>
          <p:cNvPicPr/>
          <p:nvPr/>
        </p:nvPicPr>
        <p:blipFill>
          <a:blip r:embed="rId1"/>
          <a:stretch/>
        </p:blipFill>
        <p:spPr>
          <a:xfrm>
            <a:off x="1763640" y="404640"/>
            <a:ext cx="5329440" cy="2565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3"/>
          <p:cNvSpPr/>
          <p:nvPr/>
        </p:nvSpPr>
        <p:spPr>
          <a:xfrm>
            <a:off x="395280" y="3500280"/>
            <a:ext cx="85694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читалось,что до Пифагора  теорема не была извест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Еще за 1200 лет  до Пифагора она встречалась в вавилонских текстах , была известна и древним китайцам, и индусам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Таким образом Пифагор не открыл это свойство , а впервые доказал 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И с глубокой древности математики находят все новые и новые доказательства теоремы  Пифагора. И теперь их около 150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1258920" y="623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ДО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684360" y="1773000"/>
          <a:ext cx="4572000" cy="4170600"/>
        </p:xfrm>
        <a:graphic>
          <a:graphicData uri="http://schemas.openxmlformats.org/drawingml/2006/table">
            <a:tbl>
              <a:tblPr/>
              <a:tblGrid>
                <a:gridCol w="1523880"/>
                <a:gridCol w="1500120"/>
                <a:gridCol w="1548000"/>
              </a:tblGrid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cc33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 Box 212"/>
          <p:cNvSpPr/>
          <p:nvPr/>
        </p:nvSpPr>
        <p:spPr>
          <a:xfrm>
            <a:off x="395280" y="260280"/>
            <a:ext cx="835344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ВО ВРЕМЕНА ПИФАГОРА ТЕОРЕМА ЗВУЧАЛА ТАК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13b07"/>
                </a:solidFill>
                <a:latin typeface="Arial"/>
              </a:rPr>
              <a:t>ПЛОЩАДЬ КВАДРАТА, ПОСТРОЕННОГО НА ГИПОТЕНУЗЕ ПРЯМОУГОЛЬНОГО ТРЕУГОЛЬНИКА , РАВНА СУММЕ ПЛОЩАДЕЙ КВАДРАТОВ , ПОСТРОЕННЫХ НА ЕГО КАТЕ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14"/>
          <p:cNvSpPr/>
          <p:nvPr/>
        </p:nvSpPr>
        <p:spPr>
          <a:xfrm>
            <a:off x="5435640" y="162864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С</a:t>
            </a:r>
            <a:r>
              <a:rPr b="1" lang="ru-RU" sz="2800" spc="-1" strike="noStrike" baseline="30000">
                <a:solidFill>
                  <a:srgbClr val="336600"/>
                </a:solidFill>
                <a:latin typeface="Arial"/>
              </a:rPr>
              <a:t>2</a:t>
            </a:r>
            <a:r>
              <a:rPr b="1" lang="ru-RU" sz="1800" spc="-1" strike="noStrike" baseline="30000">
                <a:solidFill>
                  <a:srgbClr val="3366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=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а</a:t>
            </a:r>
            <a:r>
              <a:rPr b="1" lang="ru-RU" sz="2800" spc="-1" strike="noStrike" baseline="30000">
                <a:solidFill>
                  <a:srgbClr val="3366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 + а</a:t>
            </a:r>
            <a:r>
              <a:rPr b="1" lang="ru-RU" sz="2800" spc="-1" strike="noStrike" baseline="30000">
                <a:solidFill>
                  <a:srgbClr val="3366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15"/>
          <p:cNvSpPr/>
          <p:nvPr/>
        </p:nvSpPr>
        <p:spPr>
          <a:xfrm>
            <a:off x="5364000" y="1955880"/>
            <a:ext cx="378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--Посмотрите на квадрат построенного на гипотену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13b07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8"/>
          <p:cNvSpPr/>
          <p:nvPr/>
        </p:nvSpPr>
        <p:spPr>
          <a:xfrm>
            <a:off x="5435640" y="2565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--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Из чего он состоит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19"/>
          <p:cNvSpPr/>
          <p:nvPr/>
        </p:nvSpPr>
        <p:spPr>
          <a:xfrm>
            <a:off x="5435640" y="2997360"/>
            <a:ext cx="3529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--Посмотрите на квадраты построенные на катет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20"/>
          <p:cNvSpPr/>
          <p:nvPr/>
        </p:nvSpPr>
        <p:spPr>
          <a:xfrm>
            <a:off x="5435640" y="3645000"/>
            <a:ext cx="2808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--Из чего состоят квадра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21"/>
          <p:cNvSpPr/>
          <p:nvPr/>
        </p:nvSpPr>
        <p:spPr>
          <a:xfrm>
            <a:off x="5508720" y="4221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--Какие это треугольники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22"/>
          <p:cNvSpPr/>
          <p:nvPr/>
        </p:nvSpPr>
        <p:spPr>
          <a:xfrm>
            <a:off x="5435640" y="4653000"/>
            <a:ext cx="35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13b07"/>
                </a:solidFill>
                <a:latin typeface="Arial"/>
              </a:rPr>
              <a:t>Квадрат построенный на гипотенузе состоит из 4 треугольников. А квадраты построенные на катетах состоят из 2 треуг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24"/>
          <p:cNvSpPr/>
          <p:nvPr/>
        </p:nvSpPr>
        <p:spPr>
          <a:xfrm>
            <a:off x="755640" y="6308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О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684360" y="1773000"/>
          <a:ext cx="4572000" cy="41706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</a:tblGrid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cc33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AutoShape 34"/>
          <p:cNvSpPr/>
          <p:nvPr/>
        </p:nvSpPr>
        <p:spPr>
          <a:xfrm rot="1675200">
            <a:off x="4500360" y="1773360"/>
            <a:ext cx="718920" cy="792000"/>
          </a:xfrm>
          <a:prstGeom prst="smileyFace">
            <a:avLst>
              <a:gd name="adj" fmla="val 9282"/>
            </a:avLst>
          </a:prstGeom>
          <a:solidFill>
            <a:srgbClr val="ffdb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35"/>
          <p:cNvGrpSpPr/>
          <p:nvPr/>
        </p:nvGrpSpPr>
        <p:grpSpPr>
          <a:xfrm>
            <a:off x="179280" y="3141720"/>
            <a:ext cx="3740400" cy="3519360"/>
            <a:chOff x="179280" y="3141720"/>
            <a:chExt cx="3740400" cy="3519360"/>
          </a:xfrm>
        </p:grpSpPr>
        <p:sp>
          <p:nvSpPr>
            <p:cNvPr id="176" name="AutoShape 36"/>
            <p:cNvSpPr/>
            <p:nvPr/>
          </p:nvSpPr>
          <p:spPr>
            <a:xfrm>
              <a:off x="3348000" y="6308640"/>
              <a:ext cx="571680" cy="352440"/>
            </a:xfrm>
            <a:prstGeom prst="borderCallout2">
              <a:avLst>
                <a:gd name="adj1" fmla="val 18750"/>
                <a:gd name="adj2" fmla="val -8333"/>
                <a:gd name="adj3" fmla="val 32430"/>
                <a:gd name="adj4" fmla="val -34166"/>
                <a:gd name="adj5" fmla="val -101800"/>
                <a:gd name="adj6" fmla="val -75555"/>
              </a:avLst>
            </a:prstGeom>
            <a:solidFill>
              <a:srgbClr val="9966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37"/>
            <p:cNvGrpSpPr/>
            <p:nvPr/>
          </p:nvGrpSpPr>
          <p:grpSpPr>
            <a:xfrm>
              <a:off x="179280" y="3141720"/>
              <a:ext cx="505080" cy="718920"/>
              <a:chOff x="179280" y="3141720"/>
              <a:chExt cx="505080" cy="718920"/>
            </a:xfrm>
          </p:grpSpPr>
          <p:sp>
            <p:nvSpPr>
              <p:cNvPr id="178" name="Line 38"/>
              <p:cNvSpPr/>
              <p:nvPr/>
            </p:nvSpPr>
            <p:spPr>
              <a:xfrm flipH="1">
                <a:off x="250920" y="3860640"/>
                <a:ext cx="4334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39"/>
              <p:cNvSpPr/>
              <p:nvPr/>
            </p:nvSpPr>
            <p:spPr>
              <a:xfrm flipV="1">
                <a:off x="250920" y="3644640"/>
                <a:ext cx="0" cy="2156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40"/>
              <p:cNvSpPr/>
              <p:nvPr/>
            </p:nvSpPr>
            <p:spPr>
              <a:xfrm>
                <a:off x="179280" y="3141720"/>
                <a:ext cx="360360" cy="503280"/>
              </a:xfrm>
              <a:prstGeom prst="rect">
                <a:avLst/>
              </a:prstGeom>
              <a:solidFill>
                <a:srgbClr val="99660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Group 41"/>
          <p:cNvGrpSpPr/>
          <p:nvPr/>
        </p:nvGrpSpPr>
        <p:grpSpPr>
          <a:xfrm>
            <a:off x="2124000" y="1773360"/>
            <a:ext cx="3168720" cy="2663640"/>
            <a:chOff x="2124000" y="1773360"/>
            <a:chExt cx="3168720" cy="2663640"/>
          </a:xfrm>
        </p:grpSpPr>
        <p:sp>
          <p:nvSpPr>
            <p:cNvPr id="182" name="Line 42"/>
            <p:cNvSpPr/>
            <p:nvPr/>
          </p:nvSpPr>
          <p:spPr>
            <a:xfrm flipH="1">
              <a:off x="4859280" y="3141720"/>
              <a:ext cx="433440" cy="107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43"/>
            <p:cNvGrpSpPr/>
            <p:nvPr/>
          </p:nvGrpSpPr>
          <p:grpSpPr>
            <a:xfrm>
              <a:off x="4572000" y="4149720"/>
              <a:ext cx="431640" cy="287280"/>
              <a:chOff x="4572000" y="4149720"/>
              <a:chExt cx="431640" cy="287280"/>
            </a:xfrm>
          </p:grpSpPr>
          <p:sp>
            <p:nvSpPr>
              <p:cNvPr id="184" name="Line 44"/>
              <p:cNvSpPr/>
              <p:nvPr/>
            </p:nvSpPr>
            <p:spPr>
              <a:xfrm flipH="1">
                <a:off x="4572000" y="4149720"/>
                <a:ext cx="28728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45"/>
              <p:cNvSpPr/>
              <p:nvPr/>
            </p:nvSpPr>
            <p:spPr>
              <a:xfrm flipH="1">
                <a:off x="4788000" y="4149720"/>
                <a:ext cx="71280" cy="21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46"/>
              <p:cNvSpPr/>
              <p:nvPr/>
            </p:nvSpPr>
            <p:spPr>
              <a:xfrm>
                <a:off x="4859280" y="4149720"/>
                <a:ext cx="14436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47"/>
            <p:cNvGrpSpPr/>
            <p:nvPr/>
          </p:nvGrpSpPr>
          <p:grpSpPr>
            <a:xfrm>
              <a:off x="2124000" y="1773360"/>
              <a:ext cx="1584000" cy="759600"/>
              <a:chOff x="2124000" y="1773360"/>
              <a:chExt cx="1584000" cy="759600"/>
            </a:xfrm>
          </p:grpSpPr>
          <p:sp>
            <p:nvSpPr>
              <p:cNvPr id="188" name="Line 48"/>
              <p:cNvSpPr/>
              <p:nvPr/>
            </p:nvSpPr>
            <p:spPr>
              <a:xfrm flipH="1">
                <a:off x="2410920" y="1773360"/>
                <a:ext cx="129708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Group 49"/>
              <p:cNvGrpSpPr/>
              <p:nvPr/>
            </p:nvGrpSpPr>
            <p:grpSpPr>
              <a:xfrm>
                <a:off x="2124000" y="2115360"/>
                <a:ext cx="298440" cy="417600"/>
                <a:chOff x="2124000" y="2115360"/>
                <a:chExt cx="298440" cy="417600"/>
              </a:xfrm>
            </p:grpSpPr>
            <p:sp>
              <p:nvSpPr>
                <p:cNvPr id="190" name="Line 50"/>
                <p:cNvSpPr/>
                <p:nvPr/>
              </p:nvSpPr>
              <p:spPr>
                <a:xfrm flipH="1" flipV="1">
                  <a:off x="2124000" y="2115360"/>
                  <a:ext cx="298440" cy="11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Line 51"/>
                <p:cNvSpPr/>
                <p:nvPr/>
              </p:nvSpPr>
              <p:spPr>
                <a:xfrm flipH="1">
                  <a:off x="2214000" y="2233440"/>
                  <a:ext cx="208440" cy="9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52"/>
                <p:cNvSpPr/>
                <p:nvPr/>
              </p:nvSpPr>
              <p:spPr>
                <a:xfrm flipH="1">
                  <a:off x="2305440" y="2233440"/>
                  <a:ext cx="117000" cy="299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3" name="Text Box 53"/>
          <p:cNvSpPr/>
          <p:nvPr/>
        </p:nvSpPr>
        <p:spPr>
          <a:xfrm>
            <a:off x="324000" y="54936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13b07"/>
                </a:solidFill>
                <a:latin typeface="Arial"/>
              </a:rPr>
              <a:t>ПЛОЩАДЬ КВАДРАТА ПОСТРОЕННОГО НА ГИПОТЕНУЗЕ ПРЯМОУГОЛЬНОГО ТРЕУГОЛЬНИКА , РАВНА СУММЕ ПЛОЩАДЕЙ КВАДРАТОВ , ПОСТРОЕННЫХ НА ЕГО КАТЕ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5"/>
          <p:cNvSpPr/>
          <p:nvPr/>
        </p:nvSpPr>
        <p:spPr>
          <a:xfrm>
            <a:off x="5364000" y="1955880"/>
            <a:ext cx="37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ЭТОТ МЕТОД ДОКАЗАТЕЛЬСТВА ОСНОВАН НА ПОНЯТИИ РАВНОВЕЛИКИХ ФИГ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7"/>
          <p:cNvSpPr/>
          <p:nvPr/>
        </p:nvSpPr>
        <p:spPr>
          <a:xfrm>
            <a:off x="324000" y="26028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ВЫВОД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9"/>
          <p:cNvSpPr/>
          <p:nvPr/>
        </p:nvSpPr>
        <p:spPr>
          <a:xfrm>
            <a:off x="5435640" y="4076640"/>
            <a:ext cx="309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ОТСЮДА ПОЯВИЛОСЬ  «КРЫЛАТОЕ» ВЫРА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9900ff"/>
                </a:solidFill>
                <a:latin typeface="Arial"/>
              </a:rPr>
              <a:t>ПИФАГОРОВЫ  ШТАНЫ  ВО  ВСЕ СТОРОНЫ   РАВНЫ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»</a:t>
            </a:r>
            <a:r>
              <a:rPr b="1" lang="ru-RU" sz="1800" spc="-1" strike="noStrike">
                <a:solidFill>
                  <a:srgbClr val="9900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0"/>
          <p:cNvSpPr/>
          <p:nvPr/>
        </p:nvSpPr>
        <p:spPr>
          <a:xfrm>
            <a:off x="4788000" y="62373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О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3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8"/>
          <p:cNvSpPr/>
          <p:nvPr/>
        </p:nvSpPr>
        <p:spPr>
          <a:xfrm>
            <a:off x="324000" y="260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Этот способ доказательства требует знания площадей прямоугольника, прямоугольного треугольника, квадрата и основан на перестановке фиг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"/>
          <p:cNvSpPr/>
          <p:nvPr/>
        </p:nvSpPr>
        <p:spPr>
          <a:xfrm>
            <a:off x="468360" y="1700280"/>
            <a:ext cx="1079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5"/>
          <p:cNvSpPr/>
          <p:nvPr/>
        </p:nvSpPr>
        <p:spPr>
          <a:xfrm>
            <a:off x="468360" y="1700280"/>
            <a:ext cx="0" cy="1512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6"/>
          <p:cNvSpPr/>
          <p:nvPr/>
        </p:nvSpPr>
        <p:spPr>
          <a:xfrm>
            <a:off x="1547640" y="1700280"/>
            <a:ext cx="0" cy="1512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7"/>
          <p:cNvSpPr/>
          <p:nvPr/>
        </p:nvSpPr>
        <p:spPr>
          <a:xfrm>
            <a:off x="468360" y="3213000"/>
            <a:ext cx="1079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8"/>
          <p:cNvSpPr/>
          <p:nvPr/>
        </p:nvSpPr>
        <p:spPr>
          <a:xfrm>
            <a:off x="1619280" y="227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826920" y="335772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1"/>
          <p:cNvSpPr/>
          <p:nvPr/>
        </p:nvSpPr>
        <p:spPr>
          <a:xfrm>
            <a:off x="684360" y="321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2"/>
          <p:cNvSpPr/>
          <p:nvPr/>
        </p:nvSpPr>
        <p:spPr>
          <a:xfrm>
            <a:off x="1908000" y="148428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Как с помощью прямоугольника вывести формулу для вы-числения площади прямоугольного треугольника ?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3"/>
          <p:cNvSpPr/>
          <p:nvPr/>
        </p:nvSpPr>
        <p:spPr>
          <a:xfrm>
            <a:off x="468360" y="1700280"/>
            <a:ext cx="1079280" cy="1512720"/>
          </a:xfrm>
          <a:prstGeom prst="line">
            <a:avLst/>
          </a:prstGeom>
          <a:ln w="255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4"/>
          <p:cNvSpPr/>
          <p:nvPr/>
        </p:nvSpPr>
        <p:spPr>
          <a:xfrm>
            <a:off x="1943280" y="26370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Такое рассуждение предложили древние индусы и сопровождали чертеж одним словом  «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СМОТРИ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!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8"/>
          <p:cNvSpPr/>
          <p:nvPr/>
        </p:nvSpPr>
        <p:spPr>
          <a:xfrm>
            <a:off x="5940360" y="3716280"/>
            <a:ext cx="2519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1"/>
          <p:cNvSpPr/>
          <p:nvPr/>
        </p:nvSpPr>
        <p:spPr>
          <a:xfrm>
            <a:off x="5940360" y="3716280"/>
            <a:ext cx="0" cy="25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3"/>
          <p:cNvSpPr/>
          <p:nvPr/>
        </p:nvSpPr>
        <p:spPr>
          <a:xfrm>
            <a:off x="8459640" y="3716280"/>
            <a:ext cx="0" cy="25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4"/>
          <p:cNvSpPr/>
          <p:nvPr/>
        </p:nvSpPr>
        <p:spPr>
          <a:xfrm flipH="1">
            <a:off x="5940360" y="6237360"/>
            <a:ext cx="2519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5"/>
          <p:cNvSpPr/>
          <p:nvPr/>
        </p:nvSpPr>
        <p:spPr>
          <a:xfrm flipV="1">
            <a:off x="5940360" y="3716280"/>
            <a:ext cx="1871640" cy="649440"/>
          </a:xfrm>
          <a:prstGeom prst="line">
            <a:avLst/>
          </a:prstGeom>
          <a:ln w="507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7"/>
          <p:cNvSpPr/>
          <p:nvPr/>
        </p:nvSpPr>
        <p:spPr>
          <a:xfrm flipV="1">
            <a:off x="6588000" y="5589360"/>
            <a:ext cx="1871640" cy="647640"/>
          </a:xfrm>
          <a:prstGeom prst="line">
            <a:avLst/>
          </a:prstGeom>
          <a:ln w="507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9"/>
          <p:cNvSpPr/>
          <p:nvPr/>
        </p:nvSpPr>
        <p:spPr>
          <a:xfrm flipH="1" flipV="1">
            <a:off x="7811640" y="3716280"/>
            <a:ext cx="647640" cy="1873440"/>
          </a:xfrm>
          <a:prstGeom prst="line">
            <a:avLst/>
          </a:prstGeom>
          <a:ln w="507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70"/>
          <p:cNvSpPr/>
          <p:nvPr/>
        </p:nvSpPr>
        <p:spPr>
          <a:xfrm>
            <a:off x="5940360" y="4365720"/>
            <a:ext cx="647640" cy="1871640"/>
          </a:xfrm>
          <a:prstGeom prst="line">
            <a:avLst/>
          </a:prstGeom>
          <a:ln w="507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4"/>
          <p:cNvSpPr/>
          <p:nvPr/>
        </p:nvSpPr>
        <p:spPr>
          <a:xfrm>
            <a:off x="853272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5"/>
          <p:cNvSpPr/>
          <p:nvPr/>
        </p:nvSpPr>
        <p:spPr>
          <a:xfrm>
            <a:off x="5435640" y="5157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6"/>
          <p:cNvSpPr/>
          <p:nvPr/>
        </p:nvSpPr>
        <p:spPr>
          <a:xfrm>
            <a:off x="680400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7"/>
          <p:cNvSpPr/>
          <p:nvPr/>
        </p:nvSpPr>
        <p:spPr>
          <a:xfrm>
            <a:off x="7451640" y="6165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8"/>
          <p:cNvSpPr/>
          <p:nvPr/>
        </p:nvSpPr>
        <p:spPr>
          <a:xfrm>
            <a:off x="8461440" y="5661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9"/>
          <p:cNvSpPr/>
          <p:nvPr/>
        </p:nvSpPr>
        <p:spPr>
          <a:xfrm>
            <a:off x="5940360" y="6165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0"/>
          <p:cNvSpPr/>
          <p:nvPr/>
        </p:nvSpPr>
        <p:spPr>
          <a:xfrm>
            <a:off x="7812000" y="3284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1"/>
          <p:cNvSpPr/>
          <p:nvPr/>
        </p:nvSpPr>
        <p:spPr>
          <a:xfrm>
            <a:off x="5435640" y="378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2"/>
          <p:cNvSpPr/>
          <p:nvPr/>
        </p:nvSpPr>
        <p:spPr>
          <a:xfrm>
            <a:off x="6659640" y="400536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3"/>
          <p:cNvSpPr/>
          <p:nvPr/>
        </p:nvSpPr>
        <p:spPr>
          <a:xfrm>
            <a:off x="6227640" y="50022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4"/>
          <p:cNvSpPr/>
          <p:nvPr/>
        </p:nvSpPr>
        <p:spPr>
          <a:xfrm>
            <a:off x="7596360" y="4365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5"/>
          <p:cNvSpPr/>
          <p:nvPr/>
        </p:nvSpPr>
        <p:spPr>
          <a:xfrm>
            <a:off x="716436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6"/>
          <p:cNvSpPr/>
          <p:nvPr/>
        </p:nvSpPr>
        <p:spPr>
          <a:xfrm>
            <a:off x="0" y="3429000"/>
            <a:ext cx="55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s=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(a+b)</a:t>
            </a:r>
            <a:r>
              <a:rPr b="1" lang="en-US" sz="28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лощадь большого квад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9"/>
          <p:cNvSpPr/>
          <p:nvPr/>
        </p:nvSpPr>
        <p:spPr>
          <a:xfrm>
            <a:off x="179280" y="4005360"/>
            <a:ext cx="54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=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0" lang="en-US" sz="32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лощадь  маленького  квад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0"/>
          <p:cNvSpPr/>
          <p:nvPr/>
        </p:nvSpPr>
        <p:spPr>
          <a:xfrm>
            <a:off x="179280" y="4797360"/>
            <a:ext cx="525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1"/>
          <p:cNvSpPr/>
          <p:nvPr/>
        </p:nvSpPr>
        <p:spPr>
          <a:xfrm>
            <a:off x="179280" y="450864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Если от площади большого квадрата отнять площади четырех прямоугольных треугольников, то что получится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2"/>
          <p:cNvSpPr/>
          <p:nvPr/>
        </p:nvSpPr>
        <p:spPr>
          <a:xfrm>
            <a:off x="250920" y="5445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a+b)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4*ab/2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99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5"/>
          <p:cNvSpPr/>
          <p:nvPr/>
        </p:nvSpPr>
        <p:spPr>
          <a:xfrm>
            <a:off x="324000" y="595008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+ 2ab +b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2ab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99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97"/>
          <p:cNvSpPr/>
          <p:nvPr/>
        </p:nvSpPr>
        <p:spPr>
          <a:xfrm>
            <a:off x="3564000" y="5589720"/>
            <a:ext cx="0" cy="71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8"/>
          <p:cNvSpPr/>
          <p:nvPr/>
        </p:nvSpPr>
        <p:spPr>
          <a:xfrm>
            <a:off x="3780000" y="59500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+ b</a:t>
            </a:r>
            <a:r>
              <a:rPr b="1" lang="en-US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=c</a:t>
            </a:r>
            <a:r>
              <a:rPr b="1" lang="en-US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9"/>
          <p:cNvSpPr/>
          <p:nvPr/>
        </p:nvSpPr>
        <p:spPr>
          <a:xfrm>
            <a:off x="1908000" y="2060640"/>
            <a:ext cx="669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=ab       s=ab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00"/>
          <p:cNvSpPr/>
          <p:nvPr/>
        </p:nvSpPr>
        <p:spPr>
          <a:xfrm>
            <a:off x="1476360" y="638172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О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ыжовы</cp:lastModifiedBy>
  <dcterms:modified xsi:type="dcterms:W3CDTF">2019-10-06T20:09:31Z</dcterms:modified>
  <cp:revision>84</cp:revision>
  <dc:subject/>
  <dc:title>PowerPoint Presentation</dc:title>
</cp:coreProperties>
</file>