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23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dt" idx="40"/>
          </p:nvPr>
        </p:nvSpPr>
        <p:spPr>
          <a:xfrm>
            <a:off x="5179680" y="-360"/>
            <a:ext cx="39625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sldImg"/>
          </p:nvPr>
        </p:nvSpPr>
        <p:spPr>
          <a:xfrm>
            <a:off x="3029040" y="857160"/>
            <a:ext cx="3085920" cy="231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body"/>
          </p:nvPr>
        </p:nvSpPr>
        <p:spPr>
          <a:xfrm>
            <a:off x="914400" y="3300120"/>
            <a:ext cx="73152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ftr" idx="41"/>
          </p:nvPr>
        </p:nvSpPr>
        <p:spPr>
          <a:xfrm>
            <a:off x="-360" y="6513120"/>
            <a:ext cx="39625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 type="sldNum" idx="42"/>
          </p:nvPr>
        </p:nvSpPr>
        <p:spPr>
          <a:xfrm>
            <a:off x="5179680" y="6513120"/>
            <a:ext cx="39625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A2B3-556B-495F-B51F-DFF2A3873B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3029040" y="857160"/>
            <a:ext cx="3085920" cy="23148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4400" y="3300120"/>
            <a:ext cx="7315200" cy="27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Номер слайда 3"/>
          <p:cNvSpPr/>
          <p:nvPr/>
        </p:nvSpPr>
        <p:spPr>
          <a:xfrm>
            <a:off x="5180040" y="6513480"/>
            <a:ext cx="3962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A87C-FFBC-4290-A358-CA8645C133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2435-9C1D-4F4C-9D36-E53AC6BC0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9642-A7C8-40C6-B3BC-C5302BDF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1045BB-6037-45CC-BE30-7D238614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50B5E9-7A40-490F-B62A-30E94D6E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1CC289-7E62-4C63-8BBD-F82E796A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595EA9-EE7B-412B-A100-13B5F8BD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27DCF5-B93B-4323-A6AF-3BBBBBD5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75CA0-6D33-4E1E-A5A7-890E4E52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C23918-D6DC-4D4F-84C4-1EFAA70E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C5DEEA-2855-422B-A49D-5EE59CE55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09D512-060D-40EF-9608-BC0CFFC0C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E5E228-058E-4452-8970-D3EDA89CC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577C-7790-4F0C-BEB6-C436F6FC3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C065BE-155E-41CA-BABE-A98CB547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475D01-2BC9-4071-9D05-08EFDAAD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75CE60-5D4E-4884-AFCB-F5C59D31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B3340A-4A25-499A-A0E4-D2C50604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5B8343-CED7-4D97-98FB-DB7A6D14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120B72-F6CB-41B2-9846-9AAFDCC1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BE95A8-6600-4CE2-9446-470E7371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69549B-1CEB-409E-926B-37B46580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9E4CA0-4176-464C-B158-EED69106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E02067-62BA-43B1-8378-D74CDDC15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285D-2D50-45F0-81A5-713CBBBA4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D3CE66-2974-41D6-BFDC-45C3DB0A2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718BFB-2AE3-4603-9A82-94F02F049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4D06A9-891E-4DF2-AEEE-3106C6A4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F14419-1163-456C-92D5-01896B71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B6789-261B-4D68-BE47-26F3892D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1BC3B7-4F43-4F20-965D-AF36DC8D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A14BED-9D83-454A-B6F2-578245E1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F5174-2211-415E-8111-EA2EC5AF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DC0F2-E772-4C96-8E93-5B906728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DE49F-E531-45B4-972C-25D4FE35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D144-0939-45C1-BE00-B3DA7D39F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96BD03-D141-4A9F-9BFE-C93C6A1F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0323E-A453-4750-BAD3-7ABB33F67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F6833-337E-42E0-B211-646B802C8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916CF4-BF20-4EC2-A709-6C4C0720C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C6F762-E38C-48BD-BA10-7DE44590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A5A73A-262C-4EA4-A58E-36D73A5D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B4D015-1036-4E87-8D30-1FDF5839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878D21-D40C-4A3E-BE20-DEE1D167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090BFD-94E2-4F28-828F-5508E8B0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E2C3B1-B4EB-4F98-8D21-4427708A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B6D97-14CA-4784-9315-C9B64D0D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4E2181-B6C5-41DD-A59C-71594188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3FFC5D-239E-49B8-930E-C5922F73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502D70-720A-4E50-BB32-D6BD9C05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5F9082-3986-4022-B20A-48B7371F0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BC316D-71AE-45D2-B515-E7C541799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3CA02A-C4E8-4129-84EF-A14276CEA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5C163E-CB08-4AA5-946E-BED2D8AC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DF3266-9DC9-4C78-8E03-9AE80566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5D178D-79EC-486C-A05E-5475D70D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3F610E-C874-4AEB-B578-57D319A8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68E1-BE75-43FB-A048-280893C4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69A14B-6C5C-4532-8E4A-380D9A36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47481B-EDE8-4E1C-A450-FF732CF5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6DA6AA-DCBA-40D5-A6D8-3F5017C1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48B989-8F25-453E-906C-E4325DF7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7229D9-0D5E-438F-B43F-4CEB4E1D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865E20-4ABF-4088-8292-691106D82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441404-5CDE-4555-8535-37D950731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63A6-6BFC-468E-AD53-DE31C425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634C-D0A5-46D4-8B32-62629978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80F5-1EEA-4647-9970-A4CDAECB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F986-2891-4C41-9DBD-1F683353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C0C0-4326-4BA1-B1F1-C5AAEFD1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EB77E-3F0D-4392-A451-310E22BB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C6C7-FE60-4A81-8565-D5F7122D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16BE-4192-40E4-8D41-F250733E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35F0-C459-4725-B947-7ACE4100F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94F1-5287-48E0-91CC-3296539F7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75BA4-5DC9-46ED-A997-93C469350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A4F98-7DB0-46AF-BF0C-E56D29D9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ABA0D-3F9D-4406-A553-36FF8187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46E6B-ADFE-4706-AEF0-669F2C90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3B75D-E27B-4425-AAC0-B65B2ECA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5759-0E08-4F3D-A484-3EF9CBDE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0CB11-A6C9-4822-9FE2-5AB261FD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031E3-B9B4-4D77-8744-4FB69FBF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86A13-7074-4B48-B4E1-22BC1CE5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EF05C-61FB-4010-A477-AEB02259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019CB-B769-4326-B4A9-A630AD0B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428F5-80FB-4B7E-864F-C5233BB6A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29C9C-2A9A-4A41-9D1E-E6DC53080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6648E-C57F-48E7-99EE-553DA897F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466D2-B6F6-4981-A526-14670C66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3DFB7-94B5-4F1C-8FCE-2D318308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A739-19CA-4EFA-B448-B3D42197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3FA13-0F45-475F-A0B7-74EA5710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5CA95-1F63-4BC5-9498-1A8D347E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12C7E-48E3-42BE-9E09-462C1C86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EF1FE-AE3E-4B1D-9074-E130AD7F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0DE1B-0019-48E2-9FDE-FBE50FDC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8C3EF-DFE4-4AC3-8B16-8176CC15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6F600-1E41-4469-8585-D6FBFFD6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F655D-632F-46E6-8386-B8E59B604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C6F2E-55A6-4C9D-B695-50F43C016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94870-7026-4416-AE8A-431BDD011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08C1-5AAF-4840-8305-111C04FC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3C80E-18EC-4D80-ABF7-0B7911BA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0FEA7-D87D-40FD-96E1-6F034D06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95FBF-8C35-4F71-BD1B-D778924A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6F26A-FECF-48FD-B0F4-918C35AE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79EED-7555-4DDA-A48C-934EF8C0B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8279A-CCA0-4BD3-A85A-86747FBB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FDF2D-E245-4BC4-80D8-7157958B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F5E26-CC66-4376-88C2-CD220F7B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B44B2-FE61-4176-BD93-E29AA953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18153-1F77-4AB8-B7EA-4B3D58110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E690-E4BD-4714-90FF-4B0C8E09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174AA-7D94-4A4B-BBB1-9C57B6559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036D8-5B66-4810-82A0-C2C7F4E66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98EFD-0086-4CFC-B98D-A7400ADB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3A57F-959C-4D12-B7B3-B334DF92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FA1A7-221F-40E9-AE3B-D31ADFA1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071CB-685E-4026-AD39-497EFC09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3A027-0C04-4029-AD21-901BC567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28A42-095E-4726-B384-B947A9C8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15CAD-6C31-4632-A2C8-A748AA59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21B73-D590-4175-9A38-C88FF390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6CB5-245A-42BE-8F4E-0E3C24FF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2BCD9-6209-44F8-9831-F5B3671D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A25E0-35FB-4F32-9F84-D10EBB090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E7BDB-6D0F-4934-A2D1-3ACDB851E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F6CD5-0099-4F04-927F-84F17C222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3050C-9AE0-495B-BDAD-A062A3E9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7BA42-C92E-46B0-A747-9336AD1F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9B41E-63C1-49CA-ABD7-18C698B1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29F88-D2E1-4CF5-9E90-1B9395B2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4A80E-69AD-4809-BD03-ABEE6752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8C21F-AC65-4CC9-83F4-79E16BB8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BFB6-0273-46CB-A6EE-9BA0CCD8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B2730-3DA6-4CBF-B6D7-9DEC7A93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C37E6-9016-4AEF-B7E8-BB636AF7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B755E-72A4-461D-8371-D471511C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9CC76-FCAD-4370-A1D7-A9775F52F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E8AC7-188A-417E-A15A-BC3230270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51D3B-7DBD-4678-8758-27C320A79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5D974-C108-469E-B56C-D8B744F1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F00C5-8DE3-4C1D-B1CE-DD27EB15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1D29E-B7B0-4229-B46D-57E8DD2D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797BD-81A7-48FA-B3EA-94752035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9A37-8A43-45A3-A4AA-66C538E2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A8E9A-2ACB-42FF-9753-CC56BA6A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1179F-88B5-4C3F-88B8-113286B8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42F82-B1E8-44EB-A053-F9B76DAA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B625F-6CAE-41CC-8C6B-B2914425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EC16B-F0EB-4C1C-B95B-6A01F67C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F1702-FB61-4317-83CC-2D0B4AFF9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1C230-C96F-429F-B94E-CB7148B88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B29147-31AC-4CAD-AA17-15AF1C3DF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746C57-115E-4045-AF57-7C7EF7D7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BD88D8-6DC1-4AD1-9393-B6A5AB98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7C6B-1126-4D97-898C-4F2DBF6E2F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Прямоугольник с двумя скругленными противолежащими углами 6"/>
          <p:cNvGrpSpPr/>
          <p:nvPr/>
        </p:nvGrpSpPr>
        <p:grpSpPr>
          <a:xfrm>
            <a:off x="66600" y="79200"/>
            <a:ext cx="8944200" cy="6729480"/>
            <a:chOff x="66600" y="79200"/>
            <a:chExt cx="8944200" cy="6729480"/>
          </a:xfrm>
        </p:grpSpPr>
        <p:pic>
          <p:nvPicPr>
            <p:cNvPr id="426" name="Прямоугольник с двумя скругленными противолежащими углами 6" descr=""/>
            <p:cNvPicPr/>
            <p:nvPr/>
          </p:nvPicPr>
          <p:blipFill>
            <a:blip r:embed="rId2"/>
            <a:stretch/>
          </p:blipFill>
          <p:spPr>
            <a:xfrm>
              <a:off x="66600" y="79200"/>
              <a:ext cx="8944200" cy="672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528480" y="528480"/>
              <a:ext cx="8015400" cy="58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8" name="Рисунок 7" descr="а.png"/>
          <p:cNvPicPr/>
          <p:nvPr/>
        </p:nvPicPr>
        <p:blipFill>
          <a:blip r:embed="rId3"/>
          <a:stretch/>
        </p:blipFill>
        <p:spPr>
          <a:xfrm>
            <a:off x="0" y="5500800"/>
            <a:ext cx="1062000" cy="1500120"/>
          </a:xfrm>
          <a:prstGeom prst="rect">
            <a:avLst/>
          </a:prstGeom>
          <a:ln w="0">
            <a:noFill/>
          </a:ln>
        </p:spPr>
      </p:pic>
      <p:pic>
        <p:nvPicPr>
          <p:cNvPr id="429" name="Рисунок 8" descr="О.png"/>
          <p:cNvPicPr/>
          <p:nvPr/>
        </p:nvPicPr>
        <p:blipFill>
          <a:blip r:embed="rId4"/>
          <a:stretch/>
        </p:blipFill>
        <p:spPr>
          <a:xfrm>
            <a:off x="8075520" y="-142920"/>
            <a:ext cx="1068480" cy="1509840"/>
          </a:xfrm>
          <a:prstGeom prst="rect">
            <a:avLst/>
          </a:prstGeom>
          <a:ln w="0">
            <a:noFill/>
          </a:ln>
        </p:spPr>
      </p:pic>
      <p:pic>
        <p:nvPicPr>
          <p:cNvPr id="430" name="Рисунок 9" descr="147217_html_14a4941f.gif"/>
          <p:cNvPicPr/>
          <p:nvPr/>
        </p:nvPicPr>
        <p:blipFill>
          <a:blip r:embed="rId5"/>
          <a:stretch/>
        </p:blipFill>
        <p:spPr>
          <a:xfrm>
            <a:off x="0" y="0"/>
            <a:ext cx="1214280" cy="1166760"/>
          </a:xfrm>
          <a:prstGeom prst="rect">
            <a:avLst/>
          </a:prstGeom>
          <a:ln w="0">
            <a:noFill/>
          </a:ln>
        </p:spPr>
      </p:pic>
      <p:pic>
        <p:nvPicPr>
          <p:cNvPr id="431" name="Рисунок 10" descr="13b14e4s-960.jpg"/>
          <p:cNvPicPr/>
          <p:nvPr/>
        </p:nvPicPr>
        <p:blipFill>
          <a:blip r:embed="rId6"/>
          <a:stretch/>
        </p:blipFill>
        <p:spPr>
          <a:xfrm rot="6088200">
            <a:off x="7546680" y="5505480"/>
            <a:ext cx="1629000" cy="126648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7399-4295-450B-B98E-77F16E9E11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Прямоугольник с двумя скругленными противолежащими углами 6"/>
          <p:cNvGrpSpPr/>
          <p:nvPr/>
        </p:nvGrpSpPr>
        <p:grpSpPr>
          <a:xfrm>
            <a:off x="66600" y="79200"/>
            <a:ext cx="8944200" cy="6729480"/>
            <a:chOff x="66600" y="79200"/>
            <a:chExt cx="8944200" cy="6729480"/>
          </a:xfrm>
        </p:grpSpPr>
        <p:pic>
          <p:nvPicPr>
            <p:cNvPr id="474" name="Прямоугольник с двумя скругленными противолежащими углами 6" descr=""/>
            <p:cNvPicPr/>
            <p:nvPr/>
          </p:nvPicPr>
          <p:blipFill>
            <a:blip r:embed="rId2"/>
            <a:stretch/>
          </p:blipFill>
          <p:spPr>
            <a:xfrm>
              <a:off x="66600" y="79200"/>
              <a:ext cx="8944200" cy="672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"/>
            <p:cNvSpPr/>
            <p:nvPr/>
          </p:nvSpPr>
          <p:spPr>
            <a:xfrm>
              <a:off x="528480" y="528480"/>
              <a:ext cx="8015400" cy="58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6" name="Рисунок 7" descr="а.png"/>
          <p:cNvPicPr/>
          <p:nvPr/>
        </p:nvPicPr>
        <p:blipFill>
          <a:blip r:embed="rId3"/>
          <a:stretch/>
        </p:blipFill>
        <p:spPr>
          <a:xfrm>
            <a:off x="0" y="5500800"/>
            <a:ext cx="1062000" cy="1500120"/>
          </a:xfrm>
          <a:prstGeom prst="rect">
            <a:avLst/>
          </a:prstGeom>
          <a:ln w="0">
            <a:noFill/>
          </a:ln>
        </p:spPr>
      </p:pic>
      <p:pic>
        <p:nvPicPr>
          <p:cNvPr id="477" name="Рисунок 8" descr="О.png"/>
          <p:cNvPicPr/>
          <p:nvPr/>
        </p:nvPicPr>
        <p:blipFill>
          <a:blip r:embed="rId4"/>
          <a:stretch/>
        </p:blipFill>
        <p:spPr>
          <a:xfrm>
            <a:off x="8075520" y="-142920"/>
            <a:ext cx="1068480" cy="1509840"/>
          </a:xfrm>
          <a:prstGeom prst="rect">
            <a:avLst/>
          </a:prstGeom>
          <a:ln w="0">
            <a:noFill/>
          </a:ln>
        </p:spPr>
      </p:pic>
      <p:pic>
        <p:nvPicPr>
          <p:cNvPr id="478" name="Рисунок 9" descr="147217_html_14a4941f.gif"/>
          <p:cNvPicPr/>
          <p:nvPr/>
        </p:nvPicPr>
        <p:blipFill>
          <a:blip r:embed="rId5"/>
          <a:stretch/>
        </p:blipFill>
        <p:spPr>
          <a:xfrm>
            <a:off x="0" y="0"/>
            <a:ext cx="1214280" cy="1166760"/>
          </a:xfrm>
          <a:prstGeom prst="rect">
            <a:avLst/>
          </a:prstGeom>
          <a:ln w="0">
            <a:noFill/>
          </a:ln>
        </p:spPr>
      </p:pic>
      <p:pic>
        <p:nvPicPr>
          <p:cNvPr id="479" name="Рисунок 10" descr="13b14e4s-960.jpg"/>
          <p:cNvPicPr/>
          <p:nvPr/>
        </p:nvPicPr>
        <p:blipFill>
          <a:blip r:embed="rId6"/>
          <a:stretch/>
        </p:blipFill>
        <p:spPr>
          <a:xfrm rot="6088200">
            <a:off x="7546680" y="5505480"/>
            <a:ext cx="1629000" cy="126648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5CB1-ABB2-4150-A5DD-6CD9EE75A0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1" name="Прямоугольник с двумя скругленными противолежащими углами 6"/>
          <p:cNvGrpSpPr/>
          <p:nvPr/>
        </p:nvGrpSpPr>
        <p:grpSpPr>
          <a:xfrm>
            <a:off x="66600" y="79200"/>
            <a:ext cx="8944200" cy="6729480"/>
            <a:chOff x="66600" y="79200"/>
            <a:chExt cx="8944200" cy="6729480"/>
          </a:xfrm>
        </p:grpSpPr>
        <p:pic>
          <p:nvPicPr>
            <p:cNvPr id="522" name="Прямоугольник с двумя скругленными противолежащими углами 6" descr=""/>
            <p:cNvPicPr/>
            <p:nvPr/>
          </p:nvPicPr>
          <p:blipFill>
            <a:blip r:embed="rId2"/>
            <a:stretch/>
          </p:blipFill>
          <p:spPr>
            <a:xfrm>
              <a:off x="66600" y="79200"/>
              <a:ext cx="8944200" cy="672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528480" y="528480"/>
              <a:ext cx="8015400" cy="58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4" name="Рисунок 7" descr="а.png"/>
          <p:cNvPicPr/>
          <p:nvPr/>
        </p:nvPicPr>
        <p:blipFill>
          <a:blip r:embed="rId3"/>
          <a:stretch/>
        </p:blipFill>
        <p:spPr>
          <a:xfrm>
            <a:off x="0" y="5500800"/>
            <a:ext cx="1062000" cy="1500120"/>
          </a:xfrm>
          <a:prstGeom prst="rect">
            <a:avLst/>
          </a:prstGeom>
          <a:ln w="0">
            <a:noFill/>
          </a:ln>
        </p:spPr>
      </p:pic>
      <p:pic>
        <p:nvPicPr>
          <p:cNvPr id="525" name="Рисунок 8" descr="О.png"/>
          <p:cNvPicPr/>
          <p:nvPr/>
        </p:nvPicPr>
        <p:blipFill>
          <a:blip r:embed="rId4"/>
          <a:stretch/>
        </p:blipFill>
        <p:spPr>
          <a:xfrm>
            <a:off x="8075520" y="-142920"/>
            <a:ext cx="1068480" cy="1509840"/>
          </a:xfrm>
          <a:prstGeom prst="rect">
            <a:avLst/>
          </a:prstGeom>
          <a:ln w="0">
            <a:noFill/>
          </a:ln>
        </p:spPr>
      </p:pic>
      <p:pic>
        <p:nvPicPr>
          <p:cNvPr id="526" name="Рисунок 9" descr="147217_html_14a4941f.gif"/>
          <p:cNvPicPr/>
          <p:nvPr/>
        </p:nvPicPr>
        <p:blipFill>
          <a:blip r:embed="rId5"/>
          <a:stretch/>
        </p:blipFill>
        <p:spPr>
          <a:xfrm>
            <a:off x="0" y="0"/>
            <a:ext cx="1214280" cy="1166760"/>
          </a:xfrm>
          <a:prstGeom prst="rect">
            <a:avLst/>
          </a:prstGeom>
          <a:ln w="0">
            <a:noFill/>
          </a:ln>
        </p:spPr>
      </p:pic>
      <p:pic>
        <p:nvPicPr>
          <p:cNvPr id="527" name="Рисунок 10" descr="13b14e4s-960.jpg"/>
          <p:cNvPicPr/>
          <p:nvPr/>
        </p:nvPicPr>
        <p:blipFill>
          <a:blip r:embed="rId6"/>
          <a:stretch/>
        </p:blipFill>
        <p:spPr>
          <a:xfrm rot="6088200">
            <a:off x="7546680" y="5505480"/>
            <a:ext cx="1629000" cy="126648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A733-AD95-4CE6-B6B6-33EAE104FF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Прямоугольник с двумя скругленными противолежащими углами 6"/>
          <p:cNvGrpSpPr/>
          <p:nvPr/>
        </p:nvGrpSpPr>
        <p:grpSpPr>
          <a:xfrm>
            <a:off x="66600" y="79200"/>
            <a:ext cx="8944200" cy="6729480"/>
            <a:chOff x="66600" y="79200"/>
            <a:chExt cx="8944200" cy="6729480"/>
          </a:xfrm>
        </p:grpSpPr>
        <p:pic>
          <p:nvPicPr>
            <p:cNvPr id="570" name="Прямоугольник с двумя скругленными противолежащими углами 6" descr=""/>
            <p:cNvPicPr/>
            <p:nvPr/>
          </p:nvPicPr>
          <p:blipFill>
            <a:blip r:embed="rId2"/>
            <a:stretch/>
          </p:blipFill>
          <p:spPr>
            <a:xfrm>
              <a:off x="66600" y="79200"/>
              <a:ext cx="8944200" cy="672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"/>
            <p:cNvSpPr/>
            <p:nvPr/>
          </p:nvSpPr>
          <p:spPr>
            <a:xfrm>
              <a:off x="528480" y="528480"/>
              <a:ext cx="8015400" cy="58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2" name="Рисунок 7" descr="а.png"/>
          <p:cNvPicPr/>
          <p:nvPr/>
        </p:nvPicPr>
        <p:blipFill>
          <a:blip r:embed="rId3"/>
          <a:stretch/>
        </p:blipFill>
        <p:spPr>
          <a:xfrm>
            <a:off x="0" y="5500800"/>
            <a:ext cx="1062000" cy="1500120"/>
          </a:xfrm>
          <a:prstGeom prst="rect">
            <a:avLst/>
          </a:prstGeom>
          <a:ln w="0">
            <a:noFill/>
          </a:ln>
        </p:spPr>
      </p:pic>
      <p:pic>
        <p:nvPicPr>
          <p:cNvPr id="573" name="Рисунок 8" descr="О.png"/>
          <p:cNvPicPr/>
          <p:nvPr/>
        </p:nvPicPr>
        <p:blipFill>
          <a:blip r:embed="rId4"/>
          <a:stretch/>
        </p:blipFill>
        <p:spPr>
          <a:xfrm>
            <a:off x="8075520" y="-142920"/>
            <a:ext cx="1068480" cy="1509840"/>
          </a:xfrm>
          <a:prstGeom prst="rect">
            <a:avLst/>
          </a:prstGeom>
          <a:ln w="0">
            <a:noFill/>
          </a:ln>
        </p:spPr>
      </p:pic>
      <p:pic>
        <p:nvPicPr>
          <p:cNvPr id="574" name="Рисунок 9" descr="147217_html_14a4941f.gif"/>
          <p:cNvPicPr/>
          <p:nvPr/>
        </p:nvPicPr>
        <p:blipFill>
          <a:blip r:embed="rId5"/>
          <a:stretch/>
        </p:blipFill>
        <p:spPr>
          <a:xfrm>
            <a:off x="0" y="0"/>
            <a:ext cx="1214280" cy="1166760"/>
          </a:xfrm>
          <a:prstGeom prst="rect">
            <a:avLst/>
          </a:prstGeom>
          <a:ln w="0">
            <a:noFill/>
          </a:ln>
        </p:spPr>
      </p:pic>
      <p:pic>
        <p:nvPicPr>
          <p:cNvPr id="575" name="Рисунок 10" descr="13b14e4s-960.jpg"/>
          <p:cNvPicPr/>
          <p:nvPr/>
        </p:nvPicPr>
        <p:blipFill>
          <a:blip r:embed="rId6"/>
          <a:stretch/>
        </p:blipFill>
        <p:spPr>
          <a:xfrm rot="6088200">
            <a:off x="7546680" y="5505480"/>
            <a:ext cx="1629000" cy="1266480"/>
          </a:xfrm>
          <a:prstGeom prst="rect">
            <a:avLst/>
          </a:prstGeom>
          <a:ln w="0">
            <a:noFill/>
          </a:ln>
        </p:spPr>
      </p:pic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CB98-5228-423F-A315-4447D70E67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1DC8-6548-4A57-8211-D343F50EF5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Прямоугольник с двумя скругленными противолежащими углами 6"/>
          <p:cNvGrpSpPr/>
          <p:nvPr/>
        </p:nvGrpSpPr>
        <p:grpSpPr>
          <a:xfrm>
            <a:off x="66600" y="79200"/>
            <a:ext cx="8944200" cy="6729480"/>
            <a:chOff x="66600" y="79200"/>
            <a:chExt cx="8944200" cy="6729480"/>
          </a:xfrm>
        </p:grpSpPr>
        <p:pic>
          <p:nvPicPr>
            <p:cNvPr id="47" name="Прямоугольник с двумя скругленными противолежащими углами 6" descr=""/>
            <p:cNvPicPr/>
            <p:nvPr/>
          </p:nvPicPr>
          <p:blipFill>
            <a:blip r:embed="rId2"/>
            <a:stretch/>
          </p:blipFill>
          <p:spPr>
            <a:xfrm>
              <a:off x="66600" y="79200"/>
              <a:ext cx="8944200" cy="672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528480" y="528480"/>
              <a:ext cx="8015400" cy="58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Рисунок 7" descr="а.png"/>
          <p:cNvPicPr/>
          <p:nvPr/>
        </p:nvPicPr>
        <p:blipFill>
          <a:blip r:embed="rId3"/>
          <a:stretch/>
        </p:blipFill>
        <p:spPr>
          <a:xfrm>
            <a:off x="0" y="5500800"/>
            <a:ext cx="1062000" cy="15001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8" descr="О.png"/>
          <p:cNvPicPr/>
          <p:nvPr/>
        </p:nvPicPr>
        <p:blipFill>
          <a:blip r:embed="rId4"/>
          <a:stretch/>
        </p:blipFill>
        <p:spPr>
          <a:xfrm>
            <a:off x="8075520" y="-142920"/>
            <a:ext cx="1068480" cy="15098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9" descr="147217_html_14a4941f.gif"/>
          <p:cNvPicPr/>
          <p:nvPr/>
        </p:nvPicPr>
        <p:blipFill>
          <a:blip r:embed="rId5"/>
          <a:stretch/>
        </p:blipFill>
        <p:spPr>
          <a:xfrm>
            <a:off x="0" y="0"/>
            <a:ext cx="1214280" cy="11667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0" descr="13b14e4s-960.jpg"/>
          <p:cNvPicPr/>
          <p:nvPr/>
        </p:nvPicPr>
        <p:blipFill>
          <a:blip r:embed="rId6"/>
          <a:stretch/>
        </p:blipFill>
        <p:spPr>
          <a:xfrm rot="6088200">
            <a:off x="7546680" y="5505480"/>
            <a:ext cx="1629000" cy="126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с двумя скругленными противолежащими углами 6"/>
          <p:cNvGrpSpPr/>
          <p:nvPr/>
        </p:nvGrpSpPr>
        <p:grpSpPr>
          <a:xfrm>
            <a:off x="66600" y="79200"/>
            <a:ext cx="8944200" cy="6729480"/>
            <a:chOff x="66600" y="79200"/>
            <a:chExt cx="8944200" cy="6729480"/>
          </a:xfrm>
        </p:grpSpPr>
        <p:pic>
          <p:nvPicPr>
            <p:cNvPr id="90" name="Прямоугольник с двумя скругленными противолежащими углами 6" descr=""/>
            <p:cNvPicPr/>
            <p:nvPr/>
          </p:nvPicPr>
          <p:blipFill>
            <a:blip r:embed="rId2"/>
            <a:stretch/>
          </p:blipFill>
          <p:spPr>
            <a:xfrm>
              <a:off x="66600" y="79200"/>
              <a:ext cx="8944200" cy="672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528480" y="528480"/>
              <a:ext cx="8015400" cy="58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Рисунок 7" descr="а.png"/>
          <p:cNvPicPr/>
          <p:nvPr/>
        </p:nvPicPr>
        <p:blipFill>
          <a:blip r:embed="rId3"/>
          <a:stretch/>
        </p:blipFill>
        <p:spPr>
          <a:xfrm>
            <a:off x="0" y="5500800"/>
            <a:ext cx="1062000" cy="15001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8" descr="О.png"/>
          <p:cNvPicPr/>
          <p:nvPr/>
        </p:nvPicPr>
        <p:blipFill>
          <a:blip r:embed="rId4"/>
          <a:stretch/>
        </p:blipFill>
        <p:spPr>
          <a:xfrm>
            <a:off x="8075520" y="-142920"/>
            <a:ext cx="1068480" cy="15098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9" descr="147217_html_14a4941f.gif"/>
          <p:cNvPicPr/>
          <p:nvPr/>
        </p:nvPicPr>
        <p:blipFill>
          <a:blip r:embed="rId5"/>
          <a:stretch/>
        </p:blipFill>
        <p:spPr>
          <a:xfrm>
            <a:off x="0" y="0"/>
            <a:ext cx="1214280" cy="116676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0" descr="13b14e4s-960.jpg"/>
          <p:cNvPicPr/>
          <p:nvPr/>
        </p:nvPicPr>
        <p:blipFill>
          <a:blip r:embed="rId6"/>
          <a:stretch/>
        </p:blipFill>
        <p:spPr>
          <a:xfrm rot="6088200">
            <a:off x="7546680" y="5505480"/>
            <a:ext cx="1629000" cy="12664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EE4A-3DDC-4656-B68E-08B0D6AB3F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Прямоугольник с двумя скругленными противолежащими углами 6"/>
          <p:cNvGrpSpPr/>
          <p:nvPr/>
        </p:nvGrpSpPr>
        <p:grpSpPr>
          <a:xfrm>
            <a:off x="66600" y="79200"/>
            <a:ext cx="8944200" cy="6729480"/>
            <a:chOff x="66600" y="79200"/>
            <a:chExt cx="8944200" cy="6729480"/>
          </a:xfrm>
        </p:grpSpPr>
        <p:pic>
          <p:nvPicPr>
            <p:cNvPr id="138" name="Прямоугольник с двумя скругленными противолежащими углами 6" descr=""/>
            <p:cNvPicPr/>
            <p:nvPr/>
          </p:nvPicPr>
          <p:blipFill>
            <a:blip r:embed="rId2"/>
            <a:stretch/>
          </p:blipFill>
          <p:spPr>
            <a:xfrm>
              <a:off x="66600" y="79200"/>
              <a:ext cx="8944200" cy="672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28480" y="528480"/>
              <a:ext cx="8015400" cy="58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0" name="Рисунок 7" descr="а.png"/>
          <p:cNvPicPr/>
          <p:nvPr/>
        </p:nvPicPr>
        <p:blipFill>
          <a:blip r:embed="rId3"/>
          <a:stretch/>
        </p:blipFill>
        <p:spPr>
          <a:xfrm>
            <a:off x="0" y="5500800"/>
            <a:ext cx="1062000" cy="150012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8" descr="О.png"/>
          <p:cNvPicPr/>
          <p:nvPr/>
        </p:nvPicPr>
        <p:blipFill>
          <a:blip r:embed="rId4"/>
          <a:stretch/>
        </p:blipFill>
        <p:spPr>
          <a:xfrm>
            <a:off x="8075520" y="-142920"/>
            <a:ext cx="1068480" cy="150984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9" descr="147217_html_14a4941f.gif"/>
          <p:cNvPicPr/>
          <p:nvPr/>
        </p:nvPicPr>
        <p:blipFill>
          <a:blip r:embed="rId5"/>
          <a:stretch/>
        </p:blipFill>
        <p:spPr>
          <a:xfrm>
            <a:off x="0" y="0"/>
            <a:ext cx="1214280" cy="116676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10" descr="13b14e4s-960.jpg"/>
          <p:cNvPicPr/>
          <p:nvPr/>
        </p:nvPicPr>
        <p:blipFill>
          <a:blip r:embed="rId6"/>
          <a:stretch/>
        </p:blipFill>
        <p:spPr>
          <a:xfrm rot="6088200">
            <a:off x="7546680" y="5505480"/>
            <a:ext cx="1629000" cy="12664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F780-CE5C-4BEB-A745-ED8172ADD6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Прямоугольник с двумя скругленными противолежащими углами 6"/>
          <p:cNvGrpSpPr/>
          <p:nvPr/>
        </p:nvGrpSpPr>
        <p:grpSpPr>
          <a:xfrm>
            <a:off x="66600" y="79200"/>
            <a:ext cx="8944200" cy="6729480"/>
            <a:chOff x="66600" y="79200"/>
            <a:chExt cx="8944200" cy="6729480"/>
          </a:xfrm>
        </p:grpSpPr>
        <p:pic>
          <p:nvPicPr>
            <p:cNvPr id="186" name="Прямоугольник с двумя скругленными противолежащими углами 6" descr=""/>
            <p:cNvPicPr/>
            <p:nvPr/>
          </p:nvPicPr>
          <p:blipFill>
            <a:blip r:embed="rId2"/>
            <a:stretch/>
          </p:blipFill>
          <p:spPr>
            <a:xfrm>
              <a:off x="66600" y="79200"/>
              <a:ext cx="8944200" cy="672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28480" y="528480"/>
              <a:ext cx="8015400" cy="58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8" name="Рисунок 7" descr="а.png"/>
          <p:cNvPicPr/>
          <p:nvPr/>
        </p:nvPicPr>
        <p:blipFill>
          <a:blip r:embed="rId3"/>
          <a:stretch/>
        </p:blipFill>
        <p:spPr>
          <a:xfrm>
            <a:off x="0" y="5500800"/>
            <a:ext cx="1062000" cy="150012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8" descr="О.png"/>
          <p:cNvPicPr/>
          <p:nvPr/>
        </p:nvPicPr>
        <p:blipFill>
          <a:blip r:embed="rId4"/>
          <a:stretch/>
        </p:blipFill>
        <p:spPr>
          <a:xfrm>
            <a:off x="8075520" y="-142920"/>
            <a:ext cx="1068480" cy="150984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9" descr="147217_html_14a4941f.gif"/>
          <p:cNvPicPr/>
          <p:nvPr/>
        </p:nvPicPr>
        <p:blipFill>
          <a:blip r:embed="rId5"/>
          <a:stretch/>
        </p:blipFill>
        <p:spPr>
          <a:xfrm>
            <a:off x="0" y="0"/>
            <a:ext cx="1214280" cy="116676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10" descr="13b14e4s-960.jpg"/>
          <p:cNvPicPr/>
          <p:nvPr/>
        </p:nvPicPr>
        <p:blipFill>
          <a:blip r:embed="rId6"/>
          <a:stretch/>
        </p:blipFill>
        <p:spPr>
          <a:xfrm rot="6088200">
            <a:off x="7546680" y="5505480"/>
            <a:ext cx="1629000" cy="12664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3336-F0A6-43CC-ACF7-6265B2ECDA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Прямоугольник с двумя скругленными противолежащими углами 6"/>
          <p:cNvGrpSpPr/>
          <p:nvPr/>
        </p:nvGrpSpPr>
        <p:grpSpPr>
          <a:xfrm>
            <a:off x="66600" y="79200"/>
            <a:ext cx="8944200" cy="6729480"/>
            <a:chOff x="66600" y="79200"/>
            <a:chExt cx="8944200" cy="6729480"/>
          </a:xfrm>
        </p:grpSpPr>
        <p:pic>
          <p:nvPicPr>
            <p:cNvPr id="234" name="Прямоугольник с двумя скругленными противолежащими углами 6" descr=""/>
            <p:cNvPicPr/>
            <p:nvPr/>
          </p:nvPicPr>
          <p:blipFill>
            <a:blip r:embed="rId2"/>
            <a:stretch/>
          </p:blipFill>
          <p:spPr>
            <a:xfrm>
              <a:off x="66600" y="79200"/>
              <a:ext cx="8944200" cy="672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528480" y="528480"/>
              <a:ext cx="8015400" cy="58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6" name="Рисунок 7" descr="а.png"/>
          <p:cNvPicPr/>
          <p:nvPr/>
        </p:nvPicPr>
        <p:blipFill>
          <a:blip r:embed="rId3"/>
          <a:stretch/>
        </p:blipFill>
        <p:spPr>
          <a:xfrm>
            <a:off x="0" y="5500800"/>
            <a:ext cx="1062000" cy="150012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8" descr="О.png"/>
          <p:cNvPicPr/>
          <p:nvPr/>
        </p:nvPicPr>
        <p:blipFill>
          <a:blip r:embed="rId4"/>
          <a:stretch/>
        </p:blipFill>
        <p:spPr>
          <a:xfrm>
            <a:off x="8075520" y="-142920"/>
            <a:ext cx="1068480" cy="150984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9" descr="147217_html_14a4941f.gif"/>
          <p:cNvPicPr/>
          <p:nvPr/>
        </p:nvPicPr>
        <p:blipFill>
          <a:blip r:embed="rId5"/>
          <a:stretch/>
        </p:blipFill>
        <p:spPr>
          <a:xfrm>
            <a:off x="0" y="0"/>
            <a:ext cx="1214280" cy="116676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10" descr="13b14e4s-960.jpg"/>
          <p:cNvPicPr/>
          <p:nvPr/>
        </p:nvPicPr>
        <p:blipFill>
          <a:blip r:embed="rId6"/>
          <a:stretch/>
        </p:blipFill>
        <p:spPr>
          <a:xfrm rot="6088200">
            <a:off x="7546680" y="5505480"/>
            <a:ext cx="1629000" cy="126648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2198-C181-4698-ADFB-F862F36C54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Прямоугольник с двумя скругленными противолежащими углами 6"/>
          <p:cNvGrpSpPr/>
          <p:nvPr/>
        </p:nvGrpSpPr>
        <p:grpSpPr>
          <a:xfrm>
            <a:off x="66600" y="79200"/>
            <a:ext cx="8944200" cy="6729480"/>
            <a:chOff x="66600" y="79200"/>
            <a:chExt cx="8944200" cy="6729480"/>
          </a:xfrm>
        </p:grpSpPr>
        <p:pic>
          <p:nvPicPr>
            <p:cNvPr id="282" name="Прямоугольник с двумя скругленными противолежащими углами 6" descr=""/>
            <p:cNvPicPr/>
            <p:nvPr/>
          </p:nvPicPr>
          <p:blipFill>
            <a:blip r:embed="rId2"/>
            <a:stretch/>
          </p:blipFill>
          <p:spPr>
            <a:xfrm>
              <a:off x="66600" y="79200"/>
              <a:ext cx="8944200" cy="672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528480" y="528480"/>
              <a:ext cx="8015400" cy="58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4" name="Рисунок 7" descr="а.png"/>
          <p:cNvPicPr/>
          <p:nvPr/>
        </p:nvPicPr>
        <p:blipFill>
          <a:blip r:embed="rId3"/>
          <a:stretch/>
        </p:blipFill>
        <p:spPr>
          <a:xfrm>
            <a:off x="0" y="5500800"/>
            <a:ext cx="1062000" cy="150012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8" descr="О.png"/>
          <p:cNvPicPr/>
          <p:nvPr/>
        </p:nvPicPr>
        <p:blipFill>
          <a:blip r:embed="rId4"/>
          <a:stretch/>
        </p:blipFill>
        <p:spPr>
          <a:xfrm>
            <a:off x="8075520" y="-142920"/>
            <a:ext cx="1068480" cy="150984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9" descr="147217_html_14a4941f.gif"/>
          <p:cNvPicPr/>
          <p:nvPr/>
        </p:nvPicPr>
        <p:blipFill>
          <a:blip r:embed="rId5"/>
          <a:stretch/>
        </p:blipFill>
        <p:spPr>
          <a:xfrm>
            <a:off x="0" y="0"/>
            <a:ext cx="1214280" cy="1166760"/>
          </a:xfrm>
          <a:prstGeom prst="rect">
            <a:avLst/>
          </a:prstGeom>
          <a:ln w="0">
            <a:noFill/>
          </a:ln>
        </p:spPr>
      </p:pic>
      <p:pic>
        <p:nvPicPr>
          <p:cNvPr id="287" name="Рисунок 10" descr="13b14e4s-960.jpg"/>
          <p:cNvPicPr/>
          <p:nvPr/>
        </p:nvPicPr>
        <p:blipFill>
          <a:blip r:embed="rId6"/>
          <a:stretch/>
        </p:blipFill>
        <p:spPr>
          <a:xfrm rot="6088200">
            <a:off x="7546680" y="5505480"/>
            <a:ext cx="1629000" cy="126648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D16F-F938-4DE8-8EF1-7A65F61A04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Прямоугольник с двумя скругленными противолежащими углами 6"/>
          <p:cNvGrpSpPr/>
          <p:nvPr/>
        </p:nvGrpSpPr>
        <p:grpSpPr>
          <a:xfrm>
            <a:off x="66600" y="79200"/>
            <a:ext cx="8944200" cy="6729480"/>
            <a:chOff x="66600" y="79200"/>
            <a:chExt cx="8944200" cy="6729480"/>
          </a:xfrm>
        </p:grpSpPr>
        <p:pic>
          <p:nvPicPr>
            <p:cNvPr id="330" name="Прямоугольник с двумя скругленными противолежащими углами 6" descr=""/>
            <p:cNvPicPr/>
            <p:nvPr/>
          </p:nvPicPr>
          <p:blipFill>
            <a:blip r:embed="rId2"/>
            <a:stretch/>
          </p:blipFill>
          <p:spPr>
            <a:xfrm>
              <a:off x="66600" y="79200"/>
              <a:ext cx="8944200" cy="672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528480" y="528480"/>
              <a:ext cx="8015400" cy="58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2" name="Рисунок 7" descr="а.png"/>
          <p:cNvPicPr/>
          <p:nvPr/>
        </p:nvPicPr>
        <p:blipFill>
          <a:blip r:embed="rId3"/>
          <a:stretch/>
        </p:blipFill>
        <p:spPr>
          <a:xfrm>
            <a:off x="0" y="5500800"/>
            <a:ext cx="1062000" cy="150012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8" descr="О.png"/>
          <p:cNvPicPr/>
          <p:nvPr/>
        </p:nvPicPr>
        <p:blipFill>
          <a:blip r:embed="rId4"/>
          <a:stretch/>
        </p:blipFill>
        <p:spPr>
          <a:xfrm>
            <a:off x="8075520" y="-142920"/>
            <a:ext cx="1068480" cy="1509840"/>
          </a:xfrm>
          <a:prstGeom prst="rect">
            <a:avLst/>
          </a:prstGeom>
          <a:ln w="0">
            <a:noFill/>
          </a:ln>
        </p:spPr>
      </p:pic>
      <p:pic>
        <p:nvPicPr>
          <p:cNvPr id="334" name="Рисунок 9" descr="147217_html_14a4941f.gif"/>
          <p:cNvPicPr/>
          <p:nvPr/>
        </p:nvPicPr>
        <p:blipFill>
          <a:blip r:embed="rId5"/>
          <a:stretch/>
        </p:blipFill>
        <p:spPr>
          <a:xfrm>
            <a:off x="0" y="0"/>
            <a:ext cx="1214280" cy="116676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10" descr="13b14e4s-960.jpg"/>
          <p:cNvPicPr/>
          <p:nvPr/>
        </p:nvPicPr>
        <p:blipFill>
          <a:blip r:embed="rId6"/>
          <a:stretch/>
        </p:blipFill>
        <p:spPr>
          <a:xfrm rot="6088200">
            <a:off x="7546680" y="5505480"/>
            <a:ext cx="1629000" cy="12664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01D4-B351-4B0B-B106-29047D3181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Прямоугольник с двумя скругленными противолежащими углами 6"/>
          <p:cNvGrpSpPr/>
          <p:nvPr/>
        </p:nvGrpSpPr>
        <p:grpSpPr>
          <a:xfrm>
            <a:off x="66600" y="79200"/>
            <a:ext cx="8944200" cy="6729480"/>
            <a:chOff x="66600" y="79200"/>
            <a:chExt cx="8944200" cy="6729480"/>
          </a:xfrm>
        </p:grpSpPr>
        <p:pic>
          <p:nvPicPr>
            <p:cNvPr id="378" name="Прямоугольник с двумя скругленными противолежащими углами 6" descr=""/>
            <p:cNvPicPr/>
            <p:nvPr/>
          </p:nvPicPr>
          <p:blipFill>
            <a:blip r:embed="rId2"/>
            <a:stretch/>
          </p:blipFill>
          <p:spPr>
            <a:xfrm>
              <a:off x="66600" y="79200"/>
              <a:ext cx="8944200" cy="672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528480" y="528480"/>
              <a:ext cx="8015400" cy="58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0" name="Рисунок 7" descr="а.png"/>
          <p:cNvPicPr/>
          <p:nvPr/>
        </p:nvPicPr>
        <p:blipFill>
          <a:blip r:embed="rId3"/>
          <a:stretch/>
        </p:blipFill>
        <p:spPr>
          <a:xfrm>
            <a:off x="0" y="5500800"/>
            <a:ext cx="1062000" cy="1500120"/>
          </a:xfrm>
          <a:prstGeom prst="rect">
            <a:avLst/>
          </a:prstGeom>
          <a:ln w="0">
            <a:noFill/>
          </a:ln>
        </p:spPr>
      </p:pic>
      <p:pic>
        <p:nvPicPr>
          <p:cNvPr id="381" name="Рисунок 8" descr="О.png"/>
          <p:cNvPicPr/>
          <p:nvPr/>
        </p:nvPicPr>
        <p:blipFill>
          <a:blip r:embed="rId4"/>
          <a:stretch/>
        </p:blipFill>
        <p:spPr>
          <a:xfrm>
            <a:off x="8075520" y="-142920"/>
            <a:ext cx="1068480" cy="150984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9" descr="147217_html_14a4941f.gif"/>
          <p:cNvPicPr/>
          <p:nvPr/>
        </p:nvPicPr>
        <p:blipFill>
          <a:blip r:embed="rId5"/>
          <a:stretch/>
        </p:blipFill>
        <p:spPr>
          <a:xfrm>
            <a:off x="0" y="0"/>
            <a:ext cx="1214280" cy="1166760"/>
          </a:xfrm>
          <a:prstGeom prst="rect">
            <a:avLst/>
          </a:prstGeom>
          <a:ln w="0">
            <a:noFill/>
          </a:ln>
        </p:spPr>
      </p:pic>
      <p:pic>
        <p:nvPicPr>
          <p:cNvPr id="383" name="Рисунок 10" descr="13b14e4s-960.jpg"/>
          <p:cNvPicPr/>
          <p:nvPr/>
        </p:nvPicPr>
        <p:blipFill>
          <a:blip r:embed="rId6"/>
          <a:stretch/>
        </p:blipFill>
        <p:spPr>
          <a:xfrm rot="6088200">
            <a:off x="7546680" y="5505480"/>
            <a:ext cx="1629000" cy="126648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A145-9787-4495-9D3E-60DB017ABE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Рисунок 3" descr="FlyingSlaidPre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7" name="Прямоугольник 4"/>
          <p:cNvSpPr/>
          <p:nvPr/>
        </p:nvSpPr>
        <p:spPr>
          <a:xfrm>
            <a:off x="1619280" y="189000"/>
            <a:ext cx="691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Прямоугольник 2"/>
          <p:cNvSpPr/>
          <p:nvPr/>
        </p:nvSpPr>
        <p:spPr>
          <a:xfrm>
            <a:off x="971640" y="1125360"/>
            <a:ext cx="752292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шли в историю предметы, а вместе с ними и слова. Такие устаревшие слова называют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историзмами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А некоторые слова исчезли, но вместо них появились новые слова синонимы. Это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Calibri"/>
              </a:rPr>
              <a:t>архаизмы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Рисунок 3" descr="OrangeEtudSlaidPre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0" name="Прямоугольник 3"/>
          <p:cNvSpPr/>
          <p:nvPr/>
        </p:nvSpPr>
        <p:spPr>
          <a:xfrm>
            <a:off x="826920" y="333360"/>
            <a:ext cx="7848720" cy="54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Древний философ Горац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ворил:  «Как из года в год ле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няют свои листья, старые опадают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 и слова, ветша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гибнут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усть!   Но родятся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епнут, как  дети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 смену  друг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Рисунок 4" descr=""/>
          <p:cNvPicPr/>
          <p:nvPr/>
        </p:nvPicPr>
        <p:blipFill>
          <a:blip r:embed="rId2"/>
          <a:stretch/>
        </p:blipFill>
        <p:spPr>
          <a:xfrm>
            <a:off x="5900760" y="2690640"/>
            <a:ext cx="3243240" cy="41418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Прямоугольник 4"/>
          <p:cNvSpPr/>
          <p:nvPr/>
        </p:nvSpPr>
        <p:spPr>
          <a:xfrm>
            <a:off x="250920" y="1557360"/>
            <a:ext cx="8208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Прямоугольник 2" descr=""/>
          <p:cNvPicPr/>
          <p:nvPr/>
        </p:nvPicPr>
        <p:blipFill>
          <a:blip r:embed="rId1"/>
          <a:stretch/>
        </p:blipFill>
        <p:spPr>
          <a:xfrm>
            <a:off x="719280" y="1579680"/>
            <a:ext cx="4286160" cy="596880"/>
          </a:xfrm>
          <a:prstGeom prst="rect">
            <a:avLst/>
          </a:prstGeom>
          <a:ln w="0">
            <a:noFill/>
          </a:ln>
        </p:spPr>
      </p:pic>
      <p:sp>
        <p:nvSpPr>
          <p:cNvPr id="686" name="Прямоугольник 3"/>
          <p:cNvSpPr/>
          <p:nvPr/>
        </p:nvSpPr>
        <p:spPr>
          <a:xfrm>
            <a:off x="539640" y="1581120"/>
            <a:ext cx="691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ть внешность мамы, используя устаревшие сл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Picture 2" descr="C:\Users\Асхат)))\Desktop\дневник.jpg"/>
          <p:cNvPicPr/>
          <p:nvPr/>
        </p:nvPicPr>
        <p:blipFill>
          <a:blip r:embed="rId2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sp>
        <p:nvSpPr>
          <p:cNvPr id="688" name="Прямоугольник 4"/>
          <p:cNvSpPr/>
          <p:nvPr/>
        </p:nvSpPr>
        <p:spPr>
          <a:xfrm>
            <a:off x="971640" y="692280"/>
            <a:ext cx="792144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 Н Е В Н И 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усский язык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i="1" lang="kk-KZ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исать внешность мам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спользуя устаревшие сл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Что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это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ак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ологизм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— слово, значение слова или словосочетание, недавно появившееся в языке (новообразованное, отсутствовавшее ранее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Полилиния 12"/>
          <p:cNvSpPr/>
          <p:nvPr/>
        </p:nvSpPr>
        <p:spPr>
          <a:xfrm>
            <a:off x="539640" y="1628640"/>
            <a:ext cx="671760" cy="192240"/>
          </a:xfrm>
          <a:custGeom>
            <a:avLst/>
            <a:gdLst/>
            <a:ahLst/>
            <a:rect l="l" t="t" r="r" b="b"/>
            <a:pathLst>
              <a:path w="672029" h="192796">
                <a:moveTo>
                  <a:pt x="0" y="159745"/>
                </a:moveTo>
                <a:cubicBezTo>
                  <a:pt x="125776" y="79872"/>
                  <a:pt x="251552" y="0"/>
                  <a:pt x="363557" y="5509"/>
                </a:cubicBezTo>
                <a:cubicBezTo>
                  <a:pt x="475562" y="11018"/>
                  <a:pt x="672029" y="192796"/>
                  <a:pt x="672029" y="192796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Box 13"/>
          <p:cNvSpPr/>
          <p:nvPr/>
        </p:nvSpPr>
        <p:spPr>
          <a:xfrm>
            <a:off x="539640" y="141300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ов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Полилиния 14"/>
          <p:cNvSpPr/>
          <p:nvPr/>
        </p:nvSpPr>
        <p:spPr>
          <a:xfrm>
            <a:off x="1278000" y="1568520"/>
            <a:ext cx="1168200" cy="315720"/>
          </a:xfrm>
          <a:custGeom>
            <a:avLst/>
            <a:gdLst/>
            <a:ahLst/>
            <a:rect l="l" t="t" r="r" b="b"/>
            <a:pathLst>
              <a:path w="1167788" h="315817">
                <a:moveTo>
                  <a:pt x="0" y="271750"/>
                </a:moveTo>
                <a:cubicBezTo>
                  <a:pt x="189123" y="135875"/>
                  <a:pt x="378246" y="0"/>
                  <a:pt x="572877" y="7345"/>
                </a:cubicBezTo>
                <a:cubicBezTo>
                  <a:pt x="767508" y="14690"/>
                  <a:pt x="967648" y="165253"/>
                  <a:pt x="1167788" y="315817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15"/>
          <p:cNvSpPr/>
          <p:nvPr/>
        </p:nvSpPr>
        <p:spPr>
          <a:xfrm>
            <a:off x="1476360" y="134136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ло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728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1a3c18"/>
              </a:solidFill>
              <a:latin typeface="Arial"/>
            </a:endParaRPr>
          </a:p>
        </p:txBody>
      </p:sp>
      <p:pic>
        <p:nvPicPr>
          <p:cNvPr id="637" name="Рисунок 3" descr="0_b0cac_8e87aaec_XL.jpg"/>
          <p:cNvPicPr/>
          <p:nvPr/>
        </p:nvPicPr>
        <p:blipFill>
          <a:blip r:embed="rId1"/>
          <a:stretch/>
        </p:blipFill>
        <p:spPr>
          <a:xfrm>
            <a:off x="111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8" name="Rectangle 6"/>
          <p:cNvSpPr/>
          <p:nvPr/>
        </p:nvSpPr>
        <p:spPr>
          <a:xfrm>
            <a:off x="684360" y="887040"/>
            <a:ext cx="8002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222268"/>
                </a:solidFill>
                <a:latin typeface="Arial"/>
              </a:rPr>
              <a:t>Цель урока</a:t>
            </a:r>
            <a:r>
              <a:rPr b="0" i="1" lang="kk-KZ" sz="2000" spc="-1" strike="noStrike">
                <a:solidFill>
                  <a:srgbClr val="222268"/>
                </a:solidFill>
                <a:latin typeface="Arial"/>
              </a:rPr>
              <a:t>:  познакомить с понятиями историзмы,  архаизмы и неологизмы; учить находить в тексте и правильно употреблять в речи устаревшие слова, совершенствовать навыки работы со словарями; обогащать словарный запас учащихся, развивать умение работать в группах; воспитывать уважение и бережное отношение к русскому язы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22226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Рисунок 3" descr="30.jpg"/>
          <p:cNvPicPr/>
          <p:nvPr/>
        </p:nvPicPr>
        <p:blipFill>
          <a:blip r:embed="rId1"/>
          <a:stretch/>
        </p:blipFill>
        <p:spPr>
          <a:xfrm>
            <a:off x="-2376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642" name="Rectangle 5"/>
          <p:cNvSpPr/>
          <p:nvPr/>
        </p:nvSpPr>
        <p:spPr>
          <a:xfrm>
            <a:off x="1476360" y="3924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161645"/>
                </a:solidFill>
                <a:latin typeface="Arial"/>
                <a:ea typeface="Times New Roman"/>
              </a:rPr>
              <a:t>Задание №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61645"/>
                </a:solidFill>
                <a:latin typeface="Arial"/>
                <a:ea typeface="Times New Roman"/>
              </a:rPr>
              <a:t>Лев Николаевич Толстой «Филипп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6"/>
          <p:cNvSpPr/>
          <p:nvPr/>
        </p:nvSpPr>
        <p:spPr>
          <a:xfrm>
            <a:off x="846000" y="3440880"/>
            <a:ext cx="7883640" cy="2838240"/>
          </a:xfrm>
          <a:prstGeom prst="rect">
            <a:avLst/>
          </a:prstGeom>
          <a:solidFill>
            <a:srgbClr val="92d050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45"/>
                </a:solidFill>
                <a:latin typeface="Arial"/>
                <a:ea typeface="Times New Roman"/>
              </a:rPr>
              <a:t>«Мать меня в школу не пускала, говорила, что я маленький еще, а мне так с ребятами в школу ходить хотелось. Вот как-то я остался один дома, скучно мне стало. Натянул порты, рубаху накинул, влез в лапти, подпоясал тулуп кушаком, шапку отцовскую на голову надел и побежал по своей слободе к школе. Бегу, собаки за мной гонятся, боязно мне. Добежал до школы,  в сенцах шапку снял и отворил дверь в класс. А учитель строго спросил кто я такой, как меня зовут. Растерялся я, еле имя своё по слогам выговорил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Рисунок 2" descr=""/>
          <p:cNvPicPr/>
          <p:nvPr/>
        </p:nvPicPr>
        <p:blipFill>
          <a:blip r:embed="rId2"/>
          <a:stretch/>
        </p:blipFill>
        <p:spPr>
          <a:xfrm>
            <a:off x="2484360" y="1270080"/>
            <a:ext cx="3743280" cy="2106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Рисунок 3" descr="1252593925_147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Прямоугольник 4"/>
          <p:cNvSpPr/>
          <p:nvPr/>
        </p:nvSpPr>
        <p:spPr>
          <a:xfrm>
            <a:off x="611280" y="2602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олковый слова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Прямоугольник 6"/>
          <p:cNvGrpSpPr/>
          <p:nvPr/>
        </p:nvGrpSpPr>
        <p:grpSpPr>
          <a:xfrm>
            <a:off x="512640" y="858960"/>
            <a:ext cx="8040960" cy="4876560"/>
            <a:chOff x="512640" y="858960"/>
            <a:chExt cx="8040960" cy="4876560"/>
          </a:xfrm>
        </p:grpSpPr>
        <p:pic>
          <p:nvPicPr>
            <p:cNvPr id="650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512640" y="858960"/>
              <a:ext cx="804096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722160" y="1844640"/>
              <a:ext cx="77724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c00000"/>
                  </a:solidFill>
                  <a:latin typeface="Arial"/>
                </a:rPr>
                <a:t>порт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c00000"/>
                  </a:solidFill>
                  <a:latin typeface="Arial"/>
                </a:rPr>
                <a:t>                          </a:t>
              </a:r>
              <a:r>
                <a:rPr b="1" i="1" lang="ru-RU" sz="3200" spc="-1" strike="noStrike">
                  <a:solidFill>
                    <a:srgbClr val="c00000"/>
                  </a:solidFill>
                  <a:latin typeface="Arial"/>
                </a:rPr>
                <a:t>лапт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c00000"/>
                  </a:solidFill>
                  <a:latin typeface="Arial"/>
                </a:rPr>
                <a:t>     </a:t>
              </a:r>
              <a:r>
                <a:rPr b="1" i="1" lang="ru-RU" sz="3200" spc="-1" strike="noStrike">
                  <a:solidFill>
                    <a:srgbClr val="c00000"/>
                  </a:solidFill>
                  <a:latin typeface="Arial"/>
                </a:rPr>
                <a:t>тулу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c00000"/>
                  </a:solidFill>
                  <a:latin typeface="Arial"/>
                </a:rPr>
                <a:t>                 </a:t>
              </a:r>
              <a:r>
                <a:rPr b="1" i="1" lang="ru-RU" sz="3200" spc="-1" strike="noStrike">
                  <a:solidFill>
                    <a:srgbClr val="c00000"/>
                  </a:solidFill>
                  <a:latin typeface="Arial"/>
                </a:rPr>
                <a:t>куша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c00000"/>
                  </a:solidFill>
                  <a:latin typeface="Arial"/>
                </a:rPr>
                <a:t>                          </a:t>
              </a:r>
              <a:r>
                <a:rPr b="1" i="1" lang="ru-RU" sz="3200" spc="-1" strike="noStrike">
                  <a:solidFill>
                    <a:srgbClr val="c00000"/>
                  </a:solidFill>
                  <a:latin typeface="Arial"/>
                </a:rPr>
                <a:t>слобод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c00000"/>
                  </a:solidFill>
                  <a:latin typeface="Arial"/>
                </a:rPr>
                <a:t>                                          </a:t>
              </a:r>
              <a:r>
                <a:rPr b="1" i="1" lang="ru-RU" sz="3200" spc="-1" strike="noStrike">
                  <a:solidFill>
                    <a:srgbClr val="c00000"/>
                  </a:solidFill>
                  <a:latin typeface="Arial"/>
                </a:rPr>
                <a:t>сенцы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2" name="Рисунок 4" descr=""/>
          <p:cNvPicPr/>
          <p:nvPr/>
        </p:nvPicPr>
        <p:blipFill>
          <a:blip r:embed="rId3"/>
          <a:stretch/>
        </p:blipFill>
        <p:spPr>
          <a:xfrm>
            <a:off x="5562720" y="985680"/>
            <a:ext cx="3133440" cy="23320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Рисунок 3" descr="GreenSlaidPre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6" name="Прямоугольник 4"/>
          <p:cNvSpPr/>
          <p:nvPr/>
        </p:nvSpPr>
        <p:spPr>
          <a:xfrm>
            <a:off x="2268360" y="404640"/>
            <a:ext cx="6029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Рисунок 7" descr="юкос гнои (2).gif"/>
          <p:cNvPicPr/>
          <p:nvPr/>
        </p:nvPicPr>
        <p:blipFill>
          <a:blip r:embed="rId2"/>
          <a:stretch/>
        </p:blipFill>
        <p:spPr>
          <a:xfrm>
            <a:off x="6948360" y="1916280"/>
            <a:ext cx="1143000" cy="1806480"/>
          </a:xfrm>
          <a:prstGeom prst="rect">
            <a:avLst/>
          </a:prstGeom>
          <a:ln w="0">
            <a:noFill/>
          </a:ln>
        </p:spPr>
      </p:pic>
      <p:pic>
        <p:nvPicPr>
          <p:cNvPr id="658" name="Рисунок 3" descr=""/>
          <p:cNvPicPr/>
          <p:nvPr/>
        </p:nvPicPr>
        <p:blipFill>
          <a:blip r:embed="rId3"/>
          <a:stretch/>
        </p:blipFill>
        <p:spPr>
          <a:xfrm>
            <a:off x="611280" y="1006560"/>
            <a:ext cx="8137440" cy="5851440"/>
          </a:xfrm>
          <a:prstGeom prst="rect">
            <a:avLst/>
          </a:prstGeom>
          <a:ln w="0">
            <a:noFill/>
          </a:ln>
        </p:spPr>
      </p:pic>
      <p:sp>
        <p:nvSpPr>
          <p:cNvPr id="659" name="Прямоугольник 4"/>
          <p:cNvSpPr/>
          <p:nvPr/>
        </p:nvSpPr>
        <p:spPr>
          <a:xfrm>
            <a:off x="395280" y="149400"/>
            <a:ext cx="856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ассмотрите изображение человека, проследите на примере названий частей тела, как устаревшее слово заменяется словом синонимом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Рисунок 3" descr="KrugPrintPre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3" name="Прямоугольник 3"/>
          <p:cNvSpPr/>
          <p:nvPr/>
        </p:nvSpPr>
        <p:spPr>
          <a:xfrm>
            <a:off x="1187280" y="314280"/>
            <a:ext cx="7056720" cy="60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Физкультмину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щелкайте перстам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Улыбнитесь устам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клоните выю вперёд, наза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гладьте свои лани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нимите очи вверх, вправо, влево, вни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верните стан налево, напра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Русский танец - Уральская кадриль.mp3" descr=""/>
          <p:cNvPicPr/>
          <p:nvPr/>
        </p:nvPicPr>
        <p:blipFill>
          <a:blip r:embed="rId2"/>
          <a:stretch/>
        </p:blipFill>
        <p:spPr>
          <a:xfrm>
            <a:off x="395280" y="53737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6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6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5196" fill="hold"/>
                                        <p:tgtEl>
                                          <p:spTgt spid="6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18960" y="980640"/>
            <a:ext cx="8353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ОСТАВЬТЕ ДИАГРАМ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900000" y="33300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00"/>
                </a:solidFill>
                <a:latin typeface="Arial"/>
              </a:rPr>
              <a:t>Задание №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д, кольчуга, рыбарь, вершок,  очи, ланиты, уста , выя , перст, чело, сословие, дворянин, помещик, лак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Овал 3"/>
          <p:cNvSpPr/>
          <p:nvPr/>
        </p:nvSpPr>
        <p:spPr>
          <a:xfrm>
            <a:off x="900000" y="2523960"/>
            <a:ext cx="4457880" cy="3168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ториз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Овал 4"/>
          <p:cNvSpPr/>
          <p:nvPr/>
        </p:nvSpPr>
        <p:spPr>
          <a:xfrm>
            <a:off x="3995640" y="2575080"/>
            <a:ext cx="4464000" cy="3166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рхаиз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Прямая соединительная линия 7"/>
          <p:cNvSpPr/>
          <p:nvPr/>
        </p:nvSpPr>
        <p:spPr>
          <a:xfrm>
            <a:off x="4649760" y="3038400"/>
            <a:ext cx="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Дуга 8"/>
          <p:cNvSpPr/>
          <p:nvPr/>
        </p:nvSpPr>
        <p:spPr>
          <a:xfrm rot="3162000">
            <a:off x="2197800" y="2624760"/>
            <a:ext cx="3173400" cy="2448000"/>
          </a:xfrm>
          <a:custGeom>
            <a:avLst/>
            <a:gdLst/>
            <a:ahLst/>
            <a:rect l="l" t="t" r="r" b="b"/>
            <a:pathLst>
              <a:path stroke="0" w="3173412" h="2447925">
                <a:moveTo>
                  <a:pt x="1586706" y="0"/>
                </a:moveTo>
                <a:cubicBezTo>
                  <a:pt x="2463020" y="0"/>
                  <a:pt x="3173412" y="547987"/>
                  <a:pt x="3173412" y="1223963"/>
                </a:cubicBezTo>
                <a:lnTo>
                  <a:pt x="1586706" y="1223963"/>
                </a:lnTo>
                <a:lnTo>
                  <a:pt x="1586706" y="0"/>
                </a:lnTo>
                <a:close/>
              </a:path>
              <a:path fill="none" w="3173412" h="2447925">
                <a:moveTo>
                  <a:pt x="1586706" y="0"/>
                </a:moveTo>
                <a:cubicBezTo>
                  <a:pt x="2463020" y="0"/>
                  <a:pt x="3173412" y="547987"/>
                  <a:pt x="3173412" y="1223963"/>
                </a:cubicBezTo>
              </a:path>
            </a:pathLst>
          </a:custGeom>
          <a:noFill/>
          <a:ln w="9360">
            <a:solidFill>
              <a:srgbClr val="b6dcd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Рисунок 3" descr="matematika_carica_nauk_1.jpg"/>
          <p:cNvPicPr/>
          <p:nvPr/>
        </p:nvPicPr>
        <p:blipFill>
          <a:blip r:embed="rId1"/>
          <a:stretch/>
        </p:blipFill>
        <p:spPr>
          <a:xfrm>
            <a:off x="-25560" y="-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4" name="Прямоугольник 4"/>
          <p:cNvSpPr/>
          <p:nvPr/>
        </p:nvSpPr>
        <p:spPr>
          <a:xfrm>
            <a:off x="250920" y="1557360"/>
            <a:ext cx="8208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Прямоугольник 3"/>
          <p:cNvSpPr/>
          <p:nvPr/>
        </p:nvSpPr>
        <p:spPr>
          <a:xfrm>
            <a:off x="468360" y="1662120"/>
            <a:ext cx="8261280" cy="11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Нужно ли нам знать устаревшие слов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Прямоугольник 4"/>
          <p:cNvSpPr/>
          <p:nvPr/>
        </p:nvSpPr>
        <p:spPr>
          <a:xfrm>
            <a:off x="611280" y="2798640"/>
            <a:ext cx="7632720" cy="32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рогие отрок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ься старательно следует. Ибо велика ведь бывает польза от учения. Благое время для сего – детство. В книгу чаще зри, она жизнь облегчит, избавит от скуки. Пред очами вашими откроются врата в мир большой и прекрас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К чему призывают вас древние писате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7T15:19:09Z</dcterms:created>
  <dc:creator>Admin</dc:creator>
  <dc:description/>
  <dc:language>en-US</dc:language>
  <cp:lastModifiedBy>admin</cp:lastModifiedBy>
  <cp:lastPrinted>2016-10-17T12:47:54Z</cp:lastPrinted>
  <dcterms:modified xsi:type="dcterms:W3CDTF">2019-10-03T20:34:21Z</dcterms:modified>
  <cp:revision>119</cp:revision>
  <dc:subject/>
  <dc:title>Слайд 1</dc:title>
</cp:coreProperties>
</file>