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7B5-33B3-4607-ADFB-F2448760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D39-72BE-4CCA-9158-2CFD6669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BBB-A3F7-49DD-8647-0F1C7733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2F2-C59C-4EC6-B416-5BAD858D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3734-8121-4F3E-8CF6-FA93DFB8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0728-9238-47BC-9465-57069DBC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BBF1-7105-4BFB-9A41-F0D5F8CA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D75A-CCA4-4882-AE3E-A4532942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FC69-B6EC-4E16-9B8C-5F97BB0E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882F-28D4-4872-A739-087DB70B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77A0-1AAA-47A1-AE36-57F35D8F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56F-6274-49D6-8369-FD86373A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89C1-8935-4792-8F03-32D665F1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E050-0B1E-4357-961D-2AE4EA02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392D-3555-4CB5-ABD5-1EA25052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49C4-72D3-4F00-BB6C-B5DDF4EE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847F-0784-40D9-A88E-E3A2CCCA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8EBD-2E35-41A6-BF63-A118B43D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0552-620D-4BCE-9ED2-8535E909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BC5B-E395-495C-99FD-93E0012F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F2F69-B56B-4155-BBDC-9FE73838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0CD83-F018-472E-9E17-D48D0806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621-9654-4251-AD0F-EFA99247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0A26-C799-466E-BBA1-1FA89740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DD1F-7982-4632-A094-89259F2D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6BEE8-059A-4B1D-AF36-227E3248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7E85-C2FB-4E40-9A70-937E588E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1555-EFD5-4C38-BB9C-32CE4F3E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28FE-F733-46F1-89AB-2A587FDF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5704-B39F-4EC9-BEC6-CCBC38F5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6CF0-4F95-4F1C-8AF6-0A3131A9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1609-1B4B-4657-A591-67685656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8DF09-A158-408B-8A89-4BE9B7DE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07F-5945-4A40-822F-98FF59E0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1BB31-881C-4EAC-A52E-CF94C44A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73A4F-E519-4812-B773-7D8E84E3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32DA-5E16-4F33-AC58-D1C60AF1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D6161-BE87-445A-8FF3-0D5F35F7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BC05-E0C9-41BB-BD97-C6C0888B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1EEC0-4417-4DAC-80AE-223B4249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451B0-A6F3-443F-9D20-7C804F14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63EAB-6F54-4B60-BD21-D558DEE1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AB2FC-5E98-47F1-A80A-7E8E4E62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B460A-E617-42DA-A956-8D65688C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6A2-57B4-4D07-A4F5-2907378F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C122-CF2D-40C0-BF03-E45C4413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A297F-EBDD-44CC-8A37-A42FD7FF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92079-A737-405E-9420-91B62646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4C77F-F40E-4843-AF97-50665819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79EA0-B893-448D-91B2-194ECA1F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C665E-C549-4092-A9A4-63AD8DE2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AD766-54F6-4F71-BF0D-AC2ACB52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66B0-E761-4BD0-8C5F-34E96D41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5CED5-5A2C-474A-A8DE-98DBE908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006A7-614D-4F29-8482-3C444C84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2AD-2C71-49AF-AF60-B8E0B6BD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6085B-AD2F-414A-9612-5B872CEF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9301D-88F5-4A9C-B934-F3780361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404B2-60EA-43E0-ADDF-E676BF96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D7B96-E877-4A60-AF2A-59BC62F7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CED0-5019-4D32-A03C-9B535DF4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3B2D1-C9A2-4BFF-91AE-A802AACF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FEF3D-BC9D-4BB8-BDBC-C10B2EF5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75A69-A04D-41A1-BA10-5585E30F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9966-5C5F-4A36-AF8A-ECDFC1D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98DC7-AD6B-40AE-8B4B-9A2F38B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22C-B290-466E-AA0C-877FAB8B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20619-B33F-4D54-A277-0866137B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1CB4D-1C96-4D43-AA5F-95FE0252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7FC87-D5CB-4814-A36A-F145CDDA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46965-ABA7-4203-9B73-5A6D6E70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494C9-7BBE-4C4C-A484-ADACD3B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4393-134B-4BEB-AC30-50506E2D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02795-B1BD-4DF8-8BB8-24DCE666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F2933-971C-4100-866E-C7F659D5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0F8F4-DFDB-4916-B201-24FC34F4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A1DB7-30FF-4000-97AD-97871C6B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947-053C-41DA-8A59-C654ED2A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78091-A038-4261-A4E7-C6ED420B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50387-DEB7-4736-B290-4979C34E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C901F-7BB9-4C72-B4D8-D860EB31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6DC40-F4E7-44FA-9A74-AC119D1F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8AA43-879D-4B75-94F4-C1B87FE2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779-ACC7-461E-89C4-5F8BF231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E605-F444-4788-98E0-209ABEF1C31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A7E-624B-4BA9-8C89-4BC868CFBC2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AFD8-688A-47A2-83A0-5E0B6B9F20F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330B-3BE0-469C-A444-03821A98AD6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7D00-79D1-459B-A773-95455D92C24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C28D-D52F-495F-8E87-9B3A73F3936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79E8-74E7-47E9-86D8-1921EB5E9D1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 Л О Р Б О Л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Picture 3" descr="F:\737143881.jpg"/>
          <p:cNvPicPr/>
          <p:nvPr/>
        </p:nvPicPr>
        <p:blipFill>
          <a:blip r:embed="rId1"/>
          <a:stretch/>
        </p:blipFill>
        <p:spPr>
          <a:xfrm>
            <a:off x="749160" y="1628640"/>
            <a:ext cx="763920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ОБХОДИМЫЙ ИНВЕНТАРЬ ДЛЯ ИГР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4" descr="F:\660800.jpg"/>
          <p:cNvPicPr/>
          <p:nvPr/>
        </p:nvPicPr>
        <p:blipFill>
          <a:blip r:embed="rId1"/>
          <a:stretch/>
        </p:blipFill>
        <p:spPr>
          <a:xfrm>
            <a:off x="762120" y="1916280"/>
            <a:ext cx="76197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220464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езопасный вид спорта, как для самих игроков, так и для помещений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вивает ловкость, выносливость, быстроту и практически не имеет никаких противопоказаний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ложительно влияет на становление личности ребёнка в целом (физическая подготовленность, развитие психических качеств, становление воли, самоконтроля, ощущение ребёнком себя как равноправного члена единой команды)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ЧЕМУ МЫ ВЫБИРАЕМ ФЛОРБО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684360" y="1052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684360" y="134136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авила игры просты и доступны;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жно играть на небольших дворовых площадках; 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единственный вид командного спорта, в котором могут организовываться смешанные по полу команды;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руглогодичный вид спорта, игра организуется как в закрытых, так и на открытых площадках;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пускается изменять количество полевых игроков (от трех и более) в зависимости от размеров площадки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ЛОРБОЛ – ДИНАМИЧНАЯ И ЗРЕЛИЩНАЯ КОМАНДНАЯ ИГРА</a:t>
            </a:r>
            <a:br>
              <a:rPr sz="60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F:\517b6805becdc.jpg"/>
          <p:cNvPicPr/>
          <p:nvPr/>
        </p:nvPicPr>
        <p:blipFill>
          <a:blip r:embed="rId1"/>
          <a:stretch/>
        </p:blipFill>
        <p:spPr>
          <a:xfrm>
            <a:off x="826920" y="1916280"/>
            <a:ext cx="756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ЛОРБОЛ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нгл. </a:t>
            </a:r>
            <a:r>
              <a:rPr b="0" i="1" lang="en-US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floorball</a:t>
            </a:r>
            <a:r>
              <a:rPr b="0" i="1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Floor</a:t>
            </a:r>
            <a:r>
              <a:rPr b="0" i="1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– пол, </a:t>
            </a:r>
            <a:r>
              <a:rPr b="0" i="1" lang="en-US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Ball</a:t>
            </a:r>
            <a:r>
              <a:rPr b="0" i="1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– мяч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оккей в зале – 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амый молодой из видов хоккея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1968 году несколько шведских студентов, находясь на каникулах в Голландии, увидели в витринах магазинов пластмассовые клюшки. Они решили взять с собой несколько клюшек, шайб и мячей в Швецию, чтобы получше познакомиться со снаряжением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сле проверки молодёжь поняла, что в будущем эта игра станет популярной и флорхоккей с шайбой и мячом стали развиваться в спортивных клубах, школах с целью тренировок и восстановления здоровья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ЛОРБОЛ </a:t>
            </a:r>
            <a:br>
              <a:rPr sz="4800"/>
            </a:b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РОДИЛСЯ В ШВЕЦИИ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95280" y="2420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лощадка для игры: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40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×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0 м., огражденная по периметру бортиками высотой 50 с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гроки: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в игре принимают участие 5 игроков и один вратар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ремя игры: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3 или 2 периода по 15-20 минут, каждый период и после забитого мяча игра начинается в центре поля с розыгрыша спортивного мяч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ратарь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играет без клюшки в пределах площадки у ворот и может использовать любую часть тел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мена игроков (в том числе вратаря)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разрешается в любое время и в неограниченном количеств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338040"/>
            <a:ext cx="829152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ЩИЕ ПОЛОЖЕНИЯ ИГРЫ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23640" y="1844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авила трех метров: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при розыгрыше стандартного положения и вводе мяча в игру игроки защищающейся команды должны без указания судьи занять место в трех метрах от мяч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авила трех секунд: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после получения права ввести мяч в игру игроки этой команды (в том числе и вратарь) должны это сделать без задержки в течение тре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яч в игру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после нарушения правил вводится игроком с места нарушения, если нарушение было за линией ворот – с угла площад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случае, если в ворота команды, из которой,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удален игрок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забивается мяч, то удаленный игрок имеет право выйти на площадк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СНОВНЫЕ ПРАВИЛ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ФОРБОЛА МОГУТ ИСПОЛЬЗОВАТЬСЯ ЛЮБЫЕ РОВНЫЕ ПЛОЩАДКИ С РАЗЛИЧНЫМИ ПОВЕРХНОСТЯМИ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4" descr="F:\3.jpg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F:\florbol-1.jpg"/>
          <p:cNvPicPr/>
          <p:nvPr/>
        </p:nvPicPr>
        <p:blipFill>
          <a:blip r:embed="rId1"/>
          <a:stretch/>
        </p:blipFill>
        <p:spPr>
          <a:xfrm>
            <a:off x="826920" y="907920"/>
            <a:ext cx="77058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8000" y="337680"/>
            <a:ext cx="885672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ЭКИПИРОВКА ИГРОКА СОСТОИТ ИЗ МАЙКИ С КОРОТКИМИ РУКАВАМИ, СПОРТИВНЫХ ТРУСОВ (ШОРТ) И ОБУВИ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4" descr="F:\florbol.jpg"/>
          <p:cNvPicPr/>
          <p:nvPr/>
        </p:nvPicPr>
        <p:blipFill>
          <a:blip r:embed="rId1"/>
          <a:stretch/>
        </p:blipFill>
        <p:spPr>
          <a:xfrm>
            <a:off x="826920" y="1916280"/>
            <a:ext cx="76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ЭКИПИРОВКА ВРАТА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Picture 2" descr="F:\DSC03278(1).jpg"/>
          <p:cNvPicPr/>
          <p:nvPr/>
        </p:nvPicPr>
        <p:blipFill>
          <a:blip r:embed="rId1"/>
          <a:stretch/>
        </p:blipFill>
        <p:spPr>
          <a:xfrm>
            <a:off x="728640" y="1844640"/>
            <a:ext cx="7686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8:51:31Z</dcterms:created>
  <dc:creator>1</dc:creator>
  <dc:description/>
  <dc:language>en-US</dc:language>
  <cp:lastModifiedBy>1</cp:lastModifiedBy>
  <cp:lastPrinted>2012-10-15T07:49:29Z</cp:lastPrinted>
  <dcterms:modified xsi:type="dcterms:W3CDTF">2018-02-20T07:40:35Z</dcterms:modified>
  <cp:revision>153</cp:revision>
  <dc:subject/>
  <dc:title>Презентация PowerPoint</dc:title>
</cp:coreProperties>
</file>