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gif" ContentType="image/gif"/>
  <Override PartName="/ppt/media/image10.png" ContentType="image/pn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CB7-DC46-4B1A-975A-533E3DEA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21B-7B2E-4768-A88E-A6215883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8BC-728A-4A8A-8EDD-FF7F2A5C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80E-C8AA-4CD5-91C7-2BB87A81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7B14-D305-4D82-BE1B-BBF94203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C9C3-8E80-445D-8CF0-FBC26F3D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F698-A902-41A2-9421-A32B650B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A8DC-8742-4A74-9C1C-C27553B7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069D-1D5F-4302-8855-593B79DD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A067-A080-4C0D-9632-86841960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B18A-D2A2-458E-96C8-43765F48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A67-F0C2-4780-938F-E9894A73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F3CC-0CB9-4B0C-9821-C836A55F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CCC0-C40B-4FCD-AA22-E99C6992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8550-9FBD-4905-BC25-4CEEC625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3B62-CED1-4BC8-8C78-CD8CE857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B160-EFAE-4699-8AD7-13E2A744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16EF-597F-4E6B-A364-C3D76DEA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71C5E-E6F0-4CC0-9FE5-F6EC71FD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AD9D5-F24C-49D4-9C35-E33129B7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8B0D3-6E44-48D5-A726-989D496D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CC1F7-50DF-44AA-A452-0FD8B57A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3AB-0251-4904-8FEE-312169C7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2636D-CB04-4C6C-BC62-74A875E8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F549-63CA-4B84-ACBA-7FF3F736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85931-CDF9-4BB9-BF54-60FD1EE2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AE1A-C148-4979-8001-3785EA34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51D5D-D379-457D-8EB0-295178E3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ADC0D-8382-44FD-83AF-C44113A9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6F7F-2FF8-4F56-9254-B0D23EE9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83D-EE69-46F1-A355-9E88DBFB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F08-E7B8-4160-B8AA-3D59E0C3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13C5-9BBB-4F86-81B4-2FC2A642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562-CCEA-45FB-A689-9BF9A36E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0F6-412A-4CFB-81B4-F770D883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F7B-EC64-4005-8681-BBC1AE59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c0ff"/>
            </a:gs>
            <a:gs pos="100000">
              <a:srgbClr val="5497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accbf9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accbf9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accbf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accbf9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accbf9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2652480"/>
            <a:ext cx="9143640" cy="2285640"/>
          </a:xfrm>
          <a:prstGeom prst="rect">
            <a:avLst/>
          </a:prstGeom>
          <a:gradFill rotWithShape="0">
            <a:gsLst>
              <a:gs pos="0">
                <a:srgbClr val="accbf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7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CB4463-259D-4CC1-A9FC-F83660F78497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78697b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c0ff"/>
            </a:gs>
            <a:gs pos="100000">
              <a:srgbClr val="5497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accbf9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accbf9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accbf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2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2C66E29-0D80-413F-B462-9C423BEC5A69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78697b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c0ff"/>
            </a:gs>
            <a:gs pos="100000">
              <a:srgbClr val="5497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accbf9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accbf9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accbf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7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dt" idx="7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F417A80-5580-488C-AA4D-E80CE17F4BBA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1214280" y="714240"/>
            <a:ext cx="66243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«Путешествие  с солнышком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для детей 3-4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428920" y="4572000"/>
            <a:ext cx="3960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спитатель ГБДОУ детский сад №8 Калининского район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дникова А.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2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Диаграмма 1" descr=""/>
          <p:cNvPicPr/>
          <p:nvPr/>
        </p:nvPicPr>
        <p:blipFill>
          <a:blip r:embed="rId1"/>
          <a:stretch/>
        </p:blipFill>
        <p:spPr>
          <a:xfrm>
            <a:off x="611640" y="188640"/>
            <a:ext cx="2888640" cy="2239920"/>
          </a:xfrm>
          <a:prstGeom prst="rect">
            <a:avLst/>
          </a:prstGeom>
          <a:ln w="0">
            <a:noFill/>
          </a:ln>
        </p:spPr>
      </p:pic>
      <p:pic>
        <p:nvPicPr>
          <p:cNvPr id="152" name="Диаграмма 1" descr=""/>
          <p:cNvPicPr/>
          <p:nvPr/>
        </p:nvPicPr>
        <p:blipFill>
          <a:blip r:embed="rId2"/>
          <a:stretch/>
        </p:blipFill>
        <p:spPr>
          <a:xfrm>
            <a:off x="6072120" y="4214880"/>
            <a:ext cx="2675880" cy="2238120"/>
          </a:xfrm>
          <a:prstGeom prst="rect">
            <a:avLst/>
          </a:prstGeom>
          <a:ln w="0">
            <a:noFill/>
          </a:ln>
        </p:spPr>
      </p:pic>
      <p:pic>
        <p:nvPicPr>
          <p:cNvPr id="153" name="Диаграмма 1" descr=""/>
          <p:cNvPicPr/>
          <p:nvPr/>
        </p:nvPicPr>
        <p:blipFill>
          <a:blip r:embed="rId3"/>
          <a:stretch/>
        </p:blipFill>
        <p:spPr>
          <a:xfrm>
            <a:off x="611640" y="4286160"/>
            <a:ext cx="2745720" cy="2166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cs10052.vkontakte.ru/u21745767/-14/x_b0174710.jpg"/>
          <p:cNvPicPr/>
          <p:nvPr/>
        </p:nvPicPr>
        <p:blipFill>
          <a:blip r:embed="rId4"/>
          <a:stretch/>
        </p:blipFill>
        <p:spPr>
          <a:xfrm>
            <a:off x="5868000" y="188640"/>
            <a:ext cx="28800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Диаграмма 1" descr=""/>
          <p:cNvPicPr/>
          <p:nvPr/>
        </p:nvPicPr>
        <p:blipFill>
          <a:blip r:embed="rId1"/>
          <a:stretch/>
        </p:blipFill>
        <p:spPr>
          <a:xfrm>
            <a:off x="1857240" y="1428840"/>
            <a:ext cx="54288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http://www.allforchildren.ru/pictures/sun2/sun103.png"/>
          <p:cNvPicPr/>
          <p:nvPr/>
        </p:nvPicPr>
        <p:blipFill>
          <a:blip r:embed="rId1"/>
          <a:stretch/>
        </p:blipFill>
        <p:spPr>
          <a:xfrm>
            <a:off x="1714320" y="1000080"/>
            <a:ext cx="5714640" cy="42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http://www.razumniki.ru/images/articles/razvitie_rechi/rech12.jpg"/>
          <p:cNvPicPr/>
          <p:nvPr/>
        </p:nvPicPr>
        <p:blipFill>
          <a:blip r:embed="rId1"/>
          <a:stretch/>
        </p:blipFill>
        <p:spPr>
          <a:xfrm>
            <a:off x="1857240" y="1785960"/>
            <a:ext cx="4273560" cy="3197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anyamashka.ru/_ph/33/2/315288020.gif"/>
          <p:cNvPicPr/>
          <p:nvPr/>
        </p:nvPicPr>
        <p:blipFill>
          <a:blip r:embed="rId2"/>
          <a:stretch/>
        </p:blipFill>
        <p:spPr>
          <a:xfrm>
            <a:off x="1857240" y="1643040"/>
            <a:ext cx="157248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img-fotki.yandex.ru/get/3912/sunny-fanny.50/0_34d96_7085be44_L.jpg"/>
          <p:cNvPicPr/>
          <p:nvPr/>
        </p:nvPicPr>
        <p:blipFill>
          <a:blip r:embed="rId1"/>
          <a:stretch/>
        </p:blipFill>
        <p:spPr>
          <a:xfrm>
            <a:off x="2286000" y="1714320"/>
            <a:ext cx="457164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143160" y="1071720"/>
            <a:ext cx="2425680" cy="4285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http://img1.liveinternet.ru/images/attach/c/5/86/495/86495247_JPEG_1.jpg"/>
          <p:cNvPicPr/>
          <p:nvPr/>
        </p:nvPicPr>
        <p:blipFill>
          <a:blip r:embed="rId1"/>
          <a:stretch/>
        </p:blipFill>
        <p:spPr>
          <a:xfrm>
            <a:off x="2500200" y="1500120"/>
            <a:ext cx="4667040" cy="3499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img1.liveinternet.ru/images/attach/c/2/72/314/72314699_2d6a3dbfdc469efca2d58dca56f69ba7.gif"/>
          <p:cNvPicPr/>
          <p:nvPr/>
        </p:nvPicPr>
        <p:blipFill>
          <a:blip r:embed="rId2"/>
          <a:stretch/>
        </p:blipFill>
        <p:spPr>
          <a:xfrm>
            <a:off x="3786120" y="2571840"/>
            <a:ext cx="2585160" cy="21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img1.liveinternet.ru/images/attach/c/5/86/495/86495247_JPEG_1.jpg"/>
          <p:cNvPicPr/>
          <p:nvPr/>
        </p:nvPicPr>
        <p:blipFill>
          <a:blip r:embed="rId1"/>
          <a:stretch/>
        </p:blipFill>
        <p:spPr>
          <a:xfrm>
            <a:off x="2428920" y="1714320"/>
            <a:ext cx="4644000" cy="34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animated-images.su/_ph/13/2/386445994.gif"/>
          <p:cNvPicPr/>
          <p:nvPr/>
        </p:nvPicPr>
        <p:blipFill>
          <a:blip r:embed="rId1"/>
          <a:stretch/>
        </p:blipFill>
        <p:spPr>
          <a:xfrm>
            <a:off x="1857240" y="1643040"/>
            <a:ext cx="5247720" cy="39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Воздушный поток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здушный поток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65</TotalTime>
  <Application>LibreOffice/7.4.7.2$Linux_X86_64 LibreOffice_project/40$Build-2</Application>
  <AppVersion>15.0000</AppVersion>
  <Words>20</Words>
  <Paragraphs>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09:29:05Z</dcterms:created>
  <dc:creator>123q</dc:creator>
  <dc:description/>
  <dc:language>en-US</dc:language>
  <cp:lastModifiedBy>настя</cp:lastModifiedBy>
  <dcterms:modified xsi:type="dcterms:W3CDTF">2019-10-03T11:36:23Z</dcterms:modified>
  <cp:revision>1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