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486-DB30-4B0E-A54C-5CDB099A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9EF-10EA-4CB9-9830-A9C07B34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8BF-0CC6-426A-B96B-4FF94C6C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13B-87E2-4ECB-BCF5-23573A99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7629-B409-444C-920F-D7CD56A4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1E5D-8E4D-431E-8DA4-A707BCDE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B1A1-F6FA-4552-8A55-48AB8512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4D74-ABBF-4681-BB8A-A9923B35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ECF9-A9FB-4ABD-B615-C9CC91EB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AC07-EDF9-4BFD-A8B2-0C046CAB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D75D-BBE3-430A-A152-02B43824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7FF-28DA-4D4B-B4C6-69CE5DB5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60C5-BE69-4B36-8632-A0CE302C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4384-255B-4C7B-85DB-1761267C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532D-8719-4D50-8321-887E5B85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F3A2-F9E3-4CE6-A653-FC925275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6F04-2EEC-40E7-9545-57CB9496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742C-1194-4B7E-8B5D-1F7C3231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3EFF-3BAB-46F0-B7D8-DFB059DB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F5A8-A1FC-4351-8566-B37F159F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E2E73-8342-4400-9586-317EE7AA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98901-DEC5-45EF-A8BD-6BD86A73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4A5-509C-411B-8905-FD33235D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3372A-A74E-48B1-ACBB-12375BA9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8C344-2B64-45BA-A064-E7E80AEF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58EF1-AB8C-424C-B054-DC17F7B8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FB5F-99EE-4DDC-B887-ED908AB2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8FB68-9C02-49E5-A022-7E2F2343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31A3-991A-47FF-AB9E-BCA182D9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E63BD-DD1E-44CF-B83B-B2DB6DA7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A54-EBE9-4D2F-A302-4102A137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29E-8391-41D3-8E5C-E1D2E52F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3B2-3500-4765-AFB3-A39B7E9E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3E7-6907-45F4-AAC1-A45C6A0E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9A3-FE41-4BB8-9AE8-6AC0C27D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027-6BA4-4B77-B514-BFA6D135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35CE-5FCF-407A-B225-B2B1318EA7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200880" y="638172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6a6a6"/>
                </a:solidFill>
                <a:latin typeface="Calibri"/>
                <a:ea typeface="Times New Roman"/>
              </a:rPr>
              <a:t>©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a6a6a6"/>
                </a:solidFill>
                <a:latin typeface="Calibri"/>
                <a:ea typeface="Times New Roman"/>
              </a:rPr>
              <a:t>Ольга Михайловна Нос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971640" y="981000"/>
            <a:ext cx="7129440" cy="410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Рамка 8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4" name="Рамка 8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58760" y="158760"/>
              <a:ext cx="8826480" cy="65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Рисунок 9" descr=""/>
          <p:cNvPicPr/>
          <p:nvPr/>
        </p:nvPicPr>
        <p:blipFill>
          <a:blip r:embed="rId4"/>
          <a:stretch/>
        </p:blipFill>
        <p:spPr>
          <a:xfrm>
            <a:off x="1258920" y="3860640"/>
            <a:ext cx="6145200" cy="3095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F06A-DB35-4E77-B784-C532F8F44D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6"/>
          <p:cNvSpPr/>
          <p:nvPr/>
        </p:nvSpPr>
        <p:spPr>
          <a:xfrm>
            <a:off x="179280" y="189000"/>
            <a:ext cx="878544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970920" y="633888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6a6a6"/>
                </a:solidFill>
                <a:latin typeface="Calibri"/>
                <a:ea typeface="Times New Roman"/>
              </a:rPr>
              <a:t>©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a6a6a6"/>
                </a:solidFill>
                <a:latin typeface="Calibri"/>
                <a:ea typeface="Times New Roman"/>
              </a:rPr>
              <a:t>Ольга Михайловна Нос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8" descr=""/>
          <p:cNvPicPr/>
          <p:nvPr/>
        </p:nvPicPr>
        <p:blipFill>
          <a:blip r:embed="rId3"/>
          <a:stretch/>
        </p:blipFill>
        <p:spPr>
          <a:xfrm>
            <a:off x="5270400" y="4888080"/>
            <a:ext cx="3678480" cy="172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7B4F-694E-4EF3-8C2A-CA874DB3C1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633240" y="762120"/>
            <a:ext cx="7785360" cy="2334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57200" y="3000240"/>
            <a:ext cx="640080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Гладких Светлана Викторов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КОУ Скнаров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                                  </a:t>
            </a: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Подума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очка                  кол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гол                       ш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ом                     п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жар                     С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аза                    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има                   ф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img5"/>
          <p:cNvPicPr/>
          <p:nvPr/>
        </p:nvPicPr>
        <p:blipFill>
          <a:blip r:embed="rId1"/>
          <a:srcRect l="14713" t="24940" r="75130" b="65375"/>
          <a:stretch/>
        </p:blipFill>
        <p:spPr>
          <a:xfrm>
            <a:off x="2500200" y="928800"/>
            <a:ext cx="617760" cy="441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img5"/>
          <p:cNvPicPr/>
          <p:nvPr/>
        </p:nvPicPr>
        <p:blipFill>
          <a:blip r:embed="rId2"/>
          <a:srcRect l="14713" t="35606" r="75130" b="54226"/>
          <a:stretch/>
        </p:blipFill>
        <p:spPr>
          <a:xfrm>
            <a:off x="2500200" y="2714760"/>
            <a:ext cx="6177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img5"/>
          <p:cNvPicPr/>
          <p:nvPr/>
        </p:nvPicPr>
        <p:blipFill>
          <a:blip r:embed="rId3"/>
          <a:srcRect l="14713" t="46257" r="75130" b="43832"/>
          <a:stretch/>
        </p:blipFill>
        <p:spPr>
          <a:xfrm>
            <a:off x="2500200" y="1428840"/>
            <a:ext cx="617760" cy="45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img5"/>
          <p:cNvPicPr/>
          <p:nvPr/>
        </p:nvPicPr>
        <p:blipFill>
          <a:blip r:embed="rId4"/>
          <a:srcRect l="14713" t="56903" r="75130" b="33176"/>
          <a:stretch/>
        </p:blipFill>
        <p:spPr>
          <a:xfrm>
            <a:off x="2500200" y="1857240"/>
            <a:ext cx="617760" cy="45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img5"/>
          <p:cNvPicPr/>
          <p:nvPr/>
        </p:nvPicPr>
        <p:blipFill>
          <a:blip r:embed="rId5"/>
          <a:srcRect l="14713" t="67318" r="75130" b="22751"/>
          <a:stretch/>
        </p:blipFill>
        <p:spPr>
          <a:xfrm>
            <a:off x="2500200" y="2286000"/>
            <a:ext cx="61776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img5"/>
          <p:cNvPicPr/>
          <p:nvPr/>
        </p:nvPicPr>
        <p:blipFill>
          <a:blip r:embed="rId6"/>
          <a:srcRect l="57177" t="76751" r="33213" b="11879"/>
          <a:stretch/>
        </p:blipFill>
        <p:spPr>
          <a:xfrm>
            <a:off x="2571840" y="3143160"/>
            <a:ext cx="584280" cy="517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img5"/>
          <p:cNvPicPr/>
          <p:nvPr/>
        </p:nvPicPr>
        <p:blipFill>
          <a:blip r:embed="rId7"/>
          <a:srcRect l="71709" t="77491" r="18504" b="12588"/>
          <a:stretch/>
        </p:blipFill>
        <p:spPr>
          <a:xfrm>
            <a:off x="4643280" y="2286000"/>
            <a:ext cx="595440" cy="45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img5"/>
          <p:cNvPicPr/>
          <p:nvPr/>
        </p:nvPicPr>
        <p:blipFill>
          <a:blip r:embed="rId8"/>
          <a:srcRect l="29224" t="24703" r="61154" b="64887"/>
          <a:stretch/>
        </p:blipFill>
        <p:spPr>
          <a:xfrm>
            <a:off x="4643280" y="1785960"/>
            <a:ext cx="584280" cy="473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img5"/>
          <p:cNvPicPr/>
          <p:nvPr/>
        </p:nvPicPr>
        <p:blipFill>
          <a:blip r:embed="rId9"/>
          <a:srcRect l="29224" t="35843" r="61154" b="54714"/>
          <a:stretch/>
        </p:blipFill>
        <p:spPr>
          <a:xfrm>
            <a:off x="4643280" y="3143160"/>
            <a:ext cx="584280" cy="4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img5"/>
          <p:cNvPicPr/>
          <p:nvPr/>
        </p:nvPicPr>
        <p:blipFill>
          <a:blip r:embed="rId10"/>
          <a:srcRect l="29224" t="46493" r="61154" b="44063"/>
          <a:stretch/>
        </p:blipFill>
        <p:spPr>
          <a:xfrm>
            <a:off x="4643280" y="1000080"/>
            <a:ext cx="584280" cy="430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img5"/>
          <p:cNvPicPr/>
          <p:nvPr/>
        </p:nvPicPr>
        <p:blipFill>
          <a:blip r:embed="rId11"/>
          <a:srcRect l="29224" t="56667" r="61154" b="33160"/>
          <a:stretch/>
        </p:blipFill>
        <p:spPr>
          <a:xfrm>
            <a:off x="4643280" y="271476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img5"/>
          <p:cNvPicPr/>
          <p:nvPr/>
        </p:nvPicPr>
        <p:blipFill>
          <a:blip r:embed="rId12"/>
          <a:srcRect l="29224" t="67318" r="61154" b="23958"/>
          <a:stretch/>
        </p:blipFill>
        <p:spPr>
          <a:xfrm>
            <a:off x="4643280" y="1428840"/>
            <a:ext cx="58428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Новое зн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71720" y="1285560"/>
            <a:ext cx="675792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Звонкие и глухие согласные могут образовывать пары. Поэтому они называются парными соглас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img5"/>
          <p:cNvPicPr/>
          <p:nvPr/>
        </p:nvPicPr>
        <p:blipFill>
          <a:blip r:embed="rId1"/>
          <a:srcRect l="14709" t="25176" r="60976" b="10903"/>
          <a:stretch/>
        </p:blipFill>
        <p:spPr>
          <a:xfrm>
            <a:off x="3929040" y="3286080"/>
            <a:ext cx="14763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7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Тема урока:</a:t>
            </a:r>
            <a:br>
              <a:rPr sz="44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«Звонкие и глухие согласные звуки. Обозначение их на письм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3840" y="2714400"/>
            <a:ext cx="8929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. Будем учиться находить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уквы парных звонких и    глухих согласных в сло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. Будем учиться сравнивать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звучание и написание слов с парными согласными.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http://2.bp.blogspot.com/-QNWl9Lb9J4U/UEDLGXHg7uI/AAAAAAAALeI/qYRUcCIcSvM/s1600/0_828ac_dca4804f_L.pn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книг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http://englishland.ucoz.com/11/0_657da_d4fec14e_XL.pn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овен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http://rewalls.com/pic/201106/1280x960/reWalls.com-35959.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фон мятая бума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http://desktopwallpapers.org.ua/pic/201302/1600x1200/desktopwallpapers.org.ua-24391.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желтый ф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8:55:10Z</dcterms:created>
  <dc:creator>Ольга Михайловна</dc:creator>
  <dc:description/>
  <dc:language>en-US</dc:language>
  <cp:lastModifiedBy>Учитель</cp:lastModifiedBy>
  <dcterms:modified xsi:type="dcterms:W3CDTF">2018-11-28T09:15:22Z</dcterms:modified>
  <cp:revision>8</cp:revision>
  <dc:subject/>
  <dc:title>Шаблон для презентаций  к урокам русского языка</dc:title>
</cp:coreProperties>
</file>