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B0-2503-4A6D-9D91-0B5469D2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D4B-AD6C-4AB5-85DC-0D70111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1E7-4002-4B5C-BCC6-C3638426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C73-CE5F-43BF-BBEE-9F606B69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4880-439D-4ED5-B529-5C35CFBA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4D4-0384-496E-8A4E-97D894F4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56C-C48D-4CFD-BEB4-E0AE6B6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1B7-C048-43EC-A1A4-3A88577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CE00-EC5B-4EF4-9D3F-1BF030F1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BF94-20EF-4979-B47D-4031382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BF8-7476-4F6D-9AB2-73D4079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967-824F-439F-9B29-CA11A31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A71-E93C-458F-AB50-4080C6C3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0AA1-E08D-49B4-98A4-6841F6E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5948-DA71-4E1E-894F-B772B24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829F-6004-4AC6-B78C-2DD9DBC1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AAA-38D5-4BD6-987B-D50ADF7A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4FA0-12A7-4C41-AED7-C93864E8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DF54-1F47-4E53-96F7-B396A28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C28D-0B69-412A-8D3B-36D6F05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47C5-3FDF-45B5-B5AE-D7BD15D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6A68-5B94-4CC5-B5D7-393386F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FA4-6CCA-4131-810F-F163F392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C1F7-B410-47FD-B61C-C168744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B381-6985-477E-9497-D090034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B969-5452-4FC1-9185-A5E4115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1A6C-E661-4E5A-9050-FF07046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ACC9-F812-40DC-8F76-5461260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25B6-0F65-442B-AC93-DD02206D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CED3-4E75-475D-BDF9-EB7DAC8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2A39-6DC0-48CE-80E9-F2A213B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FB5D-8D91-47BE-B64F-E97AFC87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75C6-E8FA-4D03-A850-6A30AEC5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1FF-DBDE-4F4B-802A-6AFECBA5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B05D-1F30-4F15-8EFD-F7192C8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6900-24A7-4815-9684-781B020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F49D-DBCC-4BDB-8DA2-85842495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BAA2-00AA-4C5E-A540-06F99E0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F1AF-069C-49CE-8597-02D6E7D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513B-D42B-4DB4-BD89-213D00F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9BA1-2286-4E1B-B659-9552D5C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E4D2-C561-4FB4-A7EC-01B3398C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E1E5-36D1-4FE1-8B78-41B13462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DC8-9AB6-4EAA-A06D-3717FE2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FEF-DFE9-4FF9-979F-D6E45C5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290-CF78-4BE2-865A-D36FDBC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E8D-E46C-44A2-9EDE-C8AECC0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0D7-8133-4ACB-A645-5A61D2B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8235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ligraph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847-1FAD-4987-A239-7477ED319D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8235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 rot="2499000">
            <a:off x="9569160" y="1860480"/>
            <a:ext cx="2500200" cy="2405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 rot="18569400">
            <a:off x="486000" y="3779280"/>
            <a:ext cx="2290680" cy="238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User\Desktop\img0.png"/>
          <p:cNvPicPr/>
          <p:nvPr/>
        </p:nvPicPr>
        <p:blipFill>
          <a:blip r:embed="rId4"/>
          <a:stretch/>
        </p:blipFill>
        <p:spPr>
          <a:xfrm>
            <a:off x="1020600" y="198360"/>
            <a:ext cx="9937800" cy="6567480"/>
          </a:xfrm>
          <a:prstGeom prst="rect">
            <a:avLst/>
          </a:prstGeom>
          <a:ln w="0">
            <a:noFill/>
          </a:ln>
        </p:spPr>
      </p:pic>
      <p:grpSp>
        <p:nvGrpSpPr>
          <p:cNvPr id="44" name="Рамка 12"/>
          <p:cNvGrpSpPr/>
          <p:nvPr/>
        </p:nvGrpSpPr>
        <p:grpSpPr>
          <a:xfrm>
            <a:off x="-23760" y="-23760"/>
            <a:ext cx="12234960" cy="6900840"/>
            <a:chOff x="-23760" y="-23760"/>
            <a:chExt cx="12234960" cy="6900840"/>
          </a:xfrm>
        </p:grpSpPr>
        <p:pic>
          <p:nvPicPr>
            <p:cNvPr id="45" name="Рамка 12" descr=""/>
            <p:cNvPicPr/>
            <p:nvPr/>
          </p:nvPicPr>
          <p:blipFill>
            <a:blip r:embed="rId5"/>
            <a:stretch/>
          </p:blipFill>
          <p:spPr>
            <a:xfrm>
              <a:off x="-23760" y="-23760"/>
              <a:ext cx="1223496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7200" y="187200"/>
              <a:ext cx="11817360" cy="64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ligraph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8E0-1D02-4718-98FD-E9DEF93066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8235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 rot="2356800">
            <a:off x="267840" y="4087800"/>
            <a:ext cx="2575080" cy="2552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User\Downloads\104616771_a__3_.png"/>
          <p:cNvPicPr/>
          <p:nvPr/>
        </p:nvPicPr>
        <p:blipFill>
          <a:blip r:embed="rId3"/>
          <a:srcRect l="27779" t="19670" r="27288" b="21252"/>
          <a:stretch/>
        </p:blipFill>
        <p:spPr>
          <a:xfrm>
            <a:off x="277920" y="4635360"/>
            <a:ext cx="1689120" cy="2222640"/>
          </a:xfrm>
          <a:prstGeom prst="rect">
            <a:avLst/>
          </a:prstGeom>
          <a:ln w="0">
            <a:noFill/>
          </a:ln>
        </p:spPr>
      </p:pic>
      <p:grpSp>
        <p:nvGrpSpPr>
          <p:cNvPr id="90" name="Рамка 5"/>
          <p:cNvGrpSpPr/>
          <p:nvPr/>
        </p:nvGrpSpPr>
        <p:grpSpPr>
          <a:xfrm>
            <a:off x="-23760" y="-23760"/>
            <a:ext cx="12234960" cy="6900840"/>
            <a:chOff x="-23760" y="-23760"/>
            <a:chExt cx="12234960" cy="6900840"/>
          </a:xfrm>
        </p:grpSpPr>
        <p:pic>
          <p:nvPicPr>
            <p:cNvPr id="91" name="Рамка 5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1223496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87200" y="187200"/>
              <a:ext cx="11817360" cy="64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ligraph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069-F4D5-4EDA-A9D5-A1D082C084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8235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 rot="20376000">
            <a:off x="9599400" y="4179600"/>
            <a:ext cx="2523960" cy="2531880"/>
          </a:xfrm>
          <a:prstGeom prst="rect">
            <a:avLst/>
          </a:prstGeom>
          <a:ln w="0">
            <a:noFill/>
          </a:ln>
        </p:spPr>
      </p:pic>
      <p:grpSp>
        <p:nvGrpSpPr>
          <p:cNvPr id="135" name="Рамка 4"/>
          <p:cNvGrpSpPr/>
          <p:nvPr/>
        </p:nvGrpSpPr>
        <p:grpSpPr>
          <a:xfrm>
            <a:off x="-23760" y="-23760"/>
            <a:ext cx="12234960" cy="6900840"/>
            <a:chOff x="-23760" y="-23760"/>
            <a:chExt cx="12234960" cy="6900840"/>
          </a:xfrm>
        </p:grpSpPr>
        <p:pic>
          <p:nvPicPr>
            <p:cNvPr id="136" name="Рамка 4" descr=""/>
            <p:cNvPicPr/>
            <p:nvPr/>
          </p:nvPicPr>
          <p:blipFill>
            <a:blip r:embed="rId3"/>
            <a:stretch/>
          </p:blipFill>
          <p:spPr>
            <a:xfrm>
              <a:off x="-23760" y="-23760"/>
              <a:ext cx="1223496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7200" y="187200"/>
              <a:ext cx="11817360" cy="64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3" descr="C:\Users\User\Downloads\1afd6a26bb1f.png"/>
          <p:cNvPicPr/>
          <p:nvPr/>
        </p:nvPicPr>
        <p:blipFill>
          <a:blip r:embed="rId4"/>
          <a:srcRect l="0" t="10062" r="0" b="9477"/>
          <a:stretch/>
        </p:blipFill>
        <p:spPr>
          <a:xfrm>
            <a:off x="9269280" y="4979880"/>
            <a:ext cx="2333880" cy="1878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ligraph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315-956B-4C64-A954-24007E38CF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hyperlink" Target="http://liubavyshka.ru/_ph/54/2/239501991.gif?1448812665" TargetMode="External"/><Relationship Id="rId4" Type="http://schemas.openxmlformats.org/officeDocument/2006/relationships/hyperlink" Target="http://liubavyshka.ru/_ph/54/2/239501991.gif?1448812665" TargetMode="External"/><Relationship Id="rId5" Type="http://schemas.openxmlformats.org/officeDocument/2006/relationships/hyperlink" Target="http://liubavyshka.ru/_ph/54/2/239501991.gif?1448812665" TargetMode="External"/><Relationship Id="rId6" Type="http://schemas.openxmlformats.org/officeDocument/2006/relationships/hyperlink" Target="http://liubavyshka.ru/_ph/54/2/239501991.gif?1448812665" TargetMode="External"/><Relationship Id="rId7" Type="http://schemas.openxmlformats.org/officeDocument/2006/relationships/hyperlink" Target="http://liubavyshka.ru/_ph/54/2/239501991.gif?1448812665" TargetMode="External"/><Relationship Id="rId8" Type="http://schemas.openxmlformats.org/officeDocument/2006/relationships/hyperlink" Target="http://liubavyshka.ru/_ph/54/2/239501991.gif?1448812665" TargetMode="Externa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1.xml"/><Relationship Id="rId11" Type="http://schemas.openxmlformats.org/officeDocument/2006/relationships/slide" Target="slide22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image" Target="../media/image6.png"/><Relationship Id="rId21" Type="http://schemas.openxmlformats.org/officeDocument/2006/relationships/slide" Target="slide23.xml"/><Relationship Id="rId2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76320" y="1569960"/>
            <a:ext cx="6483240" cy="24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ligraph"/>
              </a:rPr>
              <a:t>Игр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ligraph"/>
              </a:rPr>
              <a:t>по тем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ligraph"/>
              </a:rPr>
              <a:t>«Словообразование»</a:t>
            </a:r>
            <a:endParaRPr b="0" lang="en-US" sz="40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2976480" y="6427800"/>
            <a:ext cx="63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5723"/>
                </a:solidFill>
                <a:latin typeface="Arial"/>
              </a:rPr>
              <a:t>Презентация выполнена учителем русского языка  «МБОУ Варгатёрская ООШ» Загуменновой О.В</a:t>
            </a:r>
            <a:r>
              <a:rPr b="0" lang="ru-RU" sz="1000" spc="-1" strike="noStrike">
                <a:solidFill>
                  <a:srgbClr val="a9d18e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6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Разгадайте шара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Мой корень – родственник сражень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риставка – в слове заявлень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 наборщике есть суффик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А весь тружусь я под зем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1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Можно ли назвать слова хитрый и хищник однокорен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2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Найдите общий корень в слов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ехота – опешить, наизусть – устный, след – последствия, пружина – упругий, мрачный – обморо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3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Найдите «Третье лишне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Гореть, угорать, г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Горе, нагорный, горева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от, потолок, потли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Море, морщины, морс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Боль, большой, боль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ода, водить, во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4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охранив корень, образуйте слова с разным лексическим знач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Например, седлать – седло, оседлать, расседл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Леденец, костяника, просвистеть, безжалостный, исследовать, отцеплять, телеграмм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5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одберите к указанным словам однокоренные, чтобы в них обнаружилось чередование гласных и согласных в кор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Дорога, берег, снег, блеск, свет, лицо, испечь, брызгать, собирать, рассмешить, укрепить, любить, холод, искать, выр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2          6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Разгадайте шараду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Корнем с дорогой родни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 сборе приставка таи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уффикс – в слове дневни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Целым же в космос про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1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От названий городов образуйте слова, обозначающие жителей этих город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Мы не зря привыкли называтьс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Именами наших город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Слушать я, как музыку, готов: “москвичи”, “рижане”, “ленинградцы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Например: Москва – москвич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Тул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Одесс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Киев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Волгоград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Екатеринбург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Баку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203864"/>
                </a:solidFill>
                <a:latin typeface="Calibri"/>
              </a:rPr>
              <a:t>Братс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2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Известный писатель Марк Твен любил придумывать длинные слова. Пользовался он чаще всего таким способом словообразования, как сложение. Однажды он придумал слово, состоявшее из 42-х букв. Запишите и вы подобное слово, в котором было бы как можно больше бук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3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одберите одно слово с суффиксом -ник, со значением названия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3240" y="1360440"/>
            <a:ext cx="6599160" cy="388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ligraph"/>
              </a:rPr>
              <a:t>Слова…- это как листья на дереве, и, чтобы понять, почему лист таков, а не иной, нужно знать, как растет дерево, нужно учиться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ligraph"/>
              </a:rPr>
              <a:t>                                                           М.Горький</a:t>
            </a:r>
            <a:endParaRPr b="0" lang="en-US" sz="3200" spc="-1" strike="noStrike">
              <a:solidFill>
                <a:srgbClr val="ffffff"/>
              </a:solidFill>
              <a:latin typeface="Calligrap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4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Распределите слова по родственным корн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однос, переносица, носовой, носок, носорог, носилки, носящий, носить, зан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5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одберите слова с приставками, противоположными по смыс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ложить, приплыть, прийти, присоединить, разобрать, застегнуть, рассредоточить, вывести, отвернуть, завязать, убежать, принести, убавить, закрыть, выигр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3          6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Разгадайте шара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Корень мой находится в це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 очерке найди приставку м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уффикс мой в тетрадке все встречал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есь же – в дневнике я и в журна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Финальный тур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203864"/>
                </a:solidFill>
                <a:uFillTx/>
                <a:latin typeface="Calibri"/>
              </a:rPr>
              <a:t>Словоизобретан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03864"/>
                </a:solidFill>
                <a:latin typeface="Calibri"/>
              </a:rPr>
              <a:t>Делаем ставки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ligraph"/>
              </a:rPr>
              <a:t>Вопрос финального тура</a:t>
            </a:r>
            <a:endParaRPr b="0" lang="en-US" sz="60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Выпишите слова, изобретенные детьми. Определите способ образования данных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Вы и шишку польете? Чтобы выросли шишеня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Папа, посмотри, какие вагонята хорошеньки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Таня, ткнув пальцем в морщинки на лбу у отца, сказала: «Не хочу, чтоб у тебя были сердитки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Мне аж кисло во рту стало от баловства, от сме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Сколько у нее дочек? Три? Ух, какая дочкастая мамаш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Это палец не указательный, а грозительны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Это рыбийжировая лож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Да не пил я еще чаю. Так, пивнул капель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Мама утки утьком иду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Calibri"/>
              </a:rPr>
              <a:t>К.Чу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7640" y="55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ligraph"/>
              </a:rPr>
              <a:t>Подводим итоги</a:t>
            </a:r>
            <a:endParaRPr b="0" lang="en-US" sz="88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42880" y="1614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3864"/>
                </a:solidFill>
                <a:latin typeface="Calibri"/>
              </a:rPr>
              <a:t>Кто же набрал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3864"/>
                </a:solidFill>
                <a:latin typeface="Calibri"/>
              </a:rPr>
              <a:t>больше всего баллов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4960" y="277920"/>
            <a:ext cx="115524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ligraph"/>
              </a:rPr>
              <a:t>Интернет ресурсы</a:t>
            </a:r>
            <a:endParaRPr b="0" lang="en-US" sz="6000" spc="-1" strike="noStrike">
              <a:solidFill>
                <a:srgbClr val="ffffff"/>
              </a:solidFill>
              <a:latin typeface="Calligraph"/>
            </a:endParaRPr>
          </a:p>
        </p:txBody>
      </p:sp>
      <p:pic>
        <p:nvPicPr>
          <p:cNvPr id="269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11376000" cy="2773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Салют в честь праздника"/>
          <p:cNvPicPr/>
          <p:nvPr/>
        </p:nvPicPr>
        <p:blipFill>
          <a:blip r:embed="rId2"/>
          <a:stretch/>
        </p:blipFill>
        <p:spPr>
          <a:xfrm>
            <a:off x="331920" y="4317840"/>
            <a:ext cx="717480" cy="754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911520" y="3308400"/>
            <a:ext cx="60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liubavyshk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ru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/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54/2/23950199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1448812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7230007"/>
          <p:cNvPicPr/>
          <p:nvPr/>
        </p:nvPicPr>
        <p:blipFill>
          <a:blip r:embed="rId9"/>
          <a:stretch/>
        </p:blipFill>
        <p:spPr>
          <a:xfrm>
            <a:off x="271440" y="5164200"/>
            <a:ext cx="722160" cy="3636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867960" y="3892680"/>
            <a:ext cx="58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laycast.ru/uploads/2014/01/25/723000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690480" y="1407960"/>
            <a:ext cx="1093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natali-filipchik.jimdo.com/%D0%B4%D0%B8%D0%B4%D0%B0%D0%BA%D1%82%D0%B8%D1%87%D0%B5%D1%81%D0%BA%D0%B8%D0%B9-%D0%BC%D0%B0%D1%82%D0%B5%D1%80%D0%B8%D0%B0%D0%BB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xn--i1abbnckbmcl9fb.xn--p1ai/%D1%81%D1%82%D0%B0%D1%82%D1%8C%D0%B8/31279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ПРАВИЛА  ИГРЫ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19360" y="1601640"/>
            <a:ext cx="91965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Игра состоит из трех туров и финальной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В трех турах каждый ученик набирает очки, выполняя  задания и отвечая на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Задания выбираются по очере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В финальном туре каждый ученик делает ставку исходя из своих набранных оч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Arial"/>
              </a:rPr>
              <a:t>Если задание финального тура выполнено верно, то ставка прибавляется к его набранным очкам, если неправильно – ставка вычитается из набранных очков</a:t>
            </a: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577800" y="495360"/>
            <a:ext cx="4294080" cy="121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77800" y="1978200"/>
            <a:ext cx="4294080" cy="121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46120" y="3433680"/>
            <a:ext cx="4294080" cy="121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         Rectangle 8"/>
          <p:cNvSpPr/>
          <p:nvPr/>
        </p:nvSpPr>
        <p:spPr>
          <a:xfrm>
            <a:off x="513396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555          Rectangle 9"/>
          <p:cNvSpPr/>
          <p:nvPr/>
        </p:nvSpPr>
        <p:spPr>
          <a:xfrm>
            <a:off x="9775800" y="35640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444        Rectangle 10"/>
          <p:cNvSpPr/>
          <p:nvPr/>
        </p:nvSpPr>
        <p:spPr>
          <a:xfrm>
            <a:off x="8585280" y="35830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33         Rectangle 11"/>
          <p:cNvSpPr/>
          <p:nvPr/>
        </p:nvSpPr>
        <p:spPr>
          <a:xfrm>
            <a:off x="7378560" y="355932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22        Rectangle 12"/>
          <p:cNvSpPr/>
          <p:nvPr/>
        </p:nvSpPr>
        <p:spPr>
          <a:xfrm>
            <a:off x="6261120" y="35370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11         Rectangle 13"/>
          <p:cNvSpPr/>
          <p:nvPr/>
        </p:nvSpPr>
        <p:spPr>
          <a:xfrm>
            <a:off x="5126040" y="35272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4          Rectangle 18"/>
          <p:cNvSpPr/>
          <p:nvPr/>
        </p:nvSpPr>
        <p:spPr>
          <a:xfrm>
            <a:off x="8556480" y="21286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3         Rectangle 19"/>
          <p:cNvSpPr/>
          <p:nvPr/>
        </p:nvSpPr>
        <p:spPr>
          <a:xfrm>
            <a:off x="7380360" y="21178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2       Rectangle 20"/>
          <p:cNvSpPr/>
          <p:nvPr/>
        </p:nvSpPr>
        <p:spPr>
          <a:xfrm>
            <a:off x="6245280" y="210996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1       Rectangle 21"/>
          <p:cNvSpPr/>
          <p:nvPr/>
        </p:nvSpPr>
        <p:spPr>
          <a:xfrm>
            <a:off x="5110200" y="212724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666         Rectangle 22"/>
          <p:cNvSpPr/>
          <p:nvPr/>
        </p:nvSpPr>
        <p:spPr>
          <a:xfrm>
            <a:off x="10949040" y="35542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1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66          Rectangle 23"/>
          <p:cNvSpPr/>
          <p:nvPr/>
        </p:nvSpPr>
        <p:spPr>
          <a:xfrm>
            <a:off x="10906200" y="215568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2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5          Rectangle 24"/>
          <p:cNvSpPr/>
          <p:nvPr/>
        </p:nvSpPr>
        <p:spPr>
          <a:xfrm>
            <a:off x="9731520" y="213372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4        Rectangle 25"/>
          <p:cNvSpPr/>
          <p:nvPr/>
        </p:nvSpPr>
        <p:spPr>
          <a:xfrm>
            <a:off x="849960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5         Rectangle 26"/>
          <p:cNvSpPr/>
          <p:nvPr/>
        </p:nvSpPr>
        <p:spPr>
          <a:xfrm>
            <a:off x="964404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6       Rectangle 27"/>
          <p:cNvSpPr/>
          <p:nvPr/>
        </p:nvSpPr>
        <p:spPr>
          <a:xfrm>
            <a:off x="1081728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      Rectangle 28"/>
          <p:cNvSpPr/>
          <p:nvPr/>
        </p:nvSpPr>
        <p:spPr>
          <a:xfrm>
            <a:off x="624528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         Rectangle 29"/>
          <p:cNvSpPr/>
          <p:nvPr/>
        </p:nvSpPr>
        <p:spPr>
          <a:xfrm>
            <a:off x="7380360" y="644400"/>
            <a:ext cx="914400" cy="91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3" descr="7230007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98440" y="6181560"/>
            <a:ext cx="971640" cy="4892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>
            <a:hlinkClick r:id="rId21" action="ppaction://hlinksldjump"/>
          </p:cNvPr>
          <p:cNvSpPr/>
          <p:nvPr/>
        </p:nvSpPr>
        <p:spPr>
          <a:xfrm>
            <a:off x="3095640" y="5354640"/>
            <a:ext cx="5197320" cy="906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1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25560" y="1887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Угадайте, о каких людях пойдет речь, больших или маленьки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 книге Н.Носова “Незнайка в Солнечном городе” встречаются такие герои: Козявкин, Букашкин, Штанишкин, Сапожкин, Гулькин, Мулькин, Таракашкин, а также профессорша Мордоч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А какие фамилии были бы у них, если бы они были великан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2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Приведите примеры сложных слов, в которых приставка стоит после кор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умасшедший, самосохранение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3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Разберите по составу каждое слово из фразы, лишенной смысл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Глокая куздра штеко будланула бокра и кудрячит бокр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8880" y="5715000"/>
            <a:ext cx="16178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4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Восстановите словообразовательную цепоч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удить – – – – безрассу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ухой – – – – – засушлив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ligraph"/>
              </a:rPr>
              <a:t>Категория 1          500</a:t>
            </a:r>
            <a:endParaRPr b="0" lang="en-US" sz="66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ердцевиной слова, его смысловым центром является кор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От него слова “растут”, как ветви на деревь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Чем употребительнее корень, тем он жизнеспособнее, тем больше образуется от него новых слов, тем сильнее становится словесное д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Calibri"/>
              </a:rPr>
              <a:t>Создайте свое д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7230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00" y="5762520"/>
            <a:ext cx="1617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3:00:56Z</dcterms:created>
  <dc:creator>Нот-11</dc:creator>
  <dc:description/>
  <dc:language>en-US</dc:language>
  <cp:lastModifiedBy>самсунг</cp:lastModifiedBy>
  <dcterms:modified xsi:type="dcterms:W3CDTF">2019-10-06T16:08:24Z</dcterms:modified>
  <cp:revision>25</cp:revision>
  <dc:subject/>
  <dc:title>Презентация PowerPoint</dc:title>
</cp:coreProperties>
</file>