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AC0C1-4B3E-4AE2-8A91-EF2B02AB49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F1E88-7246-4D6E-B138-5D4FA6757B24}" type="slidenum">
              <a:rPr b="0" lang="ru-RU" sz="1200" spc="-1" strike="noStrike">
                <a:solidFill>
                  <a:srgbClr val="eaeaea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7683-8D34-48C7-89CA-2DBBF6BB8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622D-25DF-43E4-8437-B280CCA1E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E764-0715-447C-AEA7-4DDD2B712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B232-C3EE-467D-B7F4-5CAA9B93B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18ABA-5E14-4FD8-8328-1DAE56FE7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76A86-DBB0-4244-B5A3-C485B2999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DFBA1-A56F-4A68-8C1C-42ED81991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AF861-809F-4564-8FEC-4482A7109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EC344-DF32-48E0-8C1E-532681AA9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30E1F-EF40-48D1-AB75-8EADBED0A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C8B11-CC48-44C7-9DFE-E767B4ED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1114-065C-4044-83B6-F5B876066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DF709-81C0-4161-BF8A-B6BA7FE9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92552-2FE0-4F46-AA61-8641D9D0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E4356-8E3A-4FDB-9584-3C3B153A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8185A-B2D8-42F2-AE03-FB7520C41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5D4E4-078A-46E4-BCA9-A2DD4C25F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2571-E6B6-477A-A272-33848F4E0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36C0-7602-47CB-AFFA-612562F33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378C-69E2-43B7-8C7F-802985906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C472-1CD7-45DF-B568-E535B0E0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6C3E-CF6D-4482-AF8F-5FB5A90D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81ED-AD61-4561-8CF0-B612A72B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F984-741F-421C-85BB-D4CF1473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DB20D-5C65-40F2-9F1C-F0AC5E58E87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D86E4-C2FD-46CA-B2B8-1DE8E073C229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Около 3800 рублей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11 классами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8 7/9 площади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с 357 граммами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 2018 году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о 900 слушателях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к 2/3 стакан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0307C-5A53-4BBB-99EE-8BD327C9CB56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A057E-6CE3-455C-A44C-EFA73C05DC7F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Собирательные числительные </a:t>
            </a:r>
            <a:r>
              <a:rPr b="0" i="1" lang="ru-RU" sz="4000" spc="-1" strike="noStrike" u="sng">
                <a:solidFill>
                  <a:srgbClr val="eec85e"/>
                </a:solidFill>
                <a:uFillTx/>
                <a:latin typeface="Arial"/>
              </a:rPr>
              <a:t>оба (обе)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Собирательные числительные </a:t>
            </a:r>
            <a:r>
              <a:rPr b="0" i="1" lang="ru-RU" sz="3200" spc="-1" strike="noStrike">
                <a:solidFill>
                  <a:srgbClr val="eec85e"/>
                </a:solidFill>
                <a:latin typeface="Verdana"/>
              </a:rPr>
              <a:t>оба (обе)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в мужском и среднем роде в косвенных падежах имеют основу </a:t>
            </a:r>
            <a:r>
              <a:rPr b="0" i="1" lang="ru-RU" sz="3200" spc="-1" strike="noStrike">
                <a:solidFill>
                  <a:srgbClr val="eec85e"/>
                </a:solidFill>
                <a:latin typeface="Verdana"/>
              </a:rPr>
              <a:t>обо-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а в женском роде – </a:t>
            </a:r>
            <a:r>
              <a:rPr b="0" i="1" lang="ru-RU" sz="3200" spc="-1" strike="noStrike">
                <a:solidFill>
                  <a:srgbClr val="eec85e"/>
                </a:solidFill>
                <a:latin typeface="Verdana"/>
              </a:rPr>
              <a:t>обе-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000"/>
                </a:solidFill>
                <a:latin typeface="Verdana"/>
              </a:rPr>
              <a:t>Оба озера (ср. р.) - обоими озерами (тв. п.),  оба дома (м. р.) -  обоими домами (тв. п.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000"/>
                </a:solidFill>
                <a:latin typeface="Verdana"/>
              </a:rPr>
              <a:t>Обе куклы (ж. р.) – обеими куклами (тв. п.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3A5ED-7B7F-4C60-9C31-A558130AD354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Verdana"/>
              </a:rPr>
              <a:t>Друг, окно, президент, школа, книга, волонтер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Употребите эти существительные с собирательными числительными </a:t>
            </a:r>
            <a:r>
              <a:rPr b="1" lang="ru-RU" sz="2800" spc="-1" strike="noStrike">
                <a:solidFill>
                  <a:srgbClr val="ffc000"/>
                </a:solidFill>
                <a:latin typeface="Verdana"/>
              </a:rPr>
              <a:t>оба, обе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 или </a:t>
            </a:r>
            <a:r>
              <a:rPr b="1" lang="ru-RU" sz="2800" spc="-1" strike="noStrike">
                <a:solidFill>
                  <a:srgbClr val="ffc000"/>
                </a:solidFill>
                <a:latin typeface="Verdana"/>
              </a:rPr>
              <a:t>двое</a:t>
            </a: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.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 Запишите полученные словосочетания в тетрадь. 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Verdana"/>
              </a:rPr>
              <a:t>   </a:t>
            </a: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Оба друга, оба окна, оба президента, обе школы, обе книги, оба волонтер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Двое друзей, двое волонтеров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Два президент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55103-E0E2-42C6-B388-A700FD6452C5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ВОЛОНТЁР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 (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Arial"/>
              </a:rPr>
              <a:t>фр.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 </a:t>
            </a:r>
            <a:r>
              <a:rPr b="0" i="1" lang="ru-RU" sz="3200" spc="-1" strike="noStrike">
                <a:solidFill>
                  <a:srgbClr val="ffffcc"/>
                </a:solidFill>
                <a:latin typeface="Arial"/>
              </a:rPr>
              <a:t>volontaire - доброволец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) 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B6E89-149D-459B-80B1-8D0C4FEC71E8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1" name="Picture 6" descr="C:\Users\Дом\Desktop\год волонтера.JPG"/>
          <p:cNvPicPr/>
          <p:nvPr/>
        </p:nvPicPr>
        <p:blipFill>
          <a:blip r:embed="rId1"/>
          <a:stretch/>
        </p:blipFill>
        <p:spPr>
          <a:xfrm>
            <a:off x="611280" y="1628640"/>
            <a:ext cx="79930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BF954-4FC8-4F61-A5D0-34E7E57EFBCA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Вместо точек вставьте собирательные числительные </a:t>
            </a:r>
            <a:r>
              <a:rPr b="0" i="1" lang="ru-RU" sz="4000" spc="-1" strike="noStrike">
                <a:solidFill>
                  <a:srgbClr val="eec85e"/>
                </a:solidFill>
                <a:latin typeface="Arial"/>
              </a:rPr>
              <a:t>двое, трое, оба, обе</a:t>
            </a:r>
            <a:r>
              <a:rPr b="0" lang="ru-RU" sz="4000" spc="-1" strike="noStrike">
                <a:solidFill>
                  <a:srgbClr val="eec85e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8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За партой обычно сидят по …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Пришли четверо мальчиков. Потом один ушёл и осталось …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Чтобы правильно выполнить упражнение, нужно поднять  … руки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…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сына были похожи на папу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EE03F-C7DF-4A01-9C7D-83A82E210279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Прямоугольник 1"/>
          <p:cNvSpPr/>
          <p:nvPr/>
        </p:nvSpPr>
        <p:spPr>
          <a:xfrm>
            <a:off x="1403280" y="2921040"/>
            <a:ext cx="6697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Verdana"/>
                <a:ea typeface="Arial"/>
              </a:rPr>
              <a:t> </a:t>
            </a:r>
            <a:r>
              <a:rPr b="0" i="1" lang="ru-RU" sz="3200" spc="-1" strike="noStrike">
                <a:solidFill>
                  <a:srgbClr val="ffc000"/>
                </a:solidFill>
                <a:latin typeface="Verdana"/>
                <a:ea typeface="Arial"/>
              </a:rPr>
              <a:t>1.В – трое, шестеро, семеро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000"/>
                </a:solidFill>
                <a:latin typeface="Verdana"/>
                <a:ea typeface="Arial"/>
              </a:rPr>
              <a:t> </a:t>
            </a:r>
            <a:r>
              <a:rPr b="0" i="1" lang="ru-RU" sz="3200" spc="-1" strike="noStrike">
                <a:solidFill>
                  <a:srgbClr val="ffc000"/>
                </a:solidFill>
                <a:latin typeface="Verdana"/>
                <a:ea typeface="Arial"/>
              </a:rPr>
              <a:t>2.Б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000"/>
                </a:solidFill>
                <a:latin typeface="Verdana"/>
                <a:ea typeface="Arial"/>
              </a:rPr>
              <a:t> </a:t>
            </a:r>
            <a:r>
              <a:rPr b="0" i="1" lang="ru-RU" sz="3200" spc="-1" strike="noStrike">
                <a:solidFill>
                  <a:srgbClr val="ffc000"/>
                </a:solidFill>
                <a:latin typeface="Verdana"/>
                <a:ea typeface="Arial"/>
              </a:rPr>
              <a:t>3.Б – двое котят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000"/>
                </a:solidFill>
                <a:latin typeface="Verdana"/>
                <a:ea typeface="Arial"/>
              </a:rPr>
              <a:t> </a:t>
            </a:r>
            <a:r>
              <a:rPr b="0" i="1" lang="ru-RU" sz="3200" spc="-1" strike="noStrike">
                <a:solidFill>
                  <a:srgbClr val="ffc000"/>
                </a:solidFill>
                <a:latin typeface="Verdana"/>
                <a:ea typeface="Arial"/>
              </a:rPr>
              <a:t>4.В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1E7F-4A6E-4102-B4AA-8BDBA277C7FC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Итоги урок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2" name="Прямоугольник 1"/>
          <p:cNvSpPr/>
          <p:nvPr/>
        </p:nvSpPr>
        <p:spPr>
          <a:xfrm>
            <a:off x="539640" y="3075120"/>
            <a:ext cx="8209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000"/>
                </a:solidFill>
                <a:latin typeface="Verdana"/>
                <a:ea typeface="Arial"/>
              </a:rPr>
              <a:t>Сегодня мы изучали…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000"/>
                </a:solidFill>
                <a:latin typeface="Verdana"/>
                <a:ea typeface="Arial"/>
              </a:rPr>
              <a:t>Мы теперь знаем, как…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000"/>
                </a:solidFill>
                <a:latin typeface="Verdana"/>
                <a:ea typeface="Arial"/>
              </a:rPr>
              <a:t>Мы умеем правильно…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000"/>
                </a:solidFill>
                <a:latin typeface="Verdana"/>
                <a:ea typeface="Arial"/>
              </a:rPr>
              <a:t>Полученные знания нам помогут…</a:t>
            </a:r>
            <a:r>
              <a:rPr b="0" i="1" lang="ru-RU" sz="1000" spc="-1" strike="noStrike">
                <a:solidFill>
                  <a:srgbClr val="eaeaea"/>
                </a:solidFill>
                <a:latin typeface="Verdana"/>
                <a:ea typeface="Arial"/>
              </a:rPr>
              <a:t>….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375B4-50C2-43A3-9B90-A774B19322E2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П. 74, упр. 425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Составить предложения на тему «Дружба», используя собирательные числительные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6" name="Picture 6" descr="PICT2377"/>
          <p:cNvPicPr/>
          <p:nvPr/>
        </p:nvPicPr>
        <p:blipFill>
          <a:blip r:embed="rId1"/>
          <a:stretch/>
        </p:blipFill>
        <p:spPr>
          <a:xfrm>
            <a:off x="-6877080" y="1341360"/>
            <a:ext cx="3672000" cy="3789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MCj04298030000[1]"/>
          <p:cNvPicPr/>
          <p:nvPr/>
        </p:nvPicPr>
        <p:blipFill>
          <a:blip r:embed="rId2"/>
          <a:stretch/>
        </p:blipFill>
        <p:spPr>
          <a:xfrm>
            <a:off x="7740720" y="260280"/>
            <a:ext cx="9903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E8709-55F8-41B5-8ECC-A2B9975C2D5E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писок литератур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Баранов, Т.А. Ладыженская и др. Русский язык: Учебник 6 кл. общеобр. учрежд./ М.Т..- 24-е изд.- М.: Просвещение, 2002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Беляева О.В., Даценко О.А. Поурочные разработки по русскому языку 6 класс./ - М.: - ВАКО, 2008.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Дидактический материал. Пособие для учителя/ Сост. Григорян Л.Т.-3-е изд.испр. - М.:Просвещние, 1989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Intel 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Обучение для будущего: Учеб. Пособие.- 5-е изд., испр. – М.: Издательско-торговый дом «Русская Редакция», 2005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C:\Documents and Settings\1\Мои документы\Мои рисунки\2009-01-27, фауна 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http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://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images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.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yandex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.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ru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/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yandsearch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?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p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=2&amp;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manual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=1&amp;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text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=%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D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0%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BF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%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D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0%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BE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%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D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0%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BB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%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D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0%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B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5%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D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0%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B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2%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D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1%8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B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%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D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0%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B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5%20%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D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1%86%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D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0%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B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2%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D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0%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B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5%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D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1%82%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D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1%8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B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&amp;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isize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=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wallpaper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&amp;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rpt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=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image3.   Microsoft PowerPoint – [ m01-diskussions-presentation-pedtech]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http://fotki.yandex.ru/tag/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дети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/users/mil5830/view/196340/?page=0&amp;how=week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2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EAAD0-CE52-44A2-B05C-CA092CB6AF96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755280" y="3357360"/>
            <a:ext cx="77770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Познакомиться с…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Выяснить, что они… и чем…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Научиться правильно…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" name="WordArt 4"/>
          <p:cNvSpPr txBox="1"/>
          <p:nvPr/>
        </p:nvSpPr>
        <p:spPr>
          <a:xfrm>
            <a:off x="179280" y="404640"/>
            <a:ext cx="8748720" cy="29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     </a:t>
            </a:r>
            <a:r>
              <a:rPr b="0" lang="en-US" sz="1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обирательные      числительные</a:t>
            </a:r>
            <a:endParaRPr b="0" lang="en-US" sz="1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1476360" y="4941720"/>
            <a:ext cx="691200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78560-DBDD-4B37-A96D-86B8E8F7D9A5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ознакомиться с собирательными числительными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ыяснить , что они обозначают и чем отличаются от других числительных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Научиться  правильно  употреблять в речи собирательные числительные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1" name="Picture 5" descr="MCj04247300000[1]"/>
          <p:cNvPicPr/>
          <p:nvPr/>
        </p:nvPicPr>
        <p:blipFill>
          <a:blip r:embed="rId1"/>
          <a:stretch/>
        </p:blipFill>
        <p:spPr>
          <a:xfrm>
            <a:off x="0" y="0"/>
            <a:ext cx="13622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95280" y="620640"/>
            <a:ext cx="8229600" cy="53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а какой вопрос отвечают и что обозначают собирательные числительные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Как образуются собирательные числительные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Как склоняются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 какими существительными могут сочетаться собирательные числительные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 чем особенность употребления числительных </a:t>
            </a:r>
            <a:r>
              <a:rPr b="1" i="1" lang="ru-RU" sz="2800" spc="-1" strike="noStrike">
                <a:solidFill>
                  <a:srgbClr val="eaeaea"/>
                </a:solidFill>
                <a:latin typeface="Verdana"/>
              </a:rPr>
              <a:t>оба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и </a:t>
            </a:r>
            <a:r>
              <a:rPr b="1" i="1" lang="ru-RU" sz="2800" spc="-1" strike="noStrike">
                <a:solidFill>
                  <a:srgbClr val="eaeaea"/>
                </a:solidFill>
                <a:latin typeface="Verdana"/>
              </a:rPr>
              <a:t>обе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C8622-499E-4518-A51B-18906FE46E0E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1 ряд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Горе на двоих – полгоря, радость на двоих – две радости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2 ряд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Двое пашут, а семеро руками машут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3 ряд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Кто храбр да смел, тот десятерых стоит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4CBAE-ACD6-4005-B358-5EDBEB3032E7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8A9B8-D76C-46A5-B827-13D50FF3BBA5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Собирательные числительные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ru-RU" sz="2800" spc="-1" strike="noStrike">
                <a:solidFill>
                  <a:srgbClr val="eec85e"/>
                </a:solidFill>
                <a:latin typeface="Verdana"/>
              </a:rPr>
              <a:t>Двое, трое, четверо, пятеро, шестеро, семеро, восьмеро, девятеро, десятеро сочетаются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с именами существительными, обозначающими лиц мужского пола, детей и детёнышей животных: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                </a:t>
            </a: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четверо мальчиков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                     </a:t>
            </a: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пятеро медвежат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с существительными, употребляющимися только во множественном числе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                 </a:t>
            </a: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двое саней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                     </a:t>
            </a: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трое ножниц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6C3C9-7C4F-45D4-9F8C-C43BF00BC837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Объясните подписи под рисунками!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3" name="Picture 4" descr="фауна 045"/>
          <p:cNvPicPr/>
          <p:nvPr/>
        </p:nvPicPr>
        <p:blipFill>
          <a:blip r:embed="rId1"/>
          <a:stretch/>
        </p:blipFill>
        <p:spPr>
          <a:xfrm>
            <a:off x="539640" y="1413000"/>
            <a:ext cx="2737080" cy="1800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фауна 047"/>
          <p:cNvPicPr/>
          <p:nvPr/>
        </p:nvPicPr>
        <p:blipFill>
          <a:blip r:embed="rId2"/>
          <a:stretch/>
        </p:blipFill>
        <p:spPr>
          <a:xfrm>
            <a:off x="4643280" y="1484280"/>
            <a:ext cx="2521080" cy="1728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фауна 031"/>
          <p:cNvPicPr/>
          <p:nvPr/>
        </p:nvPicPr>
        <p:blipFill>
          <a:blip r:embed="rId3"/>
          <a:stretch/>
        </p:blipFill>
        <p:spPr>
          <a:xfrm>
            <a:off x="3059280" y="3860640"/>
            <a:ext cx="2808000" cy="194472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9"/>
          <p:cNvSpPr/>
          <p:nvPr/>
        </p:nvSpPr>
        <p:spPr>
          <a:xfrm>
            <a:off x="1213200" y="3376440"/>
            <a:ext cx="1107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  <a:ea typeface="Arial"/>
              </a:rPr>
              <a:t>Два лисёнка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  <a:ea typeface="Arial"/>
              </a:rPr>
              <a:t>Двое лисят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611280" y="6165720"/>
            <a:ext cx="150336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  <a:ea typeface="Arial"/>
              </a:rPr>
              <a:t>Три девочки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eaeaea"/>
                </a:solidFill>
                <a:latin typeface="Verdana"/>
                <a:ea typeface="Arial"/>
              </a:rPr>
              <a:t>________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5319000" y="3332160"/>
            <a:ext cx="936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  <a:ea typeface="Arial"/>
              </a:rPr>
              <a:t>Три книги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eaeaea"/>
                </a:solidFill>
                <a:latin typeface="Verdana"/>
                <a:ea typeface="Arial"/>
              </a:rPr>
              <a:t>_______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3419640" y="6040440"/>
            <a:ext cx="2016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  <a:ea typeface="Arial"/>
              </a:rPr>
              <a:t>Восемь дельфинов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eaeaea"/>
                </a:solidFill>
                <a:latin typeface="Verdana"/>
                <a:ea typeface="Arial"/>
              </a:rPr>
              <a:t>_______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Text Box 14"/>
          <p:cNvSpPr/>
          <p:nvPr/>
        </p:nvSpPr>
        <p:spPr>
          <a:xfrm>
            <a:off x="7039440" y="6184800"/>
            <a:ext cx="111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  <a:ea typeface="Arial"/>
              </a:rPr>
              <a:t>Два ребёнка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  <a:ea typeface="Arial"/>
              </a:rPr>
              <a:t>Двое детей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1" name="Picture 15" descr="0_2fef4_d6c23a8d_-1-XL"/>
          <p:cNvPicPr/>
          <p:nvPr/>
        </p:nvPicPr>
        <p:blipFill>
          <a:blip r:embed="rId4"/>
          <a:stretch/>
        </p:blipFill>
        <p:spPr>
          <a:xfrm>
            <a:off x="6335640" y="3284640"/>
            <a:ext cx="2808360" cy="28810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6" descr="0_2767b_6002c8f0_XL"/>
          <p:cNvPicPr/>
          <p:nvPr/>
        </p:nvPicPr>
        <p:blipFill>
          <a:blip r:embed="rId5"/>
          <a:stretch/>
        </p:blipFill>
        <p:spPr>
          <a:xfrm>
            <a:off x="324000" y="4005360"/>
            <a:ext cx="20556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A7B18-28D7-4FB0-8965-5C548DD045E3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Собирательные числительные в косвенных падежах имеют такие же окончания, как и прилагательные во множественном числе: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ec85e"/>
                </a:solidFill>
                <a:latin typeface="Verdana"/>
              </a:rPr>
              <a:t>пятер</a:t>
            </a:r>
            <a:r>
              <a:rPr b="0" lang="ru-RU" sz="3600" spc="-1" strike="noStrike">
                <a:solidFill>
                  <a:srgbClr val="c00000"/>
                </a:solidFill>
                <a:latin typeface="Verdana"/>
              </a:rPr>
              <a:t>ых</a:t>
            </a:r>
            <a:r>
              <a:rPr b="0" lang="ru-RU" sz="3600" spc="-1" strike="noStrike">
                <a:solidFill>
                  <a:srgbClr val="eec85e"/>
                </a:solidFill>
                <a:latin typeface="Verdana"/>
              </a:rPr>
              <a:t> забавн</a:t>
            </a:r>
            <a:r>
              <a:rPr b="0" lang="ru-RU" sz="3600" spc="-1" strike="noStrike">
                <a:solidFill>
                  <a:srgbClr val="c00000"/>
                </a:solidFill>
                <a:latin typeface="Verdana"/>
              </a:rPr>
              <a:t>ых</a:t>
            </a:r>
            <a:r>
              <a:rPr b="0" lang="ru-RU" sz="3600" spc="-1" strike="noStrike">
                <a:solidFill>
                  <a:srgbClr val="eec85e"/>
                </a:solidFill>
                <a:latin typeface="Verdana"/>
              </a:rPr>
              <a:t> зайчат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27082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КУКЛА    ДОМ   ОЗЕРО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22160" y="33300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Verdana"/>
              </a:rPr>
              <a:t>ОБА        ОБЕ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D007E-D1C4-4112-94E5-5102CF11B90E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9T15:51:00Z</dcterms:created>
  <dc:creator>1</dc:creator>
  <dc:description/>
  <dc:language>en-US</dc:language>
  <cp:lastModifiedBy>Дом</cp:lastModifiedBy>
  <dcterms:modified xsi:type="dcterms:W3CDTF">2018-02-27T18:59:35Z</dcterms:modified>
  <cp:revision>103</cp:revision>
  <dc:subject/>
  <dc:title>Слайд 1</dc:title>
</cp:coreProperties>
</file>