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0DD-8874-4024-8BAB-F9CDA937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BF7-EC85-4FC3-8CB1-4B77141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5C0-64EC-45C1-B332-9C3C2DE4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480-782D-4FCB-9637-5D9C8390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AB7-B5C4-4A17-9BE0-4CBEA809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2EDA-63B4-48D3-8E73-9FDDF31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E805-D2B8-4B8F-B5EF-F40A85F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A6C0-4645-4E74-901A-4A0978FA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B99D-E14C-4825-9CB6-8C9B6C31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1E6D-1B5E-4EB8-B18C-49129BE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290-DF57-43A6-BCE5-D07A390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272-9505-413E-89E9-5F61C058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480F-5FF3-4C79-B03B-B13DA5BD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6A05-6647-44AF-A372-E9CBEC25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010D-3C3D-4192-84FE-5CB0A80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BCC8-C7EE-43BA-BEFE-93C076BA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545E-A0E9-4A11-A114-DADC6CA7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3017-E724-458C-9A1E-9AF8404F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D189-1BAD-47F7-8DEE-0E30EB9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D7FE-13A3-4117-8E80-63845D0B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E549-4983-4158-8BC7-E1DB3AA4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AC44-CDF4-4507-9E37-D7060A66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E98-627C-4998-A9BF-626875B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CECA-BEA3-4FD5-8FE0-11151BE9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A611-FE7B-48BB-86E0-0455ED22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8FEC-5A82-4B6B-A417-28A5AA2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A1E5-1840-4999-A3CE-4C005B8A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17D1-7FB4-4FF4-9C43-B9898B7A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EE5E-7EE0-4E9A-9879-EBFC22CA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1742-C896-4B97-9747-8A1DFC2A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2EB7-06EC-46DF-8683-0BB77C82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227E-DDBD-4032-8D88-8AEF276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94FC-35A4-495F-B532-3AE936C0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C49-2487-4AD0-93F4-38755EFF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6708-A7A5-44FA-B5F7-1EBAE7A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3526-51CA-4871-A89D-133BD49E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5DF1-C534-4EC1-9B9D-ECD5CD46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9F89-4E15-4114-8F4A-02CA5F5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2259-40A2-4C97-8E9F-224B9A7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AC8A-46A6-4984-9B60-0183B6EC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C727-16A5-4074-A85A-9D6AAE9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13B7-F07A-4108-A10A-1E137670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B0B8-F891-4378-B65C-4F9582E9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E4B-00D0-43EF-98A3-368E48D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E19-EBB4-4A59-ADAB-C521731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98C-4100-4C2E-BAA5-FB6D29B0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17D-EBD3-4ACD-A68E-506B61A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218-3FA4-461C-A52B-47BDA8B2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AD0B-1974-4365-8C54-7C154E14FA0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CA5-1EC3-49F0-9CC2-763FF732A37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4FB0-0CEB-4AF3-9C6A-158DDFF7F6A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C6E-AA84-4D0E-858F-9AAD1803D50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38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a5010"/>
                </a:solidFill>
                <a:latin typeface="Arial"/>
                <a:ea typeface="Arial"/>
              </a:rPr>
              <a:t>«Воспитание толерантности у детей дошкольного возраста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2a5010"/>
                </a:solidFill>
                <a:latin typeface="Arial"/>
                <a:ea typeface="Arial"/>
              </a:rPr>
              <a:t>Подготовила: Чеканова Мария Александровна, воспитател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2a5010"/>
                </a:solidFill>
                <a:latin typeface="Arial"/>
                <a:ea typeface="Arial"/>
              </a:rPr>
              <a:t>Пенза, 2019 г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691344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2a5010"/>
                </a:solidFill>
                <a:latin typeface="Arial"/>
                <a:ea typeface="Arial"/>
              </a:rPr>
              <a:t>Филиал №2 «Жемчужинка» Муниципального бюджетного дошкольного образовательного учреждения детского сада №137 города Пензы «Веснушки»</a:t>
            </a:r>
            <a:endParaRPr b="0" lang="en-US" sz="1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"/>
          <p:cNvSpPr/>
          <p:nvPr/>
        </p:nvSpPr>
        <p:spPr>
          <a:xfrm>
            <a:off x="468360" y="573264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5010"/>
                </a:solidFill>
                <a:latin typeface="Arial"/>
              </a:rPr>
              <a:t>Хочешь жить в согласии - соглашай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5" descr="Hands4-1080x608.png"/>
          <p:cNvPicPr/>
          <p:nvPr/>
        </p:nvPicPr>
        <p:blipFill>
          <a:blip r:embed="rId1"/>
          <a:stretch/>
        </p:blipFill>
        <p:spPr>
          <a:xfrm>
            <a:off x="906480" y="2133720"/>
            <a:ext cx="5165640" cy="29066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rainbow_PNG5583.png"/>
          <p:cNvPicPr/>
          <p:nvPr/>
        </p:nvPicPr>
        <p:blipFill>
          <a:blip r:embed="rId2"/>
          <a:stretch/>
        </p:blipFill>
        <p:spPr>
          <a:xfrm>
            <a:off x="3311640" y="836640"/>
            <a:ext cx="5605200" cy="420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f7819"/>
                </a:solidFill>
                <a:latin typeface="Arial"/>
                <a:ea typeface="Arial"/>
              </a:rPr>
              <a:t>Работа с деть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8920" y="620640"/>
            <a:ext cx="2808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f7819"/>
                </a:solidFill>
                <a:latin typeface="Arial"/>
                <a:ea typeface="Arial"/>
              </a:rPr>
              <a:t>Не такой как вс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7" descr="1293640849_9.jpg"/>
          <p:cNvPicPr/>
          <p:nvPr/>
        </p:nvPicPr>
        <p:blipFill>
          <a:blip r:embed="rId1"/>
          <a:stretch/>
        </p:blipFill>
        <p:spPr>
          <a:xfrm>
            <a:off x="3348000" y="3492360"/>
            <a:ext cx="2433600" cy="1521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warna-baju.jpg"/>
          <p:cNvPicPr/>
          <p:nvPr/>
        </p:nvPicPr>
        <p:blipFill>
          <a:blip r:embed="rId2"/>
          <a:stretch/>
        </p:blipFill>
        <p:spPr>
          <a:xfrm>
            <a:off x="358920" y="3284640"/>
            <a:ext cx="2160360" cy="17269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3"/>
          <a:stretch/>
        </p:blipFill>
        <p:spPr>
          <a:xfrm>
            <a:off x="6126120" y="3141720"/>
            <a:ext cx="2351160" cy="2232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6" descr="IMG_20181018_102729.jpg"/>
          <p:cNvPicPr/>
          <p:nvPr/>
        </p:nvPicPr>
        <p:blipFill>
          <a:blip r:embed="rId4"/>
          <a:stretch/>
        </p:blipFill>
        <p:spPr>
          <a:xfrm>
            <a:off x="2124000" y="1052640"/>
            <a:ext cx="4338720" cy="1977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1835280" y="5084640"/>
            <a:ext cx="424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Сюжетно-ролевы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Обсуждение и проигрывание ситуаций, погру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Работа с художественной литерату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Продуктивный вид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7819"/>
                </a:solidFill>
                <a:latin typeface="Arial"/>
                <a:ea typeface="Arial"/>
              </a:rPr>
              <a:t>Изучение  познание культур други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826920" y="1550880"/>
            <a:ext cx="2941920" cy="14716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"/>
          <p:cNvPicPr/>
          <p:nvPr/>
        </p:nvPicPr>
        <p:blipFill>
          <a:blip r:embed="rId2"/>
          <a:stretch/>
        </p:blipFill>
        <p:spPr>
          <a:xfrm>
            <a:off x="900000" y="3846600"/>
            <a:ext cx="3770280" cy="16254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4788000" y="1436760"/>
            <a:ext cx="295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</a:rPr>
              <a:t>Коммуникатив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</a:rPr>
              <a:t>Совместное разрешение споров, конфли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</a:rPr>
              <a:t>Совместное выполнение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f78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</a:rPr>
              <a:t>Объединение через достижение общей ц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826920" y="404640"/>
            <a:ext cx="34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7819"/>
                </a:solidFill>
                <a:latin typeface="Arial"/>
              </a:rPr>
              <a:t>Другое мнение, разногласие, сп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"/>
          <p:cNvPicPr/>
          <p:nvPr/>
        </p:nvPicPr>
        <p:blipFill>
          <a:blip r:embed="rId1"/>
          <a:stretch/>
        </p:blipFill>
        <p:spPr>
          <a:xfrm rot="1451400">
            <a:off x="4032000" y="844560"/>
            <a:ext cx="3111480" cy="2158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"/>
          <p:cNvPicPr/>
          <p:nvPr/>
        </p:nvPicPr>
        <p:blipFill>
          <a:blip r:embed="rId2"/>
          <a:srcRect l="0" t="0" r="-387" b="0"/>
          <a:stretch/>
        </p:blipFill>
        <p:spPr>
          <a:xfrm>
            <a:off x="539640" y="438120"/>
            <a:ext cx="2871720" cy="3325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IMG_20181015_160137.jpg"/>
          <p:cNvPicPr/>
          <p:nvPr/>
        </p:nvPicPr>
        <p:blipFill>
          <a:blip r:embed="rId3"/>
          <a:stretch/>
        </p:blipFill>
        <p:spPr>
          <a:xfrm>
            <a:off x="5003640" y="3852720"/>
            <a:ext cx="18655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G_20181015_160935.jpg"/>
          <p:cNvPicPr/>
          <p:nvPr/>
        </p:nvPicPr>
        <p:blipFill>
          <a:blip r:embed="rId4"/>
          <a:stretch/>
        </p:blipFill>
        <p:spPr>
          <a:xfrm>
            <a:off x="755640" y="4175280"/>
            <a:ext cx="334476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11488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f7819"/>
                </a:solidFill>
                <a:latin typeface="Arial"/>
                <a:ea typeface="Arial"/>
              </a:rPr>
              <a:t>Взаимодействие  с родителями: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1335240"/>
            <a:ext cx="5402520" cy="20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  <a:ea typeface="Arial"/>
              </a:rPr>
              <a:t>Консульт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  <a:ea typeface="Arial"/>
              </a:rPr>
              <a:t>Обращение к интернет ресурса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  <a:ea typeface="Arial"/>
              </a:rPr>
              <a:t>Выполнение совместных рабо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f7819"/>
                </a:solidFill>
                <a:latin typeface="Arial"/>
                <a:ea typeface="Arial"/>
              </a:rPr>
              <a:t>Разрешение появившихся вопросов совместно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Рисунок 3" descr="IMG_20181023_095800.jpg"/>
          <p:cNvPicPr/>
          <p:nvPr/>
        </p:nvPicPr>
        <p:blipFill>
          <a:blip r:embed="rId1"/>
          <a:stretch/>
        </p:blipFill>
        <p:spPr>
          <a:xfrm>
            <a:off x="1206360" y="3297240"/>
            <a:ext cx="6115320" cy="477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12944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3f7819"/>
                </a:solidFill>
                <a:latin typeface="Trebuchet MS"/>
              </a:rPr>
              <a:t>Спасибо за внимани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4:10:36Z</dcterms:created>
  <dc:creator>Компьютер</dc:creator>
  <dc:description/>
  <dc:language>en-US</dc:language>
  <cp:lastModifiedBy>Компьютер</cp:lastModifiedBy>
  <dcterms:modified xsi:type="dcterms:W3CDTF">2019-10-06T13:43:03Z</dcterms:modified>
  <cp:revision>40</cp:revision>
  <dc:subject/>
  <dc:title>Слайд 1</dc:title>
</cp:coreProperties>
</file>