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19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BD8-B6ED-48B4-814E-2945DBD8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3DF-C1BE-4D7D-8CD1-71A0717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9E6-A23E-4979-840E-ED84EE91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4C8-26E8-4AB8-AD6E-EEDF30F9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070F-6A42-4E82-AA27-06C47808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B8B6-20FA-4CD3-B6B9-A7C59B8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572D-AA4D-4BE1-A82D-6BE0F9E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3F8B-DE5E-4F62-A67F-E0784ED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F897-9DB4-44B4-9205-09B7820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FF10-9B88-41CA-A230-CB7E7C62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2E2-230E-4F88-A64A-E848A94C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692-3431-43B1-B9F7-F4D6C5D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B88-E0A9-4B99-A92A-5CE0307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18F-79B4-452C-B16E-C878B6E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35F8-6661-4332-83DD-E51971B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B5B5-2547-4EF5-B49D-CEBDD6A0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4ACF-575E-45AB-8603-C9A79753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BAA-01AB-444F-9479-B906835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D39-B833-473F-BE50-9D2C758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B25-27F1-4F86-8C04-F9F5EE6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AA4-D2F3-4461-B0D1-61005B1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402-C456-480F-80E0-5ADBF2B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823-9026-4178-9821-39597A1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CDF-AED8-435E-BDCF-997D93C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2D6-3527-4CD2-A1EA-2F738CE47E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57B-712D-47CF-BFC9-7318631BF8C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64840" y="565200"/>
            <a:ext cx="7785000" cy="2730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nastasiaScript"/>
              </a:rPr>
              <a:t>Урок математики</a:t>
            </a:r>
            <a:br>
              <a:rPr sz="7200"/>
            </a:br>
            <a:br>
              <a:rPr sz="7200"/>
            </a:b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4класс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00000" y="4403880"/>
            <a:ext cx="777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зентация составлена учителем начальных классов г. Домодедово Московской области Пахомовой О.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117" descr="tani17"/>
          <p:cNvPicPr/>
          <p:nvPr/>
        </p:nvPicPr>
        <p:blipFill>
          <a:blip r:embed="rId1"/>
          <a:stretch/>
        </p:blipFill>
        <p:spPr>
          <a:xfrm>
            <a:off x="6948360" y="1341360"/>
            <a:ext cx="19083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4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509760" y="1484280"/>
            <a:ext cx="81244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хорошую работу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5" descr="an1_kotgitarist"/>
          <p:cNvPicPr/>
          <p:nvPr/>
        </p:nvPicPr>
        <p:blipFill>
          <a:blip r:embed="rId1"/>
          <a:stretch/>
        </p:blipFill>
        <p:spPr>
          <a:xfrm>
            <a:off x="3635280" y="4508640"/>
            <a:ext cx="1162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23680" y="257400"/>
            <a:ext cx="778788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Источники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76932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 работе использовались картинки с сайта http://www.lenagold.ru/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http://smiles.rc-mir.com/  - анимашки книги, лыж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http://vechnostb.narod.ru/Animashki.html -анимашка котенка, ф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Электронная физминутка для глаз «Автомобили» учителя начальных классов МОУ «Водоватовская СОШ», Арзамасского района, Нижегородской области Галкиной И.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84800" y="78480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63640" y="1413000"/>
            <a:ext cx="71294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Тема уро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Закрепление пройденног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материал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abochka203"/>
          <p:cNvPicPr/>
          <p:nvPr/>
        </p:nvPicPr>
        <p:blipFill>
          <a:blip r:embed="rId1"/>
          <a:stretch/>
        </p:blipFill>
        <p:spPr>
          <a:xfrm>
            <a:off x="6480000" y="4572000"/>
            <a:ext cx="26640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408720" y="4221000"/>
            <a:ext cx="2735280" cy="243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abochka203"/>
          <p:cNvPicPr/>
          <p:nvPr/>
        </p:nvPicPr>
        <p:blipFill>
          <a:blip r:embed="rId3"/>
          <a:stretch/>
        </p:blipFill>
        <p:spPr>
          <a:xfrm>
            <a:off x="6300720" y="4653000"/>
            <a:ext cx="2664000" cy="22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babochka203"/>
          <p:cNvPicPr/>
          <p:nvPr/>
        </p:nvPicPr>
        <p:blipFill>
          <a:blip r:embed="rId4"/>
          <a:stretch/>
        </p:blipFill>
        <p:spPr>
          <a:xfrm>
            <a:off x="0" y="4572000"/>
            <a:ext cx="33480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tani17"/>
          <p:cNvPicPr/>
          <p:nvPr/>
        </p:nvPicPr>
        <p:blipFill>
          <a:blip r:embed="rId5"/>
          <a:stretch/>
        </p:blipFill>
        <p:spPr>
          <a:xfrm>
            <a:off x="7236000" y="0"/>
            <a:ext cx="1908000" cy="1717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5"/>
          <p:cNvSpPr/>
          <p:nvPr/>
        </p:nvSpPr>
        <p:spPr>
          <a:xfrm>
            <a:off x="2987640" y="177336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3"/>
          <p:cNvSpPr/>
          <p:nvPr/>
        </p:nvSpPr>
        <p:spPr>
          <a:xfrm>
            <a:off x="6084720" y="155736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48"/>
          <p:cNvSpPr/>
          <p:nvPr/>
        </p:nvSpPr>
        <p:spPr>
          <a:xfrm>
            <a:off x="2124000" y="119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8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49"/>
          <p:cNvSpPr/>
          <p:nvPr/>
        </p:nvSpPr>
        <p:spPr>
          <a:xfrm>
            <a:off x="3995640" y="112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50"/>
          <p:cNvSpPr/>
          <p:nvPr/>
        </p:nvSpPr>
        <p:spPr>
          <a:xfrm>
            <a:off x="5796000" y="112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611280" y="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56"/>
          <p:cNvSpPr/>
          <p:nvPr/>
        </p:nvSpPr>
        <p:spPr>
          <a:xfrm>
            <a:off x="755640" y="26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осчитай вместе с бабочко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89" descr=""/>
          <p:cNvPicPr/>
          <p:nvPr/>
        </p:nvPicPr>
        <p:blipFill>
          <a:blip r:embed="rId6"/>
          <a:stretch/>
        </p:blipFill>
        <p:spPr>
          <a:xfrm>
            <a:off x="324000" y="2565360"/>
            <a:ext cx="11509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0" descr=""/>
          <p:cNvPicPr/>
          <p:nvPr/>
        </p:nvPicPr>
        <p:blipFill>
          <a:blip r:embed="rId7"/>
          <a:stretch/>
        </p:blipFill>
        <p:spPr>
          <a:xfrm>
            <a:off x="6372360" y="1700280"/>
            <a:ext cx="1224000" cy="121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1" descr=""/>
          <p:cNvPicPr/>
          <p:nvPr/>
        </p:nvPicPr>
        <p:blipFill>
          <a:blip r:embed="rId8"/>
          <a:stretch/>
        </p:blipFill>
        <p:spPr>
          <a:xfrm>
            <a:off x="4788000" y="1700280"/>
            <a:ext cx="129672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2" descr=""/>
          <p:cNvPicPr/>
          <p:nvPr/>
        </p:nvPicPr>
        <p:blipFill>
          <a:blip r:embed="rId9"/>
          <a:stretch/>
        </p:blipFill>
        <p:spPr>
          <a:xfrm>
            <a:off x="3059280" y="1700280"/>
            <a:ext cx="122544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3" descr=""/>
          <p:cNvPicPr/>
          <p:nvPr/>
        </p:nvPicPr>
        <p:blipFill>
          <a:blip r:embed="rId10"/>
          <a:stretch/>
        </p:blipFill>
        <p:spPr>
          <a:xfrm>
            <a:off x="1403280" y="1844640"/>
            <a:ext cx="1224000" cy="121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4"/>
          <p:cNvSpPr/>
          <p:nvPr/>
        </p:nvSpPr>
        <p:spPr>
          <a:xfrm>
            <a:off x="539640" y="28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95"/>
          <p:cNvSpPr/>
          <p:nvPr/>
        </p:nvSpPr>
        <p:spPr>
          <a:xfrm>
            <a:off x="147636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2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96"/>
          <p:cNvSpPr/>
          <p:nvPr/>
        </p:nvSpPr>
        <p:spPr>
          <a:xfrm>
            <a:off x="3059280" y="198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18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97"/>
          <p:cNvSpPr/>
          <p:nvPr/>
        </p:nvSpPr>
        <p:spPr>
          <a:xfrm>
            <a:off x="5076720" y="1916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8"/>
          <p:cNvSpPr/>
          <p:nvPr/>
        </p:nvSpPr>
        <p:spPr>
          <a:xfrm>
            <a:off x="6443640" y="20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8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99" descr=""/>
          <p:cNvPicPr/>
          <p:nvPr/>
        </p:nvPicPr>
        <p:blipFill>
          <a:blip r:embed="rId11"/>
          <a:stretch/>
        </p:blipFill>
        <p:spPr>
          <a:xfrm>
            <a:off x="7846920" y="2060640"/>
            <a:ext cx="1297080" cy="1289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0"/>
          <p:cNvSpPr/>
          <p:nvPr/>
        </p:nvSpPr>
        <p:spPr>
          <a:xfrm>
            <a:off x="7846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48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106" descr=""/>
          <p:cNvPicPr/>
          <p:nvPr/>
        </p:nvPicPr>
        <p:blipFill>
          <a:blip r:embed="rId12"/>
          <a:stretch/>
        </p:blipFill>
        <p:spPr>
          <a:xfrm>
            <a:off x="6948360" y="5877000"/>
            <a:ext cx="60012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7" descr=""/>
          <p:cNvPicPr/>
          <p:nvPr/>
        </p:nvPicPr>
        <p:blipFill>
          <a:blip r:embed="rId13"/>
          <a:stretch/>
        </p:blipFill>
        <p:spPr>
          <a:xfrm>
            <a:off x="539640" y="5084640"/>
            <a:ext cx="104940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8" descr=""/>
          <p:cNvPicPr/>
          <p:nvPr/>
        </p:nvPicPr>
        <p:blipFill>
          <a:blip r:embed="rId14"/>
          <a:stretch/>
        </p:blipFill>
        <p:spPr>
          <a:xfrm>
            <a:off x="2843280" y="4581360"/>
            <a:ext cx="1239840" cy="2098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9" descr=""/>
          <p:cNvPicPr/>
          <p:nvPr/>
        </p:nvPicPr>
        <p:blipFill>
          <a:blip r:embed="rId15"/>
          <a:stretch/>
        </p:blipFill>
        <p:spPr>
          <a:xfrm>
            <a:off x="5076720" y="4221000"/>
            <a:ext cx="1497240" cy="244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112" descr="babochka203"/>
          <p:cNvPicPr/>
          <p:nvPr/>
        </p:nvPicPr>
        <p:blipFill>
          <a:blip r:embed="rId16"/>
          <a:stretch/>
        </p:blipFill>
        <p:spPr>
          <a:xfrm>
            <a:off x="3348000" y="4292640"/>
            <a:ext cx="3168720" cy="25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3" descr=""/>
          <p:cNvPicPr/>
          <p:nvPr/>
        </p:nvPicPr>
        <p:blipFill>
          <a:blip r:embed="rId17"/>
          <a:stretch/>
        </p:blipFill>
        <p:spPr>
          <a:xfrm>
            <a:off x="4284720" y="4437000"/>
            <a:ext cx="11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4" descr=""/>
          <p:cNvPicPr/>
          <p:nvPr/>
        </p:nvPicPr>
        <p:blipFill>
          <a:blip r:embed="rId18"/>
          <a:stretch/>
        </p:blipFill>
        <p:spPr>
          <a:xfrm>
            <a:off x="1332000" y="4902120"/>
            <a:ext cx="11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5" descr="3e67680d7248acdbf98353260e5b6329"/>
          <p:cNvPicPr/>
          <p:nvPr/>
        </p:nvPicPr>
        <p:blipFill>
          <a:blip r:embed="rId19"/>
          <a:stretch/>
        </p:blipFill>
        <p:spPr>
          <a:xfrm>
            <a:off x="-723960" y="4581360"/>
            <a:ext cx="723960" cy="79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6" descr="tani17"/>
          <p:cNvPicPr/>
          <p:nvPr/>
        </p:nvPicPr>
        <p:blipFill>
          <a:blip r:embed="rId20"/>
          <a:stretch/>
        </p:blipFill>
        <p:spPr>
          <a:xfrm>
            <a:off x="7236000" y="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7" descr="tani17"/>
          <p:cNvPicPr/>
          <p:nvPr/>
        </p:nvPicPr>
        <p:blipFill>
          <a:blip r:embed="rId21"/>
          <a:stretch/>
        </p:blipFill>
        <p:spPr>
          <a:xfrm>
            <a:off x="7236000" y="0"/>
            <a:ext cx="19080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6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4879 C 0.00434 -0.05018 0.01232 -0.05133 0.02031 -0.05411 C 0.02326 -0.05526 0.02951 -0.05758 0.02951 -0.05735 C 0.04878 -0.05711 0.0684 -0.05758 0.08784 -0.05619 C 0.10243 -0.0548 0.11493 -0.04578 0.12899 -0.04347 C 0.13455 -0.03723 0.14184 -0.03399 0.14948 -0.03099 C 0.15347 -0.02636 0.1559 -0.0222 0.16059 -0.0185 C 0.16389 -0.00301 0.16718 0.01294 0.1717 0.02797 C 0.17222 0.03167 0.17343 0.03884 0.17343 0.0393 E">
                                      <p:cBhvr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6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43 0.03931 C 0.17743 0.02313 0.18836 0.00532 0.19878 -0.00508 C 0.20191 -0.00809 0.2052 -0.01063 0.20833 -0.01341 C 0.20989 -0.01479 0.21302 -0.01757 0.21302 -0.01734 C 0.21684 -0.02566 0.22135 -0.03121 0.22725 -0.03676 C 0.23038 -0.03976 0.2368 -0.04508 0.2368 -0.04485 C 0.24184 -0.05502 0.24757 -0.05919 0.2559 -0.06196 C 0.26579 -0.07583 0.27864 -0.07768 0.29236 -0.08115 C 0.31284 -0.08647 0.33246 -0.09572 0.35277 -0.10219 C 0.36805 -0.1015 0.3835 -0.10127 0.39878 -0.10011 C 0.40486 -0.09965 0.40329 -0.09595 0.40833 -0.09156 C 0.41371 -0.0867 0.42274 -0.08185 0.42899 -0.07907 C 0.43437 -0.0682 0.45052 -0.0578 0.46059 -0.0578 E">
                                      <p:cBhvr>
                                        <p:cTn id="6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441 -0.00787 C 0.46649 -0.01827 0.46909 -0.02544 0.47517 -0.02914 C 0.47934 -0.04024 0.48593 -0.04625 0.49305 -0.05018 C 0.49687 -0.0548 0.50034 -0.05642 0.50486 -0.05873 C 0.50989 -0.06451 0.51562 -0.06659 0.52152 -0.06914 C 0.52812 -0.077 0.53576 -0.07561 0.54305 -0.07977 C 0.57534 -0.07839 0.60729 -0.07746 0.63958 -0.07561 C 0.64618 -0.07515 0.65764 -0.05758 0.65764 -0.04602 E">
                                      <p:cBhvr>
                                        <p:cTn id="9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764 -0.04601 C 0.65902 -0.04879 0.66041 -0.05249 0.66632 -0.05411 C 0.67135 -0.05573 0.6835 -0.05665 0.6835 -0.05642 C 0.71666 -0.06844 0.83489 -0.06243 0.83611 -0.06243 C 0.86857 -0.06382 0.89583 -0.0659 0.93073 -0.06243 C 0.93698 -0.06174 0.94357 -0.05549 0.94357 -0.05526 C 0.94913 -0.04694 0.94809 -0.05087 0.94809 -0.04347 E">
                                      <p:cBhvr>
                                        <p:cTn id="10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3594 -0.04186 C 0.94531 -0.04486 0.94201 -0.04648 0.94878 -0.05249 C 0.95521 -0.05804 0.96198 -0.06405 0.96927 -0.06729 C 0.97569 -0.07538 0.96996 -0.0696 0.98368 -0.07353 C 0.99149 -0.07562 0.99948 -0.07793 1.00746 -0.08001 C 1.02326 -0.07931 1.03924 -0.07908 1.05503 -0.07793 C 1.06059 -0.07747 1.06545 -0.07122 1.07101 -0.06937 C 1.07396 -0.0666 1.08212 -0.06336 1.08212 -0.05874 E">
                                      <p:cBhvr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98800" y="47880"/>
            <a:ext cx="879660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Реши и запиши задачи без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9145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Какова скорость велосипедиста, если за 3 часа он проехал 42 км с одной и той же скоростью?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42 : 3 = 14 (км/ч)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 = S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Лыжник двигался 2ч со скоростью 15км/ч и 3ч со скоростью 14км/ч. Какое расстояние он преодолел за это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ремя?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99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2 + 14 </a:t>
            </a:r>
            <a:r>
              <a:rPr b="1" lang="ru-RU" sz="2800" spc="-1" strike="noStrike">
                <a:solidFill>
                  <a:srgbClr val="cc3399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3=72(км)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S = V </a:t>
            </a:r>
            <a:r>
              <a:rPr b="1" lang="ru-RU" sz="2800" spc="-1" strike="noStrike">
                <a:solidFill>
                  <a:srgbClr val="cc3399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корость вороны 40км/ч. За какое время      она пролетит 160км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160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: 40 = 4 (ч)           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t = S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deva63"/>
          <p:cNvPicPr/>
          <p:nvPr/>
        </p:nvPicPr>
        <p:blipFill>
          <a:blip r:embed="rId1"/>
          <a:stretch/>
        </p:blipFill>
        <p:spPr>
          <a:xfrm>
            <a:off x="755640" y="1916280"/>
            <a:ext cx="884160" cy="936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250920" y="2852640"/>
            <a:ext cx="395280" cy="358920"/>
          </a:xfrm>
          <a:custGeom>
            <a:avLst/>
            <a:gdLst>
              <a:gd name="textAreaLeft" fmla="*/ 172440 w 395280"/>
              <a:gd name="textAreaRight" fmla="*/ 222840 w 395280"/>
              <a:gd name="textAreaTop" fmla="*/ 156600 h 358920"/>
              <a:gd name="textAreaBottom" fmla="*/ 2023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26" y="9426"/>
                </a:lnTo>
                <a:lnTo>
                  <a:pt x="10800" y="0"/>
                </a:lnTo>
                <a:lnTo>
                  <a:pt x="12174" y="9426"/>
                </a:lnTo>
                <a:lnTo>
                  <a:pt x="21600" y="10800"/>
                </a:lnTo>
                <a:lnTo>
                  <a:pt x="12174" y="12174"/>
                </a:lnTo>
                <a:lnTo>
                  <a:pt x="10800" y="21600"/>
                </a:lnTo>
                <a:lnTo>
                  <a:pt x="9426" y="121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79280" y="765000"/>
            <a:ext cx="395280" cy="360360"/>
          </a:xfrm>
          <a:custGeom>
            <a:avLst/>
            <a:gdLst>
              <a:gd name="textAreaLeft" fmla="*/ 162720 w 395280"/>
              <a:gd name="textAreaRight" fmla="*/ 232560 w 395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676213922e4c3745bbd0150805bb9239"/>
          <p:cNvPicPr/>
          <p:nvPr/>
        </p:nvPicPr>
        <p:blipFill>
          <a:blip r:embed="rId2"/>
          <a:stretch/>
        </p:blipFill>
        <p:spPr>
          <a:xfrm>
            <a:off x="539640" y="4076640"/>
            <a:ext cx="1295640" cy="966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5"/>
          <p:cNvSpPr/>
          <p:nvPr/>
        </p:nvSpPr>
        <p:spPr>
          <a:xfrm>
            <a:off x="250920" y="5084640"/>
            <a:ext cx="395280" cy="358920"/>
          </a:xfrm>
          <a:custGeom>
            <a:avLst/>
            <a:gdLst>
              <a:gd name="textAreaLeft" fmla="*/ 172440 w 395280"/>
              <a:gd name="textAreaRight" fmla="*/ 222840 w 395280"/>
              <a:gd name="textAreaTop" fmla="*/ 156600 h 358920"/>
              <a:gd name="textAreaBottom" fmla="*/ 2023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26" y="9426"/>
                </a:lnTo>
                <a:lnTo>
                  <a:pt x="10800" y="0"/>
                </a:lnTo>
                <a:lnTo>
                  <a:pt x="12174" y="9426"/>
                </a:lnTo>
                <a:lnTo>
                  <a:pt x="21600" y="10800"/>
                </a:lnTo>
                <a:lnTo>
                  <a:pt x="12174" y="12174"/>
                </a:lnTo>
                <a:lnTo>
                  <a:pt x="10800" y="21600"/>
                </a:lnTo>
                <a:lnTo>
                  <a:pt x="9426" y="121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16" descr="vorona13"/>
          <p:cNvPicPr/>
          <p:nvPr/>
        </p:nvPicPr>
        <p:blipFill>
          <a:blip r:embed="rId3"/>
          <a:stretch/>
        </p:blipFill>
        <p:spPr>
          <a:xfrm>
            <a:off x="250920" y="5827680"/>
            <a:ext cx="15843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21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219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225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0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267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273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16480" y="314640"/>
            <a:ext cx="78152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Реши приме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301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240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• 3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450 • 6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80 • 926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  <a:ea typeface="Arial"/>
              </a:rPr>
              <a:t>200 • 7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360" y="1483920"/>
            <a:ext cx="39132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720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2700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7408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150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12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39880" y="120600"/>
            <a:ext cx="682632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Работа с учебником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                 №5 стр.15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5280" y="32130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) 3420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• 10 = 34200 (уч.) – были в библиоте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2060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Были - ? у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68360" y="2565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олучили – 3420 уч., это 1/10 о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6804000" y="2276280"/>
            <a:ext cx="0" cy="6476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H="1">
            <a:off x="5435280" y="2276640"/>
            <a:ext cx="136836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6804000" y="206064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7308720" y="2349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?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уч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468360" y="3860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2) 34200 + 3420 = 37620 (уч.) – стал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755640" y="4508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420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• 10 + 34200 = 376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95280" y="5157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твет: 37620 учебников стало в библиоте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25" descr="0d3520032f2947465c88f8886109d15f"/>
          <p:cNvPicPr/>
          <p:nvPr/>
        </p:nvPicPr>
        <p:blipFill>
          <a:blip r:embed="rId1"/>
          <a:stretch/>
        </p:blipFill>
        <p:spPr>
          <a:xfrm rot="20619000">
            <a:off x="611280" y="475920"/>
            <a:ext cx="1428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8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678400" y="50760"/>
            <a:ext cx="5957280" cy="70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19 стр.1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5" descr="0d3520032f2947465c88f8886109d15f"/>
          <p:cNvPicPr/>
          <p:nvPr/>
        </p:nvPicPr>
        <p:blipFill>
          <a:blip r:embed="rId1"/>
          <a:stretch/>
        </p:blipFill>
        <p:spPr>
          <a:xfrm rot="20619000">
            <a:off x="611280" y="475920"/>
            <a:ext cx="142848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3203640" y="98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Проверк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68360" y="1628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)Сумма чисел, записанных в остроугольных треугольниках ра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708360" y="2492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799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39640" y="2997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2)Разности чисел, записанных в прямоугольных треугольник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5640" y="3860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275, 528, 186, 253, 89, 342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55640" y="4437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Умножь каждое из полученных результатов на число, записанное в тупоугольном треугольни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395280" y="59500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27500, 52800, 18600, 25300, 8900,342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2360" y="834120"/>
            <a:ext cx="71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Домашнее зад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771280" y="2361960"/>
            <a:ext cx="5759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 стр.15,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4 стр.16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4" descr="18aa2fb4e9dffae706350c836ff29403"/>
          <p:cNvPicPr/>
          <p:nvPr/>
        </p:nvPicPr>
        <p:blipFill>
          <a:blip r:embed="rId1"/>
          <a:stretch/>
        </p:blipFill>
        <p:spPr>
          <a:xfrm>
            <a:off x="971640" y="83664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8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27:50Z</dcterms:created>
  <dc:creator>User</dc:creator>
  <dc:description/>
  <dc:language>en-US</dc:language>
  <cp:lastModifiedBy>Администратор</cp:lastModifiedBy>
  <dcterms:modified xsi:type="dcterms:W3CDTF">2019-10-06T18:36:5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