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CARBRAKE.WAV" ContentType="audio/x-wav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540-AA4B-42B9-96A5-A630AC50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BA4-F889-44A2-BEAF-1E7A30DB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AA4-72E6-41FA-B4AD-FBCCA530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C34-7051-42E7-AB3A-2CC121A8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748-0D52-48AC-A179-290F3396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750-B9C1-4E42-9695-A7B86EA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A8B-E1BE-425F-B09F-B06AD206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426-30A4-4A1B-B124-3A4D46E9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53B-8581-4ADE-886F-E5B3D47B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1E4-F34E-45E1-9683-350987C7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1A7-E865-42F4-82FC-3C3AB1F1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C75-3023-4756-B286-4F984B78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77F9-6BD7-49AB-9EDA-16552C6FA7B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388800"/>
            <a:ext cx="7862760" cy="5329440"/>
          </a:xfrm>
          <a:prstGeom prst="rect">
            <a:avLst/>
          </a:prstGeom>
          <a:noFill/>
          <a:ln w="9360">
            <a:solidFill>
              <a:srgbClr val="ce9964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«</a:t>
            </a:r>
            <a:r>
              <a:rPr b="1" lang="ru-RU" sz="4800" spc="-1" strike="noStrike">
                <a:solidFill>
                  <a:srgbClr val="402000"/>
                </a:solidFill>
                <a:latin typeface="Times New Roman"/>
              </a:rPr>
              <a:t>Развитие лидерских </a:t>
            </a:r>
            <a:br>
              <a:rPr sz="4800"/>
            </a:br>
            <a:r>
              <a:rPr b="1" lang="ru-RU" sz="4800" spc="-1" strike="noStrike">
                <a:solidFill>
                  <a:srgbClr val="402000"/>
                </a:solidFill>
                <a:latin typeface="Times New Roman"/>
              </a:rPr>
              <a:t>качеств и навыков взаимодействия у школьников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.</a:t>
            </a:r>
            <a:br>
              <a:rPr sz="4800"/>
            </a:br>
            <a:br>
              <a:rPr sz="4800"/>
            </a:br>
            <a:br>
              <a:rPr sz="36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едагог-психолог Вальчук О.В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85680" y="1628640"/>
            <a:ext cx="23940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Оценка результатов рабо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Экспертиза - обсуждение итогов, затруднений, рефлексия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Очень большое значение имеет самоанализ участниками собственного поведения, который обогащается обратной связью от других членов группы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Педагог только помогает более четко сформулировать найденные участниками закономерности, конструктивно вести диалог, обращает внимание на ресурсы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5597640" y="4292640"/>
            <a:ext cx="3186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Психолого-педагогический подход 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Лидер и его признаки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809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надлежность к группе: он «внутри», а не «над» группой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оложение в группе: авторитет, высокий статус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впадение ценностных ориентаций лидера и группы, лидер отражает и выражает интересы группы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здейственность на группу: организация и управление группой при достижении групповых целей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точник выдвижения лидера в группе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2880" y="1828440"/>
            <a:ext cx="38102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2000"/>
                </a:solidFill>
                <a:latin typeface="Times New Roman"/>
              </a:rPr>
              <a:t>Лидер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– член группы, в наибольшей степени влияющий на формирование групповых интересов, выделившийся в результате внутригруппового взаимодействия в процессе ролевой дифференциации, реализующий собственные потенциальные возможности в организации деятельности и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Особенности лидерства в детском коллективе</a:t>
            </a:r>
            <a:br>
              <a:rPr sz="3600"/>
            </a:b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292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воеобразие развития ребенка на той или иной возрастной ступени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чение как преобладающим видом деятельности школьника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итуация лидерства (формальное/неформальное, временное/постоянное, одно/разновозрастная группа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заданность отношений с педагогами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 ходе личностного продвижения в позицию лидера необходимо поэтапное прохождение фаз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личностное определение (позиционное и деятельностное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блематизация в позиции лидера (какую проблему будет решать лидер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остроение маршрута личностного продвиж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владение элементами деятельности и личной рефлексии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Условия стимулирующие формирования лидерства в детском коллектив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6560" y="1484280"/>
            <a:ext cx="79362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еспечение многообразия деятельности: в любой деятельности выдвигается свой лидер и организация временной группы позволяет практически каждому реализовать свой лидерский потенциал. Средство - исследовательская деятельность через деловые, ролевые игры, тренинги, биржи идей, практические занятия, организаторскую деятельность и т.п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Формирование коллектива (сотворчества), так как развитый коллектив обладает огромной воспитательной силой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самоуправления, которое может служить источником различных видов деятельности, фактором, помогающим развитию коллектива и отдельной личности в коллективе. Включение в общественно полезную деятельность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Личность педагога-организатора, понимающего возрастные и индивидуальные особенности детей. Включение детей в систему аналитической деятельности (анализ взаимоотношений, ситуации после упражнения или игры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622080"/>
            <a:ext cx="788508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Times New Roman"/>
              </a:rPr>
              <a:t>Технологии развития социальных, лидерских навыков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55" name="Объект 5" descr=""/>
          <p:cNvPicPr/>
          <p:nvPr/>
        </p:nvPicPr>
        <p:blipFill>
          <a:blip r:embed="rId1"/>
          <a:stretch/>
        </p:blipFill>
        <p:spPr>
          <a:xfrm>
            <a:off x="3887640" y="1595520"/>
            <a:ext cx="5256360" cy="5254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1547280"/>
            <a:ext cx="316872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524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2000"/>
                </a:solidFill>
                <a:latin typeface="Times New Roman"/>
              </a:rPr>
              <a:t>Сюжетно-ролевая деятельность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marL="285840" indent="-285840">
              <a:spcBef>
                <a:spcPts val="524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2000"/>
                </a:solidFill>
                <a:latin typeface="Times New Roman"/>
              </a:rPr>
              <a:t>Метод дискуссии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marL="285840" indent="-285840">
              <a:spcBef>
                <a:spcPts val="524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2000"/>
                </a:solidFill>
                <a:latin typeface="Times New Roman"/>
              </a:rPr>
              <a:t>Мозговой штурм (сбор, генерирование новых идей без оценки)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marL="285840" indent="-285840">
              <a:spcBef>
                <a:spcPts val="524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2000"/>
                </a:solidFill>
                <a:latin typeface="Times New Roman"/>
              </a:rPr>
              <a:t>Ситуативный анализ/кейс-метод (проблемные, проектные ситуации)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marL="285840" indent="-285840">
              <a:spcBef>
                <a:spcPts val="524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2000"/>
                </a:solidFill>
                <a:latin typeface="Times New Roman"/>
              </a:rPr>
              <a:t>Тренинговые упражнения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marL="285840" indent="-285840">
              <a:spcBef>
                <a:spcPts val="524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2000"/>
                </a:solidFill>
                <a:latin typeface="Times New Roman"/>
              </a:rPr>
              <a:t>Самопрезентации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marL="285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Рекомендации учителям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9992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 занимайтесь наставлениями, помогайте детям действовать независимо ( не сдерживайте инициативы и не делайте за них то, что они могут сделать самостоятельно) 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аучите прослеживать межпредметные связи и использовать знания, полученные при изучении других предметов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учайте детей к навыкам самостоятельного решения проблем, исследования и анализа ситуации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уйте трудные ситуации, возникшие в школе или дома, как область приложения полученных навыков при решении задач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омогайте детям научиться управлять процессом усвоения знани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ценивайте только поступки, избегайте «черно-белой» оценки.  Признавайте право на ошибки. Думайте о детском банке счастливых воспоминаний. Ребенок относится к себе так, как относятся к нему взрослые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тавьте себя на место ребенка, и тогда будет понятнее, как вести себя с ним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1800" y="811080"/>
            <a:ext cx="7542360" cy="1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Руководство по достижению консенсус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2160" y="1557360"/>
            <a:ext cx="712944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1.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Подходите к задаче с позиции логики. Избегайте споров, в которых стараетесь доказать правоту собственных суждений.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2.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Избегайте изменения своего мнения только для того, чтобы прийти к соглашению и не допустить конфликта. Поддерживайте только те решения, с которым вы можете согласиться, хотя бы отчасти. Избегайте таких конфликтов методом разрешения спорных вопросов, как-то: голосование, усреднение или торг при принятии коллективного решения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3.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Принимайте разницу во мнениях как нечто полезное, а не как помеху для принятия решения.</a:t>
            </a:r>
            <a:br>
              <a:rPr sz="2200"/>
            </a:b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7308720" y="811080"/>
            <a:ext cx="145908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Ориентиры для педагога/ эксперт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как происходит разбивка на группы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как осуществляется работа в группах:</a:t>
            </a:r>
            <a:br>
              <a:rPr sz="2200"/>
            </a:b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а) какие виды поведения помогают или мешают процессу достижения согласия?</a:t>
            </a:r>
            <a:br>
              <a:rPr sz="2200"/>
            </a:b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б) вырабатывают ли участники какие-то правила для совместного принятия решения или действуют стихийно?</a:t>
            </a:r>
            <a:br>
              <a:rPr sz="2200"/>
            </a:b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в) кто участвует в процессе выработки решения, а кто нет?</a:t>
            </a:r>
            <a:br>
              <a:rPr sz="2200"/>
            </a:b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г) кто и как оказывает влияние на процесс принятия решения? один или два лидера?</a:t>
            </a:r>
            <a:br>
              <a:rPr sz="2200"/>
            </a:b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д) какова атмосфера в группе во время дискуссии?</a:t>
            </a:r>
            <a:br>
              <a:rPr sz="2200"/>
            </a:b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е) какие действия предпринимают участники группы для «протаскивания» своих мнений?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988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Практика</a:t>
            </a:r>
            <a:br>
              <a:rPr sz="3200"/>
            </a:br>
            <a:r>
              <a:rPr b="0" lang="ru-RU" sz="2800" spc="-1" strike="noStrike">
                <a:solidFill>
                  <a:srgbClr val="996633"/>
                </a:solidFill>
                <a:latin typeface="Times New Roman"/>
              </a:rPr>
              <a:t>У каждой мини-группы будет своя задача. </a:t>
            </a:r>
            <a:br>
              <a:rPr sz="2800"/>
            </a:br>
            <a:r>
              <a:rPr b="0" lang="ru-RU" sz="2800" spc="-1" strike="noStrike">
                <a:solidFill>
                  <a:srgbClr val="996633"/>
                </a:solidFill>
                <a:latin typeface="Times New Roman"/>
              </a:rPr>
              <a:t>Время выполнения 5 мин (по истечении музыки)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640" y="1628280"/>
            <a:ext cx="78436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1) Из отдельных фрагментов воедино собрать картину, её закрепить на ватмане и разместить флипчарте (дошк.подр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2) Придумать и создать флаг на котором отобразить девиз, затем прикрепить на мачте (нач.подр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3) Придумать и нарисовать герб, прикрепить на парусе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(худ.-эстетич.кафедра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4) Составить список ценностей, качеств, необходимых для ориентира в достижении цели (науч.-тех.кафедра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5) Придумать и написать название корабля + обоснование своего выбора, прикрепить на борте корабля (кафедра ин.яз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6) Сочинить и дружно спеть гимн (соц.-гум.кафедра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7) Сочинить и зачитать напутственную речь       (администрация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21:02:34Z</dcterms:created>
  <dc:creator>N06</dc:creator>
  <dc:description/>
  <dc:language>en-US</dc:language>
  <cp:lastModifiedBy>Оксана</cp:lastModifiedBy>
  <dcterms:modified xsi:type="dcterms:W3CDTF">2018-02-19T20:19:08Z</dcterms:modified>
  <cp:revision>41</cp:revision>
  <dc:subject/>
  <dc:title>«Психолого – педагогическое сопровождение одаренных детей » педагог – психолог Земова И.В</dc:title>
</cp:coreProperties>
</file>