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DD-8B43-455A-8A6A-92BD0A68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BF2-309B-4990-A8C6-ABBD822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FBD-7377-4308-9E09-DA97AE25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F00-FC22-44B7-A7C9-3E199202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1EAC-FABD-40BA-96E0-2888D9C6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C360-06F9-4F72-9172-6AD2181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D735-161C-45A6-8401-982003E8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BE39-AAD0-48D5-8269-5B47F06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019A-C63F-4F8E-92AE-1419726D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3735-E8A7-4B69-BD0D-D4DBF163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5237-CBC8-49B4-9B73-89B0A8F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576-1A7C-4F86-A4E7-6928B4F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AC4-B60E-42E7-A56D-7B1D47E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76C4-32C9-43DA-B296-6A404D84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5311-A1E6-47D1-8CFA-33BF569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750-8B36-4F14-BE54-1D2E5DBD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AAD7-384D-43FD-8E87-7E060B1B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D8D-B8DB-4CBF-8492-AA1D4FF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F67-E449-4D52-B750-A23AA13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022-BCD4-4719-8EF6-4A41E3B2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F8F-A8BD-48E6-B4FB-EB712AC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57A-87D6-40F9-9E95-B4F62C2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475-B4F6-4DF8-8993-4196002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427-4C4B-4402-854D-CAA423BC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342-D95A-46AF-987D-2192C9844F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76D-557C-4038-9D4D-A74DC24E877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селая резино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ческое развитие детей стар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26320" y="6019920"/>
            <a:ext cx="33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нструктор по физ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Лавренчук Наталья Александров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АДОУ ЦРР д/с № 1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289116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ать детей упражнениям на развитие силы мышц рук и ног с использованием нетрадиционного оборудования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Развивать глазомер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Закреплять метание мяча из-за головы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 Воспитывать чувства взаимопомощи и дружелюб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тро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4" descr="DSCN4257"/>
          <p:cNvPicPr/>
          <p:nvPr/>
        </p:nvPicPr>
        <p:blipFill>
          <a:blip r:embed="rId1"/>
          <a:stretch/>
        </p:blipFill>
        <p:spPr>
          <a:xfrm>
            <a:off x="457200" y="2133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N4275"/>
          <p:cNvPicPr/>
          <p:nvPr/>
        </p:nvPicPr>
        <p:blipFill>
          <a:blip r:embed="rId2"/>
          <a:stretch/>
        </p:blipFill>
        <p:spPr>
          <a:xfrm>
            <a:off x="4343400" y="422928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4724280" y="274320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одну колонну становись, в обход по залу шагом марш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42720" y="5181480"/>
            <a:ext cx="36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зьмите резиночку на лавк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 сложите ее в двое, а затем в четвер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водная ча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4" descr="DSCN4278"/>
          <p:cNvPicPr/>
          <p:nvPr/>
        </p:nvPicPr>
        <p:blipFill>
          <a:blip r:embed="rId1"/>
          <a:stretch/>
        </p:blipFill>
        <p:spPr>
          <a:xfrm>
            <a:off x="4800600" y="19051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CN4279"/>
          <p:cNvPicPr/>
          <p:nvPr/>
        </p:nvPicPr>
        <p:blipFill>
          <a:blip r:embed="rId2"/>
          <a:stretch/>
        </p:blipFill>
        <p:spPr>
          <a:xfrm>
            <a:off x="838080" y="422928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010880" y="2362320"/>
            <a:ext cx="32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одьба обычна, ходьба на носках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уки с резиночкой ввер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17160" y="5105520"/>
            <a:ext cx="328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одьба обычная, ходьба на пятк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уки с резиночкой за спиной, бе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еразвивающие упраж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4" descr="DSCN4294"/>
          <p:cNvPicPr/>
          <p:nvPr/>
        </p:nvPicPr>
        <p:blipFill>
          <a:blip r:embed="rId1"/>
          <a:stretch/>
        </p:blipFill>
        <p:spPr>
          <a:xfrm>
            <a:off x="0" y="1752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SCN4300"/>
          <p:cNvPicPr/>
          <p:nvPr/>
        </p:nvPicPr>
        <p:blipFill>
          <a:blip r:embed="rId2"/>
          <a:stretch/>
        </p:blipFill>
        <p:spPr>
          <a:xfrm>
            <a:off x="5943600" y="1828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SCN4303"/>
          <p:cNvPicPr/>
          <p:nvPr/>
        </p:nvPicPr>
        <p:blipFill>
          <a:blip r:embed="rId3"/>
          <a:stretch/>
        </p:blipFill>
        <p:spPr>
          <a:xfrm>
            <a:off x="137160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N4308"/>
          <p:cNvPicPr/>
          <p:nvPr/>
        </p:nvPicPr>
        <p:blipFill>
          <a:blip r:embed="rId4"/>
          <a:stretch/>
        </p:blipFill>
        <p:spPr>
          <a:xfrm>
            <a:off x="4724280" y="4400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027240" y="2362320"/>
            <a:ext cx="31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щеразвивающие упражнен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 положения сто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еразвивающие упраж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DSCN4311"/>
          <p:cNvPicPr/>
          <p:nvPr/>
        </p:nvPicPr>
        <p:blipFill>
          <a:blip r:embed="rId1"/>
          <a:stretch/>
        </p:blipFill>
        <p:spPr>
          <a:xfrm>
            <a:off x="0" y="179064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SCN4317"/>
          <p:cNvPicPr/>
          <p:nvPr/>
        </p:nvPicPr>
        <p:blipFill>
          <a:blip r:embed="rId2"/>
          <a:stretch/>
        </p:blipFill>
        <p:spPr>
          <a:xfrm>
            <a:off x="4648320" y="177156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253880" y="5646600"/>
            <a:ext cx="545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щеразвивающие упражнения из положений сидя и леж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виды движ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DSCN4339"/>
          <p:cNvPicPr/>
          <p:nvPr/>
        </p:nvPicPr>
        <p:blipFill>
          <a:blip r:embed="rId1"/>
          <a:stretch/>
        </p:blipFill>
        <p:spPr>
          <a:xfrm>
            <a:off x="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N4396"/>
          <p:cNvPicPr/>
          <p:nvPr/>
        </p:nvPicPr>
        <p:blipFill>
          <a:blip r:embed="rId2"/>
          <a:stretch/>
        </p:blipFill>
        <p:spPr>
          <a:xfrm>
            <a:off x="5105520" y="19810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46520" y="5334120"/>
            <a:ext cx="26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пади мячом в резиночк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991760" y="5334120"/>
            <a:ext cx="365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ыгни в резиночку, разным способо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ижная игра «Съедобное-несъедобно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DSCN4402"/>
          <p:cNvPicPr/>
          <p:nvPr/>
        </p:nvPicPr>
        <p:blipFill>
          <a:blip r:embed="rId1"/>
          <a:stretch/>
        </p:blipFill>
        <p:spPr>
          <a:xfrm>
            <a:off x="380880" y="17524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SCN4408"/>
          <p:cNvPicPr/>
          <p:nvPr/>
        </p:nvPicPr>
        <p:blipFill>
          <a:blip r:embed="rId2"/>
          <a:stretch/>
        </p:blipFill>
        <p:spPr>
          <a:xfrm>
            <a:off x="5486400" y="1752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SCN4429"/>
          <p:cNvPicPr/>
          <p:nvPr/>
        </p:nvPicPr>
        <p:blipFill>
          <a:blip r:embed="rId3"/>
          <a:stretch/>
        </p:blipFill>
        <p:spPr>
          <a:xfrm>
            <a:off x="3124080" y="380988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253240" y="6172200"/>
            <a:ext cx="51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бедители – самые ловкие и внимательные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2:13:49Z</dcterms:created>
  <dc:creator>НАТАЛЬЯ</dc:creator>
  <dc:description/>
  <dc:language>en-US</dc:language>
  <cp:lastModifiedBy>НАТАЛЬЯ</cp:lastModifiedBy>
  <dcterms:modified xsi:type="dcterms:W3CDTF">2019-10-06T16:30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