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FB60-72A9-4DA7-AC17-0677E806DA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202E-F08C-4E91-B436-D3939E78C6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F25-21B5-4B41-B736-6C265497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91A-D7AB-41A7-827E-A2B671BD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5E8-847C-4C3B-AAA5-D7EADF9F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49A9-CDA3-492A-8329-6DAD72F1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B619-E925-40EE-BE6E-58AD9DBD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3C65-3680-4660-9D40-33E51E95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F26F-D0D9-4C04-8E9D-73BDDC98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B1C6-F859-446D-BE0B-55EF8B8B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AD02-3F41-43DD-A33E-F9B650D4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169F-D4F2-4BF0-A71B-D836CF34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8C40-2366-4653-9744-7F894B37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C4D-2B5F-4B05-92A7-D3EDE7B3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49B7-98DB-4532-83F7-800081DD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C73C-7B2D-4CFC-9078-AA615393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910B-AD1A-4C73-9FF2-2B7400A8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5F7C-D3E5-48C0-936E-D7A7D7E6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C117-4C33-4A09-9BF2-D50A67B9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35B-36AB-4CBB-8258-1B8A3554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634-5659-4658-9FEF-9F15521B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50C-6C72-4212-A98B-9AF78448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C6B-5A0B-431F-833D-88754634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8FAD-965D-414B-B0D6-4DE766F3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D88C-6FE0-47EE-A2D7-13A548B0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870E-A1D6-4E52-88FB-AD701CB7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AE58-65FE-496F-8F07-E04C9598F5AF}" type="slidenum">
              <a:rPr b="0" lang="ru-RU" sz="1200" spc="-1" strike="noStrike">
                <a:solidFill>
                  <a:srgbClr val="4a382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FE53-19F3-4B32-852E-046BB60D6251}" type="slidenum">
              <a:rPr b="0" lang="ru-RU" sz="1200" spc="-1" strike="noStrike">
                <a:solidFill>
                  <a:srgbClr val="4a382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14200" y="1928880"/>
            <a:ext cx="8501040" cy="4214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зентация для родителей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Технология использования дидактических игр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 блоками Дьенеш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спитатель: Тихомирова Н.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рняховс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013г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3" name="Рисунок 4" descr="http://shkola7gnomov.ru/upload/image/%D0%B1%D0%BB%D0%BE%D0%BA%D0%B8.jpg"/>
          <p:cNvPicPr/>
          <p:nvPr/>
        </p:nvPicPr>
        <p:blipFill>
          <a:blip r:embed="rId1"/>
          <a:stretch/>
        </p:blipFill>
        <p:spPr>
          <a:xfrm>
            <a:off x="857160" y="4214880"/>
            <a:ext cx="1581120" cy="15048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6" descr=""/>
          <p:cNvPicPr/>
          <p:nvPr/>
        </p:nvPicPr>
        <p:blipFill>
          <a:blip r:embed="rId2"/>
          <a:stretch/>
        </p:blipFill>
        <p:spPr>
          <a:xfrm>
            <a:off x="2712960" y="212760"/>
            <a:ext cx="3571920" cy="186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3160" y="1357200"/>
            <a:ext cx="78548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ния дидактического материал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учить дошкольников решать логические задачи, определяя основные свойства предметов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58b8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а (круг, квадрат, треугольник, прямоугольник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58b8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вет (красный, желтый, синий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58b8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мер (большой, маленький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58b8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лщина (толстый, тонкий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новное умение, необходимое для решения логических задач – это умение выявлять в объектах разнообразные свойства, называть их, обобщать объекты по одному или нескольким свойства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7572240" y="2857680"/>
            <a:ext cx="1086120" cy="100944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6" descr=""/>
          <p:cNvPicPr/>
          <p:nvPr/>
        </p:nvPicPr>
        <p:blipFill>
          <a:blip r:embed="rId2"/>
          <a:stretch/>
        </p:blipFill>
        <p:spPr>
          <a:xfrm>
            <a:off x="3108240" y="249120"/>
            <a:ext cx="2616120" cy="153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71320" y="1356840"/>
            <a:ext cx="8143560" cy="492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Обучающи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 Познакомить с формой, цветом, размером, толщиной объект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. Освоить основные конструктивные навы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Развивающи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 Развивать пространственные представл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. Развивать логическое мышлен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3. Развивать умение выявлять свойства обосновывать свои рассужд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4. Развивать способности декодировать (расшифровывать)              информац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5. Развивать творческие способности, воображение, фантазию 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Воспитывающи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 Воспитывать самостоятельность, инициативу, настойчивость в достижении цел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2852640" y="176040"/>
            <a:ext cx="3511800" cy="1536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71320" y="2143080"/>
            <a:ext cx="7854840" cy="4286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1100"/>
              </a:spcBef>
              <a:buClr>
                <a:srgbClr val="b58b8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обери бусы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b58b80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рячь фигуры от дождя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b58b80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строй мостик для зайчика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b58b80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сели домики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b58b80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строй дом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Прямоугольник 5" descr=""/>
          <p:cNvPicPr/>
          <p:nvPr/>
        </p:nvPicPr>
        <p:blipFill>
          <a:blip r:embed="rId1"/>
          <a:stretch/>
        </p:blipFill>
        <p:spPr>
          <a:xfrm>
            <a:off x="1695600" y="103320"/>
            <a:ext cx="6448320" cy="236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85480" y="1785600"/>
            <a:ext cx="8429400" cy="471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цвету и величин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форме и цве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 форме, цвету 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 схем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3173400" cy="4148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2"/>
          <a:stretch/>
        </p:blipFill>
        <p:spPr>
          <a:xfrm>
            <a:off x="6643800" y="1785960"/>
            <a:ext cx="1647720" cy="600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6715080" y="2786040"/>
            <a:ext cx="1542960" cy="61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5572080" y="4643280"/>
            <a:ext cx="3105360" cy="876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"/>
          <p:cNvPicPr/>
          <p:nvPr/>
        </p:nvPicPr>
        <p:blipFill>
          <a:blip r:embed="rId5"/>
          <a:stretch/>
        </p:blipFill>
        <p:spPr>
          <a:xfrm>
            <a:off x="6715080" y="3714840"/>
            <a:ext cx="1647720" cy="60012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10" descr=""/>
          <p:cNvPicPr/>
          <p:nvPr/>
        </p:nvPicPr>
        <p:blipFill>
          <a:blip r:embed="rId6"/>
          <a:stretch/>
        </p:blipFill>
        <p:spPr>
          <a:xfrm>
            <a:off x="609480" y="324000"/>
            <a:ext cx="7723440" cy="1535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3" descr=""/>
          <p:cNvPicPr/>
          <p:nvPr/>
        </p:nvPicPr>
        <p:blipFill>
          <a:blip r:embed="rId1"/>
          <a:stretch/>
        </p:blipFill>
        <p:spPr>
          <a:xfrm>
            <a:off x="523800" y="-60480"/>
            <a:ext cx="8143920" cy="2114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57120" y="1642680"/>
            <a:ext cx="8429760" cy="47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 По цвет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. По форм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. По величин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4. По форме и цвет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5. По схем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3000240" y="1785960"/>
            <a:ext cx="1657440" cy="857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714240" y="2000160"/>
            <a:ext cx="2200320" cy="4076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4"/>
          <a:stretch/>
        </p:blipFill>
        <p:spPr>
          <a:xfrm>
            <a:off x="3071880" y="2571840"/>
            <a:ext cx="2257200" cy="1038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5"/>
          <a:stretch/>
        </p:blipFill>
        <p:spPr>
          <a:xfrm>
            <a:off x="3143160" y="3500280"/>
            <a:ext cx="1000080" cy="933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6"/>
          <a:stretch/>
        </p:blipFill>
        <p:spPr>
          <a:xfrm>
            <a:off x="3000240" y="4429080"/>
            <a:ext cx="2467080" cy="981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7"/>
          <a:stretch/>
        </p:blipFill>
        <p:spPr>
          <a:xfrm>
            <a:off x="3000240" y="5429160"/>
            <a:ext cx="2714760" cy="771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  По форме, цвету и величин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.  По форме, цвету и толщин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3. По форме, цвету , величине и толщин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4. По схем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Заголовок 4" descr=""/>
          <p:cNvPicPr/>
          <p:nvPr/>
        </p:nvPicPr>
        <p:blipFill>
          <a:blip r:embed="rId1"/>
          <a:stretch/>
        </p:blipFill>
        <p:spPr>
          <a:xfrm>
            <a:off x="457200" y="55440"/>
            <a:ext cx="8229600" cy="235908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6" descr="C:\Documents and Settings\Нина\Рабочий стол\Creat0101.TIF"/>
          <p:cNvPicPr/>
          <p:nvPr/>
        </p:nvPicPr>
        <p:blipFill>
          <a:blip r:embed="rId2"/>
          <a:stretch/>
        </p:blipFill>
        <p:spPr>
          <a:xfrm>
            <a:off x="428760" y="2000160"/>
            <a:ext cx="407196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3" descr=""/>
          <p:cNvPicPr/>
          <p:nvPr/>
        </p:nvPicPr>
        <p:blipFill>
          <a:blip r:embed="rId1"/>
          <a:stretch/>
        </p:blipFill>
        <p:spPr>
          <a:xfrm>
            <a:off x="500040" y="79200"/>
            <a:ext cx="7772400" cy="23828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85480" y="1928520"/>
            <a:ext cx="8643960" cy="44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 По форме, по цвету, по величин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. По цвету, форме и величин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 цвету форме и толщин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3. По форме, цвету, величине и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олщине.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714240" y="2071800"/>
            <a:ext cx="3764160" cy="1000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3"/>
          <a:stretch/>
        </p:blipFill>
        <p:spPr>
          <a:xfrm>
            <a:off x="500040" y="3214800"/>
            <a:ext cx="4194360" cy="1000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4"/>
          <a:stretch/>
        </p:blipFill>
        <p:spPr>
          <a:xfrm>
            <a:off x="500040" y="4429080"/>
            <a:ext cx="42530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3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8229600" cy="1536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2"/>
          <a:stretch/>
        </p:blipFill>
        <p:spPr>
          <a:xfrm>
            <a:off x="1143000" y="1643040"/>
            <a:ext cx="1511280" cy="1643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3"/>
          <a:stretch/>
        </p:blipFill>
        <p:spPr>
          <a:xfrm>
            <a:off x="4857840" y="1643040"/>
            <a:ext cx="1520640" cy="1643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"/>
          <p:cNvPicPr/>
          <p:nvPr/>
        </p:nvPicPr>
        <p:blipFill>
          <a:blip r:embed="rId4"/>
          <a:stretch/>
        </p:blipFill>
        <p:spPr>
          <a:xfrm>
            <a:off x="6929280" y="1571760"/>
            <a:ext cx="1551240" cy="1714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"/>
          <p:cNvPicPr/>
          <p:nvPr/>
        </p:nvPicPr>
        <p:blipFill>
          <a:blip r:embed="rId5"/>
          <a:stretch/>
        </p:blipFill>
        <p:spPr>
          <a:xfrm>
            <a:off x="1500120" y="3929040"/>
            <a:ext cx="1714680" cy="1785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"/>
          <p:cNvPicPr/>
          <p:nvPr/>
        </p:nvPicPr>
        <p:blipFill>
          <a:blip r:embed="rId6"/>
          <a:stretch/>
        </p:blipFill>
        <p:spPr>
          <a:xfrm>
            <a:off x="3743280" y="3857760"/>
            <a:ext cx="1542960" cy="1928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"/>
          <p:cNvPicPr/>
          <p:nvPr/>
        </p:nvPicPr>
        <p:blipFill>
          <a:blip r:embed="rId7"/>
          <a:stretch/>
        </p:blipFill>
        <p:spPr>
          <a:xfrm>
            <a:off x="6000840" y="4000680"/>
            <a:ext cx="1643040" cy="1914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"/>
          <p:cNvPicPr/>
          <p:nvPr/>
        </p:nvPicPr>
        <p:blipFill>
          <a:blip r:embed="rId8"/>
          <a:stretch/>
        </p:blipFill>
        <p:spPr>
          <a:xfrm>
            <a:off x="3286080" y="1643040"/>
            <a:ext cx="1357200" cy="1473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"/>
          <p:cNvPicPr/>
          <p:nvPr/>
        </p:nvPicPr>
        <p:blipFill>
          <a:blip r:embed="rId9"/>
          <a:stretch/>
        </p:blipFill>
        <p:spPr>
          <a:xfrm>
            <a:off x="3286080" y="1643040"/>
            <a:ext cx="1357200" cy="1473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9-10-07T14:10:34Z</dcterms:modified>
  <cp:revision>6</cp:revision>
  <dc:subject/>
  <dc:title>Слайд 1</dc:title>
</cp:coreProperties>
</file>