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wmf" ContentType="image/x-wmf"/>
  <Override PartName="/ppt/media/image6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3C6CE-7ABE-493C-BA49-6FBACCA3C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C8D52-0C47-4E66-9722-8EE1A7F07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CD570-7B26-4B08-B7BB-169076F79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777AA-19D1-41B4-A45A-A9F4B75E1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10791-C0E0-46FE-BC41-8A9D98901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5AF3C-3435-4F24-9285-6D3FDCC63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B14EA-1021-4189-BDA0-C36A4951C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D4AC9-1B12-4FA3-A27D-3E9A42F13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E717C-8CF7-46B4-9500-3E3EEAD82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2EF57-05CA-480D-89D1-6A7F524E2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9F067-923A-464B-9B4A-F5F59CD39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F2865-17CC-4685-AB28-DD882236E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82410-58F1-4E57-BAB3-F083B02B1A0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08000" y="1125360"/>
          <a:ext cx="1295280" cy="4702320"/>
        </p:xfrm>
        <a:graphic>
          <a:graphicData uri="http://schemas.openxmlformats.org/drawingml/2006/table">
            <a:tbl>
              <a:tblPr/>
              <a:tblGrid>
                <a:gridCol w="647640"/>
                <a:gridCol w="647640"/>
              </a:tblGrid>
              <a:tr h="23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96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341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3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96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222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3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97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902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3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98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729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3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98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643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3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99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119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3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99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530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3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99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552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3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99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587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3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99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584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3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99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567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3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99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547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3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99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528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3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99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501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3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00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481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3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00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442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3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00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462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3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00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447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3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00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411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3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00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353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3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00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315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3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00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227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2" name="Rectangle 3" descr=""/>
          <p:cNvPicPr/>
          <p:nvPr/>
        </p:nvPicPr>
        <p:blipFill>
          <a:blip r:embed="rId2"/>
          <a:stretch/>
        </p:blipFill>
        <p:spPr>
          <a:xfrm>
            <a:off x="1403280" y="1128600"/>
            <a:ext cx="3398760" cy="5421600"/>
          </a:xfrm>
          <a:prstGeom prst="rect">
            <a:avLst/>
          </a:prstGeom>
          <a:ln w="0">
            <a:noFill/>
          </a:ln>
        </p:spPr>
      </p:pic>
      <p:sp>
        <p:nvSpPr>
          <p:cNvPr id="43" name="Text Box 98"/>
          <p:cNvSpPr/>
          <p:nvPr/>
        </p:nvSpPr>
        <p:spPr>
          <a:xfrm>
            <a:off x="395280" y="476280"/>
            <a:ext cx="128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Таблица 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WordArt 99"/>
          <p:cNvSpPr txBox="1"/>
          <p:nvPr/>
        </p:nvSpPr>
        <p:spPr>
          <a:xfrm>
            <a:off x="2124000" y="260280"/>
            <a:ext cx="662472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инамика численности населения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5" name="WordArt 100"/>
          <p:cNvSpPr txBox="1"/>
          <p:nvPr/>
        </p:nvSpPr>
        <p:spPr>
          <a:xfrm>
            <a:off x="2843280" y="476280"/>
            <a:ext cx="504180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етропавловского район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6" name="Text Box 119"/>
          <p:cNvSpPr/>
          <p:nvPr/>
        </p:nvSpPr>
        <p:spPr>
          <a:xfrm>
            <a:off x="2522160" y="981000"/>
            <a:ext cx="128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Рисунок 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4788000" y="1125360"/>
          <a:ext cx="4356000" cy="4642200"/>
        </p:xfrm>
        <a:graphic>
          <a:graphicData uri="http://schemas.openxmlformats.org/drawingml/2006/table">
            <a:tbl>
              <a:tblPr/>
              <a:tblGrid>
                <a:gridCol w="720720"/>
                <a:gridCol w="503280"/>
                <a:gridCol w="431640"/>
                <a:gridCol w="504720"/>
                <a:gridCol w="424080"/>
                <a:gridCol w="425520"/>
                <a:gridCol w="449280"/>
                <a:gridCol w="447480"/>
                <a:gridCol w="449280"/>
              </a:tblGrid>
              <a:tr h="357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ельский совет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00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00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00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00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00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00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00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00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57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Березняги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21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12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13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12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07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02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95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91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57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Бычок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80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95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85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84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77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74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68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67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57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расноселовка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72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68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67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65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62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62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46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57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57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расный Флот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70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68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65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61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54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53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34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46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57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овобогородицкое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17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14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13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08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05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05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91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78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55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овый Лиман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90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72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82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77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66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66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41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33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57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овотроицкое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35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28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26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20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15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13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13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08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57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ески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64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57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64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66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58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48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54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50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57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етропавловка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09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98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06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04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03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98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96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92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57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тарая Криуша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26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28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11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06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01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98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94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96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57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тарая Меловая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54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17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16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05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00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98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95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92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57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того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558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462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447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411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353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315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227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215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" name="WordArt 275"/>
          <p:cNvSpPr txBox="1"/>
          <p:nvPr/>
        </p:nvSpPr>
        <p:spPr>
          <a:xfrm>
            <a:off x="5435640" y="765000"/>
            <a:ext cx="324000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Число жителей по сельским поселениям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6" descr="Район"/>
          <p:cNvPicPr/>
          <p:nvPr/>
        </p:nvPicPr>
        <p:blipFill>
          <a:blip r:embed="rId2"/>
          <a:stretch/>
        </p:blipFill>
        <p:spPr>
          <a:xfrm>
            <a:off x="-396720" y="0"/>
            <a:ext cx="565128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7"/>
          <p:cNvSpPr/>
          <p:nvPr/>
        </p:nvSpPr>
        <p:spPr>
          <a:xfrm>
            <a:off x="5869800" y="1844640"/>
            <a:ext cx="90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. Тип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Text Box 8"/>
          <p:cNvSpPr/>
          <p:nvPr/>
        </p:nvSpPr>
        <p:spPr>
          <a:xfrm>
            <a:off x="5937120" y="2924280"/>
            <a:ext cx="8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2. Тип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Text Box 9"/>
          <p:cNvSpPr/>
          <p:nvPr/>
        </p:nvSpPr>
        <p:spPr>
          <a:xfrm>
            <a:off x="5937120" y="4005360"/>
            <a:ext cx="8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3. Тип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8" name="Picture 10" descr="тип 2"/>
          <p:cNvPicPr/>
          <p:nvPr/>
        </p:nvPicPr>
        <p:blipFill>
          <a:blip r:embed="rId3"/>
          <a:srcRect l="20599" t="12948" r="68068" b="78512"/>
          <a:stretch/>
        </p:blipFill>
        <p:spPr>
          <a:xfrm>
            <a:off x="6732720" y="1773360"/>
            <a:ext cx="647640" cy="3603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1" descr="тип 2"/>
          <p:cNvPicPr/>
          <p:nvPr/>
        </p:nvPicPr>
        <p:blipFill>
          <a:blip r:embed="rId4"/>
          <a:srcRect l="20469" t="32295" r="67714" b="57393"/>
          <a:stretch/>
        </p:blipFill>
        <p:spPr>
          <a:xfrm>
            <a:off x="6732720" y="2781360"/>
            <a:ext cx="720720" cy="5032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2" descr="тип 2"/>
          <p:cNvPicPr/>
          <p:nvPr/>
        </p:nvPicPr>
        <p:blipFill>
          <a:blip r:embed="rId5"/>
          <a:srcRect l="21644" t="50004" r="66539" b="41146"/>
          <a:stretch/>
        </p:blipFill>
        <p:spPr>
          <a:xfrm>
            <a:off x="6804000" y="3860640"/>
            <a:ext cx="720720" cy="432000"/>
          </a:xfrm>
          <a:prstGeom prst="rect">
            <a:avLst/>
          </a:prstGeom>
          <a:ln w="0">
            <a:noFill/>
          </a:ln>
        </p:spPr>
      </p:pic>
      <p:sp>
        <p:nvSpPr>
          <p:cNvPr id="91" name="WordArt 13"/>
          <p:cNvSpPr txBox="1"/>
          <p:nvPr/>
        </p:nvSpPr>
        <p:spPr>
          <a:xfrm>
            <a:off x="250920" y="0"/>
            <a:ext cx="51912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Петропавловский район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2" name="Text Box 17"/>
          <p:cNvSpPr/>
          <p:nvPr/>
        </p:nvSpPr>
        <p:spPr>
          <a:xfrm>
            <a:off x="7449120" y="1838160"/>
            <a:ext cx="168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- предкризисный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Text Box 18"/>
          <p:cNvSpPr/>
          <p:nvPr/>
        </p:nvSpPr>
        <p:spPr>
          <a:xfrm>
            <a:off x="7446240" y="2990880"/>
            <a:ext cx="192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- неблагополучный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Text Box 19"/>
          <p:cNvSpPr/>
          <p:nvPr/>
        </p:nvSpPr>
        <p:spPr>
          <a:xfrm>
            <a:off x="7568280" y="3911760"/>
            <a:ext cx="1301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- Крайне неб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лагополуч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ный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Text Box 20"/>
          <p:cNvSpPr/>
          <p:nvPr/>
        </p:nvSpPr>
        <p:spPr>
          <a:xfrm>
            <a:off x="5762160" y="5589720"/>
            <a:ext cx="128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Рисунок 4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Text Box 21"/>
          <p:cNvSpPr/>
          <p:nvPr/>
        </p:nvSpPr>
        <p:spPr>
          <a:xfrm>
            <a:off x="5667120" y="5819760"/>
            <a:ext cx="354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емографическая типолог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зация Петропавловского р-н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Text Box 22"/>
          <p:cNvSpPr/>
          <p:nvPr/>
        </p:nvSpPr>
        <p:spPr>
          <a:xfrm>
            <a:off x="5944680" y="112536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Условные знак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Group 158"/>
          <p:cNvGrpSpPr/>
          <p:nvPr/>
        </p:nvGrpSpPr>
        <p:grpSpPr>
          <a:xfrm>
            <a:off x="395280" y="2421000"/>
            <a:ext cx="8229600" cy="4064040"/>
            <a:chOff x="395280" y="2421000"/>
            <a:chExt cx="8229600" cy="4064040"/>
          </a:xfrm>
        </p:grpSpPr>
        <p:sp>
          <p:nvSpPr>
            <p:cNvPr id="99" name=""/>
            <p:cNvSpPr/>
            <p:nvPr/>
          </p:nvSpPr>
          <p:spPr>
            <a:xfrm>
              <a:off x="395280" y="2421000"/>
              <a:ext cx="313920" cy="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rmAutofit/>
            </a:bodyPr>
            <a:p>
              <a:pPr algn="ctr"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ahoma"/>
                </a:rPr>
                <a:t>Сельский совет</a:t>
              </a:r>
              <a:endParaRPr b="0" lang="en-US" sz="1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09200" y="2421000"/>
              <a:ext cx="173160" cy="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rmAutofit/>
            </a:bodyPr>
            <a:p>
              <a:pPr algn="ctr"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ahoma"/>
                </a:rPr>
                <a:t>2000</a:t>
              </a:r>
              <a:endParaRPr b="0" lang="en-US" sz="1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882360" y="2421000"/>
              <a:ext cx="207360" cy="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rmAutofit/>
            </a:bodyPr>
            <a:p>
              <a:pPr algn="ctr"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ahoma"/>
                </a:rPr>
                <a:t>2002</a:t>
              </a:r>
              <a:endParaRPr b="0" lang="en-US" sz="1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90080" y="2421000"/>
              <a:ext cx="207360" cy="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rmAutofit/>
            </a:bodyPr>
            <a:p>
              <a:pPr algn="ctr"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ahoma"/>
                </a:rPr>
                <a:t>2003</a:t>
              </a:r>
              <a:endParaRPr b="0" lang="en-US" sz="1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297440" y="2421000"/>
              <a:ext cx="207720" cy="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rmAutofit/>
            </a:bodyPr>
            <a:p>
              <a:pPr algn="ctr"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ahoma"/>
                </a:rPr>
                <a:t>2004</a:t>
              </a:r>
              <a:endParaRPr b="0" lang="en-US" sz="1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505520" y="2421000"/>
              <a:ext cx="208080" cy="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rmAutofit/>
            </a:bodyPr>
            <a:p>
              <a:pPr algn="ctr"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ahoma"/>
                </a:rPr>
                <a:t>2005</a:t>
              </a:r>
              <a:endParaRPr b="0" lang="en-US" sz="1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713960" y="2421000"/>
              <a:ext cx="219600" cy="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rmAutofit/>
            </a:bodyPr>
            <a:p>
              <a:pPr algn="ctr"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ahoma"/>
                </a:rPr>
                <a:t>2006</a:t>
              </a:r>
              <a:endParaRPr b="0" lang="en-US" sz="1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933560" y="2421000"/>
              <a:ext cx="219600" cy="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rmAutofit/>
            </a:bodyPr>
            <a:p>
              <a:pPr algn="ctr"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ahoma"/>
                </a:rPr>
                <a:t>2007</a:t>
              </a:r>
              <a:endParaRPr b="0" lang="en-US" sz="1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153520" y="2421000"/>
              <a:ext cx="219600" cy="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rmAutofit/>
            </a:bodyPr>
            <a:p>
              <a:pPr algn="ctr"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ahoma"/>
                </a:rPr>
                <a:t>2008</a:t>
              </a:r>
              <a:endParaRPr b="0" lang="en-US" sz="1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95280" y="2421720"/>
              <a:ext cx="313920" cy="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rmAutofit/>
            </a:bodyPr>
            <a:p>
              <a:pPr algn="ctr"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ffffff"/>
                  </a:solidFill>
                  <a:latin typeface="Tahoma"/>
                </a:rPr>
                <a:t>Березняги</a:t>
              </a:r>
              <a:endParaRPr b="0" lang="en-US" sz="1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09200" y="2421720"/>
              <a:ext cx="173160" cy="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rmAutofit/>
            </a:bodyPr>
            <a:p>
              <a:pPr algn="ctr"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ahoma"/>
                </a:rPr>
                <a:t>1212</a:t>
              </a:r>
              <a:endParaRPr b="0" lang="en-US" sz="1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82360" y="2421720"/>
              <a:ext cx="207360" cy="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rmAutofit/>
            </a:bodyPr>
            <a:p>
              <a:pPr algn="ctr"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ahoma"/>
                </a:rPr>
                <a:t>1122</a:t>
              </a:r>
              <a:endParaRPr b="0" lang="en-US" sz="1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090080" y="2421720"/>
              <a:ext cx="207360" cy="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rmAutofit/>
            </a:bodyPr>
            <a:p>
              <a:pPr algn="ctr"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ahoma"/>
                </a:rPr>
                <a:t>1135</a:t>
              </a:r>
              <a:endParaRPr b="0" lang="en-US" sz="1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297440" y="2421720"/>
              <a:ext cx="207720" cy="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rmAutofit/>
            </a:bodyPr>
            <a:p>
              <a:pPr algn="ctr"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ahoma"/>
                </a:rPr>
                <a:t>1125</a:t>
              </a:r>
              <a:endParaRPr b="0" lang="en-US" sz="1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05520" y="2421720"/>
              <a:ext cx="208080" cy="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rmAutofit/>
            </a:bodyPr>
            <a:p>
              <a:pPr algn="ctr"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ahoma"/>
                </a:rPr>
                <a:t>1071</a:t>
              </a:r>
              <a:endParaRPr b="0" lang="en-US" sz="1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713960" y="2421720"/>
              <a:ext cx="219600" cy="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rmAutofit/>
            </a:bodyPr>
            <a:p>
              <a:pPr algn="ctr"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ahoma"/>
                </a:rPr>
                <a:t>1023</a:t>
              </a:r>
              <a:endParaRPr b="0" lang="en-US" sz="1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933560" y="2421720"/>
              <a:ext cx="219600" cy="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rmAutofit/>
            </a:bodyPr>
            <a:p>
              <a:pPr algn="ctr"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ahoma"/>
                </a:rPr>
                <a:t>957</a:t>
              </a:r>
              <a:endParaRPr b="0" lang="en-US" sz="1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153520" y="2421720"/>
              <a:ext cx="219600" cy="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rmAutofit/>
            </a:bodyPr>
            <a:p>
              <a:pPr algn="ctr"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ahoma"/>
                </a:rPr>
                <a:t>919</a:t>
              </a:r>
              <a:endParaRPr b="0" lang="en-US" sz="1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95280" y="2422440"/>
              <a:ext cx="313920" cy="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rmAutofit/>
            </a:bodyPr>
            <a:p>
              <a:pPr algn="ctr"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ahoma"/>
                </a:rPr>
                <a:t>Бычок</a:t>
              </a:r>
              <a:endParaRPr b="0" lang="en-US" sz="1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09200" y="2422440"/>
              <a:ext cx="173160" cy="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rmAutofit/>
            </a:bodyPr>
            <a:p>
              <a:pPr algn="ctr"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ahoma"/>
                </a:rPr>
                <a:t>1802</a:t>
              </a:r>
              <a:endParaRPr b="0" lang="en-US" sz="1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882360" y="2422440"/>
              <a:ext cx="207360" cy="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rmAutofit/>
            </a:bodyPr>
            <a:p>
              <a:pPr algn="ctr"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ahoma"/>
                </a:rPr>
                <a:t>1957</a:t>
              </a:r>
              <a:endParaRPr b="0" lang="en-US" sz="1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090080" y="2422440"/>
              <a:ext cx="207360" cy="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rmAutofit/>
            </a:bodyPr>
            <a:p>
              <a:pPr algn="ctr"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ahoma"/>
                </a:rPr>
                <a:t>1853</a:t>
              </a:r>
              <a:endParaRPr b="0" lang="en-US" sz="1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297440" y="2422440"/>
              <a:ext cx="207720" cy="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rmAutofit/>
            </a:bodyPr>
            <a:p>
              <a:pPr algn="ctr"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ahoma"/>
                </a:rPr>
                <a:t>1840</a:t>
              </a:r>
              <a:endParaRPr b="0" lang="en-US" sz="1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505520" y="2422440"/>
              <a:ext cx="208080" cy="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rmAutofit/>
            </a:bodyPr>
            <a:p>
              <a:pPr algn="ctr"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ahoma"/>
                </a:rPr>
                <a:t>1777</a:t>
              </a:r>
              <a:endParaRPr b="0" lang="en-US" sz="1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713960" y="2422440"/>
              <a:ext cx="219600" cy="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rmAutofit/>
            </a:bodyPr>
            <a:p>
              <a:pPr algn="ctr"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ahoma"/>
                </a:rPr>
                <a:t>1742</a:t>
              </a:r>
              <a:endParaRPr b="0" lang="en-US" sz="1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933560" y="2422440"/>
              <a:ext cx="219600" cy="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rmAutofit/>
            </a:bodyPr>
            <a:p>
              <a:pPr algn="ctr"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ahoma"/>
                </a:rPr>
                <a:t>1680</a:t>
              </a:r>
              <a:endParaRPr b="0" lang="en-US" sz="1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153520" y="2422440"/>
              <a:ext cx="219600" cy="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rmAutofit/>
            </a:bodyPr>
            <a:p>
              <a:pPr algn="ctr"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ahoma"/>
                </a:rPr>
                <a:t>1673</a:t>
              </a:r>
              <a:endParaRPr b="0" lang="en-US" sz="1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95280" y="2423160"/>
              <a:ext cx="313920" cy="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rmAutofit/>
            </a:bodyPr>
            <a:p>
              <a:pPr algn="ctr"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ffffff"/>
                  </a:solidFill>
                  <a:latin typeface="Tahoma"/>
                </a:rPr>
                <a:t>Красноселовка</a:t>
              </a:r>
              <a:endParaRPr b="0" lang="en-US" sz="1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09200" y="2423160"/>
              <a:ext cx="173160" cy="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rmAutofit/>
            </a:bodyPr>
            <a:p>
              <a:pPr algn="ctr"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ahoma"/>
                </a:rPr>
                <a:t>1727</a:t>
              </a:r>
              <a:endParaRPr b="0" lang="en-US" sz="1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882360" y="2423160"/>
              <a:ext cx="207360" cy="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rmAutofit/>
            </a:bodyPr>
            <a:p>
              <a:pPr algn="ctr"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ahoma"/>
                </a:rPr>
                <a:t>1688</a:t>
              </a:r>
              <a:endParaRPr b="0" lang="en-US" sz="1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090080" y="2423160"/>
              <a:ext cx="207360" cy="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rmAutofit/>
            </a:bodyPr>
            <a:p>
              <a:pPr algn="ctr"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ahoma"/>
                </a:rPr>
                <a:t>1674</a:t>
              </a:r>
              <a:endParaRPr b="0" lang="en-US" sz="1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297440" y="2423160"/>
              <a:ext cx="207720" cy="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rmAutofit/>
            </a:bodyPr>
            <a:p>
              <a:pPr algn="ctr"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ahoma"/>
                </a:rPr>
                <a:t>1652</a:t>
              </a:r>
              <a:endParaRPr b="0" lang="en-US" sz="1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505520" y="2423160"/>
              <a:ext cx="208080" cy="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rmAutofit/>
            </a:bodyPr>
            <a:p>
              <a:pPr algn="ctr"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ahoma"/>
                </a:rPr>
                <a:t>1623</a:t>
              </a:r>
              <a:endParaRPr b="0" lang="en-US" sz="1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713960" y="2423160"/>
              <a:ext cx="219600" cy="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rmAutofit/>
            </a:bodyPr>
            <a:p>
              <a:pPr algn="ctr"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ahoma"/>
                </a:rPr>
                <a:t>1620</a:t>
              </a:r>
              <a:endParaRPr b="0" lang="en-US" sz="1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933560" y="2423160"/>
              <a:ext cx="219600" cy="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rmAutofit/>
            </a:bodyPr>
            <a:p>
              <a:pPr algn="ctr"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ahoma"/>
                </a:rPr>
                <a:t>1463</a:t>
              </a:r>
              <a:endParaRPr b="0" lang="en-US" sz="1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153520" y="2423160"/>
              <a:ext cx="219600" cy="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rmAutofit/>
            </a:bodyPr>
            <a:p>
              <a:pPr algn="ctr"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ahoma"/>
                </a:rPr>
                <a:t>1576</a:t>
              </a:r>
              <a:endParaRPr b="0" lang="en-US" sz="1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5280" y="2423880"/>
              <a:ext cx="313920" cy="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rmAutofit/>
            </a:bodyPr>
            <a:p>
              <a:pPr algn="ctr"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ahoma"/>
                </a:rPr>
                <a:t>Красный Флот</a:t>
              </a:r>
              <a:endParaRPr b="0" lang="en-US" sz="1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09200" y="2423880"/>
              <a:ext cx="173160" cy="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rmAutofit/>
            </a:bodyPr>
            <a:p>
              <a:pPr algn="ctr"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ahoma"/>
                </a:rPr>
                <a:t>1708</a:t>
              </a:r>
              <a:endParaRPr b="0" lang="en-US" sz="1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882360" y="2423880"/>
              <a:ext cx="207360" cy="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rmAutofit/>
            </a:bodyPr>
            <a:p>
              <a:pPr algn="ctr"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ahoma"/>
                </a:rPr>
                <a:t>1687</a:t>
              </a:r>
              <a:endParaRPr b="0" lang="en-US" sz="1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090080" y="2423880"/>
              <a:ext cx="207360" cy="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rmAutofit/>
            </a:bodyPr>
            <a:p>
              <a:pPr algn="ctr"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ahoma"/>
                </a:rPr>
                <a:t>1650</a:t>
              </a:r>
              <a:endParaRPr b="0" lang="en-US" sz="1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7440" y="2423880"/>
              <a:ext cx="207720" cy="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rmAutofit/>
            </a:bodyPr>
            <a:p>
              <a:pPr algn="ctr"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ahoma"/>
                </a:rPr>
                <a:t>1611</a:t>
              </a:r>
              <a:endParaRPr b="0" lang="en-US" sz="1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505520" y="2423880"/>
              <a:ext cx="208080" cy="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rmAutofit/>
            </a:bodyPr>
            <a:p>
              <a:pPr algn="ctr"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ahoma"/>
                </a:rPr>
                <a:t>1549</a:t>
              </a:r>
              <a:endParaRPr b="0" lang="en-US" sz="1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713960" y="2423880"/>
              <a:ext cx="219600" cy="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rmAutofit/>
            </a:bodyPr>
            <a:p>
              <a:pPr algn="ctr"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ahoma"/>
                </a:rPr>
                <a:t>1535</a:t>
              </a:r>
              <a:endParaRPr b="0" lang="en-US" sz="1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33560" y="2423880"/>
              <a:ext cx="219600" cy="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rmAutofit/>
            </a:bodyPr>
            <a:p>
              <a:pPr algn="ctr"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ahoma"/>
                </a:rPr>
                <a:t>1340</a:t>
              </a:r>
              <a:endParaRPr b="0" lang="en-US" sz="1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153520" y="2423880"/>
              <a:ext cx="219600" cy="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rmAutofit/>
            </a:bodyPr>
            <a:p>
              <a:pPr algn="ctr"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ahoma"/>
                </a:rPr>
                <a:t>1463</a:t>
              </a:r>
              <a:endParaRPr b="0" lang="en-US" sz="1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95280" y="2424600"/>
              <a:ext cx="313920" cy="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rmAutofit/>
            </a:bodyPr>
            <a:p>
              <a:pPr algn="ctr"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ffffff"/>
                  </a:solidFill>
                  <a:latin typeface="Tahoma"/>
                </a:rPr>
                <a:t>Новобогородицкое</a:t>
              </a:r>
              <a:endParaRPr b="0" lang="en-US" sz="1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09200" y="2424600"/>
              <a:ext cx="173160" cy="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rmAutofit/>
            </a:bodyPr>
            <a:p>
              <a:pPr algn="ctr"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ahoma"/>
                </a:rPr>
                <a:t>1172</a:t>
              </a:r>
              <a:endParaRPr b="0" lang="en-US" sz="1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882360" y="2424600"/>
              <a:ext cx="207360" cy="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rmAutofit/>
            </a:bodyPr>
            <a:p>
              <a:pPr algn="ctr"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ahoma"/>
                </a:rPr>
                <a:t>1146</a:t>
              </a:r>
              <a:endParaRPr b="0" lang="en-US" sz="1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090080" y="2424600"/>
              <a:ext cx="207360" cy="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rmAutofit/>
            </a:bodyPr>
            <a:p>
              <a:pPr algn="ctr"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ahoma"/>
                </a:rPr>
                <a:t>1130</a:t>
              </a:r>
              <a:endParaRPr b="0" lang="en-US" sz="1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297440" y="2424600"/>
              <a:ext cx="207720" cy="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rmAutofit/>
            </a:bodyPr>
            <a:p>
              <a:pPr algn="ctr"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ahoma"/>
                </a:rPr>
                <a:t>1086</a:t>
              </a:r>
              <a:endParaRPr b="0" lang="en-US" sz="1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505520" y="2424600"/>
              <a:ext cx="208080" cy="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rmAutofit/>
            </a:bodyPr>
            <a:p>
              <a:pPr algn="ctr"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ahoma"/>
                </a:rPr>
                <a:t>1058</a:t>
              </a:r>
              <a:endParaRPr b="0" lang="en-US" sz="1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13960" y="2424600"/>
              <a:ext cx="219600" cy="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rmAutofit/>
            </a:bodyPr>
            <a:p>
              <a:pPr algn="ctr"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ahoma"/>
                </a:rPr>
                <a:t>1054</a:t>
              </a:r>
              <a:endParaRPr b="0" lang="en-US" sz="1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933560" y="2424600"/>
              <a:ext cx="219600" cy="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rmAutofit/>
            </a:bodyPr>
            <a:p>
              <a:pPr algn="ctr"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ahoma"/>
                </a:rPr>
                <a:t>915</a:t>
              </a:r>
              <a:endParaRPr b="0" lang="en-US" sz="1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153520" y="2424600"/>
              <a:ext cx="219600" cy="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rmAutofit/>
            </a:bodyPr>
            <a:p>
              <a:pPr algn="ctr"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ahoma"/>
                </a:rPr>
                <a:t>785</a:t>
              </a:r>
              <a:endParaRPr b="0" lang="en-US" sz="1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95280" y="2425320"/>
              <a:ext cx="313920" cy="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rmAutofit/>
            </a:bodyPr>
            <a:p>
              <a:pPr algn="ctr"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ahoma"/>
                </a:rPr>
                <a:t>Новый Лиман</a:t>
              </a:r>
              <a:endParaRPr b="0" lang="en-US" sz="1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09200" y="2425320"/>
              <a:ext cx="173160" cy="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rmAutofit/>
            </a:bodyPr>
            <a:p>
              <a:pPr algn="ctr"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ahoma"/>
                </a:rPr>
                <a:t>1902</a:t>
              </a:r>
              <a:endParaRPr b="0" lang="en-US" sz="1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82360" y="2425320"/>
              <a:ext cx="207360" cy="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rmAutofit/>
            </a:bodyPr>
            <a:p>
              <a:pPr algn="ctr"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ahoma"/>
                </a:rPr>
                <a:t>1725</a:t>
              </a:r>
              <a:endParaRPr b="0" lang="en-US" sz="1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90080" y="2425320"/>
              <a:ext cx="207360" cy="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rmAutofit/>
            </a:bodyPr>
            <a:p>
              <a:pPr algn="ctr"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ahoma"/>
                </a:rPr>
                <a:t>1822</a:t>
              </a:r>
              <a:endParaRPr b="0" lang="en-US" sz="1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97440" y="2425320"/>
              <a:ext cx="207720" cy="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rmAutofit/>
            </a:bodyPr>
            <a:p>
              <a:pPr algn="ctr"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ahoma"/>
                </a:rPr>
                <a:t>1776</a:t>
              </a:r>
              <a:endParaRPr b="0" lang="en-US" sz="1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505520" y="2425320"/>
              <a:ext cx="208080" cy="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rmAutofit/>
            </a:bodyPr>
            <a:p>
              <a:pPr algn="ctr"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ahoma"/>
                </a:rPr>
                <a:t>1660</a:t>
              </a:r>
              <a:endParaRPr b="0" lang="en-US" sz="1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713960" y="2425320"/>
              <a:ext cx="219600" cy="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rmAutofit/>
            </a:bodyPr>
            <a:p>
              <a:pPr algn="ctr"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ahoma"/>
                </a:rPr>
                <a:t>1669</a:t>
              </a:r>
              <a:endParaRPr b="0" lang="en-US" sz="1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933560" y="2425320"/>
              <a:ext cx="219600" cy="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rmAutofit/>
            </a:bodyPr>
            <a:p>
              <a:pPr algn="ctr"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ahoma"/>
                </a:rPr>
                <a:t>1411</a:t>
              </a:r>
              <a:endParaRPr b="0" lang="en-US" sz="1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53520" y="2425320"/>
              <a:ext cx="219600" cy="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rmAutofit/>
            </a:bodyPr>
            <a:p>
              <a:pPr algn="ctr"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ahoma"/>
                </a:rPr>
                <a:t>1335</a:t>
              </a:r>
              <a:endParaRPr b="0" lang="en-US" sz="1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95280" y="2426040"/>
              <a:ext cx="313920" cy="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rmAutofit/>
            </a:bodyPr>
            <a:p>
              <a:pPr algn="ctr"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ffffff"/>
                  </a:solidFill>
                  <a:latin typeface="Tahoma"/>
                </a:rPr>
                <a:t>Новотроицкое</a:t>
              </a:r>
              <a:endParaRPr b="0" lang="en-US" sz="1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09200" y="2426040"/>
              <a:ext cx="173160" cy="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rmAutofit/>
            </a:bodyPr>
            <a:p>
              <a:pPr algn="ctr"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ahoma"/>
                </a:rPr>
                <a:t>1354</a:t>
              </a:r>
              <a:endParaRPr b="0" lang="en-US" sz="1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82360" y="2426040"/>
              <a:ext cx="207360" cy="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rmAutofit/>
            </a:bodyPr>
            <a:p>
              <a:pPr algn="ctr"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ahoma"/>
                </a:rPr>
                <a:t>1286</a:t>
              </a:r>
              <a:endParaRPr b="0" lang="en-US" sz="1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090080" y="2426040"/>
              <a:ext cx="207360" cy="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rmAutofit/>
            </a:bodyPr>
            <a:p>
              <a:pPr algn="ctr"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ahoma"/>
                </a:rPr>
                <a:t>1267</a:t>
              </a:r>
              <a:endParaRPr b="0" lang="en-US" sz="1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297440" y="2426040"/>
              <a:ext cx="207720" cy="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rmAutofit/>
            </a:bodyPr>
            <a:p>
              <a:pPr algn="ctr"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ahoma"/>
                </a:rPr>
                <a:t>1201</a:t>
              </a:r>
              <a:endParaRPr b="0" lang="en-US" sz="1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505520" y="2426040"/>
              <a:ext cx="208080" cy="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rmAutofit/>
            </a:bodyPr>
            <a:p>
              <a:pPr algn="ctr"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ahoma"/>
                </a:rPr>
                <a:t>1153</a:t>
              </a:r>
              <a:endParaRPr b="0" lang="en-US" sz="1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713960" y="2426040"/>
              <a:ext cx="219600" cy="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rmAutofit/>
            </a:bodyPr>
            <a:p>
              <a:pPr algn="ctr"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ahoma"/>
                </a:rPr>
                <a:t>1136</a:t>
              </a:r>
              <a:endParaRPr b="0" lang="en-US" sz="1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933560" y="2426040"/>
              <a:ext cx="219600" cy="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rmAutofit/>
            </a:bodyPr>
            <a:p>
              <a:pPr algn="ctr"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ahoma"/>
                </a:rPr>
                <a:t>1132</a:t>
              </a:r>
              <a:endParaRPr b="0" lang="en-US" sz="1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153520" y="2426040"/>
              <a:ext cx="219600" cy="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rmAutofit/>
            </a:bodyPr>
            <a:p>
              <a:pPr algn="ctr"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ahoma"/>
                </a:rPr>
                <a:t>1080</a:t>
              </a:r>
              <a:endParaRPr b="0" lang="en-US" sz="1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95280" y="2426760"/>
              <a:ext cx="313920" cy="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rmAutofit/>
            </a:bodyPr>
            <a:p>
              <a:pPr algn="ctr"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ahoma"/>
                </a:rPr>
                <a:t>Пески</a:t>
              </a:r>
              <a:endParaRPr b="0" lang="en-US" sz="1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09200" y="2426760"/>
              <a:ext cx="173160" cy="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rmAutofit/>
            </a:bodyPr>
            <a:p>
              <a:pPr algn="ctr"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ahoma"/>
                </a:rPr>
                <a:t>1645</a:t>
              </a:r>
              <a:endParaRPr b="0" lang="en-US" sz="1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82360" y="2426760"/>
              <a:ext cx="207360" cy="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rmAutofit/>
            </a:bodyPr>
            <a:p>
              <a:pPr algn="ctr"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ahoma"/>
                </a:rPr>
                <a:t>1570</a:t>
              </a:r>
              <a:endParaRPr b="0" lang="en-US" sz="1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090080" y="2426760"/>
              <a:ext cx="207360" cy="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rmAutofit/>
            </a:bodyPr>
            <a:p>
              <a:pPr algn="ctr"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ahoma"/>
                </a:rPr>
                <a:t>1640</a:t>
              </a:r>
              <a:endParaRPr b="0" lang="en-US" sz="1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297440" y="2426760"/>
              <a:ext cx="207720" cy="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rmAutofit/>
            </a:bodyPr>
            <a:p>
              <a:pPr algn="ctr"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ahoma"/>
                </a:rPr>
                <a:t>1660</a:t>
              </a:r>
              <a:endParaRPr b="0" lang="en-US" sz="1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505520" y="2426760"/>
              <a:ext cx="208080" cy="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rmAutofit/>
            </a:bodyPr>
            <a:p>
              <a:pPr algn="ctr"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ahoma"/>
                </a:rPr>
                <a:t>1580</a:t>
              </a:r>
              <a:endParaRPr b="0" lang="en-US" sz="1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713960" y="2426760"/>
              <a:ext cx="219600" cy="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rmAutofit/>
            </a:bodyPr>
            <a:p>
              <a:pPr algn="ctr"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ahoma"/>
                </a:rPr>
                <a:t>1486</a:t>
              </a:r>
              <a:endParaRPr b="0" lang="en-US" sz="1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933560" y="2426760"/>
              <a:ext cx="219600" cy="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rmAutofit/>
            </a:bodyPr>
            <a:p>
              <a:pPr algn="ctr"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ahoma"/>
                </a:rPr>
                <a:t>1541</a:t>
              </a:r>
              <a:endParaRPr b="0" lang="en-US" sz="1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153520" y="2426760"/>
              <a:ext cx="219600" cy="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rmAutofit/>
            </a:bodyPr>
            <a:p>
              <a:pPr algn="ctr"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ahoma"/>
                </a:rPr>
                <a:t>1509</a:t>
              </a:r>
              <a:endParaRPr b="0" lang="en-US" sz="1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5280" y="2427840"/>
              <a:ext cx="313920" cy="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rmAutofit/>
            </a:bodyPr>
            <a:p>
              <a:pPr algn="ctr"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ffffff"/>
                  </a:solidFill>
                  <a:latin typeface="Tahoma"/>
                </a:rPr>
                <a:t>Петропавловка</a:t>
              </a:r>
              <a:endParaRPr b="0" lang="en-US" sz="1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709200" y="2427840"/>
              <a:ext cx="173160" cy="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rmAutofit/>
            </a:bodyPr>
            <a:p>
              <a:pPr algn="ctr"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ahoma"/>
                </a:rPr>
                <a:t>6090</a:t>
              </a:r>
              <a:endParaRPr b="0" lang="en-US" sz="1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882360" y="2427840"/>
              <a:ext cx="207360" cy="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rmAutofit/>
            </a:bodyPr>
            <a:p>
              <a:pPr algn="ctr"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ahoma"/>
                </a:rPr>
                <a:t>5984</a:t>
              </a:r>
              <a:endParaRPr b="0" lang="en-US" sz="1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090080" y="2427840"/>
              <a:ext cx="207360" cy="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rmAutofit/>
            </a:bodyPr>
            <a:p>
              <a:pPr algn="ctr"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ahoma"/>
                </a:rPr>
                <a:t>6068</a:t>
              </a:r>
              <a:endParaRPr b="0" lang="en-US" sz="1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297440" y="2427840"/>
              <a:ext cx="207720" cy="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rmAutofit/>
            </a:bodyPr>
            <a:p>
              <a:pPr algn="ctr"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ahoma"/>
                </a:rPr>
                <a:t>6041</a:t>
              </a:r>
              <a:endParaRPr b="0" lang="en-US" sz="1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505520" y="2427840"/>
              <a:ext cx="208080" cy="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rmAutofit/>
            </a:bodyPr>
            <a:p>
              <a:pPr algn="ctr"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ahoma"/>
                </a:rPr>
                <a:t>6031</a:t>
              </a:r>
              <a:endParaRPr b="0" lang="en-US" sz="1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713960" y="2427840"/>
              <a:ext cx="219600" cy="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rmAutofit/>
            </a:bodyPr>
            <a:p>
              <a:pPr algn="ctr"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ahoma"/>
                </a:rPr>
                <a:t>5987</a:t>
              </a:r>
              <a:endParaRPr b="0" lang="en-US" sz="1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933560" y="2427840"/>
              <a:ext cx="219600" cy="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rmAutofit/>
            </a:bodyPr>
            <a:p>
              <a:pPr algn="ctr"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ahoma"/>
                </a:rPr>
                <a:t>5966</a:t>
              </a:r>
              <a:endParaRPr b="0" lang="en-US" sz="1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2153520" y="2427840"/>
              <a:ext cx="219600" cy="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rmAutofit/>
            </a:bodyPr>
            <a:p>
              <a:pPr algn="ctr"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ahoma"/>
                </a:rPr>
                <a:t>5923</a:t>
              </a:r>
              <a:endParaRPr b="0" lang="en-US" sz="1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95280" y="2428560"/>
              <a:ext cx="313920" cy="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rmAutofit/>
            </a:bodyPr>
            <a:p>
              <a:pPr algn="ctr"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ffffff"/>
                  </a:solidFill>
                  <a:latin typeface="Tahoma"/>
                </a:rPr>
                <a:t>Старая Криуша</a:t>
              </a:r>
              <a:endParaRPr b="0" lang="en-US" sz="1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09200" y="2428560"/>
              <a:ext cx="173160" cy="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rmAutofit/>
            </a:bodyPr>
            <a:p>
              <a:pPr algn="ctr"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ahoma"/>
                </a:rPr>
                <a:t>3266</a:t>
              </a:r>
              <a:endParaRPr b="0" lang="en-US" sz="1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82360" y="2428560"/>
              <a:ext cx="207360" cy="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rmAutofit/>
            </a:bodyPr>
            <a:p>
              <a:pPr algn="ctr"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ahoma"/>
                </a:rPr>
                <a:t>3281</a:t>
              </a:r>
              <a:endParaRPr b="0" lang="en-US" sz="1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090080" y="2428560"/>
              <a:ext cx="207360" cy="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rmAutofit/>
            </a:bodyPr>
            <a:p>
              <a:pPr algn="ctr"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ahoma"/>
                </a:rPr>
                <a:t>3118</a:t>
              </a:r>
              <a:endParaRPr b="0" lang="en-US" sz="1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297440" y="2428560"/>
              <a:ext cx="207720" cy="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rmAutofit/>
            </a:bodyPr>
            <a:p>
              <a:pPr algn="ctr"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ahoma"/>
                </a:rPr>
                <a:t>3062</a:t>
              </a:r>
              <a:endParaRPr b="0" lang="en-US" sz="1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505520" y="2428560"/>
              <a:ext cx="208080" cy="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rmAutofit/>
            </a:bodyPr>
            <a:p>
              <a:pPr algn="ctr"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ahoma"/>
                </a:rPr>
                <a:t>3019</a:t>
              </a:r>
              <a:endParaRPr b="0" lang="en-US" sz="1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713960" y="2428560"/>
              <a:ext cx="219600" cy="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rmAutofit/>
            </a:bodyPr>
            <a:p>
              <a:pPr algn="ctr"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ahoma"/>
                </a:rPr>
                <a:t>2988</a:t>
              </a:r>
              <a:endParaRPr b="0" lang="en-US" sz="1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933560" y="2428560"/>
              <a:ext cx="219600" cy="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rmAutofit/>
            </a:bodyPr>
            <a:p>
              <a:pPr algn="ctr"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ahoma"/>
                </a:rPr>
                <a:t>2945</a:t>
              </a:r>
              <a:endParaRPr b="0" lang="en-US" sz="1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153520" y="2428560"/>
              <a:ext cx="219600" cy="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rmAutofit/>
            </a:bodyPr>
            <a:p>
              <a:pPr algn="ctr"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ahoma"/>
                </a:rPr>
                <a:t>2962</a:t>
              </a:r>
              <a:endParaRPr b="0" lang="en-US" sz="1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5280" y="2429280"/>
              <a:ext cx="313920" cy="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rmAutofit/>
            </a:bodyPr>
            <a:p>
              <a:pPr algn="ctr"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ahoma"/>
                </a:rPr>
                <a:t>Старая Меловая</a:t>
              </a:r>
              <a:endParaRPr b="0" lang="en-US" sz="1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09200" y="2429280"/>
              <a:ext cx="173160" cy="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rmAutofit/>
            </a:bodyPr>
            <a:p>
              <a:pPr algn="ctr"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ahoma"/>
                </a:rPr>
                <a:t>3547</a:t>
              </a:r>
              <a:endParaRPr b="0" lang="en-US" sz="1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82360" y="2429280"/>
              <a:ext cx="207360" cy="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rmAutofit/>
            </a:bodyPr>
            <a:p>
              <a:pPr algn="ctr"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ahoma"/>
                </a:rPr>
                <a:t>3177</a:t>
              </a:r>
              <a:endParaRPr b="0" lang="en-US" sz="1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090080" y="2429280"/>
              <a:ext cx="207360" cy="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rmAutofit/>
            </a:bodyPr>
            <a:p>
              <a:pPr algn="ctr"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ahoma"/>
                </a:rPr>
                <a:t>3166</a:t>
              </a:r>
              <a:endParaRPr b="0" lang="en-US" sz="1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297440" y="2429280"/>
              <a:ext cx="207720" cy="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rmAutofit/>
            </a:bodyPr>
            <a:p>
              <a:pPr algn="ctr"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ahoma"/>
                </a:rPr>
                <a:t>3059</a:t>
              </a:r>
              <a:endParaRPr b="0" lang="en-US" sz="1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505520" y="2429280"/>
              <a:ext cx="208080" cy="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rmAutofit/>
            </a:bodyPr>
            <a:p>
              <a:pPr algn="ctr"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ahoma"/>
                </a:rPr>
                <a:t>3005</a:t>
              </a:r>
              <a:endParaRPr b="0" lang="en-US" sz="1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713960" y="2429280"/>
              <a:ext cx="219600" cy="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rmAutofit/>
            </a:bodyPr>
            <a:p>
              <a:pPr algn="ctr"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ahoma"/>
                </a:rPr>
                <a:t>2980</a:t>
              </a:r>
              <a:endParaRPr b="0" lang="en-US" sz="1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933560" y="2429280"/>
              <a:ext cx="219600" cy="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rmAutofit/>
            </a:bodyPr>
            <a:p>
              <a:pPr algn="ctr"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ahoma"/>
                </a:rPr>
                <a:t>2950</a:t>
              </a:r>
              <a:endParaRPr b="0" lang="en-US" sz="1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95280" y="2421000"/>
              <a:ext cx="8229600" cy="406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700"/>
                </a:spcBef>
                <a:buClr>
                  <a:srgbClr val="00ccff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2925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5280" y="2430000"/>
              <a:ext cx="313920" cy="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rmAutofit/>
            </a:bodyPr>
            <a:p>
              <a:pPr algn="ctr"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ahoma"/>
                </a:rPr>
                <a:t>Итого</a:t>
              </a:r>
              <a:endParaRPr b="0" lang="en-US" sz="1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09200" y="2430000"/>
              <a:ext cx="173160" cy="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rmAutofit/>
            </a:bodyPr>
            <a:p>
              <a:pPr algn="ctr"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ahoma"/>
                </a:rPr>
                <a:t>25585</a:t>
              </a:r>
              <a:endParaRPr b="0" lang="en-US" sz="1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2360" y="2430000"/>
              <a:ext cx="207360" cy="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rmAutofit/>
            </a:bodyPr>
            <a:p>
              <a:pPr algn="ctr"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ahoma"/>
                </a:rPr>
                <a:t>24623</a:t>
              </a:r>
              <a:endParaRPr b="0" lang="en-US" sz="1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090080" y="2430000"/>
              <a:ext cx="207360" cy="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rmAutofit/>
            </a:bodyPr>
            <a:p>
              <a:pPr algn="ctr"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ahoma"/>
                </a:rPr>
                <a:t>24476</a:t>
              </a:r>
              <a:endParaRPr b="0" lang="en-US" sz="1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297440" y="2430000"/>
              <a:ext cx="207720" cy="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rmAutofit/>
            </a:bodyPr>
            <a:p>
              <a:pPr algn="ctr"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ahoma"/>
                </a:rPr>
                <a:t>24114</a:t>
              </a:r>
              <a:endParaRPr b="0" lang="en-US" sz="1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05520" y="2430000"/>
              <a:ext cx="208080" cy="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rmAutofit/>
            </a:bodyPr>
            <a:p>
              <a:pPr algn="ctr"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ahoma"/>
                </a:rPr>
                <a:t>23532</a:t>
              </a:r>
              <a:endParaRPr b="0" lang="en-US" sz="1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713960" y="2430000"/>
              <a:ext cx="219600" cy="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rmAutofit/>
            </a:bodyPr>
            <a:p>
              <a:pPr algn="ctr"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ahoma"/>
                </a:rPr>
                <a:t>23154</a:t>
              </a:r>
              <a:endParaRPr b="0" lang="en-US" sz="1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33560" y="2430000"/>
              <a:ext cx="219600" cy="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rmAutofit/>
            </a:bodyPr>
            <a:p>
              <a:pPr algn="ctr"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ahoma"/>
                </a:rPr>
                <a:t>22273</a:t>
              </a:r>
              <a:endParaRPr b="0" lang="en-US" sz="1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153520" y="2430000"/>
              <a:ext cx="219600" cy="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rmAutofit/>
            </a:bodyPr>
            <a:p>
              <a:pPr algn="ctr"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ahoma"/>
                </a:rPr>
                <a:t>22153</a:t>
              </a:r>
              <a:endParaRPr b="0" lang="en-US" sz="1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09200" y="2421000"/>
              <a:ext cx="0" cy="9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882360" y="2421000"/>
              <a:ext cx="0" cy="9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090080" y="2421000"/>
              <a:ext cx="0" cy="9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297440" y="2421000"/>
              <a:ext cx="0" cy="9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505520" y="2421000"/>
              <a:ext cx="0" cy="9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713960" y="2421000"/>
              <a:ext cx="0" cy="9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33560" y="2421000"/>
              <a:ext cx="0" cy="9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153520" y="2421000"/>
              <a:ext cx="0" cy="9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95280" y="2421720"/>
              <a:ext cx="19778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95280" y="2422440"/>
              <a:ext cx="19778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95280" y="2423160"/>
              <a:ext cx="19778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7" name=""/>
            <p:cNvSpPr/>
            <p:nvPr/>
          </p:nvSpPr>
          <p:spPr>
            <a:xfrm flipV="1">
              <a:off x="395280" y="2440440"/>
              <a:ext cx="8229600" cy="4044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28" name="WordArt 160"/>
          <p:cNvSpPr txBox="1"/>
          <p:nvPr/>
        </p:nvSpPr>
        <p:spPr>
          <a:xfrm>
            <a:off x="468360" y="836640"/>
            <a:ext cx="832464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Число жителей по сельским поселениям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9" name="WordArt 161"/>
          <p:cNvSpPr txBox="1"/>
          <p:nvPr/>
        </p:nvSpPr>
        <p:spPr>
          <a:xfrm>
            <a:off x="2411280" y="1557360"/>
            <a:ext cx="425772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 1.01 текущих годов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4"/>
          <p:cNvSpPr/>
          <p:nvPr/>
        </p:nvSpPr>
        <p:spPr>
          <a:xfrm>
            <a:off x="-242280" y="549360"/>
            <a:ext cx="98539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«Вымывание» молодежи из сельской местности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в город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Резкое отставание развития отраслей социальной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сферы от отраслей материального производств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ff"/>
              </a:buClr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Завершение в Петропавловском районе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демографическог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перехода и установление современного режима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воспроизводства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населен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ff"/>
              </a:buClr>
              <a:buFont typeface="Tahom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Глубокого системного кризиса в стране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как катализатора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демографического спад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4"/>
          <p:cNvSpPr/>
          <p:nvPr/>
        </p:nvSpPr>
        <p:spPr>
          <a:xfrm>
            <a:off x="395280" y="476280"/>
            <a:ext cx="128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Таблица 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0" y="2205000"/>
          <a:ext cx="9036000" cy="4029120"/>
        </p:xfrm>
        <a:graphic>
          <a:graphicData uri="http://schemas.openxmlformats.org/drawingml/2006/table">
            <a:tbl>
              <a:tblPr/>
              <a:tblGrid>
                <a:gridCol w="971640"/>
                <a:gridCol w="963360"/>
                <a:gridCol w="822600"/>
                <a:gridCol w="771480"/>
                <a:gridCol w="874800"/>
                <a:gridCol w="822240"/>
                <a:gridCol w="823680"/>
                <a:gridCol w="822600"/>
                <a:gridCol w="939600"/>
                <a:gridCol w="1224000"/>
              </a:tblGrid>
              <a:tr h="2225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Численности населения на период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Рождаемости, человек на 1000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мертности, человек на 1000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Естественного прироста(убыли ), человек на 1000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альдомиграции, человек на 1000 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Брачности человек на 1000 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Разводимости, человек на 1000 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Доля пенсионеров 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оэффициент фертильности, человек на 1000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‰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Брутто-коэффициент, человек на 1000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48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а 1.01.199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501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7,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0,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1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,0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,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,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8,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,03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,3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а 1.01.200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353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,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1,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14,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,0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,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,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9,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,0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,2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" name="Line 56"/>
          <p:cNvSpPr/>
          <p:nvPr/>
        </p:nvSpPr>
        <p:spPr>
          <a:xfrm>
            <a:off x="1908000" y="1628640"/>
            <a:ext cx="604872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Text Box 57"/>
          <p:cNvSpPr/>
          <p:nvPr/>
        </p:nvSpPr>
        <p:spPr>
          <a:xfrm>
            <a:off x="2340000" y="1700280"/>
            <a:ext cx="51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К    О    Э    Ф    Ф    И    Ц    И    Е    Н    Т    Ы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WordArt 65"/>
          <p:cNvSpPr txBox="1"/>
          <p:nvPr/>
        </p:nvSpPr>
        <p:spPr>
          <a:xfrm>
            <a:off x="1835280" y="404640"/>
            <a:ext cx="6686280" cy="425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ложившаяся демографическая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5" name="WordArt 66"/>
          <p:cNvSpPr txBox="1"/>
          <p:nvPr/>
        </p:nvSpPr>
        <p:spPr>
          <a:xfrm>
            <a:off x="1692360" y="907920"/>
            <a:ext cx="69912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бстановка в целом (по периодам)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0" y="1413000"/>
          <a:ext cx="4356000" cy="4824360"/>
        </p:xfrm>
        <a:graphic>
          <a:graphicData uri="http://schemas.openxmlformats.org/drawingml/2006/table">
            <a:tbl>
              <a:tblPr/>
              <a:tblGrid>
                <a:gridCol w="1111320"/>
                <a:gridCol w="836640"/>
                <a:gridCol w="799920"/>
                <a:gridCol w="803520"/>
                <a:gridCol w="804600"/>
              </a:tblGrid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оказатели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991 г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999 г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005 г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007 г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0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Численность родившихся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9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79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5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4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Численность умерших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9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0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8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59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0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Естественный прирост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19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32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32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31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33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бщий коэффициент рождаемости </a:t>
                      </a: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‰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7,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,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,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32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бщий коэффициент смертности </a:t>
                      </a: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‰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7,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0,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1,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0,9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оэффициент естественного прироста </a:t>
                      </a: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‰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12,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1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14,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14,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" name="Text Box 92"/>
          <p:cNvSpPr/>
          <p:nvPr/>
        </p:nvSpPr>
        <p:spPr>
          <a:xfrm>
            <a:off x="108000" y="620640"/>
            <a:ext cx="14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Таблица 3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WordArt 100"/>
          <p:cNvSpPr txBox="1"/>
          <p:nvPr/>
        </p:nvSpPr>
        <p:spPr>
          <a:xfrm>
            <a:off x="2195640" y="115920"/>
            <a:ext cx="5086080" cy="43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инамика естественного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9" name="WordArt 101"/>
          <p:cNvSpPr txBox="1"/>
          <p:nvPr/>
        </p:nvSpPr>
        <p:spPr>
          <a:xfrm>
            <a:off x="2556000" y="765000"/>
            <a:ext cx="436248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вижения населения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0" name="Rectangle 3" descr=""/>
          <p:cNvPicPr/>
          <p:nvPr/>
        </p:nvPicPr>
        <p:blipFill>
          <a:blip r:embed="rId2"/>
          <a:stretch/>
        </p:blipFill>
        <p:spPr>
          <a:xfrm>
            <a:off x="4716360" y="1413000"/>
            <a:ext cx="4883400" cy="45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179280" y="1341360"/>
          <a:ext cx="8964720" cy="5262480"/>
        </p:xfrm>
        <a:graphic>
          <a:graphicData uri="http://schemas.openxmlformats.org/drawingml/2006/table">
            <a:tbl>
              <a:tblPr/>
              <a:tblGrid>
                <a:gridCol w="534960"/>
                <a:gridCol w="538200"/>
                <a:gridCol w="534960"/>
                <a:gridCol w="613080"/>
                <a:gridCol w="614160"/>
                <a:gridCol w="668520"/>
                <a:gridCol w="582480"/>
                <a:gridCol w="593640"/>
                <a:gridCol w="608040"/>
                <a:gridCol w="611280"/>
                <a:gridCol w="523800"/>
                <a:gridCol w="582480"/>
                <a:gridCol w="503280"/>
                <a:gridCol w="766800"/>
                <a:gridCol w="689040"/>
              </a:tblGrid>
              <a:tr h="878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Годы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се население тыс.чел.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Естественный прирост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оэф. естес. прироста </a:t>
                      </a:r>
                      <a:r>
                        <a:rPr b="0" lang="ru-RU" sz="9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‰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Рождаемость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оэф. рождаемости </a:t>
                      </a:r>
                      <a:r>
                        <a:rPr b="0" lang="ru-RU" sz="9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‰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мертность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оэф. смертности </a:t>
                      </a:r>
                      <a:r>
                        <a:rPr b="0" lang="ru-RU" sz="9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‰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Эмигранты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риб.        Выбыли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Браки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оэф. брачности </a:t>
                      </a:r>
                      <a:r>
                        <a:rPr b="0" lang="ru-RU" sz="9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‰ 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Разводы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оэф разводимости </a:t>
                      </a:r>
                      <a:r>
                        <a:rPr b="0" lang="ru-RU" sz="9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‰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Доля пенсионеров %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57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991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519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19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7,7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5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47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7,7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063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0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63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,46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4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,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3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5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99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530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249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9,9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37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9,3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87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9,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03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27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51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,9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71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,8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4,8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993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552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294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11,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4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9,4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34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0,9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13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68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51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,8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4,8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58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994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587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291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11,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14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8,3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0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9,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82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18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4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,4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9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,6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5,1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5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99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5849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281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10,8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4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9,3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21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0,1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49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43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47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,6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74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,8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57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996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5673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243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9,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37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9,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8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8,6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54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66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31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,1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8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,6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6,9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57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997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5471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231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9,1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19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8,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5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7,6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49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98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33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,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77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7,4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5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998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5289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27-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10,6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0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7,9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7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0,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27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8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2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,7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81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,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7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5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999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5016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326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13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79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7,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0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0,1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8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09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4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,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79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,1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8,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57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00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4818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321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12,9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79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7,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0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1,9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9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67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31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,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71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,9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8,4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57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001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4424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35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14,6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8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7,3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3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9,4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46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8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17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,7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7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,7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8,9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5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00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4623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307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12,3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77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7,1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79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9,9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9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9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1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,4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78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,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9,1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5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003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4476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33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13,7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53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,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88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0,7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17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01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23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7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,06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8,9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57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004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4114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36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14,9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41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,8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01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1,4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8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99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11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,6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,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9,1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57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00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353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328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14,6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54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,8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8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1,4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57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9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09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,6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79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,4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9,3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5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006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3154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358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15,6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39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97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0,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17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81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16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83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,6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9,4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57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007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2273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314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14,4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4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,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59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0,9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7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29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2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,3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8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,6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9,7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2" name="Text Box 393"/>
          <p:cNvSpPr/>
          <p:nvPr/>
        </p:nvSpPr>
        <p:spPr>
          <a:xfrm>
            <a:off x="63360" y="131760"/>
            <a:ext cx="131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Таблица 4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WordArt 396"/>
          <p:cNvSpPr txBox="1"/>
          <p:nvPr/>
        </p:nvSpPr>
        <p:spPr>
          <a:xfrm>
            <a:off x="2195640" y="115920"/>
            <a:ext cx="6181560" cy="28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водная ведомость основных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4" name="WordArt 397"/>
          <p:cNvSpPr txBox="1"/>
          <p:nvPr/>
        </p:nvSpPr>
        <p:spPr>
          <a:xfrm>
            <a:off x="2050920" y="476280"/>
            <a:ext cx="6467760" cy="28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емографических показателей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5" name="WordArt 398"/>
          <p:cNvSpPr txBox="1"/>
          <p:nvPr/>
        </p:nvSpPr>
        <p:spPr>
          <a:xfrm>
            <a:off x="2340000" y="836640"/>
            <a:ext cx="5905440" cy="28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о Петропавловскому району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4"/>
          <p:cNvSpPr/>
          <p:nvPr/>
        </p:nvSpPr>
        <p:spPr>
          <a:xfrm>
            <a:off x="663480" y="492120"/>
            <a:ext cx="700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Text Box 5"/>
          <p:cNvSpPr/>
          <p:nvPr/>
        </p:nvSpPr>
        <p:spPr>
          <a:xfrm>
            <a:off x="611280" y="765000"/>
            <a:ext cx="8064360" cy="639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истема показателей демографической типологи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Численность населени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оэффициент сальдо миграции населени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оля лиц пенсионного возраст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бщий коэффициент рождаемост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бщий коэффициент смертност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оэффициент естественного прирост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Брутто-коэффициент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оэффициент фертильност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оэффициент брачност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оэффициент разводимост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539640" y="1484280"/>
          <a:ext cx="7756560" cy="5241960"/>
        </p:xfrm>
        <a:graphic>
          <a:graphicData uri="http://schemas.openxmlformats.org/drawingml/2006/table">
            <a:tbl>
              <a:tblPr/>
              <a:tblGrid>
                <a:gridCol w="1917720"/>
                <a:gridCol w="959040"/>
                <a:gridCol w="869760"/>
                <a:gridCol w="1046160"/>
                <a:gridCol w="959040"/>
                <a:gridCol w="1046160"/>
                <a:gridCol w="958680"/>
              </a:tblGrid>
              <a:tr h="137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оселен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Численность населения в %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Рождаемость, человек на 1000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мертность, человек на 1000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Естественный прирост, человек на 1000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Брачность, человек на 1000 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Разводимость, человек на 1000 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‰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1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. Петропавловк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т. Криуш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т. Мелова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1,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,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,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4,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,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,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7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. Бычок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р. Флот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расноселовк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еск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7,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,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7,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4,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,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9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. Новотроицко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овобогородицко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овый Лиман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Березняг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1,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,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9,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5,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,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,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сего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353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,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1,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14,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,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,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WordArt 96"/>
          <p:cNvSpPr txBox="1"/>
          <p:nvPr/>
        </p:nvSpPr>
        <p:spPr>
          <a:xfrm>
            <a:off x="1547640" y="115920"/>
            <a:ext cx="6886800" cy="28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ипы поселений по сложившейся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0" name="WordArt 97"/>
          <p:cNvSpPr txBox="1"/>
          <p:nvPr/>
        </p:nvSpPr>
        <p:spPr>
          <a:xfrm>
            <a:off x="1403280" y="620640"/>
            <a:ext cx="7257960" cy="28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 них демографической обстановке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1" name="Text Box 98"/>
          <p:cNvSpPr/>
          <p:nvPr/>
        </p:nvSpPr>
        <p:spPr>
          <a:xfrm>
            <a:off x="84240" y="189000"/>
            <a:ext cx="131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Таблица 5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179280" y="1989000"/>
          <a:ext cx="3178440" cy="4291200"/>
        </p:xfrm>
        <a:graphic>
          <a:graphicData uri="http://schemas.openxmlformats.org/drawingml/2006/table">
            <a:tbl>
              <a:tblPr/>
              <a:tblGrid>
                <a:gridCol w="730440"/>
                <a:gridCol w="792000"/>
                <a:gridCol w="792360"/>
                <a:gridCol w="86364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озраст(лет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ба пола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Мужчины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Женщины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-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74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7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69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-9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84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4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0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5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0-1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039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4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9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5-19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48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77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70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5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0-2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52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76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75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5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5-29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12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8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4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0-3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26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4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19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5-39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28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4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39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5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0-4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48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73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74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5-49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96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02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94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5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0-5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5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75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81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5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5-59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45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70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75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0-6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769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3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3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5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5-69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48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4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94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70 лет и выше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71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16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55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3" name="WordArt 108"/>
          <p:cNvSpPr txBox="1"/>
          <p:nvPr/>
        </p:nvSpPr>
        <p:spPr>
          <a:xfrm>
            <a:off x="1187280" y="189000"/>
            <a:ext cx="769788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Численность населения по полу и возрасту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4" name="WordArt 110"/>
          <p:cNvSpPr txBox="1"/>
          <p:nvPr/>
        </p:nvSpPr>
        <p:spPr>
          <a:xfrm>
            <a:off x="3059280" y="549360"/>
            <a:ext cx="402876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 начало 2008 год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5" name="WordArt 111"/>
          <p:cNvSpPr txBox="1"/>
          <p:nvPr/>
        </p:nvSpPr>
        <p:spPr>
          <a:xfrm>
            <a:off x="2340000" y="907920"/>
            <a:ext cx="4886280" cy="2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етропавловский район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6" name="Text Box 119"/>
          <p:cNvSpPr/>
          <p:nvPr/>
        </p:nvSpPr>
        <p:spPr>
          <a:xfrm>
            <a:off x="-23760" y="476280"/>
            <a:ext cx="131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Таблица 6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7" name="Rectangle 3" descr=""/>
          <p:cNvPicPr/>
          <p:nvPr/>
        </p:nvPicPr>
        <p:blipFill>
          <a:blip r:embed="rId2"/>
          <a:stretch/>
        </p:blipFill>
        <p:spPr>
          <a:xfrm>
            <a:off x="3559320" y="2104920"/>
            <a:ext cx="5575320" cy="4133880"/>
          </a:xfrm>
          <a:prstGeom prst="rect">
            <a:avLst/>
          </a:prstGeom>
          <a:ln w="0">
            <a:noFill/>
          </a:ln>
        </p:spPr>
      </p:pic>
      <p:sp>
        <p:nvSpPr>
          <p:cNvPr id="78" name="WordArt 135"/>
          <p:cNvSpPr txBox="1"/>
          <p:nvPr/>
        </p:nvSpPr>
        <p:spPr>
          <a:xfrm>
            <a:off x="3851280" y="1341360"/>
            <a:ext cx="431964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озрастно-половая структура населения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9" name="WordArt 136"/>
          <p:cNvSpPr txBox="1"/>
          <p:nvPr/>
        </p:nvSpPr>
        <p:spPr>
          <a:xfrm>
            <a:off x="5435640" y="1773360"/>
            <a:ext cx="1368360" cy="21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 1.01.2008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"/>
          <p:cNvGraphicFramePr/>
          <p:nvPr/>
        </p:nvGraphicFramePr>
        <p:xfrm>
          <a:off x="250920" y="1484280"/>
          <a:ext cx="8640720" cy="5241960"/>
        </p:xfrm>
        <a:graphic>
          <a:graphicData uri="http://schemas.openxmlformats.org/drawingml/2006/table">
            <a:tbl>
              <a:tblPr/>
              <a:tblGrid>
                <a:gridCol w="1917720"/>
                <a:gridCol w="958680"/>
                <a:gridCol w="870120"/>
                <a:gridCol w="1046160"/>
                <a:gridCol w="958680"/>
                <a:gridCol w="1046160"/>
                <a:gridCol w="959040"/>
                <a:gridCol w="884160"/>
              </a:tblGrid>
              <a:tr h="137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оселен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Численность населения в %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Рождаемость, человек на 1000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мертность, человек на 1000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Естественный прирост, человек на 1000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Брачность, человек на 1000 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Разводимость, человек на 1000 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‰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Фертильность, человек на 1000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1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. Петропавловк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т. Криуш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т. Мелова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1,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,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,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4,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,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,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7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. Бычок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р. Флот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расноселовк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еск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7,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,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7,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4,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,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9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. Новотроицко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овобогородицко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овый Лиман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Березняг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1,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,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9,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5,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,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,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сего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353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,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1,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14,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,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,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1" name="WordArt 58"/>
          <p:cNvSpPr txBox="1"/>
          <p:nvPr/>
        </p:nvSpPr>
        <p:spPr>
          <a:xfrm>
            <a:off x="1547640" y="115920"/>
            <a:ext cx="6886800" cy="28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ипы поселений по сложившейся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2" name="WordArt 59"/>
          <p:cNvSpPr txBox="1"/>
          <p:nvPr/>
        </p:nvSpPr>
        <p:spPr>
          <a:xfrm>
            <a:off x="1403280" y="620640"/>
            <a:ext cx="7257960" cy="28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 них демографической обстановке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3" name="Text Box 60"/>
          <p:cNvSpPr/>
          <p:nvPr/>
        </p:nvSpPr>
        <p:spPr>
          <a:xfrm>
            <a:off x="84240" y="189000"/>
            <a:ext cx="131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Таблица 5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0T17:14:05Z</dcterms:created>
  <dc:creator>Customer</dc:creator>
  <dc:description/>
  <dc:language>en-US</dc:language>
  <cp:lastModifiedBy>west</cp:lastModifiedBy>
  <dcterms:modified xsi:type="dcterms:W3CDTF">2012-01-10T17:51:40Z</dcterms:modified>
  <cp:revision>38</cp:revision>
  <dc:subject/>
  <dc:title>Слайд 1</dc:title>
</cp:coreProperties>
</file>