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jpeg" ContentType="image/jpeg"/>
  <Override PartName="/ppt/media/image19.gif" ContentType="image/gif"/>
  <Override PartName="/ppt/media/image1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05E0D-B3EF-408E-B49B-19DA5B98C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EC754-39CD-4260-8C83-9245294F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FD8D2-1710-4426-9676-43FE3F157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E206A-2807-4FC8-A7BE-E84EE6D0D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24E94-D09F-4143-A61E-7CF4035EE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9F0F40-DD20-4871-BA35-C7E48674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1D742-34C6-472E-BD35-F24CD0B3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93844-4663-4EEC-89F0-6AFB61E9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7DE33-1F01-4C19-B1DA-6D668DC7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38656-E986-4001-B0D8-76BF49E5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1D8CD-2937-4BC5-B914-7357A2D1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9E142-79C7-4FA8-B3CD-9D620341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9DD34-8D8B-4F74-8873-A7A8239E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71BE1-05AC-46E7-B67F-6C631E0A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59516-72CF-48DD-855F-C1EFF790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83F21-DA13-41E0-869B-68F2BB67F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6A745-0EE9-4ECC-8399-980255A30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348CFA-2CF5-4919-A1E5-91D57D28B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C80A53-8F09-49F5-8486-6F1AFD7A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DC9ABE-54B1-4442-90AF-BC8F3D01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E4E094-86C3-4A02-90BD-B67A078B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4F99E7-EAC0-4C97-B73A-6A686201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532B6-6404-4C56-BA90-85484602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BF34D8-CBE3-4E61-97B1-C983188A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57A8E7-974A-4E27-9AB7-BA90D1B3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C838F7-FC47-4091-82A3-D1E3F73C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F8404E-8AF7-4B0B-96CB-C5EB5A0A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3E7EC2-B5D9-4E0E-946D-7B8B4AF1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29C432-924A-4D28-A2E5-FBCA7E6D2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309C18-D4B5-4FB7-915D-F19ED1AAF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5FE02-78CA-43E4-8C51-0283EEB1D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CF307-71C6-470E-AB93-F6FDD0F5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8F606-5F7F-4BCF-AD50-F4D0EC6A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A1658-0CAE-44CE-A478-1253C447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5919F-C3D8-4FA9-9A13-349729FB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0C921-DE85-4A77-B92F-06FFB7E1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7BC9A-5F4E-4CF4-A082-E33DC92B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D3311-4D29-427C-99FC-92D9477E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BAF1C-5BB4-4CC2-BFF5-2CACB284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025BC-4636-4DB7-8867-D7208708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CCBC8-C9B5-459D-8990-C67AD2E8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0ABDD-B0A8-4F1F-9861-1F9D1DF6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ED756-BD09-4054-B0E5-7ED0F140E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73FC7-F88D-45CB-A38E-283ED356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44D87-9B5B-4083-B0BD-367B13CA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AEC48-5289-4840-B2EE-943DE67D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C8B2A-051B-476D-A45A-2545129C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54E73-8258-4C9A-99ED-CA0039DB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33880"/>
            <a:ext cx="8305560" cy="198072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1" name="Прямая соединительная линия 7"/>
          <p:cNvCxnSpPr/>
          <p:nvPr/>
        </p:nvCxnSpPr>
        <p:spPr>
          <a:xfrm>
            <a:off x="1463400" y="3549960"/>
            <a:ext cx="2972160" cy="1800"/>
          </a:xfrm>
          <a:prstGeom prst="straightConnector1">
            <a:avLst/>
          </a:prstGeom>
          <a:ln w="9525">
            <a:solidFill>
              <a:srgbClr val="444d26">
                <a:tint val="20000"/>
              </a:srgbClr>
            </a:solidFill>
            <a:round/>
          </a:ln>
        </p:spPr>
      </p:cxnSp>
      <p:cxnSp>
        <p:nvCxnSpPr>
          <p:cNvPr id="2" name="Прямая соединительная линия 12"/>
          <p:cNvCxnSpPr/>
          <p:nvPr/>
        </p:nvCxnSpPr>
        <p:spPr>
          <a:xfrm>
            <a:off x="4708440" y="3549960"/>
            <a:ext cx="2972160" cy="1800"/>
          </a:xfrm>
          <a:prstGeom prst="straightConnector1">
            <a:avLst/>
          </a:prstGeom>
          <a:ln w="9525">
            <a:solidFill>
              <a:srgbClr val="444d26">
                <a:tint val="20000"/>
              </a:srgbClr>
            </a:solidFill>
            <a:round/>
          </a:ln>
        </p:spPr>
      </p:cxnSp>
      <p:sp>
        <p:nvSpPr>
          <p:cNvPr id="3" name="Овал 13"/>
          <p:cNvSpPr/>
          <p:nvPr/>
        </p:nvSpPr>
        <p:spPr>
          <a:xfrm>
            <a:off x="4540320" y="3526200"/>
            <a:ext cx="45360" cy="45360"/>
          </a:xfrm>
          <a:prstGeom prst="ellipse">
            <a:avLst/>
          </a:prstGeom>
          <a:solidFill>
            <a:srgbClr val="f3a447"/>
          </a:solidFill>
          <a:ln>
            <a:solidFill>
              <a:srgbClr val="f3a447"/>
            </a:solidFill>
            <a:round/>
          </a:ln>
          <a:effectLst>
            <a:outerShdw algn="tl" blurRad="31680" dir="0" rotWithShape="0">
              <a:srgbClr val="000000">
                <a:alpha val="55000"/>
              </a:srgbClr>
            </a:outerShdw>
          </a:effectLst>
        </p:spPr>
        <p:style>
          <a:lnRef idx="2">
            <a:schemeClr val="accent2"/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-12600" bIns="-12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D6B779E-FB67-4E9A-A057-806F4BB6FBA0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3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02FD017-96FE-40C1-A8F1-1DFAF297610E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457200"/>
            <a:ext cx="6248160" cy="57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781680" y="1600200"/>
            <a:ext cx="19839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Autofit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efac9"/>
                </a:solidFill>
                <a:latin typeface="Constantia"/>
              </a:rPr>
              <a:t>Образец текста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title"/>
          </p:nvPr>
        </p:nvSpPr>
        <p:spPr>
          <a:xfrm>
            <a:off x="6781680" y="457200"/>
            <a:ext cx="1980720" cy="1066320"/>
          </a:xfrm>
          <a:prstGeom prst="rect">
            <a:avLst/>
          </a:prstGeom>
          <a:noFill/>
          <a:ln w="6480">
            <a:noFill/>
          </a:ln>
        </p:spPr>
        <p:txBody>
          <a:bodyPr rIns="90000" tIns="9144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800" spc="-52" strike="noStrike">
                <a:solidFill>
                  <a:srgbClr val="fefac9"/>
                </a:solidFill>
                <a:latin typeface="Constantia"/>
              </a:rPr>
              <a:t>Образец заголовка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8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7AB3711-AEF8-46FB-9DED-74ACD3B71EC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ftr" idx="9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12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B464F1E-3EAB-4838-BD3B-8C3B6F0B363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body"/>
          </p:nvPr>
        </p:nvSpPr>
        <p:spPr>
          <a:xfrm>
            <a:off x="45720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body"/>
          </p:nvPr>
        </p:nvSpPr>
        <p:spPr>
          <a:xfrm>
            <a:off x="464832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433880"/>
            <a:ext cx="8305560" cy="198072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00" strike="noStrike">
                <a:solidFill>
                  <a:srgbClr val="f9f9f9"/>
                </a:solidFill>
                <a:latin typeface="Constantia"/>
              </a:rPr>
              <a:t>Движение Земли вокруг Солнца</a:t>
            </a:r>
            <a:endParaRPr b="0" lang="ru-RU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28760" y="57132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2) Глобус – это...</a:t>
            </a:r>
            <a:endParaRPr b="0" lang="ru-RU" sz="3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) разрисованный мяч;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б) модель Земли;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) модель Луны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4" name="Рисунок 3" descr="1191269243_c4132.jpg"/>
          <p:cNvPicPr/>
          <p:nvPr/>
        </p:nvPicPr>
        <p:blipFill>
          <a:blip r:embed="rId1"/>
          <a:stretch/>
        </p:blipFill>
        <p:spPr>
          <a:xfrm>
            <a:off x="6072120" y="2357280"/>
            <a:ext cx="2123640" cy="38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85840" y="1571760"/>
            <a:ext cx="822924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3) Экватор делит земной шар: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) на 3 полушария;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б) на 2 полушария;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) на 4 полушария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6" name="Рисунок 3" descr="anim_0006.gif"/>
          <p:cNvPicPr/>
          <p:nvPr/>
        </p:nvPicPr>
        <p:blipFill>
          <a:blip r:embed="rId1"/>
          <a:stretch/>
        </p:blipFill>
        <p:spPr>
          <a:xfrm>
            <a:off x="6286680" y="4643280"/>
            <a:ext cx="1316520" cy="149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357120"/>
            <a:ext cx="8229240" cy="57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4) Солнце – это..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а) звезда;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) планета;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) спутник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8" name="Рисунок 3" descr="motyl06.gif"/>
          <p:cNvPicPr/>
          <p:nvPr/>
        </p:nvPicPr>
        <p:blipFill>
          <a:blip r:embed="rId1"/>
          <a:stretch/>
        </p:blipFill>
        <p:spPr>
          <a:xfrm>
            <a:off x="4788360" y="3643200"/>
            <a:ext cx="256932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571320"/>
            <a:ext cx="822924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5) Звезда, которую можно увидеть днем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) Венера;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) Луна;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в) Солнце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0" name="Рисунок 3" descr="40354586_0_17ebe_5e54430c_XL.jpg"/>
          <p:cNvPicPr/>
          <p:nvPr/>
        </p:nvPicPr>
        <p:blipFill>
          <a:blip r:embed="rId1"/>
          <a:stretch/>
        </p:blipFill>
        <p:spPr>
          <a:xfrm>
            <a:off x="2928960" y="2286000"/>
            <a:ext cx="520668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285840"/>
            <a:ext cx="8229240" cy="58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6)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Земной год – это…</a:t>
            </a:r>
            <a:endParaRPr b="0" lang="ru-RU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) 360 дней;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) 300 дней;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в) 365 дней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2" name="Рисунок 3" descr="3d_ship.gif"/>
          <p:cNvPicPr/>
          <p:nvPr/>
        </p:nvPicPr>
        <p:blipFill>
          <a:blip r:embed="rId1"/>
          <a:stretch/>
        </p:blipFill>
        <p:spPr>
          <a:xfrm>
            <a:off x="3286080" y="2000160"/>
            <a:ext cx="364284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642960"/>
            <a:ext cx="8229240" cy="54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7) Солнце восходит</a:t>
            </a:r>
            <a:endParaRPr b="0" lang="ru-RU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) на юге;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б) на востоке;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) на севере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Рисунок 4" descr="1266420003_14faa0f91196.jpg"/>
          <p:cNvPicPr/>
          <p:nvPr/>
        </p:nvPicPr>
        <p:blipFill>
          <a:blip r:embed="rId1"/>
          <a:stretch/>
        </p:blipFill>
        <p:spPr>
          <a:xfrm>
            <a:off x="4143240" y="3107520"/>
            <a:ext cx="4238280" cy="31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71320" y="428760"/>
            <a:ext cx="8229240" cy="56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8) Смена времен года происходит…</a:t>
            </a:r>
            <a:endParaRPr b="0" lang="ru-RU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) если Земля сделает оборот вокруг своей оси;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б) если Земля сделает оборот вокруг Солнца;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) если Земля сделает оборот вокруг Луны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Рисунок 3" descr="p24_sun-system.jpg"/>
          <p:cNvPicPr/>
          <p:nvPr/>
        </p:nvPicPr>
        <p:blipFill>
          <a:blip r:embed="rId1"/>
          <a:stretch/>
        </p:blipFill>
        <p:spPr>
          <a:xfrm>
            <a:off x="4572000" y="3714840"/>
            <a:ext cx="41050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Содержимое 3" descr="planets_11.jpg"/>
          <p:cNvPicPr/>
          <p:nvPr/>
        </p:nvPicPr>
        <p:blipFill>
          <a:blip r:embed="rId1"/>
          <a:stretch/>
        </p:blipFill>
        <p:spPr>
          <a:xfrm>
            <a:off x="1857240" y="1523880"/>
            <a:ext cx="5000400" cy="50479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88000"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Вспомните имя каждой планеты. Сколько их?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Содержимое 4" descr="рассвет.jpg"/>
          <p:cNvPicPr/>
          <p:nvPr/>
        </p:nvPicPr>
        <p:blipFill>
          <a:blip r:embed="rId1"/>
          <a:stretch/>
        </p:blipFill>
        <p:spPr>
          <a:xfrm>
            <a:off x="495360" y="1000080"/>
            <a:ext cx="6381360" cy="47858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781680" y="1600200"/>
            <a:ext cx="19839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Autofit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efac9"/>
                </a:solidFill>
                <a:latin typeface="Constantia"/>
              </a:rPr>
              <a:t>Без него плачемся,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efac9"/>
                </a:solidFill>
                <a:latin typeface="Constantia"/>
              </a:rPr>
              <a:t>А как появится-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efac9"/>
                </a:solidFill>
                <a:latin typeface="Constantia"/>
              </a:rPr>
              <a:t>От него прячемся.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6781680" y="457200"/>
            <a:ext cx="1980720" cy="1066320"/>
          </a:xfrm>
          <a:prstGeom prst="rect">
            <a:avLst/>
          </a:prstGeom>
          <a:noFill/>
          <a:ln w="6480">
            <a:noFill/>
          </a:ln>
        </p:spPr>
        <p:txBody>
          <a:bodyPr rIns="90000" tIns="91440" bIns="45000" anchor="b">
            <a:noAutofit/>
          </a:bodyPr>
          <a:p>
            <a:pPr indent="0">
              <a:buNone/>
            </a:pPr>
            <a:endParaRPr b="1" lang="en-US" sz="1800" spc="-52" strike="noStrike">
              <a:solidFill>
                <a:srgbClr val="fefac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2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2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buNone/>
            </a:pPr>
            <a:endParaRPr b="0" lang="en-US" sz="4200" spc="-100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76" name="Содержимое 4" descr="1251476244_659395.jpg"/>
          <p:cNvPicPr/>
          <p:nvPr/>
        </p:nvPicPr>
        <p:blipFill>
          <a:blip r:embed="rId1"/>
          <a:stretch/>
        </p:blipFill>
        <p:spPr>
          <a:xfrm>
            <a:off x="571320" y="1143000"/>
            <a:ext cx="4643280" cy="5025240"/>
          </a:xfrm>
          <a:prstGeom prst="rect">
            <a:avLst/>
          </a:prstGeom>
          <a:ln w="0">
            <a:noFill/>
          </a:ln>
        </p:spPr>
      </p:pic>
      <p:pic>
        <p:nvPicPr>
          <p:cNvPr id="177" name="Содержимое 5" descr="35711052_962.jpg"/>
          <p:cNvPicPr/>
          <p:nvPr/>
        </p:nvPicPr>
        <p:blipFill>
          <a:blip r:embed="rId2"/>
          <a:stretch/>
        </p:blipFill>
        <p:spPr>
          <a:xfrm>
            <a:off x="4357800" y="1428840"/>
            <a:ext cx="4349520" cy="428580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6" descr="5894.jpg"/>
          <p:cNvPicPr/>
          <p:nvPr/>
        </p:nvPicPr>
        <p:blipFill>
          <a:blip r:embed="rId3"/>
          <a:stretch/>
        </p:blipFill>
        <p:spPr>
          <a:xfrm>
            <a:off x="500040" y="428760"/>
            <a:ext cx="7714800" cy="57862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7" descr="1266420003_14faa0f91196.jpg"/>
          <p:cNvPicPr/>
          <p:nvPr/>
        </p:nvPicPr>
        <p:blipFill>
          <a:blip r:embed="rId4"/>
          <a:stretch/>
        </p:blipFill>
        <p:spPr>
          <a:xfrm>
            <a:off x="762120" y="571680"/>
            <a:ext cx="7619760" cy="57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Содержимое 3" descr="1-1-Plan1.jpg"/>
          <p:cNvPicPr/>
          <p:nvPr/>
        </p:nvPicPr>
        <p:blipFill>
          <a:blip r:embed="rId1"/>
          <a:stretch/>
        </p:blipFill>
        <p:spPr>
          <a:xfrm>
            <a:off x="722160" y="1500120"/>
            <a:ext cx="7992720" cy="507168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Вращение  Земли вокруг Солнц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Содержимое 3" descr="picture.jpg"/>
          <p:cNvPicPr/>
          <p:nvPr/>
        </p:nvPicPr>
        <p:blipFill>
          <a:blip r:embed="rId1"/>
          <a:stretch/>
        </p:blipFill>
        <p:spPr>
          <a:xfrm>
            <a:off x="285840" y="357120"/>
            <a:ext cx="8572320" cy="62384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4200" spc="-100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4200" spc="-100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85" name="Содержимое 4" descr="autumn.jpg"/>
          <p:cNvPicPr/>
          <p:nvPr/>
        </p:nvPicPr>
        <p:blipFill>
          <a:blip r:embed="rId1"/>
          <a:stretch/>
        </p:blipFill>
        <p:spPr>
          <a:xfrm>
            <a:off x="357120" y="393840"/>
            <a:ext cx="6500520" cy="5921640"/>
          </a:xfrm>
          <a:prstGeom prst="rect">
            <a:avLst/>
          </a:prstGeom>
          <a:ln w="0">
            <a:noFill/>
          </a:ln>
        </p:spPr>
      </p:pic>
      <p:pic>
        <p:nvPicPr>
          <p:cNvPr id="186" name="Содержимое 7" descr="0_3b813_b8335744_XL.jpg"/>
          <p:cNvPicPr/>
          <p:nvPr/>
        </p:nvPicPr>
        <p:blipFill>
          <a:blip r:embed="rId2"/>
          <a:stretch/>
        </p:blipFill>
        <p:spPr>
          <a:xfrm>
            <a:off x="3071880" y="531720"/>
            <a:ext cx="563544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4200" spc="-100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88" name="Содержимое 4" descr="77195_prev_425.jpg"/>
          <p:cNvPicPr/>
          <p:nvPr/>
        </p:nvPicPr>
        <p:blipFill>
          <a:blip r:embed="rId1"/>
          <a:stretch/>
        </p:blipFill>
        <p:spPr>
          <a:xfrm>
            <a:off x="457200" y="714240"/>
            <a:ext cx="4900320" cy="5285880"/>
          </a:xfrm>
          <a:prstGeom prst="rect">
            <a:avLst/>
          </a:prstGeom>
          <a:ln w="0">
            <a:noFill/>
          </a:ln>
        </p:spPr>
      </p:pic>
      <p:pic>
        <p:nvPicPr>
          <p:cNvPr id="189" name="Содержимое 5" descr="0_1f217_293f200a_XL.jpg"/>
          <p:cNvPicPr/>
          <p:nvPr/>
        </p:nvPicPr>
        <p:blipFill>
          <a:blip r:embed="rId2"/>
          <a:stretch/>
        </p:blipFill>
        <p:spPr>
          <a:xfrm>
            <a:off x="2264400" y="500040"/>
            <a:ext cx="6442560" cy="48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257680" cy="43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1) Земля вращается вокруг…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а) Солнца;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б) оси;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) экватора.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88000"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т чего зависит смена времен года?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" name="Рисунок 4" descr="children.jpg"/>
          <p:cNvPicPr/>
          <p:nvPr/>
        </p:nvPicPr>
        <p:blipFill>
          <a:blip r:embed="rId1"/>
          <a:stretch/>
        </p:blipFill>
        <p:spPr>
          <a:xfrm>
            <a:off x="5715000" y="4429080"/>
            <a:ext cx="234288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aper</Template>
  <TotalTime>64</TotalTime>
  <Application>LibreOffice/7.4.7.2$Linux_X86_64 LibreOffice_project/40$Build-2</Application>
  <AppVersion>15.0000</AppVersion>
  <Words>213</Words>
  <Paragraphs>49</Paragraphs>
  <Company>дом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00:07:27Z</dcterms:created>
  <dc:creator>св</dc:creator>
  <dc:description/>
  <dc:language>en-US</dc:language>
  <cp:lastModifiedBy>св</cp:lastModifiedBy>
  <dcterms:modified xsi:type="dcterms:W3CDTF">2010-10-07T01:11:33Z</dcterms:modified>
  <cp:revision>7</cp:revision>
  <dc:subject/>
  <dc:title>Движение Земли вокруг Солнц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6</vt:r8>
  </property>
</Properties>
</file>