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B927-DFF5-41CC-B228-E096098E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6675-B9A2-44AF-8A24-FE4258B5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53D03-2784-46E6-B133-B36E40A9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61B0-8B33-4A6A-A055-02D4E58F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ABC99-B736-4B81-89B2-798E5B48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CC61F-EC05-4EB6-9A4C-B21EAABD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88759-8EE0-4BE2-82B2-C0FEC375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DD00F-961B-432E-A2C3-57A1F5F0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5D319-5A8E-471B-8D15-7393BFB4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62E2D-2F04-47F3-99DE-E66FC9FF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508F0-4A1E-4F86-95AF-0E32BF62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A1AC-4E43-431A-9E13-5439453D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C5E67-A6A0-418B-83C3-12D445C7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253F9-0F00-413B-9A9D-C186D504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24AD4-CC64-4D0E-AC9F-910EE355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04EFA-CC26-46FC-9824-3A41BC8E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A31AC-8488-4DAC-9F64-405B84FF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8C3C9-A186-472E-AF44-4D222C18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01187-2B80-4C6E-BAA4-1590F49C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90782-D63E-4448-A05F-83D8F5CF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94EF5-C9FD-4038-ABF7-A849C57B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5357F-DEF7-4BEB-9444-A3000F91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ECC95-D3A6-4E48-A272-89C3D6E5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FC34A-F0F9-4683-A913-C5F2FE5B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8B797-A116-4060-8C19-230A2A9A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30F24-1D1E-4D02-BADB-6B5FA38B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022F1-1EBF-4CC3-9140-95C0393A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1BCC2-F731-49CB-BE2F-D7C8873B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FF6FD-863F-49D0-8920-9384F773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6B6BF-A77C-49EC-A62D-FA57BFA0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97C57-DEA6-40B2-8B2D-BE99BDF3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A51F-6061-4B00-A182-706081D6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C7A57-240E-41CF-A32C-09A6746F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792A3-6BE0-41B6-83ED-256A7207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D6BD4-F1D1-4314-9515-BE5C8242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F8983-D269-45B8-BA07-BD726DC2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36CC6-FF97-4F54-8776-4A35EF3B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F78A5-8806-44E7-A06B-F1209AE2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D8937-B07A-40C1-BBD4-4259C89C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F00DA-C823-44BD-9B09-ED065A28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4AC49-7987-405C-9291-F28E8B51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09CF-E225-459C-ADC5-73927945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A2714-8605-4869-8B97-9C9F78A1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02DC-B809-4641-958C-546BD522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222E-821B-44DB-984E-E3F89595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DC7C-FE18-491A-9747-F67B36EB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C602-A2F2-4792-A3DD-F98EB304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0409-F5A9-4EC1-B3C4-AB21E3CF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857E7FC-ED8F-4548-B5CE-69D16C1A390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B046A08-F908-4DF0-86E9-AF937E39A65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457200"/>
            <a:ext cx="62481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81680" y="1600200"/>
            <a:ext cx="1983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6781680" y="457200"/>
            <a:ext cx="198072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52" strike="noStrike">
                <a:solidFill>
                  <a:srgbClr val="fefac9"/>
                </a:solidFill>
                <a:latin typeface="Constantia"/>
              </a:rPr>
              <a:t>Образец заголовка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DFA4C98-19A3-4DE7-B4EB-8DD7E5F7FB1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6DC6CCF-0696-49A5-99FE-4C2C6B9D5F7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Движение Земли вокруг Солнц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57132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) Глобус – это...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разрисованный мяч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) модель Земли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модель Луны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Рисунок 3" descr="1191269243_c4132.jpg"/>
          <p:cNvPicPr/>
          <p:nvPr/>
        </p:nvPicPr>
        <p:blipFill>
          <a:blip r:embed="rId1"/>
          <a:stretch/>
        </p:blipFill>
        <p:spPr>
          <a:xfrm>
            <a:off x="6072120" y="2357280"/>
            <a:ext cx="212364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85840" y="1571760"/>
            <a:ext cx="82292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) Экватор делит земной шар: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на 3 полушария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) на 2 полушария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на 4 полушария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Рисунок 3" descr="anim_0006.gif"/>
          <p:cNvPicPr/>
          <p:nvPr/>
        </p:nvPicPr>
        <p:blipFill>
          <a:blip r:embed="rId1"/>
          <a:stretch/>
        </p:blipFill>
        <p:spPr>
          <a:xfrm>
            <a:off x="6286680" y="4643280"/>
            <a:ext cx="1316520" cy="14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240" cy="57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) Солнце – это..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а) звезд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) планет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спутник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Рисунок 3" descr="motyl06.gif"/>
          <p:cNvPicPr/>
          <p:nvPr/>
        </p:nvPicPr>
        <p:blipFill>
          <a:blip r:embed="rId1"/>
          <a:stretch/>
        </p:blipFill>
        <p:spPr>
          <a:xfrm>
            <a:off x="4788360" y="3643200"/>
            <a:ext cx="256932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571320"/>
            <a:ext cx="822924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) Звезда, которую можно увидеть днем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Венер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) Лун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) Солнц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Рисунок 3" descr="40354586_0_17ebe_5e54430c_XL.jpg"/>
          <p:cNvPicPr/>
          <p:nvPr/>
        </p:nvPicPr>
        <p:blipFill>
          <a:blip r:embed="rId1"/>
          <a:stretch/>
        </p:blipFill>
        <p:spPr>
          <a:xfrm>
            <a:off x="2928960" y="2286000"/>
            <a:ext cx="520668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240" cy="58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)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емной год – это…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360 дней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) 300 дней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) 365 дней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Рисунок 3" descr="3d_ship.gif"/>
          <p:cNvPicPr/>
          <p:nvPr/>
        </p:nvPicPr>
        <p:blipFill>
          <a:blip r:embed="rId1"/>
          <a:stretch/>
        </p:blipFill>
        <p:spPr>
          <a:xfrm>
            <a:off x="3286080" y="2000160"/>
            <a:ext cx="36428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642960"/>
            <a:ext cx="8229240" cy="54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7) Солнце восходит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на юге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) на востоке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на север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Рисунок 4" descr="1266420003_14faa0f91196.jpg"/>
          <p:cNvPicPr/>
          <p:nvPr/>
        </p:nvPicPr>
        <p:blipFill>
          <a:blip r:embed="rId1"/>
          <a:stretch/>
        </p:blipFill>
        <p:spPr>
          <a:xfrm>
            <a:off x="4143240" y="3107520"/>
            <a:ext cx="423828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71320" y="428760"/>
            <a:ext cx="822924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8) Смена времен года происходит…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если Земля сделает оборот вокруг своей оси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) если Земля сделает оборот вокруг Солнц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если Земля сделает оборот вокруг Луны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Рисунок 3" descr="p24_sun-system.jpg"/>
          <p:cNvPicPr/>
          <p:nvPr/>
        </p:nvPicPr>
        <p:blipFill>
          <a:blip r:embed="rId1"/>
          <a:stretch/>
        </p:blipFill>
        <p:spPr>
          <a:xfrm>
            <a:off x="4572000" y="3714840"/>
            <a:ext cx="4105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3" descr="planets_11.jpg"/>
          <p:cNvPicPr/>
          <p:nvPr/>
        </p:nvPicPr>
        <p:blipFill>
          <a:blip r:embed="rId1"/>
          <a:stretch/>
        </p:blipFill>
        <p:spPr>
          <a:xfrm>
            <a:off x="1857240" y="1523880"/>
            <a:ext cx="5000400" cy="5047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Вспомните имя каждой планеты. Сколько их?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4" descr="рассвет.jpg"/>
          <p:cNvPicPr/>
          <p:nvPr/>
        </p:nvPicPr>
        <p:blipFill>
          <a:blip r:embed="rId1"/>
          <a:stretch/>
        </p:blipFill>
        <p:spPr>
          <a:xfrm>
            <a:off x="495360" y="1000080"/>
            <a:ext cx="6381360" cy="4785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781680" y="1600200"/>
            <a:ext cx="1983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Без него плачемся,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А как появится-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т него прячемся.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781680" y="457200"/>
            <a:ext cx="198072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buNone/>
            </a:pPr>
            <a:endParaRPr b="1" lang="en-US" sz="1800" spc="-52" strike="noStrike">
              <a:solidFill>
                <a:srgbClr val="fefac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6" name="Содержимое 4" descr="1251476244_659395.jpg"/>
          <p:cNvPicPr/>
          <p:nvPr/>
        </p:nvPicPr>
        <p:blipFill>
          <a:blip r:embed="rId1"/>
          <a:stretch/>
        </p:blipFill>
        <p:spPr>
          <a:xfrm>
            <a:off x="571320" y="1143000"/>
            <a:ext cx="4643280" cy="5025240"/>
          </a:xfrm>
          <a:prstGeom prst="rect">
            <a:avLst/>
          </a:prstGeom>
          <a:ln w="0">
            <a:noFill/>
          </a:ln>
        </p:spPr>
      </p:pic>
      <p:pic>
        <p:nvPicPr>
          <p:cNvPr id="177" name="Содержимое 5" descr="35711052_962.jpg"/>
          <p:cNvPicPr/>
          <p:nvPr/>
        </p:nvPicPr>
        <p:blipFill>
          <a:blip r:embed="rId2"/>
          <a:stretch/>
        </p:blipFill>
        <p:spPr>
          <a:xfrm>
            <a:off x="4357800" y="1428840"/>
            <a:ext cx="4349520" cy="4285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5894.jpg"/>
          <p:cNvPicPr/>
          <p:nvPr/>
        </p:nvPicPr>
        <p:blipFill>
          <a:blip r:embed="rId3"/>
          <a:stretch/>
        </p:blipFill>
        <p:spPr>
          <a:xfrm>
            <a:off x="500040" y="428760"/>
            <a:ext cx="7714800" cy="5786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7" descr="1266420003_14faa0f91196.jpg"/>
          <p:cNvPicPr/>
          <p:nvPr/>
        </p:nvPicPr>
        <p:blipFill>
          <a:blip r:embed="rId4"/>
          <a:stretch/>
        </p:blipFill>
        <p:spPr>
          <a:xfrm>
            <a:off x="762120" y="571680"/>
            <a:ext cx="761976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одержимое 3" descr="1-1-Plan1.jpg"/>
          <p:cNvPicPr/>
          <p:nvPr/>
        </p:nvPicPr>
        <p:blipFill>
          <a:blip r:embed="rId1"/>
          <a:stretch/>
        </p:blipFill>
        <p:spPr>
          <a:xfrm>
            <a:off x="722160" y="1500120"/>
            <a:ext cx="7992720" cy="5071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Вращение  Земли вокруг Солнц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одержимое 3" descr="picture.jpg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2384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5" name="Содержимое 4" descr="autumn.jpg"/>
          <p:cNvPicPr/>
          <p:nvPr/>
        </p:nvPicPr>
        <p:blipFill>
          <a:blip r:embed="rId1"/>
          <a:stretch/>
        </p:blipFill>
        <p:spPr>
          <a:xfrm>
            <a:off x="357120" y="393840"/>
            <a:ext cx="6500520" cy="592164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7" descr="0_3b813_b8335744_XL.jpg"/>
          <p:cNvPicPr/>
          <p:nvPr/>
        </p:nvPicPr>
        <p:blipFill>
          <a:blip r:embed="rId2"/>
          <a:stretch/>
        </p:blipFill>
        <p:spPr>
          <a:xfrm>
            <a:off x="3071880" y="531720"/>
            <a:ext cx="56354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8" name="Содержимое 4" descr="77195_prev_425.jpg"/>
          <p:cNvPicPr/>
          <p:nvPr/>
        </p:nvPicPr>
        <p:blipFill>
          <a:blip r:embed="rId1"/>
          <a:stretch/>
        </p:blipFill>
        <p:spPr>
          <a:xfrm>
            <a:off x="457200" y="714240"/>
            <a:ext cx="4900320" cy="528588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5" descr="0_1f217_293f200a_XL.jpg"/>
          <p:cNvPicPr/>
          <p:nvPr/>
        </p:nvPicPr>
        <p:blipFill>
          <a:blip r:embed="rId2"/>
          <a:stretch/>
        </p:blipFill>
        <p:spPr>
          <a:xfrm>
            <a:off x="2264400" y="500040"/>
            <a:ext cx="6442560" cy="48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257680" cy="43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) Земля вращается вокруг…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) Солнца;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) оси;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) экватора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т чего зависит смена времен года?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Рисунок 4" descr="children.jpg"/>
          <p:cNvPicPr/>
          <p:nvPr/>
        </p:nvPicPr>
        <p:blipFill>
          <a:blip r:embed="rId1"/>
          <a:stretch/>
        </p:blipFill>
        <p:spPr>
          <a:xfrm>
            <a:off x="5715000" y="4429080"/>
            <a:ext cx="23428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64</TotalTime>
  <Application>LibreOffice/7.4.7.2$Linux_X86_64 LibreOffice_project/40$Build-2</Application>
  <AppVersion>15.0000</AppVersion>
  <Words>213</Words>
  <Paragraphs>49</Paragraphs>
  <Company>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0:07:27Z</dcterms:created>
  <dc:creator>св</dc:creator>
  <dc:description/>
  <dc:language>en-US</dc:language>
  <cp:lastModifiedBy>св</cp:lastModifiedBy>
  <dcterms:modified xsi:type="dcterms:W3CDTF">2010-10-07T01:11:33Z</dcterms:modified>
  <cp:revision>7</cp:revision>
  <dc:subject/>
  <dc:title>Движение Земли вокруг Солн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