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E5FA-6E0D-43B3-A80E-8D990AB9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7F82-745A-447F-BE88-28ED7906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195F-C118-4D3E-970F-911B96AB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A2F6-F41F-4501-85AB-C8660A63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0286C-735F-48D0-B741-2713FE40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05CFB-6C8B-4718-9CF2-CB543AF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8D64A-BB86-4235-AE4A-29E39BA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7BA9B-F1BE-47D7-91D5-995E395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5B8F-DDD1-4C6B-89DD-43BF1B8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2D58-3B00-4503-BBED-F130436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7A584-7583-4C13-84ED-8541C28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895A-5BEE-4229-A61A-F178B522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3273E-42ED-40F6-9D22-03BCC20F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C813-2F24-44A8-B9FE-07328E8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F1BA-21EE-4BAC-9907-9B179879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737FE-D3A3-424A-A29D-FE230CE2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55EF-37AC-48B5-AF55-A24A6FCF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01F7C-6EC7-4839-BEBF-2C81C57D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AFF0E-58FB-4F9E-9305-5F7B92E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605E3-5AE8-4B37-B8B5-1A1FABD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EB0D-5525-47F4-A69F-514A2A3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98962-58A9-4EB9-9D4A-A1C3F2E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E286-C348-43F6-B9B2-820CEEC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65F34-AB35-46CC-BD9E-18C7535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5B394-E45F-4460-B52A-0EC346E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12286-9D28-4733-97DE-A69EF58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2A5A8-FC34-4633-A4D1-EB5A518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2DFCE-C4FA-408D-9831-8EC3138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31715-48A0-4C04-9C6A-FF90899E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621A8-2711-42B1-B101-21547B22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C323-F45A-478B-B2EA-D3F1D7A6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2751-67AD-425F-8E63-1AA2F1B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C3D3-CA51-43FA-A90D-797362E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6E13-6749-48A5-957A-127C2281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0313-5DD6-4B21-9482-2080BC3E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9E34-424E-4C8F-A4E1-FDFBC3D6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53F3-7B33-497A-9F59-A57629FB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57A6-1E03-4CC4-A762-4BA56FA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4D54-F0DE-463D-8FFB-6A9E11F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FEA9-F556-4916-B221-7180D05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15E7-02DB-4D20-8788-1A7C4FAF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49BC-5567-4AA5-A5CE-B2830CC2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ABA1-4166-4C46-80D3-F882CDA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FB1B-7757-43C1-B8B2-7CB441F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BDB4-9D3E-41C6-8B7F-CC857430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5FE0-F74F-4A34-9E89-41FB7F05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98AE-DB8B-428E-A39C-916830A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5080-4FE5-4248-861E-C5F17C1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D3F66F-62D5-416B-A8EC-628E7A33CFF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51D2C7-A6B9-42C8-9B47-E19C90301B3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FE59FE-B93A-48C4-A6F9-54131ABDCAC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773C4F-E077-44D0-8A3A-0910BAD8B6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Движение Земли вокруг Солнц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5713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) Глобус – это..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разрисованный мяч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модель Земл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модель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Рисунок 3" descr="1191269243_c4132.jpg"/>
          <p:cNvPicPr/>
          <p:nvPr/>
        </p:nvPicPr>
        <p:blipFill>
          <a:blip r:embed="rId1"/>
          <a:stretch/>
        </p:blipFill>
        <p:spPr>
          <a:xfrm>
            <a:off x="6072120" y="2357280"/>
            <a:ext cx="21236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229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Экватор делит земной шар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3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2 полушар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4 полушар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Рисунок 3" descr="anim_0006.gif"/>
          <p:cNvPicPr/>
          <p:nvPr/>
        </p:nvPicPr>
        <p:blipFill>
          <a:blip r:embed="rId1"/>
          <a:stretch/>
        </p:blipFill>
        <p:spPr>
          <a:xfrm>
            <a:off x="6286680" y="4643280"/>
            <a:ext cx="131652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Солнце – это..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а) звезд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планет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спутник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Рисунок 3" descr="motyl06.gif"/>
          <p:cNvPicPr/>
          <p:nvPr/>
        </p:nvPicPr>
        <p:blipFill>
          <a:blip r:embed="rId1"/>
          <a:stretch/>
        </p:blipFill>
        <p:spPr>
          <a:xfrm>
            <a:off x="4788360" y="3643200"/>
            <a:ext cx="25693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) Звезда, которую можно увидеть дне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Венер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Лун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Солнц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Рисунок 3" descr="40354586_0_17ebe_5e54430c_XL.jpg"/>
          <p:cNvPicPr/>
          <p:nvPr/>
        </p:nvPicPr>
        <p:blipFill>
          <a:blip r:embed="rId1"/>
          <a:stretch/>
        </p:blipFill>
        <p:spPr>
          <a:xfrm>
            <a:off x="2928960" y="2286000"/>
            <a:ext cx="520668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)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емной год – это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36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300 дней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) 365 дне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Рисунок 3" descr="3d_ship.gif"/>
          <p:cNvPicPr/>
          <p:nvPr/>
        </p:nvPicPr>
        <p:blipFill>
          <a:blip r:embed="rId1"/>
          <a:stretch/>
        </p:blipFill>
        <p:spPr>
          <a:xfrm>
            <a:off x="3286080" y="2000160"/>
            <a:ext cx="3642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7) Солнце восходит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на юг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на востоке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на север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Рисунок 4" descr="1266420003_14faa0f91196.jpg"/>
          <p:cNvPicPr/>
          <p:nvPr/>
        </p:nvPicPr>
        <p:blipFill>
          <a:blip r:embed="rId1"/>
          <a:stretch/>
        </p:blipFill>
        <p:spPr>
          <a:xfrm>
            <a:off x="4143240" y="3107520"/>
            <a:ext cx="42382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320" y="428760"/>
            <a:ext cx="822924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8) Смена времен года происходит…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если Земля сделает оборот вокруг своей ос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) если Земля сделает оборот вокруг Солнца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если Земля сделает оборот вокруг Лун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p24_sun-system.jpg"/>
          <p:cNvPicPr/>
          <p:nvPr/>
        </p:nvPicPr>
        <p:blipFill>
          <a:blip r:embed="rId1"/>
          <a:stretch/>
        </p:blipFill>
        <p:spPr>
          <a:xfrm>
            <a:off x="4572000" y="3714840"/>
            <a:ext cx="4105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planets_11.jpg"/>
          <p:cNvPicPr/>
          <p:nvPr/>
        </p:nvPicPr>
        <p:blipFill>
          <a:blip r:embed="rId1"/>
          <a:stretch/>
        </p:blipFill>
        <p:spPr>
          <a:xfrm>
            <a:off x="1857240" y="1523880"/>
            <a:ext cx="5000400" cy="5047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спомните имя каждой планеты. Сколько их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4" descr="рассвет.jpg"/>
          <p:cNvPicPr/>
          <p:nvPr/>
        </p:nvPicPr>
        <p:blipFill>
          <a:blip r:embed="rId1"/>
          <a:stretch/>
        </p:blipFill>
        <p:spPr>
          <a:xfrm>
            <a:off x="495360" y="1000080"/>
            <a:ext cx="6381360" cy="4785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Без него плачемся,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А как появится-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т него прячемся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buNone/>
            </a:pPr>
            <a:endParaRPr b="1" lang="en-US" sz="1800" spc="-52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6" name="Содержимое 4" descr="1251476244_659395.jpg"/>
          <p:cNvPicPr/>
          <p:nvPr/>
        </p:nvPicPr>
        <p:blipFill>
          <a:blip r:embed="rId1"/>
          <a:stretch/>
        </p:blipFill>
        <p:spPr>
          <a:xfrm>
            <a:off x="571320" y="1143000"/>
            <a:ext cx="4643280" cy="502524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5" descr="35711052_962.jpg"/>
          <p:cNvPicPr/>
          <p:nvPr/>
        </p:nvPicPr>
        <p:blipFill>
          <a:blip r:embed="rId2"/>
          <a:stretch/>
        </p:blipFill>
        <p:spPr>
          <a:xfrm>
            <a:off x="4357800" y="1428840"/>
            <a:ext cx="4349520" cy="4285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5894.jpg"/>
          <p:cNvPicPr/>
          <p:nvPr/>
        </p:nvPicPr>
        <p:blipFill>
          <a:blip r:embed="rId3"/>
          <a:stretch/>
        </p:blipFill>
        <p:spPr>
          <a:xfrm>
            <a:off x="500040" y="428760"/>
            <a:ext cx="7714800" cy="5786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266420003_14faa0f91196.jpg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1-1-Plan1.jpg"/>
          <p:cNvPicPr/>
          <p:nvPr/>
        </p:nvPicPr>
        <p:blipFill>
          <a:blip r:embed="rId1"/>
          <a:stretch/>
        </p:blipFill>
        <p:spPr>
          <a:xfrm>
            <a:off x="722160" y="1500120"/>
            <a:ext cx="7992720" cy="5071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Вращение  Земли вокруг Солнц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picture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38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5" name="Содержимое 4" descr="autumn.jpg"/>
          <p:cNvPicPr/>
          <p:nvPr/>
        </p:nvPicPr>
        <p:blipFill>
          <a:blip r:embed="rId1"/>
          <a:stretch/>
        </p:blipFill>
        <p:spPr>
          <a:xfrm>
            <a:off x="357120" y="393840"/>
            <a:ext cx="6500520" cy="592164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7" descr="0_3b813_b8335744_XL.jpg"/>
          <p:cNvPicPr/>
          <p:nvPr/>
        </p:nvPicPr>
        <p:blipFill>
          <a:blip r:embed="rId2"/>
          <a:stretch/>
        </p:blipFill>
        <p:spPr>
          <a:xfrm>
            <a:off x="3071880" y="531720"/>
            <a:ext cx="56354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8" name="Содержимое 4" descr="77195_prev_425.jpg"/>
          <p:cNvPicPr/>
          <p:nvPr/>
        </p:nvPicPr>
        <p:blipFill>
          <a:blip r:embed="rId1"/>
          <a:stretch/>
        </p:blipFill>
        <p:spPr>
          <a:xfrm>
            <a:off x="457200" y="714240"/>
            <a:ext cx="4900320" cy="528588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5" descr="0_1f217_293f200a_XL.jpg"/>
          <p:cNvPicPr/>
          <p:nvPr/>
        </p:nvPicPr>
        <p:blipFill>
          <a:blip r:embed="rId2"/>
          <a:stretch/>
        </p:blipFill>
        <p:spPr>
          <a:xfrm>
            <a:off x="2264400" y="500040"/>
            <a:ext cx="6442560" cy="48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57680" cy="43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) Земля вращается вокруг…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) Солнца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) оси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) экватора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т чего зависит смена времен года?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Рисунок 4" descr="children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428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64</TotalTime>
  <Application>LibreOffice/7.4.7.2$Linux_X86_64 LibreOffice_project/40$Build-2</Application>
  <AppVersion>15.0000</AppVersion>
  <Words>213</Words>
  <Paragraphs>49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0:07:27Z</dcterms:created>
  <dc:creator>св</dc:creator>
  <dc:description/>
  <dc:language>en-US</dc:language>
  <cp:lastModifiedBy>св</cp:lastModifiedBy>
  <dcterms:modified xsi:type="dcterms:W3CDTF">2010-10-07T01:11:33Z</dcterms:modified>
  <cp:revision>7</cp:revision>
  <dc:subject/>
  <dc:title>Движение Земли вокруг Солн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