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95D-17CD-4851-87E6-74854BDA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93F-F5A8-444A-B6DA-B6D3F682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F198-3264-47DD-B708-9172E931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AADF-C94F-459A-8917-5E6D8F1C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967-0995-4F16-BAC5-8B0204D0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14A-28AA-4DAE-8090-5FE5F40E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4990-44B5-4C6B-AF2A-9CAAA190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C4A-2756-49E4-B620-CD775FC6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935-8DD1-459B-9829-C0BE16BB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0B28-6493-4998-A6AF-3173840A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A8A-6C4B-45C0-838B-462E1D14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2F6-E1B0-4A40-A058-A9BEE005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7C90-1A0D-4B1C-9245-714264C6E5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28760" y="357120"/>
            <a:ext cx="835020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b05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Физминутка</a:t>
            </a:r>
            <a:endParaRPr b="1" lang="en-US" sz="1800" spc="1" strike="noStrike">
              <a:ln w="0">
                <a:noFill/>
              </a:ln>
              <a:solidFill>
                <a:srgbClr val="00b05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b05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ля глаз</a:t>
            </a:r>
            <a:endParaRPr b="1" lang="en-US" sz="1800" spc="1" strike="noStrike">
              <a:ln w="0">
                <a:noFill/>
              </a:ln>
              <a:solidFill>
                <a:srgbClr val="00b05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Рисунок 8" descr="глаза.gif"/>
          <p:cNvPicPr/>
          <p:nvPr/>
        </p:nvPicPr>
        <p:blipFill>
          <a:blip r:embed="rId1"/>
          <a:stretch/>
        </p:blipFill>
        <p:spPr>
          <a:xfrm>
            <a:off x="1428840" y="3357720"/>
            <a:ext cx="623412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13" descr=""/>
          <p:cNvPicPr/>
          <p:nvPr/>
        </p:nvPicPr>
        <p:blipFill>
          <a:blip r:embed="rId1"/>
          <a:stretch/>
        </p:blipFill>
        <p:spPr>
          <a:xfrm>
            <a:off x="907920" y="165240"/>
            <a:ext cx="7534440" cy="11271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2" descr="тттттттттттттттттттттттт.png"/>
          <p:cNvPicPr/>
          <p:nvPr/>
        </p:nvPicPr>
        <p:blipFill>
          <a:blip r:embed="rId2"/>
          <a:stretch/>
        </p:blipFill>
        <p:spPr>
          <a:xfrm>
            <a:off x="2071800" y="1500120"/>
            <a:ext cx="4500360" cy="438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06" descr="http://files.1september.ru/festival/articles/504367/img1.gif"/>
          <p:cNvPicPr/>
          <p:nvPr/>
        </p:nvPicPr>
        <p:blipFill>
          <a:blip r:embed="rId1"/>
          <a:stretch/>
        </p:blipFill>
        <p:spPr>
          <a:xfrm>
            <a:off x="6480" y="-30240"/>
            <a:ext cx="9124920" cy="6912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1" descr="тттттттттттттттттттттттт.png"/>
          <p:cNvPicPr/>
          <p:nvPr/>
        </p:nvPicPr>
        <p:blipFill>
          <a:blip r:embed="rId2"/>
          <a:stretch/>
        </p:blipFill>
        <p:spPr>
          <a:xfrm>
            <a:off x="214200" y="2643120"/>
            <a:ext cx="153684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path" presetID="0" repeatCount="6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2222E-006 C -1.38889E-006 -2.22222E-006 0.80208 -0.01459 0.80139 -0.01482 C 0.80069 -0.01505 -1.38889E-006 -2.22222E-006 -1.38889E-006 -2.22222E-006 Z">
                                      <p:cBhvr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06" descr="http://files.1september.ru/festival/articles/504367/img1.gif"/>
          <p:cNvPicPr/>
          <p:nvPr/>
        </p:nvPicPr>
        <p:blipFill>
          <a:blip r:embed="rId1"/>
          <a:stretch/>
        </p:blipFill>
        <p:spPr>
          <a:xfrm>
            <a:off x="6480" y="-30240"/>
            <a:ext cx="9124920" cy="6912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1" descr="тттттттттттттттттттттттт.png"/>
          <p:cNvPicPr/>
          <p:nvPr/>
        </p:nvPicPr>
        <p:blipFill>
          <a:blip r:embed="rId2"/>
          <a:stretch/>
        </p:blipFill>
        <p:spPr>
          <a:xfrm>
            <a:off x="71280" y="2664000"/>
            <a:ext cx="153684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0" repeatCount="6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92593E-006 C -0.00104 0.03332 0.00156 0.05069 0.0059 0.07916 C 0.01024 0.10763 0.01702 0.14513 0.02622 0.17129 C 0.03542 0.19744 0.04948 0.21666 0.06077 0.23633 C 0.07205 0.25601 0.07882 0.27337 0.0941 0.28888 C 0.10938 0.30439 0.13038 0.32059 0.15243 0.33008 C 0.17448 0.33957 0.19931 0.34143 0.22622 0.34559 C 0.25313 0.35022 0.28264 0.35508 0.31424 0.35694 C 0.34583 0.35879 0.38386 0.35763 0.41545 0.35694 C 0.44705 0.35624 0.47309 0.35601 0.50365 0.35231 C 0.5342 0.3486 0.56893 0.34189 0.59879 0.33471 C 0.62865 0.32754 0.65712 0.32684 0.68333 0.30948 C 0.70955 0.29212 0.7375 0.25832 0.7559 0.23008 C 0.77431 0.20184 0.78455 0.17106 0.7941 0.13957 C 0.80365 0.10809 0.80938 0.06805 0.8132 0.04119 C 0.81702 0.01434 0.81823 0.00555 0.81667 -0.02223 C 0.81511 -0.05001 0.8092 -0.09445 0.80365 -0.12547 C 0.79809 -0.15649 0.79445 -0.18056 0.78333 -0.20811 C 0.77222 -0.23566 0.75816 -0.26668 0.73698 -0.29052 C 0.7158 -0.31436 0.68889 -0.33728 0.6559 -0.35093 C 0.62292 -0.36459 0.57448 -0.3683 0.53924 -0.37316 C 0.50399 -0.37802 0.47778 -0.37941 0.4441 -0.37941 C 0.41042 -0.37941 0.37222 -0.37663 0.33698 -0.37316 C 0.30174 -0.36968 0.2658 -0.36668 0.23212 -0.35881 C 0.19844 -0.35093 0.16042 -0.34168 0.13455 -0.32547 C 0.10868 -0.30927 0.09445 -0.28566 0.07743 -0.26205 C 0.06042 -0.23843 0.04306 -0.20788 0.03212 -0.18427 C 0.02118 -0.16066 0.01771 -0.15024 0.01198 -0.12084 C 0.00625 -0.09144 0.00104 -0.03334 -1.11111E-006 -5.92593E-006 Z">
                                      <p:cBhvr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06" descr="http://files.1september.ru/festival/articles/504367/img1.gif"/>
          <p:cNvPicPr/>
          <p:nvPr/>
        </p:nvPicPr>
        <p:blipFill>
          <a:blip r:embed="rId1"/>
          <a:stretch/>
        </p:blipFill>
        <p:spPr>
          <a:xfrm>
            <a:off x="6480" y="-30240"/>
            <a:ext cx="9124920" cy="6912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1" descr="тттттттттттттттттттттттт.png"/>
          <p:cNvPicPr/>
          <p:nvPr/>
        </p:nvPicPr>
        <p:blipFill>
          <a:blip r:embed="rId2"/>
          <a:stretch/>
        </p:blipFill>
        <p:spPr>
          <a:xfrm>
            <a:off x="-144360" y="2664000"/>
            <a:ext cx="153648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path" presetID="0" repeatCount="6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C 0.00017 -0.02662 -0.00017 -0.05232 0.00486 -0.08241 C 0.0099 -0.11273 0.02101 -0.15394 0.02986 -0.18079 C 0.03872 -0.20787 0.0474 -0.22361 0.05833 -0.24445 C 0.06927 -0.26528 0.08021 -0.28796 0.09531 -0.30625 C 0.11042 -0.32454 0.1283 -0.34028 0.14896 -0.35394 C 0.16962 -0.36759 0.1934 -0.38056 0.2191 -0.38889 C 0.24462 -0.39722 0.27691 -0.39884 0.30365 -0.40463 C 0.33021 -0.41042 0.35729 -0.42083 0.37865 -0.42384 C 0.4 -0.42685 0.41181 -0.42315 0.43229 -0.42222 C 0.45261 -0.4213 0.47865 -0.4206 0.50122 -0.41898 C 0.52361 -0.41736 0.53889 -0.41644 0.56667 -0.41273 C 0.59427 -0.40903 0.63802 -0.40556 0.66667 -0.39676 C 0.69531 -0.38796 0.71667 -0.37639 0.7382 -0.36019 C 0.75972 -0.34398 0.77865 -0.3257 0.79531 -0.3 C 0.81198 -0.27431 0.82708 -0.23611 0.8382 -0.20625 C 0.84931 -0.17639 0.8566 -0.15347 0.86198 -0.12083 C 0.86736 -0.08796 0.87101 -0.05162 0.87031 -0.00949 C 0.86962 0.03264 0.86684 0.08958 0.85833 0.13148 C 0.84983 0.17338 0.83368 0.20995 0.8191 0.24143 C 0.80451 0.27292 0.78872 0.29977 0.77031 0.3206 C 0.75191 0.3412 0.73941 0.35324 0.70833 0.36667 C 0.67726 0.37986 0.62847 0.39329 0.58333 0.40162 C 0.5382 0.40972 0.48125 0.41435 0.43698 0.41574 C 0.39271 0.41713 0.35677 0.41319 0.31788 0.40926 C 0.27882 0.40555 0.23576 0.40347 0.20365 0.39375 C 0.17153 0.38403 0.14861 0.37083 0.125 0.35069 C 0.10139 0.33079 0.07847 0.30046 0.06198 0.27292 C 0.04549 0.24583 0.03594 0.22014 0.02622 0.18727 C 0.01649 0.1544 0.00799 0.10764 0.00365 0.07616 C -0.00069 0.04468 -0.00017 0.02639 -1.66667E-006 -4.07407E-006 Z">
                                      <p:cBhvr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06" descr="http://files.1september.ru/festival/articles/504367/img1.gif"/>
          <p:cNvPicPr/>
          <p:nvPr/>
        </p:nvPicPr>
        <p:blipFill>
          <a:blip r:embed="rId1"/>
          <a:stretch/>
        </p:blipFill>
        <p:spPr>
          <a:xfrm>
            <a:off x="6480" y="-30240"/>
            <a:ext cx="9124920" cy="6912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1" descr="тттттттттттттттттттттттт.png"/>
          <p:cNvPicPr/>
          <p:nvPr/>
        </p:nvPicPr>
        <p:blipFill>
          <a:blip r:embed="rId2"/>
          <a:stretch/>
        </p:blipFill>
        <p:spPr>
          <a:xfrm>
            <a:off x="3780000" y="2592360"/>
            <a:ext cx="153648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0" repeatCount="6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11111E-006 C -0.0033 0.02431 -0.00434 0.04676 -0.00955 0.0713 C -0.01476 0.09583 -0.02361 0.12593 -0.0309 0.14745 C -0.03819 0.16898 -0.04306 0.18102 -0.05347 0.2 C -0.06389 0.21898 -0.08142 0.24722 -0.09392 0.26181 C -0.10642 0.27639 -0.11476 0.27917 -0.12847 0.28727 C -0.14219 0.29537 -0.15938 0.30856 -0.17622 0.31111 C -0.19306 0.31366 -0.21267 0.3088 -0.22969 0.30301 C -0.2467 0.29722 -0.26267 0.28958 -0.27847 0.27616 C -0.29427 0.26273 -0.31111 0.24491 -0.325 0.22222 C -0.33889 0.19954 -0.35365 0.16736 -0.36181 0.13958 C -0.36997 0.11181 -0.37118 0.08472 -0.37379 0.05556 C -0.37639 0.02639 -0.38021 -0.0037 -0.37726 -0.03495 C -0.37431 -0.0662 -0.3658 -0.10208 -0.3559 -0.13171 C -0.34601 -0.16134 -0.33507 -0.18843 -0.31788 -0.21273 C -0.30069 -0.23704 -0.27587 -0.26482 -0.25226 -0.27778 C -0.22865 -0.29074 -0.19896 -0.29213 -0.17622 -0.29051 C -0.15347 -0.28889 -0.13368 -0.28056 -0.11545 -0.26829 C -0.09722 -0.25602 -0.07951 -0.23519 -0.06667 -0.21759 C -0.05382 -0.2 -0.04688 -0.18912 -0.03802 -0.16204 C -0.02917 -0.13495 -0.02326 -0.10417 -0.01302 -0.05556 C -0.00278 -0.00694 0.00694 0.08056 0.02378 0.13009 C 0.04062 0.17963 0.0658 0.21366 0.08819 0.2412 C 0.11059 0.26875 0.13142 0.28704 0.15833 0.29514 C 0.18524 0.30324 0.22326 0.30255 0.25 0.29051 C 0.27674 0.27847 0.3 0.24954 0.3191 0.22222 C 0.33819 0.19491 0.35365 0.16481 0.36441 0.12685 C 0.37517 0.08889 0.38299 0.03657 0.38333 -0.00486 C 0.38368 -0.0463 0.37604 -0.08796 0.36667 -0.12222 C 0.35729 -0.15648 0.34323 -0.18519 0.32743 -0.21111 C 0.31163 -0.23704 0.2941 -0.26181 0.27153 -0.27778 C 0.24896 -0.29375 0.21771 -0.30671 0.19167 -0.30648 C 0.16562 -0.30625 0.13733 -0.29236 0.11528 -0.27616 C 0.09358 -0.25995 0.07535 -0.23357 0.06076 -0.20949 C 0.04618 -0.18542 0.03576 -0.15417 0.02743 -0.13171 C 0.0191 -0.10926 0.01562 -0.09699 0.01076 -0.07477 C 0.0059 -0.05255 0.0033 -0.02431 -3.61111E-006 -1.11111E-006 Z">
                                      <p:cBhvr>
                                        <p:cTn id="3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11" descr="тттттттттттттттттттттттт.png"/>
          <p:cNvPicPr/>
          <p:nvPr/>
        </p:nvPicPr>
        <p:blipFill>
          <a:blip r:embed="rId1"/>
          <a:stretch/>
        </p:blipFill>
        <p:spPr>
          <a:xfrm>
            <a:off x="2357280" y="1214280"/>
            <a:ext cx="4143600" cy="40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2" descr="711847780"/>
          <p:cNvPicPr/>
          <p:nvPr/>
        </p:nvPicPr>
        <p:blipFill>
          <a:blip r:embed="rId1"/>
          <a:stretch/>
        </p:blipFill>
        <p:spPr>
          <a:xfrm>
            <a:off x="642960" y="1785960"/>
            <a:ext cx="7923240" cy="37148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2" descr="тттттттттттттттттттттттт.png"/>
          <p:cNvPicPr/>
          <p:nvPr/>
        </p:nvPicPr>
        <p:blipFill>
          <a:blip r:embed="rId2"/>
          <a:stretch/>
        </p:blipFill>
        <p:spPr>
          <a:xfrm>
            <a:off x="500040" y="428760"/>
            <a:ext cx="1538280" cy="150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20:03:21Z</dcterms:created>
  <dc:creator>Ахматчина Н Г</dc:creator>
  <dc:description/>
  <dc:language>en-US</dc:language>
  <cp:lastModifiedBy>Ахматчина Н Г</cp:lastModifiedBy>
  <dcterms:modified xsi:type="dcterms:W3CDTF">2012-02-29T20:21:16Z</dcterms:modified>
  <cp:revision>2</cp:revision>
  <dc:subject/>
  <dc:title>Слайд 1</dc:title>
</cp:coreProperties>
</file>