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D414-9292-43D9-8534-0457A1E2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E6A-9128-45B2-A787-E6C6707D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D62-1A4A-407F-9412-BF9EF1F0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C43-62B3-429C-B058-EEC5E2E4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7A76-B980-43E9-8D97-7A2C67DF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5691-5334-4153-A47D-6643AE94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E59E-B3ED-4049-8D7C-3C5AE229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03A8-C6A0-4D37-A922-D1338A42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B7D8-1DA5-479D-B3D9-A725507C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640A-5DAE-4554-BD03-6EF1A078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9405-3039-4204-9C63-D6A57C95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0E25-F67D-4766-B883-9A809BC2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E9C2-4182-41AF-9CF2-571EE8F2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48D7-8A90-4EBE-9D37-E2BF737A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4EA5-4407-4E6C-A4E2-560ABF10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EB2A-5290-4F3F-A7B0-8D6EC631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B64B-6C24-4A6F-B94D-DD9AE53B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8C4-EBE3-427D-AFAD-9E88779F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32D-CE06-449D-A023-A582BBBC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18F-AFB1-4C32-B530-62D23F5A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3E2-3E00-483E-8E73-458C8CC9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180-BD8E-49EA-BDE0-8AA5E522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CE5-8DD7-455A-8BA1-BC824904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9EC8-AFE5-463C-97EC-078C6A75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2C2B-8B94-477A-A7EB-5B9C4EDAED7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1555-3213-4632-A4C0-0739DFB4F7B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285840"/>
            <a:ext cx="9001080" cy="62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 на тему: «ИЧР Петропавловского района и села Новотроицкого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    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Цели: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Исследовать качество жизни в    Петропавловском районе и             Новотроицком поселен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        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Проект  разработали: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Матлаева Екатерина                                                    Шулекина Юлия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57120" y="857160"/>
          <a:ext cx="8543880" cy="3291120"/>
        </p:xfrm>
        <a:graphic>
          <a:graphicData uri="http://schemas.openxmlformats.org/drawingml/2006/table">
            <a:tbl>
              <a:tblPr/>
              <a:tblGrid>
                <a:gridCol w="6664320"/>
                <a:gridCol w="1879560"/>
              </a:tblGrid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. Филиалов Сбербанка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. Школ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. Библиотек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. Домов Культуры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. Спортивных площадок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. Магазин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500040" y="285840"/>
            <a:ext cx="84726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Анк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Ф.И.О.Возра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Что в жизни для Вас наиболее значим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Какие проблемы стоят перед жителями Вашего населенного пун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Как можно решить проблему безработицы в селе Новотроицк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Какими качествами обладают жители Вашего с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 На основе личных впечатлений дайте описание дома Вашей сельской местности и его убра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. Чем отличается психология сельских жителей от городск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. Хотите ли Вы сменить место жительства. Дайте подробный от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9. Что такое по Вашему мнению «качественная жизнь», сделайте вывод о качестве нашей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пасибо за Ваши отве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уважением учащиеся МКОУ Новотроицкая СОШ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12" descr=""/>
          <p:cNvPicPr/>
          <p:nvPr/>
        </p:nvPicPr>
        <p:blipFill>
          <a:blip r:embed="rId1"/>
          <a:stretch/>
        </p:blipFill>
        <p:spPr>
          <a:xfrm>
            <a:off x="457200" y="384120"/>
            <a:ext cx="8229600" cy="1414440"/>
          </a:xfrm>
          <a:prstGeom prst="rect">
            <a:avLst/>
          </a:prstGeom>
          <a:ln w="0">
            <a:noFill/>
          </a:ln>
        </p:spPr>
      </p:pic>
      <p:grpSp>
        <p:nvGrpSpPr>
          <p:cNvPr id="100" name="Diagram 4"/>
          <p:cNvGrpSpPr/>
          <p:nvPr/>
        </p:nvGrpSpPr>
        <p:grpSpPr>
          <a:xfrm>
            <a:off x="3046680" y="1994760"/>
            <a:ext cx="3912840" cy="3641400"/>
            <a:chOff x="3046680" y="1994760"/>
            <a:chExt cx="3912840" cy="3641400"/>
          </a:xfrm>
        </p:grpSpPr>
        <p:sp>
          <p:nvSpPr>
            <p:cNvPr id="101" name="_s1028"/>
            <p:cNvSpPr/>
            <p:nvPr/>
          </p:nvSpPr>
          <p:spPr>
            <a:xfrm>
              <a:off x="3046680" y="3014640"/>
              <a:ext cx="2428920" cy="2621520"/>
            </a:xfrm>
            <a:prstGeom prst="donut">
              <a:avLst>
                <a:gd name="adj" fmla="val 16666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1029"/>
            <p:cNvSpPr/>
            <p:nvPr/>
          </p:nvSpPr>
          <p:spPr>
            <a:xfrm>
              <a:off x="6311880" y="3159720"/>
              <a:ext cx="647640" cy="5824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Район жилищ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1030"/>
            <p:cNvSpPr/>
            <p:nvPr/>
          </p:nvSpPr>
          <p:spPr>
            <a:xfrm>
              <a:off x="3450960" y="3450960"/>
              <a:ext cx="1619280" cy="1747440"/>
            </a:xfrm>
            <a:prstGeom prst="donut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1031"/>
            <p:cNvSpPr/>
            <p:nvPr/>
          </p:nvSpPr>
          <p:spPr>
            <a:xfrm>
              <a:off x="6311880" y="2577240"/>
              <a:ext cx="647640" cy="5824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Район торговл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1032"/>
            <p:cNvSpPr/>
            <p:nvPr/>
          </p:nvSpPr>
          <p:spPr>
            <a:xfrm>
              <a:off x="3856320" y="3888360"/>
              <a:ext cx="809640" cy="873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1033"/>
            <p:cNvSpPr/>
            <p:nvPr/>
          </p:nvSpPr>
          <p:spPr>
            <a:xfrm>
              <a:off x="6311880" y="1994760"/>
              <a:ext cx="647640" cy="5824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Центральный деловой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райо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сканирование0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28760" y="356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показатели качества жизн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о питания (состав продуктов, калорийность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оды населения (реальные и номинальные доходы на душу населения, показатели номинальной и реальной средней заработной платы, размер пенсии, величина прожиточного минимума, минимальный размер пенсии и заработной платы и т. п.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дность и качество одежды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о жилищных условий (площадь занимаемого жилья на одного жителя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о здравоохранения (число больничных коек на 1000 жителей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о услуг в социальной сфере (сфера услуг и отдых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о образования (количество обучающихся, число учебных заведений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о культурной сферы (культурные услуги, издание литературы, досуг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о окружающей среды (степень экологичности регионов и территорий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о сферы обслуживания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мографические показатели (средняя ожидаемая продолжительность жизни, тенденции в рождаемости, смертности, разводимости, брачности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зопасность жизнедеятельнос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689040" y="1212840"/>
            <a:ext cx="80946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Район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5105520" y="0"/>
            <a:ext cx="4038480" cy="64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эф. роста- 0,99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эф. прир.- 0,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мп роста- 9,8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5286240" y="1714680"/>
            <a:ext cx="385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ля населения старше 65 лет- 48 %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ля населения моложе 15 лет- 11%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ля ЭАН- 58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Район"/>
          <p:cNvPicPr/>
          <p:nvPr/>
        </p:nvPicPr>
        <p:blipFill>
          <a:blip r:embed="rId1"/>
          <a:stretch/>
        </p:blipFill>
        <p:spPr>
          <a:xfrm>
            <a:off x="0" y="0"/>
            <a:ext cx="52610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3"/>
          <p:cNvSpPr/>
          <p:nvPr/>
        </p:nvSpPr>
        <p:spPr>
          <a:xfrm>
            <a:off x="5148360" y="0"/>
            <a:ext cx="39956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ладельцев сайтов -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тернет пользователей -3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К на 100 чел-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лефонна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язь на 100 чел -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18/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Район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5332320" y="1285920"/>
            <a:ext cx="352584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левизоров на 1000 чел – 5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итьевая вода- 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рачей на  100  чел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мобилей на 1000 чел- 2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Район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5072040" y="357120"/>
            <a:ext cx="3714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ний брачный возраст –(м)- 21, (ж)- 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поисках лучшей жизни -329 ч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сшее образование -9,1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неспециальное -31,3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немесячная номинальная начисленна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З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- 5671 ру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42920" y="360360"/>
          <a:ext cx="8029440" cy="6497640"/>
        </p:xfrm>
        <a:graphic>
          <a:graphicData uri="http://schemas.openxmlformats.org/drawingml/2006/table">
            <a:tbl>
              <a:tblPr/>
              <a:tblGrid>
                <a:gridCol w="6932520"/>
                <a:gridCol w="1096920"/>
              </a:tblGrid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Количество автомобиле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Абонентов телефонной связи (проводных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Персональных компьютер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Линий интернета (в том числ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 (5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Количество электроэнергии на 1 человека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,2 кВ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Кирпичных домов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 Деревянных домов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 Количество лиц, имеющих высшее образование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 Количество лиц со среднеспециальным образованием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 Газифицировано подвори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Прямоугольник 4"/>
          <p:cNvSpPr/>
          <p:nvPr/>
        </p:nvSpPr>
        <p:spPr>
          <a:xfrm>
            <a:off x="2857680" y="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чество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914400" y="357120"/>
          <a:ext cx="8229600" cy="5761080"/>
        </p:xfrm>
        <a:graphic>
          <a:graphicData uri="http://schemas.openxmlformats.org/drawingml/2006/table">
            <a:tbl>
              <a:tblPr/>
              <a:tblGrid>
                <a:gridCol w="6408720"/>
                <a:gridCol w="1820880"/>
              </a:tblGrid>
              <a:tr h="8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 Подворий, имеющих центральный водопровод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 Военнослужащих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. Студентов ВУЗов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 Студентов СУЗов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 Осмотр флюрографии   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. Онкоосмотры   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. Привито (взрослые-дети)   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 - 93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 Льготников (федеральных-местных)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 - 78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. Младенческая смертность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. ФАП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. Почтовых отделений связи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09:53:31Z</dcterms:created>
  <dc:creator>user</dc:creator>
  <dc:description/>
  <dc:language>en-US</dc:language>
  <cp:lastModifiedBy>Сергей Осадчий</cp:lastModifiedBy>
  <dcterms:modified xsi:type="dcterms:W3CDTF">2019-10-07T18:47:04Z</dcterms:modified>
  <cp:revision>4</cp:revision>
  <dc:subject/>
  <dc:title>Слайд 1</dc:title>
</cp:coreProperties>
</file>