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gif" ContentType="image/gif"/>
  <Override PartName="/ppt/media/image2.png" ContentType="image/png"/>
  <Override PartName="/ppt/media/image11.jpeg" ContentType="image/jpeg"/>
  <Override PartName="/ppt/media/image9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D9-DE50-4074-A7BA-9FC6DCDA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284-1E69-4B74-A99A-6C9BD81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3BD-614B-442E-8EF4-F319926A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932-B8CD-4FC9-8230-2D2F23DC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B19-AC91-4DF5-8402-68BDBE49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AEDE-B81A-4D1B-A1A2-956CD48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A98-8061-422D-B298-880A3E0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1F12-ACB4-40AE-879C-4B9C7A2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41CC-9DEF-415E-9274-11FEE85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B38D-F193-49C3-B714-0DBB6790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018-744B-475B-9C74-02A3D695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B33-D086-45D5-8FD0-1496EFB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11B3-9D79-495E-BE4A-15BBACF7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865E-A6ED-4C25-A998-C59811C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C76-3A7F-4CAA-A768-A08BBA69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0A4-D45F-4C0C-9467-91F4CCF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69C-61BA-44FF-ADB7-401EB123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6087-6D64-47CD-B404-F25D8A5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6503-2CEC-46B3-AED7-AF7E337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0035-3875-480E-A8D2-F049712A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F106-2E36-4F0D-8CEA-99CC8C7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ACAE-ECBB-406E-81D6-CAC8EF3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5FD-1790-48DB-9B0B-D545537C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2B91-B7AA-43F7-87B0-D69937F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7ED9-A351-4182-AA1C-BABF7E9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CBA5-FC51-4F22-A402-C96603B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1B9E-AF90-4E3F-B73A-31C34B3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DAB6-6ED2-404D-B5FF-3245534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E70F-A9B2-4B14-A869-698FEA47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5EB3-3681-4854-8C6B-67A998E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DB7F-6555-4209-8976-79B6F29D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A3DC-2895-49E6-A084-720D7BCA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B212-529A-4FDF-B791-34D6B9BE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88F-24D9-46BB-A203-71FEC344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FAA1-644B-4539-86E0-CC2F1DFC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8DFC-4CD1-4738-B0A7-28D6227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5361-C10D-47B2-997F-B5369F8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1C93-FBE1-4879-90B0-AD51A5E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4CA4-1BD2-490C-A6FE-A718672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2680-B40F-477A-AF02-8072E8C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6A5C-C511-44DD-BD71-561CE9B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7EBD3-B318-496F-833D-DF0A7075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FA02-215C-47C6-9D9C-3A9AF87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90F6-25AD-468C-AB91-8ADBBE62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700-98A7-4ABA-8745-14571C76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A978-9D0F-4EAF-956C-953E9812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2693-95EB-4862-B6B7-97CE5FA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137C-D2A9-429F-976D-59CD7F9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FE362-7676-4095-89C8-4E67E32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F96D-F203-4EA7-B426-EA53DF03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785C-8E5A-4B94-8330-DE403C6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70CE-9975-48DE-A614-C47BFED7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A128-FA06-4581-8EDF-7499ED2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7FBC-6DEA-4703-B030-9C0F228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2D1D-7254-452B-A801-B8BC229D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410-3711-4B16-9B24-1ACCF15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CD8E-66C7-4CCF-A33A-88E7B524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6C7B-A92F-4F22-85FC-E442631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61D7-E534-4B5E-A3F5-05062207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A818-E84A-4026-B8AF-715D1ACE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CCEE-4D4B-47C0-82B6-6FACCF49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A610-8EFD-49B9-A501-C1FEEA00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778B-68A6-405E-84B8-CE17E85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3EEF2-8A31-4D48-9C5E-0292833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AA47-FA1A-44DC-9E9C-39988E4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D9E3-DD47-4C77-86C6-D6D69C2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490-249D-49EB-9683-1D3C858E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42A7-FAF3-4318-9DD2-2018F07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0988-487A-4F12-BEC0-3C1BC9BD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AEB3-F17F-44B7-86C0-E2109FB5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B922-81A6-4970-9CD7-5865F7A9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371E-6E25-40CD-AEE5-E8DD26D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A5D1-C97A-4606-9E28-A56CE50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2BC1-A09C-49D2-8FEC-ACDA8BA6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FCA7-4020-4F1B-BC33-F4A76881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7FAB-27A8-4A22-A450-8EFE55B3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6AB9-0379-44C2-A336-9F9DB75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C5B-2F71-4248-8A00-58F0327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B2AD-15B3-4C9A-B854-B0A417A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9E58-0253-4EA1-8C15-A1CBC812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C7D3-FD46-4D70-BA72-C730A43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39D4-6253-4C0E-9433-FB49B14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0843-697B-490A-BF76-4D24A6F7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B35-E805-4E7E-A386-27D980B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7DFB-58B5-441B-960D-46F06A10A2F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ECA-3FC8-4543-9DE8-4373E8F7CCA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942-B99C-46A1-88BB-78E436BA448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157F-61B5-4A46-829E-568052830CF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51DE-A27E-4541-BB44-88B6A119501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0E1-B465-4A70-ADB3-A433DBDB565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98C2-BD4D-491C-BB33-BAB6CB0BF59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"..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knowledge is the key to achievement of our dreams "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Klementiev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…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я в душу соберу стран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 названьем кратким -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u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. Вознесенск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Unit -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одуль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ystem unit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истемный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оду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preadsheet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электронна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atabase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аза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loppy disk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ибкий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ис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vice -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cessing unit -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otherboard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истемна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ла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nd now translate these words into English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лавиатура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– keyboar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Жидкокристаллический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исплей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– liquid crystal displa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оутбук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– The laptop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енсорна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анель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- The touch pan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Жесткий диск – hard disk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перативная память –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Operative memo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тоянное запоминающее устройство –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nstant memo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Цифровой видеодиск - digital video dis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57200" y="1785960"/>
            <a:ext cx="74073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Изобретения, которые потрясли мир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428720" y="4214880"/>
            <a:ext cx="4481640" cy="1071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рок английского языка и информат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429080" y="5500800"/>
            <a:ext cx="44816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овели: Хоокуй-оол А.А. – учитель английского языка, Хоокуй-оол О.О. – 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3010"/>
          <p:cNvPicPr/>
          <p:nvPr/>
        </p:nvPicPr>
        <p:blipFill>
          <a:blip r:embed="rId1"/>
          <a:stretch/>
        </p:blipFill>
        <p:spPr>
          <a:xfrm>
            <a:off x="755640" y="692280"/>
            <a:ext cx="2084400" cy="1303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микроволновка"/>
          <p:cNvPicPr/>
          <p:nvPr/>
        </p:nvPicPr>
        <p:blipFill>
          <a:blip r:embed="rId2"/>
          <a:stretch/>
        </p:blipFill>
        <p:spPr>
          <a:xfrm>
            <a:off x="2714760" y="1785960"/>
            <a:ext cx="2084400" cy="1303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сотовый телефон"/>
          <p:cNvPicPr/>
          <p:nvPr/>
        </p:nvPicPr>
        <p:blipFill>
          <a:blip r:embed="rId3"/>
          <a:stretch/>
        </p:blipFill>
        <p:spPr>
          <a:xfrm>
            <a:off x="4284720" y="333360"/>
            <a:ext cx="2155680" cy="1347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71013974_s"/>
          <p:cNvPicPr/>
          <p:nvPr/>
        </p:nvPicPr>
        <p:blipFill>
          <a:blip r:embed="rId4"/>
          <a:stretch/>
        </p:blipFill>
        <p:spPr>
          <a:xfrm>
            <a:off x="6357960" y="1785960"/>
            <a:ext cx="2201760" cy="1671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пылесос"/>
          <p:cNvPicPr/>
          <p:nvPr/>
        </p:nvPicPr>
        <p:blipFill>
          <a:blip r:embed="rId5"/>
          <a:stretch/>
        </p:blipFill>
        <p:spPr>
          <a:xfrm>
            <a:off x="785880" y="3000240"/>
            <a:ext cx="2371680" cy="1482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4002"/>
          <p:cNvPicPr/>
          <p:nvPr/>
        </p:nvPicPr>
        <p:blipFill>
          <a:blip r:embed="rId6"/>
          <a:stretch/>
        </p:blipFill>
        <p:spPr>
          <a:xfrm>
            <a:off x="4143240" y="3214800"/>
            <a:ext cx="2227320" cy="1392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факс"/>
          <p:cNvPicPr/>
          <p:nvPr/>
        </p:nvPicPr>
        <p:blipFill>
          <a:blip r:embed="rId7"/>
          <a:stretch/>
        </p:blipFill>
        <p:spPr>
          <a:xfrm>
            <a:off x="2000160" y="4786200"/>
            <a:ext cx="2432160" cy="1521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холодильник"/>
          <p:cNvPicPr/>
          <p:nvPr/>
        </p:nvPicPr>
        <p:blipFill>
          <a:blip r:embed="rId8"/>
          <a:stretch/>
        </p:blipFill>
        <p:spPr>
          <a:xfrm>
            <a:off x="5572080" y="4643280"/>
            <a:ext cx="300996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1" descr="PC.jpg"/>
          <p:cNvPicPr/>
          <p:nvPr/>
        </p:nvPicPr>
        <p:blipFill>
          <a:blip r:embed="rId1"/>
          <a:stretch/>
        </p:blipFill>
        <p:spPr>
          <a:xfrm>
            <a:off x="1071720" y="1500120"/>
            <a:ext cx="790560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11280" y="765000"/>
          <a:ext cx="7993080" cy="598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799308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611280" y="333360"/>
            <a:ext cx="78184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классическую архитектуру персонального компью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ини-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1500120"/>
            <a:ext cx="178596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1. Inp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2. A mous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3. Keyboa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4. Softwa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5. Hardwa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6. Scann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7. RA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nguiat-Tuva"/>
              </a:rPr>
              <a:t>8. RO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714400" y="1357200"/>
            <a:ext cx="6072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a. The data and instructions that a computer receiv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b. The computer’s machinery – the parts you can see and touch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c. The most common way to enter data into a compu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d. All the facts and the lists of instructions that a computer receives in order to carry out its task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e. A hand-operated input device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f. The eyes of the compu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g. Holds a store of programs which tell the computer how to work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h. Stores data and instructions while the computer is turned on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Проверка ответов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643040" y="2447280"/>
            <a:ext cx="6910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и оц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рных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5-6 верных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 верных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938160"/>
            <a:ext cx="7437240" cy="16462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hello_html_3c7fdfc5.gif"/>
          <p:cNvPicPr/>
          <p:nvPr/>
        </p:nvPicPr>
        <p:blipFill>
          <a:blip r:embed="rId2"/>
          <a:stretch/>
        </p:blipFill>
        <p:spPr>
          <a:xfrm>
            <a:off x="3000240" y="240516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ni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ystem uni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preadsheet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atabase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oppy disk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cessing uni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therboard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лавиатур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Жидкокристаллический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исп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оутбук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енсорная панел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Жесткий диск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перативная памя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стоянное запоминающее устройств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ифровой видеодис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7:32:18Z</dcterms:created>
  <dc:creator>Светлана</dc:creator>
  <dc:description/>
  <dc:language>en-US</dc:language>
  <cp:lastModifiedBy>user</cp:lastModifiedBy>
  <dcterms:modified xsi:type="dcterms:W3CDTF">2019-02-17T12:38:16Z</dcterms:modified>
  <cp:revision>28</cp:revision>
  <dc:subject/>
  <dc:title>Слайд 1</dc:title>
</cp:coreProperties>
</file>