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4AD7-CC5B-4F50-86E3-29DEDD13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EE9C-BD7C-4521-8A58-54512CF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4CB6-56D5-4176-8764-A71DB49E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7F73-5E95-4A16-9F2E-79C25826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41C2-5781-4335-8F0A-4B79FA61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F886-FDDE-408C-8875-6FC6E05B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88A-5112-4827-B8A4-5179155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48B-FE4F-472B-8526-4224031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7FD6-A7F1-436F-8FEF-63928BC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F50-C3B4-4571-BA00-D8C03294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F19-32FC-43EC-BB5C-A0B5C6C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458C-7558-4FF2-B36F-2E0F7B93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632D-3A3A-4EA9-AD14-6BC713A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4D04-C179-427E-9FAF-8B0B896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EE47-F4C4-4C13-A6DB-53271F2C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0D7E-4AF8-433E-BDB0-C0D1B4E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16B1-B31A-4B94-842A-40BD242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4675-6983-4624-8B5B-1579FC18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183A-7E81-48CE-B590-3CD918CB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BBBF-B78A-4725-A65B-9C5F09F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95A3-0F60-4AC8-92E0-A1E3BD7F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F158-C4CB-49ED-A166-2EC632B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1934-80EF-4F28-AFEE-08FEBD6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0EC1-6B93-4CC3-8D00-11DCD27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827-6322-407A-81A4-E0A64CECA9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457-E778-4CD7-8F8E-D7C340DE49B1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Личные окончания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глагол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08360" y="4266720"/>
            <a:ext cx="528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Таблицы для уроков русского языка в 5 класс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-73080" y="291960"/>
            <a:ext cx="91378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0563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пряжением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называется изменение глаголов 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по лицам и числ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Глаголы имеют два спряжения,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-е и 2-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спряже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глагол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–у (-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оть, -еть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ать,  -я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ут,(-ют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 спряже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се глаголы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–ить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оме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брить, стелить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ышать, дышать, держать, гн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мотреть, видеть, обидеть, ненавидеть, терпеть, вертеть, зависе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Стрелка влево 5"/>
          <p:cNvSpPr/>
          <p:nvPr/>
        </p:nvSpPr>
        <p:spPr>
          <a:xfrm>
            <a:off x="4214880" y="3000240"/>
            <a:ext cx="1143000" cy="21456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Личные окончания глаголов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1 с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40384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Я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ы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она, он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920" y="3212640"/>
            <a:ext cx="40388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ы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ы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и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ет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116000" y="1989000"/>
            <a:ext cx="2808360" cy="432000"/>
          </a:xfrm>
          <a:prstGeom prst="rect">
            <a:avLst/>
          </a:prstGeom>
          <a:gradFill rotWithShape="0">
            <a:gsLst>
              <a:gs pos="0">
                <a:srgbClr val="4a79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ствен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286240" y="2000160"/>
            <a:ext cx="2808360" cy="432000"/>
          </a:xfrm>
          <a:prstGeom prst="rect">
            <a:avLst/>
          </a:prstGeom>
          <a:gradFill rotWithShape="0">
            <a:gsLst>
              <a:gs pos="0">
                <a:srgbClr val="4a79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ожествен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 л         -  у (-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л    -         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 л    -         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 л    -        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л    -         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 л    -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у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 (-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ю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843280" y="2781360"/>
            <a:ext cx="792000" cy="21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16360" y="2781360"/>
            <a:ext cx="64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403280" y="220500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00000" y="2276640"/>
            <a:ext cx="432000" cy="12236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3080" y="2276640"/>
            <a:ext cx="4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1403280" y="38606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900000" y="3933720"/>
            <a:ext cx="432000" cy="12956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5867280" y="1989000"/>
            <a:ext cx="2952720" cy="3456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го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Личные окончания глаголов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2 с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40384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Я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ы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она, он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3212640"/>
            <a:ext cx="40388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ы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ы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и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мотр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116000" y="1989000"/>
            <a:ext cx="2808360" cy="432000"/>
          </a:xfrm>
          <a:prstGeom prst="rect">
            <a:avLst/>
          </a:prstGeom>
          <a:gradFill rotWithShape="0">
            <a:gsLst>
              <a:gs pos="0">
                <a:srgbClr val="4a79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ствен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364000" y="1916280"/>
            <a:ext cx="2808360" cy="431640"/>
          </a:xfrm>
          <a:prstGeom prst="rect">
            <a:avLst/>
          </a:prstGeom>
          <a:gradFill rotWithShape="0">
            <a:gsLst>
              <a:gs pos="0">
                <a:srgbClr val="4a79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ожествен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 л         -  у (-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л    -         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 л    -         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 л    -        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л    -         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 л    -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 (-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71640" y="2781360"/>
            <a:ext cx="863640" cy="21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403280" y="220500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900000" y="2276640"/>
            <a:ext cx="432000" cy="12236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73080" y="2276640"/>
            <a:ext cx="4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403280" y="38606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900000" y="3933720"/>
            <a:ext cx="432000" cy="12956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2916360" y="2924280"/>
            <a:ext cx="576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867280" y="1989000"/>
            <a:ext cx="2952720" cy="3456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го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Порядок (алгоритм) рассужд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анный глагол – вопрос –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прос начальной формы – начальная форма – определение спряжения – написание окончания в заданном гла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луша…те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– что делаете? – что делать?– слушать – оканчивается на -ать, в число исключений не входит – относится к 1 спряжению – пишем в окончании букву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-   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слуша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Задание: Распределить глаголы по   </a:t>
            </a:r>
            <a:br>
              <a:rPr sz="3600"/>
            </a:b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                       спряжения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трелять, колоть, пилить, расти, пахать, уснуть, клеить, писать, полоть, дышать, беречь, видеть, вылить, посмотреть,  нести, крутить, делать, решать, решить, склонить, брить, копать, стеречь, шагать, делить, зависеть, включать, включиться, повертеть,  выучить, улыбнуться, терпеть, петь, чистить, пережи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8:42:14Z</dcterms:created>
  <dc:creator>1</dc:creator>
  <dc:description/>
  <dc:language>en-US</dc:language>
  <cp:lastModifiedBy>Пользователь</cp:lastModifiedBy>
  <dcterms:modified xsi:type="dcterms:W3CDTF">2018-09-25T19:45:53Z</dcterms:modified>
  <cp:revision>9</cp:revision>
  <dc:subject/>
  <dc:title>Слайд 1</dc:title>
</cp:coreProperties>
</file>